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5.wmf" ContentType="image/x-wmf"/>
  <Override PartName="/ppt/media/image7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146A-5918-48D5-936D-EB17B01E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E0E0-B15F-4185-9C4B-38D47682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6491-DE93-484E-B89E-7745B081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0853-E252-4DCE-A921-507A8027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D318-8256-439E-9758-BFD2A9BE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A6F2-41C0-476F-B78A-FCED90B5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977C-06F1-4860-8D78-A940A908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F68E-74A6-459B-B998-922C6A62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9C9E-B324-4042-A229-842B3560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DEAC-5AA9-408C-977E-1E18BF63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F2DB-E7ED-4884-B69B-E8C2B13E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608C-4825-4257-B9FD-A54CDF9B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1072-462F-4572-86E1-35446746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1B1B-04A6-4070-9305-9C8C1A56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A4C2-797A-4875-9446-440F2BC2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7283-54B4-474A-8F91-AE5D20E2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92A5-140D-4023-80CD-481D5D76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BEB1-B6E3-4FE1-9804-02084090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63A4-D10E-4AD2-B86D-B678FEE6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A944-AEA2-48CA-8F02-E90588AC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9455-4C46-4BA7-9A19-806189D1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6C5B-1DB4-496C-BE38-FC088BDF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F853-4D6C-4ABF-9784-800B9A3D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5A37-07BA-410B-B6C5-C19186F9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EB40-F76D-4797-A581-964CC20FD7B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1CD0-04E2-48A7-BC5A-1331F70641B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1988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Урок по теме: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«Правила поведения при пожаре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427640" y="5157720"/>
            <a:ext cx="47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292720" y="3500280"/>
            <a:ext cx="3313080" cy="288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Задание «Аукцион».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e7960"/>
                </a:solidFill>
                <a:latin typeface="Tahoma"/>
              </a:rPr>
              <a:t>Загад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Без рук, без ног, а бушует  (огонь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Шипит и злится, а воды не боится  (огонь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Дремлют в домике девчонки - бурые шапочки (спички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Летала мошка - сосновая ножка, на стог села - всё сено съела  (спичка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Висит - молчит, а перевернешь, шипит, и пена летит  (огнетушитель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be7960"/>
                </a:solidFill>
                <a:latin typeface="Tahoma"/>
              </a:rPr>
              <a:t>Пословицы и поговор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От искры пожар рождается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Искра мала, а велик - пламень родит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Пока искра в пепле, тогда и туш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Не шути с огнем - обожжешься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be7960"/>
                </a:solidFill>
                <a:latin typeface="Tahoma"/>
              </a:rPr>
              <a:t>Огонь да вода все сокрушат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024360" cy="2521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268360" y="4581360"/>
            <a:ext cx="4680000" cy="1943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Тест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ы один дома, смотришь любимую передачу, и вдруг у тебя задымился телевизор. Что нужно сделать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а) Залить телевизор водо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б) Позвать кого-нибудь на помощ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в) Попытаться потушить, а если не получится, вызвать пожарных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г) Отключить ток, накинуть па телевизор плотную ткань, позвонить по телефону 01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. Ты вечером возвращаешься домой и чувствуешь сильный запах газа. Что ты сделаешь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а) Первым делом зажгу свет и спичкой проверю, откуда идет газ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б) Пойду понюхаю, откуда пахнет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в) Позвоню в газовую службу и пойду на улицу ждать, когда они приедут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г) Открою окно, постараюсь перекрыть газ и позвоню по телефону 04. и все это буду делать, не включая свет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. В доме начался пожар, который ты не можешь потушить. Что делать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а) Убежать;        б) Закричать;           в) Вызвать пожарных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. Телефон при пожар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а) 03;                      б) 01;                    в) 02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Итог урока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сли вдруг увидишь ды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 – то загораетс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звони по 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разу всё уладится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лавное - позвать на помощь тех, кто борется с огнё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ы их очень уважаем и пожарными зовём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580000" y="1197000"/>
            <a:ext cx="356400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999720"/>
            <a:ext cx="856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Шумят пусть лес и люди под гармон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ветер пусть шумит, но только не огон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торый тем лишь другом станет нежн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то знает – быть с огнем нельзя небрежны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35640" y="3645000"/>
            <a:ext cx="248436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тория возникновения и развития пожарного де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чины возникновения пожар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авила безопасного поведения дом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AG00355_"/>
          <p:cNvPicPr/>
          <p:nvPr/>
        </p:nvPicPr>
        <p:blipFill>
          <a:blip r:embed="rId1"/>
          <a:stretch/>
        </p:blipFill>
        <p:spPr>
          <a:xfrm>
            <a:off x="755640" y="461880"/>
            <a:ext cx="8209080" cy="40467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3059280" y="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ffff"/>
                </a:solidFill>
                <a:latin typeface="Arial"/>
              </a:rPr>
              <a:t>       </a:t>
            </a:r>
            <a:r>
              <a:rPr b="1" i="1" lang="en-US" sz="4800" spc="-1" strike="noStrike">
                <a:solidFill>
                  <a:srgbClr val="66ffff"/>
                </a:solidFill>
                <a:latin typeface="Elephant"/>
              </a:rPr>
              <a:t>Из истори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059280" y="1052640"/>
            <a:ext cx="590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1803 год</a:t>
            </a:r>
            <a:r>
              <a:rPr b="1" i="1" lang="en-US" sz="3200" spc="-1" strike="noStrike">
                <a:solidFill>
                  <a:srgbClr val="00cc99"/>
                </a:solidFill>
                <a:latin typeface="Arial"/>
              </a:rPr>
              <a:t>  -     организована                  пожарная   охрана</a:t>
            </a: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00cc99"/>
                </a:solidFill>
                <a:latin typeface="Arial"/>
              </a:rPr>
              <a:t>в Петербург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95280" y="5445000"/>
            <a:ext cx="806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17 апреля 1918 года</a:t>
            </a:r>
            <a:r>
              <a:rPr b="1" i="1" lang="en-US" sz="3200" spc="-1" strike="noStrike">
                <a:solidFill>
                  <a:srgbClr val="00cc99"/>
                </a:solidFill>
                <a:latin typeface="Arial"/>
              </a:rPr>
              <a:t>  - день образования  пожарной охраны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627280" cy="3672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932360" y="2637000"/>
            <a:ext cx="4211640" cy="2705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ОЖАР    - эт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контролируемый процесс горен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ничтожение материальных ценно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ющий опасность для жизни люд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24000" y="3716280"/>
            <a:ext cx="4824360" cy="2738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4286520" cy="3219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4221000"/>
            <a:ext cx="3108240" cy="2357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508720" y="189000"/>
            <a:ext cx="3444840" cy="2457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Запомнить твёрдо нужно нам – </a:t>
            </a:r>
            <a:br>
              <a:rPr sz="4000"/>
            </a:b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    Пожар не возникает сам!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. В. Маяковски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ыжий зверь в печи сидит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кусает всю ладонь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ыжий зверь на всех сердит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н от злости ест дрова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Целый час, а может два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ы его рукой не тронь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друг и враг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300720" y="2060640"/>
            <a:ext cx="2843280" cy="4465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00000" y="4221000"/>
            <a:ext cx="3024360" cy="2089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00000" y="1628640"/>
            <a:ext cx="3024360" cy="1943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292720" y="1700280"/>
            <a:ext cx="2951280" cy="1871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211640" y="4005360"/>
            <a:ext cx="468144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Легковоспламеняющие предм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Спич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Керосин, бензин, г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о самые главные виновники пожара – лю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411280" y="404640"/>
            <a:ext cx="4897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чины пожар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151640"/>
            <a:ext cx="8664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1.Если огонь небольшой, можно попробовать сразу же затушить его, набросив, например, на него плотную ткань, одеяло или вылив кастрюлю в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2. Если огонь сразу не погас, немедленно убегай из дома в безопасное место. И только после этого звони в пожарную охрану по телефону «О 1»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3. Если не можешь убежать из горящей квартиры, сразу же позвони по телефону «01» и сообщи пожарным точный адрес и номер своей квартиры. После этого из окна зови на помощ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4. Если чувствуешь, что задыхаешься от дыма, опустись на корточки или продвигайся к выходу ползком - внизу меньше ды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5. При пожаре в подъезде никогда не садись в лифт. Он может отключиться, и ты задохнешь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6. Ожидая приезда пожарных, не теряй головы и не выпрыгивай из окна. Тебя обязательно спас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00000" y="333360"/>
            <a:ext cx="7324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мятка как вести себя при пожаре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5:37:49Z</dcterms:created>
  <dc:creator>Лариса</dc:creator>
  <dc:description/>
  <dc:language>en-US</dc:language>
  <cp:lastModifiedBy>Zver</cp:lastModifiedBy>
  <dcterms:modified xsi:type="dcterms:W3CDTF">2011-08-31T18:11:52Z</dcterms:modified>
  <cp:revision>25</cp:revision>
  <dc:subject/>
  <dc:title>Урок по теме: «Пожарная безопасность»  4класс</dc:title>
</cp:coreProperties>
</file>