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5.wmf" ContentType="image/x-wmf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A17-CF33-42DA-9F47-29E1821B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622-3AA3-4789-98AD-72791C5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2F5-69F7-47D9-B786-71F7A8A9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9CB-8C2A-4DB1-B3B6-B37AA1AE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2C7-208D-4FEC-9BE5-5D7ED6C7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BE29-AE34-4AC6-9665-C9D37D80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808-5E80-443F-B85C-91217258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0FD5-33EA-4C57-A126-AB24DE6B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7CA-9C6E-49CE-A520-7578DA2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6EF0-9E5E-4390-959A-2026B8F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D6BB-779D-4FFB-A52E-8B217B70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259-87EB-4720-8FB4-3E56252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DA0-E11E-4D93-8B3F-038F3E0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D8F4-F997-4B51-9094-C8110D8E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B60-A2E7-4381-BD14-E82227A9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1882-0CCE-41A6-B394-FA909D5A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97EE-C9F7-4D40-A623-6DBDB913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7D3-1479-49C5-903F-E43ADD89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307-E0FF-4D9F-A27B-6732C7B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F05-5570-48C6-A5AF-AB163088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AF4-15AE-48D3-A841-8CDEBAD0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D60-AADD-4E1C-B4FE-CD0A4E6B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D99-0800-4CF7-B841-242FF68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9C7-710E-43DA-A1F7-66359DA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37A-0554-4617-AF24-AB4BD5340B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7EB8-70BF-4E7A-BD7A-E392F5023E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Урок по теме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Правила поведения при пожар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1577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33130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дание «Аукцион»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Загад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Без рук, без ног, а бушует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Шипит и злится, а воды не боится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Дремлют в домике девчонки - бурые шапочки (спичк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Летала мошка - сосновая ножка, на стог села - всё сено съела  (спич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Висит - молчит, а перевернешь, шипит, и пена летит  (огнетушите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Пословицы и погов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т искры пожар рождает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Искра мала, а велик - пламень роди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Пока искра в пепле, тогда и туш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Не шути с огнем - обожжешь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гонь да вода все сокруша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468000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ы один дома, смотришь любимую передачу, и вдруг у тебя задымился телевизор. Что нужно сделать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а) Залить телевизор водо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б) Позвать кого-нибудь на помощ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) Попытаться потушить, а если не получится, вызвать пожар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г) Отключить ток, накинуть па телевизор плотную ткань, позвонить по телефону 0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Ты вечером возвращаешься домой и чувствуешь сильный запах газа. Что ты сделаеш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Первым делом зажгу свет и спичкой проверю, откуда идет газ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) Пойду понюхаю, откуда пахне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) Позвоню в газовую службу и пойду на улицу ждать, когда они приеду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) Открою окно, постараюсь перекрыть газ и позвоню по телефону 04. и все это буду делать, не включая све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В доме начался пожар, который ты не можешь потушить. Что делат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Убежать;        б) Закричать;           в) Вызвать пожарны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Телефон при пожар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03;                      б) 01;                    в) 0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тог уро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вдруг увидишь ды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– то загорает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вони по 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азу всё уладитс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ое - позвать на помощь тех, кто борется с огнё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их очень уважаем и пожарными зовё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56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99972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ят пусть лес и люди под гарм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ветер пусть шумит, но только 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рый тем лишь другом станет неж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знает – быть с огнем нельзя небрежн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35640" y="3645000"/>
            <a:ext cx="2484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я возникновения и развития пожарного д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чины возникновения пожа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безопасного поведения до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AG00355_"/>
          <p:cNvPicPr/>
          <p:nvPr/>
        </p:nvPicPr>
        <p:blipFill>
          <a:blip r:embed="rId1"/>
          <a:stretch/>
        </p:blipFill>
        <p:spPr>
          <a:xfrm>
            <a:off x="755640" y="461880"/>
            <a:ext cx="8209080" cy="4046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059280" y="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1" i="1" lang="en-US" sz="4800" spc="-1" strike="noStrike">
                <a:solidFill>
                  <a:srgbClr val="66ffff"/>
                </a:solidFill>
                <a:latin typeface="Elephant"/>
              </a:rPr>
              <a:t>Из исто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052640"/>
            <a:ext cx="59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803 год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    организована                  пожарная   охрана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в 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5280" y="544500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7 апреля 1918 года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день образования  пожарной охран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27280" cy="36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2637000"/>
            <a:ext cx="4211640" cy="270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    - э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нтролируемый процесс гор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ничтожение материальных це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ющий опасность для жизни люд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482436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108240" cy="235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08720" y="189000"/>
            <a:ext cx="344484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помнить твёрдо нужно нам – 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   Пожар не возникает сам!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. В. Маяк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в печи сидит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ает всю ладонь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на всех серди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от злости ест дров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ый час, а может два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ы его рукой не трон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друг и враг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84328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2951280" cy="187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005360"/>
            <a:ext cx="46814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Легковоспламеняющие пред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пи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еросин, бензин,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 самые главные виновники пожара –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51640"/>
            <a:ext cx="866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.Если огонь небольшой, можно попробовать сразу же затушить его, набросив, например, на него плотную ткань, одеяло или вылив кастрюлю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. Если огонь сразу не погас, немедленно убегай из дома в безопасное место. И только после этого звони в пожарную охрану по телефону «О 1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3. Если не можешь убежать из горящей квартиры, сразу же позвони по телефону «01» и сообщи пожарным точный адрес и номер своей квартиры. После этого из окна зови на помощ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. Если чувствуешь, что задыхаешься от дыма, опустись на корточки или продвигайся к выходу ползком - внизу меньше ды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5. При пожаре в подъезде никогда не садись в лифт. Он может отключиться, и ты задохнеш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6. Ожидая приезда пожарных, не теряй головы и не выпрыгивай из окна. Тебя обязательно спас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333360"/>
            <a:ext cx="732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 как вести себя при пожар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5:37:49Z</dcterms:created>
  <dc:creator>Лариса</dc:creator>
  <dc:description/>
  <dc:language>en-US</dc:language>
  <cp:lastModifiedBy>Zver</cp:lastModifiedBy>
  <dcterms:modified xsi:type="dcterms:W3CDTF">2011-08-31T18:11:52Z</dcterms:modified>
  <cp:revision>25</cp:revision>
  <dc:subject/>
  <dc:title>Урок по теме: «Пожарная безопасность»  4класс</dc:title>
</cp:coreProperties>
</file>