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5.wmf" ContentType="image/x-wmf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062-F170-424C-8FD0-461EF401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51-C715-4C36-8BF5-601978C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943-AB73-455F-A9AB-CF2DFFFF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3FA-D920-4D40-99A3-86450C1E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36D3-4986-4F70-B2FE-490DEB41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96F5-2BEF-4AE4-AD5C-DC28EE4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1508-C636-45AE-B6A5-C7B43E6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6820-8043-44EA-AD61-CB0E0B77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382-AFE8-47EF-B7FC-4E443AC4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37C4-D3CE-4ACA-A72F-FCD6C0B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10CF-7FC2-4A00-BD23-2D0EE92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759-E391-4B2A-AA53-F3FC5F9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811-8BCD-4AAA-9EFC-877B036E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C617-1401-4A3D-9332-BB1E0338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1E70-0C58-4ACE-8682-C10F2EA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2AC-CC3B-44FE-BDBE-E4A38A09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6340-14D3-4A42-8D69-FC98C287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487-1EBE-405E-A1BE-78A13056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F59-4281-4312-AFC4-8A45C34C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D66-1D5A-4C67-AE31-3172C3E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6A4-F615-44AB-B23A-68B094AD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79B-1BAD-4066-9409-94EFE4F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DA0-F5DA-4ED8-B256-C2B137E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409-12F2-4EFA-8A59-B9846384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7DFB-681D-4408-A703-7109CF55FE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888-8DFE-485C-9CFE-A4434A83DC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Урок по теме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Правила поведения при пожар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15772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331308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Задание «Аукцион»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e7960"/>
                </a:solidFill>
                <a:latin typeface="Tahoma"/>
              </a:rPr>
              <a:t>Загад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Без рук, без ног, а бушует 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Шипит и злится, а воды не боится 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Дремлют в домике девчонки - бурые шапочки (спичк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Летала мошка - сосновая ножка, на стог села - всё сено съела  (спичк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Висит - молчит, а перевернешь, шипит, и пена летит  (огнетушител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be7960"/>
                </a:solidFill>
                <a:latin typeface="Tahoma"/>
              </a:rPr>
              <a:t>Пословицы и поговор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От искры пожар рождает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Искра мала, а велик - пламень роди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Пока искра в пепле, тогда и туш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Не шути с огнем - обожжешь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Огонь да вода все сокруша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02436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468000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ес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ы один дома, смотришь любимую передачу, и вдруг у тебя задымился телевизор. Что нужно сделать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а) Залить телевизор водо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б) Позвать кого-нибудь на помощ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) Попытаться потушить, а если не получится, вызвать пожар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г) Отключить ток, накинуть па телевизор плотную ткань, позвонить по телефону 0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Ты вечером возвращаешься домой и чувствуешь сильный запах газа. Что ты сделаешь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Первым делом зажгу свет и спичкой проверю, откуда идет газ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б) Пойду понюхаю, откуда пахне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) Позвоню в газовую службу и пойду на улицу ждать, когда они приеду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г) Открою окно, постараюсь перекрыть газ и позвоню по телефону 04. и все это буду делать, не включая све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В доме начался пожар, который ты не можешь потушить. Что делать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Убежать;        б) Закричать;           в) Вызвать пожарны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Телефон при пожар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03;                      б) 01;                    в) 02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Итог уро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вдруг увидишь ды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– то загорает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вони по 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азу всё уладитс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ое - позвать на помощь тех, кто борется с огнё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 их очень уважаем и пожарными зовё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564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99972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ят пусть лес и люди под гарм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ветер пусть шумит, но только 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рый тем лишь другом станет неж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знает – быть с огнем нельзя небрежн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35640" y="3645000"/>
            <a:ext cx="2484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я возникновения и развития пожарного д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чины возникновения пожа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безопасного поведения дом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AG00355_"/>
          <p:cNvPicPr/>
          <p:nvPr/>
        </p:nvPicPr>
        <p:blipFill>
          <a:blip r:embed="rId1"/>
          <a:stretch/>
        </p:blipFill>
        <p:spPr>
          <a:xfrm>
            <a:off x="755640" y="461880"/>
            <a:ext cx="8209080" cy="4046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059280" y="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1" i="1" lang="en-US" sz="4800" spc="-1" strike="noStrike">
                <a:solidFill>
                  <a:srgbClr val="66ffff"/>
                </a:solidFill>
                <a:latin typeface="Elephant"/>
              </a:rPr>
              <a:t>Из исто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9280" y="1052640"/>
            <a:ext cx="59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803 год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  -     организована                  пожарная   охрана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в 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5280" y="544500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7 апреля 1918 года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  - день образования  пожарной охран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627280" cy="367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2637000"/>
            <a:ext cx="4211640" cy="270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ЖАР    - эт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нтролируемый процесс гор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ничтожение материальных це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ющий опасность для жизни люд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482436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108240" cy="235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08720" y="189000"/>
            <a:ext cx="344484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Запомнить твёрдо нужно нам – </a:t>
            </a: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   Пожар не возникает сам!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. В. Маяковск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ий зверь в печи сидит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ает всю ладонь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ий зверь на всех серди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от злости ест дров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ый час, а может два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ы его рукой не трон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друг и враг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284328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2951280" cy="187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005360"/>
            <a:ext cx="46814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Легковоспламеняющие пред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пи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еросин, бензин,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о самые главные виновники пожара –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151640"/>
            <a:ext cx="866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.Если огонь небольшой, можно попробовать сразу же затушить его, набросив, например, на него плотную ткань, одеяло или вылив кастрюлю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2. Если огонь сразу не погас, немедленно убегай из дома в безопасное место. И только после этого звони в пожарную охрану по телефону «О 1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3. Если не можешь убежать из горящей квартиры, сразу же позвони по телефону «01» и сообщи пожарным точный адрес и номер своей квартиры. После этого из окна зови на помощ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4. Если чувствуешь, что задыхаешься от дыма, опустись на корточки или продвигайся к выходу ползком - внизу меньше ды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5. При пожаре в подъезде никогда не садись в лифт. Он может отключиться, и ты задохнеш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6. Ожидая приезда пожарных, не теряй головы и не выпрыгивай из окна. Тебя обязательно спас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333360"/>
            <a:ext cx="732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 как вести себя при пожаре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5:37:49Z</dcterms:created>
  <dc:creator>Лариса</dc:creator>
  <dc:description/>
  <dc:language>en-US</dc:language>
  <cp:lastModifiedBy>Zver</cp:lastModifiedBy>
  <dcterms:modified xsi:type="dcterms:W3CDTF">2011-08-31T18:11:52Z</dcterms:modified>
  <cp:revision>25</cp:revision>
  <dc:subject/>
  <dc:title>Урок по теме: «Пожарная безопасность»  4класс</dc:title>
</cp:coreProperties>
</file>