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6E2-B1D2-408C-9341-84B1731D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C2C-974F-46E1-93B4-C9673345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E04-2902-40A5-A7E2-A3DB6501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087-FFF8-45E0-A8E4-5128EE33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5705-3040-450F-B5F1-ADFE7631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8238-2183-46E4-BFFD-0DEEAB81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1857-E904-4D5A-8257-EDBF7B94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DCE1-95E7-4B58-AC0D-9FCDC0C5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9BBF-8C44-400C-84E7-01F5471A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372C-0FE5-45BC-BABA-3CE9DFC2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E67E-AAC2-495D-8B12-5E7B2836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965-7F04-4CF3-B613-8340BD3D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F8A4-111F-4956-975E-C80E6F5B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01B9-3AFD-4131-B0F2-AD9779AB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22D5-AFA1-4416-BE48-C6EC2B03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1E7D-B050-4BC9-83B3-D9034D65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309C-4E1A-4942-BA38-642268F3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9D4-174A-4E84-94BB-5E1C5A25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AAE-8087-478F-9659-E9153A72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203-826F-416C-B1F7-9EEE71D7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FE0-0222-420C-A32E-7DE7F35A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D36-EBEA-439C-90CD-68FE3A6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4E4-853D-4851-9076-C7D35D26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EB3-F01E-4486-9301-B7D264C7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F5E6-71CB-4E12-8E55-3081836F449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6A46-6D6D-4A51-9CDE-835B54D9FDA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День открытых двере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У СОШ №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Конкурс – игра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«Волшебные слова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Конкурс – игр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«Волшебные слова»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планета «Интеллектуальная») – Маркова С.П., учитель начальных классов. Мероприятие проходило в форме конкурса между смешанными командами (2 родителя, 5 детей).  Отгадывали загадки, ребусы, кроссворды, пословицы, углубляли знания, учились употреблять вежливые слова. Родители помогали, руководили командой, что позволило работать организованно и дружн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«Конкурс-игра «Волшебные слова» прошел очень интересно. Дети хоть и маленькие, работали очень активно. Мероприятие провели на высоком уровне…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«Дети охотно принимают участие, очень стараются. Понравилась идея и форма проведения игры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астерская «Изонить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стерская «Изонить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планета «Художественная) – Толтаева Н.М., учитель технологии. Родители с детьми, гости ознакомились с одним из видов прикладного искусства, которое не требует больших материальных затрат и прост в исполнении, а конечный результат работы – очень красивое изделие, которое украсит любой интерьер. Все участники овладели техникой вышивки изонитью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«…научились шить изонитью. Спасибо Наталье Михайловне!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«Практическое занятие. Очень занимательное, дети и родители с удовольствием шили нитью по бумаге. Получается очень красиво!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Игра-викторина «Окно в Европу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гра-викторина «Окно в Европу»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планета «Интеллектуальная») – Исакова Л.В., учитель английского языка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ети представили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и презентации о странах Европы и провели викторину для родителей. Несмотря на сложные задания, родители справились с вопросами. Игра прошла в теплой, дружеской обстановк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«Интересная форма проведения, большой охват учащихся, родителей. Красочное оформление, дружелюбная атмосфера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езентация «Формула здоровья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езентация «Формула здоровья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планета «Спортивная») – Дьячковская П.М., учитель ОБЖ, Фёдорова Л.А., учитель технологии. Ученица 8б класса Иванова Анна представила презентацию «Без особого труда, но не детская еда» о вреде продуктов быстрого приготовления и газированных продуктов.  Дети показали  отрывок агитбригады «ЗОЖигай», спортивный танец в стиле фитнесс-аэробики. Родители поделились рецептами полезных  прохладительных напитков, а девочки на уроке технологии приготовили быппах, лимонно-апельсиновый сок, морс из свежих ягод, травяной чай.  Прошла дегустация напитков. Угощали всех гос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«Учащиеся рассказали о здоровом питании. Понравилось  их выступление в нестандартной форме.  Пожелание: создать агитбригаду в данном направлении с участием родителей. Хороший потенциал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Игра «Что? Где? Когда?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гра «Что? Где? Когда?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планета «Интересная») – Хандобина Т.В., учитель русского языка и литературы. Интеллектуальная игра для учащихся 7-8 классов, родителей и учителей. Были приготовлены вопросы по филологии, истории, литературе. Двум командам знатоков предлагается по пять вопросов в конвертах и чёрный ящик с предметом внутри. С командой знатоков, состоящей из родителей и детей, играла команда учителей русского языка и литературы. Победителям достались сладкие призы. Игра способствовала сплочению семьи и школы, развитию познавательных и интеллектуальных способностей учащихс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«Очень понравились вопросы, ответы родителей и детей. Предлагаю проведение такой игры между учениками и учителями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«Данное мероприятие очень понравилось. Видно, что учителя работают на высшем уровне.…Узнала много полезного для себя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« Интересная форма проведения игры. Атмосфера была очень теплой, дружеской. Команды играли с азартом. Все остались довольны мероприятием, сладкими призами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0 декабря 2010 года в МОУ СОШ № 20 прошел День открытых дверей «Добрая дорога детства» по теме « Взаимодействие семьи и школы в интересах личности ребенка» в форме космического путешествия по Планетам знаний, а также выставки исследовательских, творческих и прикладных работ учащихся и родител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Целью данного мероприятия является совершенствование форм и методов работы с родителями и создание благоприятных условий для развития личности ребен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школьных мероприятиях приняли участие 51 педагог, около 350 обучающихся, 76 представителей родительской общественности, а также гости школы: представители Управления образования ГО "Город Якутск", Управления по молодежной и семейной политике, Глава Управ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 Сайсарский округ», всего более 480 человек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рамках "Дня открытых дверей" школа представила свою работу в восьми блоках- планетах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Литературная» - « Мама, папа, я - читающая семья»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Спортивная»- «В здоровом теле – здоровый дух»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Художественная»- «Умелые ручки»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Психологическая» - «Дружная семья»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Музыкальная» - «От всей души»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Интеллектуальная» - «Наследники знаний»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Проектная» - «Моя семь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«Интересная» - «Клуб по интересам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Фестиваль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«В кругу семьи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Фестива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 кругу семь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нета «Музыкальная) – Янковская М.А., учитель музыки, Соловьёва И.И., учитель начальных клас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сотрудничество педагогов с родителями, воспитание чувства любви и гордости за свою семью, сплочение семьи и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з мероприятия: «Ты+я+он+она – словом одним называем СЕМЬ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(семья Дудецких с сыном Матвеем (1а)  и дочкой Лерой (5б); семья Аман с дочерьми Женей (5а) и Викой (1а)) представили свой семейный опыт воспитания и развития детей, рассказали о семейных традициях, обычаях, достижениях своих детей. Праздник украсили музыкальные выступления.  В финале было разучивание песни «Как здорово, что все мы здесь сегодня собрались!»  родителям и детям. Мероприятие  прошло в дружеской, спокойной обстановке на высоком уро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33"/>
                </a:solidFill>
                <a:uFillTx/>
                <a:latin typeface="Arial"/>
              </a:rPr>
              <a:t>Отзывы: </a:t>
            </a:r>
            <a:r>
              <a:rPr b="0" lang="ru-RU" sz="1800" spc="-1" strike="noStrike" u="sng">
                <a:solidFill>
                  <a:srgbClr val="006633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Удивительно добрая и тёплая атмосфера мероприятия. Так интересно было послушать родителей, их опыт воспитания. Учителя Соловьева И.И., Янковская М.А. тесно работают с родителями, воспитывают учащихся открытыми и творческими детьм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Очень понравилось выступление семей. Особенно Дудецких - многодетной семьи. Очень ценный семейный опыт… Традиции и обычаи семь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енинг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«Тепло души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ренинг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«Тепло души»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планета «Психологическая») – Габышева М.И., учитель КНРС (Я), Соколова Н.В., учитель начальных класс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Цель: развитие семейного творчества и сотрудничества семьи и школы, объединение классного коллектива, усиление роли семьи в воспитательном процесс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дачи: воспитание ценностного отношения к семье, формирование позитивного опыта семейных отношений, представление возможности реализовать свои творческие способнос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иняли участие 4 семьи. Каждая семья представила свои презентации семей в виде газет, в котором представили свои увлечения, традиции семьи, совместные путешествия по городу, республике, зарубежные поездки. Упражнение «Солнце любви» направлено на повышение эмоциональной связи между родителями и детьми. Проведена психологическая игра – тренинг «Я хочу подарить тебе…», направленная на сплочение классного коллектива и родителей. Игра «Мамины руки» способствует укреплению эмоциональной связи ребенка и мамы. В домашнем задании «Кулинарный поединок» родители с детьми представили свои фирменные семейные блюда, обменялись рецептам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путственные слова родителям, детям и учителям прозвучали в выступлении Захаровой Натальи Петровны – специалиста Комитета семьи и детства Окружной администрации «Город Якутск». Мероприятие завершилось чаепитием, вручением памятных призов семьям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ТД «Шаг в будущее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.  КТД «Шаг в будущее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планета «Интеллектуальная») – Соляникова Н.А., учитель начальных классов. Представлены совместные проектные работы детей и родителей на темы: «Космос. Луна» - семья Владимировых; «Почему их так называют?» (про растения и животные) – семья Югай; «Собаки» - семья Воробьёвых. Совместная творческая работа детей и родителей способствует не только укреплению отношений в семье, но и повышает  познавательный интерес ребенка к различным источникам знаний. Мероприятие прошло в дружеской атмосфер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6633"/>
                </a:solidFill>
                <a:uFillTx/>
                <a:latin typeface="Arial"/>
              </a:rPr>
              <a:t>Отзывы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«Учитель с родителями планово и систематически формирует навыки исследовательской работы. Прослушали три работы – очень интересные темы. Дети показали умение последовательно и доступно подавать материал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Клубный час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«Радоваться жизни самой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Клубный час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Радоваться жизни самой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планета «Спортивная») – Колодезникова Т.Д., Сидорова З.А. Родитель – врач-терапевт, работник МЧС Евдокимова Н.Ю. провела очень интересную, познавательную беседу на тему «Здоровый сон». Учащиеся 4-х классов показали инсценировку о пользе утренней зарядки,  в игровой форме загадывали загадки «Что нужно для здоровья?», пословицы и поговорки о ЗОЖ. Мероприятие украсили гимнастические упражнения детей. Гвоздём программы  стала аэробика для всех гостей, которую провела родительница –руководитель фитнес-клуба Скрябина Вера Владиславовна. Она зарядила всех присутствующих своей энергией, задором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«Очень позитивное, заряжающее энергией мероприятие. Родители активно принимали участие. Одна мама очень интересно рассказала о процессе сна, другая провела фитнес – разминку с залом…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«…Актуальная тема - здоровье. Было бы здорово, если бы проводились занятия аэробики для детей…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Математический КВН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«Умники и умницы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ематический КВ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«Умники и умницы»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планета «Интеллектуальная») – Еропольцева Е.В., учитель начальных классов. Цель: сплочение семьи и школы  в вопросах развития ребенка, установление благоприятного психологического климата между родителями и детьми. В интеллектуальной игре соревновались две команды: родителей и детей. Игра началась с разминки – установки на выполнение творческих интеллектуальных заданий. Команды с интересом и  азартом решали логические задачи, частично проблемные вопросы. В аудитории царила атмосфера соревнования. В состав жюри входили родители и дет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6633"/>
                </a:solidFill>
                <a:uFillTx/>
                <a:latin typeface="Arial"/>
              </a:rPr>
              <a:t>Отзыв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«…игра очень интересная, способствует развитию логического мышления, умению решать нестандартные задачи… способствует сближению детей и родителей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Музыкальный ринг «От всей души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Музыкальный ринг «От всей душ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нета «Музыкальная») – Петрова М.М., учитель якутского языка и литературы, Александрова А.А., учитель начальных класс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ли участие учащиеся 4г, 7в классов, их родители, гости. Очень интересно прошла викторина об истоках якутской письменности, образования. В инсценировке произведения «Харана5а тыкпыт сырдык» Д.К.Сивцева –Суорун Омоллооно приняли участие родители, дети в костюмах. Все вошли в свою роль, сыграли очень хорошо. Зрители, гости были в восторге от их выступления. Песни под гитару создали атмосферу тепла, спокойствия. Всем гостям, участникам вручили благодарственные письма, памятные призы. Родители еще долго оставались общ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зыв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«…очень интересные выступления. Теплое взаимоотношение учителей, учеников, родителей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мероприятие – супер! Марию Михайловну увидели в другом свет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…все почувствовали атмосферу праздника, праздничного настроения, создавшегося на этом мероприятии. Спасибо организаторам-учителям, профессионалам своего дела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«Поэтические чтения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«Поэтические чтен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нета «Литературная») – Захарова М.С., учитель русского языка и литературы. Показали работу литературного кружка «Зеленая лампа». Данный кружок работает в школе с 2001 г. За это время ребята достигли высоких результатов на уровне города, республики. Кружковцы – активные участники фестивалей, смотров-конкурсов. Большую помощь в выступлениях оказывают родители: шьют костюмы, находят музыку и др. В чтениях приняли участие учащиеся 6а, 9г, 11 а классов. Со сцены прозвучали стихи современных поэтов: Любовь Сирота, Юлия Ким, Валентины Кошелевой, Сергея Москвитина, Татьяны Варламовой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зыв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..показана часть работы кружка. Даже эта часть говорит о кропотливой работе руководителя Захаровой М.С. Большой охват детей разных возрастов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Понравилось, что дети развивают свои творческие способности, углубляют знания по предмету. Пожелание детям  – выпустить литературный листок «Зеленая лампа»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«Очень оригинальная постановка, посвященная Году учителя. Хорошо читают мальчики. Детям нравится читать стихи, выступать перед зрителями. Больших успехов Маргарите Саввичне и её театральному коллективу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6:39:54Z</dcterms:created>
  <dc:creator>admin</dc:creator>
  <dc:description/>
  <dc:language>en-US</dc:language>
  <cp:lastModifiedBy>admin</cp:lastModifiedBy>
  <dcterms:modified xsi:type="dcterms:W3CDTF">2010-12-14T06:55:07Z</dcterms:modified>
  <cp:revision>2</cp:revision>
  <dc:subject/>
  <dc:title>День открытых дверей</dc:title>
</cp:coreProperties>
</file>