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6E4-CDA2-4C39-9DD4-578CC03A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A46-90D0-467B-AA7B-9D68F1C3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128-CB21-4AD3-9060-FC4A4B5F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DB1-33C4-4E7C-8E1E-3BE2710C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4AD6-8694-48CB-8A08-E2C8F03E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C26D-3403-4039-A247-EF14CD67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2FDD-713A-4A78-9401-5F309A8A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31A0-782C-4E40-9D16-B7B338DB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0F6D-7FC5-4C14-B7D7-54614A30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E521-72D1-4BFF-94D9-75F4204F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28D0-EC7A-46BC-997C-B829B4E1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3C0-BD62-4733-B917-6F15E232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FD49-DF61-460B-8E78-72F5A6FC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81E7-CA84-44F3-9A10-D401D34A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BD7E-B990-4D7A-9FEB-AFC9AE07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55B0-634C-4C5B-864F-69ACF2E9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A38C-56C6-4392-B486-FDA28720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CA1-948D-495F-8B15-00209F3F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C13-CAE2-4DD0-9365-2BE8DF5A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C8C8-0E49-43AE-9A90-EDA896EE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98A-B2CC-4DA3-B50C-3EAC7F55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3B1E-D476-48DF-BB90-1A6424AB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9DB-4711-4BB5-B08D-E9396F2E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66A-A661-451C-B56C-38114944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40E0-61F2-44C4-A5DA-888DC776F4F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B335-E5D8-4E21-A042-70BD14EC5DE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§ 48. Нейрогормональная регуляция</a:t>
            </a:r>
            <a:br>
              <a:rPr sz="46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следим, как это происходит, на примере. Когда организм попадает в сложные условия, связанные с физической нагрузкой, сначала включается соматический отдел, а затем симпатический подотдел вегетативной нервной систем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йствие последнего сопровождается выделением гормона надпочечников – адреналина, который сразу активизирует многие системы органов и создает оптимальные условия для рабо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рдце начинает биться сильнее, повышаются давление и содержание сахара в крови. В результате улучшается снабжение органов кислородом и сахаром. Это настолько сильно мобилизует человека, что он может выполнить работу, которая в обычных условиях для него непосиль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куда же у него взялись силы? В момент опасности нервные импульсы от центров симпатического подотдела полетели к сердцу. Сердце забилось чаще, печень начала выделять в кровь сахар, необходимый мышцам для работы, надпочечники стали выбрасывать в кровь гормо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рвные импульсы действовали точно и прицельно, как снайперские выстрелы. Гормоны надпочечников подоспели позже. Они подействовали сразу на множество органов (все чувствительные к ним клетки), и благодаря этому организм как бы перешел на более интенсивный режим рабо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о прошло время, страшное осталось позади. В работу включился парасимпатический подотдел. Нервные импульсы замедлили деятельность сердца, давление упало. Выделяемый поджелудочной железой гормон инсулин снизил количество сахара в крови. Сработала система отбоя, и организм перешел на режим отдых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арасимпатическая часть вегетативной нервной системы поддерживается гормоном поджелудочной железы инсулином. Благодаря этому организм возвращается в состояние покоя, концентрация сахара в крови снижается, зато работа кишечника усиливаетс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то и понятно: у наших предков за преследованием добычи следовало ее поедание, которое обычно происходило в укромном мест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рвная система и гормоны, выделяемые железами внутренней секреции, работают согласованно. Нервные импульсы действуют быстро и целенаправленно, гормоны вступают в работу несколько позже. Они влияют на все клетки, чувствительные к данному гормону, и действуют дольш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рвная и эндокринная системы тесно связаны между собой. Развитие и работа мозга зависят от гормонов, выделяемых эндокринной систем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§ 50. Головной мозг: строение и функции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Вопросы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де находится головной мозг? Как он связан с другими органами тела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свою очередь, нервная система регулирует работу желёз внутренней секреции, воздействуя на гипофиз нейрогормонами, а через него на остальные железы эндокринной 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рвная система работает адресно, вызывая (или прекращая) работу иннервируемых органов. Эндокринная система поддерживает действия нервной системы, выделяя гормоны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торые мобилизуют сразу все органы, необходимые для выполнения данной деятельности. Кроме того, эндокринная система действует более длительно без значительной затраты энерг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Найдите на рис. 80 основные отделы головного мозга: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долговатый мозг, средний мозг, мост, мозжечок, промежуточный мозг и большие полушария головного мозга. Охарактеризуйте функции каждого отдела головного мозг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3068640"/>
            <a:ext cx="5473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ндокринная система тесно связана с нервной системой. Главной железой эндокринной системы является гипофиз. Он выделяет не только гормон роста, но и множество других гормонов, регулирующих работу щитовидной железы, надпочечников и ряда других желёз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ипофиз же, в свою очередь, регулируется нейронами отдела промежуточного мозга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ипоталамусо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нем находятся нейроны, синапсы которых открываются в кровеносные сосуды, выделяя особые вещества –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ейрогормон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Через них нервная система контролирует гипофиз, а тот – большинство желёз внутренней секре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яд гормонов желёз внутренней секреции необходим для нормального развития мозга. Так, нехватка в раннем детстве гормонов щитовидной железы может привести к кретинизму – глубокому умственному расстройств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динство гуморальной и нервной регуляции проявляется во взаимодействии нервной и эндокринной систем при переходе от напряжения к отдыху и от отдыха к напряжени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вой в работу включается нервная система. Ее импульсы имеют точный адрес и моментально воздействуют на орган, вызывая (или прекращая) его работу. Но в любой деятельности обычно бывает задействовано много органов, и здесь преимущество принадлежит эндокринной систем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ормоны действуют дольше, причем сразу на многие органы, и, хотя и не так быстро, включают в работу все необходимые для ее выполнения орга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07:17:48Z</dcterms:created>
  <dc:creator>54</dc:creator>
  <dc:description/>
  <dc:language>en-US</dc:language>
  <cp:lastModifiedBy>54</cp:lastModifiedBy>
  <dcterms:modified xsi:type="dcterms:W3CDTF">2012-03-13T07:29:16Z</dcterms:modified>
  <cp:revision>3</cp:revision>
  <dc:subject/>
  <dc:title>§ 48. Нейрогормональная регуляция </dc:title>
</cp:coreProperties>
</file>