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202-5487-48D9-8F90-787B4937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814-C31D-4CE6-A36B-6462FEC7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D38-90A2-4DA2-8EE9-68C8AEA8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C6D-4CCD-49C2-8ACC-D0454A5B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1F8F-D4A4-468E-BC03-368AA408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8B56-1CFB-4B27-9640-E6C1883A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B790-2621-4C26-A793-49F1FB27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D9A0-6498-4F9D-9725-3B57196B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37C0-3F2E-4804-ACE9-C8653D8A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E4B9-01E9-4E5C-9A5A-A429E282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89FD-67FD-43AE-B973-1C246637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D5A-F56D-4816-870A-CAD97876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6320-7D8A-4C4B-A2C8-C3F6EDC0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38B2-358D-48EF-82B4-1B9E10B9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7965-FAD3-4F19-8EC3-1C21B845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3F7F-5EFB-474F-A3FC-C2197413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772C-6EC0-44F2-83B1-DB87004D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5A4-CE4A-42F2-BBF9-FAF0785B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41F-3609-469E-9BEC-3AD0E035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F6E-340D-4A6E-B36F-3B3D8D86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83A-F1E2-4289-883D-D4F2CCC4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72A-7B7F-4C8C-AFFC-F0D19D49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2F7-D295-4B4E-BA9D-D9E03FD4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1F1-0B69-4D17-9978-7B02CE46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09E0-9923-4F8A-B892-B155954775E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3D61-9CC8-4D22-A055-FEB576446BC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§ 48. Нейрогормональная регуляция</a:t>
            </a:r>
            <a:br>
              <a:rPr sz="46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следим, как это происходит, на примере. Когда организм попадает в сложные условия, связанные с физической нагрузкой, сначала включается соматический отдел, а затем симпатический подотдел вегетативной нервной систем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йствие последнего сопровождается выделением гормона надпочечников – адреналина, который сразу активизирует многие системы органов и создает оптимальные условия для рабо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рдце начинает биться сильнее, повышаются давление и содержание сахара в крови. В результате улучшается снабжение органов кислородом и сахаром. Это настолько сильно мобилизует человека, что он может выполнить работу, которая в обычных условиях для него непосиль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куда же у него взялись силы? В момент опасности нервные импульсы от центров симпатического подотдела полетели к сердцу. Сердце забилось чаще, печень начала выделять в кровь сахар, необходимый мышцам для работы, надпочечники стали выбрасывать в кровь гормо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рвные импульсы действовали точно и прицельно, как снайперские выстрелы. Гормоны надпочечников подоспели позже. Они подействовали сразу на множество органов (все чувствительные к ним клетки), и благодаря этому организм как бы перешел на более интенсивный режим рабо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о прошло время, страшное осталось позади. В работу включился парасимпатический подотдел. Нервные импульсы замедлили деятельность сердца, давление упало. Выделяемый поджелудочной железой гормон инсулин снизил количество сахара в крови. Сработала система отбоя, и организм перешел на режим отдых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расимпатическая часть вегетативной нервной системы поддерживается гормоном поджелудочной железы инсулином. Благодаря этому организм возвращается в состояние покоя, концентрация сахара в крови снижается, зато работа кишечника усиливаетс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то и понятно: у наших предков за преследованием добычи следовало ее поедание, которое обычно происходило в укромном мест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рвная система и гормоны, выделяемые железами внутренней секреции, работают согласованно. Нервные импульсы действуют быстро и целенаправленно, гормоны вступают в работу несколько позже. Они влияют на все клетки, чувствительные к данному гормону, и действуют дольш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рвная и эндокринная системы тесно связаны между собой. Развитие и работа мозга зависят от гормонов, выделяемых эндокринной систем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§ 50. Головной мозг: строение и функции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Вопросы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де находится головной мозг? Как он связан с другими органами тела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свою очередь, нервная система регулирует работу желёз внутренней секреции, воздействуя на гипофиз нейрогормонами, а через него на остальные железы эндокринной 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рвная система работает адресно, вызывая (или прекращая) работу иннервируемых органов. Эндокринная система поддерживает действия нервной системы, выделяя гормоны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торые мобилизуют сразу все органы, необходимые для выполнения данной деятельности. Кроме того, эндокринная система действует более длительно без значительной затраты энерг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Найдите на рис. 80 основные отделы головного мозга: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долговатый мозг, средний мозг, мост, мозжечок, промежуточный мозг и большие полушария головного мозга. Охарактеризуйте функции каждого отдела головного мозг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3068640"/>
            <a:ext cx="5473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ндокринная система тесно связана с нервной системой. Главной железой эндокринной системы является гипофиз. Он выделяет не только гормон роста, но и множество других гормонов, регулирующих работу щитовидной железы, надпочечников и ряда других желёз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ипофиз же, в свою очередь, регулируется нейронами отдела промежуточного мозга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ипоталаму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нем находятся нейроны, синапсы которых открываются в кровеносные сосуды, выделяя особые вещества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ейрогормон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Через них нервная система контролирует гипофиз, а тот – большинство желёз внутренней секре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яд гормонов желёз внутренней секреции необходим для нормального развития мозга. Так, нехватка в раннем детстве гормонов щитовидной железы может привести к кретинизму – глубокому умственному расстройств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динство гуморальной и нервной регуляции проявляется во взаимодействии нервной и эндокринной систем при переходе от напряжения к отдыху и от отдыха к напряжен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вой в работу включается нервная система. Ее импульсы имеют точный адрес и моментально воздействуют на орган, вызывая (или прекращая) его работу. Но в любой деятельности обычно бывает задействовано много органов, и здесь преимущество принадлежит эндокринной систем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ормоны действуют дольше, причем сразу на многие органы, и, хотя и не так быстро, включают в работу все необходимые для ее выполнения орга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07:17:48Z</dcterms:created>
  <dc:creator>54</dc:creator>
  <dc:description/>
  <dc:language>en-US</dc:language>
  <cp:lastModifiedBy>54</cp:lastModifiedBy>
  <dcterms:modified xsi:type="dcterms:W3CDTF">2012-03-13T07:29:16Z</dcterms:modified>
  <cp:revision>3</cp:revision>
  <dc:subject/>
  <dc:title>§ 48. Нейрогормональная регуляция </dc:title>
</cp:coreProperties>
</file>