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B67-9F14-47C0-B613-3D23C876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7075-20F6-4D8C-A520-CA5FB428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193-E0AB-4A41-86A7-A3CAD846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B55E-173C-4F01-8A2D-23972E8E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D1F1-434C-4DBB-99F4-24DA941E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37F4-6CF4-437D-94C2-110C99A2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C7EA-AC6A-47E9-9F6D-422176E6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7FB0-8E32-4CCE-B577-C55BF9D2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4835-981B-4C6C-A1B3-E074371C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31C4-3735-4BD2-99BE-29ED11A5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789F-F4D4-473F-9462-FCBE770B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BC8-4C6A-4682-B350-14A50208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4FDA-4C62-4136-A491-C79578BA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8144-37D2-4C80-B9AE-8A0B45CE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B3F4-F02E-4732-B573-6D8BBCAD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FFB5-8D48-4D16-BC61-EBEF65D7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0B99-AE11-4774-ABE9-A8FDFB75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E94-3834-4D2A-A11D-82C820E1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035-FBF8-4848-9677-BDC417F7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BC51-59B2-4294-9EBB-374B87BC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D83D-1AC0-493C-A1D3-4448D9A4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722-51D4-4D73-8879-271CCABC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3B30-A923-4E73-A376-BC1301DF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9FC-FEDB-46A0-B733-2D9D3954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BF1A-5117-4F7B-89AB-B6F264226E4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F111-36F8-4B01-9B4F-CD7E1569B10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§ 48. Нейрогормональная регуляция</a:t>
            </a:r>
            <a:br>
              <a:rPr sz="46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следим, как это происходит, на примере. Когда организм попадает в сложные условия, связанные с физической нагрузкой, сначала включается соматический отдел, а затем симпатический подотдел вегетативной нервной систем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йствие последнего сопровождается выделением гормона надпочечников – адреналина, который сразу активизирует многие системы органов и создает оптимальные условия для работ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рдце начинает биться сильнее, повышаются давление и содержание сахара в крови. В результате улучшается снабжение органов кислородом и сахаром. Это настолько сильно мобилизует человека, что он может выполнить работу, которая в обычных условиях для него непосиль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куда же у него взялись силы? В момент опасности нервные импульсы от центров симпатического подотдела полетели к сердцу. Сердце забилось чаще, печень начала выделять в кровь сахар, необходимый мышцам для работы, надпочечники стали выбрасывать в кровь гормон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рвные импульсы действовали точно и прицельно, как снайперские выстрелы. Гормоны надпочечников подоспели позже. Они подействовали сразу на множество органов (все чувствительные к ним клетки), и благодаря этому организм как бы перешел на более интенсивный режим работ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о прошло время, страшное осталось позади. В работу включился парасимпатический подотдел. Нервные импульсы замедлили деятельность сердца, давление упало. Выделяемый поджелудочной железой гормон инсулин снизил количество сахара в крови. Сработала система отбоя, и организм перешел на режим отдых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арасимпатическая часть вегетативной нервной системы поддерживается гормоном поджелудочной железы инсулином. Благодаря этому организм возвращается в состояние покоя, концентрация сахара в крови снижается, зато работа кишечника усиливаетс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то и понятно: у наших предков за преследованием добычи следовало ее поедание, которое обычно происходило в укромном мест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рвная система и гормоны, выделяемые железами внутренней секреции, работают согласованно. Нервные импульсы действуют быстро и целенаправленно, гормоны вступают в работу несколько позже. Они влияют на все клетки, чувствительные к данному гормону, и действуют дольш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ыв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рвная и эндокринная системы тесно связаны между собой. Развитие и работа мозга зависят от гормонов, выделяемых эндокринной систем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§ 50. Головной мозг: строение и функции</a:t>
            </a: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Вопросы</a:t>
            </a: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де находится головной мозг? Как он связан с другими органами тела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свою очередь, нервная система регулирует работу желёз внутренней секреции, воздействуя на гипофиз нейрогормонами, а через него на остальные железы эндокринной систе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ыв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рвная система работает адресно, вызывая (или прекращая) работу иннервируемых органов. Эндокринная система поддерживает действия нервной системы, выделяя гормоны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торые мобилизуют сразу все органы, необходимые для выполнения данной деятельности. Кроме того, эндокринная система действует более длительно без значительной затраты энерг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Найдите на рис. 80 основные отделы головного мозга: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долговатый мозг, средний мозг, мост, мозжечок, промежуточный мозг и большие полушария головного мозга. Охарактеризуйте функции каждого отдела головного мозг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35280" y="3068640"/>
            <a:ext cx="5473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ндокринная система тесно связана с нервной системой. Главной железой эндокринной системы является гипофиз. Он выделяет не только гормон роста, но и множество других гормонов, регулирующих работу щитовидной железы, надпочечников и ряда других желёз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ипофиз же, в свою очередь, регулируется нейронами отдела промежуточного мозга –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ипоталамус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В нем находятся нейроны, синапсы которых открываются в кровеносные сосуды, выделяя особые вещества –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ейрогормон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Через них нервная система контролирует гипофиз, а тот – большинство желёз внутренней секре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яд гормонов желёз внутренней секреции необходим для нормального развития мозга. Так, нехватка в раннем детстве гормонов щитовидной железы может привести к кретинизму – глубокому умственному расстройств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динство гуморальной и нервной регуляции проявляется во взаимодействии нервной и эндокринной систем при переходе от напряжения к отдыху и от отдыха к напряжени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вой в работу включается нервная система. Ее импульсы имеют точный адрес и моментально воздействуют на орган, вызывая (или прекращая) его работу. Но в любой деятельности обычно бывает задействовано много органов, и здесь преимущество принадлежит эндокринной систем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ормоны действуют дольше, причем сразу на многие органы, и, хотя и не так быстро, включают в работу все необходимые для ее выполнения орга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07:17:48Z</dcterms:created>
  <dc:creator>54</dc:creator>
  <dc:description/>
  <dc:language>en-US</dc:language>
  <cp:lastModifiedBy>54</cp:lastModifiedBy>
  <dcterms:modified xsi:type="dcterms:W3CDTF">2012-03-13T07:29:16Z</dcterms:modified>
  <cp:revision>3</cp:revision>
  <dc:subject/>
  <dc:title>§ 48. Нейрогормональная регуляция </dc:title>
</cp:coreProperties>
</file>