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5DF-48C7-439A-B994-5DFC4655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95F-7246-4710-9243-9A353034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679-1D5D-44C4-A868-69B62269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EDD-2BE8-4045-B021-9FAF199D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403-5F95-4A8B-916B-5F791036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2AB-75BD-404C-8ADF-0A9A847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452-018C-49A4-8B25-26A781CA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8A3-931E-4DC7-AFCD-E6A6756F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45C-4DE9-4094-A320-DC5D26D9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CA3-41B2-49DC-AFC6-90A98D8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967-B9A3-4B35-B094-8C15DA2C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019-6540-40D9-8340-D73505CE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59DF-6495-412D-9730-B3F088488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 41. Внутреннее строение и жизнедеятельность пресмыкающих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ие у рептилий сложнее, чем у амфибий: внутри полости легкого много складок, где многократно разветвляются кровеносные сосуды. Это увеличивает поверхность их соприкосновения с воздухом, усиливая газообм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венос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хкамер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 неполной перегородкой в желудочке. Из него выходят три крупных сосуда: левая и правая дуги аорты и легочная артерия (рис. 146). Две дуги аорты, обойдя сердце, сливаются в один общий сосуд – спинную аор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вь по телу течет смешанная (как у земноводных), что влияет н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постоянну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висящую от температуры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очные артерии несут от сердца венозную кровь к легким для насыщения кислоро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легочным венам артериальная кровь поступает в левое предсердие. В желудочке кровь частично смешивается, наиболее богатая кислородом идет к голове, смешанная – ко всем органам тела, насыщенная углекислым газом – к лег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рв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рептилий усложняются и увеличиваются все отделы головного мозга (рис. 147) по сравнению с головным мозгом амфибий. Это проявляется в более сложном и многообразном поведении пресмыкающихся. Условные рефлексы у них образуются быстрее, чем у рыб (см. также § 32) и земноводных (см. также § 37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бенно увеличены передний мозг и мозжечок, продолговатый мозг образует изгиб, характерный для всех высших позвоночных. Кроме зрения и обоняния у пресмыкающихся хорошо развито осяз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553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делительная систем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пресмыкающихся выделительная система такая же, как и у всех наземных позвоночных животных. В органах выделения – почках – усилен механизм возврата воды в тело: она всасывается почечными канальц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ечный продукт обмена веществ у пресмыкающихся выделяется не в виде жидкой мочи (как у земноводных), а как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мочевая кисл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кашицеобразном состоянии в клоаку, а затем наружу. На выведение из организма кашицеобразной мочевой кислоты не требуется так много жидкости, как на выведение жидкой мо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 40. Внешнее строение и скелет пресмыкающих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 происхождение названия класса пресмыкающихся. Приведите примеры, подтверждающие это наз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риспособления внешнего строения обеспечивают рептилиям наземный образ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ы размн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еменники у самцов и яичники у самок (рис. 148). Оплодотворение у пресмыкающихся внутреннее. Оно происходит при сближении клоак самца и самки. Развивающийся в оплодотворенном яйце зародыш, продвигаясь по яйцеводу, покрывается яйцевыми и зародышевыми оболоч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обеспечивают зародыш водой, предохраняют от высыхания, сотрясений, участвуют в дыхании и выделении продуктов об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птилии откладывают яйца на землю или в специально подготовленные углубления (рис. 149). Некоторые пресмыкающиеся охраняют свою кладку (например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рокодил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другие, отложив яйца, покидают их (например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репах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Иногда детенышей вынашивают в теле матери. В этих случаях происходит живорождение, например 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адю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живородящей ящериц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175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довой цикл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мыкающиеся широко распространены по земному шару и встречаются в разных климатических зонах. Однако, будучи холоднокровными животными с непостоянной температурой тела, они нуждаются во внешнем обогреве солнцем. Поэтому наиболее многочисленны эти животные в тропических и субтропических зонах земного ш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условиях сменяющихся времен года, когда на смену теплому лету приходят холодная осень и зима, пресмыкающиеся с наступлением неблагоприятных условий уходят в укрытия: норы, пещеры, под корни деревьев, под сельские дома и лесные избушки. Там животные впадают в оцепенение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яч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есной, когда воздух и поверхность почвы хорошо прогреются, рептилии выходят на поверхность и переходят к активному образу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ее строение рептилий хорошо приспособлено к обитанию на суше: дыхание с помощью легких; оплодотворение внутреннее; яйцо покрыто защитными оболочками, что обеспечивает развивающегося зародыша водой и питательными веще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ература тела зависит от окружающей среды. В неблагоприятное время года рептилии впадают в оцепенение и зимуют в укрытиях; летом актив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скелета пресмыкающихся связаны с их жизнью на су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процессы жизнедеятельности рептилий, которые обеспечивают им жизнь на су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итание и пищева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щеварительные системы пресмыкающихся и земноводных сходны по всем основным отделам (рис. 144, 145). Таковы рот, глотка, желудок, кишечник. Во рту пища смачивае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люн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что свойственно наземным живот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желудке под действием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елудочного с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кислой среде переваривается белковая пища. В кишечник открываются протоки желчного пузыря, печени и поджелудочной железы. Здесь завершается переваривание пищи, происходит всасывание питательных веществ в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щерицы поедают главным образом насекомых и червей. Змеи охотятся на полевок и мышей. У некоторых змей на передней части головы имеются специальные чувствительные ямки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рмолока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пособные воспринимать тепло (инфракрасное излучение), идущее от теплокровного животного. Ядовитые змеи убивают добычу ядом, стекающим п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довитым зуб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довитых желе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расположенных в стенках ротовой по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6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80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ыхатель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вязи с появлением шейного отдела у ящерицы удлиняются дыхательные пути, по которым воздух поступает изо рта в легкие (см. рис. 145). Воздух втягивается через ноздри, попадает в рот, затем 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ортан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потом в длинную трубку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рахе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трахея делится на две еще более узкие трубки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ронх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дущие в лег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21:44Z</dcterms:created>
  <dc:creator>Хватов Александр Борисович</dc:creator>
  <dc:description/>
  <dc:language>en-US</dc:language>
  <cp:lastModifiedBy>Хватов Александр Борисович</cp:lastModifiedBy>
  <dcterms:modified xsi:type="dcterms:W3CDTF">2001-12-31T21:28:01Z</dcterms:modified>
  <cp:revision>2</cp:revision>
  <dc:subject/>
  <dc:title>§ 41. Внутреннее строение и жизнедеятельность пресмыкающихся </dc:title>
</cp:coreProperties>
</file>