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515-123B-40AE-8FF6-C41BC43F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C2D-0018-4198-BFBE-652F0570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8F4-AA99-46A6-B06A-9D59F750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728-43D7-412A-8C60-0228B5BA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E7C-54F8-4A76-81B9-32BEC322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CF3-7D51-4B56-92F3-C185C681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FCF-98B7-477E-BC54-97E36A29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367-51E4-46CC-93F2-70D66040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FCF-BF16-4C99-AA52-EDB26501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7F7-B522-4B45-A19E-08E5771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123-3EFF-41B6-8FC6-0DCF163D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E0E-5C0F-4379-993B-13D4898A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F6D-80B1-4477-8DF8-55A016FD2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§ 41. Внутреннее строение и жизнедеятельность пресмыкающихс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кие у рептилий сложнее, чем у амфибий: внутри полости легкого много складок, где многократно разветвляются кровеносные сосуды. Это увеличивает поверхность их соприкосновения с воздухом, усиливая газообме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овенос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хкамерно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 неполной перегородкой в желудочке. Из него выходят три крупных сосуда: левая и правая дуги аорты и легочная артерия (рис. 146). Две дуги аорты, обойдя сердце, сливаются в один общий сосуд – спинную аор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овь по телу течет смешанная (как у земноводных), что влияет н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постоянну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висящую от температуры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очные артерии несут от сердца венозную кровь к легким для насыщения кислор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легочным венам артериальная кровь поступает в левое предсердие. В желудочке кровь частично смешивается, наиболее богатая кислородом идет к голове, смешанная – ко всем органам тела, насыщенная углекислым газом – к лег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ерв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рептилий усложняются и увеличиваются все отделы головного мозга (рис. 147) по сравнению с головным мозгом амфибий. Это проявляется в более сложном и многообразном поведении пресмыкающихся. Условные рефлексы у них образуются быстрее, чем у рыб (см. также § 32) и земноводных (см. также § 37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бенно увеличены передний мозг и мозжечок, продолговатый мозг образует изгиб, характерный для всех высших позвоночных. Кроме зрения и обоняния у пресмыкающихся хорошо развито осяз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553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делительная систем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пресмыкающихся выделительная система такая же, как и у всех наземных позвоночных животных. В органах выделения – почках – усилен механизм возврата воды в тело: она всасывается почечными канальц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ечный продукт обмена веществ у пресмыкающихся выделяется не в виде жидкой мочи (как у земноводных), а как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мочевая кисл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кашицеобразном состоянии в клоаку, а затем наружу. На выведение из организма кашицеобразной мочевой кислоты не требуется так много жидкости, как на выведение жидкой мо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 40. Внешнее строение и скелет пресмыкающих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 происхождение названия класса пресмыкающихся. Приведите примеры, подтверждающие это назв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испособления внешнего строения обеспечивают рептилиям наземный образ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ы размн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семенники у самцов и яичники у самок (рис. 148). Оплодотворение у пресмыкающихся внутреннее. Оно происходит при сближении клоак самца и самки. Развивающийся в оплодотворенном яйце зародыш, продвигаясь по яйцеводу, покрывается яйцевыми и зародышевыми оболоч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и обеспечивают зародыш водой, предохраняют от высыхания, сотрясений, участвуют в дыхании и выделении продуктов об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6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птилии откладывают яйца на землю или в специально подготовленные углубления (рис. 149). Некоторые пресмыкающиеся охраняют свою кладку (например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рокодил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другие, отложив яйца, покидают их (например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Иногда детенышей вынашивают в теле матери. В этих случаях происходит живорождение, например 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гадю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у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живородящей ящериц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17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довой цикл жиз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мыкающиеся широко распространены по земному шару и встречаются в разных климатических зонах. Однако, будучи холоднокровными животными с непостоянной температурой тела, они нуждаются во внешнем обогреве солнцем. Поэтому наиболее многочисленны эти животные в тропических и субтропических зонах земного ш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условиях сменяющихся времен года, когда на смену теплому лету приходят холодная осень и зима, пресмыкающиеся с наступлением неблагоприятных условий уходят в укрытия: норы, пещеры, под корни деревьев, под сельские дома и лесные избушки. Там животные впадают в оцепенение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пяч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Весной, когда воздух и поверхность почвы хорошо прогреются, рептилии выходят на поверхность и переходят к активному образу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строение рептилий хорошо приспособлено к обитанию на суше: дыхание с помощью легких; оплодотворение внутреннее; яйцо покрыто защитными оболочками, что обеспечивает развивающегося зародыша водой и питательными веще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тура тела зависит от окружающей среды. В неблагоприятное время года рептилии впадают в оцепенение и зимуют в укрытиях; летом актив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особенности строения скелета пресмыкающихся связаны с их жизнью на суш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процессы жизнедеятельности рептилий, которые обеспечивают им жизнь на суш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итание и пищевар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щеварительные системы пресмыкающихся и земноводных сходны по всем основным отделам (рис. 144, 145). Таковы рот, глотка, желудок, кишечник. Во рту пища смачивается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люно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что свойственно наземным живот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елудке под действием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елудочного 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кислой среде переваривается белковая пища. В кишечник открываются протоки желчного пузыря, печени и поджелудочной железы. Здесь завершается переваривание пищи, происходит всасывание питательных веществ в кро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щерицы поедают главным образом насекомых и червей. Змеи охотятся на полевок и мышей. У некоторых змей на передней части головы имеются специальные чувствительные ямки –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рмолок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пособные воспринимать тепло (инфракрасное излучение), идущее от теплокровного животного. Ядовитые змеи убивают добычу ядом, стекающим п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довитым зуб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довитых желе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расположенных в стенках ротовой по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6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80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ыхательн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вязи с появлением шейного отдела у ящерицы удлиняются дыхательные пути, по которым воздух поступает изо рта в легкие (см. рис. 145). Воздух втягивается через ноздри, попадает в рот, затем 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ортан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отом в длинную трубку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рахе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трахея делится на две еще более узкие трубки –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ронх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дущие в лег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21:44Z</dcterms:created>
  <dc:creator>Хватов Александр Борисович</dc:creator>
  <dc:description/>
  <dc:language>en-US</dc:language>
  <cp:lastModifiedBy>Хватов Александр Борисович</cp:lastModifiedBy>
  <dcterms:modified xsi:type="dcterms:W3CDTF">2001-12-31T21:28:01Z</dcterms:modified>
  <cp:revision>2</cp:revision>
  <dc:subject/>
  <dc:title>§ 41. Внутреннее строение и жизнедеятельность пресмыкающихся </dc:title>
</cp:coreProperties>
</file>