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597-6876-4749-AAE9-122078FE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8A8-A1D4-4701-A838-508A2583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FCF-5182-43E6-812D-2BADB1C1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EB3-147E-4C45-8262-C0AA4F17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2C39-3569-47BA-ACD9-A970D031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93D3-134A-466E-A67A-7E896845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73FB-62E3-42FD-9D74-362C2654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2AB-1557-425B-8DD9-A569306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D14-811B-4B77-886E-A6530AD6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64DF-70EF-42BE-893B-6F7B6FAB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F1F3-511A-43EB-91A6-6D6E38C4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F61-A12D-4219-B2C1-C3E7C5D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9E30-DA69-4CE5-90C8-914D2F5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5C95-504F-435B-BC66-CEAF4517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BF7C-1BBC-4EFE-8DF0-E8434674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DAC-3547-453F-B551-DCFCF02E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CD58-5F66-4089-9085-1E17DE04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9F8-5172-46C2-87B0-0278CC2C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BC2-BBCD-4F7F-8107-68E29A1B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0ED-59D2-4B59-8DF1-B414FB80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31B-31E5-4601-AFDC-F247D7D6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E8F-0186-442D-8405-9276A1EF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0CB-9339-49BE-94FE-5512F15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7AF-6824-403C-9532-1715BE3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0C16-9B62-49A8-A381-9E97D2A2701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16F-538C-48C9-A280-37C722218F1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231840" y="1365120"/>
            <a:ext cx="860724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Вопрос: Какие выгоды, подписав пакт, получили Германия и СССР?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57120" y="2214720"/>
            <a:ext cx="8501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                                                                          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>
            <a:off x="4606920" y="221472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357120" y="2857680"/>
            <a:ext cx="850104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10"/>
          <p:cNvSpPr/>
          <p:nvPr/>
        </p:nvSpPr>
        <p:spPr>
          <a:xfrm>
            <a:off x="4606920" y="2857680"/>
            <a:ext cx="1440" cy="36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ыгоды Германии и СССР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grpSp>
        <p:nvGrpSpPr>
          <p:cNvPr id="156" name="TextBox 4"/>
          <p:cNvGrpSpPr/>
          <p:nvPr/>
        </p:nvGrpSpPr>
        <p:grpSpPr>
          <a:xfrm>
            <a:off x="244440" y="1944720"/>
            <a:ext cx="4114800" cy="1646280"/>
            <a:chOff x="244440" y="1944720"/>
            <a:chExt cx="4114800" cy="1646280"/>
          </a:xfrm>
        </p:grpSpPr>
        <p:pic>
          <p:nvPicPr>
            <p:cNvPr id="157" name="TextBox 4" descr=""/>
            <p:cNvPicPr/>
            <p:nvPr/>
          </p:nvPicPr>
          <p:blipFill>
            <a:blip r:embed="rId1"/>
            <a:stretch/>
          </p:blipFill>
          <p:spPr>
            <a:xfrm>
              <a:off x="244440" y="1944720"/>
              <a:ext cx="411480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57120" y="2000160"/>
              <a:ext cx="3929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ля Германии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зможность начать захват первого бастиона на Восток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Ликвидация угрозы войны  на два фронта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5"/>
          <p:cNvSpPr/>
          <p:nvPr/>
        </p:nvSpPr>
        <p:spPr>
          <a:xfrm>
            <a:off x="4429080" y="2000160"/>
            <a:ext cx="4572000" cy="22885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ля СССР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игрыш во времени для укрепления обороно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ренос границы на зап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несение разлада в отношения между Германией и Япони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иквидация угрозы войны на два фро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и почему изменились ориентиры внешней политики СССР в конце 30-х гг.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Кто является главным виновником и зачинщиком Второй мировой войны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785880" y="35712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предлагала объединиться для коллективного отпора агрессор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хословак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23 августа 1939г. был подписан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кт о ненападении между СССР и Германи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нхенский догово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икоминтерновский пак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Соотнесите страны с произошедшими событ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ССР.                 1) Конфликт с Японией на р.Халхин-Го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.           2) Политика умиротворения агрессо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.               3) Аннексия Авс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.З. п.21 вопросы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В.Суворов «Ледокол»: «Вторая мировая война – это термин, который коммунисты приучили нас писать с маленькой буквы. А я пишу этот термин с большой буквы и доказываю, что Советский Союз – главный её виновник и главный зачинщик».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Цели и задачи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ь: Установить виновника и главного зачинщика Второй мировой войн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еделить главную цель советской внешней политики в 30-е гг.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яснить позиции ведущих мировых держав накануне Второй мировой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/>
          <p:cNvSpPr/>
          <p:nvPr/>
        </p:nvSpPr>
        <p:spPr>
          <a:xfrm>
            <a:off x="1643040" y="1571760"/>
            <a:ext cx="692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новение очагов а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яя политика СССР в 30-е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ориентиров внешней политики СССР в конце 30-х г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4929120" cy="485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8"/>
          <p:cNvSpPr/>
          <p:nvPr/>
        </p:nvSpPr>
        <p:spPr>
          <a:xfrm>
            <a:off x="2643120" y="2786040"/>
            <a:ext cx="214560" cy="11430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трелка влево 9"/>
          <p:cNvSpPr/>
          <p:nvPr/>
        </p:nvSpPr>
        <p:spPr>
          <a:xfrm>
            <a:off x="1857240" y="2928960"/>
            <a:ext cx="714600" cy="21420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трелка влево 11"/>
          <p:cNvSpPr/>
          <p:nvPr/>
        </p:nvSpPr>
        <p:spPr>
          <a:xfrm>
            <a:off x="7429680" y="3500280"/>
            <a:ext cx="857160" cy="14292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643280" y="17859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12"/>
          <p:cNvSpPr/>
          <p:nvPr/>
        </p:nvSpPr>
        <p:spPr>
          <a:xfrm>
            <a:off x="7643880" y="3286080"/>
            <a:ext cx="642960" cy="71640"/>
          </a:xfrm>
          <a:prstGeom prst="leftArrow">
            <a:avLst>
              <a:gd name="adj1" fmla="val 50000"/>
              <a:gd name="adj2" fmla="val 498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Возникновение очагов агресси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57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истема коллективной безопасности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14200" y="3143160"/>
            <a:ext cx="2214720" cy="368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3г: США-ССС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4143240"/>
            <a:ext cx="21430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4г : СССР-Лига Н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429000" y="2286000"/>
            <a:ext cx="2357280" cy="1465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.В.Сталин : «Среди буржуазных государств есть неагрессивны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3429000" y="3929040"/>
            <a:ext cx="2357280" cy="916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935г : СССР-Франция-Чехословак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14680" y="5000760"/>
            <a:ext cx="257148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щь и защита членам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1928880" y="3571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нешняя политика СССР в 30-е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главную цель внешней политики СССР  и позицию мировых держа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Прямоугольник 8"/>
          <p:cNvGrpSpPr/>
          <p:nvPr/>
        </p:nvGrpSpPr>
        <p:grpSpPr>
          <a:xfrm>
            <a:off x="6072120" y="1962000"/>
            <a:ext cx="2644920" cy="1360800"/>
            <a:chOff x="6072120" y="1962000"/>
            <a:chExt cx="2644920" cy="1360800"/>
          </a:xfrm>
        </p:grpSpPr>
        <p:pic>
          <p:nvPicPr>
            <p:cNvPr id="116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6072120" y="1962000"/>
              <a:ext cx="2644920" cy="13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43760" y="2000160"/>
              <a:ext cx="250020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Англия; Польша; Герма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Прямоугольник 9"/>
          <p:cNvGrpSpPr/>
          <p:nvPr/>
        </p:nvGrpSpPr>
        <p:grpSpPr>
          <a:xfrm>
            <a:off x="6072120" y="3249720"/>
            <a:ext cx="2724120" cy="1292040"/>
            <a:chOff x="6072120" y="3249720"/>
            <a:chExt cx="2724120" cy="1292040"/>
          </a:xfrm>
        </p:grpSpPr>
        <p:pic>
          <p:nvPicPr>
            <p:cNvPr id="119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6072120" y="3249720"/>
              <a:ext cx="272412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143760" y="3286080"/>
              <a:ext cx="25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юнхенский договор (1938г.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10"/>
          <p:cNvSpPr/>
          <p:nvPr/>
        </p:nvSpPr>
        <p:spPr>
          <a:xfrm>
            <a:off x="214200" y="2286000"/>
            <a:ext cx="2286000" cy="642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ичерин-Литви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TextBox 11"/>
          <p:cNvGrpSpPr/>
          <p:nvPr/>
        </p:nvGrpSpPr>
        <p:grpSpPr>
          <a:xfrm>
            <a:off x="6072120" y="4516560"/>
            <a:ext cx="2644920" cy="811080"/>
            <a:chOff x="6072120" y="4516560"/>
            <a:chExt cx="2644920" cy="811080"/>
          </a:xfrm>
        </p:grpSpPr>
        <p:pic>
          <p:nvPicPr>
            <p:cNvPr id="123" name="TextBox 11" descr=""/>
            <p:cNvPicPr/>
            <p:nvPr/>
          </p:nvPicPr>
          <p:blipFill>
            <a:blip r:embed="rId3"/>
            <a:stretch/>
          </p:blipFill>
          <p:spPr>
            <a:xfrm>
              <a:off x="6072120" y="4516560"/>
              <a:ext cx="26449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143760" y="457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Война в Испан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       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6-1939гг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5295960" cy="4214880"/>
          </a:xfrm>
          <a:prstGeom prst="rect">
            <a:avLst/>
          </a:prstGeom>
          <a:ln w="0">
            <a:noFill/>
          </a:ln>
        </p:spPr>
      </p:pic>
      <p:sp>
        <p:nvSpPr>
          <p:cNvPr id="126" name="Стрелка влево 5"/>
          <p:cNvSpPr/>
          <p:nvPr/>
        </p:nvSpPr>
        <p:spPr>
          <a:xfrm>
            <a:off x="3357720" y="2571840"/>
            <a:ext cx="1143000" cy="2858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6215040" y="1857240"/>
            <a:ext cx="257184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то 1939г.бои между СССР и Японией на р.Халхин-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TextBox 7"/>
          <p:cNvGrpSpPr/>
          <p:nvPr/>
        </p:nvGrpSpPr>
        <p:grpSpPr>
          <a:xfrm>
            <a:off x="6168960" y="3730680"/>
            <a:ext cx="2689200" cy="1521000"/>
            <a:chOff x="6168960" y="3730680"/>
            <a:chExt cx="2689200" cy="1521000"/>
          </a:xfrm>
        </p:grpSpPr>
        <p:pic>
          <p:nvPicPr>
            <p:cNvPr id="129" name="TextBox 7" descr=""/>
            <p:cNvPicPr/>
            <p:nvPr/>
          </p:nvPicPr>
          <p:blipFill>
            <a:blip r:embed="rId2"/>
            <a:stretch/>
          </p:blipFill>
          <p:spPr>
            <a:xfrm>
              <a:off x="6168960" y="3730680"/>
              <a:ext cx="2689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286680" y="3786120"/>
              <a:ext cx="2500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Договор Англии с Японией о взаимном уважении интерес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Прямоугольник 7"/>
          <p:cNvSpPr/>
          <p:nvPr/>
        </p:nvSpPr>
        <p:spPr>
          <a:xfrm>
            <a:off x="928800" y="42876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зменение ориентиров внешней политики СССР в конце 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 почему изменились ориентир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Международные отношения в конце 30х г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Стрелка вниз 4"/>
          <p:cNvSpPr/>
          <p:nvPr/>
        </p:nvSpPr>
        <p:spPr>
          <a:xfrm>
            <a:off x="2928960" y="3929040"/>
            <a:ext cx="14292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TextBox 5"/>
          <p:cNvGrpSpPr/>
          <p:nvPr/>
        </p:nvGrpSpPr>
        <p:grpSpPr>
          <a:xfrm>
            <a:off x="6529320" y="2084400"/>
            <a:ext cx="2322720" cy="1365120"/>
            <a:chOff x="6529320" y="2084400"/>
            <a:chExt cx="2322720" cy="1365120"/>
          </a:xfrm>
        </p:grpSpPr>
        <p:pic>
          <p:nvPicPr>
            <p:cNvPr id="135" name="TextBox 5" descr=""/>
            <p:cNvPicPr/>
            <p:nvPr/>
          </p:nvPicPr>
          <p:blipFill>
            <a:blip r:embed="rId1"/>
            <a:stretch/>
          </p:blipFill>
          <p:spPr>
            <a:xfrm>
              <a:off x="6529320" y="2084400"/>
              <a:ext cx="232272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643800" y="214308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1939г : Оккупация Германией Чехословак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TextBox 7"/>
          <p:cNvGrpSpPr/>
          <p:nvPr/>
        </p:nvGrpSpPr>
        <p:grpSpPr>
          <a:xfrm>
            <a:off x="6529320" y="3657600"/>
            <a:ext cx="2114640" cy="1090440"/>
            <a:chOff x="6529320" y="3657600"/>
            <a:chExt cx="2114640" cy="1090440"/>
          </a:xfrm>
        </p:grpSpPr>
        <p:pic>
          <p:nvPicPr>
            <p:cNvPr id="138" name="TextBox 7" descr=""/>
            <p:cNvPicPr/>
            <p:nvPr/>
          </p:nvPicPr>
          <p:blipFill>
            <a:blip r:embed="rId2"/>
            <a:stretch/>
          </p:blipFill>
          <p:spPr>
            <a:xfrm>
              <a:off x="6529320" y="3657600"/>
              <a:ext cx="21146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643800" y="3714840"/>
              <a:ext cx="1928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Италия захватила Албанию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428760" y="2000160"/>
            <a:ext cx="5929200" cy="4389480"/>
          </a:xfrm>
          <a:prstGeom prst="rect">
            <a:avLst/>
          </a:prstGeom>
          <a:ln w="0">
            <a:noFill/>
          </a:ln>
        </p:spPr>
      </p:pic>
      <p:sp>
        <p:nvSpPr>
          <p:cNvPr id="141" name="Стрелка вправо 13"/>
          <p:cNvSpPr/>
          <p:nvPr/>
        </p:nvSpPr>
        <p:spPr>
          <a:xfrm>
            <a:off x="3214800" y="3286080"/>
            <a:ext cx="11430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трелка вправо 14"/>
          <p:cNvSpPr/>
          <p:nvPr/>
        </p:nvSpPr>
        <p:spPr>
          <a:xfrm>
            <a:off x="4572000" y="542916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оветско-Германские отношения в 1939г.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1571760" y="2000160"/>
            <a:ext cx="6143400" cy="6426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23 августа 1939г. : Советско-Германский пакт  о ненапад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TextBox 4"/>
          <p:cNvGrpSpPr/>
          <p:nvPr/>
        </p:nvGrpSpPr>
        <p:grpSpPr>
          <a:xfrm>
            <a:off x="1457280" y="2798640"/>
            <a:ext cx="2328840" cy="1250280"/>
            <a:chOff x="1457280" y="2798640"/>
            <a:chExt cx="2328840" cy="1250280"/>
          </a:xfrm>
        </p:grpSpPr>
        <p:pic>
          <p:nvPicPr>
            <p:cNvPr id="146" name="TextBox 4" descr=""/>
            <p:cNvPicPr/>
            <p:nvPr/>
          </p:nvPicPr>
          <p:blipFill>
            <a:blip r:embed="rId1"/>
            <a:stretch/>
          </p:blipFill>
          <p:spPr>
            <a:xfrm>
              <a:off x="1457280" y="2798640"/>
              <a:ext cx="232884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571760" y="2857680"/>
              <a:ext cx="200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Министр иностранных дел  Риббентроп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6"/>
          <p:cNvSpPr/>
          <p:nvPr/>
        </p:nvSpPr>
        <p:spPr>
          <a:xfrm>
            <a:off x="5286240" y="2857680"/>
            <a:ext cx="2428920" cy="119124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родный комиссар иностранных дел Моло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3:12:48Z</dcterms:created>
  <dc:creator>Зарубкина Р.И.</dc:creator>
  <dc:description/>
  <dc:language>en-US</dc:language>
  <cp:lastModifiedBy>Admin</cp:lastModifiedBy>
  <dcterms:modified xsi:type="dcterms:W3CDTF">2009-12-12T17:57:32Z</dcterms:modified>
  <cp:revision>41</cp:revision>
  <dc:subject/>
  <dc:title>Тема: Международные отношения и внешняя политика СССР в 1930 гг.</dc:title>
</cp:coreProperties>
</file>