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E55-6F7C-4468-982D-EC17D0BC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9AE-06A4-4DDD-B50A-BD46B84F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7C7-7E4A-4650-B1D9-89C04DB0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73E-7C87-4933-AA1D-BACF0B3E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4BB-D3A4-4438-9310-322D71B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53C-4E38-4BE4-820A-33DE806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A196-3948-4DE3-A4EE-A33F328B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DE2A-0372-47C3-BA4B-01BDE6A2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44F7-B363-43D1-A503-221164B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88EF-CFD2-4E09-993C-EAB85935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46C6-5E12-4973-A2C9-36C8B63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5E5-1D43-4C25-A55C-7F0BDB9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879A-A6AD-47CC-88FD-FA0EBD4F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CD83-5D3F-4CE6-8B0F-447F34F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9D81-B69D-4352-B95C-7CF25BA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4C1C-006F-4950-B7CF-36F9CCC7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D2CF-408B-4FD2-8735-2A102AAA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47A-62C9-4784-B946-D187FBFD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DBC-5DC2-4A35-A758-39625BE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FE4-31AC-43D8-934B-992C171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503-03D7-472A-B651-8E602D02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C59-2239-472D-8877-9740E5D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542-8016-4F87-81B8-E9A0547E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588-8034-493C-8DB9-144AED3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F48-DCD2-4E58-AC3C-2430FED708A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B8D-F1F1-41F6-A821-46A6B97A116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231840" y="1365120"/>
            <a:ext cx="8607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Вопрос: Какие выгоды, подписав пакт, получили Германия и СССР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57120" y="2214720"/>
            <a:ext cx="8501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                                                                         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>
            <a:off x="4606920" y="221472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57120" y="2857680"/>
            <a:ext cx="850104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4606920" y="285768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ыгоды Германии и СССР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156" name="TextBox 4"/>
          <p:cNvGrpSpPr/>
          <p:nvPr/>
        </p:nvGrpSpPr>
        <p:grpSpPr>
          <a:xfrm>
            <a:off x="244440" y="1944720"/>
            <a:ext cx="4114800" cy="1646280"/>
            <a:chOff x="244440" y="1944720"/>
            <a:chExt cx="4114800" cy="1646280"/>
          </a:xfrm>
        </p:grpSpPr>
        <p:pic>
          <p:nvPicPr>
            <p:cNvPr id="157" name="TextBox 4" descr=""/>
            <p:cNvPicPr/>
            <p:nvPr/>
          </p:nvPicPr>
          <p:blipFill>
            <a:blip r:embed="rId1"/>
            <a:stretch/>
          </p:blipFill>
          <p:spPr>
            <a:xfrm>
              <a:off x="244440" y="1944720"/>
              <a:ext cx="41148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57120" y="2000160"/>
              <a:ext cx="3929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ля Германии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зможность начать захват первого бастиона на Восток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Ликвидация угрозы войны  на два фрон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5"/>
          <p:cNvSpPr/>
          <p:nvPr/>
        </p:nvSpPr>
        <p:spPr>
          <a:xfrm>
            <a:off x="4429080" y="2000160"/>
            <a:ext cx="4572000" cy="22885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ля СССР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игрыш во времени для укрепления обороно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ренос границы на зап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сение разлада в отношения между Германией и Япон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иквидация угрозы войны на два фро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и почему изменились ориентиры внешней политики СССР в конце 30-х гг.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Кто является главным виновником и зачинщиком Второй мировой войны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785880" y="35712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предлагала объединиться для коллективного отпора агрессор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хословак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23 августа 1939г. был подписа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кт о ненападении между СССР и Герман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нхенский догово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коминтерновский па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Соотнесите страны с произошедшими событ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                 1) Конфликт с Японией на р.Халхин-Го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.           2) Политика умиротворения агресс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.               3) Аннексия Авс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.З. п.21 вопрос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В.Суворов «Ледокол»: «Вторая мировая война – это термин, который коммунисты приучили нас писать с маленькой буквы. А я пишу этот термин с большой буквы и доказываю, что Советский Союз – главный её виновник и главный зачинщик»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Цели и задачи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Установить виновника и главного зачинщика Второй мировой войн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еделить главную цель советской внешней политики в 30-е гг.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яснить позиции ведущих мировых держав накануне Второй мировой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/>
          <p:cNvSpPr/>
          <p:nvPr/>
        </p:nvSpPr>
        <p:spPr>
          <a:xfrm>
            <a:off x="1643040" y="1571760"/>
            <a:ext cx="692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новение очагов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яя политика СССР в 30-е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ориентиров внешней политики СССР в конце 30-х г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4929120" cy="485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8"/>
          <p:cNvSpPr/>
          <p:nvPr/>
        </p:nvSpPr>
        <p:spPr>
          <a:xfrm>
            <a:off x="2643120" y="2786040"/>
            <a:ext cx="214560" cy="1143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трелка влево 9"/>
          <p:cNvSpPr/>
          <p:nvPr/>
        </p:nvSpPr>
        <p:spPr>
          <a:xfrm>
            <a:off x="1857240" y="2928960"/>
            <a:ext cx="714600" cy="2142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трелка влево 11"/>
          <p:cNvSpPr/>
          <p:nvPr/>
        </p:nvSpPr>
        <p:spPr>
          <a:xfrm>
            <a:off x="7429680" y="3500280"/>
            <a:ext cx="857160" cy="14292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12"/>
          <p:cNvSpPr/>
          <p:nvPr/>
        </p:nvSpPr>
        <p:spPr>
          <a:xfrm>
            <a:off x="7643880" y="3286080"/>
            <a:ext cx="642960" cy="71640"/>
          </a:xfrm>
          <a:prstGeom prst="leftArrow">
            <a:avLst>
              <a:gd name="adj1" fmla="val 50000"/>
              <a:gd name="adj2" fmla="val 498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озникновение очагов агресси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истема коллективной безопасност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3143160"/>
            <a:ext cx="2214720" cy="368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3г: США-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4143240"/>
            <a:ext cx="21430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4г : СССР-Лига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429000" y="2286000"/>
            <a:ext cx="2357280" cy="1465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.В.Сталин : «Среди буржуазных государств есть неагрессивны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429000" y="3929040"/>
            <a:ext cx="2357280" cy="916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5г : СССР-Франция-Чехословак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14680" y="5000760"/>
            <a:ext cx="25714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щь и защита членам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928880" y="3571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нешняя политика СССР в 30-е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главную цель внешней политики СССР  и позицию мировых держа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Прямоугольник 8"/>
          <p:cNvGrpSpPr/>
          <p:nvPr/>
        </p:nvGrpSpPr>
        <p:grpSpPr>
          <a:xfrm>
            <a:off x="6072120" y="1962000"/>
            <a:ext cx="2644920" cy="1360800"/>
            <a:chOff x="6072120" y="1962000"/>
            <a:chExt cx="2644920" cy="1360800"/>
          </a:xfrm>
        </p:grpSpPr>
        <p:pic>
          <p:nvPicPr>
            <p:cNvPr id="116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6072120" y="1962000"/>
              <a:ext cx="2644920" cy="13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43760" y="2000160"/>
              <a:ext cx="25002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глия; Польша; Герма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Прямоугольник 9"/>
          <p:cNvGrpSpPr/>
          <p:nvPr/>
        </p:nvGrpSpPr>
        <p:grpSpPr>
          <a:xfrm>
            <a:off x="6072120" y="3249720"/>
            <a:ext cx="2724120" cy="1292040"/>
            <a:chOff x="6072120" y="3249720"/>
            <a:chExt cx="2724120" cy="1292040"/>
          </a:xfrm>
        </p:grpSpPr>
        <p:pic>
          <p:nvPicPr>
            <p:cNvPr id="119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072120" y="3249720"/>
              <a:ext cx="2724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43760" y="3286080"/>
              <a:ext cx="25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юнхенский договор (1938г.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10"/>
          <p:cNvSpPr/>
          <p:nvPr/>
        </p:nvSpPr>
        <p:spPr>
          <a:xfrm>
            <a:off x="214200" y="2286000"/>
            <a:ext cx="228600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ичерин-Литв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TextBox 11"/>
          <p:cNvGrpSpPr/>
          <p:nvPr/>
        </p:nvGrpSpPr>
        <p:grpSpPr>
          <a:xfrm>
            <a:off x="6072120" y="4516560"/>
            <a:ext cx="2644920" cy="811080"/>
            <a:chOff x="6072120" y="4516560"/>
            <a:chExt cx="2644920" cy="811080"/>
          </a:xfrm>
        </p:grpSpPr>
        <p:pic>
          <p:nvPicPr>
            <p:cNvPr id="123" name="TextBox 11" descr=""/>
            <p:cNvPicPr/>
            <p:nvPr/>
          </p:nvPicPr>
          <p:blipFill>
            <a:blip r:embed="rId3"/>
            <a:stretch/>
          </p:blipFill>
          <p:spPr>
            <a:xfrm>
              <a:off x="6072120" y="4516560"/>
              <a:ext cx="26449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143760" y="457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йна в Испан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6-1939гг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295960" cy="421488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лево 5"/>
          <p:cNvSpPr/>
          <p:nvPr/>
        </p:nvSpPr>
        <p:spPr>
          <a:xfrm>
            <a:off x="3357720" y="25718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6215040" y="1857240"/>
            <a:ext cx="257184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то 1939г.бои между СССР и Японией на р.Халхин-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TextBox 7"/>
          <p:cNvGrpSpPr/>
          <p:nvPr/>
        </p:nvGrpSpPr>
        <p:grpSpPr>
          <a:xfrm>
            <a:off x="6168960" y="3730680"/>
            <a:ext cx="2689200" cy="1521000"/>
            <a:chOff x="6168960" y="3730680"/>
            <a:chExt cx="2689200" cy="1521000"/>
          </a:xfrm>
        </p:grpSpPr>
        <p:pic>
          <p:nvPicPr>
            <p:cNvPr id="129" name="TextBox 7" descr=""/>
            <p:cNvPicPr/>
            <p:nvPr/>
          </p:nvPicPr>
          <p:blipFill>
            <a:blip r:embed="rId2"/>
            <a:stretch/>
          </p:blipFill>
          <p:spPr>
            <a:xfrm>
              <a:off x="6168960" y="3730680"/>
              <a:ext cx="2689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286680" y="3786120"/>
              <a:ext cx="250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оговор Англии с Японией о взаимном уважении интерес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Прямоугольник 7"/>
          <p:cNvSpPr/>
          <p:nvPr/>
        </p:nvSpPr>
        <p:spPr>
          <a:xfrm>
            <a:off x="928800" y="4287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менение ориентиров внешней политики СССР в конце 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 почему изменились ориентир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Международные отношения в конце 30х г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Стрелка вниз 4"/>
          <p:cNvSpPr/>
          <p:nvPr/>
        </p:nvSpPr>
        <p:spPr>
          <a:xfrm>
            <a:off x="2928960" y="3929040"/>
            <a:ext cx="14292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TextBox 5"/>
          <p:cNvGrpSpPr/>
          <p:nvPr/>
        </p:nvGrpSpPr>
        <p:grpSpPr>
          <a:xfrm>
            <a:off x="6529320" y="2084400"/>
            <a:ext cx="2322720" cy="1365120"/>
            <a:chOff x="6529320" y="2084400"/>
            <a:chExt cx="2322720" cy="1365120"/>
          </a:xfrm>
        </p:grpSpPr>
        <p:pic>
          <p:nvPicPr>
            <p:cNvPr id="135" name="TextBox 5" descr=""/>
            <p:cNvPicPr/>
            <p:nvPr/>
          </p:nvPicPr>
          <p:blipFill>
            <a:blip r:embed="rId1"/>
            <a:stretch/>
          </p:blipFill>
          <p:spPr>
            <a:xfrm>
              <a:off x="6529320" y="2084400"/>
              <a:ext cx="232272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643800" y="214308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9г : Оккупация Германией Чехословак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TextBox 7"/>
          <p:cNvGrpSpPr/>
          <p:nvPr/>
        </p:nvGrpSpPr>
        <p:grpSpPr>
          <a:xfrm>
            <a:off x="6529320" y="3657600"/>
            <a:ext cx="2114640" cy="1090440"/>
            <a:chOff x="6529320" y="3657600"/>
            <a:chExt cx="2114640" cy="1090440"/>
          </a:xfrm>
        </p:grpSpPr>
        <p:pic>
          <p:nvPicPr>
            <p:cNvPr id="138" name="TextBox 7" descr=""/>
            <p:cNvPicPr/>
            <p:nvPr/>
          </p:nvPicPr>
          <p:blipFill>
            <a:blip r:embed="rId2"/>
            <a:stretch/>
          </p:blipFill>
          <p:spPr>
            <a:xfrm>
              <a:off x="6529320" y="3657600"/>
              <a:ext cx="2114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43800" y="3714840"/>
              <a:ext cx="192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Италия захватила Албан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5929200" cy="4389480"/>
          </a:xfrm>
          <a:prstGeom prst="rect">
            <a:avLst/>
          </a:prstGeom>
          <a:ln w="0">
            <a:noFill/>
          </a:ln>
        </p:spPr>
      </p:pic>
      <p:sp>
        <p:nvSpPr>
          <p:cNvPr id="141" name="Стрелка вправо 13"/>
          <p:cNvSpPr/>
          <p:nvPr/>
        </p:nvSpPr>
        <p:spPr>
          <a:xfrm>
            <a:off x="3214800" y="3286080"/>
            <a:ext cx="11430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трелка вправо 14"/>
          <p:cNvSpPr/>
          <p:nvPr/>
        </p:nvSpPr>
        <p:spPr>
          <a:xfrm>
            <a:off x="4572000" y="542916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оветско-Германские отношения в 1939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571760" y="2000160"/>
            <a:ext cx="6143400" cy="6426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3 августа 1939г. : Советско-Германский пакт  о нена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TextBox 4"/>
          <p:cNvGrpSpPr/>
          <p:nvPr/>
        </p:nvGrpSpPr>
        <p:grpSpPr>
          <a:xfrm>
            <a:off x="1457280" y="2798640"/>
            <a:ext cx="2328840" cy="1250280"/>
            <a:chOff x="1457280" y="2798640"/>
            <a:chExt cx="2328840" cy="1250280"/>
          </a:xfrm>
        </p:grpSpPr>
        <p:pic>
          <p:nvPicPr>
            <p:cNvPr id="146" name="TextBox 4" descr=""/>
            <p:cNvPicPr/>
            <p:nvPr/>
          </p:nvPicPr>
          <p:blipFill>
            <a:blip r:embed="rId1"/>
            <a:stretch/>
          </p:blipFill>
          <p:spPr>
            <a:xfrm>
              <a:off x="1457280" y="2798640"/>
              <a:ext cx="232884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71760" y="285768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инистр иностранных дел  Риббентро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6"/>
          <p:cNvSpPr/>
          <p:nvPr/>
        </p:nvSpPr>
        <p:spPr>
          <a:xfrm>
            <a:off x="5286240" y="2857680"/>
            <a:ext cx="242892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родный комиссар иностранных дел Моло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3:12:48Z</dcterms:created>
  <dc:creator>Зарубкина Р.И.</dc:creator>
  <dc:description/>
  <dc:language>en-US</dc:language>
  <cp:lastModifiedBy>Admin</cp:lastModifiedBy>
  <dcterms:modified xsi:type="dcterms:W3CDTF">2009-12-12T17:57:32Z</dcterms:modified>
  <cp:revision>41</cp:revision>
  <dc:subject/>
  <dc:title>Тема: Международные отношения и внешняя политика СССР в 1930 гг.</dc:title>
</cp:coreProperties>
</file>