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2EC-448C-48C1-871B-3A890AE8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D95-9253-4511-B8E0-4F0E1CD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1E5-1C6B-438A-956B-0A1DA850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E80-7C30-415E-87BC-0BEC5A80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992-8DB3-431F-A5FF-BCDE1BB0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199B-A7A3-4613-A8AA-1E1B10C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05D-CF14-471F-AC98-A836288C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EA8-18CC-4387-AB5B-5D9C0B2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4235-67CA-47FE-AFE9-4FA0C11B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AAE-CFBF-4487-9269-5D3AD9F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D4C-72D6-4239-80C8-6887FFD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182-39E5-4C33-8F9E-7C11BAEF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7259-BEDF-4929-AE6F-9E76089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1031-A975-4FDD-95EB-7CB7FCD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1A8B-29FD-4541-BAFF-6E3078F7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0829-21E4-4C63-B9F7-6484FD95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4E28-C112-4781-997D-6D300CF9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549-7A7D-49C0-BDCA-39A2C3D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25D-3D1B-443A-9441-BC7CB4D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9C5-52F0-40FD-BD06-6FBF591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172-A44E-4E2C-AACC-6C7CA72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00C-3A16-4F66-ABAB-D43DDD4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042-D51D-4C5A-A3EF-4F0F08C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84D-2C45-4AD5-BD44-FB94495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991-29AF-45C0-950D-503159F1980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154-472C-44AF-B991-E7922317ADC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231840" y="1365120"/>
            <a:ext cx="8607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Вопрос: Какие выгоды, подписав пакт, получили Германия и СССР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57120" y="2214720"/>
            <a:ext cx="8501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                                                                         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>
            <a:off x="4606920" y="221472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57120" y="2857680"/>
            <a:ext cx="850104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4606920" y="285768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ыгоды Германии и СССР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156" name="TextBox 4"/>
          <p:cNvGrpSpPr/>
          <p:nvPr/>
        </p:nvGrpSpPr>
        <p:grpSpPr>
          <a:xfrm>
            <a:off x="244440" y="1944720"/>
            <a:ext cx="4114800" cy="1646280"/>
            <a:chOff x="244440" y="1944720"/>
            <a:chExt cx="4114800" cy="1646280"/>
          </a:xfrm>
        </p:grpSpPr>
        <p:pic>
          <p:nvPicPr>
            <p:cNvPr id="157" name="TextBox 4" descr=""/>
            <p:cNvPicPr/>
            <p:nvPr/>
          </p:nvPicPr>
          <p:blipFill>
            <a:blip r:embed="rId1"/>
            <a:stretch/>
          </p:blipFill>
          <p:spPr>
            <a:xfrm>
              <a:off x="244440" y="1944720"/>
              <a:ext cx="41148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57120" y="2000160"/>
              <a:ext cx="3929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ля Германии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зможность начать захват первого бастиона на Восток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Ликвидация угрозы войны  на два фрон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5"/>
          <p:cNvSpPr/>
          <p:nvPr/>
        </p:nvSpPr>
        <p:spPr>
          <a:xfrm>
            <a:off x="4429080" y="2000160"/>
            <a:ext cx="4572000" cy="22885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ля СССР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игрыш во времени для укрепления обороно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ренос границы на зап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сение разлада в отношения между Германией и Япон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иквидация угрозы войны на два фро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и почему изменились ориентиры внешней политики СССР в конце 30-х гг.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Кто является главным виновником и зачинщиком Второй мировой войны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785880" y="35712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предлагала объединиться для коллективного отпора агрессор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хословак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23 августа 1939г. был подписа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кт о ненападении между СССР и Герман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нхенский догово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коминтерновский па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Соотнесите страны с произошедшими событ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                 1) Конфликт с Японией на р.Халхин-Го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.           2) Политика умиротворения агресс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.               3) Аннексия Авс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.З. п.21 вопрос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В.Суворов «Ледокол»: «Вторая мировая война – это термин, который коммунисты приучили нас писать с маленькой буквы. А я пишу этот термин с большой буквы и доказываю, что Советский Союз – главный её виновник и главный зачинщик»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Цели и задачи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Установить виновника и главного зачинщика Второй мировой войн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еделить главную цель советской внешней политики в 30-е гг.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яснить позиции ведущих мировых держав накануне Второй мировой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/>
          <p:cNvSpPr/>
          <p:nvPr/>
        </p:nvSpPr>
        <p:spPr>
          <a:xfrm>
            <a:off x="1643040" y="1571760"/>
            <a:ext cx="692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новение очагов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яя политика СССР в 30-е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ориентиров внешней политики СССР в конце 30-х г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4929120" cy="485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8"/>
          <p:cNvSpPr/>
          <p:nvPr/>
        </p:nvSpPr>
        <p:spPr>
          <a:xfrm>
            <a:off x="2643120" y="2786040"/>
            <a:ext cx="214560" cy="1143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трелка влево 9"/>
          <p:cNvSpPr/>
          <p:nvPr/>
        </p:nvSpPr>
        <p:spPr>
          <a:xfrm>
            <a:off x="1857240" y="2928960"/>
            <a:ext cx="714600" cy="2142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трелка влево 11"/>
          <p:cNvSpPr/>
          <p:nvPr/>
        </p:nvSpPr>
        <p:spPr>
          <a:xfrm>
            <a:off x="7429680" y="3500280"/>
            <a:ext cx="857160" cy="14292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12"/>
          <p:cNvSpPr/>
          <p:nvPr/>
        </p:nvSpPr>
        <p:spPr>
          <a:xfrm>
            <a:off x="7643880" y="3286080"/>
            <a:ext cx="642960" cy="71640"/>
          </a:xfrm>
          <a:prstGeom prst="leftArrow">
            <a:avLst>
              <a:gd name="adj1" fmla="val 50000"/>
              <a:gd name="adj2" fmla="val 498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озникновение очагов агресси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истема коллективной безопасност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3143160"/>
            <a:ext cx="2214720" cy="368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3г: США-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4143240"/>
            <a:ext cx="21430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4г : СССР-Лига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429000" y="2286000"/>
            <a:ext cx="2357280" cy="1465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.В.Сталин : «Среди буржуазных государств есть неагрессивны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429000" y="3929040"/>
            <a:ext cx="2357280" cy="916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5г : СССР-Франция-Чехословак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14680" y="5000760"/>
            <a:ext cx="25714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щь и защита членам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928880" y="3571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нешняя политика СССР в 30-е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главную цель внешней политики СССР  и позицию мировых держа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Прямоугольник 8"/>
          <p:cNvGrpSpPr/>
          <p:nvPr/>
        </p:nvGrpSpPr>
        <p:grpSpPr>
          <a:xfrm>
            <a:off x="6072120" y="1962000"/>
            <a:ext cx="2644920" cy="1360800"/>
            <a:chOff x="6072120" y="1962000"/>
            <a:chExt cx="2644920" cy="1360800"/>
          </a:xfrm>
        </p:grpSpPr>
        <p:pic>
          <p:nvPicPr>
            <p:cNvPr id="116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6072120" y="1962000"/>
              <a:ext cx="2644920" cy="13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43760" y="2000160"/>
              <a:ext cx="25002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глия; Польша; Герма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Прямоугольник 9"/>
          <p:cNvGrpSpPr/>
          <p:nvPr/>
        </p:nvGrpSpPr>
        <p:grpSpPr>
          <a:xfrm>
            <a:off x="6072120" y="3249720"/>
            <a:ext cx="2724120" cy="1292040"/>
            <a:chOff x="6072120" y="3249720"/>
            <a:chExt cx="2724120" cy="1292040"/>
          </a:xfrm>
        </p:grpSpPr>
        <p:pic>
          <p:nvPicPr>
            <p:cNvPr id="119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072120" y="3249720"/>
              <a:ext cx="2724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43760" y="3286080"/>
              <a:ext cx="25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юнхенский договор (1938г.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10"/>
          <p:cNvSpPr/>
          <p:nvPr/>
        </p:nvSpPr>
        <p:spPr>
          <a:xfrm>
            <a:off x="214200" y="2286000"/>
            <a:ext cx="228600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ичерин-Литв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TextBox 11"/>
          <p:cNvGrpSpPr/>
          <p:nvPr/>
        </p:nvGrpSpPr>
        <p:grpSpPr>
          <a:xfrm>
            <a:off x="6072120" y="4516560"/>
            <a:ext cx="2644920" cy="811080"/>
            <a:chOff x="6072120" y="4516560"/>
            <a:chExt cx="2644920" cy="811080"/>
          </a:xfrm>
        </p:grpSpPr>
        <p:pic>
          <p:nvPicPr>
            <p:cNvPr id="123" name="TextBox 11" descr=""/>
            <p:cNvPicPr/>
            <p:nvPr/>
          </p:nvPicPr>
          <p:blipFill>
            <a:blip r:embed="rId3"/>
            <a:stretch/>
          </p:blipFill>
          <p:spPr>
            <a:xfrm>
              <a:off x="6072120" y="4516560"/>
              <a:ext cx="26449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143760" y="457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йна в Испан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6-1939гг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295960" cy="421488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лево 5"/>
          <p:cNvSpPr/>
          <p:nvPr/>
        </p:nvSpPr>
        <p:spPr>
          <a:xfrm>
            <a:off x="3357720" y="25718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6215040" y="1857240"/>
            <a:ext cx="257184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то 1939г.бои между СССР и Японией на р.Халхин-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TextBox 7"/>
          <p:cNvGrpSpPr/>
          <p:nvPr/>
        </p:nvGrpSpPr>
        <p:grpSpPr>
          <a:xfrm>
            <a:off x="6168960" y="3730680"/>
            <a:ext cx="2689200" cy="1521000"/>
            <a:chOff x="6168960" y="3730680"/>
            <a:chExt cx="2689200" cy="1521000"/>
          </a:xfrm>
        </p:grpSpPr>
        <p:pic>
          <p:nvPicPr>
            <p:cNvPr id="129" name="TextBox 7" descr=""/>
            <p:cNvPicPr/>
            <p:nvPr/>
          </p:nvPicPr>
          <p:blipFill>
            <a:blip r:embed="rId2"/>
            <a:stretch/>
          </p:blipFill>
          <p:spPr>
            <a:xfrm>
              <a:off x="6168960" y="3730680"/>
              <a:ext cx="2689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286680" y="3786120"/>
              <a:ext cx="250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оговор Англии с Японией о взаимном уважении интерес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Прямоугольник 7"/>
          <p:cNvSpPr/>
          <p:nvPr/>
        </p:nvSpPr>
        <p:spPr>
          <a:xfrm>
            <a:off x="928800" y="4287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менение ориентиров внешней политики СССР в конце 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 почему изменились ориентир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Международные отношения в конце 30х г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Стрелка вниз 4"/>
          <p:cNvSpPr/>
          <p:nvPr/>
        </p:nvSpPr>
        <p:spPr>
          <a:xfrm>
            <a:off x="2928960" y="3929040"/>
            <a:ext cx="14292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TextBox 5"/>
          <p:cNvGrpSpPr/>
          <p:nvPr/>
        </p:nvGrpSpPr>
        <p:grpSpPr>
          <a:xfrm>
            <a:off x="6529320" y="2084400"/>
            <a:ext cx="2322720" cy="1365120"/>
            <a:chOff x="6529320" y="2084400"/>
            <a:chExt cx="2322720" cy="1365120"/>
          </a:xfrm>
        </p:grpSpPr>
        <p:pic>
          <p:nvPicPr>
            <p:cNvPr id="135" name="TextBox 5" descr=""/>
            <p:cNvPicPr/>
            <p:nvPr/>
          </p:nvPicPr>
          <p:blipFill>
            <a:blip r:embed="rId1"/>
            <a:stretch/>
          </p:blipFill>
          <p:spPr>
            <a:xfrm>
              <a:off x="6529320" y="2084400"/>
              <a:ext cx="232272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643800" y="214308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9г : Оккупация Германией Чехословак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TextBox 7"/>
          <p:cNvGrpSpPr/>
          <p:nvPr/>
        </p:nvGrpSpPr>
        <p:grpSpPr>
          <a:xfrm>
            <a:off x="6529320" y="3657600"/>
            <a:ext cx="2114640" cy="1090440"/>
            <a:chOff x="6529320" y="3657600"/>
            <a:chExt cx="2114640" cy="1090440"/>
          </a:xfrm>
        </p:grpSpPr>
        <p:pic>
          <p:nvPicPr>
            <p:cNvPr id="138" name="TextBox 7" descr=""/>
            <p:cNvPicPr/>
            <p:nvPr/>
          </p:nvPicPr>
          <p:blipFill>
            <a:blip r:embed="rId2"/>
            <a:stretch/>
          </p:blipFill>
          <p:spPr>
            <a:xfrm>
              <a:off x="6529320" y="3657600"/>
              <a:ext cx="2114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43800" y="3714840"/>
              <a:ext cx="192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Италия захватила Албан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5929200" cy="4389480"/>
          </a:xfrm>
          <a:prstGeom prst="rect">
            <a:avLst/>
          </a:prstGeom>
          <a:ln w="0">
            <a:noFill/>
          </a:ln>
        </p:spPr>
      </p:pic>
      <p:sp>
        <p:nvSpPr>
          <p:cNvPr id="141" name="Стрелка вправо 13"/>
          <p:cNvSpPr/>
          <p:nvPr/>
        </p:nvSpPr>
        <p:spPr>
          <a:xfrm>
            <a:off x="3214800" y="3286080"/>
            <a:ext cx="11430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трелка вправо 14"/>
          <p:cNvSpPr/>
          <p:nvPr/>
        </p:nvSpPr>
        <p:spPr>
          <a:xfrm>
            <a:off x="4572000" y="542916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оветско-Германские отношения в 1939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571760" y="2000160"/>
            <a:ext cx="6143400" cy="6426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3 августа 1939г. : Советско-Германский пакт  о нена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TextBox 4"/>
          <p:cNvGrpSpPr/>
          <p:nvPr/>
        </p:nvGrpSpPr>
        <p:grpSpPr>
          <a:xfrm>
            <a:off x="1457280" y="2798640"/>
            <a:ext cx="2328840" cy="1250280"/>
            <a:chOff x="1457280" y="2798640"/>
            <a:chExt cx="2328840" cy="1250280"/>
          </a:xfrm>
        </p:grpSpPr>
        <p:pic>
          <p:nvPicPr>
            <p:cNvPr id="146" name="TextBox 4" descr=""/>
            <p:cNvPicPr/>
            <p:nvPr/>
          </p:nvPicPr>
          <p:blipFill>
            <a:blip r:embed="rId1"/>
            <a:stretch/>
          </p:blipFill>
          <p:spPr>
            <a:xfrm>
              <a:off x="1457280" y="2798640"/>
              <a:ext cx="232884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71760" y="285768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инистр иностранных дел  Риббентро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6"/>
          <p:cNvSpPr/>
          <p:nvPr/>
        </p:nvSpPr>
        <p:spPr>
          <a:xfrm>
            <a:off x="5286240" y="2857680"/>
            <a:ext cx="242892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родный комиссар иностранных дел Моло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3:12:48Z</dcterms:created>
  <dc:creator>Зарубкина Р.И.</dc:creator>
  <dc:description/>
  <dc:language>en-US</dc:language>
  <cp:lastModifiedBy>Admin</cp:lastModifiedBy>
  <dcterms:modified xsi:type="dcterms:W3CDTF">2009-12-12T17:57:32Z</dcterms:modified>
  <cp:revision>41</cp:revision>
  <dc:subject/>
  <dc:title>Тема: Международные отношения и внешняя политика СССР в 1930 гг.</dc:title>
</cp:coreProperties>
</file>