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0F9-9746-42C5-8C0A-3B2AB9B1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A90-E825-47E7-8AD5-B7BB0BA6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63D-0A89-4217-BE56-80CBB8CC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D92-4395-424F-8A73-EA9D3825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BFCF-2779-4419-B706-CA23DFB8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38BC-2D12-4C86-9A17-45B07B36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7698-4254-414F-9257-BD246B2B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0190-306D-42DC-8AC6-731FD07E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161F-1CD9-4C03-AB92-56398776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AEE9-A534-4E69-9EEA-5FA75C98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721A-E73B-49A1-9F6A-25760D3C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EF9-1972-4C5C-B085-3419E1A9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1E5C-BA3E-47F7-8868-48A28B01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7E4A-2681-40DE-89E3-6E10D35B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3EA4-3825-43CA-9A32-AF4F7739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DC3F-B78A-48B6-B981-CDFAAE3D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FA11-4CE7-4FFD-A88B-3C4406BB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468-5D40-48CF-AFCD-9277280A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AEA-066C-4188-B4C0-7330FA5F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0DD-E1FC-4C3D-B5A0-6BA0A813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DBF-61CF-46A5-9A1A-C0144392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00E-AB7A-46A4-9B42-EC018316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EEA-DDEF-4300-BC0D-94B50BD8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56C-2E28-4DB3-B850-A1CF1CC4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0B59-E2B5-4BC4-9B67-300BD2B5815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7B11-F504-4A13-8B00-8C508EA3433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ogard.isu.ru/cbd/images/ER102.jpg&amp;imgrefurl=http://bogard.isu.ru/cbd/redbook/show_plant_info-hPlant%3D102.htm&amp;h=335&amp;w=263&amp;sz=11&amp;hl=be&amp;start=3&amp;tbnid=n34etfKCfHEMOM:&amp;tbnh=119&amp;tbnw=93&amp;prev=/images%3Fq%3D%25D0%25B3%25D0%25BE%25D1%2580%25D0%25BE%25D1%2588%25D0%25B5%25D0%25BA%26svnum%3D10%26hl%3Dbe%26lr%3D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69840" y="765000"/>
            <a:ext cx="7418520" cy="155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Тема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ИССЛЕДОВАНИЯ Г.МЕНДЕЛЯ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МОНОГИБРИДНОЕ     СКРЕЩИВАНИЕ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ЗАКОНЫ МЕНДЕЛЯ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848120" y="2276640"/>
            <a:ext cx="356256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84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108000" y="1125360"/>
            <a:ext cx="7561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Механизмы и закономерности  наследования признаков раскрыл чешский исследователь-любитель Грегор Мендель. Он сумел правильно   поставить    задачу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исследования – выяснить, как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наследуются отдельные признак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Для    этого     он      применил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гибридологический   метод.   Дл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скрещивания   он     отбира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родительские     формы     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константными,      т.е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воспроизводящимися      из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поколения     в         поколение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признаками.    Им     выбиралис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родительские       растения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контрастно      отличающиеся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друг    от     друга    по     парам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альтернативных      признак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292720" y="2203560"/>
            <a:ext cx="3714840" cy="4394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74920" y="119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29080" y="1052640"/>
            <a:ext cx="3996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Удачно был выбран Менделем объект исследования – садовый горох. Он легко культивируется, неприхотлив, дает многочисленное потомство. У гороха он изучал характер наследования по семи признакам: окраска цветков, окраска плодов, высота стебля, форма бобов, окраска семян, поверхность семян, расположение цветков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3120" y="1257480"/>
            <a:ext cx="178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0920" y="1484280"/>
            <a:ext cx="59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68360" y="793800"/>
            <a:ext cx="489744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50760" y="1001880"/>
            <a:ext cx="81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916280"/>
            <a:ext cx="8748720" cy="25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МОНОГИБРИДНЫМ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–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НАЗЫВАЕТСЯ ТАКОЕ СКРЕЩИВАНИЕ, ПРИ КОТОРОМ РОДИТЕЛЬСКИЕ ОРГАНИЗМЫ ОТЛИЧАЮТСЯ ДРУГ ОТ ДРУГА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ПО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ОДНОЙ ПАРЕ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АЛЬТЕРНАТИВНЫХ ПРИЗНАКОВ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92080" y="3713040"/>
            <a:ext cx="1447920" cy="140652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3860640"/>
            <a:ext cx="1447920" cy="148464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50000">
                <a:srgbClr val="009900"/>
              </a:gs>
              <a:gs pos="100000">
                <a:srgbClr val="004600"/>
              </a:gs>
            </a:gsLst>
            <a:lin ang="54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29160" y="4967280"/>
            <a:ext cx="1447560" cy="148428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724280"/>
            <a:ext cx="1405080" cy="65088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932000" y="4746600"/>
            <a:ext cx="1297080" cy="57312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560" y="83664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В одном из опытов Мендель изучал наследование окраски семян при скрещивании растений, выращенных из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желтых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семян, с растениями, выращенными из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зеленых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семян. В первом поколении все гибриды были одинаковыми, причем проявлялся признак только одного родителя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92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920"/>
                            </p:stCondLst>
                            <p:childTnLst>
                              <p:par>
                                <p:cTn id="6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92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92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920"/>
                            </p:stCondLst>
                            <p:childTnLst>
                              <p:par>
                                <p:cTn id="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42920" y="981000"/>
            <a:ext cx="12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41840" y="3579840"/>
            <a:ext cx="7698600" cy="21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 закон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2a3d7a"/>
                </a:solidFill>
                <a:latin typeface="Arial"/>
              </a:rPr>
              <a:t>при скрещивании двух особей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a3d7a"/>
                </a:solidFill>
                <a:latin typeface="Arial"/>
              </a:rPr>
              <a:t>одного вида, отличающихся п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дному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a3d7a"/>
                </a:solidFill>
                <a:latin typeface="Arial"/>
              </a:rPr>
              <a:t>признаку, гибриды первого поколения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a3d7a"/>
                </a:solidFill>
                <a:latin typeface="Arial"/>
              </a:rPr>
              <a:t>будут</a:t>
            </a:r>
            <a:r>
              <a:rPr b="1" i="1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единообразным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70956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2a3d7a"/>
                </a:solidFill>
                <a:latin typeface="Arial"/>
              </a:rPr>
              <a:t>Преобладание признака одного из родителей было названо доминированием. Явление доминирования у гибридов первого поколения одного признака над другим и единообразие гибридов первого поколения было названо законом единообразия гибридов первого поколения или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вым законом Менделя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6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755640" y="836640"/>
            <a:ext cx="8137440" cy="5733000"/>
            <a:chOff x="755640" y="836640"/>
            <a:chExt cx="8137440" cy="5733000"/>
          </a:xfrm>
        </p:grpSpPr>
        <p:sp>
          <p:nvSpPr>
            <p:cNvPr id="111" name=""/>
            <p:cNvSpPr/>
            <p:nvPr/>
          </p:nvSpPr>
          <p:spPr>
            <a:xfrm>
              <a:off x="6156360" y="285264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40720" y="285264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12000" y="501336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50000">
                  <a:srgbClr val="009900"/>
                </a:gs>
                <a:gs pos="100000">
                  <a:srgbClr val="004600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88000" y="508464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6360" y="508464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42920" y="508464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24360" y="5805360"/>
              <a:ext cx="4038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5b5249"/>
                  </a:solidFill>
                  <a:latin typeface="Times New Roman"/>
                </a:rPr>
                <a:t>             </a:t>
              </a:r>
              <a:r>
                <a:rPr b="1" lang="en-US" sz="4400" spc="-1" strike="noStrike">
                  <a:solidFill>
                    <a:srgbClr val="cccc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cccc00"/>
                  </a:solidFill>
                  <a:latin typeface="Arial"/>
                </a:rPr>
                <a:t>3  </a:t>
              </a:r>
              <a:r>
                <a:rPr b="0" lang="en-US" sz="4400" spc="-1" strike="noStrike">
                  <a:solidFill>
                    <a:srgbClr val="5b5249"/>
                  </a:solidFill>
                  <a:latin typeface="Times New Roman"/>
                </a:rPr>
                <a:t> :  </a:t>
              </a:r>
              <a:r>
                <a:rPr b="1" lang="en-US" sz="4400" spc="-1" strike="noStrike">
                  <a:solidFill>
                    <a:srgbClr val="008000"/>
                  </a:solidFill>
                  <a:latin typeface="Arial"/>
                </a:rPr>
                <a:t> 1</a:t>
              </a:r>
              <a:endParaRPr b="0" lang="en-US" sz="4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4360" y="285264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5b5249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0720" y="3789360"/>
              <a:ext cx="2133720" cy="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692360" y="3860640"/>
              <a:ext cx="4680000" cy="128772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419280" y="3860640"/>
              <a:ext cx="3282840" cy="122400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292360" y="3860640"/>
              <a:ext cx="1584360" cy="115272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36000" y="3789360"/>
              <a:ext cx="1218960" cy="121932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5640" y="836640"/>
              <a:ext cx="8137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6600ff"/>
                  </a:solidFill>
                  <a:latin typeface="Times New Roman"/>
                </a:rPr>
                <a:t>Во втором поколении при самоопылении гибридов первого поколения обнаружилось выщепление подавленного ( рецессивного) в предыдущем поколении родительского признака у ¼ части потомства: ¾ растений имели горошины желтого цвета и ¼ растений имели горошины зеленого цвета.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755640" y="907920"/>
            <a:ext cx="8064360" cy="3961080"/>
            <a:chOff x="755640" y="907920"/>
            <a:chExt cx="8064360" cy="3961080"/>
          </a:xfrm>
        </p:grpSpPr>
        <p:sp>
          <p:nvSpPr>
            <p:cNvPr id="126" name=""/>
            <p:cNvSpPr/>
            <p:nvPr/>
          </p:nvSpPr>
          <p:spPr>
            <a:xfrm>
              <a:off x="1187280" y="3068640"/>
              <a:ext cx="7620120" cy="1800360"/>
            </a:xfrm>
            <a:prstGeom prst="rect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5b5249"/>
                  </a:solidFill>
                  <a:uFillTx/>
                  <a:latin typeface="Times New Roman"/>
                </a:rPr>
                <a:t>II </a:t>
              </a:r>
              <a:r>
                <a:rPr b="0" lang="ru-RU" sz="2800" spc="-1" strike="noStrike" u="sng">
                  <a:solidFill>
                    <a:srgbClr val="5b5249"/>
                  </a:solidFill>
                  <a:uFillTx/>
                  <a:latin typeface="Times New Roman"/>
                </a:rPr>
                <a:t> закон</a:t>
              </a:r>
              <a:r>
                <a:rPr b="0" lang="ru-RU" sz="2800" spc="-1" strike="noStrike">
                  <a:solidFill>
                    <a:srgbClr val="5b5249"/>
                  </a:solidFill>
                  <a:latin typeface="Times New Roman"/>
                </a:rPr>
                <a:t>: </a:t>
              </a:r>
              <a:r>
                <a:rPr b="1" i="1" lang="ru-RU" sz="2800" spc="-1" strike="noStrike">
                  <a:solidFill>
                    <a:srgbClr val="0000ff"/>
                  </a:solidFill>
                  <a:latin typeface="Times New Roman"/>
                </a:rPr>
                <a:t>при скрещивании гибридов первого поколения между собой во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ff"/>
                  </a:solidFill>
                  <a:latin typeface="Times New Roman"/>
                </a:rPr>
                <a:t>втором поколении наблюдается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9900"/>
                  </a:solidFill>
                  <a:latin typeface="Times New Roman"/>
                </a:rPr>
                <a:t>расщепление </a:t>
              </a:r>
              <a:r>
                <a:rPr b="1" i="1" lang="ru-RU" sz="2800" spc="-1" strike="noStrike">
                  <a:solidFill>
                    <a:srgbClr val="0000ff"/>
                  </a:solidFill>
                  <a:latin typeface="Times New Roman"/>
                </a:rPr>
                <a:t>признаков в соотношении </a:t>
              </a:r>
              <a:r>
                <a:rPr b="1" i="1" lang="ru-RU" sz="2800" spc="-1" strike="noStrike">
                  <a:solidFill>
                    <a:srgbClr val="ff0000"/>
                  </a:solidFill>
                  <a:latin typeface="Times New Roman"/>
                </a:rPr>
                <a:t>3:1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5640" y="907920"/>
              <a:ext cx="80643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6600ff"/>
                  </a:solidFill>
                  <a:latin typeface="Times New Roman"/>
                </a:rPr>
                <a:t>Следовательно, рецессивный признак у гибридов первого поколения не исчез, а только был подавлен и вновь проявился во втором поколении. Это обобщение было названо законом расщепления или вторым законом Менделя</a:t>
              </a: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1989000"/>
            <a:ext cx="8153280" cy="3080160"/>
          </a:xfrm>
          <a:prstGeom prst="rect">
            <a:avLst/>
          </a:prstGeom>
          <a:noFill/>
          <a:ln cap="rnd" w="76320">
            <a:solidFill>
              <a:srgbClr val="66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6600ff"/>
                </a:solidFill>
                <a:latin typeface="Times New Roman"/>
              </a:rPr>
              <a:t>Выявленные Г.Менделем закономерности не были поняты его современниками и по достоинству оценены только через 35 лет. В 1900 году Г.де Фриз ( Голландия), К. Корренс и    Э. Чермак  обнаружили те же закономерности наследования, что и Мендель. Но приоритет остался за Г. Менделем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5:48:34Z</dcterms:created>
  <dc:creator>Dima</dc:creator>
  <dc:description/>
  <dc:language>en-US</dc:language>
  <cp:lastModifiedBy>User</cp:lastModifiedBy>
  <dcterms:modified xsi:type="dcterms:W3CDTF">2006-12-14T16:31:42Z</dcterms:modified>
  <cp:revision>19</cp:revision>
  <dc:subject/>
  <dc:title>Презентация PowerPoint</dc:title>
</cp:coreProperties>
</file>