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12D-4756-4561-9DFB-A641EB1B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481-5E86-4E0F-9546-4E1FA123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519-8490-4804-8928-2AAFBBBC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33E-304A-4E76-B7C0-03F57A9E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44B9-85A4-47FB-B98C-EF6CB7A7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7E2-AB7A-45EE-9E77-996732F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9F5D-3BB9-4619-AD8F-EE2DAD4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E2DB-BD15-4CE0-AB61-CBD7315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756E-E5FB-49E1-A210-D811E6D4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9282-5A72-4C25-95D9-0159266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876F-21A3-4AF5-BFF2-E94EB0D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544-76BD-46A6-8F8F-A9085DD4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E86-6101-418C-8C25-D3A839D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C900-163C-48A4-9258-1549D8B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4859-89B6-4730-BD00-F5F5F271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16A8-00C8-41BD-8BD6-34E0B7A4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1EB4-2E0C-4B45-8406-DDD090D3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0DA-2019-430E-8C30-9E51D53C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062-AE04-4445-9F29-92A9191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B1C-BA14-4123-A0F1-AFE4836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16A-9E50-4409-8244-4F7F23A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34A-08FB-40E0-835F-944AA7C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A33-50A1-4089-82E1-A0F39CB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7B7-B383-498B-A608-30C9DC08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A9E-BD49-4A7A-A299-C3DFF2B49AC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588-0DE1-495C-AC04-7B25DF6017D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ogard.isu.ru/cbd/images/ER102.jpg&amp;imgrefurl=http://bogard.isu.ru/cbd/redbook/show_plant_info-hPlant%3D102.htm&amp;h=335&amp;w=263&amp;sz=11&amp;hl=be&amp;start=3&amp;tbnid=n34etfKCfHEMOM:&amp;tbnh=119&amp;tbnw=93&amp;prev=/images%3Fq%3D%25D0%25B3%25D0%25BE%25D1%2580%25D0%25BE%25D1%2588%25D0%25B5%25D0%25BA%26svnum%3D10%26hl%3Dbe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69840" y="765000"/>
            <a:ext cx="7418520" cy="155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ема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ССЛЕДОВАНИЯ Г.МЕНДЕЛ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ОНОГИБРИДНОЕ     СКРЕЩИВАНИ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ЗАКОНЫ МЕНДЕЛ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48120" y="2276640"/>
            <a:ext cx="356256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4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08000" y="1125360"/>
            <a:ext cx="7561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ханизмы и закономерности  наследования признаков раскрыл чешский исследователь-любитель Грегор Мендель. Он сумел правильно   поставить    задачу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исследования – выяснить, ка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наследуются отдельные признак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ля    этого     он      примени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ибридологический   метод.   Дл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крещивания   он     отбира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родительские     формы     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онстантными,      т.е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воспроизводящимися      из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околения     в         поколение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ризнаками.    Им     выбиралис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родительские       растения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онтрастно      отличающиес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руг    от     друга    по     парам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альтернативных      признак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292720" y="2203560"/>
            <a:ext cx="3714840" cy="4394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74920" y="11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9080" y="1052640"/>
            <a:ext cx="3996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Удачно был выбран Менделем объект исследования – садовый горох. Он легко культивируется, неприхотлив, дает многочисленное потомство. У гороха он изучал характер наследования по семи признакам: окраска цветков, окраска плодов, высота стебля, форма бобов, окраска семян, поверхность семян, расположение цветков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3120" y="1257480"/>
            <a:ext cx="178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148428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793800"/>
            <a:ext cx="489744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50760" y="1001880"/>
            <a:ext cx="81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916280"/>
            <a:ext cx="8748720" cy="25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ОНОГИБРИДНЫМ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НАЗЫВАЕТСЯ ТАКОЕ СКРЕЩИВАНИЕ, ПРИ КОТОРОМ РОДИТЕЛЬСКИЕ ОРГАНИЗМЫ ОТЛИЧАЮТСЯ ДРУГ ОТ ДРУГА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ОДНОЙ ПАРЕ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АЛЬТЕРНАТИВНЫХ ПРИЗНАКОВ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92080" y="3713040"/>
            <a:ext cx="1447920" cy="14065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860640"/>
            <a:ext cx="1447920" cy="148464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4967280"/>
            <a:ext cx="1447560" cy="148428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724280"/>
            <a:ext cx="1405080" cy="65088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32000" y="4746600"/>
            <a:ext cx="1297080" cy="57312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836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В одном из опытов Мендель изучал наследование окраски семян при скрещивании растений, выращенных из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желтых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семян, с растениями, выращенными из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зеле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емян. В первом поколении все гибриды были одинаковыми, причем проявлялся признак только одного родител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92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920"/>
                            </p:stCondLst>
                            <p:childTnLst>
                              <p:par>
                                <p:cTn id="6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92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92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92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98100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41840" y="3579840"/>
            <a:ext cx="769860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 закон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при скрещивании двух особей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одного вида, отличающихся п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дному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признаку, гибриды первого поколения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3d7a"/>
                </a:solidFill>
                <a:latin typeface="Arial"/>
              </a:rPr>
              <a:t>будут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динообразны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70956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2a3d7a"/>
                </a:solidFill>
                <a:latin typeface="Arial"/>
              </a:rPr>
              <a:t>Преобладание признака одного из родителей было названо доминированием. Явление доминирования у гибридов первого поколения одного признака над другим и единообразие гибридов первого поколения было названо законом единообразия гибридов первого поколения или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вым законом Мендел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55640" y="836640"/>
            <a:ext cx="8137440" cy="5733000"/>
            <a:chOff x="755640" y="836640"/>
            <a:chExt cx="8137440" cy="5733000"/>
          </a:xfrm>
        </p:grpSpPr>
        <p:sp>
          <p:nvSpPr>
            <p:cNvPr id="111" name=""/>
            <p:cNvSpPr/>
            <p:nvPr/>
          </p:nvSpPr>
          <p:spPr>
            <a:xfrm>
              <a:off x="6156360" y="2852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40720" y="2852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12000" y="501336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5000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5084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5084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2920" y="508464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5805360"/>
              <a:ext cx="403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5b5249"/>
                  </a:solidFill>
                  <a:latin typeface="Times New Roman"/>
                </a:rPr>
                <a:t>             </a:t>
              </a:r>
              <a:r>
                <a:rPr b="1" lang="en-US" sz="4400" spc="-1" strike="noStrike">
                  <a:solidFill>
                    <a:srgbClr val="cccc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cccc00"/>
                  </a:solidFill>
                  <a:latin typeface="Arial"/>
                </a:rPr>
                <a:t>3  </a:t>
              </a:r>
              <a:r>
                <a:rPr b="0" lang="en-US" sz="4400" spc="-1" strike="noStrike">
                  <a:solidFill>
                    <a:srgbClr val="5b5249"/>
                  </a:solidFill>
                  <a:latin typeface="Times New Roman"/>
                </a:rPr>
                <a:t> :  </a:t>
              </a:r>
              <a:r>
                <a:rPr b="1" lang="en-US" sz="4400" spc="-1" strike="noStrike">
                  <a:solidFill>
                    <a:srgbClr val="008000"/>
                  </a:solidFill>
                  <a:latin typeface="Arial"/>
                </a:rPr>
                <a:t> 1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360" y="28526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5b5249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3789360"/>
              <a:ext cx="2133720" cy="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92360" y="3860640"/>
              <a:ext cx="4680000" cy="128772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419280" y="3860640"/>
              <a:ext cx="3282840" cy="12240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292360" y="3860640"/>
              <a:ext cx="1584360" cy="115272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6000" y="3789360"/>
              <a:ext cx="1218960" cy="121932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640" y="836640"/>
              <a:ext cx="8137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Во втором поколении при самоопылении гибридов первого поколения обнаружилось выщепление подавленного ( рецессивного) в предыдущем поколении родительского признака у ¼ части потомства: ¾ растений имели горошины желтого цвета и ¼ растений имели горошины зеленого цвета.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755640" y="907920"/>
            <a:ext cx="8064360" cy="3961080"/>
            <a:chOff x="755640" y="907920"/>
            <a:chExt cx="8064360" cy="3961080"/>
          </a:xfrm>
        </p:grpSpPr>
        <p:sp>
          <p:nvSpPr>
            <p:cNvPr id="126" name=""/>
            <p:cNvSpPr/>
            <p:nvPr/>
          </p:nvSpPr>
          <p:spPr>
            <a:xfrm>
              <a:off x="1187280" y="3068640"/>
              <a:ext cx="7620120" cy="1800360"/>
            </a:xfrm>
            <a:prstGeom prst="rect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5b5249"/>
                  </a:solidFill>
                  <a:uFillTx/>
                  <a:latin typeface="Times New Roman"/>
                </a:rPr>
                <a:t>II </a:t>
              </a:r>
              <a:r>
                <a:rPr b="0" lang="ru-RU" sz="2800" spc="-1" strike="noStrike" u="sng">
                  <a:solidFill>
                    <a:srgbClr val="5b5249"/>
                  </a:solidFill>
                  <a:uFillTx/>
                  <a:latin typeface="Times New Roman"/>
                </a:rPr>
                <a:t> закон</a:t>
              </a:r>
              <a:r>
                <a:rPr b="0" lang="ru-RU" sz="2800" spc="-1" strike="noStrike">
                  <a:solidFill>
                    <a:srgbClr val="5b5249"/>
                  </a:solidFill>
                  <a:latin typeface="Times New Roman"/>
                </a:rPr>
                <a:t>: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при скрещивании гибридов первого поколения между собой во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втором поколении наблюдается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9900"/>
                  </a:solidFill>
                  <a:latin typeface="Times New Roman"/>
                </a:rPr>
                <a:t>расщепление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Times New Roman"/>
                </a:rPr>
                <a:t>признаков в соотношении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3:1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5640" y="907920"/>
              <a:ext cx="8064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Следовательно, рецессивный признак у гибридов первого поколения не исчез, а только был подавлен и вновь проявился во втором поколении. Это обобщение было названо законом расщепления или вторым законом Менделя</a:t>
              </a: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1989000"/>
            <a:ext cx="8153280" cy="3080160"/>
          </a:xfrm>
          <a:prstGeom prst="rect">
            <a:avLst/>
          </a:prstGeom>
          <a:noFill/>
          <a:ln cap="rnd" w="76320">
            <a:solidFill>
              <a:srgbClr val="66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6600ff"/>
                </a:solidFill>
                <a:latin typeface="Times New Roman"/>
              </a:rPr>
              <a:t>Выявленные Г.Менделем закономерности не были поняты его современниками и по достоинству оценены только через 35 лет. В 1900 году Г.де Фриз ( Голландия), К. Корренс и    Э. Чермак  обнаружили те же закономерности наследования, что и Мендель. Но приоритет остался за Г. Менделем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5:48:34Z</dcterms:created>
  <dc:creator>Dima</dc:creator>
  <dc:description/>
  <dc:language>en-US</dc:language>
  <cp:lastModifiedBy>User</cp:lastModifiedBy>
  <dcterms:modified xsi:type="dcterms:W3CDTF">2006-12-14T16:31:42Z</dcterms:modified>
  <cp:revision>19</cp:revision>
  <dc:subject/>
  <dc:title>Презентация PowerPoint</dc:title>
</cp:coreProperties>
</file>