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B24-1E79-4518-BEF1-A7D75697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487-5E84-4BD8-B845-C63527C8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CC4-4E7A-4E1F-8E01-A09F237B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EA2-DC8F-4C1A-B18A-1BD5215D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2CF-1D85-470A-8634-8187D9B7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3CA-1ECC-4E94-9925-4C6FA054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EAD7-315D-44A6-8529-76E74EB0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56B5-0183-499F-B68C-8167CAE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749-A20D-4964-AF01-8B5C561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DD8-3A27-499A-88DC-B64A5A67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3C00-5B32-4069-819A-4BFD2BD5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B21-D85A-48AC-97F5-CE19D3D8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9C38-1082-4584-A07C-F856B10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88EE-F2AA-48A1-AF29-72AFBDC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D0F3-40F4-479F-89F4-5ED3CF0C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60BD-31B7-4C44-A40D-5E7B4B2C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2207-3000-420C-885D-103F0FAA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6B7-4D86-4E83-B462-C96766D0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B75-E0DD-43F0-AADA-D14BF327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3B2-47E5-4594-82A9-7AEF6152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173-B99E-41EE-BF5E-BBA5419E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D2E-A920-41BD-A2C8-8F171551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B47-675C-44F3-939A-E122527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9E5-9CF4-4272-9689-A7F04BB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7D25-6B06-4B7F-81F8-5A776CF210E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4C15-B933-40EA-B17C-5C8B69E33A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cheba.ru/vuz/first-5965.html?f%5B0%5D=1457&amp;p[1457][]=34586&amp;p[1457][]=178190&amp;p[1457][]=178191" TargetMode="External"/><Relationship Id="rId2" Type="http://schemas.openxmlformats.org/officeDocument/2006/relationships/hyperlink" Target="http://www.ucheba.ru/vuz/first-5881.html?f%5B0%5D=7740&amp;f%5B1%5D=7744&amp;f%5B2%5D=7742&amp;f%5B3%5D=10737&amp;p[7740][]=178828&amp;p[7744][]=179802&amp;p[7742][]=178841&amp;p[7742][]=34139&amp;p[10737][]=180122&amp;p[10737][]=35241" TargetMode="External"/><Relationship Id="rId3" Type="http://schemas.openxmlformats.org/officeDocument/2006/relationships/hyperlink" Target="http://www.ucheba.ru/vuz/first-5881.html?f%5B0%5D=7740&amp;f%5B1%5D=7744&amp;f%5B2%5D=7742&amp;f%5B3%5D=10737&amp;p[7740][]=178828&amp;p[7744][]=179802&amp;p[7742][]=178841&amp;p[7742][]=34139&amp;p[10737][]=180122&amp;p[10737][]=35241" TargetMode="External"/><Relationship Id="rId4" Type="http://schemas.openxmlformats.org/officeDocument/2006/relationships/hyperlink" Target="http://www.ucheba.ru/vuz/first-6233.html?f%5B0%5D=4581&amp;p[4581][]=126367" TargetMode="External"/><Relationship Id="rId5" Type="http://schemas.openxmlformats.org/officeDocument/2006/relationships/hyperlink" Target="http://www.ucheba.ru/vuz/first-5867.html?f%5B0%5D=2572&amp;p[2572][]=182173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58920" y="119700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Инженер - стро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122560" cy="23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48320" y="3573360"/>
            <a:ext cx="2695680" cy="2881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1280" y="250560"/>
            <a:ext cx="74167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Общая характеристика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цо, руководящее общестроительными работами. Инженер на стройке – это производитель работ, т.е. прораб, он руководит общестроительными работами, монтажом конструкций, осуществляет контроль за качеств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ектных организациях инженеры выполняют работы по комплексному проектированию: архитектурной, конструктивной части (электроснабжение, отопление и вентиляция, водопровод и канализация, слаботочные системы – телефон, пожарная сигнализация, теленаблюдение и др.). Кроме того, разрабатывают генеральные планы проектируемых комплексов, куда входят дороги, земляные работы, организация строительства. Направление деятельности строителей очень широкое – кроме возведения зданий, производственных комплексов, заводов, фабрик, они проектируют мосты, гидротехнические сооружения, плотины, дамб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98120" y="5589720"/>
            <a:ext cx="5744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79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Квалификац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шее строительно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7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26920" y="1753560"/>
            <a:ext cx="676764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Должностные обяза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 монтажом строительных 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яет контроль за качеством строительных материалов и 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атывает проекты организации строительства и производство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нимается нормированием и сметным д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56360" y="4292640"/>
            <a:ext cx="2117520" cy="197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1794600">
            <a:off x="2626920" y="-242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63640" y="4402080"/>
            <a:ext cx="245592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1640" y="1038960"/>
            <a:ext cx="56005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Должен 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ертательную геометрию и чер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противление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ительную и теоретическую меха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хнологию строительного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ы ра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труирования и контроля качества строительных констру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сметно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0" y="3357720"/>
            <a:ext cx="3030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47640" y="1988280"/>
            <a:ext cx="619308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9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рофессионально важные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ирокий кругозор в области стро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цип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ой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ий гла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ий уровень пространственны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2031840" cy="2273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141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505240" cy="3840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00720" y="9799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ские противопоказ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700280"/>
          <a:ext cx="8020080" cy="2833560"/>
        </p:xfrm>
        <a:graphic>
          <a:graphicData uri="http://schemas.openxmlformats.org/drawingml/2006/table">
            <a:tbl>
              <a:tblPr/>
              <a:tblGrid>
                <a:gridCol w="374760"/>
                <a:gridCol w="7645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слабое зре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нервные и психические заболе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болезни, связанные с потерей со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серьезные заболевания опорно-двигательного аппара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-7920" y="28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xel" descr=""/>
          <p:cNvPicPr/>
          <p:nvPr/>
        </p:nvPicPr>
        <p:blipFill>
          <a:blip r:embed="rId1"/>
          <a:stretch/>
        </p:blipFill>
        <p:spPr>
          <a:xfrm>
            <a:off x="-7920" y="2879640"/>
            <a:ext cx="285840" cy="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755640" y="333360"/>
          <a:ext cx="3219480" cy="1012680"/>
        </p:xfrm>
        <a:graphic>
          <a:graphicData uri="http://schemas.openxmlformats.org/drawingml/2006/table">
            <a:tbl>
              <a:tblPr/>
              <a:tblGrid>
                <a:gridCol w="32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  <a:ea typeface="Times New Roman"/>
                        </a:rPr>
                        <a:t>Карьера и зарплат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11280" y="1197000"/>
          <a:ext cx="6913440" cy="4052880"/>
        </p:xfrm>
        <a:graphic>
          <a:graphicData uri="http://schemas.openxmlformats.org/drawingml/2006/table">
            <a:tbl>
              <a:tblPr/>
              <a:tblGrid>
                <a:gridCol w="461880"/>
                <a:gridCol w="645156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ьера обычно начинается с должности мастера или бригадира. Потом можно стать прорабом, начальником участка, главным инженером. У руля многих известных проектных организаций стоят люди, прошедшие путь от простого инженера до руководител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Вилка» доходов специалистов достаточно широкая: от $700 для выпускников вузов и студентов последних курсов до $1500 и выше для инженеров-конструкторов, инженеров-проектировщиков. Например, инженер-строитель элитных коттеджных поселков в крупной компании может рассчитывать на $1600-2000. Зарплаты прорабов – от $1000 до 2000, в зависимости от сложности проектов и опыта работы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rot="1099200">
            <a:off x="7020000" y="4723920"/>
            <a:ext cx="1863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560" y="1052280"/>
            <a:ext cx="46414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Российский университет дружбы на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2000" y="1989000"/>
            <a:ext cx="71179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Московский государственный университет 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природооб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7800" y="2781000"/>
            <a:ext cx="6771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Дальневосточны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200" y="3716280"/>
            <a:ext cx="8127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Московский государственный текстильный университет им. А.Н. Косы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4437000"/>
            <a:ext cx="5050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яттин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1120" y="5373720"/>
            <a:ext cx="9000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ковская государственная академия коммунального хозяйства и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ысшие учебные заведения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4680000" cy="468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916360" y="2637000"/>
            <a:ext cx="5759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Ученик 9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Чубуков Алексан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01:35Z</dcterms:created>
  <dc:creator>Vika</dc:creator>
  <dc:description/>
  <dc:language>en-US</dc:language>
  <cp:lastModifiedBy>USER</cp:lastModifiedBy>
  <dcterms:modified xsi:type="dcterms:W3CDTF">2009-09-17T11:43:45Z</dcterms:modified>
  <cp:revision>4</cp:revision>
  <dc:subject/>
  <dc:title>Слайд 1</dc:title>
</cp:coreProperties>
</file>