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03BE-47FD-42E0-8DB4-435C84CC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444-3CAF-4BDE-AEB9-B9EE5A9B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1081-00C1-4191-868B-AFC80921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CCF3-0A67-4BE6-ADB4-1702B483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7D0E-21E6-49A7-90B2-690A90B7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B1C3-7994-4FB7-95BE-29F5EACB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BA0F-E1A3-4D16-A142-CFD899A8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0596-09CE-492D-9EDE-CE00233F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D53C-E313-4A35-A9F8-8FF8260D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7C0F-1877-4079-8FBF-C9D4B1BA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9D79-69DD-4EA3-8286-ED9B5BA0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A47B-AF2C-4D15-9820-A1CAF748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C3BF-5CAF-4170-A071-3233ED93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B2EC-2855-42CB-8D61-E711C6CF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3EEA-736A-40AF-9DE6-6CE2F30D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FB3A-F97A-4AFE-8103-9E2693D2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833F-D00A-43E7-BF8B-D8D7B8DA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27D-8879-4F49-8C46-2FF54CC0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5D9-E684-4CE7-9D4C-86463EAB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3BE-51C6-42EC-A776-0CB753B4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531-A022-4192-8BF6-F70DCFE7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7A9-03A7-474D-9493-E4FBF8C4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3701-BB5E-4C55-8608-BA1F0F8E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9CC5-7202-4886-A315-D845300A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3C6F-E692-4854-8297-F84E5B3D22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B2E3-9BBD-4814-B632-5006518F01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cheba.ru/vuz/first-5965.html?f%5B0%5D=1457&amp;p[1457][]=34586&amp;p[1457][]=178190&amp;p[1457][]=178191" TargetMode="External"/><Relationship Id="rId2" Type="http://schemas.openxmlformats.org/officeDocument/2006/relationships/hyperlink" Target="http://www.ucheba.ru/vuz/first-5881.html?f%5B0%5D=7740&amp;f%5B1%5D=7744&amp;f%5B2%5D=7742&amp;f%5B3%5D=10737&amp;p[7740][]=178828&amp;p[7744][]=179802&amp;p[7742][]=178841&amp;p[7742][]=34139&amp;p[10737][]=180122&amp;p[10737][]=35241" TargetMode="External"/><Relationship Id="rId3" Type="http://schemas.openxmlformats.org/officeDocument/2006/relationships/hyperlink" Target="http://www.ucheba.ru/vuz/first-5881.html?f%5B0%5D=7740&amp;f%5B1%5D=7744&amp;f%5B2%5D=7742&amp;f%5B3%5D=10737&amp;p[7740][]=178828&amp;p[7744][]=179802&amp;p[7742][]=178841&amp;p[7742][]=34139&amp;p[10737][]=180122&amp;p[10737][]=35241" TargetMode="External"/><Relationship Id="rId4" Type="http://schemas.openxmlformats.org/officeDocument/2006/relationships/hyperlink" Target="http://www.ucheba.ru/vuz/first-6233.html?f%5B0%5D=4581&amp;p[4581][]=126367" TargetMode="External"/><Relationship Id="rId5" Type="http://schemas.openxmlformats.org/officeDocument/2006/relationships/hyperlink" Target="http://www.ucheba.ru/vuz/first-5867.html?f%5B0%5D=2572&amp;p[2572][]=182173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258920" y="1197000"/>
            <a:ext cx="676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нженер - стро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348000" y="2924280"/>
            <a:ext cx="2122560" cy="230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448320" y="3573360"/>
            <a:ext cx="2695680" cy="2881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11280" y="250560"/>
            <a:ext cx="741672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Общая характеристика проф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цо, руководящее общестроительными работами. Инженер на стройке – это производитель работ, т.е. прораб, он руководит общестроительными работами, монтажом конструкций, осуществляет контроль за качеств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роектных организациях инженеры выполняют работы по комплексному проектированию: архитектурной, конструктивной части (электроснабжение, отопление и вентиляция, водопровод и канализация, слаботочные системы – телефон, пожарная сигнализация, теленаблюдение и др.). Кроме того, разрабатывают генеральные планы проектируемых комплексов, куда входят дороги, земляные работы, организация строительства. Направление деятельности строителей очень широкое – кроме возведения зданий, производственных комплексов, заводов, фабрик, они проектируют мосты, гидротехнические сооружения, плотины, дамбы и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98120" y="5589720"/>
            <a:ext cx="57445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9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Квалификацио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шее строительное 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7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26920" y="1753560"/>
            <a:ext cx="676764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Должностные обяза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 монтажом строительных констру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уществляет контроль за качеством строительных материалов и констру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абатывает проекты организации строительства и производство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нимается нормированием и сметным д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56360" y="4292640"/>
            <a:ext cx="2117520" cy="1973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1794600">
            <a:off x="2626920" y="-24264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763640" y="4402080"/>
            <a:ext cx="2455920" cy="245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1640" y="1038960"/>
            <a:ext cx="560052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Должен зн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чертательную геометрию и чер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противление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оительную и теоретическую механ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хнологию строительного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ы рас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струирования и контроля качества строительных констру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ы сметного 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64000" y="3357720"/>
            <a:ext cx="3030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47640" y="1988280"/>
            <a:ext cx="619308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Профессионально важные кач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ирокий кругозор в области строи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нцип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стойч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ий глаз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кий уровень пространственных представ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516720" y="4005360"/>
            <a:ext cx="2031840" cy="2273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971640" y="4437000"/>
            <a:ext cx="214128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724360" y="2205000"/>
            <a:ext cx="2505240" cy="3840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00720" y="97992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ские противопоказа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11280" y="1700280"/>
          <a:ext cx="8020080" cy="2833560"/>
        </p:xfrm>
        <a:graphic>
          <a:graphicData uri="http://schemas.openxmlformats.org/drawingml/2006/table">
            <a:tbl>
              <a:tblPr/>
              <a:tblGrid>
                <a:gridCol w="374760"/>
                <a:gridCol w="7645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слабое зре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нервные и психические заболев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болезни, связанные с потерей созн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серьезные заболевания опорно-двигательного аппара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-7920" y="28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xel" descr=""/>
          <p:cNvPicPr/>
          <p:nvPr/>
        </p:nvPicPr>
        <p:blipFill>
          <a:blip r:embed="rId1"/>
          <a:stretch/>
        </p:blipFill>
        <p:spPr>
          <a:xfrm>
            <a:off x="-7920" y="2879640"/>
            <a:ext cx="285840" cy="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755640" y="333360"/>
          <a:ext cx="3219480" cy="1012680"/>
        </p:xfrm>
        <a:graphic>
          <a:graphicData uri="http://schemas.openxmlformats.org/drawingml/2006/table">
            <a:tbl>
              <a:tblPr/>
              <a:tblGrid>
                <a:gridCol w="3219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cc"/>
                          </a:solidFill>
                          <a:latin typeface="Arial"/>
                          <a:ea typeface="Times New Roman"/>
                        </a:rPr>
                        <a:t>Карьера и зарплат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611280" y="1197000"/>
          <a:ext cx="6913440" cy="4052880"/>
        </p:xfrm>
        <a:graphic>
          <a:graphicData uri="http://schemas.openxmlformats.org/drawingml/2006/table">
            <a:tbl>
              <a:tblPr/>
              <a:tblGrid>
                <a:gridCol w="461880"/>
                <a:gridCol w="645156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рьера обычно начинается с должности мастера или бригадира. Потом можно стать прорабом, начальником участка, главным инженером. У руля многих известных проектных организаций стоят люди, прошедшие путь от простого инженера до руководител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Вилка» доходов специалистов достаточно широкая: от $700 для выпускников вузов и студентов последних курсов до $1500 и выше для инженеров-конструкторов, инженеров-проектировщиков. Например, инженер-строитель элитных коттеджных поселков в крупной компании может рассчитывать на $1600-2000. Зарплаты прорабов – от $1000 до 2000, в зависимости от сложности проектов и опыта работы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 rot="1099200">
            <a:off x="7020000" y="4723920"/>
            <a:ext cx="18637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560" y="1052280"/>
            <a:ext cx="46414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Российский университет дружбы нар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2000" y="1989000"/>
            <a:ext cx="71179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Московский государственный университет </a:t>
            </a:r>
            <a:r>
              <a:rPr b="0" lang="ru-RU" sz="18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природообу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7800" y="2781000"/>
            <a:ext cx="67719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Дальневосточный государственный техн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0200" y="3716280"/>
            <a:ext cx="8127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Московский государственный текстильный университет им. А.Н. Косы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0920" y="4437000"/>
            <a:ext cx="5050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ьяттинский государственны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1120" y="5373720"/>
            <a:ext cx="9000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сковская государственная академия коммунального хозяйства и стро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33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Высшие учебные заведения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4680000" cy="4680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916360" y="2637000"/>
            <a:ext cx="5759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Выполн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Ученик 9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Чубуков Алексан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600"/>
                            </p:stCondLst>
                            <p:childTnLst>
                              <p:par>
                                <p:cTn id="1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9:01:35Z</dcterms:created>
  <dc:creator>Vika</dc:creator>
  <dc:description/>
  <dc:language>en-US</dc:language>
  <cp:lastModifiedBy>USER</cp:lastModifiedBy>
  <dcterms:modified xsi:type="dcterms:W3CDTF">2009-09-17T11:43:45Z</dcterms:modified>
  <cp:revision>4</cp:revision>
  <dc:subject/>
  <dc:title>Слайд 1</dc:title>
</cp:coreProperties>
</file>