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83D-4748-4276-95FE-AF4B6211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00D-BD4F-422D-BD49-6109F280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941-AA7F-411B-9338-5010E514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7E2-F49D-4FAC-B866-3C0FAE9F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E25C-B922-4C28-AF8F-25A3D98F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08FE-AC25-4CD0-8F08-10E3B312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6EBB-827F-4B57-8FEB-9CA34002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6B7A-4FA7-400A-A527-20AF2193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EBBA-3E76-4D29-BDB8-D7A2C310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FAFF-EF82-4308-A240-FA06429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4C5E-CFF9-45FC-A7B8-4D966A4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B77-9169-4917-8DF8-8B16AEBE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0EE5-7CA5-455A-8FE3-D91F6D9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8807-DE64-4FFF-B2F6-C226CCA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A19C-DC49-440E-B3BE-58F9B9D4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0100-5D3D-4412-AA1A-71A60EBD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A67-8AA1-4E3C-BF2A-49E80EFE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2B0-A325-4D26-A43F-EC8633D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C89-D752-442B-BD30-6D083E22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C93-DFEC-4C93-82A1-12067D59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318-5934-4B6D-A739-8FD385C0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76F-E153-4114-BB69-20459C8D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A23-230E-4723-A270-A56A958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0FB-F7A5-4814-A41F-72F6E55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D916-858A-4A76-B43E-7FBD13081C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7819-F4FE-44E4-AA7B-1D955ACD1A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heba.ru/vuz/first-5965.html?f%5B0%5D=1457&amp;p[1457][]=34586&amp;p[1457][]=178190&amp;p[1457][]=178191" TargetMode="External"/><Relationship Id="rId2" Type="http://schemas.openxmlformats.org/officeDocument/2006/relationships/hyperlink" Target="http://www.ucheba.ru/vuz/first-5881.html?f%5B0%5D=7740&amp;f%5B1%5D=7744&amp;f%5B2%5D=7742&amp;f%5B3%5D=10737&amp;p[7740][]=178828&amp;p[7744][]=179802&amp;p[7742][]=178841&amp;p[7742][]=34139&amp;p[10737][]=180122&amp;p[10737][]=35241" TargetMode="External"/><Relationship Id="rId3" Type="http://schemas.openxmlformats.org/officeDocument/2006/relationships/hyperlink" Target="http://www.ucheba.ru/vuz/first-5881.html?f%5B0%5D=7740&amp;f%5B1%5D=7744&amp;f%5B2%5D=7742&amp;f%5B3%5D=10737&amp;p[7740][]=178828&amp;p[7744][]=179802&amp;p[7742][]=178841&amp;p[7742][]=34139&amp;p[10737][]=180122&amp;p[10737][]=35241" TargetMode="External"/><Relationship Id="rId4" Type="http://schemas.openxmlformats.org/officeDocument/2006/relationships/hyperlink" Target="http://www.ucheba.ru/vuz/first-6233.html?f%5B0%5D=4581&amp;p[4581][]=126367" TargetMode="External"/><Relationship Id="rId5" Type="http://schemas.openxmlformats.org/officeDocument/2006/relationships/hyperlink" Target="http://www.ucheba.ru/vuz/first-5867.html?f%5B0%5D=2572&amp;p[2572][]=182173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58920" y="119700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нженер - стро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122560" cy="23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48320" y="3573360"/>
            <a:ext cx="2695680" cy="2881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1280" y="250560"/>
            <a:ext cx="7416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Общая характеристик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цо, руководящее общестроительными работами. Инженер на стройке – это производитель работ, т.е. прораб, он руководит общестроительными работами, монтажом конструкций, осуществляет контроль за кач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ектных организациях инженеры выполняют работы по комплексному проектированию: архитектурной, конструктивной части (электроснабжение, отопление и вентиляция, водопровод и канализация, слаботочные системы – телефон, пожарная сигнализация, теленаблюдение и др.). Кроме того, разрабатывают генеральные планы проектируемых комплексов, куда входят дороги, земляные работы, организация строительства. Направление деятельности строителей очень широкое – кроме возведения зданий, производственных комплексов, заводов, фабрик, они проектируют мосты, гидротехнические сооружения, плотины, дамб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8120" y="5589720"/>
            <a:ext cx="5744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9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валификац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шее строительно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26920" y="1753560"/>
            <a:ext cx="676764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Должностные обяза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 монтажом строительных 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яет контроль за качеством строительных материалов и 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атывает проекты организации строительства и производство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нимается нормированием и сметным д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56360" y="4292640"/>
            <a:ext cx="2117520" cy="197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1794600">
            <a:off x="2626920" y="-242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63640" y="4402080"/>
            <a:ext cx="245592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1038960"/>
            <a:ext cx="56005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Должен 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ертательную геометрию и чер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противление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ительную и теоретическую меха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ю строительного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ы рас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руирования и контроля качества строительных 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ы сметн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3030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47640" y="1988280"/>
            <a:ext cx="61930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рофессионально важные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окий кругозор в области стро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цип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гла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ий уровень пространственных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2031840" cy="227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141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505240" cy="3840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720" y="97992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ские противопоказ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700280"/>
          <a:ext cx="8020080" cy="2833560"/>
        </p:xfrm>
        <a:graphic>
          <a:graphicData uri="http://schemas.openxmlformats.org/drawingml/2006/table">
            <a:tbl>
              <a:tblPr/>
              <a:tblGrid>
                <a:gridCol w="374760"/>
                <a:gridCol w="7645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слабое зр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нервные и психические заболе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болезни, связанные с потерей со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серьезные заболевания опорно-двигательного аппара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92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xel" descr=""/>
          <p:cNvPicPr/>
          <p:nvPr/>
        </p:nvPicPr>
        <p:blipFill>
          <a:blip r:embed="rId1"/>
          <a:stretch/>
        </p:blipFill>
        <p:spPr>
          <a:xfrm>
            <a:off x="-7920" y="2879640"/>
            <a:ext cx="285840" cy="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755640" y="333360"/>
          <a:ext cx="3219480" cy="1012680"/>
        </p:xfrm>
        <a:graphic>
          <a:graphicData uri="http://schemas.openxmlformats.org/drawingml/2006/table">
            <a:tbl>
              <a:tblPr/>
              <a:tblGrid>
                <a:gridCol w="32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Карьера и зарплат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11280" y="1197000"/>
          <a:ext cx="6913440" cy="4052880"/>
        </p:xfrm>
        <a:graphic>
          <a:graphicData uri="http://schemas.openxmlformats.org/drawingml/2006/table">
            <a:tbl>
              <a:tblPr/>
              <a:tblGrid>
                <a:gridCol w="461880"/>
                <a:gridCol w="645156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ьера обычно начинается с должности мастера или бригадира. Потом можно стать прорабом, начальником участка, главным инженером. У руля многих известных проектных организаций стоят люди, прошедшие путь от простого инженера до руководител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илка» доходов специалистов достаточно широкая: от $700 для выпускников вузов и студентов последних курсов до $1500 и выше для инженеров-конструкторов, инженеров-проектировщиков. Например, инженер-строитель элитных коттеджных поселков в крупной компании может рассчитывать на $1600-2000. Зарплаты прорабов – от $1000 до 2000, в зависимости от сложности проектов и опыта работ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1099200">
            <a:off x="7020000" y="4723920"/>
            <a:ext cx="1863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560" y="1052280"/>
            <a:ext cx="46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Российский университет дружбы на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2000" y="1989000"/>
            <a:ext cx="71179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Московский государственный университет 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природооб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7800" y="2781000"/>
            <a:ext cx="6771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Дальневосточный государственный техн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200" y="3716280"/>
            <a:ext cx="8127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Московский государственный текстильный университет им. А.Н. Косы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4437000"/>
            <a:ext cx="5050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яттинский государствен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1120" y="5373720"/>
            <a:ext cx="9000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ая государственная академия коммунального хозяйства и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ысшие учебные заведения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16360" y="2637000"/>
            <a:ext cx="5759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Ученик 9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Чубуков Алексан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01:35Z</dcterms:created>
  <dc:creator>Vika</dc:creator>
  <dc:description/>
  <dc:language>en-US</dc:language>
  <cp:lastModifiedBy>USER</cp:lastModifiedBy>
  <dcterms:modified xsi:type="dcterms:W3CDTF">2009-09-17T11:43:45Z</dcterms:modified>
  <cp:revision>4</cp:revision>
  <dc:subject/>
  <dc:title>Слайд 1</dc:title>
</cp:coreProperties>
</file>