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6.png" ContentType="image/png"/>
  <Override PartName="/ppt/media/image24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C10E17-915C-4C76-BB82-86FE7CD1D0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13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F39F2C-5B62-491E-B7B0-2F1D7DDE57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13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1F552D-8E55-49E5-9FD3-7C8CFA5F6A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14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289A670-4F52-4DBF-A13C-0A196616E4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B88BB-7049-454F-8074-32E2F569BC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B77C4-49DA-4442-9686-81237673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909D2-A477-415D-8078-A8F518A3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D35B1-E993-4706-AFA2-840E00D3C0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2E335-8F24-435E-ABC8-EBB70E65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C1C35-65D4-47A0-8CAA-4650B28A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54A9C-1875-4024-8B49-E80B8E6E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01490-73BC-4E40-A4AB-78248A5F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11B81-ED9F-4196-8A91-E40EC3B1B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5CCC4-06E9-423B-8BAE-E0BB609C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CEBCE-AEEF-4796-9D84-00A6FE78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229FC-0DEE-47E5-92E1-CF5E4CF6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d1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192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3280"/>
            <a:ext cx="21322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BFBE6E-F75C-4312-A815-2B8C6BB3ABE8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d1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68360" y="306864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1008000" y="2060640"/>
            <a:ext cx="712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omic Sans MS"/>
              </a:rPr>
              <a:t>Дифференциация парных согласных Б –П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60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У начальная школа – детский сад № 696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орского района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 – Петербург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4932360" y="5516640"/>
            <a:ext cx="389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рупповое   занятие для 2 кла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о и составлено            учителем - логопедом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емьевой  Наталией Юрьевной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d1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32000" y="2997360"/>
            <a:ext cx="6335640" cy="115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fa533"/>
                </a:solidFill>
                <a:latin typeface="Comic Sans MS"/>
              </a:rPr>
              <a:t>Прогулка со звук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d1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56000" y="333360"/>
            <a:ext cx="439236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3708360" y="5732640"/>
            <a:ext cx="180036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780000" y="5805360"/>
            <a:ext cx="1655640" cy="64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32360" y="2852640"/>
            <a:ext cx="1079280" cy="1152720"/>
          </a:xfrm>
          <a:custGeom>
            <a:avLst/>
            <a:gdLst>
              <a:gd name="textAreaLeft" fmla="*/ 52560 w 1079280"/>
              <a:gd name="textAreaRight" fmla="*/ 1026720 w 1079280"/>
              <a:gd name="textAreaTop" fmla="*/ 52560 h 1152720"/>
              <a:gd name="textAreaBottom" fmla="*/ 1100160 h 1152720"/>
            </a:gdLst>
            <a:ahLst/>
            <a:rect l="textAreaLeft" t="textAreaTop" r="textAreaRight" b="textAreaBottom"/>
            <a:pathLst>
              <a:path w="21600" h="23069">
                <a:moveTo>
                  <a:pt x="3600" y="0"/>
                </a:moveTo>
                <a:arcTo wR="3600" hR="3600" stAng="16200000" swAng="-5400000"/>
                <a:lnTo>
                  <a:pt x="0" y="19469"/>
                </a:lnTo>
                <a:arcTo wR="3600" hR="3600" stAng="10800000" swAng="-5400000"/>
                <a:lnTo>
                  <a:pt x="18000" y="230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140360" y="2924280"/>
            <a:ext cx="863280" cy="100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V="1">
            <a:off x="934920" y="1411920"/>
            <a:ext cx="7274160" cy="115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187280" y="1484280"/>
            <a:ext cx="1041480" cy="100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2411280" y="1484280"/>
            <a:ext cx="1368720" cy="100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4140360" y="1484280"/>
            <a:ext cx="1368360" cy="100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5796000" y="1484280"/>
            <a:ext cx="1152360" cy="100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7164360" y="1557360"/>
            <a:ext cx="1008000" cy="863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42920" y="4365720"/>
            <a:ext cx="7237440" cy="107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>
            <a:off x="6804000" y="4437000"/>
            <a:ext cx="1224000" cy="936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>
            <a:off x="5867280" y="4437000"/>
            <a:ext cx="649440" cy="100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1"/>
          <a:stretch/>
        </p:blipFill>
        <p:spPr>
          <a:xfrm>
            <a:off x="4356000" y="4437000"/>
            <a:ext cx="1079640" cy="936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2"/>
          <a:stretch/>
        </p:blipFill>
        <p:spPr>
          <a:xfrm>
            <a:off x="1258920" y="4437000"/>
            <a:ext cx="1152360" cy="936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3"/>
          <a:stretch/>
        </p:blipFill>
        <p:spPr>
          <a:xfrm>
            <a:off x="2627280" y="4437000"/>
            <a:ext cx="151308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d1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231840" y="298440"/>
            <a:ext cx="8324640" cy="1949400"/>
            <a:chOff x="231840" y="298440"/>
            <a:chExt cx="8324640" cy="1949400"/>
          </a:xfrm>
        </p:grpSpPr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231840" y="298440"/>
              <a:ext cx="832464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89040" y="409680"/>
              <a:ext cx="776448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792000" y="404640"/>
            <a:ext cx="738036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боч, ка, б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;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па, ба, лу;        гай, по, пу;                       каш, бу, ка;      ба, ка, со;         на, жи, пру;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бан, ба, ра;      са, по, ло;        ла, ко,  об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04920" y="4187880"/>
            <a:ext cx="2539800" cy="2601720"/>
            <a:chOff x="304920" y="4187880"/>
            <a:chExt cx="2539800" cy="2601720"/>
          </a:xfrm>
        </p:grpSpPr>
        <p:pic>
          <p:nvPicPr>
            <p:cNvPr id="79" name="" descr=""/>
            <p:cNvPicPr/>
            <p:nvPr/>
          </p:nvPicPr>
          <p:blipFill>
            <a:blip r:embed="rId3"/>
            <a:stretch/>
          </p:blipFill>
          <p:spPr>
            <a:xfrm>
              <a:off x="304920" y="4187880"/>
              <a:ext cx="2539800" cy="26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787320" y="4325760"/>
              <a:ext cx="1928880" cy="20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абочка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алуба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лако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3187800" y="4187880"/>
            <a:ext cx="2558880" cy="2601720"/>
            <a:chOff x="3187800" y="4187880"/>
            <a:chExt cx="2558880" cy="2601720"/>
          </a:xfrm>
        </p:grpSpPr>
        <p:pic>
          <p:nvPicPr>
            <p:cNvPr id="82" name="" descr=""/>
            <p:cNvPicPr/>
            <p:nvPr/>
          </p:nvPicPr>
          <p:blipFill>
            <a:blip r:embed="rId4"/>
            <a:stretch/>
          </p:blipFill>
          <p:spPr>
            <a:xfrm>
              <a:off x="3187800" y="4187880"/>
              <a:ext cx="2558880" cy="26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668760" y="4325760"/>
              <a:ext cx="1947960" cy="20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букашка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пружина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собака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6138720" y="4187880"/>
            <a:ext cx="2490840" cy="2601720"/>
            <a:chOff x="6138720" y="4187880"/>
            <a:chExt cx="2490840" cy="2601720"/>
          </a:xfrm>
        </p:grpSpPr>
        <p:pic>
          <p:nvPicPr>
            <p:cNvPr id="85" name="" descr=""/>
            <p:cNvPicPr/>
            <p:nvPr/>
          </p:nvPicPr>
          <p:blipFill>
            <a:blip r:embed="rId5"/>
            <a:stretch/>
          </p:blipFill>
          <p:spPr>
            <a:xfrm>
              <a:off x="6138720" y="4187880"/>
              <a:ext cx="2490840" cy="26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6618240" y="4322880"/>
              <a:ext cx="1882800" cy="20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попугай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барабан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полоса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539640" y="3500280"/>
            <a:ext cx="2016360" cy="18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3348000" y="3500280"/>
            <a:ext cx="2160720" cy="18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6372360" y="3500280"/>
            <a:ext cx="2160360" cy="18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7093080" y="3213000"/>
            <a:ext cx="1440" cy="5763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7885080" y="3213000"/>
            <a:ext cx="1800" cy="5763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3924360" y="3357720"/>
            <a:ext cx="14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8028000" y="2852640"/>
            <a:ext cx="289080" cy="28908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3995640" y="3141720"/>
            <a:ext cx="1800" cy="6476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4788000" y="3141720"/>
            <a:ext cx="1440" cy="6476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4211640" y="2852640"/>
            <a:ext cx="289080" cy="28908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3213000"/>
            <a:ext cx="1800" cy="6476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3213000"/>
            <a:ext cx="1800" cy="6476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2852640"/>
            <a:ext cx="287280" cy="28908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3527280" y="2205000"/>
            <a:ext cx="2089440" cy="6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 fill="hold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d1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243080" y="2114640"/>
            <a:ext cx="6999120" cy="1981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232000" y="476280"/>
            <a:ext cx="4680000" cy="64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Ь ПРОПУЩЕННЫЕ БУКВ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d1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43080" y="2114640"/>
            <a:ext cx="690732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d1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9640" y="3213000"/>
            <a:ext cx="1944720" cy="295272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2952720"/>
              <a:gd name="textAreaBottom" fmla="*/ 2858040 h 2952720"/>
            </a:gdLst>
            <a:ahLst/>
            <a:rect l="textAreaLeft" t="textAreaTop" r="textAreaRight" b="textAreaBottom"/>
            <a:pathLst>
              <a:path w="21600" h="32794">
                <a:moveTo>
                  <a:pt x="3600" y="0"/>
                </a:moveTo>
                <a:arcTo wR="3600" hR="3600" stAng="16200000" swAng="-5400000"/>
                <a:lnTo>
                  <a:pt x="0" y="29194"/>
                </a:lnTo>
                <a:arcTo wR="3600" hR="3600" stAng="10800000" swAng="-5400000"/>
                <a:lnTo>
                  <a:pt x="18000" y="327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б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л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ав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6227640" y="1557360"/>
            <a:ext cx="2016360" cy="3024000"/>
          </a:xfrm>
          <a:custGeom>
            <a:avLst/>
            <a:gdLst>
              <a:gd name="textAreaLeft" fmla="*/ 98280 w 2016360"/>
              <a:gd name="textAreaRight" fmla="*/ 1918080 w 2016360"/>
              <a:gd name="textAreaTop" fmla="*/ 98280 h 3024000"/>
              <a:gd name="textAreaBottom" fmla="*/ 2925720 h 3024000"/>
            </a:gdLst>
            <a:ahLst/>
            <a:rect l="textAreaLeft" t="textAreaTop" r="textAreaRight" b="textAreaBottom"/>
            <a:pathLst>
              <a:path w="21600" h="32392">
                <a:moveTo>
                  <a:pt x="3600" y="0"/>
                </a:moveTo>
                <a:arcTo wR="3600" hR="3600" stAng="16200000" swAng="-5400000"/>
                <a:lnTo>
                  <a:pt x="0" y="28792"/>
                </a:lnTo>
                <a:arcTo wR="3600" hR="3600" stAng="10800000" swAng="-5400000"/>
                <a:lnTo>
                  <a:pt x="18000" y="323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ло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е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зырё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"/>
          <p:cNvCxnSpPr/>
          <p:nvPr/>
        </p:nvCxnSpPr>
        <p:spPr>
          <a:xfrm flipV="1">
            <a:off x="2268000" y="3141360"/>
            <a:ext cx="4320360" cy="5752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0" name=""/>
          <p:cNvCxnSpPr/>
          <p:nvPr/>
        </p:nvCxnSpPr>
        <p:spPr>
          <a:xfrm flipV="1">
            <a:off x="2339640" y="3644640"/>
            <a:ext cx="4320360" cy="1152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1" name=""/>
          <p:cNvCxnSpPr/>
          <p:nvPr/>
        </p:nvCxnSpPr>
        <p:spPr>
          <a:xfrm flipV="1">
            <a:off x="2268360" y="2059920"/>
            <a:ext cx="4177440" cy="216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2" name=""/>
          <p:cNvCxnSpPr/>
          <p:nvPr/>
        </p:nvCxnSpPr>
        <p:spPr>
          <a:xfrm flipV="1">
            <a:off x="2268000" y="4292280"/>
            <a:ext cx="4250520" cy="937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V="1">
            <a:off x="2339640" y="2565000"/>
            <a:ext cx="4104360" cy="3240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484360" y="260280"/>
            <a:ext cx="468000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 СЛОВОСОЧЕТ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 fill="hold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d1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4508640"/>
            <a:ext cx="41036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пинка шагала по путни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2205000"/>
            <a:ext cx="338472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тина плетёт пауч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4643280" y="1484280"/>
            <a:ext cx="403236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лоня созрела на яблок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4356000" y="3213000"/>
            <a:ext cx="439272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нка порхает над бабоч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4067280" y="5661000"/>
            <a:ext cx="48258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тинки поставили Борю под сто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948360" y="4797360"/>
            <a:ext cx="1944720" cy="792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003640" y="4869000"/>
            <a:ext cx="1297080" cy="792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627280" y="333360"/>
            <a:ext cx="4032360" cy="57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ПРОЧИТАЙ, ИСПРАВ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4643280" y="1989000"/>
            <a:ext cx="403236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яблоне созрели ябло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2781360"/>
            <a:ext cx="338472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чок плетет паутин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3789360"/>
            <a:ext cx="439272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очка порхает над полян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979640" y="5950080"/>
            <a:ext cx="1944720" cy="907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24000" y="5084640"/>
            <a:ext cx="410364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ник шагал по тропин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4067280" y="6237360"/>
            <a:ext cx="48258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я поставил ботинки под сто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 fill="hold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 fill="hold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 fill="hold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d1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835280" y="2997360"/>
            <a:ext cx="5473440" cy="86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Спасибо за внимание 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09:17:09Z</dcterms:created>
  <dc:creator>Ната</dc:creator>
  <dc:description/>
  <dc:language>en-US</dc:language>
  <cp:lastModifiedBy>Ната</cp:lastModifiedBy>
  <dcterms:modified xsi:type="dcterms:W3CDTF">2011-12-10T11:39:51Z</dcterms:modified>
  <cp:revision>247</cp:revision>
  <dc:subject/>
  <dc:title>Слайд 1</dc:title>
</cp:coreProperties>
</file>