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9B5ED2-43F7-4A18-A7E4-92524A4C0D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C9F4B2-2B40-417C-8AFE-5FFC171C42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ECDF26-4DAF-4FC1-B69C-14BA4146D4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BA01DD-9380-4CF3-998D-EED6D73657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D27F-8BAC-4E4C-A3AB-66B11F8B63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D126-03CF-45F8-9309-86A51BB9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8CE9-98F9-4B21-AB33-B42C1AD2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F692-9AD2-4113-BCE6-66BB68B887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F928-EBFD-443E-B49D-0B660A5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108B-58D7-40A3-820C-7A515E17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2783-4C97-474F-9261-DAC7AC3D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BC69-E6B9-4A07-BBB1-E808F7DA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EF05-3F83-498B-B148-74BDD0F2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3CD9-CF50-4F28-917D-3F081E4E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9C2D-B1E0-4D77-87D0-610C74E9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7C04-D595-4B3D-B796-1C435D78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72E9E8-8E08-4C87-BA87-45019C5D722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3068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08000" y="206064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omic Sans MS"/>
              </a:rPr>
              <a:t>Дифференциация парных согласных Б –П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начальная школа – детский сад № 696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рского район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 – Петербург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516640"/>
            <a:ext cx="38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рупповое   занятие для 2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и составлено            учителем - логопедом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мьевой  Наталией Юрьевно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2997360"/>
            <a:ext cx="633564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fa533"/>
                </a:solidFill>
                <a:latin typeface="Comic Sans MS"/>
              </a:rPr>
              <a:t>Прогулка со зву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56000" y="333360"/>
            <a:ext cx="439236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5732640"/>
            <a:ext cx="1800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1655640" cy="64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32360" y="2852640"/>
            <a:ext cx="1079280" cy="115272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152720"/>
              <a:gd name="textAreaBottom" fmla="*/ 1100160 h 1152720"/>
            </a:gdLst>
            <a:ahLst/>
            <a:rect l="textAreaLeft" t="textAreaTop" r="textAreaRight" b="textAreaBottom"/>
            <a:pathLst>
              <a:path w="21600" h="23069">
                <a:moveTo>
                  <a:pt x="3600" y="0"/>
                </a:moveTo>
                <a:arcTo wR="3600" hR="3600" stAng="16200000" swAng="-5400000"/>
                <a:lnTo>
                  <a:pt x="0" y="19469"/>
                </a:lnTo>
                <a:arcTo wR="3600" hR="3600" stAng="10800000" swAng="-5400000"/>
                <a:lnTo>
                  <a:pt x="18000" y="230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863280" cy="100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934920" y="1411920"/>
            <a:ext cx="72741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87280" y="1484280"/>
            <a:ext cx="104148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411280" y="1484280"/>
            <a:ext cx="1368720" cy="100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140360" y="148428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796000" y="1484280"/>
            <a:ext cx="11523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164360" y="1557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42920" y="4365720"/>
            <a:ext cx="723744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804000" y="443700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5867280" y="4437000"/>
            <a:ext cx="649440" cy="10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4356000" y="443700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1258920" y="4437000"/>
            <a:ext cx="1152360" cy="936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2627280" y="4437000"/>
            <a:ext cx="151308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231840" y="298440"/>
            <a:ext cx="8324640" cy="1949400"/>
            <a:chOff x="231840" y="298440"/>
            <a:chExt cx="8324640" cy="194940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31840" y="298440"/>
              <a:ext cx="832464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89040" y="409680"/>
              <a:ext cx="776448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92000" y="404640"/>
            <a:ext cx="7380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боч, ка, б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;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а, ба, лу;        гай, по, пу;                       каш, бу, ка;      ба, ка, со;         на, жи, пру;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бан, ба, ра;      са, по, ло;        ла, ко,  об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4187880"/>
            <a:ext cx="2539800" cy="2601720"/>
            <a:chOff x="304920" y="4187880"/>
            <a:chExt cx="2539800" cy="260172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304920" y="4187880"/>
              <a:ext cx="253980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87320" y="4325760"/>
              <a:ext cx="192888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бочк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луб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лак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187800" y="4187880"/>
            <a:ext cx="2558880" cy="2601720"/>
            <a:chOff x="3187800" y="4187880"/>
            <a:chExt cx="2558880" cy="260172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3187800" y="4187880"/>
              <a:ext cx="255888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668760" y="4325760"/>
              <a:ext cx="194796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букашк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ружин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обака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138720" y="4187880"/>
            <a:ext cx="2490840" cy="2601720"/>
            <a:chOff x="6138720" y="4187880"/>
            <a:chExt cx="2490840" cy="260172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6138720" y="4187880"/>
              <a:ext cx="249084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618240" y="4322880"/>
              <a:ext cx="188280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опуга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бараба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олоса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39640" y="3500280"/>
            <a:ext cx="201636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3500280"/>
            <a:ext cx="21607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500280"/>
            <a:ext cx="216036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3213000"/>
            <a:ext cx="1440" cy="5763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7885080" y="3213000"/>
            <a:ext cx="1800" cy="5763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335772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8028000" y="2852640"/>
            <a:ext cx="289080" cy="289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3141720"/>
            <a:ext cx="180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3141720"/>
            <a:ext cx="144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2852640"/>
            <a:ext cx="289080" cy="289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213000"/>
            <a:ext cx="180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3213000"/>
            <a:ext cx="180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852640"/>
            <a:ext cx="287280" cy="289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527280" y="2205000"/>
            <a:ext cx="20894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43080" y="2114640"/>
            <a:ext cx="699912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32000" y="476280"/>
            <a:ext cx="468000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43080" y="2114640"/>
            <a:ext cx="69073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3213000"/>
            <a:ext cx="1944720" cy="2952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952720"/>
              <a:gd name="textAreaBottom" fmla="*/ 2858040 h 2952720"/>
            </a:gdLst>
            <a:ahLst/>
            <a:rect l="textAreaLeft" t="textAreaTop" r="textAreaRight" b="textAreaBottom"/>
            <a:pathLst>
              <a:path w="21600" h="32794">
                <a:moveTo>
                  <a:pt x="3600" y="0"/>
                </a:moveTo>
                <a:arcTo wR="3600" hR="3600" stAng="16200000" swAng="-5400000"/>
                <a:lnTo>
                  <a:pt x="0" y="29194"/>
                </a:lnTo>
                <a:arcTo wR="3600" hR="3600" stAng="10800000" swAng="-5400000"/>
                <a:lnTo>
                  <a:pt x="18000" y="32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л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1557360"/>
            <a:ext cx="2016360" cy="302400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3024000"/>
              <a:gd name="textAreaBottom" fmla="*/ 2925720 h 3024000"/>
            </a:gdLst>
            <a:ahLst/>
            <a:rect l="textAreaLeft" t="textAreaTop" r="textAreaRight" b="textAreaBottom"/>
            <a:pathLst>
              <a:path w="21600" h="32392">
                <a:moveTo>
                  <a:pt x="3600" y="0"/>
                </a:moveTo>
                <a:arcTo wR="3600" hR="3600" stAng="16200000" swAng="-5400000"/>
                <a:lnTo>
                  <a:pt x="0" y="28792"/>
                </a:lnTo>
                <a:arcTo wR="3600" hR="3600" stAng="10800000" swAng="-5400000"/>
                <a:lnTo>
                  <a:pt x="18000" y="3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зырё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"/>
          <p:cNvCxnSpPr/>
          <p:nvPr/>
        </p:nvCxnSpPr>
        <p:spPr>
          <a:xfrm flipV="1">
            <a:off x="2268000" y="3141360"/>
            <a:ext cx="4320360" cy="57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V="1">
            <a:off x="2339640" y="3644640"/>
            <a:ext cx="4320360" cy="115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" name=""/>
          <p:cNvCxnSpPr/>
          <p:nvPr/>
        </p:nvCxnSpPr>
        <p:spPr>
          <a:xfrm flipV="1">
            <a:off x="2268360" y="2059920"/>
            <a:ext cx="4177440" cy="21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V="1">
            <a:off x="2268000" y="4292280"/>
            <a:ext cx="4250520" cy="93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V="1">
            <a:off x="2339640" y="2565000"/>
            <a:ext cx="4104360" cy="3240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484360" y="260280"/>
            <a:ext cx="4680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СЛОВОСОЧЕ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4508640"/>
            <a:ext cx="4103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нка шагала по путн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205000"/>
            <a:ext cx="3384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тина плетёт пауч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1484280"/>
            <a:ext cx="4032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ня созрела на ябло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213000"/>
            <a:ext cx="4392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нка порхает над бабоч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5661000"/>
            <a:ext cx="48258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тинки поставили Борю под ст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948360" y="4797360"/>
            <a:ext cx="1944720" cy="792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03640" y="4869000"/>
            <a:ext cx="1297080" cy="79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27280" y="333360"/>
            <a:ext cx="4032360" cy="57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РОЧИТАЙ, ИСПРАВ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1989000"/>
            <a:ext cx="4032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яблоне созрели ябло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781360"/>
            <a:ext cx="3384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чок плетет паути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789360"/>
            <a:ext cx="4392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порхает над полян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979640" y="5950080"/>
            <a:ext cx="1944720" cy="90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5084640"/>
            <a:ext cx="4103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ник шагал по тропин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6237360"/>
            <a:ext cx="48258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я поставил ботинки под ст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35280" y="2997360"/>
            <a:ext cx="5473440" cy="86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Спасибо за внимание 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17:09Z</dcterms:created>
  <dc:creator>Ната</dc:creator>
  <dc:description/>
  <dc:language>en-US</dc:language>
  <cp:lastModifiedBy>Ната</cp:lastModifiedBy>
  <dcterms:modified xsi:type="dcterms:W3CDTF">2011-12-10T11:39:51Z</dcterms:modified>
  <cp:revision>247</cp:revision>
  <dc:subject/>
  <dc:title>Слайд 1</dc:title>
</cp:coreProperties>
</file>