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6.png" ContentType="image/png"/>
  <Override PartName="/ppt/media/image24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106A9C-6A54-4E2E-BBD0-DE4493EEB7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EAEC45-7EAA-4670-BDDC-DBB462B894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3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814430-D558-440A-8C99-2E2969B0DE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2CEFAF-E59B-494F-89BD-034B1D16F9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44A49-A83D-4E9A-991E-4A52AA4D4A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6AC42-1C05-411A-8CAD-99720302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1EFDC-C8FF-468E-8548-2808E36F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3F0B0-D179-4F72-AC1D-01422F4E4C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96692-BF57-4042-AA2E-B83497AC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F90E8-9AEE-49B6-BEB0-0B4D6310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10E23-2A92-4B2B-8E2E-DBEC4B8A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F607D-311B-47DB-BBE1-8BC0FE27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DF30A-2A10-4BEA-B5C8-D769EDCA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B0D1D-9F2C-4C22-8213-861AA495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34ACF-81A1-4709-B0FE-332A1318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55BD3-328C-40AF-BEC4-477CADC8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32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11932C-A3DF-49D7-A97A-39CE87D08951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68360" y="30686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008000" y="2060640"/>
            <a:ext cx="71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omic Sans MS"/>
              </a:rPr>
              <a:t>Дифференциация парных согласных Б –П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6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У начальная школа – детский сад № 696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орского района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 – Петербург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5516640"/>
            <a:ext cx="389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рупповое   занятие для 2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о и составлено            учителем - логопедом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мьевой  Наталией Юрьевно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32000" y="2997360"/>
            <a:ext cx="633564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fa533"/>
                </a:solidFill>
                <a:latin typeface="Comic Sans MS"/>
              </a:rPr>
              <a:t>Прогулка со зву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56000" y="333360"/>
            <a:ext cx="439236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5732640"/>
            <a:ext cx="180036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780000" y="5805360"/>
            <a:ext cx="1655640" cy="64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32360" y="2852640"/>
            <a:ext cx="1079280" cy="115272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152720"/>
              <a:gd name="textAreaBottom" fmla="*/ 1100160 h 1152720"/>
            </a:gdLst>
            <a:ahLst/>
            <a:rect l="textAreaLeft" t="textAreaTop" r="textAreaRight" b="textAreaBottom"/>
            <a:pathLst>
              <a:path w="21600" h="23069">
                <a:moveTo>
                  <a:pt x="3600" y="0"/>
                </a:moveTo>
                <a:arcTo wR="3600" hR="3600" stAng="16200000" swAng="-5400000"/>
                <a:lnTo>
                  <a:pt x="0" y="19469"/>
                </a:lnTo>
                <a:arcTo wR="3600" hR="3600" stAng="10800000" swAng="-5400000"/>
                <a:lnTo>
                  <a:pt x="18000" y="230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140360" y="2924280"/>
            <a:ext cx="863280" cy="100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V="1">
            <a:off x="934920" y="1411920"/>
            <a:ext cx="727416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87280" y="1484280"/>
            <a:ext cx="1041480" cy="100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411280" y="1484280"/>
            <a:ext cx="1368720" cy="100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4140360" y="1484280"/>
            <a:ext cx="1368360" cy="100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5796000" y="1484280"/>
            <a:ext cx="1152360" cy="100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7164360" y="1557360"/>
            <a:ext cx="1008000" cy="863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42920" y="4365720"/>
            <a:ext cx="7237440" cy="107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6804000" y="4437000"/>
            <a:ext cx="1224000" cy="936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5867280" y="4437000"/>
            <a:ext cx="649440" cy="100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4356000" y="4437000"/>
            <a:ext cx="1079640" cy="93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>
            <a:off x="1258920" y="4437000"/>
            <a:ext cx="1152360" cy="936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3"/>
          <a:stretch/>
        </p:blipFill>
        <p:spPr>
          <a:xfrm>
            <a:off x="2627280" y="4437000"/>
            <a:ext cx="151308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231840" y="298440"/>
            <a:ext cx="8324640" cy="1949400"/>
            <a:chOff x="231840" y="298440"/>
            <a:chExt cx="8324640" cy="194940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31840" y="298440"/>
              <a:ext cx="832464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89040" y="409680"/>
              <a:ext cx="776448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792000" y="404640"/>
            <a:ext cx="738036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боч, ка, б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;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па, ба, лу;        гай, по, пу;                       каш, бу, ка;      ба, ка, со;         на, жи, пру;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бан, ба, ра;      са, по, ло;        ла, ко,  об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" y="4187880"/>
            <a:ext cx="2539800" cy="2601720"/>
            <a:chOff x="304920" y="4187880"/>
            <a:chExt cx="2539800" cy="2601720"/>
          </a:xfrm>
        </p:grpSpPr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304920" y="4187880"/>
              <a:ext cx="2539800" cy="26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87320" y="4325760"/>
              <a:ext cx="1928880" cy="20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бочк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алуб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лак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187800" y="4187880"/>
            <a:ext cx="2558880" cy="2601720"/>
            <a:chOff x="3187800" y="4187880"/>
            <a:chExt cx="2558880" cy="2601720"/>
          </a:xfrm>
        </p:grpSpPr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3187800" y="4187880"/>
              <a:ext cx="2558880" cy="26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668760" y="4325760"/>
              <a:ext cx="1947960" cy="20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букашк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пружин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собака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6138720" y="4187880"/>
            <a:ext cx="2490840" cy="2601720"/>
            <a:chOff x="6138720" y="4187880"/>
            <a:chExt cx="2490840" cy="2601720"/>
          </a:xfrm>
        </p:grpSpPr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6138720" y="4187880"/>
              <a:ext cx="2490840" cy="26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618240" y="4322880"/>
              <a:ext cx="1882800" cy="20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попуга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барабан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полоса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39640" y="3500280"/>
            <a:ext cx="201636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3500280"/>
            <a:ext cx="216072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6372360" y="3500280"/>
            <a:ext cx="216036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7093080" y="3213000"/>
            <a:ext cx="1440" cy="5763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7885080" y="3213000"/>
            <a:ext cx="1800" cy="5763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3357720"/>
            <a:ext cx="14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8028000" y="2852640"/>
            <a:ext cx="289080" cy="28908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3995640" y="3141720"/>
            <a:ext cx="1800" cy="6476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4788000" y="3141720"/>
            <a:ext cx="1440" cy="6476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2852640"/>
            <a:ext cx="289080" cy="28908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3213000"/>
            <a:ext cx="1800" cy="6476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3213000"/>
            <a:ext cx="1800" cy="6476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2852640"/>
            <a:ext cx="287280" cy="28908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3527280" y="2205000"/>
            <a:ext cx="208944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43080" y="2114640"/>
            <a:ext cx="699912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232000" y="476280"/>
            <a:ext cx="468000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 ПРОПУЩЕННЫЕ БУК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43080" y="2114640"/>
            <a:ext cx="69073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9640" y="3213000"/>
            <a:ext cx="1944720" cy="295272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952720"/>
              <a:gd name="textAreaBottom" fmla="*/ 2858040 h 2952720"/>
            </a:gdLst>
            <a:ahLst/>
            <a:rect l="textAreaLeft" t="textAreaTop" r="textAreaRight" b="textAreaBottom"/>
            <a:pathLst>
              <a:path w="21600" h="32794">
                <a:moveTo>
                  <a:pt x="3600" y="0"/>
                </a:moveTo>
                <a:arcTo wR="3600" hR="3600" stAng="16200000" swAng="-5400000"/>
                <a:lnTo>
                  <a:pt x="0" y="29194"/>
                </a:lnTo>
                <a:arcTo wR="3600" hR="3600" stAng="10800000" swAng="-5400000"/>
                <a:lnTo>
                  <a:pt x="18000" y="32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л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ав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6227640" y="1557360"/>
            <a:ext cx="2016360" cy="3024000"/>
          </a:xfrm>
          <a:custGeom>
            <a:avLst/>
            <a:gdLst>
              <a:gd name="textAreaLeft" fmla="*/ 98280 w 2016360"/>
              <a:gd name="textAreaRight" fmla="*/ 1918080 w 2016360"/>
              <a:gd name="textAreaTop" fmla="*/ 98280 h 3024000"/>
              <a:gd name="textAreaBottom" fmla="*/ 2925720 h 3024000"/>
            </a:gdLst>
            <a:ahLst/>
            <a:rect l="textAreaLeft" t="textAreaTop" r="textAreaRight" b="textAreaBottom"/>
            <a:pathLst>
              <a:path w="21600" h="32392">
                <a:moveTo>
                  <a:pt x="3600" y="0"/>
                </a:moveTo>
                <a:arcTo wR="3600" hR="3600" stAng="16200000" swAng="-5400000"/>
                <a:lnTo>
                  <a:pt x="0" y="28792"/>
                </a:lnTo>
                <a:arcTo wR="3600" hR="3600" stAng="10800000" swAng="-5400000"/>
                <a:lnTo>
                  <a:pt x="18000" y="323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зырё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"/>
          <p:cNvCxnSpPr/>
          <p:nvPr/>
        </p:nvCxnSpPr>
        <p:spPr>
          <a:xfrm flipV="1">
            <a:off x="2268000" y="3141360"/>
            <a:ext cx="4320360" cy="575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0" name=""/>
          <p:cNvCxnSpPr/>
          <p:nvPr/>
        </p:nvCxnSpPr>
        <p:spPr>
          <a:xfrm flipV="1">
            <a:off x="2339640" y="3644640"/>
            <a:ext cx="4320360" cy="115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1" name=""/>
          <p:cNvCxnSpPr/>
          <p:nvPr/>
        </p:nvCxnSpPr>
        <p:spPr>
          <a:xfrm flipV="1">
            <a:off x="2268360" y="2059920"/>
            <a:ext cx="4177440" cy="216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2" name=""/>
          <p:cNvCxnSpPr/>
          <p:nvPr/>
        </p:nvCxnSpPr>
        <p:spPr>
          <a:xfrm flipV="1">
            <a:off x="2268000" y="4292280"/>
            <a:ext cx="4250520" cy="937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V="1">
            <a:off x="2339640" y="2565000"/>
            <a:ext cx="4104360" cy="3240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484360" y="260280"/>
            <a:ext cx="46800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 СЛОВОСОЧЕТ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4508640"/>
            <a:ext cx="41036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пинка шагала по путн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205000"/>
            <a:ext cx="3384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тина плетёт пауч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1484280"/>
            <a:ext cx="403236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ня созрела на ябло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3213000"/>
            <a:ext cx="4392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нка порхает над бабоч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067280" y="5661000"/>
            <a:ext cx="48258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тинки поставили Борю под сто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948360" y="4797360"/>
            <a:ext cx="1944720" cy="792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03640" y="4869000"/>
            <a:ext cx="1297080" cy="79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627280" y="333360"/>
            <a:ext cx="4032360" cy="57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ПРОЧИТАЙ, ИСПРАВ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1989000"/>
            <a:ext cx="403236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яблоне созрели ябло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2781360"/>
            <a:ext cx="3384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чок плетет паути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789360"/>
            <a:ext cx="4392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очка порхает над полян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979640" y="5950080"/>
            <a:ext cx="1944720" cy="907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4000" y="5084640"/>
            <a:ext cx="410364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ник шагал по тропин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6237360"/>
            <a:ext cx="48258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я поставил ботинки под сто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835280" y="2997360"/>
            <a:ext cx="5473440" cy="86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Спасибо за внимание 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09:17:09Z</dcterms:created>
  <dc:creator>Ната</dc:creator>
  <dc:description/>
  <dc:language>en-US</dc:language>
  <cp:lastModifiedBy>Ната</cp:lastModifiedBy>
  <dcterms:modified xsi:type="dcterms:W3CDTF">2011-12-10T11:39:51Z</dcterms:modified>
  <cp:revision>247</cp:revision>
  <dc:subject/>
  <dc:title>Слайд 1</dc:title>
</cp:coreProperties>
</file>