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B00-FD50-4D7D-B9A9-8E580712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F4F-BA85-4192-9E5A-3474BC26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974-E31C-415B-86A6-3B815667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270-3BA7-4227-8012-F58B3927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0CBE-CA4F-4645-A53B-914120DC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9F2D-6D12-4FBA-8A1C-626A3349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14F8-2640-414C-B8DF-46559DF4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CF00-01E3-4FF3-9820-F60784B5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644A-98E1-467B-A086-3707346C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016D-E5A2-4E09-81CF-F62A9126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8B94-7196-449D-9734-9034BB0A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BFB-088D-493B-B55A-1FB5145F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F1B0-BB08-46B8-AC60-1652BE52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1131-57E6-4505-8340-4548E1BA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52D2-CC75-4871-A0E7-4F2E81A2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E1D0-E573-49DE-83A3-E44311FE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0B38-26E9-4793-AE85-4B7620DC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941-D779-4E30-81AB-307F8205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FB8-B34A-4076-AB6D-2BB783F1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EAB-1E53-4FDA-8D4E-5A207355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D30-59E8-47C7-874E-CF86B66D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8BC-0A30-4211-856B-731D1032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7B2-EC41-4D85-92BE-B14CB00B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7D0-BB0B-421E-A225-6BC97B10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7A4A-83AF-4F93-BC47-7B0519EBE2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FC83-D88C-4A0B-BB94-069668AF0D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66"/>
                </a:solidFill>
                <a:latin typeface="Arial"/>
              </a:rPr>
              <a:t>Бюджетний процес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797360"/>
            <a:ext cx="72392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иконала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. гр. УДФ-0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ласенко Ю.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озгляд проекту закону про державний бюджет України у третьому читанн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ітет  ВРУ з   питань   бюджету доопрацьовує проект закону про Державний бюджет України та вносить його на розгляд ВРУ у  третьому  читанні  не пізніше 25 листопада року, що передує плановом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кон про Державний бюджет України  приймається  Верховною Радою України до 1 грудня року,що передує плановом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1483920"/>
            <a:ext cx="73137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іном перебування проекту закону про  Державний  бюджет України  на розгляді у Верховній Раді України є час з моменту його офіційного подання  Кабінетом  Міністрів  України  Верховній  Раді України  до його прийняття Верховною Радою України за вирахуванням часу,  коли цей проект знаходився  в  Кабінеті  Міністрів  України згідно з процедурою, визначеною цим Кодексо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69800" y="1341360"/>
            <a:ext cx="73134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  разі  відхилення Верховною Радою України проекту закону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 Державний бюджет України відлік терміну перебування проекту на розгляді   у   Верховній   Раді  України  поновлюється  з  моменту повторного його подання Кабінетом Міністрів Украї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ермін  перебування  прийнятого  Верховною  Радою  України закону  про  Державний  бюджет  України  на  розгляді у Президента України,  а  також  термін  повторного  розгляду  Верховною  Радою України,   у   разі   повернення   його   Президентом  України із вмотивованими і сформульованими пропозиціями  до  цього  закону  з наступним  його поверненням до Верховної Ради України на повторний розгляд,  не включаються до загального терміну перебування проекту закону про Державний бюджет України у Верховній Раді України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Дякую за увагу!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тадії бюджетного процесу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кладання проектів бюджет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озгляд та прийняття закону про Державний бюджет України, рішень про місцеві бюджет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иконання бюджету в тому числі у разі необхідності внесення змін до закону про Державний бюджет України, рішення про місцеві бюджет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дготовка та розгляд звіту про виконання бюджету і прийняття рішення щодо ньог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Організаційні засади складання проекту бюджет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МУ розробляє проект закону про Державний бюджет Україн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Міністр фінансів України відповідає за складання проекту закону про Державний бюджет України, визначає основні організаційно-методичні засад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Міністр фінансів України визначає загальний рівень доходів та видатків бюджету, дає оцінку обсягу фінансуванн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Схвалення КМУ проекту закону про державний бюджет Украї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Міністерство фінансів України подає проект закону КМУ, а також вносить пропозиції щодо термінів і порядку розгляду цього проект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МУ приймає постанову щодо схвалення проекту закону, подає його до ВРУ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15 верес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року, що передує плановом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едставлення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е пізніше ніж через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5 днів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після подання КМУ проекту закону до ВРУ Міністр фінансів представляє його на пленарному засіданні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У разі відхилення проекту закону КМУ зобов’язаний у тижневий термін подати проект закону на повторне представлення з обґрунтуванням внесених змін ВР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ідготовка ВРУ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 до першого читання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01 жовт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проект закону про державний бюджет України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озглядається народними депутатами, вони формують свої пропозиції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омітет ВРУ з питань бюджету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15 жовт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розглядає пропозиції до проекту закону про державний бюджет України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і готує висновки і пропозиції до ньог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озгляд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РУ приймає проект закону про Державний бюджет України у першому читанні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20 жовтня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року, що передує планов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ідготовка проекту закону про державний бюджет України на друге читанн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ісля прийняття проекту закону про державний бюджет України у першому читанні КМУ у двотижневий термін готує і подає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03 листопада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до розгляду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озгляд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екту закону про державний бюджет України у другому читанні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руге читання завершується не пізніше 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20 листопада</a:t>
            </a: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900" spc="-1" strike="noStrike">
                <a:solidFill>
                  <a:srgbClr val="99cccc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що передує планово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5:19:25Z</dcterms:created>
  <dc:creator/>
  <dc:description/>
  <dc:language>en-US</dc:language>
  <cp:lastModifiedBy>Customer</cp:lastModifiedBy>
  <dcterms:modified xsi:type="dcterms:W3CDTF">2010-11-02T19:03:58Z</dcterms:modified>
  <cp:revision>18</cp:revision>
  <dc:subject/>
  <dc:title>Бюджетний процес</dc:title>
</cp:coreProperties>
</file>