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832-E708-4383-B398-EF039815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2C3-20A6-4793-931D-9E33F9EF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496-CC3B-4D46-B485-ABFEBA9C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D20-63D4-4911-B5D9-8230755E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E817-0CB1-4B93-A487-898E1A21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FB97-B620-47B0-9FD9-3B779C52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C48A-6E4B-4C82-ADFB-DC804A26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A64B-9E41-4532-B333-32A08A84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EA38-0530-4579-8517-FFEBD992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D2BE-555A-4BC0-9D98-659C7882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1CF1-7C61-4A3C-BF7D-EF47A6ED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A44-77C2-4B79-AD94-AF47922A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3889-5BC7-40EC-AB06-4DFC0EC8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0019-DB23-4B5E-BE18-EA58D3D0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AD71-057B-4BF8-80A7-3E192EAF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7159-1210-48EC-B143-3D4D19F2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F3CD-B287-403D-832E-6238D534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1D9-F124-4917-963C-5DAF8E34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B4E-F63E-46E1-8ACE-E8A25F3F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76F-4D49-4B68-96EF-CA73D235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AF9-066B-43CC-A9AA-0A8C5D87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D20-C161-4B62-B8EE-BBC47902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98F-F728-448E-80A3-55871EFD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61E-5A5A-40A7-AD9B-D8171BE9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2C57-161B-4E03-99F8-8AF33E40A5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FDC7-DDC8-4B0C-8589-5C31CC89E1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6666"/>
                </a:solidFill>
                <a:latin typeface="Arial"/>
              </a:rPr>
              <a:t>Бюджетний процес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4797360"/>
            <a:ext cx="72392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иконала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. гр. УДФ-0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ласенко Ю.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Розгляд проекту закону про державний бюджет України у третьому читанні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мітет  ВРУ з   питань   бюджету доопрацьовує проект закону про Державний бюджет України та вносить його на розгляд ВРУ у  третьому  читанні  не пізніше 25 листопада року, що передує плановом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кон про Державний бюджет України  приймається  Верховною Радою України до 1 грудня року,що передує плановом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1483920"/>
            <a:ext cx="73137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іном перебування проекту закону про  Державний  бюджет України  на розгляді у Верховній Раді України є час з моменту його офіційного подання  Кабінетом  Міністрів  України  Верховній  Раді України  до його прийняття Верховною Радою України за вирахуванням часу,  коли цей проект знаходився  в  Кабінеті  Міністрів  України згідно з процедурою, визначеною цим Кодексо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69800" y="1341360"/>
            <a:ext cx="73134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  разі  відхилення Верховною Радою України проекту закону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 Державний бюджет України відлік терміну перебування проекту на розгляді   у   Верховній   Раді  України  поновлюється  з  моменту повторного його подання Кабінетом Міністрів Україн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ермін  перебування  прийнятого  Верховною  Радою  України закону  про  Державний  бюджет  України  на  розгляді у Президента України,  а  також  термін  повторного  розгляду  Верховною  Радою України,   у   разі   повернення   його   Президентом  України із вмотивованими і сформульованими пропозиціями  до  цього  закону  з наступним  його поверненням до Верховної Ради України на повторний розгляд,  не включаються до загального терміну перебування проекту закону про Державний бюджет України у Верховній Раді України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204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Дякую за увагу!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тадії бюджетного процесу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кладання проектів бюджеті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Розгляд та прийняття закону про Державний бюджет України, рішень про місцеві бюджет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Виконання бюджету в тому числі у разі необхідності внесення змін до закону про Державний бюджет України, рішення про місцеві бюджет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дготовка та розгляд звіту про виконання бюджету і прийняття рішення щодо ньог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Організаційні засади складання проекту бюджету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МУ розробляє проект закону про Державний бюджет Україн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Міністр фінансів України відповідає за складання проекту закону про Державний бюджет України, визначає основні організаційно-методичні засад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Міністр фінансів України визначає загальний рівень доходів та видатків бюджету, дає оцінку обсягу фінансуванн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хвалення КМУ проекту закону про державний бюджет Украї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Міністерство фінансів України подає проект закону КМУ, а також вносить пропозиції щодо термінів і порядку розгляду цього проект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МУ приймає постанову щодо схвалення проекту закону, подає його до ВРУ 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15 вересня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року, що передує плановом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едставлення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оекту закону про державний бюджет України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е пізніше ніж через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5 днів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після подання КМУ проекту закону до ВРУ Міністр фінансів представляє його на пленарному засіданні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У разі відхилення проекту закону КМУ зобов’язаний у тижневий термін подати проект закону на повторне представлення з обґрунтуванням внесених змін ВР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ідготовка ВРУ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оекту закону про державний бюджет України до першого читання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01 жовтня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проект закону про державний бюджет України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розглядається народними депутатами, вони формують свої пропозиції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омітет ВРУ з питань бюджету 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15 жовтня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розглядає пропозиції до проекту закону про державний бюджет України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і готує висновки і пропозиції до ньог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Розгляд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оекту закону про державний бюджет України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ВРУ приймає проект закону про Державний бюджет України у першому читанні 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20 жовтня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року, що передує планов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ідготовка проекту закону про державний бюджет України на друге читанн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ісля прийняття проекту закону про державний бюджет України у першому читанні КМУ у двотижневий термін готує і подає 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03 листопада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до розгляду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Розгляд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оекту закону про державний бюджет України у другому читанні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Друге читання завершується 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20 листопада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що передує планово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5:19:25Z</dcterms:created>
  <dc:creator/>
  <dc:description/>
  <dc:language>en-US</dc:language>
  <cp:lastModifiedBy>Customer</cp:lastModifiedBy>
  <dcterms:modified xsi:type="dcterms:W3CDTF">2010-11-02T19:03:58Z</dcterms:modified>
  <cp:revision>18</cp:revision>
  <dc:subject/>
  <dc:title>Бюджетний процес</dc:title>
</cp:coreProperties>
</file>