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F72-128D-46FE-ACC3-FF678FA5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16B-092D-44C2-8C8C-CB5F79FA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F08-314B-4084-806F-53E40A38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9EA-3637-407B-B081-B87C1C24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C636-393A-45E2-AF6B-CE625F56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C3EC-F043-40EE-9A09-5B6605DE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31E5-DC62-470F-9706-4CBB39D4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86A6-72BD-4A2E-A2D9-9131431A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14F8-1D4B-4DCC-B3E9-5C1A4276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1F21-6B39-423D-A483-8E928B9B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1A22-271E-4155-881B-D0E22BE0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195-41C4-4019-BA2F-00823689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8572-5385-418F-B3B6-1E89B694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BFDE-A190-4DA9-A107-02C76DB2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F344-AB72-447F-8608-96670D79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9EC7-2D27-46E6-ABEA-8014E224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2655-4EE5-44A0-84FC-8C495144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E18-F061-4F49-9079-C7E0E5C4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CDA-F5C3-416F-BACA-F561FA09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772-FF38-4B8D-9B41-73FF8BA6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5FB-CE95-40C0-A786-130F8228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F6C-63B7-43E4-B339-1CAC26F5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9CE-9511-466F-B394-01463E0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0FA-3A30-48D9-A2EE-7B86EE78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C4EA-6640-4803-B486-69ED852ED3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FB01-8F36-41B9-914B-C1D0E97500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Бюджетний процес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797360"/>
            <a:ext cx="7239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иконала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. гр. УДФ-0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ласенко Ю.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озгляд проекту закону про державний бюджет України у третьому читанн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ітет  ВРУ з   питань   бюджету доопрацьовує проект закону про Державний бюджет України та вносить його на розгляд ВРУ у  третьому  читанні  не пізніше 25 листопада року, що передує плановом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кон про Державний бюджет України  приймається  Верховною Радою України до 1 грудня року,що передує плановом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1483920"/>
            <a:ext cx="73137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іном перебування проекту закону про  Державний  бюджет України  на розгляді у Верховній Раді України є час з моменту його офіційного подання  Кабінетом  Міністрів  України  Верховній  Раді України  до його прийняття Верховною Радою України за вирахуванням часу,  коли цей проект знаходився  в  Кабінеті  Міністрів  України згідно з процедурою, визначеною цим Кодексо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69800" y="1341360"/>
            <a:ext cx="73134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 разі  відхилення Верховною Радою України проекту закону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 Державний бюджет України відлік терміну перебування проекту на розгляді   у   Верховній   Раді  України  поновлюється  з  моменту повторного його подання Кабінетом Міністрів Украї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ермін  перебування  прийнятого  Верховною  Радою  України закону  про  Державний  бюджет  України  на  розгляді у Президента України,  а  також  термін  повторного  розгляду  Верховною  Радою України,   у   разі   повернення   його   Президентом  України із вмотивованими і сформульованими пропозиціями  до  цього  закону  з наступним  його поверненням до Верховної Ради України на повторний розгляд,  не включаються до загального терміну перебування проекту закону про Державний бюджет України у Верховній Раді України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Дякую за увагу!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тадії бюджетного процесу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кладання проектів бюджет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озгляд та прийняття закону про Державний бюджет України, рішень про місцеві бюджет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иконання бюджету в тому числі у разі необхідності внесення змін до закону про Державний бюджет України, рішення про місцеві бюджет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готовка та розгляд звіту про виконання бюджету і прийняття рішення щодо ньог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рганізаційні засади складання проекту бюджет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МУ розробляє проект закону про Державний бюджет Україн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Міністр фінансів України відповідає за складання проекту закону про Державний бюджет України, визначає основні організаційно-методичні засад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Міністр фінансів України визначає загальний рівень доходів та видатків бюджету, дає оцінку обсягу фінансуванн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хвалення КМУ проекту закону про державний бюджет Украї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Міністерство фінансів України подає проект закону КМУ, а також вносить пропозиції щодо термінів і порядку розгляду цього проект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МУ приймає постанову щодо схвалення проекту закону, подає його до ВРУ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15 верес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року, що передує плановом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едставлення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е пізніше ніж через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5 днів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після подання КМУ проекту закону до ВРУ Міністр фінансів представляє його на пленарному засіданні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У разі відхилення проекту закону КМУ зобов’язаний у тижневий термін подати проект закону на повторне представлення з обґрунтуванням внесених змін ВР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ідготовка ВРУ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 до першого читання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01 жовт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проект закону про державний бюджет України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озглядається народними депутатами, вони формують свої пропозиції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омітет ВРУ з питань бюджету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15 жовт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розглядає пропозиції до проекту закону про державний бюджет України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і готує висновки і пропозиції до нь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озгляд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РУ приймає проект закону про Державний бюджет України у першому читанні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20 жовт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року, що передує планов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ідготовка проекту закону про державний бюджет України на друге читанн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ісля прийняття проекту закону про державний бюджет України у першому читанні КМУ у двотижневий термін готує і подає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03 листопада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до розгляду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озгляд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 у другому читанн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руге читання завершується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20 листопада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що передує планово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5:19:25Z</dcterms:created>
  <dc:creator/>
  <dc:description/>
  <dc:language>en-US</dc:language>
  <cp:lastModifiedBy>Customer</cp:lastModifiedBy>
  <dcterms:modified xsi:type="dcterms:W3CDTF">2010-11-02T19:03:58Z</dcterms:modified>
  <cp:revision>18</cp:revision>
  <dc:subject/>
  <dc:title>Бюджетний процес</dc:title>
</cp:coreProperties>
</file>