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C03-EC45-4B71-BE98-10527C62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01F-61CA-41BD-B0D6-C0F23A5B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103-9676-4CCE-937E-F06BA410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CA3-D3A9-4F43-A03D-B85D3DBF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2B5E-02D9-44DA-A8E7-310C27F7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8D1E-4519-4C5D-8053-EC5CCD9C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D81D-42BC-4E45-BC9F-03B6D256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6827-BBA6-4081-AECF-894DE344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F70C-C5B9-44ED-8FA2-7F347E1A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97D7-4028-4AED-9D55-7633958E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CEB6-1FA3-411E-8143-87C93DCE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3639-E881-4619-9284-703F7B36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FB89-3760-4C65-91AE-3E58A351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48F4-70D2-493C-A58C-0A26A225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53DD-7A28-43E2-90E2-15121B85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2223-99AC-418E-959F-4188F3ED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CC38-1E2F-4921-88E7-47574E1B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B5D8A-0BF1-4636-8B18-75E5A951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A0381-9730-41EC-8F9C-99D5A7B9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C67B37-6B30-4E4E-93B4-C5ACC1B2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039EF-A192-46BD-A862-A7A81BE8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93461-3B29-4A39-AB93-0E9EFE60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5F50-ED9D-4009-9072-D4DA1D92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A27A8-E049-4C64-A4BB-92147F00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741D09-B594-4577-95E8-B93B71C7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A003B-EF11-4F04-A724-8372CE01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8CC17-3E04-4048-85E8-90899944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F2028-FA6C-4A40-9460-12283E00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28EAC-45B8-4240-BF85-2395AA26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95B1D-F4D7-467B-B788-A2D87E13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05E9F-5CDE-4BE3-AD2C-82555418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E8C91-055A-4F3A-A757-83319168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CFF75-FEF2-494A-BBDB-82DC41B1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F4B0-0F77-4B3D-97A0-A235CCFD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135D9-E8E4-4834-848A-5DD48DB7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743B9-19AD-4DFD-BE1D-A02CBF2E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F63A2-E9A7-4F7F-A140-FA2AC677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E6E3D-9F92-48A4-94D9-FDE084DD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8E969-83D6-499A-A79B-E4D49BC4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6FCEB-D847-43C2-8913-70A74936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10856-C916-441B-B082-2399A95A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8FA87-E76C-45F0-B598-FA87EFE7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368C5-4DA4-42BF-8E34-128E8B50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6D8-0D62-41FB-99CE-C8439D1F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BBBE-5E90-4236-AB00-72084ADF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6B65-A341-4717-B215-41DC4089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F57-FFB2-46DF-B222-ACD885FB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3F84-965F-4871-8D4F-031EB089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6718-32D7-4BCF-A939-9F6B1A23D7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21BC-F860-42A4-923D-AE159B34EE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4EA5-9532-4233-A0F5-E68D8991655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0983-C5EE-4FE2-9946-0062181C117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757080" y="3718080"/>
            <a:ext cx="3456000" cy="14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ыполнил ученик 10-А клас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дней школы №1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алецкий Макси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95280" y="333360"/>
            <a:ext cx="8353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Презентация на тем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«Современные процессоры Intel и AMD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>
                  <a:alphaModFix amt="50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особенности: 3Dnow, enhanced 3Dnow, SSE, SSE2, SSE3, SSE4a, ABM, 57 команд MMX, EVP (Enhanced Virus Protection или Execute Disable Bit), AMD Virtualization Technolog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: 4000 МГ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мальная температура: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74 °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физических ядра могут обрабатывать два потока команд одновременно. В этом случае одноядерные уступают двухъядер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оэтому, исходя из всего, что было изложено в презентации, я советую покупать компьютер с двухъядерным процес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Список использованной литературы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73436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master-hard.com/?p=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nix.ru/autocatalog/amd/CPU_AMD_ATHLON_X2_BOX_ADX250O_3.0_4000_Socket_AM3_75475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amd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intel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0" y="3212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7120" indent="9000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Хотите верьте – хотите нет, но скоростной Core i7 из новой линейки Intel содержит архитектуру DNA, которой уже более трех десятков лет! То же самое можно сказать и про новый Phenom II X4 от AMD. Фактически, это все тот же «долгожитель» - микропроцессорная архитектура x86, которая доминировала в настольных и мобильных системах еще до рождения многих из ныне читающих эту статью и, скорее всего, останется доминирующей еще долгие годы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7120" indent="9000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Архитектура х86 была изобретена в Intel в 1978 году. Шли годы, архитектура развивалась, становилась не только быстрее, но и гибче, и с каждым релизом приобретала все более широкий набор встроенных инструкций. Это триумфальное шествие длится уже свыше 30 лет – срок вполне солидный. Самое время остановиться и вспомнить хотя бы самые популярные процессоры на основе x86, которые вышли в свет за этот период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7524720" cy="23954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684360" y="260280"/>
            <a:ext cx="5400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Vladimir Script"/>
              </a:rPr>
              <a:t>Краткая история процессоров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Vladimir Script"/>
              <a:ea typeface="Vladimir Script"/>
            </a:endParaRPr>
          </a:p>
        </p:txBody>
      </p:sp>
    </p:spTree>
  </p:cSld>
  <p:transition spd="med" advTm="5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2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 rot="5400000">
            <a:off x="-2383920" y="3039120"/>
            <a:ext cx="6120000" cy="561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ародители  Intel  и  AM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708360" y="476280"/>
            <a:ext cx="2212920" cy="15508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6300720" y="476280"/>
            <a:ext cx="1509840" cy="14954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 rot="21247200">
            <a:off x="1187280" y="3933360"/>
            <a:ext cx="2087640" cy="2049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1258920" y="476280"/>
            <a:ext cx="2232000" cy="18223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3635280" y="4005360"/>
            <a:ext cx="1944720" cy="18842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6"/>
          <a:srcRect l="2616" t="0" r="0" b="0"/>
          <a:stretch/>
        </p:blipFill>
        <p:spPr>
          <a:xfrm rot="773400">
            <a:off x="6012000" y="4292280"/>
            <a:ext cx="2663640" cy="14731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116000" y="2565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D 2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35280" y="2349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 2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300720" y="234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 i3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6165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 i4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755640" y="189000"/>
            <a:ext cx="691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временные процессо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9640" y="177336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сегодняшний день лидерами рынк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оров являются компани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l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D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258920" y="3645000"/>
            <a:ext cx="2808360" cy="1893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2076480" cy="20764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321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ние процессоры, которые выпустила компания, так называемые процессоры второго поколения, это Intel Core i3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835280" y="260280"/>
            <a:ext cx="525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e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2448000" cy="14209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84360" y="522936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Intel Cor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i7-990X Extreme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2843280" y="3789360"/>
            <a:ext cx="1800000" cy="12952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059280" y="522936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Intel Cor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i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1872000" cy="12492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219640" y="5157720"/>
            <a:ext cx="151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Intel Core i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7093080" y="3789360"/>
            <a:ext cx="1655640" cy="11984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7236000" y="5084640"/>
            <a:ext cx="136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Intel Core i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4604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вычислительных пото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ая кэш-памят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ров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и Intel Turbo Boost 2.0 и Intel Hyper-Threa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ют работать в фоновом режи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ческое решение Intel HD Graphics 2000 обеспечивает высокое качество графики, устраняет необходимость использования отдельной видеокарты и снижает энэргозатра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Intel HTΔ позволяет каждому ядру процессора выполнять две задачи одноврем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tel Smart Cache — общая кэш-память динамически распределяется между ядрами процессора в зависимости от нагрузки, значительно ускоряя работу и повышая производи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11280" y="333360"/>
            <a:ext cx="7273800" cy="12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сновные характеристики процессора Inte Core i7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5000">
    <p:cover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24000" y="206028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Линейка процессоров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M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443640" y="3429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3708360" y="342900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6659640" y="5300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henom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530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MD Athlon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80000" y="5373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MD Sempron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ое качество изображения - процессор AMD Phenom II позволяет просматривать цифровые медиафайлы, играть и создавать контент в высоком разреш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альная совместимость процессоров AMD Phenom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графических адаптеров ATI Rade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ительность - благодаря четырехъядерной архитектуре следующего поколения они могут справляться даже с наиболее требовательными к ресурсам задачами; позволяют проектиров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производительность по доступной це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оценная функциональность для расширения вычислительных возмож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я AMD6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я HyperTran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6:33:47Z</dcterms:created>
  <dc:creator>Af</dc:creator>
  <dc:description/>
  <dc:language>en-US</dc:language>
  <cp:lastModifiedBy>Af</cp:lastModifiedBy>
  <dcterms:modified xsi:type="dcterms:W3CDTF">2011-10-31T20:12:32Z</dcterms:modified>
  <cp:revision>14</cp:revision>
  <dc:subject/>
  <dc:title>Презентация на тему «История и развитие процессоров»</dc:title>
</cp:coreProperties>
</file>