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D496-7AFE-45C2-ACFD-3BB2537CC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BD60-DEBF-4F9E-BDA0-051C1E63C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E232-4673-4782-ADB6-2A5BC23FE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C38D-9027-49FA-A0C8-2B8F3297F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4326A-8EFE-4DA5-A909-490025DA1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1E43F-C03F-4491-9B35-242E20A40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9AB35-0CD6-42EF-93C0-AB0ED2DC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99AFC-E496-41D1-92FC-10A210192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8138F-F75A-41D3-89A0-73DEFBFD4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15798-BC28-41A0-BE2E-E219A97AB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B6334-A965-4998-8F4C-2EAB3B4A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68E1-DD3C-4BFD-9D89-F0621B1FF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397C2-6C36-42D4-B98A-65B62CB2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F9464-C628-4398-9CCF-F4A7A646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EDDB4-CDCE-4811-97A1-FECA899FB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D510E-9802-4E54-B142-89FB226EE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A22D3-E2DF-4CD4-B862-5DBB88232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7F2B86-A152-4FC7-86EF-D5782ADC2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0E02B8-FC2B-4946-B07C-904EFEA50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768694-C5B0-4412-8165-AB44F3270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11C504-D461-49DB-8535-3C0321A05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D53B26-3AD7-4DFD-98AD-6086749FC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10DA-F18B-4532-B89C-607E37B54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721989-073E-4CDA-9A35-86AA033AC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F4A338-2470-490D-93B3-7DA1230E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48EC34-416A-46A2-A060-277A71CE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AD92B5-AF87-4549-AB94-A44BD03D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23580F-D514-4E2D-BEA8-D5C297474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8CD0BA-4227-4272-A77F-85B020A03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39DC15-3DB4-46E1-88DF-B072792A8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0540F-9905-4A2B-9601-96B55A9E0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08C03-6987-41F0-BF08-DC3F87F06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6557C-8CE3-4BD6-AC32-3A8C69B8C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1F8C-FD27-4293-9C06-65ADB9F3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8A393-E7AE-44BD-AC1A-F4620D653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27CFA-E0E6-4FEA-BFB2-868551E94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9858D-5E41-47FC-B3B4-D28422739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5944A-D541-44DB-A5E1-15190C5E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95C94-1A8E-40D5-9A9A-B58457BE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22844-2D9D-4E78-8C61-1C7CCB21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04996-3CB6-4676-B998-AFAAB918D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201DA-7D65-487E-B306-AE767DC4D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44D10-95ED-4925-A912-CABA393F1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5595-1A3A-4563-9CA5-EB311451D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916E-461E-4CBB-9E59-46636DECF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D499-F823-4F60-B708-5D01E3F9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DD0D-1797-4B7E-B0B7-9920FAE7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9419-3231-4512-84EA-FB7F5481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65176-5429-4960-9D5A-5D4468602C8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F59C0-015F-4B55-85B7-8E96EBB4D63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09821-C677-4558-BE30-D0DEC984250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C17B2-B0EA-4429-B84A-C1B8BEA19F0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757080" y="3718080"/>
            <a:ext cx="3456000" cy="14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ыполнил ученик 10-А класс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редней школы №12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Малецкий Макси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95280" y="333360"/>
            <a:ext cx="835344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>
                    <a:alphaModFix amt="50000"/>
                  </a:blip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Презентация на тему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>
                  <a:alphaModFix amt="50000"/>
                </a:blip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>
                  <a:alphaModFix amt="50000"/>
                </a:blip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>
                    <a:alphaModFix amt="50000"/>
                  </a:blip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«Современные процессоры Intel и AMD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>
                  <a:alphaModFix amt="50000"/>
                </a:blip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advTm="500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ючевые особенности: 3Dnow, enhanced 3Dnow, SSE, SSE2, SSE3, SSE4a, ABM, 57 команд MMX, EVP (Enhanced Virus Protection или Execute Disable Bit), AMD Virtualization Technolog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ота: 4000 МГц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ксиммальная температура: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74 °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r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а физических ядра могут обрабатывать два потока команд одновременно. В этом случае одноядерные уступают двухъядер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поэтому, исходя из всего, что было изложено в презентации, я советую покупать компьютер с двухъядерным процессо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r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75438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Список использованной литературы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734364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master-hard.com/?p=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nix.ru/autocatalog/amd/CPU_AMD_ATHLON_X2_BOX_ADX250O_3.0_4000_Socket_AM3_75475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amd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intel.com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r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0" y="321264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7120" indent="9000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Хотите верьте – хотите нет, но скоростной Core i7 из новой линейки Intel содержит архитектуру DNA, которой уже более трех десятков лет! То же самое можно сказать и про новый Phenom II X4 от AMD. Фактически, это все тот же «долгожитель» - микропроцессорная архитектура x86, которая доминировала в настольных и мобильных системах еще до рождения многих из ныне читающих эту статью и, скорее всего, останется доминирующей еще долгие годы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7120" indent="9000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Архитектура х86 была изобретена в Intel в 1978 году. Шли годы, архитектура развивалась, становилась не только быстрее, но и гибче, и с каждым релизом приобретала все более широкий набор встроенных инструкций. Это триумфальное шествие длится уже свыше 30 лет – срок вполне солидный. Самое время остановиться и вспомнить хотя бы самые популярные процессоры на основе x86, которые вышли в свет за этот период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7524720" cy="23954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684360" y="260280"/>
            <a:ext cx="540036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Vladimir Script"/>
              </a:rPr>
              <a:t>Краткая история процессоров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Vladimir Script"/>
              <a:ea typeface="Vladimir Script"/>
            </a:endParaRPr>
          </a:p>
        </p:txBody>
      </p:sp>
    </p:spTree>
  </p:cSld>
  <p:transition spd="med" advTm="5000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4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200"/>
                            </p:stCondLst>
                            <p:childTnLst>
                              <p:par>
                                <p:cTn id="43" nodeType="afterEffect" fill="hold" presetClass="entr" presetID="4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 rot="5400000">
            <a:off x="-2383920" y="3039120"/>
            <a:ext cx="6120000" cy="561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ародители  Intel  и  AM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3708360" y="476280"/>
            <a:ext cx="2212920" cy="155088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6300720" y="476280"/>
            <a:ext cx="1509840" cy="149544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 rot="21247200">
            <a:off x="1187280" y="3933360"/>
            <a:ext cx="2087640" cy="204948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4"/>
          <a:stretch/>
        </p:blipFill>
        <p:spPr>
          <a:xfrm>
            <a:off x="1258920" y="476280"/>
            <a:ext cx="2232000" cy="182232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5"/>
          <a:stretch/>
        </p:blipFill>
        <p:spPr>
          <a:xfrm>
            <a:off x="3635280" y="4005360"/>
            <a:ext cx="1944720" cy="188424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6"/>
          <a:srcRect l="2616" t="0" r="0" b="0"/>
          <a:stretch/>
        </p:blipFill>
        <p:spPr>
          <a:xfrm rot="773400">
            <a:off x="6012000" y="4292280"/>
            <a:ext cx="2663640" cy="14731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116000" y="256536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D 2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635280" y="234936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 2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300720" y="2349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 i3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258920" y="616572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 i4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755640" y="189000"/>
            <a:ext cx="6912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овременные процессо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39640" y="1773360"/>
            <a:ext cx="828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539640" y="184464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 сегодняшний день лидерами рынк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цессоров являются компании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l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MD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258920" y="3645000"/>
            <a:ext cx="2808360" cy="189396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2076480" cy="20764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ver dir="r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3211" fill="hold"/>
                                        <p:tgtEl>
                                          <p:spTgt spid="2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457200" y="1719000"/>
            <a:ext cx="8229600" cy="16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едние процессоры, которые выпустила компания, так называемые процессоры второго поколения, это Intel Core i3 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i7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1835280" y="260280"/>
            <a:ext cx="5256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tel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250920" y="3716280"/>
            <a:ext cx="2448000" cy="142092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84360" y="522936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Intel Cor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i7-990X Extreme Edi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2843280" y="3789360"/>
            <a:ext cx="1800000" cy="129528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3059280" y="5229360"/>
            <a:ext cx="1152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Intel Cor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i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5003640" y="3789360"/>
            <a:ext cx="1872000" cy="12492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5219640" y="5157720"/>
            <a:ext cx="1513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Intel Core i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7093080" y="3789360"/>
            <a:ext cx="1655640" cy="11984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7236000" y="5084640"/>
            <a:ext cx="1368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Intel Core i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44604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 вычислительных пото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полнительная кэш-память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ровн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и Intel Turbo Boost 2.0 и Intel Hyper-Thread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зволяют работать в фоновом режим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афическое решение Intel HD Graphics 2000 обеспечивает высокое качество графики, устраняет необходимость использования отдельной видеокарты и снижает энэргозатра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я Intel HTΔ позволяет каждому ядру процессора выполнять две задачи одновремен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ntel Smart Cache — общая кэш-память динамически распределяется между ядрами процессора в зависимости от нагрузки, значительно ускоряя работу и повышая производит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611280" y="333360"/>
            <a:ext cx="7273800" cy="127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Основные характеристики процессора Inte Core i7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 advTm="5000">
    <p:cover dir="r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324000" y="206028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Линейка процессоров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M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826920" y="342900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6443640" y="342900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3708360" y="3429000"/>
            <a:ext cx="1800360" cy="1800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6659640" y="5300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Phenom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971640" y="530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AMD Athlon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780000" y="53737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AMD Sempron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окое качество изображения - процессор AMD Phenom II позволяет просматривать цифровые медиафайлы, играть и создавать контент в высоком разрешен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деальная совместимость процессоров AMD Phenom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графических адаптеров ATI Rade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зводительность - благодаря четырехъядерной архитектуре следующего поколения они могут справляться даже с наиболее требовательными к ресурсам задачами; позволяют проектирова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r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окая производительность по доступной цен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ноценная функциональность для расширения вычислительных возможнос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хнология AMD6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хнология HyperTrans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6:33:47Z</dcterms:created>
  <dc:creator>Af</dc:creator>
  <dc:description/>
  <dc:language>en-US</dc:language>
  <cp:lastModifiedBy>Af</cp:lastModifiedBy>
  <dcterms:modified xsi:type="dcterms:W3CDTF">2011-10-31T20:12:32Z</dcterms:modified>
  <cp:revision>14</cp:revision>
  <dc:subject/>
  <dc:title>Презентация на тему «История и развитие процессоров»</dc:title>
</cp:coreProperties>
</file>