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601-6078-4F6D-8860-480353BB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004-2422-449E-B06C-0A5A36A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70B-9215-4C7F-96D8-14E3D838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604-6429-41C4-850A-CE0D53AB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392-7591-4A1F-8E31-9A736B05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732-2A8E-4023-9188-9ECA4ED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6FC-71A3-45B5-A176-1A2F3F6B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152E-77AC-4822-9C79-00EA4381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6F6-2BEA-450C-84D4-D8554F6A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E782-B589-4406-A4AA-209FD60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E99F-2125-451E-83F6-24876E2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30B-0B3A-4411-9EAC-30EE2F8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FB8B-3FE5-4968-9F41-8065C18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D3A-8456-46DC-AD59-746ACDB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74E-2D0A-4B78-9C41-A5005108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DB7-AA71-4092-BB76-8D95D3DB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C2D1-0DD8-473F-9834-B8CF6BB1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C71FC-CC96-42DC-8B0A-039B328D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1870A-8CB2-426E-BF39-C74AC5E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CD05C-FB5E-4525-A2EC-14BB6F4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1B05A-E91F-4CB4-9015-A2B747BC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57A43-46A6-42AF-A583-B4DC884D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B0B-4DB2-46BA-9EB6-1BB8588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AC95F-01FC-49CB-A58B-ED84873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E2D3B-5DED-414A-9129-57265E0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F673C-937A-4188-B971-DDACD1B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7E21C-4B33-4354-94DB-B2CD374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A6B78-E4F8-47B9-9A3C-A190F31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A6478-9859-4A05-A1E8-05D88A3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CF647-BE03-4869-B408-493DE8F6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A649-DEEF-43F1-9C62-02B0D191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69402-6A27-4D9C-9F6E-AAF1553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70B6-208E-472C-9009-CDDBA33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94E-D744-4F2E-B16F-9E0498AE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CA26-1C8A-4CB0-AB37-DFFD773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049E-09EA-4DFB-85B1-6B04B5F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950E-4168-4D70-AB0D-905B0EC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2976-A62E-4AEA-B040-BF7AAB0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F221-2AB5-480F-85F7-19E4DFA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0CE5-5F8D-4C6D-A422-D4F0184A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DD3B-85BA-4857-9C63-2712CD8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CCBB-E413-4734-BBB1-FBE3EA9A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4EFA-9311-474C-B449-B6B92B77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079-A7D3-4559-AAB3-319D688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B71-49C0-4AA1-8A43-4284FA95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C34-C2B6-462E-8205-9A0E127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865-E74E-41EE-AE16-3E5A0EF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A43-6CB4-4399-A462-6BDFC43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A82-1D6E-4158-A4CC-4DB8FF2B2B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EF1-E73B-47A0-B35B-A53C692A6E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799-3E75-45A7-A29E-E4D30E27FE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C89-A462-431E-A519-84A22A782B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57080" y="3718080"/>
            <a:ext cx="345600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 ученик 10-А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дней школы №1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лецкий Макс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333360"/>
            <a:ext cx="8353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резентация на те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«Современные процессоры Intel и AMD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особенности: 3Dnow, enhanced 3Dnow, SSE, SSE2, SSE3, SSE4a, ABM, 57 команд MMX, EVP (Enhanced Virus Protection или Execute Disable Bit), AMD Virtualization Techn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: 4000 МГ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мальная температура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4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физических ядра могут обрабатывать два потока команд одновременно. В этом случае одноядерные уступают двухъяд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этому, исходя из всего, что было изложено в презентации, я советую покупать компьютер с двухъядерным процес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писок использованной литератур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73436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aster-hard.com/?p=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nix.ru/autocatalog/amd/CPU_AMD_ATHLON_X2_BOX_ADX250O_3.0_4000_Socket_AM3_7547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intel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отите верьте – хотите нет, но скоростной Core i7 из новой линейки Intel содержит архитектуру DNA, которой уже более трех десятков лет! То же самое можно сказать и про новый Phenom II X4 от AMD. Фактически, это все тот же «долгожитель» - микропроцессорная архитектура x86, которая доминировала в настольных и мобильных системах еще до рождения многих из ныне читающих эту статью и, скорее всего, останется доминирующей еще долгие год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рхитектура х86 была изобретена в Intel в 1978 году. Шли годы, архитектура развивалась, становилась не только быстрее, но и гибче, и с каждым релизом приобретала все более широкий набор встроенных инструкций. Это триумфальное шествие длится уже свыше 30 лет – срок вполне солидный. Самое время остановиться и вспомнить хотя бы самые популярные процессоры на основе x86, которые вышли в свет за этот пери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524720" cy="2395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84360" y="260280"/>
            <a:ext cx="54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Vladimir Script"/>
              </a:rPr>
              <a:t>Краткая история процессор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Vladimir Script"/>
              <a:ea typeface="Vladimir Script"/>
            </a:endParaRPr>
          </a:p>
        </p:txBody>
      </p:sp>
    </p:spTree>
  </p:cSld>
  <p:transition spd="med" advTm="5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 rot="5400000">
            <a:off x="-2383920" y="3039120"/>
            <a:ext cx="612000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родители  Intel  и  AM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2212920" cy="1550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300720" y="4762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 rot="21247200">
            <a:off x="1187280" y="3933360"/>
            <a:ext cx="2087640" cy="2049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258920" y="476280"/>
            <a:ext cx="2232000" cy="1822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3635280" y="4005360"/>
            <a:ext cx="1944720" cy="1884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rcRect l="2616" t="0" r="0" b="0"/>
          <a:stretch/>
        </p:blipFill>
        <p:spPr>
          <a:xfrm rot="773400">
            <a:off x="6012000" y="4292280"/>
            <a:ext cx="2663640" cy="1473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16000" y="256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5280" y="23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0072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61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4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55640" y="18900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временные процесс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егодняшний день лидерами ры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оров являются компани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2808360" cy="189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1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е процессоры, которые выпустила компания, так называемые процессоры второго поколения, это Intel Core i3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35280" y="260280"/>
            <a:ext cx="52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448000" cy="142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360" y="5229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-990X Extreme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180000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59280" y="5229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1872000" cy="1249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19640" y="515772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655640" cy="1198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236000" y="508464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4604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вычислительных пот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кэш-памя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Intel Turbo Boost 2.0 и Intel Hyper-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работать в фоновом режи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е решение Intel HD Graphics 2000 обеспечивает высокое качество графики, устраняет необходимость использования отдельной видеокарты и снижает энэргозатр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Intel HTΔ позволяет каждому ядру процессора выполнять две задачи одноврем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el Smart Cache — общая кэш-память динамически распределяется между ядрами процессора в зависимости от нагрузки, значительно ускоряя работу и повышая производ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1280" y="333360"/>
            <a:ext cx="72738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характеристики процессора Inte Core i7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Линейка процессоров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65964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henom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Athlon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Sempron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е качество изображения - процессор AMD Phenom II позволяет просматривать цифровые медиафайлы, играть и создавать контент в высоком разреш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ая совместимость процессоров AMD Pheno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графических адаптеров ATI Rade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- благодаря четырехъядерной архитектуре следующего поколения они могут справляться даже с наиболее требовательными к ресурсам задачами; позволяют проектиров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роизводительность по доступной це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ценная функциональность для расширения вычислите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AMD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Hyper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33:47Z</dcterms:created>
  <dc:creator>Af</dc:creator>
  <dc:description/>
  <dc:language>en-US</dc:language>
  <cp:lastModifiedBy>Af</cp:lastModifiedBy>
  <dcterms:modified xsi:type="dcterms:W3CDTF">2011-10-31T20:12:32Z</dcterms:modified>
  <cp:revision>14</cp:revision>
  <dc:subject/>
  <dc:title>Презентация на тему «История и развитие процессоров»</dc:title>
</cp:coreProperties>
</file>