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DAB4-C742-4FDB-B731-F7A1DC10BF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толе у учащихся лежат берёзовые листочки, которые вырезаны из цветной бума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е задание:  напишите, пожалуйста, какие ассоциации у вас возникают,  когда вы смотрите на эту дорогую нашему сердцу берёз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доске берёза без листьев. После прочтения своих миниатюр, учащиеся прикрепляют к березё свои листоч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47AA-9D2E-438D-92E5-24A299FCF5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Н. М. Рубцову в Тотьме (скульптор В. М. Клыков), мемориальная доска на улице Н. Рубцова в Вологде, памятник Н. М. Рубцову в Вологде (скульптор А. М. Шебун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B45A-96BF-4141-9A81-D6AF753FD7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был четвёртым ребёнком в семье начальника отдела рабочего снабжения леспромхоза Михаила Андрияновича и Александры Михайловны Рубцовых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64C9-5693-4689-A613-CFBAA924F8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младшим братишкой Колю поместили в сельский детский приют, но этот приют разбомбили фашисты. Дети с молоденькой воспитательницей верст ночью по осенним хлябям добирались в другой детский дом, в селе Никольское на Вологодчине. Оно стало малой родиной, где Коля провел семь детдомовских лет – и горьких, и счастливых. Сюда его тянуло после дальних стран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5CD7-6F25-4128-8183-7A0B611C3B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лужбе он впервые опубликовал свои стихи. После армии Рубцов приехал в Ленинград, к старшему брату и устроился работать на Кировский (Путиловский) завод. Николай начал наверстывать упущенное. Сдал экзамены экстерном за десятилетку. Через литерную объединение завода печатал стихи в ленинградских газ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2283-2C08-4394-ABED-A3FAE4015A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цов переехал в Москву. Но из-за сложившихся обстоятельств после второго курса он перевелся на заочное отделение и уехал в Вологду. Уже через год у него вышла первая поэтическая книжка в Архангельске и вторая «Звезда полей» - уже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0AD5-88AD-41CD-B76E-C28D8724F3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хи Рубцов пытался писать еще в детстве.  «Особенно люблю темы родины и скитаний, жизни и смерти, любви и удали. Думаю, что стихи сильны и долговечны тогда, когда они идут через личное, через частное, но при этом нужна масштабность и жизненная характерность настроений, переживаний, размышлени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E7FC-31F1-46D9-8B68-2CFBD983C1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ема нашего урока. Мы познакомимся с произведением и раскроем его идею и смыс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ушайте произведение в исполнении Александра Матюх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1409-9AC1-4ED1-803B-EFB07F8DCD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какие воспоминания  пробуждают березы? (вспоминает детство, берёзу над могилой матери, гибель отца на войн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чему при виде берез у поэта набегают слезы? Как поэт сам отвечает на этот вопрос?  (с первых лет я с ними жил и ро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Как вы думаете, что хотел показать поэт, создавая стихотворение?  (Хотел пробудить в наших душах самые сокровенные нежные струны, умение сопереживать, видеть красоту природы, сострадание,  любить свою Родину так, как любил её 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1B6C-6018-4478-8C1E-AE67CC938A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ята, а сейчас у меня просьба – прочитайте еще раз это произведение и я задам вам вопросы, поэтому читайте вдумчи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чем о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ли тема березы затронута в стихотвор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РОДИНЕ….. Найдите слова в тек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ДЕТСТВЕ……Найдите в тек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ГИБЕЛИ ОТЦА…. Найдите в тек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855F-78F8-4D04-B062-E902D3ADA4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D239F-266B-484E-BED9-31DEDB0F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272DA-8F89-4024-A476-3168B9D2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22685-B7AC-4178-89BF-369A4F8E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86527-E48C-4815-98FA-D52AF20B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EEE4C-75A1-4BF1-A631-06C3562A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2FEB4-6009-4EFF-AC54-C2F61861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76E8B-464A-49D7-B0D0-843BFCC8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6E136-1241-4990-AB36-26741E9B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C72EE-1136-420D-B351-1EF11EA9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0A004-7A21-44A3-B6C3-A9326622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B40E8-25F4-4EF3-8BB2-47A16CD4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1819F-4DB8-48B6-8725-6392B4DA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ttp://s018.radikal.ru/i518/1204/d1/07ff67807dd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17EE-3257-4036-9C77-5F37C48B69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lenagold.narod.ru/fon/clipart/l/list/zel/list18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0xff.pro/fp/119635f83de64a069609b44187fac62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Николай Михайлович Рубцов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«Берёзы»</a:t>
            </a: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 класс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«Начальная школа ХХ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I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http://www.abc-color.com/image/coloring/leaves/002/birch-leaf/birch-leaf-picture-color.png"/>
          <p:cNvPicPr/>
          <p:nvPr/>
        </p:nvPicPr>
        <p:blipFill>
          <a:blip r:embed="rId1"/>
          <a:stretch/>
        </p:blipFill>
        <p:spPr>
          <a:xfrm rot="6524400">
            <a:off x="1359360" y="-1116720"/>
            <a:ext cx="6062760" cy="10436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Творческое</a:t>
            </a: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Заголовок 1"/>
          <p:cNvSpPr/>
          <p:nvPr/>
        </p:nvSpPr>
        <p:spPr>
          <a:xfrm>
            <a:off x="1981080" y="3276720"/>
            <a:ext cx="39625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ассоциации у вас возникают,  когда вы смотрите на эту дорогую нашему сердцу берёзу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http://www.booksite.ru/rubtsov/photo/monument/6.jpg"/>
          <p:cNvPicPr/>
          <p:nvPr/>
        </p:nvPicPr>
        <p:blipFill>
          <a:blip r:embed="rId1"/>
          <a:stretch/>
        </p:blipFill>
        <p:spPr>
          <a:xfrm>
            <a:off x="5486400" y="1066680"/>
            <a:ext cx="3371760" cy="426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http://www.booksite.ru/rubtsov/photo/monument/1.gif"/>
          <p:cNvPicPr/>
          <p:nvPr/>
        </p:nvPicPr>
        <p:blipFill>
          <a:blip r:embed="rId2"/>
          <a:stretch/>
        </p:blipFill>
        <p:spPr>
          <a:xfrm>
            <a:off x="2743200" y="3657600"/>
            <a:ext cx="3232080" cy="3200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http://www.booksite.ru/rubtsov/photo/monument/8.jpg"/>
          <p:cNvPicPr/>
          <p:nvPr/>
        </p:nvPicPr>
        <p:blipFill>
          <a:blip r:embed="rId3"/>
          <a:stretch/>
        </p:blipFill>
        <p:spPr>
          <a:xfrm>
            <a:off x="457200" y="1066680"/>
            <a:ext cx="269568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Памятники Н.М.Рубцо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тернет-ссыл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0xff.pro/fp/119635f83de64a069609b44187fac620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762120" y="1905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novy.tv/forum/viewtopic.php?f=37&amp;start=495&amp;t=1709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фотографии Н.М.Рубц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762120" y="282888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aktinoya.ru/index.php?Itemid=130&amp;catid=90:2013-03-11-13-55-31&amp;id=104:2011-10-31-02-30-27&amp;option=com_content&amp;view=articl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биография Рубц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6"/>
          <p:cNvSpPr/>
          <p:nvPr/>
        </p:nvSpPr>
        <p:spPr>
          <a:xfrm>
            <a:off x="762120" y="4343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ooksite.ru/rubtsov/photo/monument/index.ht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амятники Н.М.Рубц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7"/>
          <p:cNvSpPr/>
          <p:nvPr/>
        </p:nvSpPr>
        <p:spPr>
          <a:xfrm>
            <a:off x="838080" y="5257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ooksite.ru/rubtsov/music.ht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писи песни «Берёзы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Рубцов Н.М."/>
          <p:cNvPicPr/>
          <p:nvPr/>
        </p:nvPicPr>
        <p:blipFill>
          <a:blip r:embed="rId2"/>
          <a:stretch/>
        </p:blipFill>
        <p:spPr>
          <a:xfrm>
            <a:off x="685800" y="1676520"/>
            <a:ext cx="2971800" cy="4152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Николай Михайлович         Руб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62520" y="2438280"/>
            <a:ext cx="4495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лся 3 января 1936 года в селе Емецк Архангельской области на Северной Дви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Николай Михайлович         Руб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962520" y="2361960"/>
            <a:ext cx="44193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му едва исполнилось пять лет, когда ушел на фронт отец. Вскоре тяжело заболела и умерла мать.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http://www.booksite.ru/rubtsov/photo/child/_4.jpg"/>
          <p:cNvPicPr/>
          <p:nvPr/>
        </p:nvPicPr>
        <p:blipFill>
          <a:blip r:embed="rId1"/>
          <a:stretch/>
        </p:blipFill>
        <p:spPr>
          <a:xfrm>
            <a:off x="762120" y="1523880"/>
            <a:ext cx="2838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Николай Михайлович         Руб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9880" y="2057400"/>
            <a:ext cx="4572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е окончания семилетки Коля поступил в лесотехнический техникум Тотьмы, хотя он мечтал о море, но в мореходное училище его не приняли. Его мечта осуществилась, когда Николая призвали в армию, где он отслужил в Морфлоте четыре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http://rubtsov.id.ru/photo/photo34.jpg"/>
          <p:cNvPicPr/>
          <p:nvPr/>
        </p:nvPicPr>
        <p:blipFill>
          <a:blip r:embed="rId1"/>
          <a:stretch/>
        </p:blipFill>
        <p:spPr>
          <a:xfrm>
            <a:off x="685800" y="1828800"/>
            <a:ext cx="2895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Николай Михайлович         Руб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429000" y="2057400"/>
            <a:ext cx="5029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творческий конкурс в Литературный институт Николай представил самодельную книжку «Волна и скалы», в которую вошло 38 стихотворений. И хотя он опоздал на вступительные экзамены, его зачислили на первый курс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Изображение"/>
          <p:cNvPicPr/>
          <p:nvPr/>
        </p:nvPicPr>
        <p:blipFill>
          <a:blip r:embed="rId1"/>
          <a:stretch/>
        </p:blipFill>
        <p:spPr>
          <a:xfrm>
            <a:off x="533520" y="1676520"/>
            <a:ext cx="266688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Николай Михайлович         Руб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876920" y="2057400"/>
            <a:ext cx="3581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детская память навсегда сохранила дивное разноцветье, непередаваемую пестроту и пьянящие запахи трав на неохватном емецком лугу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http://img3.proshkolu.ru/content/media/pic/std/1000000/967000/966207-a7ad5c647561be32.jpg"/>
          <p:cNvPicPr/>
          <p:nvPr/>
        </p:nvPicPr>
        <p:blipFill>
          <a:blip r:embed="rId1"/>
          <a:stretch/>
        </p:blipFill>
        <p:spPr>
          <a:xfrm>
            <a:off x="380880" y="2209680"/>
            <a:ext cx="4334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Николай Михайлович         Руб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6705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ркими впечатлениями, которые запали в душу маленького Николая, были простые русские берёзки под его окном. Берёза у Рубцова – символ связи времён, символ родного дома. Так и появилось стихотворение  «Берёзы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2 Track 22.mp3" descr=""/>
          <p:cNvPicPr/>
          <p:nvPr/>
        </p:nvPicPr>
        <p:blipFill>
          <a:blip r:embed="rId1"/>
          <a:stretch/>
        </p:blipFill>
        <p:spPr>
          <a:xfrm>
            <a:off x="7696080" y="4952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2053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1237680" y="1219320"/>
            <a:ext cx="60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чувства хотел передать поэ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1219320" y="21337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оспоминания  пробуждают берёз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1295280" y="2971800"/>
            <a:ext cx="701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при виде берёз у поэта набегают слёзы? Как поэт сам отвечает на этот вопро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8"/>
          <p:cNvSpPr/>
          <p:nvPr/>
        </p:nvSpPr>
        <p:spPr>
          <a:xfrm>
            <a:off x="1295280" y="441972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что хотел показать поэт, создавая стихотвор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Какие темы затронуты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 произведен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835920" y="2666880"/>
            <a:ext cx="23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5"/>
          <p:cNvSpPr/>
          <p:nvPr/>
        </p:nvSpPr>
        <p:spPr>
          <a:xfrm>
            <a:off x="2900160" y="3581280"/>
            <a:ext cx="253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ЕТ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5117400" y="2666880"/>
            <a:ext cx="36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ГИБЕЛИ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2446920" y="4572000"/>
            <a:ext cx="42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слова в тек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1:27:22Z</dcterms:created>
  <dc:creator>User</dc:creator>
  <dc:description/>
  <dc:language>en-US</dc:language>
  <cp:lastModifiedBy>User</cp:lastModifiedBy>
  <dcterms:modified xsi:type="dcterms:W3CDTF">2014-06-23T07:48:10Z</dcterms:modified>
  <cp:revision>23</cp:revision>
  <dc:subject/>
  <dc:title>Слайд 1</dc:title>
</cp:coreProperties>
</file>