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7C963-2C83-451B-8B61-68AEFCF98B0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толе у учащихся лежат берёзовые листочки, которые вырезаны из цветной бума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орческое задание:  напишите, пожалуйста, какие ассоциации у вас возникают,  когда вы смотрите на эту дорогую нашему сердцу берёз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На доске берёза без листьев. После прочтения своих миниатюр, учащиеся прикрепляют к березё свои листоч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46BB0-3194-4F6D-9673-F55491CB2A8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мятник Н. М. Рубцову в Тотьме (скульптор В. М. Клыков), мемориальная доска на улице Н. Рубцова в Вологде, памятник Н. М. Рубцову в Вологде (скульптор А. М. Шебуни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AEA62-98E2-4854-B677-6D3AC941DA8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н был четвёртым ребёнком в семье начальника отдела рабочего снабжения леспромхоза Михаила Андрияновича и Александры Михайловны Рубцовых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61BF6-8D3E-4CB8-B72F-5F9D6263D1F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месте с младшим братишкой Колю поместили в сельский детский приют, но этот приют разбомбили фашисты. Дети с молоденькой воспитательницей верст ночью по осенним хлябям добирались в другой детский дом, в селе Никольское на Вологодчине. Оно стало малой родиной, где Коля провел семь детдомовских лет – и горьких, и счастливых. Сюда его тянуло после дальних странств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5BEF2-8CCD-40AC-95F5-B45A3FEDBA1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лужбе он впервые опубликовал свои стихи. После армии Рубцов приехал в Ленинград, к старшему брату и устроился работать на Кировский (Путиловский) завод. Николай начал наверстывать упущенное. Сдал экзамены экстерном за десятилетку. Через литерную объединение завода печатал стихи в ленинградских газет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4DCE4-09FB-43CE-9426-DB36C6E4343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бцов переехал в Москву. Но из-за сложившихся обстоятельств после второго курса он перевелся на заочное отделение и уехал в Вологду. Уже через год у него вышла первая поэтическая книжка в Архангельске и вторая «Звезда полей» - уже в Моск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8EA86-6696-441D-86AE-C123EA9B6B7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ихи Рубцов пытался писать еще в детстве.  «Особенно люблю темы родины и скитаний, жизни и смерти, любви и удали. Думаю, что стихи сильны и долговечны тогда, когда они идут через личное, через частное, но при этом нужна масштабность и жизненная характерность настроений, переживаний, размышлений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D605F-7614-487D-85ED-44527ADE2FF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тема нашего урока. Мы познакомимся с произведением и раскроем его идею и смыс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ушайте произведение в исполнении Александра Матюх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7D05C-4A32-4C52-8630-77067536741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 какие воспоминания  пробуждают березы? (вспоминает детство, берёзу над могилой матери, гибель отца на войн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чему при виде берез у поэта набегают слезы? Как поэт сам отвечает на этот вопрос?  (с первых лет я с ними жил и ро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Как вы думаете, что хотел показать поэт, создавая стихотворение?  (Хотел пробудить в наших душах самые сокровенные нежные струны, умение сопереживать, видеть красоту природы, сострадание,  любить свою Родину так, как любил её о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B1F0C-25CE-4D22-8F27-6CD77BE8894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бята, а сейчас у меня просьба – прочитайте еще раз это произведение и я задам вам вопросы, поэтому читайте вдумчи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 чем он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лько ли тема березы затронута в стихотворен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 РОДИНЕ….. Найдите слова в текс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 ДЕТСТВЕ……Найдите в текс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 ГИБЕЛИ ОТЦА…. Найдите в текс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E1BCA-931D-4A8E-ACC6-CBE4376D795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7E92DE-CB38-4856-8A3D-563B5B355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979219-B4F1-4358-AA9F-27FA5011C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3DCADC-4F44-48F8-BB0D-38FC20218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A12C44-7A2F-4EB1-B997-532A6501F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98A735-5FEE-4695-85AA-494758DFA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D62A0A-3F35-4834-9345-C042E8A45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00460D-10A2-4F1E-817C-D999DC953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49CC2D-E6B5-4927-98C4-45155CAF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C1BC0E-B7FC-427E-B28B-9D7DFB0F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2E9F6E-EED3-47CE-BA32-EE0EC1B4F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C045DD-0E8C-453D-9E96-F835ED8C0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066CAD-DF85-4ED9-8DD9-02856D9D0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http://s018.radikal.ru/i518/1204/d1/07ff67807ddf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838080" y="6356520"/>
            <a:ext cx="7925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укяненко Э.А., учитель начальных классов МКОУ СОШ № 256 ЗАТО  г.Фокино Приморского кр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Лукяненко Э.А., учитель начальных классов МКОУ СОШ № 256 ЗАТО  г.Фокино Приморского кр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BBA9E-AAB7-4425-A7F1-49620AF0BE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http://lenagold.narod.ru/fon/clipart/l/list/zel/list185.png"/>
          <p:cNvPicPr/>
          <p:nvPr/>
        </p:nvPicPr>
        <p:blipFill>
          <a:blip r:embed="rId2"/>
          <a:stretch/>
        </p:blipFill>
        <p:spPr>
          <a:xfrm>
            <a:off x="0" y="0"/>
            <a:ext cx="9144000" cy="2362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0xff.pro/fp/119635f83de64a069609b44187fac620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2057040"/>
            <a:ext cx="83822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Arial"/>
                <a:ea typeface="Arial"/>
              </a:rPr>
              <a:t>Николай Михайлович Рубцов</a:t>
            </a:r>
            <a:br>
              <a:rPr sz="4400"/>
            </a:br>
            <a:r>
              <a:rPr b="0" lang="ru-RU" sz="4400" spc="-1" strike="noStrike">
                <a:solidFill>
                  <a:srgbClr val="002060"/>
                </a:solidFill>
                <a:latin typeface="Arial"/>
                <a:ea typeface="Arial"/>
              </a:rPr>
              <a:t>«Берёзы»</a:t>
            </a:r>
            <a:br>
              <a:rPr sz="4400"/>
            </a:br>
            <a:br>
              <a:rPr sz="4400"/>
            </a:b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4 класс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«Начальная школа ХХ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Arial"/>
              </a:rPr>
              <a:t>I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век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Нижний колонтитул 3"/>
          <p:cNvSpPr/>
          <p:nvPr/>
        </p:nvSpPr>
        <p:spPr>
          <a:xfrm>
            <a:off x="838080" y="6356520"/>
            <a:ext cx="792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укяненко Э.А., учитель начальных классов МКОУ СОШ № 256 ЗАТО  г.Фокино Приморского кр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http://www.abc-color.com/image/coloring/leaves/002/birch-leaf/birch-leaf-picture-color.png"/>
          <p:cNvPicPr/>
          <p:nvPr/>
        </p:nvPicPr>
        <p:blipFill>
          <a:blip r:embed="rId1"/>
          <a:stretch/>
        </p:blipFill>
        <p:spPr>
          <a:xfrm rot="6524400">
            <a:off x="1359360" y="-1116720"/>
            <a:ext cx="6062760" cy="104360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Arial"/>
                <a:ea typeface="Arial"/>
              </a:rPr>
              <a:t>Творческое</a:t>
            </a:r>
            <a:r>
              <a:rPr b="1" i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ru-RU" sz="4400" spc="-1" strike="noStrike">
                <a:solidFill>
                  <a:srgbClr val="002060"/>
                </a:solidFill>
                <a:latin typeface="Arial"/>
                <a:ea typeface="Arial"/>
              </a:rPr>
              <a:t>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ижний колонтитул 3"/>
          <p:cNvSpPr/>
          <p:nvPr/>
        </p:nvSpPr>
        <p:spPr>
          <a:xfrm>
            <a:off x="838080" y="6356520"/>
            <a:ext cx="792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укяненко Э.А., учитель начальных классов МКОУ СОШ № 256 ЗАТО  г.Фокино Приморского кр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Заголовок 1"/>
          <p:cNvSpPr/>
          <p:nvPr/>
        </p:nvSpPr>
        <p:spPr>
          <a:xfrm>
            <a:off x="1981080" y="3276720"/>
            <a:ext cx="39625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ие ассоциации у вас возникают,  когда вы смотрите на эту дорогую нашему сердцу берёзу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0" descr="http://www.booksite.ru/rubtsov/photo/monument/6.jpg"/>
          <p:cNvPicPr/>
          <p:nvPr/>
        </p:nvPicPr>
        <p:blipFill>
          <a:blip r:embed="rId1"/>
          <a:stretch/>
        </p:blipFill>
        <p:spPr>
          <a:xfrm>
            <a:off x="5486400" y="1066680"/>
            <a:ext cx="3371760" cy="4267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http://www.booksite.ru/rubtsov/photo/monument/1.gif"/>
          <p:cNvPicPr/>
          <p:nvPr/>
        </p:nvPicPr>
        <p:blipFill>
          <a:blip r:embed="rId2"/>
          <a:stretch/>
        </p:blipFill>
        <p:spPr>
          <a:xfrm>
            <a:off x="2743200" y="3657600"/>
            <a:ext cx="3232080" cy="32004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http://www.booksite.ru/rubtsov/photo/monument/8.jpg"/>
          <p:cNvPicPr/>
          <p:nvPr/>
        </p:nvPicPr>
        <p:blipFill>
          <a:blip r:embed="rId3"/>
          <a:stretch/>
        </p:blipFill>
        <p:spPr>
          <a:xfrm>
            <a:off x="457200" y="1066680"/>
            <a:ext cx="2695680" cy="41148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Arial"/>
                <a:ea typeface="Arial"/>
              </a:rPr>
              <a:t>Памятники Н.М.Рубцов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ижний колонтитул 3"/>
          <p:cNvSpPr/>
          <p:nvPr/>
        </p:nvSpPr>
        <p:spPr>
          <a:xfrm>
            <a:off x="838080" y="6356520"/>
            <a:ext cx="792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укяненко Э.А., учитель начальных классов МКОУ СОШ № 256 ЗАТО  г.Фокино Приморского кр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нтернет-ссылки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://0xff.pro/fp/119635f83de64a069609b44187fac620</a:t>
            </a:r>
            <a:r>
              <a:rPr b="0" lang="ru-RU" sz="2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он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ижний колонтитул 3"/>
          <p:cNvSpPr/>
          <p:nvPr/>
        </p:nvSpPr>
        <p:spPr>
          <a:xfrm>
            <a:off x="838080" y="6356520"/>
            <a:ext cx="792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укяненко Э.А., учитель начальных классов МКОУ СОШ № 256 ЗАТО  г.Фокино Приморского кр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4"/>
          <p:cNvSpPr/>
          <p:nvPr/>
        </p:nvSpPr>
        <p:spPr>
          <a:xfrm>
            <a:off x="762120" y="19051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www.novy.tv/forum/viewtopic.php?f=37&amp;start=495&amp;t=17094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фотографии Н.М.Рубц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5"/>
          <p:cNvSpPr/>
          <p:nvPr/>
        </p:nvSpPr>
        <p:spPr>
          <a:xfrm>
            <a:off x="762120" y="2828880"/>
            <a:ext cx="761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aktinoya.ru/index.php?Itemid=130&amp;catid=90:2013-03-11-13-55-31&amp;id=104:2011-10-31-02-30-27&amp;option=com_content&amp;view=article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биография Рубц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6"/>
          <p:cNvSpPr/>
          <p:nvPr/>
        </p:nvSpPr>
        <p:spPr>
          <a:xfrm>
            <a:off x="762120" y="434340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booksite.ru/rubtsov/photo/monument/index.ht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памятники Н.М.Рубцо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7"/>
          <p:cNvSpPr/>
          <p:nvPr/>
        </p:nvSpPr>
        <p:spPr>
          <a:xfrm>
            <a:off x="838080" y="52578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booksite.ru/rubtsov/music.ht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записи песни «Берёзы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Рубцов Н.М."/>
          <p:cNvPicPr/>
          <p:nvPr/>
        </p:nvPicPr>
        <p:blipFill>
          <a:blip r:embed="rId2"/>
          <a:stretch/>
        </p:blipFill>
        <p:spPr>
          <a:xfrm>
            <a:off x="685800" y="1676520"/>
            <a:ext cx="2971800" cy="41529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Arial"/>
                <a:ea typeface="Arial"/>
              </a:rPr>
              <a:t>Николай Михайлович         Рубц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962520" y="2438280"/>
            <a:ext cx="44956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одился 3 января 1936 года в селе Емецк Архангельской области на Северной Двин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Нижний колонтитул 3"/>
          <p:cNvSpPr/>
          <p:nvPr/>
        </p:nvSpPr>
        <p:spPr>
          <a:xfrm>
            <a:off x="838080" y="6356520"/>
            <a:ext cx="792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укяненко Э.А., учитель начальных классов МКОУ СОШ № 256 ЗАТО  г.Фокино Приморского кр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Arial"/>
                <a:ea typeface="Arial"/>
              </a:rPr>
              <a:t>Николай Михайлович         Рубц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3962520" y="2361960"/>
            <a:ext cx="441936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му едва исполнилось пять лет, когда ушел на фронт отец. Вскоре тяжело заболела и умерла мать.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Нижний колонтитул 3"/>
          <p:cNvSpPr/>
          <p:nvPr/>
        </p:nvSpPr>
        <p:spPr>
          <a:xfrm>
            <a:off x="838080" y="6356520"/>
            <a:ext cx="792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укяненко Э.А., учитель начальных классов МКОУ СОШ № 256 ЗАТО  г.Фокино Приморского кр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http://www.booksite.ru/rubtsov/photo/child/_4.jpg"/>
          <p:cNvPicPr/>
          <p:nvPr/>
        </p:nvPicPr>
        <p:blipFill>
          <a:blip r:embed="rId1"/>
          <a:stretch/>
        </p:blipFill>
        <p:spPr>
          <a:xfrm>
            <a:off x="762120" y="1523880"/>
            <a:ext cx="28382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Arial"/>
                <a:ea typeface="Arial"/>
              </a:rPr>
              <a:t>Николай Михайлович         Рубц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809880" y="2057400"/>
            <a:ext cx="4572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сле окончания семилетки Коля поступил в лесотехнический техникум Тотьмы, хотя он мечтал о море, но в мореходное училище его не приняли. Его мечта осуществилась, когда Николая призвали в армию, где он отслужил в Морфлоте четыре го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ижний колонтитул 3"/>
          <p:cNvSpPr/>
          <p:nvPr/>
        </p:nvSpPr>
        <p:spPr>
          <a:xfrm>
            <a:off x="838080" y="6356520"/>
            <a:ext cx="792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укяненко Э.А., учитель начальных классов МКОУ СОШ № 256 ЗАТО  г.Фокино Приморского кр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http://rubtsov.id.ru/photo/photo34.jpg"/>
          <p:cNvPicPr/>
          <p:nvPr/>
        </p:nvPicPr>
        <p:blipFill>
          <a:blip r:embed="rId1"/>
          <a:stretch/>
        </p:blipFill>
        <p:spPr>
          <a:xfrm>
            <a:off x="685800" y="1828800"/>
            <a:ext cx="28954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Arial"/>
                <a:ea typeface="Arial"/>
              </a:rPr>
              <a:t>Николай Михайлович         Рубц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3429000" y="2057400"/>
            <a:ext cx="50292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творческий конкурс в Литературный институт Николай представил самодельную книжку «Волна и скалы», в которую вошло 38 стихотворений. И хотя он опоздал на вступительные экзамены, его зачислили на первый курс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Нижний колонтитул 3"/>
          <p:cNvSpPr/>
          <p:nvPr/>
        </p:nvSpPr>
        <p:spPr>
          <a:xfrm>
            <a:off x="838080" y="6356520"/>
            <a:ext cx="792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укяненко Э.А., учитель начальных классов МКОУ СОШ № 256 ЗАТО  г.Фокино Приморского кр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Изображение"/>
          <p:cNvPicPr/>
          <p:nvPr/>
        </p:nvPicPr>
        <p:blipFill>
          <a:blip r:embed="rId1"/>
          <a:stretch/>
        </p:blipFill>
        <p:spPr>
          <a:xfrm>
            <a:off x="533520" y="1676520"/>
            <a:ext cx="2666880" cy="36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Arial"/>
                <a:ea typeface="Arial"/>
              </a:rPr>
              <a:t>Николай Михайлович         Рубц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876920" y="2057400"/>
            <a:ext cx="35812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рая детская память навсегда сохранила дивное разноцветье, непередаваемую пестроту и пьянящие запахи трав на неохватном емецком лугу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Нижний колонтитул 3"/>
          <p:cNvSpPr/>
          <p:nvPr/>
        </p:nvSpPr>
        <p:spPr>
          <a:xfrm>
            <a:off x="838080" y="6356520"/>
            <a:ext cx="792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укяненко Э.А., учитель начальных классов МКОУ СОШ № 256 ЗАТО  г.Фокино Приморского кр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http://img3.proshkolu.ru/content/media/pic/std/1000000/967000/966207-a7ad5c647561be32.jpg"/>
          <p:cNvPicPr/>
          <p:nvPr/>
        </p:nvPicPr>
        <p:blipFill>
          <a:blip r:embed="rId1"/>
          <a:stretch/>
        </p:blipFill>
        <p:spPr>
          <a:xfrm>
            <a:off x="380880" y="2209680"/>
            <a:ext cx="43340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Arial"/>
                <a:ea typeface="Arial"/>
              </a:rPr>
              <a:t>Николай Михайлович         Рубц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670536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Яркими впечатлениями, которые запали в душу маленького Николая, были простые русские берёзки под его окном. Берёза у Рубцова – символ связи времён, символ родного дома. Так и появилось стихотворение  «Берёзы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ижний колонтитул 3"/>
          <p:cNvSpPr/>
          <p:nvPr/>
        </p:nvSpPr>
        <p:spPr>
          <a:xfrm>
            <a:off x="838080" y="6356520"/>
            <a:ext cx="792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укяненко Э.А., учитель начальных классов МКОУ СОШ № 256 ЗАТО  г.Фокино Приморского кр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22 Track 22.mp3" descr=""/>
          <p:cNvPicPr/>
          <p:nvPr/>
        </p:nvPicPr>
        <p:blipFill>
          <a:blip r:embed="rId1"/>
          <a:stretch/>
        </p:blipFill>
        <p:spPr>
          <a:xfrm>
            <a:off x="7696080" y="4952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" dur="120535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Нижний колонтитул 3"/>
          <p:cNvSpPr/>
          <p:nvPr/>
        </p:nvSpPr>
        <p:spPr>
          <a:xfrm>
            <a:off x="838080" y="6356520"/>
            <a:ext cx="792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укяненко Э.А., учитель начальных классов МКОУ СОШ № 256 ЗАТО  г.Фокино Приморского кр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5"/>
          <p:cNvSpPr/>
          <p:nvPr/>
        </p:nvSpPr>
        <p:spPr>
          <a:xfrm>
            <a:off x="1237680" y="1219320"/>
            <a:ext cx="60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чувства хотел передать поэ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6"/>
          <p:cNvSpPr/>
          <p:nvPr/>
        </p:nvSpPr>
        <p:spPr>
          <a:xfrm>
            <a:off x="1219320" y="2133720"/>
            <a:ext cx="73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воспоминания  пробуждают берёзы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7"/>
          <p:cNvSpPr/>
          <p:nvPr/>
        </p:nvSpPr>
        <p:spPr>
          <a:xfrm>
            <a:off x="1295280" y="2971800"/>
            <a:ext cx="7010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при виде берёз у поэта набегают слёзы? Как поэт сам отвечает на этот вопрос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8"/>
          <p:cNvSpPr/>
          <p:nvPr/>
        </p:nvSpPr>
        <p:spPr>
          <a:xfrm>
            <a:off x="1295280" y="4419720"/>
            <a:ext cx="723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вы думаете, что хотел показать поэт, создавая стихотвор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914040"/>
            <a:ext cx="8915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Какие темы затронуты </a:t>
            </a:r>
            <a:br>
              <a:rPr sz="3200"/>
            </a:br>
            <a:r>
              <a:rPr b="1" i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в произведени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ижний колонтитул 3"/>
          <p:cNvSpPr/>
          <p:nvPr/>
        </p:nvSpPr>
        <p:spPr>
          <a:xfrm>
            <a:off x="838080" y="6356520"/>
            <a:ext cx="792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укяненко Э.А., учитель начальных классов МКОУ СОШ № 256 ЗАТО  г.Фокино Приморского кр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4"/>
          <p:cNvSpPr/>
          <p:nvPr/>
        </p:nvSpPr>
        <p:spPr>
          <a:xfrm>
            <a:off x="835920" y="2666880"/>
            <a:ext cx="235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РОД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5"/>
          <p:cNvSpPr/>
          <p:nvPr/>
        </p:nvSpPr>
        <p:spPr>
          <a:xfrm>
            <a:off x="2900160" y="3581280"/>
            <a:ext cx="253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ДЕТСТ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6"/>
          <p:cNvSpPr/>
          <p:nvPr/>
        </p:nvSpPr>
        <p:spPr>
          <a:xfrm>
            <a:off x="5117400" y="2666880"/>
            <a:ext cx="363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ГИБЕЛИ ОТ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7"/>
          <p:cNvSpPr/>
          <p:nvPr/>
        </p:nvSpPr>
        <p:spPr>
          <a:xfrm>
            <a:off x="2446920" y="4572000"/>
            <a:ext cx="421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слова в тек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23T01:27:22Z</dcterms:created>
  <dc:creator>User</dc:creator>
  <dc:description/>
  <dc:language>en-US</dc:language>
  <cp:lastModifiedBy>User</cp:lastModifiedBy>
  <dcterms:modified xsi:type="dcterms:W3CDTF">2014-06-23T07:48:10Z</dcterms:modified>
  <cp:revision>23</cp:revision>
  <dc:subject/>
  <dc:title>Слайд 1</dc:title>
</cp:coreProperties>
</file>