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A11F-1292-4882-A0A8-67BE8017A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оле у учащихся лежат берёзовые листочки, которые вырезаны из цветной бума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задание:  напишите, пожалуйста, какие ассоциации у вас возникают,  когда вы смотрите на эту дорогую нашему сердцу берёз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доске берёза без листьев. После прочтения своих миниатюр, учащиеся прикрепляют к березё свои листоч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D154-5A35-4ED6-AA7F-B0BEF0F059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Н. М. Рубцову в Тотьме (скульптор В. М. Клыков), мемориальная доска на улице Н. Рубцова в Вологде, памятник Н. М. Рубцову в Вологде (скульптор А. М. Шебун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1BA-D86F-485D-A36B-73A320489A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был четвёртым ребёнком в семье начальника отдела рабочего снабжения леспромхоза Михаила Андрияновича и Александры Михайловны Рубцовых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2220-6506-47CE-8B0D-0409F38839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младшим братишкой Колю поместили в сельский детский приют, но этот приют разбомбили фашисты. Дети с молоденькой воспитательницей верст ночью по осенним хлябям добирались в другой детский дом, в селе Никольское на Вологодчине. Оно стало малой родиной, где Коля провел семь детдомовских лет – и горьких, и счастливых. Сюда его тянуло после дальних стран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A03D-DD48-418A-81D3-F916B63FE3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лужбе он впервые опубликовал свои стихи. После армии Рубцов приехал в Ленинград, к старшему брату и устроился работать на Кировский (Путиловский) завод. Николай начал наверстывать упущенное. Сдал экзамены экстерном за десятилетку. Через литерную объединение завода печатал стихи в ленинградских газ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FFF8-C67F-4FD0-80E0-82B68E8B3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цов переехал в Москву. Но из-за сложившихся обстоятельств после второго курса он перевелся на заочное отделение и уехал в Вологду. Уже через год у него вышла первая поэтическая книжка в Архангельске и вторая «Звезда полей» - уж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3779-33C6-488B-9D72-3CDEE80FC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хи Рубцов пытался писать еще в детстве.  «Особенно люблю темы родины и скитаний, жизни и смерти, любви и удали. Думаю, что стихи сильны и долговечны тогда, когда они идут через личное, через частное, но при этом нужна масштабность и жизненная характерность настроений, переживаний, размышлен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DB2D-7108-4586-A465-EE415AB9A8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ма нашего урока. Мы познакомимся с произведением и раскроем его идею и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ушайте произведение в исполнении Александра Матюх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FFCD-288E-46A7-9BC0-F87146C58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какие воспоминания  пробуждают березы? (вспоминает детство, берёзу над могилой матери, гибель отца на вой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чему при виде берез у поэта набегают слезы? Как поэт сам отвечает на этот вопрос?  (с первых лет я с ними жил и р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Как вы думаете, что хотел показать поэт, создавая стихотворение?  (Хотел пробудить в наших душах самые сокровенные нежные струны, умение сопереживать, видеть красоту природы, сострадание,  любить свою Родину так, как любил её 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C42-2299-4810-A617-A15231AB36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та, а сейчас у меня просьба – прочитайте еще раз это произведение и я задам вам вопросы, поэтому читайте вдумчи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чем о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ли тема березы затронута в стихотвор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РОДИНЕ….. Найдите слова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ДЕТСТВЕ……Найдите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ГИБЕЛИ ОТЦА…. Найдите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DCD-6417-49A5-B56E-1CB39827E7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9D438-9AEF-46AB-A9C0-DF797BB0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23677-E2AD-4952-9F95-ED8ECBF1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277B5-F146-4585-991B-4DB01979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BB392-FA38-4BE1-99B8-6FF05C9B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809E5-9F01-4372-B598-5FBF3867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219F6-8693-4E2E-9F68-4D6018D2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A2021-509D-4E68-BCF8-393011CF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A61FB-ACD2-4FA9-B098-DBF6FFF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55C40-CD01-450E-9FFE-FD3D4C0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4FC4D-84D2-4F55-A3DC-03D9C148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F05F-9D60-410D-A0DA-0873E109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70C37-EC53-4C0B-B32E-743A699D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s018.radikal.ru/i518/1204/d1/07ff67807dd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E4A7-A86B-4159-ADA6-BECC10737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lenagold.narod.ru/fon/clipart/l/list/zel/list18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0xff.pro/fp/119635f83de64a069609b44187fac62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Рубцов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«Берёзы»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 класс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«Начальная школа ХХ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I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http://www.abc-color.com/image/coloring/leaves/002/birch-leaf/birch-leaf-picture-color.png"/>
          <p:cNvPicPr/>
          <p:nvPr/>
        </p:nvPicPr>
        <p:blipFill>
          <a:blip r:embed="rId1"/>
          <a:stretch/>
        </p:blipFill>
        <p:spPr>
          <a:xfrm rot="6524400">
            <a:off x="1359360" y="-1116720"/>
            <a:ext cx="6062760" cy="1043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Творческое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1981080" y="3276720"/>
            <a:ext cx="396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ассоциации у вас возникают,  когда вы смотрите на эту дорогую нашему сердцу берёзу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http://www.booksite.ru/rubtsov/photo/monument/6.jpg"/>
          <p:cNvPicPr/>
          <p:nvPr/>
        </p:nvPicPr>
        <p:blipFill>
          <a:blip r:embed="rId1"/>
          <a:stretch/>
        </p:blipFill>
        <p:spPr>
          <a:xfrm>
            <a:off x="5486400" y="1066680"/>
            <a:ext cx="3371760" cy="426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booksite.ru/rubtsov/photo/monument/1.gif"/>
          <p:cNvPicPr/>
          <p:nvPr/>
        </p:nvPicPr>
        <p:blipFill>
          <a:blip r:embed="rId2"/>
          <a:stretch/>
        </p:blipFill>
        <p:spPr>
          <a:xfrm>
            <a:off x="2743200" y="3657600"/>
            <a:ext cx="323208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http://www.booksite.ru/rubtsov/photo/monument/8.jpg"/>
          <p:cNvPicPr/>
          <p:nvPr/>
        </p:nvPicPr>
        <p:blipFill>
          <a:blip r:embed="rId3"/>
          <a:stretch/>
        </p:blipFill>
        <p:spPr>
          <a:xfrm>
            <a:off x="457200" y="1066680"/>
            <a:ext cx="269568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амятники Н.М.Рубц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ссыл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0xff.pro/fp/119635f83de64a069609b44187fac620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76212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novy.tv/forum/viewtopic.php?f=37&amp;start=495&amp;t=1709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отографии Н.М.Руб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762120" y="28288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aktinoya.ru/index.php?Itemid=130&amp;catid=90:2013-03-11-13-55-31&amp;id=104:2011-10-31-02-30-27&amp;option=com_content&amp;view=articl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иография Руб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76212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ooksite.ru/rubtsov/photo/monument/index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амятники Н.М.Рубц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83808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ooksite.ru/rubtsov/music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си песни «Берёзы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Рубцов Н.М."/>
          <p:cNvPicPr/>
          <p:nvPr/>
        </p:nvPicPr>
        <p:blipFill>
          <a:blip r:embed="rId2"/>
          <a:stretch/>
        </p:blipFill>
        <p:spPr>
          <a:xfrm>
            <a:off x="685800" y="1676520"/>
            <a:ext cx="297180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62520" y="24382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лся 3 января 1936 года в селе Емецк Архангельской области на Северной Дв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62520" y="2361960"/>
            <a:ext cx="4419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у едва исполнилось пять лет, когда ушел на фронт отец. Вскоре тяжело заболела и умерла мать.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www.booksite.ru/rubtsov/photo/child/_4.jpg"/>
          <p:cNvPicPr/>
          <p:nvPr/>
        </p:nvPicPr>
        <p:blipFill>
          <a:blip r:embed="rId1"/>
          <a:stretch/>
        </p:blipFill>
        <p:spPr>
          <a:xfrm>
            <a:off x="762120" y="1523880"/>
            <a:ext cx="2838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2057400"/>
            <a:ext cx="4572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 окончания семилетки Коля поступил в лесотехнический техникум Тотьмы, хотя он мечтал о море, но в мореходное училище его не приняли. Его мечта осуществилась, когда Николая призвали в армию, где он отслужил в Морфлоте четыре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http://rubtsov.id.ru/photo/photo34.jpg"/>
          <p:cNvPicPr/>
          <p:nvPr/>
        </p:nvPicPr>
        <p:blipFill>
          <a:blip r:embed="rId1"/>
          <a:stretch/>
        </p:blipFill>
        <p:spPr>
          <a:xfrm>
            <a:off x="68580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9000" y="20574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творческий конкурс в Литературный институт Николай представил самодельную книжку «Волна и скалы», в которую вошло 38 стихотворений. И хотя он опоздал на вступительные экзамены, его зачислили на первый курс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Изображение"/>
          <p:cNvPicPr/>
          <p:nvPr/>
        </p:nvPicPr>
        <p:blipFill>
          <a:blip r:embed="rId1"/>
          <a:stretch/>
        </p:blipFill>
        <p:spPr>
          <a:xfrm>
            <a:off x="533520" y="1676520"/>
            <a:ext cx="26668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876920" y="205740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детская память навсегда сохранила дивное разноцветье, непередаваемую пестроту и пьянящие запахи трав на неохватном емецком лугу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http://img3.proshkolu.ru/content/media/pic/std/1000000/967000/966207-a7ad5c647561be32.jpg"/>
          <p:cNvPicPr/>
          <p:nvPr/>
        </p:nvPicPr>
        <p:blipFill>
          <a:blip r:embed="rId1"/>
          <a:stretch/>
        </p:blipFill>
        <p:spPr>
          <a:xfrm>
            <a:off x="380880" y="2209680"/>
            <a:ext cx="433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6705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ркими впечатлениями, которые запали в душу маленького Николая, были простые русские берёзки под его окном. Берёза у Рубцова – символ связи времён, символ родного дома. Так и появилось стихотворение  «Берёзы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2 Track 22.mp3" descr=""/>
          <p:cNvPicPr/>
          <p:nvPr/>
        </p:nvPicPr>
        <p:blipFill>
          <a:blip r:embed="rId1"/>
          <a:stretch/>
        </p:blipFill>
        <p:spPr>
          <a:xfrm>
            <a:off x="7696080" y="4952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20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1237680" y="1219320"/>
            <a:ext cx="60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увства хотел передать поэ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1219320" y="21337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споминания  пробуждают берёз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295280" y="297180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и виде берёз у поэта набегают слёзы? Как поэт сам отвечает на этот во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295280" y="44197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что хотел показать поэт, создавая сти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ие темы затронуты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оизведе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835920" y="266688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2900160" y="358128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Т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5117400" y="2666880"/>
            <a:ext cx="36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ИБЕЛ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2446920" y="45720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лова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1:27:22Z</dcterms:created>
  <dc:creator>User</dc:creator>
  <dc:description/>
  <dc:language>en-US</dc:language>
  <cp:lastModifiedBy>User</cp:lastModifiedBy>
  <dcterms:modified xsi:type="dcterms:W3CDTF">2014-06-23T07:48:10Z</dcterms:modified>
  <cp:revision>23</cp:revision>
  <dc:subject/>
  <dc:title>Слайд 1</dc:title>
</cp:coreProperties>
</file>