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3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90E-4957-48B0-935B-0381412F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CA2-7C54-4F94-8534-E19CFCE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4F3-C4C9-4917-B33D-9208ADB1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B5A-BC31-4FFA-AE67-FF589748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7E5-FAEE-4CCA-B4FF-436AFED6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FA65-B60E-4CA8-BF7A-9C8C9E6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A18-D6D1-49F9-B585-6139999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8229-03AA-43E3-AC63-2F3870FA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8F0-98A9-4E25-8609-7C421D3E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A16-547D-4540-9C80-166482B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EACC-091A-4B9E-B5DF-11C94B5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DF0-99F5-4A72-9E5E-56869E4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F8D-5BF2-4DB4-BE91-976029E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1303-8D2E-4B35-BE78-8EC83C7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BD24-2AC7-4694-B031-48D28BE2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56ED-538C-45B1-B8D5-B1A7B7EC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33C-5638-4BD4-A821-F1247169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35A-E325-4AAD-A5DE-9BDF853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296-FF5C-4BDA-9C20-B3A2344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220-E673-4B67-92FB-57DB4C25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76B-08D0-40A5-9259-B605691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4C6-C72E-4485-B2B6-BA2203D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EB8-1F17-4058-A44D-140D607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FB9-54FC-464D-BCFE-5BA7238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5B7-5FA2-43B8-B1C7-77D97B2D2B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36B-0186-4F89-93D7-2511411CEF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:\наталья\DSC01509.JPG"/>
          <p:cNvPicPr/>
          <p:nvPr/>
        </p:nvPicPr>
        <p:blipFill>
          <a:blip r:embed="rId1"/>
          <a:srcRect l="8765" t="0" r="0" b="0"/>
          <a:stretch/>
        </p:blipFill>
        <p:spPr>
          <a:xfrm>
            <a:off x="3071880" y="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358120" cy="205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3" descr="E:\наталья\DSC01504.JPG"/>
          <p:cNvPicPr/>
          <p:nvPr/>
        </p:nvPicPr>
        <p:blipFill>
          <a:blip r:embed="rId3"/>
          <a:stretch/>
        </p:blipFill>
        <p:spPr>
          <a:xfrm rot="4563600">
            <a:off x="1885320" y="369072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E:\наталья\DSC01503.JPG"/>
          <p:cNvPicPr/>
          <p:nvPr/>
        </p:nvPicPr>
        <p:blipFill>
          <a:blip r:embed="rId4"/>
          <a:srcRect l="20325" t="0" r="19962" b="0"/>
          <a:stretch/>
        </p:blipFill>
        <p:spPr>
          <a:xfrm rot="743400">
            <a:off x="5119560" y="3411360"/>
            <a:ext cx="2125800" cy="2670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07360" y="4643280"/>
            <a:ext cx="1779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 педсове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араканова Н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ОУ СОШ №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информации между учителем и учащим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E:\DSC00127.JPG"/>
          <p:cNvPicPr/>
          <p:nvPr/>
        </p:nvPicPr>
        <p:blipFill>
          <a:blip r:embed="rId2"/>
          <a:stretch/>
        </p:blipFill>
        <p:spPr>
          <a:xfrm>
            <a:off x="285840" y="300024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:\6.06.07\С Рабочего стола 11.06.08\Документы- Наталья\Фото\лит гостиная фото 8 кл\DSC02369.JPG"/>
          <p:cNvPicPr/>
          <p:nvPr/>
        </p:nvPicPr>
        <p:blipFill>
          <a:blip r:embed="rId3"/>
          <a:stretch/>
        </p:blipFill>
        <p:spPr>
          <a:xfrm>
            <a:off x="4643280" y="3000240"/>
            <a:ext cx="39657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5848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2499840"/>
            <a:ext cx="285768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этнического созн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иенти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реотип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82160" y="178596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D:\6.06.07\С Рабочего стола 11.06.08\Документы- Наталья\Фото\мой  класс\перемены 2008\Фото008.jpg"/>
          <p:cNvPicPr/>
          <p:nvPr/>
        </p:nvPicPr>
        <p:blipFill>
          <a:blip r:embed="rId2"/>
          <a:stretch/>
        </p:blipFill>
        <p:spPr>
          <a:xfrm rot="17008800">
            <a:off x="5960520" y="4020480"/>
            <a:ext cx="2008440" cy="267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6.06.07\С Рабочего стола 11.06.08\Документы- Наталья\Фото\лит гостиная фото 8 кл\DSC02392.JPG"/>
          <p:cNvPicPr/>
          <p:nvPr/>
        </p:nvPicPr>
        <p:blipFill>
          <a:blip r:embed="rId3"/>
          <a:stretch/>
        </p:blipFill>
        <p:spPr>
          <a:xfrm rot="4828200">
            <a:off x="3277080" y="2076840"/>
            <a:ext cx="3203280" cy="240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6.06.07\С Рабочего стола 11.06.08\Документы- Наталья\Фото\дивеево фото сентябрь 2009\DSC02350.JPG"/>
          <p:cNvPicPr/>
          <p:nvPr/>
        </p:nvPicPr>
        <p:blipFill>
          <a:blip r:embed="rId4"/>
          <a:stretch/>
        </p:blipFill>
        <p:spPr>
          <a:xfrm rot="781800">
            <a:off x="6113160" y="162072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72440" cy="144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2499840"/>
            <a:ext cx="40003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тус учителя – репрезентант школы, образования (авторитет личности и авторитет роли учите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как партнер общения не соответствует ожиданиям учащего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82160" y="1857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E:\наталья\DSC01490.JPG"/>
          <p:cNvPicPr/>
          <p:nvPr/>
        </p:nvPicPr>
        <p:blipFill>
          <a:blip r:embed="rId2"/>
          <a:stretch/>
        </p:blipFill>
        <p:spPr>
          <a:xfrm>
            <a:off x="4786200" y="1714680"/>
            <a:ext cx="2725920" cy="204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6.06.07\С Рабочего стола 11.06.08\Документы- Наталья\Фото\фото с телефона\Фото023.jpg"/>
          <p:cNvPicPr/>
          <p:nvPr/>
        </p:nvPicPr>
        <p:blipFill>
          <a:blip r:embed="rId3"/>
          <a:stretch/>
        </p:blipFill>
        <p:spPr>
          <a:xfrm>
            <a:off x="6643800" y="342900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85840" y="2071800"/>
            <a:ext cx="3828960" cy="34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росток считает, что его внутренний мир непонятен взрослы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знание ценностей молодежной субкультуры учител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224720" y="128592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C:\Documents and Settings\Наталья\Рабочий стол\трудовой кл.час фото\DSC02357.JPG"/>
          <p:cNvPicPr/>
          <p:nvPr/>
        </p:nvPicPr>
        <p:blipFill>
          <a:blip r:embed="rId2"/>
          <a:stretch/>
        </p:blipFill>
        <p:spPr>
          <a:xfrm>
            <a:off x="3857760" y="12859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6.06.07\С Рабочего стола 11.06.08\Документы- Наталья\Фото\мой  класс\перемены 2008\Фото154.jpg"/>
          <p:cNvPicPr/>
          <p:nvPr/>
        </p:nvPicPr>
        <p:blipFill>
          <a:blip r:embed="rId3"/>
          <a:stretch/>
        </p:blipFill>
        <p:spPr>
          <a:xfrm>
            <a:off x="5357880" y="364320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6840" y="2928960"/>
            <a:ext cx="36860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ащего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82160" y="2286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E:\наталья\DSC01469.JPG"/>
          <p:cNvPicPr/>
          <p:nvPr/>
        </p:nvPicPr>
        <p:blipFill>
          <a:blip r:embed="rId2"/>
          <a:srcRect l="10064" t="0" r="0" b="0"/>
          <a:stretch/>
        </p:blipFill>
        <p:spPr>
          <a:xfrm>
            <a:off x="4214880" y="2571840"/>
            <a:ext cx="4454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1160" y="96840"/>
            <a:ext cx="879624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3000240"/>
            <a:ext cx="397188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ное содер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 – педагогические ум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ая компетент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, содержание и формы образовательного проц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654840" y="221472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Это обусловлено следующи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D:\6.06.07\С Рабочего стола 11.06.08\Документы- Наталья\Фото\лит гостиная фото 8 кл\DSC02387.JPG"/>
          <p:cNvPicPr/>
          <p:nvPr/>
        </p:nvPicPr>
        <p:blipFill>
          <a:blip r:embed="rId2"/>
          <a:stretch/>
        </p:blipFill>
        <p:spPr>
          <a:xfrm>
            <a:off x="4929120" y="3071880"/>
            <a:ext cx="37753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64600" cy="14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6840" y="2214720"/>
            <a:ext cx="49006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личие педагогики сотруднич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блюдение правил общения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едагогическое общение не терпит суетности и пустозвон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слова не должны расходиться с делом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лаконизм в делах, поступках, реч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642600" y="164304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Необходимо следующе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E:\наталья\DSC01419.JPG"/>
          <p:cNvPicPr/>
          <p:nvPr/>
        </p:nvPicPr>
        <p:blipFill>
          <a:blip r:embed="rId2"/>
          <a:stretch/>
        </p:blipFill>
        <p:spPr>
          <a:xfrm rot="20629800">
            <a:off x="5103720" y="16858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:\DSC00279.JPG"/>
          <p:cNvPicPr/>
          <p:nvPr/>
        </p:nvPicPr>
        <p:blipFill>
          <a:blip r:embed="rId3"/>
          <a:stretch/>
        </p:blipFill>
        <p:spPr>
          <a:xfrm rot="1321200">
            <a:off x="6986160" y="185112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6.06.07\С Рабочего стола 11.06.08\Документы- Наталья\Фото\мой  класс\Волейбол\Фото487.jpg"/>
          <p:cNvPicPr/>
          <p:nvPr/>
        </p:nvPicPr>
        <p:blipFill>
          <a:blip r:embed="rId4"/>
          <a:stretch/>
        </p:blipFill>
        <p:spPr>
          <a:xfrm rot="20975400">
            <a:off x="5600880" y="3835440"/>
            <a:ext cx="1523880" cy="203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6.06.07\С Рабочего стола 11.06.08\Документы- Наталья\Фото\трудовой кл.час фото 8 кл\DSC02364.JPG"/>
          <p:cNvPicPr/>
          <p:nvPr/>
        </p:nvPicPr>
        <p:blipFill>
          <a:blip r:embed="rId5"/>
          <a:stretch/>
        </p:blipFill>
        <p:spPr>
          <a:xfrm rot="6084600">
            <a:off x="6931080" y="417420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фаня</cp:lastModifiedBy>
  <dcterms:modified xsi:type="dcterms:W3CDTF">2010-10-01T10:36:35Z</dcterms:modified>
  <cp:revision>12</cp:revision>
  <dc:subject/>
  <dc:title>Коммуникативные барьеры в обучении</dc:title>
</cp:coreProperties>
</file>