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24.jpeg" ContentType="image/jpeg"/>
  <Override PartName="/ppt/media/image23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5392-8F2E-4EE0-9B5B-7D3AF811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EA4-F669-48E1-8174-3B63089E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EBD9-F1F7-4D4C-8863-A31F6AF4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B287-FB65-4AE9-8881-402147C5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E9AA-F71D-4FA2-A3A3-0598C975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FF3A-5CFC-4957-8541-3ABDD6A3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9FAE-232F-4584-B0F4-3B0CE222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7E14-FEB1-47D1-8251-F07DD3C5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8067-32AB-4D38-801A-D70B4BF8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41F3-F71D-47D8-80EE-8AC32E73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3B82-3B8C-42AF-8EDA-31073120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3EB-7CA7-41D7-B53C-AFEEA23A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8FBA-1D0A-4342-9211-3236BE45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BB5D-EA8C-4D38-A6B2-17E02238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4AA6-49A9-4F40-AFD2-ADAB9D40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4E74-159A-443F-B4E4-F85BBD8C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D671-9316-43B8-868B-ED8353D1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32F-DAF2-41C7-A939-7D5D9F19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E56-88DA-4B84-8465-94EAB33A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E77-442B-47C5-9824-0EB5864B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4A0-3227-435A-89FE-B7A20A13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ACB-4576-4A51-B01C-769918F4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4045-3CD0-4197-A20A-23EB0101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ACEC-5899-4300-9272-F2F9E2F1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20CC-E9EF-4D4F-BC63-F2241763967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16D2-1224-4E4B-B340-34EC815B7BE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E:\наталья\DSC01509.JPG"/>
          <p:cNvPicPr/>
          <p:nvPr/>
        </p:nvPicPr>
        <p:blipFill>
          <a:blip r:embed="rId1"/>
          <a:srcRect l="8765" t="0" r="0" b="0"/>
          <a:stretch/>
        </p:blipFill>
        <p:spPr>
          <a:xfrm>
            <a:off x="3071880" y="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358120" cy="2054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3" descr="E:\наталья\DSC01504.JPG"/>
          <p:cNvPicPr/>
          <p:nvPr/>
        </p:nvPicPr>
        <p:blipFill>
          <a:blip r:embed="rId3"/>
          <a:stretch/>
        </p:blipFill>
        <p:spPr>
          <a:xfrm rot="4563600">
            <a:off x="1885320" y="3690720"/>
            <a:ext cx="2732040" cy="2049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E:\наталья\DSC01503.JPG"/>
          <p:cNvPicPr/>
          <p:nvPr/>
        </p:nvPicPr>
        <p:blipFill>
          <a:blip r:embed="rId4"/>
          <a:srcRect l="20325" t="0" r="19962" b="0"/>
          <a:stretch/>
        </p:blipFill>
        <p:spPr>
          <a:xfrm rot="743400">
            <a:off x="5119560" y="3411360"/>
            <a:ext cx="2125800" cy="2670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207360" y="4643280"/>
            <a:ext cx="1779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Выступл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на педсовет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Подготовил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араканова Н.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МОУ СОШ №8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г.Кстов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сихологическое препятствие на пути адекватной информации между учителем и учащимс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E:\DSC00127.JPG"/>
          <p:cNvPicPr/>
          <p:nvPr/>
        </p:nvPicPr>
        <p:blipFill>
          <a:blip r:embed="rId2"/>
          <a:stretch/>
        </p:blipFill>
        <p:spPr>
          <a:xfrm>
            <a:off x="285840" y="3000240"/>
            <a:ext cx="3971880" cy="2978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:\6.06.07\С Рабочего стола 11.06.08\Документы- Наталья\Фото\лит гостиная фото 8 кл\DSC02369.JPG"/>
          <p:cNvPicPr/>
          <p:nvPr/>
        </p:nvPicPr>
        <p:blipFill>
          <a:blip r:embed="rId3"/>
          <a:stretch/>
        </p:blipFill>
        <p:spPr>
          <a:xfrm>
            <a:off x="4643280" y="3000240"/>
            <a:ext cx="39657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58480" cy="1446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00040" y="2499840"/>
            <a:ext cx="2857680" cy="33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обенности этнического созн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н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иенти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реотип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082160" y="178596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ричин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D:\6.06.07\С Рабочего стола 11.06.08\Документы- Наталья\Фото\мой  класс\перемены 2008\Фото008.jpg"/>
          <p:cNvPicPr/>
          <p:nvPr/>
        </p:nvPicPr>
        <p:blipFill>
          <a:blip r:embed="rId2"/>
          <a:stretch/>
        </p:blipFill>
        <p:spPr>
          <a:xfrm rot="17008800">
            <a:off x="5960520" y="4020480"/>
            <a:ext cx="2008440" cy="2678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D:\6.06.07\С Рабочего стола 11.06.08\Документы- Наталья\Фото\лит гостиная фото 8 кл\DSC02392.JPG"/>
          <p:cNvPicPr/>
          <p:nvPr/>
        </p:nvPicPr>
        <p:blipFill>
          <a:blip r:embed="rId3"/>
          <a:stretch/>
        </p:blipFill>
        <p:spPr>
          <a:xfrm rot="4828200">
            <a:off x="3277080" y="2076840"/>
            <a:ext cx="3203280" cy="2401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:\6.06.07\С Рабочего стола 11.06.08\Документы- Наталья\Фото\дивеево фото сентябрь 2009\DSC02350.JPG"/>
          <p:cNvPicPr/>
          <p:nvPr/>
        </p:nvPicPr>
        <p:blipFill>
          <a:blip r:embed="rId4"/>
          <a:stretch/>
        </p:blipFill>
        <p:spPr>
          <a:xfrm rot="781800">
            <a:off x="6113160" y="1620720"/>
            <a:ext cx="25606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72440" cy="1446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28760" y="2499840"/>
            <a:ext cx="400032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татус учителя – репрезентант школы, образования (авторитет личности и авторитет роли учителя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читель как партнер общения не соответствует ожиданиям учащегос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1082160" y="185724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ричин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E:\наталья\DSC01490.JPG"/>
          <p:cNvPicPr/>
          <p:nvPr/>
        </p:nvPicPr>
        <p:blipFill>
          <a:blip r:embed="rId2"/>
          <a:stretch/>
        </p:blipFill>
        <p:spPr>
          <a:xfrm>
            <a:off x="4786200" y="1714680"/>
            <a:ext cx="2725920" cy="2044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D:\6.06.07\С Рабочего стола 11.06.08\Документы- Наталья\Фото\фото с телефона\Фото023.jpg"/>
          <p:cNvPicPr/>
          <p:nvPr/>
        </p:nvPicPr>
        <p:blipFill>
          <a:blip r:embed="rId3"/>
          <a:stretch/>
        </p:blipFill>
        <p:spPr>
          <a:xfrm>
            <a:off x="6643800" y="3429000"/>
            <a:ext cx="21859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334800" y="268200"/>
            <a:ext cx="856008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285840" y="2071800"/>
            <a:ext cx="3828960" cy="34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дросток считает, что его внутренний мир непонятен взрослы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езнание ценностей молодежной субкультуры учителе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1224720" y="128592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ричин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C:\Documents and Settings\Наталья\Рабочий стол\трудовой кл.час фото\DSC02357.JPG"/>
          <p:cNvPicPr/>
          <p:nvPr/>
        </p:nvPicPr>
        <p:blipFill>
          <a:blip r:embed="rId2"/>
          <a:stretch/>
        </p:blipFill>
        <p:spPr>
          <a:xfrm>
            <a:off x="3857760" y="128592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D:\6.06.07\С Рабочего стола 11.06.08\Документы- Наталья\Фото\мой  класс\перемены 2008\Фото154.jpg"/>
          <p:cNvPicPr/>
          <p:nvPr/>
        </p:nvPicPr>
        <p:blipFill>
          <a:blip r:embed="rId3"/>
          <a:stretch/>
        </p:blipFill>
        <p:spPr>
          <a:xfrm>
            <a:off x="5357880" y="3643200"/>
            <a:ext cx="35812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6840" y="2928960"/>
            <a:ext cx="36860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дивидуально – психологические особенности учите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дивидуально – психологические особенности учащего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1082160" y="228600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ричин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2" descr="E:\наталья\DSC01469.JPG"/>
          <p:cNvPicPr/>
          <p:nvPr/>
        </p:nvPicPr>
        <p:blipFill>
          <a:blip r:embed="rId2"/>
          <a:srcRect l="10064" t="0" r="0" b="0"/>
          <a:stretch/>
        </p:blipFill>
        <p:spPr>
          <a:xfrm>
            <a:off x="4214880" y="2571840"/>
            <a:ext cx="4454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281160" y="96840"/>
            <a:ext cx="8796240" cy="1446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6840" y="3000240"/>
            <a:ext cx="3971880" cy="33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метное содерж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фессионально – педагогические ум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дактическая компетент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тие, содержание и формы образовательного проце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654840" y="2214720"/>
            <a:ext cx="47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Это обусловлено следующим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2" descr="D:\6.06.07\С Рабочего стола 11.06.08\Документы- Наталья\Фото\лит гостиная фото 8 кл\DSC02387.JPG"/>
          <p:cNvPicPr/>
          <p:nvPr/>
        </p:nvPicPr>
        <p:blipFill>
          <a:blip r:embed="rId2"/>
          <a:stretch/>
        </p:blipFill>
        <p:spPr>
          <a:xfrm>
            <a:off x="4929120" y="3071880"/>
            <a:ext cx="377532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64600" cy="1446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6840" y="2214720"/>
            <a:ext cx="490068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аличие педагогики сотрудниче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облюдение правил общения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педагогическое общение не терпит суетности и пустозвонства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слова не должны расходиться с делом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- лаконизм в делах, поступках, реч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642600" y="1643040"/>
            <a:ext cx="39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Необходимо следующе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E:\наталья\DSC01419.JPG"/>
          <p:cNvPicPr/>
          <p:nvPr/>
        </p:nvPicPr>
        <p:blipFill>
          <a:blip r:embed="rId2"/>
          <a:stretch/>
        </p:blipFill>
        <p:spPr>
          <a:xfrm rot="20629800">
            <a:off x="5103720" y="1685880"/>
            <a:ext cx="2071800" cy="1554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E:\DSC00279.JPG"/>
          <p:cNvPicPr/>
          <p:nvPr/>
        </p:nvPicPr>
        <p:blipFill>
          <a:blip r:embed="rId3"/>
          <a:stretch/>
        </p:blipFill>
        <p:spPr>
          <a:xfrm rot="1321200">
            <a:off x="6986160" y="1851120"/>
            <a:ext cx="1979640" cy="1484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D:\6.06.07\С Рабочего стола 11.06.08\Документы- Наталья\Фото\мой  класс\Волейбол\Фото487.jpg"/>
          <p:cNvPicPr/>
          <p:nvPr/>
        </p:nvPicPr>
        <p:blipFill>
          <a:blip r:embed="rId4"/>
          <a:stretch/>
        </p:blipFill>
        <p:spPr>
          <a:xfrm rot="20975400">
            <a:off x="5600880" y="3835440"/>
            <a:ext cx="1523880" cy="2031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:\6.06.07\С Рабочего стола 11.06.08\Документы- Наталья\Фото\трудовой кл.час фото 8 кл\DSC02364.JPG"/>
          <p:cNvPicPr/>
          <p:nvPr/>
        </p:nvPicPr>
        <p:blipFill>
          <a:blip r:embed="rId5"/>
          <a:stretch/>
        </p:blipFill>
        <p:spPr>
          <a:xfrm rot="6084600">
            <a:off x="6931080" y="4174200"/>
            <a:ext cx="205128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фаня</cp:lastModifiedBy>
  <dcterms:modified xsi:type="dcterms:W3CDTF">2010-10-01T10:36:35Z</dcterms:modified>
  <cp:revision>12</cp:revision>
  <dc:subject/>
  <dc:title>Коммуникативные барьеры в обучении</dc:title>
</cp:coreProperties>
</file>