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7.jpeg" ContentType="image/jpeg"/>
  <Override PartName="/ppt/media/image24.jpeg" ContentType="image/jpeg"/>
  <Override PartName="/ppt/media/image23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E655-089E-49F9-8080-D6217F8C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1F31-90F3-4999-AE52-554EEFD5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198F-8715-4928-939A-CC1DBC8F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032F-5322-4417-A5DF-01549BED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7F9A-9CC3-4216-981B-15FD2A0F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C5AA-BB67-4AAA-838B-76AF70E6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2035-3CF9-4B0E-A841-C74B356D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222E-17A8-4B8E-AADE-F2BC5E24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324D-D99A-454B-AC1E-9E8C8C1E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930B-E630-41D5-AE5A-07016F70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BF8B-9771-4C26-8280-89353E56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D7EB-CCAB-473E-9FEC-72281CF1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D54D-E1B6-4EF0-8393-7D2797CE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4B07-94BA-46EB-9568-6BA984C0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A41B-E3FD-4B07-B757-EFBB56E3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1890-B90D-4B16-96A9-A789295E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64AD-8FC2-4354-A1AD-9D63C1CD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5F41-95FA-4419-9EBA-2217F65D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C703-24B0-4CB9-9BCE-20A2BA0A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C77B-ADCF-48A9-8B61-46BE0287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9DAE-1930-46B0-8AF2-B2D492CA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5A39-EBF6-4888-A90D-C2B99525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D224-A730-42AF-B68E-F16B98A8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8A1-125C-4F5A-A84C-76018CB5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B748-3005-4EAB-B875-37572205F8F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34F2-A8B8-477F-B58A-F34198EC662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E:\наталья\DSC01509.JPG"/>
          <p:cNvPicPr/>
          <p:nvPr/>
        </p:nvPicPr>
        <p:blipFill>
          <a:blip r:embed="rId1"/>
          <a:srcRect l="8765" t="0" r="0" b="0"/>
          <a:stretch/>
        </p:blipFill>
        <p:spPr>
          <a:xfrm>
            <a:off x="3071880" y="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358120" cy="2054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3" descr="E:\наталья\DSC01504.JPG"/>
          <p:cNvPicPr/>
          <p:nvPr/>
        </p:nvPicPr>
        <p:blipFill>
          <a:blip r:embed="rId3"/>
          <a:stretch/>
        </p:blipFill>
        <p:spPr>
          <a:xfrm rot="4563600">
            <a:off x="1885320" y="3690720"/>
            <a:ext cx="2732040" cy="2049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E:\наталья\DSC01503.JPG"/>
          <p:cNvPicPr/>
          <p:nvPr/>
        </p:nvPicPr>
        <p:blipFill>
          <a:blip r:embed="rId4"/>
          <a:srcRect l="20325" t="0" r="19962" b="0"/>
          <a:stretch/>
        </p:blipFill>
        <p:spPr>
          <a:xfrm rot="743400">
            <a:off x="5119560" y="3411360"/>
            <a:ext cx="2125800" cy="2670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207360" y="4643280"/>
            <a:ext cx="1779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Выступлен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на педсовет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Подготовил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Тараканова Н.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МОУ СОШ №8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г.Кстов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2009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сихологическое препятствие на пути адекватной информации между учителем и учащимс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4" descr="E:\DSC00127.JPG"/>
          <p:cNvPicPr/>
          <p:nvPr/>
        </p:nvPicPr>
        <p:blipFill>
          <a:blip r:embed="rId2"/>
          <a:stretch/>
        </p:blipFill>
        <p:spPr>
          <a:xfrm>
            <a:off x="285840" y="3000240"/>
            <a:ext cx="3971880" cy="2978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D:\6.06.07\С Рабочего стола 11.06.08\Документы- Наталья\Фото\лит гостиная фото 8 кл\DSC02369.JPG"/>
          <p:cNvPicPr/>
          <p:nvPr/>
        </p:nvPicPr>
        <p:blipFill>
          <a:blip r:embed="rId3"/>
          <a:stretch/>
        </p:blipFill>
        <p:spPr>
          <a:xfrm>
            <a:off x="4643280" y="3000240"/>
            <a:ext cx="396576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358480" cy="1446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500040" y="2499840"/>
            <a:ext cx="2857680" cy="33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обенности этнического созн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ен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риенти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ереотип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082160" y="178596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Причин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" descr="D:\6.06.07\С Рабочего стола 11.06.08\Документы- Наталья\Фото\мой  класс\перемены 2008\Фото008.jpg"/>
          <p:cNvPicPr/>
          <p:nvPr/>
        </p:nvPicPr>
        <p:blipFill>
          <a:blip r:embed="rId2"/>
          <a:stretch/>
        </p:blipFill>
        <p:spPr>
          <a:xfrm rot="17008800">
            <a:off x="5960520" y="4020480"/>
            <a:ext cx="2008440" cy="2678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D:\6.06.07\С Рабочего стола 11.06.08\Документы- Наталья\Фото\лит гостиная фото 8 кл\DSC02392.JPG"/>
          <p:cNvPicPr/>
          <p:nvPr/>
        </p:nvPicPr>
        <p:blipFill>
          <a:blip r:embed="rId3"/>
          <a:stretch/>
        </p:blipFill>
        <p:spPr>
          <a:xfrm rot="4828200">
            <a:off x="3277080" y="2076840"/>
            <a:ext cx="3203280" cy="2401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D:\6.06.07\С Рабочего стола 11.06.08\Документы- Наталья\Фото\дивеево фото сентябрь 2009\DSC02350.JPG"/>
          <p:cNvPicPr/>
          <p:nvPr/>
        </p:nvPicPr>
        <p:blipFill>
          <a:blip r:embed="rId4"/>
          <a:stretch/>
        </p:blipFill>
        <p:spPr>
          <a:xfrm rot="781800">
            <a:off x="6113160" y="1620720"/>
            <a:ext cx="25606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72440" cy="1446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28760" y="2499840"/>
            <a:ext cx="400032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татус учителя – репрезентант школы, образования (авторитет личности и авторитет роли учителя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читель как партнер общения не соответствует ожиданиям учащегос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1082160" y="185724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Причин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E:\наталья\DSC01490.JPG"/>
          <p:cNvPicPr/>
          <p:nvPr/>
        </p:nvPicPr>
        <p:blipFill>
          <a:blip r:embed="rId2"/>
          <a:stretch/>
        </p:blipFill>
        <p:spPr>
          <a:xfrm>
            <a:off x="4786200" y="1714680"/>
            <a:ext cx="2725920" cy="2044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D:\6.06.07\С Рабочего стола 11.06.08\Документы- Наталья\Фото\фото с телефона\Фото023.jpg"/>
          <p:cNvPicPr/>
          <p:nvPr/>
        </p:nvPicPr>
        <p:blipFill>
          <a:blip r:embed="rId3"/>
          <a:stretch/>
        </p:blipFill>
        <p:spPr>
          <a:xfrm>
            <a:off x="6643800" y="3429000"/>
            <a:ext cx="21859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334800" y="268200"/>
            <a:ext cx="856008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285840" y="2071800"/>
            <a:ext cx="3828960" cy="34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дросток считает, что его внутренний мир непонятен взрослым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Незнание ценностей молодежной субкультуры учителе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1224720" y="128592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Причин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2" descr="C:\Documents and Settings\Наталья\Рабочий стол\трудовой кл.час фото\DSC02357.JPG"/>
          <p:cNvPicPr/>
          <p:nvPr/>
        </p:nvPicPr>
        <p:blipFill>
          <a:blip r:embed="rId2"/>
          <a:stretch/>
        </p:blipFill>
        <p:spPr>
          <a:xfrm>
            <a:off x="3857760" y="1285920"/>
            <a:ext cx="3619440" cy="2714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D:\6.06.07\С Рабочего стола 11.06.08\Документы- Наталья\Фото\мой  класс\перемены 2008\Фото154.jpg"/>
          <p:cNvPicPr/>
          <p:nvPr/>
        </p:nvPicPr>
        <p:blipFill>
          <a:blip r:embed="rId3"/>
          <a:stretch/>
        </p:blipFill>
        <p:spPr>
          <a:xfrm>
            <a:off x="5357880" y="3643200"/>
            <a:ext cx="358128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6840" y="2928960"/>
            <a:ext cx="36860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дивидуально – психологические особенности учител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дивидуально – психологические особенности учащегос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1082160" y="228600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Причин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2" descr="E:\наталья\DSC01469.JPG"/>
          <p:cNvPicPr/>
          <p:nvPr/>
        </p:nvPicPr>
        <p:blipFill>
          <a:blip r:embed="rId2"/>
          <a:srcRect l="10064" t="0" r="0" b="0"/>
          <a:stretch/>
        </p:blipFill>
        <p:spPr>
          <a:xfrm>
            <a:off x="4214880" y="2571840"/>
            <a:ext cx="4454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281160" y="96840"/>
            <a:ext cx="8796240" cy="1446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6840" y="3000240"/>
            <a:ext cx="3971880" cy="33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метное содерж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фессионально – педагогические ум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дактическая компетент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витие, содержание и формы образовательного процес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654840" y="2214720"/>
            <a:ext cx="474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Это обусловлено следующим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2" descr="D:\6.06.07\С Рабочего стола 11.06.08\Документы- Наталья\Фото\лит гостиная фото 8 кл\DSC02387.JPG"/>
          <p:cNvPicPr/>
          <p:nvPr/>
        </p:nvPicPr>
        <p:blipFill>
          <a:blip r:embed="rId2"/>
          <a:stretch/>
        </p:blipFill>
        <p:spPr>
          <a:xfrm>
            <a:off x="4929120" y="3071880"/>
            <a:ext cx="377532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364600" cy="1446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6840" y="2214720"/>
            <a:ext cx="49006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Наличие педагогики сотрудничест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облюдение правил общения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 педагогическое общение не терпит суетности и пустозвонства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 слова не должны расходиться с делом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 лаконизм в делах, поступках, реч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642600" y="1643040"/>
            <a:ext cx="39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Необходимо следующе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E:\наталья\DSC01419.JPG"/>
          <p:cNvPicPr/>
          <p:nvPr/>
        </p:nvPicPr>
        <p:blipFill>
          <a:blip r:embed="rId2"/>
          <a:stretch/>
        </p:blipFill>
        <p:spPr>
          <a:xfrm rot="20629800">
            <a:off x="5103720" y="1685880"/>
            <a:ext cx="2071800" cy="1554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E:\DSC00279.JPG"/>
          <p:cNvPicPr/>
          <p:nvPr/>
        </p:nvPicPr>
        <p:blipFill>
          <a:blip r:embed="rId3"/>
          <a:stretch/>
        </p:blipFill>
        <p:spPr>
          <a:xfrm rot="1321200">
            <a:off x="6986160" y="1851120"/>
            <a:ext cx="1979640" cy="1484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D:\6.06.07\С Рабочего стола 11.06.08\Документы- Наталья\Фото\мой  класс\Волейбол\Фото487.jpg"/>
          <p:cNvPicPr/>
          <p:nvPr/>
        </p:nvPicPr>
        <p:blipFill>
          <a:blip r:embed="rId4"/>
          <a:stretch/>
        </p:blipFill>
        <p:spPr>
          <a:xfrm rot="20975400">
            <a:off x="5600880" y="3835440"/>
            <a:ext cx="1523880" cy="2031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D:\6.06.07\С Рабочего стола 11.06.08\Документы- Наталья\Фото\трудовой кл.час фото 8 кл\DSC02364.JPG"/>
          <p:cNvPicPr/>
          <p:nvPr/>
        </p:nvPicPr>
        <p:blipFill>
          <a:blip r:embed="rId5"/>
          <a:stretch/>
        </p:blipFill>
        <p:spPr>
          <a:xfrm rot="6084600">
            <a:off x="6931080" y="4174200"/>
            <a:ext cx="205128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фаня</cp:lastModifiedBy>
  <dcterms:modified xsi:type="dcterms:W3CDTF">2010-10-01T10:36:35Z</dcterms:modified>
  <cp:revision>12</cp:revision>
  <dc:subject/>
  <dc:title>Коммуникативные барьеры в обучении</dc:title>
</cp:coreProperties>
</file>