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C06-B97B-4377-A529-8E9F84D6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3F1-1038-4A2D-ADC6-39A10D28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926-8303-45A8-BA88-B3C6D398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582-8CD6-4595-A17C-901D715D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326C-C1BC-4228-A683-EE918A4B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C163-FF5E-45C4-9A7C-219B8173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38C1-D617-49D1-8FEC-CA8AABCA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1F54-DF27-4C56-A63F-AF6AC5EE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2024-5E06-4148-95F5-0531E988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2EE7-C528-4BF8-8DEF-F96F3189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E4C5-095A-4BB9-9081-F716CB8B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F31-E204-4E0D-AA14-49D071F8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981E-5E68-4B59-B657-94E405B3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DBB-15FB-4956-B1AC-9B3043CA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F849-9272-448A-9157-6A694F10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5FBE-36A2-4B1D-8639-DCBB0216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FBA7-CA47-4A73-9E49-FF829591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B84-B3EA-43B2-B44C-DD8D038C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57D-27AB-4C52-9456-A4CE9F28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A57-7D92-453D-8466-35039626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17D-5453-4077-BDB9-40047B2B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018-D7CD-4973-8691-354DDFFC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48C-F5C0-4BFF-8406-6FE77B7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45C-E18B-4090-AA62-D930323D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DB6A-3CCD-4578-8794-20A138E5F7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48D7-E278-4000-AF57-0BD0CB84052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2120"/>
            <a:ext cx="74768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53f35"/>
                </a:solidFill>
                <a:latin typeface="Franklin Gothic Demi"/>
              </a:rPr>
              <a:t>ПРОФЕССИОНАЛЬНОЕ УЧИЛИЩЕ № 26</a:t>
            </a:r>
            <a:endParaRPr b="0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193" name="Picture 6" descr="Рисунок1"/>
          <p:cNvPicPr/>
          <p:nvPr/>
        </p:nvPicPr>
        <p:blipFill>
          <a:blip r:embed="rId1"/>
          <a:stretch/>
        </p:blipFill>
        <p:spPr>
          <a:xfrm>
            <a:off x="0" y="1407960"/>
            <a:ext cx="7558200" cy="506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1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Энергетики в почете, целый день они 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                                                 в    работе.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Электричество, как мать, с ним 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                                  не будем тосковать.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Все приборы оживают, если к току 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                                              их включают.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Зарождается процесс удивительных </a:t>
            </a:r>
            <a:br>
              <a:rPr sz="3200"/>
            </a:br>
            <a:r>
              <a:rPr b="1" i="1" lang="ru-RU" sz="3200" spc="-1" strike="noStrike">
                <a:solidFill>
                  <a:srgbClr val="853f35"/>
                </a:solidFill>
                <a:latin typeface="Franklin Gothic Demi"/>
              </a:rPr>
              <a:t>                                                           чудес.</a:t>
            </a:r>
            <a:br>
              <a:rPr sz="3200"/>
            </a:b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P1010428"/>
          <p:cNvPicPr/>
          <p:nvPr/>
        </p:nvPicPr>
        <p:blipFill>
          <a:blip r:embed="rId1"/>
          <a:stretch/>
        </p:blipFill>
        <p:spPr>
          <a:xfrm>
            <a:off x="395280" y="3500280"/>
            <a:ext cx="4137120" cy="3103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P1010434"/>
          <p:cNvPicPr/>
          <p:nvPr/>
        </p:nvPicPr>
        <p:blipFill>
          <a:blip r:embed="rId2"/>
          <a:stretch/>
        </p:blipFill>
        <p:spPr>
          <a:xfrm>
            <a:off x="3564000" y="260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7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53f35"/>
                </a:solidFill>
                <a:latin typeface="Franklin Gothic Medium"/>
              </a:rPr>
              <a:t>«Да будет свет!»- сказал Ильич,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Medium"/>
              </a:rPr>
              <a:t>Страна ответила: «Добро!»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Medium"/>
              </a:rPr>
              <a:t>С тех пор нам удалось постичь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Medium"/>
              </a:rPr>
              <a:t>Всю смелость плана ГОЭЛРО.</a:t>
            </a:r>
            <a:br>
              <a:rPr sz="4000"/>
            </a:b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P1010444"/>
          <p:cNvPicPr/>
          <p:nvPr/>
        </p:nvPicPr>
        <p:blipFill>
          <a:blip r:embed="rId1"/>
          <a:stretch/>
        </p:blipFill>
        <p:spPr>
          <a:xfrm>
            <a:off x="219240" y="357120"/>
            <a:ext cx="7476840" cy="560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6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53f35"/>
                </a:solidFill>
                <a:latin typeface="Franklin Gothic Medium"/>
              </a:rPr>
              <a:t>Ты - самая крутая, </a:t>
            </a:r>
            <a:br>
              <a:rPr sz="6000"/>
            </a:br>
            <a:r>
              <a:rPr b="1" i="1" lang="ru-RU" sz="6000" spc="-1" strike="noStrike">
                <a:solidFill>
                  <a:srgbClr val="853f35"/>
                </a:solidFill>
                <a:latin typeface="Franklin Gothic Medium"/>
              </a:rPr>
              <a:t>Профессия родная. </a:t>
            </a:r>
            <a:br>
              <a:rPr sz="6000"/>
            </a:br>
            <a:r>
              <a:rPr b="1" i="1" lang="ru-RU" sz="6000" spc="-1" strike="noStrike">
                <a:solidFill>
                  <a:srgbClr val="853f35"/>
                </a:solidFill>
                <a:latin typeface="Franklin Gothic Medium"/>
              </a:rPr>
              <a:t>Светить, не угасая - </a:t>
            </a:r>
            <a:br>
              <a:rPr sz="6000"/>
            </a:br>
            <a:r>
              <a:rPr b="1" i="1" lang="ru-RU" sz="6000" spc="-1" strike="noStrike">
                <a:solidFill>
                  <a:srgbClr val="853f35"/>
                </a:solidFill>
                <a:latin typeface="Franklin Gothic Medium"/>
              </a:rPr>
              <a:t>Судьба моя такая. </a:t>
            </a:r>
            <a:br>
              <a:rPr sz="6000"/>
            </a:br>
            <a:endParaRPr b="0" lang="en-US" sz="6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3328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53f35"/>
                </a:solidFill>
                <a:latin typeface="Franklin Gothic Demi"/>
              </a:rPr>
              <a:t>ПРОФЕССИОНАЛАМИ НЕ РОЖДАЮТСЯ, ПРОФЕССИОНАЛАМИ СТАНОВЯТСЯ!</a:t>
            </a:r>
            <a:endParaRPr b="0" lang="en-US" sz="48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6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53f35"/>
                </a:solidFill>
                <a:latin typeface="Franklin Gothic Demi"/>
              </a:rPr>
              <a:t>ПРИХОДИТЕ УЧИТЬСЯ 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Demi"/>
              </a:rPr>
              <a:t>В ПУ – 26 </a:t>
            </a:r>
            <a:br>
              <a:rPr sz="4000"/>
            </a:br>
            <a:r>
              <a:rPr b="1" i="1" lang="ru-RU" sz="4000" spc="-1" strike="noStrike">
                <a:solidFill>
                  <a:srgbClr val="853f35"/>
                </a:solidFill>
                <a:latin typeface="Franklin Gothic Demi"/>
              </a:rPr>
              <a:t>ПО ПРОФЕССИИ </a:t>
            </a:r>
            <a:r>
              <a:rPr b="1" i="1" lang="ru-RU" sz="4000" spc="-1" strike="noStrike">
                <a:solidFill>
                  <a:srgbClr val="009900"/>
                </a:solidFill>
                <a:latin typeface="Franklin Gothic Demi"/>
              </a:rPr>
              <a:t>«ЭЛЕКТРОМОНТАЖНИК ЭЛЕКТРИЧЕСКИХ СЕТЕЙ И ЭЛЕКТРООБОРУДОВАНИЯ»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684360" y="1268280"/>
            <a:ext cx="64800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фесси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Электромонтажн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ических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тей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оборудования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Почетно это званье – </a:t>
            </a:r>
            <a:r>
              <a:rPr b="1" i="1" lang="ru-RU" sz="4800" spc="-1" strike="noStrike" u="sng">
                <a:solidFill>
                  <a:srgbClr val="ffff00"/>
                </a:solidFill>
                <a:uFillTx/>
                <a:latin typeface="Franklin Gothic Medium"/>
              </a:rPr>
              <a:t>энергетик!</a:t>
            </a:r>
            <a:r>
              <a:rPr b="1" i="1" lang="ru-RU" sz="4800" spc="-1" strike="noStrike" u="sng">
                <a:solidFill>
                  <a:srgbClr val="669900"/>
                </a:solidFill>
                <a:uFillTx/>
                <a:latin typeface="Franklin Gothic Medium"/>
              </a:rPr>
              <a:t> </a:t>
            </a:r>
            <a:br>
              <a:rPr sz="4800"/>
            </a:b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Мы ценим к энергетике призванье, </a:t>
            </a:r>
            <a:br>
              <a:rPr sz="3600"/>
            </a:b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Но избранный суров ориентир - </a:t>
            </a:r>
            <a:br>
              <a:rPr sz="3600"/>
            </a:b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Без интеллекта, нравственности, знаний </a:t>
            </a:r>
            <a:br>
              <a:rPr sz="3600"/>
            </a:br>
            <a:r>
              <a:rPr b="1" i="1" lang="ru-RU" sz="3600" spc="-1" strike="noStrike">
                <a:solidFill>
                  <a:srgbClr val="853f35"/>
                </a:solidFill>
                <a:latin typeface="Franklin Gothic Medium"/>
              </a:rPr>
              <a:t>Разрушить можно в одночасье мир. 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227160"/>
            <a:ext cx="4824360" cy="39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Человек не может жить без света -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Вся в огнях огромная планета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И теплом искусственным согрета.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Кто-то ведь создал все чудо это?!</a:t>
            </a:r>
            <a:br>
              <a:rPr sz="2400"/>
            </a:b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Franklin Gothic Medium"/>
              </a:rPr>
              <a:t>Энергетик</a:t>
            </a: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 людям свет дает.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А наука движется вперед: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Видим мы от первых малых ГЭС</a:t>
            </a:r>
            <a:br>
              <a:rPr sz="2400"/>
            </a:br>
            <a:r>
              <a:rPr b="1" i="1" lang="ru-RU" sz="2400" spc="-1" strike="noStrike">
                <a:solidFill>
                  <a:srgbClr val="853f35"/>
                </a:solidFill>
                <a:latin typeface="Franklin Gothic Medium"/>
              </a:rPr>
              <a:t>К ядерным реакторам прогресс.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198" name="Picture 6" descr="logo2"/>
          <p:cNvPicPr/>
          <p:nvPr/>
        </p:nvPicPr>
        <p:blipFill>
          <a:blip r:embed="rId1"/>
          <a:stretch/>
        </p:blipFill>
        <p:spPr>
          <a:xfrm>
            <a:off x="4233960" y="3284640"/>
            <a:ext cx="3268440" cy="33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27160"/>
            <a:ext cx="7516800" cy="24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853f35"/>
                </a:solidFill>
                <a:latin typeface="Franklin Gothic Demi"/>
              </a:rPr>
              <a:t>Если фазы замыкает,</a:t>
            </a:r>
            <a:br>
              <a:rPr sz="3600"/>
            </a:br>
            <a:r>
              <a:rPr b="0" i="1" lang="ru-RU" sz="3600" spc="-1" strike="noStrike">
                <a:solidFill>
                  <a:srgbClr val="853f35"/>
                </a:solidFill>
                <a:latin typeface="Franklin Gothic Demi"/>
              </a:rPr>
              <a:t>Если рвутся провода</a:t>
            </a:r>
            <a:br>
              <a:rPr sz="3600"/>
            </a:br>
            <a:r>
              <a:rPr b="0" i="1" lang="ru-RU" sz="3600" spc="-1" strike="noStrike">
                <a:solidFill>
                  <a:srgbClr val="853f35"/>
                </a:solidFill>
                <a:latin typeface="Franklin Gothic Demi"/>
              </a:rPr>
              <a:t>Непременно приглашают</a:t>
            </a:r>
            <a:br>
              <a:rPr sz="3600"/>
            </a:br>
            <a:r>
              <a:rPr b="0" i="1" lang="ru-RU" sz="3600" spc="-1" strike="noStrike">
                <a:solidFill>
                  <a:srgbClr val="853f35"/>
                </a:solidFill>
                <a:latin typeface="Franklin Gothic Demi"/>
              </a:rPr>
              <a:t>В дом электрика тогда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0" name="Picture 6" descr="0_d0df_26af66b3_XL[1]"/>
          <p:cNvPicPr/>
          <p:nvPr/>
        </p:nvPicPr>
        <p:blipFill>
          <a:blip r:embed="rId1"/>
          <a:stretch/>
        </p:blipFill>
        <p:spPr>
          <a:xfrm>
            <a:off x="1258920" y="2637000"/>
            <a:ext cx="5232240" cy="39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34920" y="3860640"/>
            <a:ext cx="5792760" cy="26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С напряжением он ладит,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Знает, где бытует ток.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Все починит, все наладит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Электричества знаток</a:t>
            </a: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2" name="Picture 5" descr="f_2561250[1]"/>
          <p:cNvPicPr/>
          <p:nvPr/>
        </p:nvPicPr>
        <p:blipFill>
          <a:blip r:embed="rId1"/>
          <a:stretch/>
        </p:blipFill>
        <p:spPr>
          <a:xfrm>
            <a:off x="0" y="189000"/>
            <a:ext cx="4927680" cy="36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550512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Он владеет инструментом,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Схему может прочитать.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И предъявит документ вам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С  группой допуска на пять.</a:t>
            </a: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4" name="Picture 5" descr="1"/>
          <p:cNvPicPr/>
          <p:nvPr/>
        </p:nvPicPr>
        <p:blipFill>
          <a:blip r:embed="rId1"/>
          <a:stretch/>
        </p:blipFill>
        <p:spPr>
          <a:xfrm>
            <a:off x="3780000" y="2637000"/>
            <a:ext cx="3998880" cy="267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34"/>
          <p:cNvPicPr/>
          <p:nvPr/>
        </p:nvPicPr>
        <p:blipFill>
          <a:blip r:embed="rId2"/>
          <a:stretch/>
        </p:blipFill>
        <p:spPr>
          <a:xfrm>
            <a:off x="0" y="3892680"/>
            <a:ext cx="3924360" cy="29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Да, электрик – друг надежный,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С ним по жизни хоть куда!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Он с прибором очень сложным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Разберется без труда</a:t>
            </a: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7" name="Picture 5" descr="33"/>
          <p:cNvPicPr/>
          <p:nvPr/>
        </p:nvPicPr>
        <p:blipFill>
          <a:blip r:embed="rId1"/>
          <a:stretch/>
        </p:blipFill>
        <p:spPr>
          <a:xfrm>
            <a:off x="1619280" y="2924280"/>
            <a:ext cx="480852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95280" y="4005000"/>
            <a:ext cx="6081480" cy="26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Без него стоят заводы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И не светят фонари.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Да, электрик без работы – </a:t>
            </a:r>
            <a:br>
              <a:rPr sz="3200"/>
            </a:br>
            <a:r>
              <a:rPr b="0" i="1" lang="ru-RU" sz="3200" spc="-1" strike="noStrike">
                <a:solidFill>
                  <a:srgbClr val="853f35"/>
                </a:solidFill>
                <a:latin typeface="Franklin Gothic Demi"/>
              </a:rPr>
              <a:t>Нонсенс, что ни говори!</a:t>
            </a:r>
            <a:endParaRPr b="0" lang="en-US" sz="3200" spc="-1" strike="noStrike">
              <a:solidFill>
                <a:srgbClr val="853f35"/>
              </a:solidFill>
              <a:latin typeface="Arial"/>
            </a:endParaRPr>
          </a:p>
        </p:txBody>
      </p:sp>
      <p:pic>
        <p:nvPicPr>
          <p:cNvPr id="209" name="Picture 5" descr="0_25777_163be7c_L[1]"/>
          <p:cNvPicPr/>
          <p:nvPr/>
        </p:nvPicPr>
        <p:blipFill>
          <a:blip r:embed="rId1"/>
          <a:stretch/>
        </p:blipFill>
        <p:spPr>
          <a:xfrm>
            <a:off x="0" y="126828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0_12b8d_95d92043_L[1]"/>
          <p:cNvPicPr/>
          <p:nvPr/>
        </p:nvPicPr>
        <p:blipFill>
          <a:blip r:embed="rId2"/>
          <a:stretch/>
        </p:blipFill>
        <p:spPr>
          <a:xfrm>
            <a:off x="4140360" y="0"/>
            <a:ext cx="418284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4:35:56Z</dcterms:created>
  <dc:creator>артём</dc:creator>
  <dc:description/>
  <dc:language>en-US</dc:language>
  <cp:lastModifiedBy>ZooM</cp:lastModifiedBy>
  <dcterms:modified xsi:type="dcterms:W3CDTF">2013-11-07T18:58:21Z</dcterms:modified>
  <cp:revision>8</cp:revision>
  <dc:subject/>
  <dc:title>Слайд 1</dc:title>
</cp:coreProperties>
</file>