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AA1-160F-4C6A-BE91-205A2925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9AE-B586-456A-A060-3F339A9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0EF-2190-41DB-9A57-6E87A07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F77-FA82-4705-BA72-889AE2D4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D3F1-5CEA-4B66-A77A-9187BE43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BC2C-DEB3-4EDC-9739-4B3DC32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F809-B1F3-4D82-B017-AE9B937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1016-5BEB-4479-821C-C6AD9C3E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2753-0910-4D27-8535-76CE4884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90EE-0FEE-4663-8CD9-3BA2CCF8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0E44-08C5-43D9-BA56-BD992E10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B94-6878-48AF-BC5D-41B0582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39D-13B4-4FBD-96B0-2D8288F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63E-BB6D-425A-ADC6-DA86771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4820-5A2B-4035-BFD4-08055277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D635-4C19-46E5-A28B-ADE4D073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5E0-F5DC-4479-A900-13611D2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7F6-F32A-4C49-99B2-F4A7DEA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DB2-6C6D-4A83-936A-FBF6367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FAB-D655-4FE0-9C4A-B09D0215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0B7-C0AF-4103-A31F-0A1C5A5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691-0AB6-4BCA-8A15-42A6A73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BBA-1E9B-49CE-A384-3676B44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644-38EA-4D4D-AAF3-48CA558E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FF0-640B-46B9-B899-828BAC8080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32B-2598-4878-9196-852E4ABA27A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53f35"/>
                </a:solidFill>
                <a:latin typeface="Franklin Gothic Demi"/>
              </a:rPr>
              <a:t>ПРОФЕССИОНАЛЬНОЕ УЧИЛИЩЕ № 26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3" name="Picture 6" descr="Рисунок1"/>
          <p:cNvPicPr/>
          <p:nvPr/>
        </p:nvPicPr>
        <p:blipFill>
          <a:blip r:embed="rId1"/>
          <a:stretch/>
        </p:blipFill>
        <p:spPr>
          <a:xfrm>
            <a:off x="0" y="1407960"/>
            <a:ext cx="7558200" cy="50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нергетики в почете, целый день они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в    работе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о, как мать, с ним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не будем тосковать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Все приборы оживают, если к току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их включают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Зарождается процесс удивительных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          чудес.</a:t>
            </a:r>
            <a:br>
              <a:rPr sz="32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1010428"/>
          <p:cNvPicPr/>
          <p:nvPr/>
        </p:nvPicPr>
        <p:blipFill>
          <a:blip r:embed="rId1"/>
          <a:stretch/>
        </p:blipFill>
        <p:spPr>
          <a:xfrm>
            <a:off x="395280" y="350028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1010434"/>
          <p:cNvPicPr/>
          <p:nvPr/>
        </p:nvPicPr>
        <p:blipFill>
          <a:blip r:embed="rId2"/>
          <a:stretch/>
        </p:blipFill>
        <p:spPr>
          <a:xfrm>
            <a:off x="3564000" y="26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«Да будет свет!»- сказал Ильич,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трана ответила: «Добро!»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 тех пор нам удалось постичь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Всю смелость плана ГОЭЛРО.</a:t>
            </a:r>
            <a:br>
              <a:rPr sz="4000"/>
            </a:b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P1010444"/>
          <p:cNvPicPr/>
          <p:nvPr/>
        </p:nvPicPr>
        <p:blipFill>
          <a:blip r:embed="rId1"/>
          <a:stretch/>
        </p:blipFill>
        <p:spPr>
          <a:xfrm>
            <a:off x="219240" y="35712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Ты - самая крутая,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Профессия родная.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ветить, не угасая -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удьба моя такая. </a:t>
            </a:r>
            <a:br>
              <a:rPr sz="6000"/>
            </a:br>
            <a:endParaRPr b="0" lang="en-US" sz="6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332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53f35"/>
                </a:solidFill>
                <a:latin typeface="Franklin Gothic Demi"/>
              </a:rPr>
              <a:t>ПРОФЕССИОНАЛАМИ НЕ РОЖДАЮТСЯ, ПРОФЕССИОНАЛАМИ СТАНОВЯТСЯ!</a:t>
            </a:r>
            <a:endParaRPr b="0" lang="en-US" sz="48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РИХОДИТЕ УЧИТЬСЯ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В ПУ – 26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О ПРОФЕССИИ </a:t>
            </a:r>
            <a:r>
              <a:rPr b="1" i="1" lang="ru-RU" sz="4000" spc="-1" strike="noStrike">
                <a:solidFill>
                  <a:srgbClr val="009900"/>
                </a:solidFill>
                <a:latin typeface="Franklin Gothic Demi"/>
              </a:rPr>
              <a:t>«ЭЛЕКТРОМОНТАЖНИК ЭЛЕКТРИЧЕСКИХ СЕТЕЙ И ЭЛЕКТРООБОРУДОВАНИЯ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684360" y="1268280"/>
            <a:ext cx="6480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есс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Электромонтаж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ическ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т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оборудовани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Почетно это званье – </a:t>
            </a: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!</a:t>
            </a:r>
            <a:r>
              <a:rPr b="1" i="1" lang="ru-RU" sz="4800" spc="-1" strike="noStrike" u="sng">
                <a:solidFill>
                  <a:srgbClr val="669900"/>
                </a:solidFill>
                <a:uFillTx/>
                <a:latin typeface="Franklin Gothic Medium"/>
              </a:rPr>
              <a:t> </a:t>
            </a:r>
            <a:br>
              <a:rPr sz="48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Мы ценим к энергетике призванье,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Но избранный суров ориентир -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Без интеллекта, нравственности, знаний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Разрушить можно в одночасье мир. 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27160"/>
            <a:ext cx="4824360" cy="39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Человек не может жить без света -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ся в огнях огромная планета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И теплом искусственным согрета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то-то ведь создал все чудо это?!</a:t>
            </a:r>
            <a:br>
              <a:rPr sz="2400"/>
            </a:b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</a:t>
            </a: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 людям свет дает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А наука движется вперед: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идим мы от первых малых ГЭС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 ядерным реакторам прогресс.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8" name="Picture 6" descr="logo2"/>
          <p:cNvPicPr/>
          <p:nvPr/>
        </p:nvPicPr>
        <p:blipFill>
          <a:blip r:embed="rId1"/>
          <a:stretch/>
        </p:blipFill>
        <p:spPr>
          <a:xfrm>
            <a:off x="4233960" y="3284640"/>
            <a:ext cx="326844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фазы замыкает,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рвутся провода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Непременно приглашают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В дом электрика тогда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0" name="Picture 6" descr="0_d0df_26af66b3_XL[1]"/>
          <p:cNvPicPr/>
          <p:nvPr/>
        </p:nvPicPr>
        <p:blipFill>
          <a:blip r:embed="rId1"/>
          <a:stretch/>
        </p:blipFill>
        <p:spPr>
          <a:xfrm>
            <a:off x="1258920" y="2637000"/>
            <a:ext cx="523224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4920" y="3860640"/>
            <a:ext cx="5792760" cy="26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апряжением он ладит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Знает, где бытует ток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Все починит, все наладит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а знаток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2" name="Picture 5" descr="f_2561250[1]"/>
          <p:cNvPicPr/>
          <p:nvPr/>
        </p:nvPicPr>
        <p:blipFill>
          <a:blip r:embed="rId1"/>
          <a:stretch/>
        </p:blipFill>
        <p:spPr>
          <a:xfrm>
            <a:off x="0" y="189000"/>
            <a:ext cx="492768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550512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владеет инструментом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хему может прочитать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предъявит документ ва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 группой допуска на пять.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4" name="Picture 5" descr="1"/>
          <p:cNvPicPr/>
          <p:nvPr/>
        </p:nvPicPr>
        <p:blipFill>
          <a:blip r:embed="rId1"/>
          <a:stretch/>
        </p:blipFill>
        <p:spPr>
          <a:xfrm>
            <a:off x="3780000" y="2637000"/>
            <a:ext cx="399888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34"/>
          <p:cNvPicPr/>
          <p:nvPr/>
        </p:nvPicPr>
        <p:blipFill>
          <a:blip r:embed="rId2"/>
          <a:stretch/>
        </p:blipFill>
        <p:spPr>
          <a:xfrm>
            <a:off x="0" y="3892680"/>
            <a:ext cx="392436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– друг надежный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им по жизни хоть куда!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с прибором очень сложны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Разберется без труда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7" name="Picture 5" descr="33"/>
          <p:cNvPicPr/>
          <p:nvPr/>
        </p:nvPicPr>
        <p:blipFill>
          <a:blip r:embed="rId1"/>
          <a:stretch/>
        </p:blipFill>
        <p:spPr>
          <a:xfrm>
            <a:off x="1619280" y="2924280"/>
            <a:ext cx="4808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95280" y="4005000"/>
            <a:ext cx="608148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Без него стоят заводы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не светят фонари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без работы – 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Нонсенс, что ни говори!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9" name="Picture 5" descr="0_25777_163be7c_L[1]"/>
          <p:cNvPicPr/>
          <p:nvPr/>
        </p:nvPicPr>
        <p:blipFill>
          <a:blip r:embed="rId1"/>
          <a:stretch/>
        </p:blipFill>
        <p:spPr>
          <a:xfrm>
            <a:off x="0" y="12682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0_12b8d_95d92043_L[1]"/>
          <p:cNvPicPr/>
          <p:nvPr/>
        </p:nvPicPr>
        <p:blipFill>
          <a:blip r:embed="rId2"/>
          <a:stretch/>
        </p:blipFill>
        <p:spPr>
          <a:xfrm>
            <a:off x="4140360" y="0"/>
            <a:ext cx="418284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35:56Z</dcterms:created>
  <dc:creator>артём</dc:creator>
  <dc:description/>
  <dc:language>en-US</dc:language>
  <cp:lastModifiedBy>ZooM</cp:lastModifiedBy>
  <dcterms:modified xsi:type="dcterms:W3CDTF">2013-11-07T18:58:21Z</dcterms:modified>
  <cp:revision>8</cp:revision>
  <dc:subject/>
  <dc:title>Слайд 1</dc:title>
</cp:coreProperties>
</file>