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9D18-0949-4409-AF1E-C7CD9654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5830-ACAC-4A5F-93C2-C36D36B0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9EDA-400D-4507-8503-F653274D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7452-728B-4F6E-8024-7A94D06C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59E4-95D2-4E33-8B0D-59077646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16D7-2D85-4AD3-8D2F-CC8B0D33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8617-A48B-4533-8378-EED990A9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C794-69DC-4144-BAE1-AF355B66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B97E-EB17-4B0F-B40C-BD6C1818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0FAA-738F-45B1-8632-E1B2CF9D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B339-3358-4C58-9C7A-FB0B77EE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051-4BC9-497B-AC8A-DB5A0D20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C2F2-F4A1-46FF-94B4-ACA4E82F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C9B2-A9E0-4190-ABF3-5C2F309A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F575-3728-4E5A-AA84-1B9FD646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45CE-2EF1-4E1E-B745-7C2A623E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7B48-2D35-4345-9516-7A8DF065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ADA-F954-47D3-9DB2-635CC97F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C5D-6F63-412A-8595-94EE8438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63F-209F-47DC-AA33-0AC0E805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7006-A12F-4539-BE41-0F746F84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B1F-E0F0-444A-A077-B7A269B3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36D-03A3-43D9-A8A1-FB807FC8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640-5ADF-434B-B5B7-4FA42C6D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3CA0-AC0A-4016-8EE3-AA181EEC98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EB5F-1C0C-4722-A708-6EF1D94F8DF5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2120"/>
            <a:ext cx="74768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53f35"/>
                </a:solidFill>
                <a:latin typeface="Franklin Gothic Demi"/>
              </a:rPr>
              <a:t>ПРОФЕССИОНАЛЬНОЕ УЧИЛИЩЕ № 26</a:t>
            </a:r>
            <a:endParaRPr b="0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193" name="Picture 6" descr="Рисунок1"/>
          <p:cNvPicPr/>
          <p:nvPr/>
        </p:nvPicPr>
        <p:blipFill>
          <a:blip r:embed="rId1"/>
          <a:stretch/>
        </p:blipFill>
        <p:spPr>
          <a:xfrm>
            <a:off x="0" y="1407960"/>
            <a:ext cx="7558200" cy="506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1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Энергетики в почете, целый день они </a:t>
            </a:r>
            <a:br>
              <a:rPr sz="3200"/>
            </a:b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                                                 в    работе.</a:t>
            </a:r>
            <a:br>
              <a:rPr sz="3200"/>
            </a:b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Электричество, как мать, с ним </a:t>
            </a:r>
            <a:br>
              <a:rPr sz="3200"/>
            </a:b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                                  не будем тосковать.</a:t>
            </a:r>
            <a:br>
              <a:rPr sz="3200"/>
            </a:b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Все приборы оживают, если к току </a:t>
            </a:r>
            <a:br>
              <a:rPr sz="3200"/>
            </a:b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                                              их включают.</a:t>
            </a:r>
            <a:br>
              <a:rPr sz="3200"/>
            </a:b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Зарождается процесс удивительных </a:t>
            </a:r>
            <a:br>
              <a:rPr sz="3200"/>
            </a:b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                                                           чудес.</a:t>
            </a:r>
            <a:br>
              <a:rPr sz="3200"/>
            </a:br>
            <a:endParaRPr b="0" lang="en-US" sz="32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P1010428"/>
          <p:cNvPicPr/>
          <p:nvPr/>
        </p:nvPicPr>
        <p:blipFill>
          <a:blip r:embed="rId1"/>
          <a:stretch/>
        </p:blipFill>
        <p:spPr>
          <a:xfrm>
            <a:off x="395280" y="3500280"/>
            <a:ext cx="4137120" cy="3103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P1010434"/>
          <p:cNvPicPr/>
          <p:nvPr/>
        </p:nvPicPr>
        <p:blipFill>
          <a:blip r:embed="rId2"/>
          <a:stretch/>
        </p:blipFill>
        <p:spPr>
          <a:xfrm>
            <a:off x="3564000" y="260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77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770" fill="hold"/>
                                        <p:tgtEl>
                                          <p:spTgt spid="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37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53f35"/>
                </a:solidFill>
                <a:latin typeface="Franklin Gothic Medium"/>
              </a:rPr>
              <a:t>«Да будет свет!»- сказал Ильич,</a:t>
            </a:r>
            <a:br>
              <a:rPr sz="4000"/>
            </a:br>
            <a:r>
              <a:rPr b="1" i="1" lang="ru-RU" sz="4000" spc="-1" strike="noStrike">
                <a:solidFill>
                  <a:srgbClr val="853f35"/>
                </a:solidFill>
                <a:latin typeface="Franklin Gothic Medium"/>
              </a:rPr>
              <a:t>Страна ответила: «Добро!»</a:t>
            </a:r>
            <a:br>
              <a:rPr sz="4000"/>
            </a:br>
            <a:r>
              <a:rPr b="1" i="1" lang="ru-RU" sz="4000" spc="-1" strike="noStrike">
                <a:solidFill>
                  <a:srgbClr val="853f35"/>
                </a:solidFill>
                <a:latin typeface="Franklin Gothic Medium"/>
              </a:rPr>
              <a:t>С тех пор нам удалось постичь</a:t>
            </a:r>
            <a:br>
              <a:rPr sz="4000"/>
            </a:br>
            <a:r>
              <a:rPr b="1" i="1" lang="ru-RU" sz="4000" spc="-1" strike="noStrike">
                <a:solidFill>
                  <a:srgbClr val="853f35"/>
                </a:solidFill>
                <a:latin typeface="Franklin Gothic Medium"/>
              </a:rPr>
              <a:t>Всю смелость плана ГОЭЛРО.</a:t>
            </a:r>
            <a:br>
              <a:rPr sz="4000"/>
            </a:b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P1010444"/>
          <p:cNvPicPr/>
          <p:nvPr/>
        </p:nvPicPr>
        <p:blipFill>
          <a:blip r:embed="rId1"/>
          <a:stretch/>
        </p:blipFill>
        <p:spPr>
          <a:xfrm>
            <a:off x="219240" y="357120"/>
            <a:ext cx="7476840" cy="560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6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53f35"/>
                </a:solidFill>
                <a:latin typeface="Franklin Gothic Medium"/>
              </a:rPr>
              <a:t>Ты - самая крутая, </a:t>
            </a:r>
            <a:br>
              <a:rPr sz="6000"/>
            </a:br>
            <a:r>
              <a:rPr b="1" i="1" lang="ru-RU" sz="6000" spc="-1" strike="noStrike">
                <a:solidFill>
                  <a:srgbClr val="853f35"/>
                </a:solidFill>
                <a:latin typeface="Franklin Gothic Medium"/>
              </a:rPr>
              <a:t>Профессия родная. </a:t>
            </a:r>
            <a:br>
              <a:rPr sz="6000"/>
            </a:br>
            <a:r>
              <a:rPr b="1" i="1" lang="ru-RU" sz="6000" spc="-1" strike="noStrike">
                <a:solidFill>
                  <a:srgbClr val="853f35"/>
                </a:solidFill>
                <a:latin typeface="Franklin Gothic Medium"/>
              </a:rPr>
              <a:t>Светить, не угасая - </a:t>
            </a:r>
            <a:br>
              <a:rPr sz="6000"/>
            </a:br>
            <a:r>
              <a:rPr b="1" i="1" lang="ru-RU" sz="6000" spc="-1" strike="noStrike">
                <a:solidFill>
                  <a:srgbClr val="853f35"/>
                </a:solidFill>
                <a:latin typeface="Franklin Gothic Medium"/>
              </a:rPr>
              <a:t>Судьба моя такая. </a:t>
            </a:r>
            <a:br>
              <a:rPr sz="6000"/>
            </a:br>
            <a:endParaRPr b="0" lang="en-US" sz="6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33284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53f35"/>
                </a:solidFill>
                <a:latin typeface="Franklin Gothic Demi"/>
              </a:rPr>
              <a:t>ПРОФЕССИОНАЛАМИ НЕ РОЖДАЮТСЯ, ПРОФЕССИОНАЛАМИ СТАНОВЯТСЯ!</a:t>
            </a:r>
            <a:endParaRPr b="0" lang="en-US" sz="48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6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53f35"/>
                </a:solidFill>
                <a:latin typeface="Franklin Gothic Demi"/>
              </a:rPr>
              <a:t>ПРИХОДИТЕ УЧИТЬСЯ </a:t>
            </a:r>
            <a:br>
              <a:rPr sz="4000"/>
            </a:br>
            <a:r>
              <a:rPr b="1" i="1" lang="ru-RU" sz="4000" spc="-1" strike="noStrike">
                <a:solidFill>
                  <a:srgbClr val="853f35"/>
                </a:solidFill>
                <a:latin typeface="Franklin Gothic Demi"/>
              </a:rPr>
              <a:t>В ПУ – 26 </a:t>
            </a:r>
            <a:br>
              <a:rPr sz="4000"/>
            </a:br>
            <a:r>
              <a:rPr b="1" i="1" lang="ru-RU" sz="4000" spc="-1" strike="noStrike">
                <a:solidFill>
                  <a:srgbClr val="853f35"/>
                </a:solidFill>
                <a:latin typeface="Franklin Gothic Demi"/>
              </a:rPr>
              <a:t>ПО ПРОФЕССИИ </a:t>
            </a:r>
            <a:r>
              <a:rPr b="1" i="1" lang="ru-RU" sz="4000" spc="-1" strike="noStrike">
                <a:solidFill>
                  <a:srgbClr val="009900"/>
                </a:solidFill>
                <a:latin typeface="Franklin Gothic Demi"/>
              </a:rPr>
              <a:t>«ЭЛЕКТРОМОНТАЖНИК ЭЛЕКТРИЧЕСКИХ СЕТЕЙ И ЭЛЕКТРООБОРУДОВАНИЯ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684360" y="1268280"/>
            <a:ext cx="648000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фессия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Электромонтажни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лектрических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етей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лектрооборудования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53f35"/>
                </a:solidFill>
                <a:latin typeface="Franklin Gothic Medium"/>
              </a:rPr>
              <a:t>Почетно это званье – </a:t>
            </a:r>
            <a:r>
              <a:rPr b="1" i="1" lang="ru-RU" sz="4800" spc="-1" strike="noStrike" u="sng">
                <a:solidFill>
                  <a:srgbClr val="ffff00"/>
                </a:solidFill>
                <a:uFillTx/>
                <a:latin typeface="Franklin Gothic Medium"/>
              </a:rPr>
              <a:t>энергетик!</a:t>
            </a:r>
            <a:r>
              <a:rPr b="1" i="1" lang="ru-RU" sz="4800" spc="-1" strike="noStrike" u="sng">
                <a:solidFill>
                  <a:srgbClr val="669900"/>
                </a:solidFill>
                <a:uFillTx/>
                <a:latin typeface="Franklin Gothic Medium"/>
              </a:rPr>
              <a:t> </a:t>
            </a:r>
            <a:br>
              <a:rPr sz="4800"/>
            </a:br>
            <a:r>
              <a:rPr b="1" i="1" lang="ru-RU" sz="3600" spc="-1" strike="noStrike">
                <a:solidFill>
                  <a:srgbClr val="853f35"/>
                </a:solidFill>
                <a:latin typeface="Franklin Gothic Medium"/>
              </a:rPr>
              <a:t>Мы ценим к энергетике призванье, </a:t>
            </a:r>
            <a:br>
              <a:rPr sz="3600"/>
            </a:br>
            <a:r>
              <a:rPr b="1" i="1" lang="ru-RU" sz="3600" spc="-1" strike="noStrike">
                <a:solidFill>
                  <a:srgbClr val="853f35"/>
                </a:solidFill>
                <a:latin typeface="Franklin Gothic Medium"/>
              </a:rPr>
              <a:t>Но избранный суров ориентир - </a:t>
            </a:r>
            <a:br>
              <a:rPr sz="3600"/>
            </a:br>
            <a:r>
              <a:rPr b="1" i="1" lang="ru-RU" sz="3600" spc="-1" strike="noStrike">
                <a:solidFill>
                  <a:srgbClr val="853f35"/>
                </a:solidFill>
                <a:latin typeface="Franklin Gothic Medium"/>
              </a:rPr>
              <a:t>Без интеллекта, нравственности, знаний </a:t>
            </a:r>
            <a:br>
              <a:rPr sz="3600"/>
            </a:br>
            <a:r>
              <a:rPr b="1" i="1" lang="ru-RU" sz="3600" spc="-1" strike="noStrike">
                <a:solidFill>
                  <a:srgbClr val="853f35"/>
                </a:solidFill>
                <a:latin typeface="Franklin Gothic Medium"/>
              </a:rPr>
              <a:t>Разрушить можно в одночасье мир. 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3640" y="227160"/>
            <a:ext cx="4824360" cy="39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Человек не может жить без света -</a:t>
            </a:r>
            <a:br>
              <a:rPr sz="2400"/>
            </a:b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Вся в огнях огромная планета</a:t>
            </a:r>
            <a:br>
              <a:rPr sz="2400"/>
            </a:b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И теплом искусственным согрета.</a:t>
            </a:r>
            <a:br>
              <a:rPr sz="2400"/>
            </a:b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Кто-то ведь создал все чудо это?!</a:t>
            </a:r>
            <a:br>
              <a:rPr sz="2400"/>
            </a:b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Franklin Gothic Medium"/>
              </a:rPr>
              <a:t>Энергетик</a:t>
            </a: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 людям свет дает.</a:t>
            </a:r>
            <a:br>
              <a:rPr sz="2400"/>
            </a:b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А наука движется вперед:</a:t>
            </a:r>
            <a:br>
              <a:rPr sz="2400"/>
            </a:b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Видим мы от первых малых ГЭС</a:t>
            </a:r>
            <a:br>
              <a:rPr sz="2400"/>
            </a:b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К ядерным реакторам прогресс.</a:t>
            </a:r>
            <a:br>
              <a:rPr sz="2400"/>
            </a:br>
            <a:br>
              <a:rPr sz="3600"/>
            </a:br>
            <a:endParaRPr b="0" lang="en-US" sz="24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198" name="Picture 6" descr="logo2"/>
          <p:cNvPicPr/>
          <p:nvPr/>
        </p:nvPicPr>
        <p:blipFill>
          <a:blip r:embed="rId1"/>
          <a:stretch/>
        </p:blipFill>
        <p:spPr>
          <a:xfrm>
            <a:off x="4233960" y="3284640"/>
            <a:ext cx="3268440" cy="33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227160"/>
            <a:ext cx="7516800" cy="24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853f35"/>
                </a:solidFill>
                <a:latin typeface="Franklin Gothic Demi"/>
              </a:rPr>
              <a:t>Если фазы замыкает,</a:t>
            </a:r>
            <a:br>
              <a:rPr sz="3600"/>
            </a:br>
            <a:r>
              <a:rPr b="0" i="1" lang="ru-RU" sz="3600" spc="-1" strike="noStrike">
                <a:solidFill>
                  <a:srgbClr val="853f35"/>
                </a:solidFill>
                <a:latin typeface="Franklin Gothic Demi"/>
              </a:rPr>
              <a:t>Если рвутся провода</a:t>
            </a:r>
            <a:br>
              <a:rPr sz="3600"/>
            </a:br>
            <a:r>
              <a:rPr b="0" i="1" lang="ru-RU" sz="3600" spc="-1" strike="noStrike">
                <a:solidFill>
                  <a:srgbClr val="853f35"/>
                </a:solidFill>
                <a:latin typeface="Franklin Gothic Demi"/>
              </a:rPr>
              <a:t>Непременно приглашают</a:t>
            </a:r>
            <a:br>
              <a:rPr sz="3600"/>
            </a:br>
            <a:r>
              <a:rPr b="0" i="1" lang="ru-RU" sz="3600" spc="-1" strike="noStrike">
                <a:solidFill>
                  <a:srgbClr val="853f35"/>
                </a:solidFill>
                <a:latin typeface="Franklin Gothic Demi"/>
              </a:rPr>
              <a:t>В дом электрика тогда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200" name="Picture 6" descr="0_d0df_26af66b3_XL[1]"/>
          <p:cNvPicPr/>
          <p:nvPr/>
        </p:nvPicPr>
        <p:blipFill>
          <a:blip r:embed="rId1"/>
          <a:stretch/>
        </p:blipFill>
        <p:spPr>
          <a:xfrm>
            <a:off x="1258920" y="2637000"/>
            <a:ext cx="5232240" cy="39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34920" y="3860640"/>
            <a:ext cx="5792760" cy="26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С напряжением он ладит,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Знает, где бытует ток.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Все починит, все наладит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Электричества знаток</a:t>
            </a:r>
            <a:endParaRPr b="0" lang="en-US" sz="32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202" name="Picture 5" descr="f_2561250[1]"/>
          <p:cNvPicPr/>
          <p:nvPr/>
        </p:nvPicPr>
        <p:blipFill>
          <a:blip r:embed="rId1"/>
          <a:stretch/>
        </p:blipFill>
        <p:spPr>
          <a:xfrm>
            <a:off x="0" y="189000"/>
            <a:ext cx="4927680" cy="369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550512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Он владеет инструментом,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Схему может прочитать.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И предъявит документ вам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С  группой допуска на пять.</a:t>
            </a:r>
            <a:endParaRPr b="0" lang="en-US" sz="32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204" name="Picture 5" descr="1"/>
          <p:cNvPicPr/>
          <p:nvPr/>
        </p:nvPicPr>
        <p:blipFill>
          <a:blip r:embed="rId1"/>
          <a:stretch/>
        </p:blipFill>
        <p:spPr>
          <a:xfrm>
            <a:off x="3780000" y="2637000"/>
            <a:ext cx="3998880" cy="2674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34"/>
          <p:cNvPicPr/>
          <p:nvPr/>
        </p:nvPicPr>
        <p:blipFill>
          <a:blip r:embed="rId2"/>
          <a:stretch/>
        </p:blipFill>
        <p:spPr>
          <a:xfrm>
            <a:off x="0" y="3892680"/>
            <a:ext cx="3924360" cy="296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2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Да, электрик – друг надежный,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С ним по жизни хоть куда!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Он с прибором очень сложным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Разберется без труда</a:t>
            </a:r>
            <a:endParaRPr b="0" lang="en-US" sz="32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207" name="Picture 5" descr="33"/>
          <p:cNvPicPr/>
          <p:nvPr/>
        </p:nvPicPr>
        <p:blipFill>
          <a:blip r:embed="rId1"/>
          <a:stretch/>
        </p:blipFill>
        <p:spPr>
          <a:xfrm>
            <a:off x="1619280" y="2924280"/>
            <a:ext cx="480852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95280" y="4005000"/>
            <a:ext cx="6081480" cy="26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Без него стоят заводы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И не светят фонари.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Да, электрик без работы – 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Нонсенс, что ни говори!</a:t>
            </a:r>
            <a:endParaRPr b="0" lang="en-US" sz="32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209" name="Picture 5" descr="0_25777_163be7c_L[1]"/>
          <p:cNvPicPr/>
          <p:nvPr/>
        </p:nvPicPr>
        <p:blipFill>
          <a:blip r:embed="rId1"/>
          <a:stretch/>
        </p:blipFill>
        <p:spPr>
          <a:xfrm>
            <a:off x="0" y="126828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0_12b8d_95d92043_L[1]"/>
          <p:cNvPicPr/>
          <p:nvPr/>
        </p:nvPicPr>
        <p:blipFill>
          <a:blip r:embed="rId2"/>
          <a:stretch/>
        </p:blipFill>
        <p:spPr>
          <a:xfrm>
            <a:off x="4140360" y="0"/>
            <a:ext cx="4182840" cy="31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4:35:56Z</dcterms:created>
  <dc:creator>артём</dc:creator>
  <dc:description/>
  <dc:language>en-US</dc:language>
  <cp:lastModifiedBy>ZooM</cp:lastModifiedBy>
  <dcterms:modified xsi:type="dcterms:W3CDTF">2013-11-07T18:58:21Z</dcterms:modified>
  <cp:revision>8</cp:revision>
  <dc:subject/>
  <dc:title>Слайд 1</dc:title>
</cp:coreProperties>
</file>