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3.gif" ContentType="image/gif"/>
  <Override PartName="/ppt/media/image4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1.png" ContentType="image/png"/>
  <Override PartName="/ppt/media/image16.gif" ContentType="image/gif"/>
  <Override PartName="/ppt/media/image14.gif" ContentType="image/gi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1F2E-1528-4168-9A0A-643C3FC16C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D1FB-78D6-40ED-BB60-328764BAF35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5CB-C7E6-4A05-9A2D-45BF99FF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948-00BF-403E-8631-25881587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957F48-2EF0-46B9-9C7D-75034BFB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35193-CF04-486E-9E55-1769FFCA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7E9479-0878-4D97-A978-EFDF2FBA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995FFE-DC43-4EA3-BDA1-BF9A19BD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7DDDB-56FB-425F-B1F3-501729BA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73D2F-6C10-4F27-B2DF-2E6BE434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6F5FF-0D54-4228-ABD8-89168A6A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26587-4191-44CA-8E70-DAA750C8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DA13F-9CC6-4953-975C-A739A936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6A68F-D13A-498E-8EF0-DAACFA2B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C0D-2E6A-4A67-9437-47BEE600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7F8C1-31D9-4AA3-83F5-E20A380A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DD233-01F8-41AB-8EBA-43A30A77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A17224-30A3-44E5-BA15-37CD6D41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83D89-607E-4F9A-8DCC-48661134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42D21-B6CA-48C4-82AE-93956871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52449-FBE0-4490-81A4-20BFBA8C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73BDB-9E9B-4C77-AFB7-3608D34C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963E3-1F87-4217-BBA4-81A74999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50CB2-1624-4FC0-A592-62040486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5A1E1-A721-4435-BBCB-8B6FFAAD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C2C-88BF-47A7-8628-9716CF65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4F1F3A-1327-4365-8C11-659B9678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1364D-6BB6-444B-B61D-A32000BD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9311C-66CC-4B16-B50F-B8DF0094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70CAD-EE0F-4E84-AA33-910C3D76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CDDCD-A7FB-4C02-BAB3-31A0F8C7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AFCEF-6749-4F64-BA8B-947853D9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D287E-2699-4E26-A97B-D2E8F0FD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D7A2F-DB6A-4367-B501-AADF692B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A103B-0EB5-42D3-83B5-47081A67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80362-47CE-4060-A56F-F9BA60F1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B9A7-7514-4EA6-B64C-EAA74ED5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A3DED-B274-455B-959C-0E7D20BB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76230-9BFA-4D52-9274-C001AB14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944DA-E8DF-45E6-B1DC-238B304A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6ED731-7C2F-4450-8871-74DA88F7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333CB-EBBE-45E2-AFEE-95D57B2F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D5511-6146-4CB4-8B2D-9462A7AD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DDC61-C46F-4265-A06C-EBB738D1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83B89-06B0-4FC2-A0D7-20F892B3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BBD462-1AF1-415E-A669-9E25A97D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31DAD-0482-43B7-BC7F-2C414E05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5369-CF72-4D45-853B-889C792C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0B441-96C6-4E08-8532-7F7017CB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DAE816-199B-4917-8B8F-876AC8A2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20133-8FE1-418C-AD8E-9F20E240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F31F91-40B2-4CC6-B8E8-363719D7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B596FF-8E55-4C1A-9F84-CE4894DD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BF01-A90F-4491-9896-C0DEDBA0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E352-BF42-4AD1-9D14-51556DEB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22AB-21A0-4F55-ACD6-9E8E9449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D8C7-1615-48C8-A896-CFA45A83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EB92-227D-45FF-9535-D182163E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6DB-4178-498D-972A-4BF8C842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D65D-EDFC-46E9-8FF7-E270014E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E673-3170-46BD-8F19-F90CF29D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C408-CAE4-4429-9097-C3042BE1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F493-7153-4B60-9FE8-651EBB72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CA67-D4EF-4223-8F5D-CAF7FF86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9BC8B-A200-419C-A3A6-3D0D8E70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CA16B-B11D-4B52-95F4-AA40E069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4D5AA-870E-4900-83D1-B0572D12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AA4F6-F6AF-4C07-BD17-F180C711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6B885-8083-48EA-B8DA-54119907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AAF-503A-401D-821A-D05A71D6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A5987-5256-440B-AD1F-F4B627B1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2A2F6-DBF1-4055-BB83-E3DC18A5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258B3-6ABA-4B94-B0F4-D9AE941B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AA19B-1ED0-4EA5-9975-8D3CF2CB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AB75E-4AD5-4E96-9976-EE1C3E18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89BCB-0665-4A3C-BC9B-F3501A33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9383C-8820-4928-ADF4-5A1DDA73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5CB2E-03A7-416C-BBEB-8DF448A6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3D5D9-971E-4BD1-95EA-5518E09C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A5F00-7CDA-4F95-83CD-E97773DB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A6D-429C-4F05-9FDD-1F5217C5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01A39-9340-473D-95E6-B22FE2C7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212AE-8585-4B3C-BBDB-6AB8DA7D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7770F-295F-42F5-9715-0ACB5348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9A289-6D8D-4C87-A47A-CFF3BE0B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6DD2C-C104-4ACB-9C61-5665205A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D86A4-C94B-4501-AF07-64FF5315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6700A-81B9-459E-AE09-16CEB2AC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EED83-20FE-4C59-9B97-25B4811F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17670-E017-4250-BFB9-12CDBFE2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2E414-D985-48BB-880D-EDC18679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E19-33AB-4441-BB46-FF733C0D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068A2-CF73-4CC3-BB61-064DAA92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48567-2DC7-4135-BC00-73699F77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A8505-CB35-40E5-AAEB-EA4CDD03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38B66-DA17-41CA-98CA-4E228740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F6C8B-59E0-4635-BB4B-927B7589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CE410-F38B-4C8C-8379-E141EE2A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7916E-ED41-4F18-A6A3-1E8E36A5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EE349-DD50-48D1-AB7D-F0F89199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EF557-9285-452D-8244-016F3BD4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0CA96-43AC-46C3-B110-5D22D525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EEC-CDD7-4B4A-9DFB-74E103B0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B758E-A09A-49E0-94A4-CF61E19F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559A3-6DC8-4C69-9DE1-B10DC756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B2124-067D-453B-8EFB-11DBD8E2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FFA8D-D593-499B-B550-4A4B6259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70475-66E2-40CF-8406-E144C1FB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E8C5C-2069-4DF7-8FD9-A3B0F00E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8FA5C-5A35-4F62-91E2-815679E9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E5681-A820-461D-A8D0-FF3DCB1C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6DABF-197C-4362-A83C-B2A1A179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FD364-F497-42E7-90A6-D86571EA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49A3-780B-41D5-84C1-3F03659A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01D05-6D5F-4E1F-A7EF-9C5EBD5B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12A2B-5570-4D9E-BD53-37B49F76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D64F1-E2F4-4C5C-88A9-81DEC98C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9B914-9CE2-4B77-AD22-3D54D26B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8593F-9D01-4194-BE1F-9FEDE9C3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2EB35-CEB9-4535-B7F3-258F7C0D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E3F10-7D30-4203-9264-F408714C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E5B01-64BC-4AF8-B531-7F0BB200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7A4BB-A0F7-4664-B1FD-18B6FA70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FDB91-8175-454D-B99F-5C355D81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BEA-66F3-430D-BA10-C627FC76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A623B-7B00-4554-B3D0-9C1D3315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6FF1F-0727-4FD5-9A62-3A137ABD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C66F4-48D9-49BF-B898-C5C416D5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2C32B-3EBA-4F82-873C-E31F5EA0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B48F1-FDD9-46B1-96E7-3501C060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0BDE6-339D-46E0-983E-FAE50D2C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97251-EB1B-4ACB-89AC-2450E578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B4A7A-D063-4520-BAC2-54E19B54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F074E-EE53-49FD-BFAB-69810AB8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01D6F-ECD4-4A77-B9D0-E65D5B4D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DDA-7923-471A-9825-A5DBD45D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26BFD-98AB-448F-8724-7717C0B5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5660C-AF88-4AA8-8D97-3E0EB14C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F9D3E-BADF-4C3F-8D49-40B6C2B6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5FD5B-D535-4145-99B9-E6415FDB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E71DC-64B3-44E5-9023-44A4E731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445B2-F8E3-4865-A08F-142EE5C5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EBED1-2A3D-43AA-A51F-AB325810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DBB3D-0F52-4C18-A63F-C889ED89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16678-B9C6-4A4F-BBCF-467A7195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E439E-4B6F-4A88-98F2-28969702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FBB5-51D3-4686-A4A4-375214118A7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5734-E9C8-48D5-BE59-DBB05EDF8C7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DEFC-58E9-451E-ABB3-88EDF0F9337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8396-3A7C-4AEF-BE63-3A90D8DAAEF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B2E3-6006-433A-ACE5-BD83E54E8C3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0EE6-3DC0-46EA-885C-477ED5617EC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7D68-D40B-4002-AD12-C62A3FCB293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B068-A1AF-4020-9322-4866B307059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E164-8DA3-4E3E-ACFE-0A67EDC38CF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0723-4412-49AF-8793-8437A816B04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781F-F156-4D16-9EAA-3220BD86EB8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1EC1-5E36-4BC3-AD0A-738C7FD5222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4.gif"/><Relationship Id="rId15" Type="http://schemas.openxmlformats.org/officeDocument/2006/relationships/image" Target="../media/image14.gif"/><Relationship Id="rId16" Type="http://schemas.openxmlformats.org/officeDocument/2006/relationships/image" Target="../media/image15.png"/><Relationship Id="rId17" Type="http://schemas.openxmlformats.org/officeDocument/2006/relationships/image" Target="../media/image14.gif"/><Relationship Id="rId18" Type="http://schemas.openxmlformats.org/officeDocument/2006/relationships/image" Target="../media/image16.gif"/><Relationship Id="rId19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d16349"/>
                </a:solidFill>
                <a:latin typeface="Georgia"/>
              </a:rPr>
              <a:t>Урок окружающего мира по теме:</a:t>
            </a:r>
            <a:br>
              <a:rPr sz="3200"/>
            </a:b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« Апрель»</a:t>
            </a:r>
            <a:br>
              <a:rPr sz="3200"/>
            </a:br>
            <a:r>
              <a:rPr b="0" lang="ru-RU" sz="3200" spc="-1" strike="noStrike">
                <a:solidFill>
                  <a:srgbClr val="d16349"/>
                </a:solidFill>
                <a:latin typeface="Georgia"/>
              </a:rPr>
              <a:t>УМК «Начальная школа ХХ</a:t>
            </a:r>
            <a:r>
              <a:rPr b="0" lang="en-US" sz="3200" spc="-1" strike="noStrike">
                <a:solidFill>
                  <a:srgbClr val="d16349"/>
                </a:solidFill>
                <a:latin typeface="Georgia"/>
              </a:rPr>
              <a:t>I </a:t>
            </a:r>
            <a:r>
              <a:rPr b="0" lang="ru-RU" sz="3200" spc="-1" strike="noStrike">
                <a:solidFill>
                  <a:srgbClr val="d16349"/>
                </a:solidFill>
                <a:latin typeface="Georgia"/>
              </a:rPr>
              <a:t>века»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Picture 4" descr="апрель"/>
          <p:cNvPicPr/>
          <p:nvPr/>
        </p:nvPicPr>
        <p:blipFill>
          <a:blip r:embed="rId1"/>
          <a:stretch/>
        </p:blipFill>
        <p:spPr>
          <a:xfrm>
            <a:off x="1500120" y="2643120"/>
            <a:ext cx="63579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верба цветёт"/>
          <p:cNvPicPr/>
          <p:nvPr/>
        </p:nvPicPr>
        <p:blipFill>
          <a:blip r:embed="rId1"/>
          <a:srcRect l="1257" t="945" r="1257" b="945"/>
          <a:stretch/>
        </p:blipFill>
        <p:spPr>
          <a:xfrm>
            <a:off x="5054760" y="600120"/>
            <a:ext cx="3895560" cy="52261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3"/>
          <p:cNvSpPr/>
          <p:nvPr/>
        </p:nvSpPr>
        <p:spPr>
          <a:xfrm>
            <a:off x="260280" y="765000"/>
            <a:ext cx="4745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Долго шла весна тайк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От ветров и стуж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А сегодня прямико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Шлёпает по лужа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Гонит талые снег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С гомоном и звоно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Чтобы выстелить луг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Бархатом зелёны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«Скоро, скоро, быть теплу!»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Эту новость перв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Барабанит по стекл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Серой лапкой верба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                        </a:t>
            </a: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Л. Ак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click?url=http%3A%2F%2Fwww"/>
          <p:cNvPicPr/>
          <p:nvPr/>
        </p:nvPicPr>
        <p:blipFill>
          <a:blip r:embed="rId1"/>
          <a:stretch/>
        </p:blipFill>
        <p:spPr>
          <a:xfrm>
            <a:off x="900000" y="765000"/>
            <a:ext cx="6697800" cy="590868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3"/>
          <p:cNvSpPr/>
          <p:nvPr/>
        </p:nvSpPr>
        <p:spPr>
          <a:xfrm>
            <a:off x="7762320" y="604980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  <a:ea typeface="Arial"/>
              </a:rPr>
              <a:t>пче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826920" y="26028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Вылетела за первым медком пчёл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0" y="115920"/>
            <a:ext cx="90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b400"/>
                </a:solidFill>
                <a:latin typeface="Arial Black"/>
                <a:ea typeface="Arial"/>
              </a:rPr>
              <a:t>  </a:t>
            </a: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Высоко в небе поёт жаворонок. А мимо него всё летя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и летят новые гости – журавли, лебеди, аисты, гус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0" name="Picture 3" descr="click?url=http%3A%2F%2Ffloranimal"/>
          <p:cNvPicPr/>
          <p:nvPr/>
        </p:nvPicPr>
        <p:blipFill>
          <a:blip r:embed="rId1"/>
          <a:srcRect l="2841" t="2841" r="2841" b="2841"/>
          <a:stretch/>
        </p:blipFill>
        <p:spPr>
          <a:xfrm>
            <a:off x="266760" y="1139760"/>
            <a:ext cx="2922480" cy="29224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4" descr="click?url=http%3A%2F%2Fwww"/>
          <p:cNvPicPr/>
          <p:nvPr/>
        </p:nvPicPr>
        <p:blipFill>
          <a:blip r:embed="rId2"/>
          <a:stretch/>
        </p:blipFill>
        <p:spPr>
          <a:xfrm>
            <a:off x="4357800" y="2928960"/>
            <a:ext cx="3652560" cy="26352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5"/>
          <p:cNvSpPr/>
          <p:nvPr/>
        </p:nvSpPr>
        <p:spPr>
          <a:xfrm>
            <a:off x="234360" y="410544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  <a:ea typeface="Arial"/>
              </a:rPr>
              <a:t>жаворон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4477680" y="612144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  <a:ea typeface="Arial"/>
              </a:rPr>
              <a:t>летят журав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4" name="Picture 7" descr="7h"/>
          <p:cNvPicPr/>
          <p:nvPr/>
        </p:nvPicPr>
        <p:blipFill>
          <a:blip r:embed="rId3"/>
          <a:stretch/>
        </p:blipFill>
        <p:spPr>
          <a:xfrm>
            <a:off x="4019400" y="305748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8" descr="7h"/>
          <p:cNvPicPr/>
          <p:nvPr/>
        </p:nvPicPr>
        <p:blipFill>
          <a:blip r:embed="rId4"/>
          <a:stretch/>
        </p:blipFill>
        <p:spPr>
          <a:xfrm>
            <a:off x="7236000" y="1413000"/>
            <a:ext cx="1104840" cy="7426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9" descr="7h"/>
          <p:cNvPicPr/>
          <p:nvPr/>
        </p:nvPicPr>
        <p:blipFill>
          <a:blip r:embed="rId5"/>
          <a:stretch/>
        </p:blipFill>
        <p:spPr>
          <a:xfrm>
            <a:off x="5940360" y="2276640"/>
            <a:ext cx="1104840" cy="7426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0" descr="7h"/>
          <p:cNvPicPr/>
          <p:nvPr/>
        </p:nvPicPr>
        <p:blipFill>
          <a:blip r:embed="rId6"/>
          <a:stretch/>
        </p:blipFill>
        <p:spPr>
          <a:xfrm>
            <a:off x="4716360" y="17002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1" descr="7h"/>
          <p:cNvPicPr/>
          <p:nvPr/>
        </p:nvPicPr>
        <p:blipFill>
          <a:blip r:embed="rId7"/>
          <a:stretch/>
        </p:blipFill>
        <p:spPr>
          <a:xfrm>
            <a:off x="3635280" y="1052640"/>
            <a:ext cx="110484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447840" y="333360"/>
            <a:ext cx="83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b400"/>
                </a:solidFill>
                <a:latin typeface="Arial Black"/>
                <a:ea typeface="Arial"/>
              </a:rPr>
              <a:t>  </a:t>
            </a: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Скворцы уже давно облюбовали себе домики 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заботливо  устраивают тёплые гнёздыш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0" name="Picture 4" descr="click?url=http%3A%2F%2Fteatips"/>
          <p:cNvPicPr/>
          <p:nvPr/>
        </p:nvPicPr>
        <p:blipFill>
          <a:blip r:embed="rId1"/>
          <a:stretch/>
        </p:blipFill>
        <p:spPr>
          <a:xfrm>
            <a:off x="1500120" y="1714680"/>
            <a:ext cx="628668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1083600" y="74520"/>
            <a:ext cx="63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 Black"/>
                <a:ea typeface="Arial"/>
              </a:rPr>
              <a:t>Народные приметы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324000" y="83664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Солнышко с апрельской горки в лето кати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Апрель водой славен.  Апрель всех напои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Апрель с водою – май с траво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Где  в апреле река, там в июне – лужиц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3" name="Picture 4" descr="апрель1"/>
          <p:cNvPicPr/>
          <p:nvPr/>
        </p:nvPicPr>
        <p:blipFill>
          <a:blip r:embed="rId1"/>
          <a:srcRect l="5597" t="7344" r="5597" b="7344"/>
          <a:stretch/>
        </p:blipFill>
        <p:spPr>
          <a:xfrm>
            <a:off x="2195640" y="2421000"/>
            <a:ext cx="4464000" cy="32716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5"/>
          <p:cNvSpPr/>
          <p:nvPr/>
        </p:nvSpPr>
        <p:spPr>
          <a:xfrm>
            <a:off x="324000" y="56707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Если утро туманное, то днём будет ясная пог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Если на небе синие облака, то это к теплу и дожд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2844000" y="1413000"/>
            <a:ext cx="409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Т</a:t>
            </a: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ИНЫ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3780000" y="2060640"/>
            <a:ext cx="25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П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4572720" y="2708280"/>
            <a:ext cx="222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Р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ЧЕЙ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2340720" y="3357720"/>
            <a:ext cx="459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ДСН</a:t>
            </a: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НИК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4573440" y="4076640"/>
            <a:ext cx="196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Л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ЖИ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1548720" y="4724280"/>
            <a:ext cx="406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ЛОВОД</a:t>
            </a: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Georgia"/>
              </a:rPr>
              <a:t>Отгадай!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9900"/>
                </a:solidFill>
                <a:latin typeface="Georgia"/>
              </a:rPr>
              <a:t>Проблемная ситуация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Picture 7" descr="untitledся"/>
          <p:cNvPicPr/>
          <p:nvPr/>
        </p:nvPicPr>
        <p:blipFill>
          <a:blip r:embed="rId1"/>
          <a:stretch/>
        </p:blipFill>
        <p:spPr>
          <a:xfrm>
            <a:off x="539640" y="1557360"/>
            <a:ext cx="4319640" cy="4392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 (128x128, 8Kb)"/>
          <p:cNvPicPr/>
          <p:nvPr/>
        </p:nvPicPr>
        <p:blipFill>
          <a:blip r:embed="rId2"/>
          <a:srcRect l="2923" t="17656" r="0" b="5846"/>
          <a:stretch/>
        </p:blipFill>
        <p:spPr>
          <a:xfrm>
            <a:off x="539640" y="3429000"/>
            <a:ext cx="3024360" cy="252108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9"/>
          <p:cNvSpPr/>
          <p:nvPr/>
        </p:nvSpPr>
        <p:spPr>
          <a:xfrm>
            <a:off x="4932360" y="1270080"/>
            <a:ext cx="4032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- Однажды, летая на воздушном шаре и пытаясь обмануть пчел, Вини-Пух задумался, что же происходит с приходом весны? Он обратился к друзьям: Пятачку, Сове, Кролику и Ослик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- Кролик сказал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«Распускается первый весенний цветок подснежник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Ослик Иа: « Стало теплее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Сова ответила: «Просыпаются звери от зимней спячк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А  Пятачок утверждает, что самое главное – прилетают перелетные птиц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20200" y="9360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 Black"/>
                <a:ea typeface="Arial"/>
              </a:rPr>
              <a:t>А п р е л 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1373040" y="836640"/>
            <a:ext cx="61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b400"/>
                </a:solidFill>
                <a:latin typeface="Arial Black"/>
                <a:ea typeface="Arial"/>
              </a:rPr>
              <a:t>   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В народе апрель называют</a:t>
            </a:r>
            <a:r>
              <a:rPr b="1" lang="ru-RU" sz="2400" spc="-1" strike="noStrike" u="sng">
                <a:solidFill>
                  <a:srgbClr val="ff9900"/>
                </a:solidFill>
                <a:uFillTx/>
                <a:latin typeface="Arial"/>
              </a:rPr>
              <a:t> снегогон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Как вы думаете, почему?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1" name="Picture 4" descr="цuntitled"/>
          <p:cNvPicPr/>
          <p:nvPr/>
        </p:nvPicPr>
        <p:blipFill>
          <a:blip r:embed="rId1"/>
          <a:stretch/>
        </p:blipFill>
        <p:spPr>
          <a:xfrm>
            <a:off x="395280" y="1844640"/>
            <a:ext cx="5435640" cy="4226040"/>
          </a:xfrm>
          <a:prstGeom prst="rect">
            <a:avLst/>
          </a:prstGeom>
          <a:ln w="0">
            <a:noFill/>
          </a:ln>
        </p:spPr>
      </p:pic>
      <p:sp>
        <p:nvSpPr>
          <p:cNvPr id="622" name="AutoShape 5"/>
          <p:cNvSpPr/>
          <p:nvPr/>
        </p:nvSpPr>
        <p:spPr>
          <a:xfrm>
            <a:off x="3419640" y="1916280"/>
            <a:ext cx="5473440" cy="4752720"/>
          </a:xfrm>
          <a:prstGeom prst="cloudCallout">
            <a:avLst>
              <a:gd name="adj1" fmla="val 14296"/>
              <a:gd name="adj2" fmla="val -58685"/>
            </a:avLst>
          </a:prstGeom>
          <a:solidFill>
            <a:srgbClr val="00a3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Апрель -водолей. Солнце, снег и дождь вперемешк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Непостоянен обманщик - апрель: на дню семь пого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К концу этого месяца солнце красное прогоняет послед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ние остатки снега – поэтому апрель называют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него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оном.</a:t>
            </a: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 Куда не ступишь, куда ни посмотришь – везд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во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388800" y="549360"/>
            <a:ext cx="87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b400"/>
                </a:solidFill>
                <a:latin typeface="Arial Black"/>
                <a:ea typeface="Arial"/>
              </a:rPr>
              <a:t>   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Ещё его называют</a:t>
            </a: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 ручейник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. Почему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4" name="Picture 3" descr="120untitled"/>
          <p:cNvPicPr/>
          <p:nvPr/>
        </p:nvPicPr>
        <p:blipFill>
          <a:blip r:embed="rId1"/>
          <a:stretch/>
        </p:blipFill>
        <p:spPr>
          <a:xfrm>
            <a:off x="324000" y="1628640"/>
            <a:ext cx="6913440" cy="4605480"/>
          </a:xfrm>
          <a:prstGeom prst="rect">
            <a:avLst/>
          </a:prstGeom>
          <a:ln w="0">
            <a:noFill/>
          </a:ln>
        </p:spPr>
      </p:pic>
      <p:sp>
        <p:nvSpPr>
          <p:cNvPr id="625" name="AutoShape 4"/>
          <p:cNvSpPr/>
          <p:nvPr/>
        </p:nvSpPr>
        <p:spPr>
          <a:xfrm>
            <a:off x="4246560" y="2465280"/>
            <a:ext cx="4718160" cy="4132440"/>
          </a:xfrm>
          <a:prstGeom prst="cloudCallout">
            <a:avLst>
              <a:gd name="adj1" fmla="val -2490"/>
              <a:gd name="adj2" fmla="val -78388"/>
            </a:avLst>
          </a:prstGeom>
          <a:solidFill>
            <a:srgbClr val="00a3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И конечно же, весёлые весенние ручейки! Хочеш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смотри, как вода играет, хочешь слушай, как  в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журчит, а хочешь брось в ручей щепку, и она сраз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превратиться в корабл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Апрель - это время ручьёв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9900"/>
                </a:solidFill>
                <a:latin typeface="Georgia"/>
              </a:rPr>
              <a:t>А ещё -</a:t>
            </a:r>
            <a:r>
              <a:rPr b="0" lang="ru-RU" sz="3300" spc="-1" strike="noStrike" u="sng">
                <a:solidFill>
                  <a:srgbClr val="ff9900"/>
                </a:solidFill>
                <a:uFillTx/>
                <a:latin typeface="Georgia"/>
              </a:rPr>
              <a:t> берёзозол</a:t>
            </a:r>
            <a:r>
              <a:rPr b="0" lang="ru-RU" sz="3300" spc="-1" strike="noStrike">
                <a:solidFill>
                  <a:srgbClr val="ff9900"/>
                </a:solidFill>
                <a:latin typeface="Georgia"/>
              </a:rPr>
              <a:t>. Почему?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7" name="Picture 4" descr="un33titled"/>
          <p:cNvPicPr/>
          <p:nvPr/>
        </p:nvPicPr>
        <p:blipFill>
          <a:blip r:embed="rId1"/>
          <a:srcRect l="29001" t="6281" r="5385" b="6715"/>
          <a:stretch/>
        </p:blipFill>
        <p:spPr>
          <a:xfrm>
            <a:off x="179280" y="1773360"/>
            <a:ext cx="4392720" cy="48956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click?url=http%3A%2F%2Ftomico"/>
          <p:cNvPicPr/>
          <p:nvPr/>
        </p:nvPicPr>
        <p:blipFill>
          <a:blip r:embed="rId2"/>
          <a:stretch/>
        </p:blipFill>
        <p:spPr>
          <a:xfrm>
            <a:off x="6588000" y="1197000"/>
            <a:ext cx="2268720" cy="3024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77691"/>
          <p:cNvPicPr/>
          <p:nvPr/>
        </p:nvPicPr>
        <p:blipFill>
          <a:blip r:embed="rId3"/>
          <a:stretch/>
        </p:blipFill>
        <p:spPr>
          <a:xfrm>
            <a:off x="7524720" y="4581360"/>
            <a:ext cx="1351080" cy="1800360"/>
          </a:xfrm>
          <a:prstGeom prst="rect">
            <a:avLst/>
          </a:prstGeom>
          <a:ln w="0">
            <a:noFill/>
          </a:ln>
        </p:spPr>
      </p:pic>
      <p:sp>
        <p:nvSpPr>
          <p:cNvPr id="630" name="AutoShape 10"/>
          <p:cNvSpPr/>
          <p:nvPr/>
        </p:nvSpPr>
        <p:spPr>
          <a:xfrm>
            <a:off x="4284720" y="2781360"/>
            <a:ext cx="3313080" cy="3241440"/>
          </a:xfrm>
          <a:prstGeom prst="cloudCallout">
            <a:avLst>
              <a:gd name="adj1" fmla="val -9222"/>
              <a:gd name="adj2" fmla="val -88342"/>
            </a:avLst>
          </a:prstGeom>
          <a:solidFill>
            <a:srgbClr val="00a3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Месяц апрель для берёз очень зол, т.к. в этом месяце собирают берёзовый со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1187280" y="26028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b400"/>
                </a:solidFill>
                <a:latin typeface="Arial Black"/>
                <a:ea typeface="Arial"/>
              </a:rPr>
              <a:t>     </a:t>
            </a: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Запестрели повсюду весенние цветы.</a:t>
            </a:r>
            <a:r>
              <a:rPr b="1" lang="ru-RU" sz="2400" spc="-1" strike="noStrike">
                <a:solidFill>
                  <a:srgbClr val="ccb400"/>
                </a:solidFill>
                <a:latin typeface="Arial Blac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2" name="Picture 3" descr="ni_17"/>
          <p:cNvPicPr/>
          <p:nvPr/>
        </p:nvPicPr>
        <p:blipFill>
          <a:blip r:embed="rId1"/>
          <a:stretch/>
        </p:blipFill>
        <p:spPr>
          <a:xfrm>
            <a:off x="714240" y="1214280"/>
            <a:ext cx="3311640" cy="206856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4"/>
          <p:cNvSpPr/>
          <p:nvPr/>
        </p:nvSpPr>
        <p:spPr>
          <a:xfrm>
            <a:off x="1695960" y="328464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  <a:ea typeface="Arial"/>
              </a:rPr>
              <a:t>ветрениц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4" name="Picture 5" descr="хохлатка"/>
          <p:cNvPicPr/>
          <p:nvPr/>
        </p:nvPicPr>
        <p:blipFill>
          <a:blip r:embed="rId2"/>
          <a:stretch/>
        </p:blipFill>
        <p:spPr>
          <a:xfrm>
            <a:off x="4859280" y="1285920"/>
            <a:ext cx="3313080" cy="210816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6"/>
          <p:cNvSpPr/>
          <p:nvPr/>
        </p:nvSpPr>
        <p:spPr>
          <a:xfrm>
            <a:off x="5457600" y="328464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  <a:ea typeface="Arial"/>
              </a:rPr>
              <a:t>хохлат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6" name="Picture 8" descr="медуница2"/>
          <p:cNvPicPr/>
          <p:nvPr/>
        </p:nvPicPr>
        <p:blipFill>
          <a:blip r:embed="rId3"/>
          <a:stretch/>
        </p:blipFill>
        <p:spPr>
          <a:xfrm>
            <a:off x="3059280" y="4071960"/>
            <a:ext cx="3155760" cy="192888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9"/>
          <p:cNvSpPr/>
          <p:nvPr/>
        </p:nvSpPr>
        <p:spPr>
          <a:xfrm>
            <a:off x="3782160" y="616572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  <a:ea typeface="Arial"/>
              </a:rPr>
              <a:t>медуниц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9900"/>
                </a:solidFill>
                <a:latin typeface="Georgia"/>
              </a:rPr>
              <a:t>Творческое зад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219640" y="2708280"/>
            <a:ext cx="37432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c3300"/>
                </a:solidFill>
                <a:latin typeface="Georgia"/>
              </a:rPr>
              <a:t>Что мог увидеть подснежник в весеннем лесу в апреле?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Picture 4" descr="сканирование001001"/>
          <p:cNvPicPr/>
          <p:nvPr/>
        </p:nvPicPr>
        <p:blipFill>
          <a:blip r:embed="rId1"/>
          <a:srcRect l="6364" t="15573" r="810" b="12996"/>
          <a:stretch/>
        </p:blipFill>
        <p:spPr>
          <a:xfrm>
            <a:off x="468360" y="1989000"/>
            <a:ext cx="446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588600" y="217440"/>
            <a:ext cx="70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Апрель  - это переселение птиц на родин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2" name="Picture 3" descr="bird29"/>
          <p:cNvPicPr/>
          <p:nvPr/>
        </p:nvPicPr>
        <p:blipFill>
          <a:blip r:embed="rId1"/>
          <a:stretch/>
        </p:blipFill>
        <p:spPr>
          <a:xfrm>
            <a:off x="7236000" y="242100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" descr="bird29"/>
          <p:cNvPicPr/>
          <p:nvPr/>
        </p:nvPicPr>
        <p:blipFill>
          <a:blip r:embed="rId2"/>
          <a:stretch/>
        </p:blipFill>
        <p:spPr>
          <a:xfrm>
            <a:off x="7812000" y="2133720"/>
            <a:ext cx="714600" cy="9525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bird29"/>
          <p:cNvPicPr/>
          <p:nvPr/>
        </p:nvPicPr>
        <p:blipFill>
          <a:blip r:embed="rId3"/>
          <a:stretch/>
        </p:blipFill>
        <p:spPr>
          <a:xfrm>
            <a:off x="7236000" y="692280"/>
            <a:ext cx="714240" cy="9522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bird29"/>
          <p:cNvPicPr/>
          <p:nvPr/>
        </p:nvPicPr>
        <p:blipFill>
          <a:blip r:embed="rId4"/>
          <a:stretch/>
        </p:blipFill>
        <p:spPr>
          <a:xfrm>
            <a:off x="7812000" y="981000"/>
            <a:ext cx="714600" cy="9525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7" descr="bird29"/>
          <p:cNvPicPr/>
          <p:nvPr/>
        </p:nvPicPr>
        <p:blipFill>
          <a:blip r:embed="rId5"/>
          <a:stretch/>
        </p:blipFill>
        <p:spPr>
          <a:xfrm>
            <a:off x="5724360" y="692280"/>
            <a:ext cx="714600" cy="952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8" descr="bird29"/>
          <p:cNvPicPr/>
          <p:nvPr/>
        </p:nvPicPr>
        <p:blipFill>
          <a:blip r:embed="rId6"/>
          <a:stretch/>
        </p:blipFill>
        <p:spPr>
          <a:xfrm>
            <a:off x="6516720" y="62064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9" descr="bird29"/>
          <p:cNvPicPr/>
          <p:nvPr/>
        </p:nvPicPr>
        <p:blipFill>
          <a:blip r:embed="rId7"/>
          <a:stretch/>
        </p:blipFill>
        <p:spPr>
          <a:xfrm>
            <a:off x="8028000" y="1413000"/>
            <a:ext cx="714240" cy="952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0" descr="bird29"/>
          <p:cNvPicPr/>
          <p:nvPr/>
        </p:nvPicPr>
        <p:blipFill>
          <a:blip r:embed="rId8"/>
          <a:stretch/>
        </p:blipFill>
        <p:spPr>
          <a:xfrm>
            <a:off x="4716360" y="549360"/>
            <a:ext cx="714600" cy="9525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1" descr="jiv417"/>
          <p:cNvPicPr/>
          <p:nvPr/>
        </p:nvPicPr>
        <p:blipFill>
          <a:blip r:embed="rId9"/>
          <a:stretch/>
        </p:blipFill>
        <p:spPr>
          <a:xfrm>
            <a:off x="7236000" y="3860640"/>
            <a:ext cx="1114200" cy="8575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2" descr="jiv417"/>
          <p:cNvPicPr/>
          <p:nvPr/>
        </p:nvPicPr>
        <p:blipFill>
          <a:blip r:embed="rId10"/>
          <a:stretch/>
        </p:blipFill>
        <p:spPr>
          <a:xfrm>
            <a:off x="6372360" y="3284640"/>
            <a:ext cx="1114200" cy="8571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3" descr="jiv417"/>
          <p:cNvPicPr/>
          <p:nvPr/>
        </p:nvPicPr>
        <p:blipFill>
          <a:blip r:embed="rId11"/>
          <a:stretch/>
        </p:blipFill>
        <p:spPr>
          <a:xfrm>
            <a:off x="4067280" y="1844640"/>
            <a:ext cx="1114200" cy="8571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4" descr="jiv417"/>
          <p:cNvPicPr/>
          <p:nvPr/>
        </p:nvPicPr>
        <p:blipFill>
          <a:blip r:embed="rId12"/>
          <a:stretch/>
        </p:blipFill>
        <p:spPr>
          <a:xfrm>
            <a:off x="3348000" y="112536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5" descr="jiv417"/>
          <p:cNvPicPr/>
          <p:nvPr/>
        </p:nvPicPr>
        <p:blipFill>
          <a:blip r:embed="rId13"/>
          <a:stretch/>
        </p:blipFill>
        <p:spPr>
          <a:xfrm>
            <a:off x="2268360" y="83664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6" descr="jiv417"/>
          <p:cNvPicPr/>
          <p:nvPr/>
        </p:nvPicPr>
        <p:blipFill>
          <a:blip r:embed="rId14"/>
          <a:stretch/>
        </p:blipFill>
        <p:spPr>
          <a:xfrm>
            <a:off x="1116000" y="98100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7" descr="jiv417"/>
          <p:cNvPicPr/>
          <p:nvPr/>
        </p:nvPicPr>
        <p:blipFill>
          <a:blip r:embed="rId15"/>
          <a:stretch/>
        </p:blipFill>
        <p:spPr>
          <a:xfrm>
            <a:off x="179280" y="141300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8" descr="стаи"/>
          <p:cNvPicPr/>
          <p:nvPr/>
        </p:nvPicPr>
        <p:blipFill>
          <a:blip r:embed="rId16"/>
          <a:srcRect l="0" t="4467" r="0" b="4467"/>
          <a:stretch/>
        </p:blipFill>
        <p:spPr>
          <a:xfrm>
            <a:off x="179280" y="2782800"/>
            <a:ext cx="6048360" cy="38354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9" descr="jiv417"/>
          <p:cNvPicPr/>
          <p:nvPr/>
        </p:nvPicPr>
        <p:blipFill>
          <a:blip r:embed="rId17"/>
          <a:stretch/>
        </p:blipFill>
        <p:spPr>
          <a:xfrm>
            <a:off x="1116000" y="98100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0" descr="jiv418"/>
          <p:cNvPicPr/>
          <p:nvPr/>
        </p:nvPicPr>
        <p:blipFill>
          <a:blip r:embed="rId18"/>
          <a:stretch/>
        </p:blipFill>
        <p:spPr>
          <a:xfrm>
            <a:off x="7812000" y="4581360"/>
            <a:ext cx="1057320" cy="6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click?url=http%3A%2F%2Fdmitry"/>
          <p:cNvPicPr/>
          <p:nvPr/>
        </p:nvPicPr>
        <p:blipFill>
          <a:blip r:embed="rId1"/>
          <a:stretch/>
        </p:blipFill>
        <p:spPr>
          <a:xfrm>
            <a:off x="324000" y="404640"/>
            <a:ext cx="4163760" cy="29610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3" descr="click?url=http%3A%2F%2Fzhurnal"/>
          <p:cNvPicPr/>
          <p:nvPr/>
        </p:nvPicPr>
        <p:blipFill>
          <a:blip r:embed="rId2"/>
          <a:stretch/>
        </p:blipFill>
        <p:spPr>
          <a:xfrm>
            <a:off x="4643280" y="3500280"/>
            <a:ext cx="4348440" cy="32022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click?url=http%3A%2F%2Fxpam"/>
          <p:cNvPicPr/>
          <p:nvPr/>
        </p:nvPicPr>
        <p:blipFill>
          <a:blip r:embed="rId3"/>
          <a:srcRect l="0" t="6299" r="0" b="0"/>
          <a:stretch/>
        </p:blipFill>
        <p:spPr>
          <a:xfrm>
            <a:off x="4716360" y="404640"/>
            <a:ext cx="4105440" cy="28879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click?url=http%3A%2F%2Fwww"/>
          <p:cNvPicPr/>
          <p:nvPr/>
        </p:nvPicPr>
        <p:blipFill>
          <a:blip r:embed="rId4"/>
          <a:stretch/>
        </p:blipFill>
        <p:spPr>
          <a:xfrm>
            <a:off x="250920" y="3500280"/>
            <a:ext cx="4219560" cy="316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9:31:27Z</dcterms:created>
  <dc:creator>Home</dc:creator>
  <dc:description/>
  <dc:language>en-US</dc:language>
  <cp:lastModifiedBy>Админ</cp:lastModifiedBy>
  <dcterms:modified xsi:type="dcterms:W3CDTF">2011-11-18T18:41:56Z</dcterms:modified>
  <cp:revision>15</cp:revision>
  <dc:subject/>
  <dc:title>Слайд 1</dc:title>
</cp:coreProperties>
</file>