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FD6-4627-4145-B53C-7EADA112A5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E50-708F-4CA8-ADF2-C4B37ABB4DB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073-7E22-4130-BBC3-4B82DBCC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A5D-1430-479A-A74D-79D2D29E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3F956-20D6-44E5-8899-637056BF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72830-63C6-422B-996A-39D2A089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CF2CC-B435-42BC-B427-2243E2CC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7BDF1-401C-49C9-85CA-5F4C0BA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27336-EA12-4975-8D99-1E40141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5931E-90A4-41DD-A8EE-E81E2E8D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BF7EC-05E6-4553-8135-C68B150B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6936F-6D1C-49A2-929F-916F2E2E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0DBCB-979C-4718-9BB3-266005B5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70590-F3BB-4B99-92F4-991C4F70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7FC-6143-4D45-BEEC-E7D87D49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FED65-9211-4B01-AC6D-D387DB23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5225C-D93F-474D-ACCA-435A567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DACB8-08F0-4913-9D32-AFA0A85A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4A75D-ABF8-4849-B06D-6B78AE8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61C44-2A66-4DF7-88FD-B4864DD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5CE90-93F5-4EB5-BB75-C3E0BDA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B8513-B631-42B4-BDD5-FF7EBAF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DB59A-9E8A-4C87-9778-CD10D196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6A51E-A29E-4514-84EE-3890FA9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300BF-730C-434D-93F5-104B483E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E35-08C9-4E24-A8C1-9D0545C2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09B32-4FE5-4866-B5AC-F5671511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A48B8-D1E4-4A29-8362-13F7F638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0DEAF-2E8D-4403-9BAE-F7022546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5C5B-9B31-4CF9-BD0B-7134ED1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5C959-5464-44BA-B34C-3A008E4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C42C4-F68C-4582-8C45-2FBE2589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F0812-0582-4651-9422-98DF0B8C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516F3-DCA2-44EA-ABBD-4BDC329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25F5-45BC-4E2B-8E3A-D0FDAC3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1982F-2E79-4A7E-90EA-137B0BB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18A2-FE54-4E08-AFE7-78EA8EA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2C893-F8D4-41C6-B09A-D25DEFB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82C42-D820-49B4-9ABC-2332F4C1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9E9A0-531A-45E7-A1ED-1EC2C515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5C66A-F403-41E6-8C32-210A9744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45718-EF89-4CC7-904A-855FD57B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D4C3B-B191-405A-88BD-017FE20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F5181-13E3-4539-A24B-35147EEB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025ED-8CA2-4B7B-95B8-77115596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AC1B6-D550-4E89-844B-2EE61A4F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5EE15-36BA-47D8-84E0-CBD88BC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11E4-CB38-4666-98B3-38FF4244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5C6AA-C3E1-4690-BFDB-EB0B992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3EA5D-55D2-4CAB-B4E3-78C3F3B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C7745-AD17-4FD3-B821-59B6955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459B6-CF8F-4584-A12C-B49A962C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9FFD5-FCCE-44BD-B333-2DCB5D54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1CEA-7AF9-4511-A8EB-33DC0EE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62AD-FAA2-4175-BC01-1339B067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0FCB-391C-431A-8AE1-86CFD2E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A477-666D-40FB-9726-9441C4B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4C5-486A-4329-BB7D-E31E5CC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2A5-5E26-4F69-ACF7-02BD483A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E61A-1879-450A-AE9C-9C4C576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38A3-CC9E-4E0A-9E12-B552E21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DB1-E853-4C86-A7CC-5327DFEC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5218-A294-45F7-ACC1-02949D5B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BF45-0BBD-4058-8175-F979DD98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E0A3-2FD6-4255-8D6B-632655C4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00FB-F287-483A-A004-277B93C1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3FC7-B6AE-4432-9422-510D5B6D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A4CF-148C-4234-8770-B62238C0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C8E0-3D60-4980-AFC3-9A1A25F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71F-3BEF-4B25-95E8-BE0C6DBD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60076-20A7-42AA-AD55-9B6C2DD7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2564-21F3-4553-A64D-5DB0C2E6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7437-78DD-42DA-84EC-916129A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9D13-9033-4BCE-B9FF-C92378E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E0BD-66CB-4B21-ACCE-5578312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0C2C-78A7-4411-827E-11E2D037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C6BC-DD0D-4616-975C-8CCC1E4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F9410-1C39-4C2E-AD4B-86417F3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AA5F-A6F0-42C9-8CAB-A816703B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1A3F-F87E-4C68-B414-FA9CDE7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B8E-F97A-4962-A9D9-6499D10C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B06B-8459-4237-8788-70D05DE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BDDB-4156-44D8-80E9-65D454E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E33F-2B83-4469-9169-A9DDD9A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A2BD-972C-42A5-90D5-B4A1F3B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3275-DAC4-4547-AB95-1146960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5726-9504-4343-B7CE-350EAB8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71B3-552F-4701-96FD-31E577C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86EB-C2E6-4948-B221-5CDDA196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5613-C67A-47E0-8C77-E89A606D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B7F5-B017-4D16-A2A4-DF73F29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E91-3FA0-43E0-84BF-203F7E5F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644F-EA6B-4555-90DB-43D67CB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FB49-A25B-44FA-A206-A055C413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5C63-AA12-4096-B596-45E0427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40364-5593-475A-BC9D-90610C4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E21F2-E8DB-467C-A6E3-9566827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D508B-C0FE-4ADF-9AD7-B7FB9634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F7361-B5A4-485F-B86D-B1EF880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CB90-BFE8-4658-A175-34E9130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5113-50D1-49F7-A989-17BD6860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F2C4-2867-4A23-A760-29D6BAE0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49D-C01A-4377-8414-9C52CB2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CB63-24D7-444A-AA09-CADFDD8A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82D1-1346-49D0-812E-7101ABE9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D0801-628E-48F6-AA73-46228B1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13E5-787B-4DF6-94B2-9E3C845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84C1-57F2-4191-A4E3-2B57812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64237-528E-4CDF-B63D-04CC9A5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9EDF-A06B-41C6-8A2B-58ADD98C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D392-7433-43EA-B36F-0D3CC42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4F7BC-6ECA-43DC-A092-697D30AE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8FBA4-6B30-4B95-83F8-D7C0316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19E-A7BB-49C4-A33B-05DE9B31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8BCB-7974-46DA-A69C-C096123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3E6A-4D36-4F64-981D-E3310C81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5251-B576-4AF4-B2A4-E512127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5C4F-1295-4ED6-90B5-BAB40B08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617E-20C1-4962-8EA9-0F0B3D68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4958B-51F6-4D1B-9E61-E62ABFF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3FDF8-E783-4D67-B773-12A81400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99C3E-62BB-4492-BD24-E8853318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B67C-64B2-4155-AF78-95BE91F9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F8FA7-A26E-4C8C-807B-FD882243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00A-2A8A-4340-A710-40AAD47C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D7A5C-7ECB-4065-B254-9A51DD8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8CA6F-3C57-4C5C-A15D-62E3ED5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6F97-2D25-4129-B4B9-686A2C3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022A-01D2-4298-B590-CB786841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857B8-7373-4EE0-A079-921CA7A2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A475-8DED-4CA5-B763-3B9FD148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A6AB-51A9-4E68-99D7-E1C2DC64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B08B-7293-424C-BB65-52739B0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D25E-9CAE-44DB-BCDA-80C15119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6261-776A-4E4B-83F1-E315B822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2AD-9580-43A4-A12F-2E9D5B7E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571D-FCCE-4787-89C4-AEDBDB60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93AC-493B-4149-A45B-83CA089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DD9E9-2972-4F8E-BF3B-9964537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7240-F93A-4A77-B209-1AC2664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4149E-D126-4204-88C2-CFAAAD4A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0F62-CA7A-47F3-815F-8EF6006B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00678-BA6E-4FC5-AF16-D2AC8F19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FBF76-9B98-45FB-81F3-6DB22065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DC9C9-46A8-4E35-B436-281B99D0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E3BD4-D4D5-40BC-BBC2-48C22D2A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D218-4639-4087-9312-1DA580255B3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62A3-B0CE-48E1-99FB-5B746F4280F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0EF6-D376-40CF-9B36-F6767EC9B9D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BD1-EC22-4BAD-B99A-F51D81A132D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AD0A-3C08-46A7-85EE-57D591B906C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3C25-FCD0-47A7-889C-713B11ADEEC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C094-2E13-4A73-B2D6-E0F1A404CB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48D3-2DE7-4A33-B7AC-E785B8F8BB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272-F30E-4937-BEF6-3AA3D80E0E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8EC-DE38-418D-BFF2-CFBE22DA96B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B619-6DF8-4E98-A54A-D753CA4618D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A259-C66E-4CF4-972F-B88BDEB3AE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5.png"/><Relationship Id="rId17" Type="http://schemas.openxmlformats.org/officeDocument/2006/relationships/image" Target="../media/image14.gif"/><Relationship Id="rId18" Type="http://schemas.openxmlformats.org/officeDocument/2006/relationships/image" Target="../media/image16.gif"/><Relationship Id="rId1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Урок окружающего мира по теме:</a:t>
            </a:r>
            <a:br>
              <a:rPr sz="3200"/>
            </a:b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« Апрель»</a:t>
            </a:r>
            <a:br>
              <a:rPr sz="32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УМК «Начальная школа ХХ</a:t>
            </a: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 </a:t>
            </a: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века»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4" descr="апрель"/>
          <p:cNvPicPr/>
          <p:nvPr/>
        </p:nvPicPr>
        <p:blipFill>
          <a:blip r:embed="rId1"/>
          <a:stretch/>
        </p:blipFill>
        <p:spPr>
          <a:xfrm>
            <a:off x="1500120" y="2643120"/>
            <a:ext cx="63579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верба цветёт"/>
          <p:cNvPicPr/>
          <p:nvPr/>
        </p:nvPicPr>
        <p:blipFill>
          <a:blip r:embed="rId1"/>
          <a:srcRect l="1257" t="945" r="1257" b="945"/>
          <a:stretch/>
        </p:blipFill>
        <p:spPr>
          <a:xfrm>
            <a:off x="5054760" y="600120"/>
            <a:ext cx="3895560" cy="5226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260280" y="765000"/>
            <a:ext cx="474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Долго шла весна тайк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От ветров и стуж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 сегодня прямик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Шлёпает по луж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Гонит талые сне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 гомоном и звоно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Чтобы выстелить лу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Бархатом зелён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«Скоро, скоро, быть теплу!»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Эту новость пер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Барабанит по стек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ерой лапкой верб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                      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Л. А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click?url=http%3A%2F%2Fwww"/>
          <p:cNvPicPr/>
          <p:nvPr/>
        </p:nvPicPr>
        <p:blipFill>
          <a:blip r:embed="rId1"/>
          <a:stretch/>
        </p:blipFill>
        <p:spPr>
          <a:xfrm>
            <a:off x="900000" y="765000"/>
            <a:ext cx="6697800" cy="5908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7762320" y="60498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826920" y="260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Вылетела за первым медком пчёл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11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Высоко в небе поёт жаворонок. А мимо него всё лет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и летят новые гости – журавли, лебеди, аисты, гус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0" name="Picture 3" descr="click?url=http%3A%2F%2Ffloranimal"/>
          <p:cNvPicPr/>
          <p:nvPr/>
        </p:nvPicPr>
        <p:blipFill>
          <a:blip r:embed="rId1"/>
          <a:srcRect l="2841" t="2841" r="2841" b="2841"/>
          <a:stretch/>
        </p:blipFill>
        <p:spPr>
          <a:xfrm>
            <a:off x="266760" y="1139760"/>
            <a:ext cx="2922480" cy="29224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click?url=http%3A%2F%2Fwww"/>
          <p:cNvPicPr/>
          <p:nvPr/>
        </p:nvPicPr>
        <p:blipFill>
          <a:blip r:embed="rId2"/>
          <a:stretch/>
        </p:blipFill>
        <p:spPr>
          <a:xfrm>
            <a:off x="4357800" y="2928960"/>
            <a:ext cx="3652560" cy="263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5"/>
          <p:cNvSpPr/>
          <p:nvPr/>
        </p:nvSpPr>
        <p:spPr>
          <a:xfrm>
            <a:off x="234360" y="41054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477680" y="61214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летят журав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4" name="Picture 7" descr="7h"/>
          <p:cNvPicPr/>
          <p:nvPr/>
        </p:nvPicPr>
        <p:blipFill>
          <a:blip r:embed="rId3"/>
          <a:stretch/>
        </p:blipFill>
        <p:spPr>
          <a:xfrm>
            <a:off x="4019400" y="305748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7h"/>
          <p:cNvPicPr/>
          <p:nvPr/>
        </p:nvPicPr>
        <p:blipFill>
          <a:blip r:embed="rId4"/>
          <a:stretch/>
        </p:blipFill>
        <p:spPr>
          <a:xfrm>
            <a:off x="7236000" y="141300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9" descr="7h"/>
          <p:cNvPicPr/>
          <p:nvPr/>
        </p:nvPicPr>
        <p:blipFill>
          <a:blip r:embed="rId5"/>
          <a:stretch/>
        </p:blipFill>
        <p:spPr>
          <a:xfrm>
            <a:off x="5940360" y="227664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0" descr="7h"/>
          <p:cNvPicPr/>
          <p:nvPr/>
        </p:nvPicPr>
        <p:blipFill>
          <a:blip r:embed="rId6"/>
          <a:stretch/>
        </p:blipFill>
        <p:spPr>
          <a:xfrm>
            <a:off x="4716360" y="1700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1" descr="7h"/>
          <p:cNvPicPr/>
          <p:nvPr/>
        </p:nvPicPr>
        <p:blipFill>
          <a:blip r:embed="rId7"/>
          <a:stretch/>
        </p:blipFill>
        <p:spPr>
          <a:xfrm>
            <a:off x="3635280" y="1052640"/>
            <a:ext cx="11048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447840" y="33336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кворцы уже давно облюбовали себе домики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заботливо  устраивают тёплые гнёздыш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0" name="Picture 4" descr="click?url=http%3A%2F%2Fteatips"/>
          <p:cNvPicPr/>
          <p:nvPr/>
        </p:nvPicPr>
        <p:blipFill>
          <a:blip r:embed="rId1"/>
          <a:stretch/>
        </p:blipFill>
        <p:spPr>
          <a:xfrm>
            <a:off x="1500120" y="1714680"/>
            <a:ext cx="62866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083600" y="74520"/>
            <a:ext cx="63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 Black"/>
                <a:ea typeface="Arial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324000" y="836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олнышко с апрельской горки в лето кати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водой славен.  Апрель всех напо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с водою – май с тра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Где  в апреле река, там в июне – лужи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3" name="Picture 4" descr="апрель1"/>
          <p:cNvPicPr/>
          <p:nvPr/>
        </p:nvPicPr>
        <p:blipFill>
          <a:blip r:embed="rId1"/>
          <a:srcRect l="5597" t="7344" r="5597" b="7344"/>
          <a:stretch/>
        </p:blipFill>
        <p:spPr>
          <a:xfrm>
            <a:off x="2195640" y="2421000"/>
            <a:ext cx="4464000" cy="32716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324000" y="5670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Если утро туманное, то днём будет ясная по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Если на небе синие облака, то это к теплу и дожд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2844000" y="1413000"/>
            <a:ext cx="409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Н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3780000" y="2060640"/>
            <a:ext cx="25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4572720" y="2708280"/>
            <a:ext cx="222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2340720" y="3357720"/>
            <a:ext cx="45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СН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НИ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4573440" y="4076640"/>
            <a:ext cx="19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Ж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548720" y="4724280"/>
            <a:ext cx="40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ЛОВОД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тгадай!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Проблемная ситуация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7" descr="untitledся"/>
          <p:cNvPicPr/>
          <p:nvPr/>
        </p:nvPicPr>
        <p:blipFill>
          <a:blip r:embed="rId1"/>
          <a:stretch/>
        </p:blipFill>
        <p:spPr>
          <a:xfrm>
            <a:off x="539640" y="1557360"/>
            <a:ext cx="4319640" cy="439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 (128x128, 8Kb)"/>
          <p:cNvPicPr/>
          <p:nvPr/>
        </p:nvPicPr>
        <p:blipFill>
          <a:blip r:embed="rId2"/>
          <a:srcRect l="2923" t="17656" r="0" b="5846"/>
          <a:stretch/>
        </p:blipFill>
        <p:spPr>
          <a:xfrm>
            <a:off x="539640" y="342900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9"/>
          <p:cNvSpPr/>
          <p:nvPr/>
        </p:nvSpPr>
        <p:spPr>
          <a:xfrm>
            <a:off x="4932360" y="1270080"/>
            <a:ext cx="403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- Однажды, летая на воздушном шаре и пытаясь обмануть пчел, Вини-Пух задумался, что же происходит с приходом весны? Он обратился к друзьям: Пятачку, Сове, Кролику и Осли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- Кролик сказа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«Распускается первый весенний цветок подснежни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лик Иа: « Стало тепле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Сова ответила: «Просыпаются звери от зимней спячк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А  Пятачок утверждает, что самое главное – прилетают перелетные птиц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20200" y="9360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 Black"/>
                <a:ea typeface="Arial"/>
              </a:rPr>
              <a:t>А п р е л 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373040" y="836640"/>
            <a:ext cx="61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В народе апрель называют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 снегогон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Как вы думаете, почему?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4" descr="цuntitled"/>
          <p:cNvPicPr/>
          <p:nvPr/>
        </p:nvPicPr>
        <p:blipFill>
          <a:blip r:embed="rId1"/>
          <a:stretch/>
        </p:blipFill>
        <p:spPr>
          <a:xfrm>
            <a:off x="395280" y="1844640"/>
            <a:ext cx="5435640" cy="4226040"/>
          </a:xfrm>
          <a:prstGeom prst="rect">
            <a:avLst/>
          </a:prstGeom>
          <a:ln w="0">
            <a:noFill/>
          </a:ln>
        </p:spPr>
      </p:pic>
      <p:sp>
        <p:nvSpPr>
          <p:cNvPr id="622" name="AutoShape 5"/>
          <p:cNvSpPr/>
          <p:nvPr/>
        </p:nvSpPr>
        <p:spPr>
          <a:xfrm>
            <a:off x="3419640" y="1916280"/>
            <a:ext cx="5473440" cy="4752720"/>
          </a:xfrm>
          <a:prstGeom prst="cloudCallout">
            <a:avLst>
              <a:gd name="adj1" fmla="val 14296"/>
              <a:gd name="adj2" fmla="val -58685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Апрель -водолей. Солнце, снег и дождь вперемеш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Непостоянен обманщик - апрель: на дню семь пого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К концу этого месяца солнце красное прогоняет послед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ние остатки снега – поэтому апрель называют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него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ном.</a:t>
            </a: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 Куда не ступишь, куда ни посмотришь – везд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в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88800" y="549360"/>
            <a:ext cx="87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Ещё его называют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 ручейник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. Почему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3" descr="120untitled"/>
          <p:cNvPicPr/>
          <p:nvPr/>
        </p:nvPicPr>
        <p:blipFill>
          <a:blip r:embed="rId1"/>
          <a:stretch/>
        </p:blipFill>
        <p:spPr>
          <a:xfrm>
            <a:off x="324000" y="1628640"/>
            <a:ext cx="6913440" cy="46054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4"/>
          <p:cNvSpPr/>
          <p:nvPr/>
        </p:nvSpPr>
        <p:spPr>
          <a:xfrm>
            <a:off x="4246560" y="2465280"/>
            <a:ext cx="4718160" cy="4132440"/>
          </a:xfrm>
          <a:prstGeom prst="cloudCallout">
            <a:avLst>
              <a:gd name="adj1" fmla="val -2490"/>
              <a:gd name="adj2" fmla="val -78388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И конечно же, весёлые весенние ручейки! Хочеш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смотри, как вода играет, хочешь слушай, как  в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журчит, а хочешь брось в ручей щепку, и она сраз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превратиться в корабл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прель - это время ручьёв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А ещё -</a:t>
            </a:r>
            <a:r>
              <a:rPr b="0" lang="ru-RU" sz="3300" spc="-1" strike="noStrike" u="sng">
                <a:solidFill>
                  <a:srgbClr val="ff9900"/>
                </a:solidFill>
                <a:uFillTx/>
                <a:latin typeface="Georgia"/>
              </a:rPr>
              <a:t> берёзозол</a:t>
            </a: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. Почему?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4" descr="un33titled"/>
          <p:cNvPicPr/>
          <p:nvPr/>
        </p:nvPicPr>
        <p:blipFill>
          <a:blip r:embed="rId1"/>
          <a:srcRect l="29001" t="6281" r="5385" b="6715"/>
          <a:stretch/>
        </p:blipFill>
        <p:spPr>
          <a:xfrm>
            <a:off x="179280" y="1773360"/>
            <a:ext cx="4392720" cy="4895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click?url=http%3A%2F%2Ftomico"/>
          <p:cNvPicPr/>
          <p:nvPr/>
        </p:nvPicPr>
        <p:blipFill>
          <a:blip r:embed="rId2"/>
          <a:stretch/>
        </p:blipFill>
        <p:spPr>
          <a:xfrm>
            <a:off x="6588000" y="119700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77691"/>
          <p:cNvPicPr/>
          <p:nvPr/>
        </p:nvPicPr>
        <p:blipFill>
          <a:blip r:embed="rId3"/>
          <a:stretch/>
        </p:blipFill>
        <p:spPr>
          <a:xfrm>
            <a:off x="7524720" y="4581360"/>
            <a:ext cx="1351080" cy="180036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0"/>
          <p:cNvSpPr/>
          <p:nvPr/>
        </p:nvSpPr>
        <p:spPr>
          <a:xfrm>
            <a:off x="4284720" y="2781360"/>
            <a:ext cx="3313080" cy="3241440"/>
          </a:xfrm>
          <a:prstGeom prst="cloudCallout">
            <a:avLst>
              <a:gd name="adj1" fmla="val -9222"/>
              <a:gd name="adj2" fmla="val -88342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Месяц апрель для берёз очень зол, т.к. в этом месяце собирают берёзовый с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187280" y="2602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Запестрели повсюду весенние цветы.</a:t>
            </a: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2" name="Picture 3" descr="ni_17"/>
          <p:cNvPicPr/>
          <p:nvPr/>
        </p:nvPicPr>
        <p:blipFill>
          <a:blip r:embed="rId1"/>
          <a:stretch/>
        </p:blipFill>
        <p:spPr>
          <a:xfrm>
            <a:off x="714240" y="1214280"/>
            <a:ext cx="3311640" cy="2068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4"/>
          <p:cNvSpPr/>
          <p:nvPr/>
        </p:nvSpPr>
        <p:spPr>
          <a:xfrm>
            <a:off x="1695960" y="32846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4" name="Picture 5" descr="хохлатка"/>
          <p:cNvPicPr/>
          <p:nvPr/>
        </p:nvPicPr>
        <p:blipFill>
          <a:blip r:embed="rId2"/>
          <a:stretch/>
        </p:blipFill>
        <p:spPr>
          <a:xfrm>
            <a:off x="4859280" y="1285920"/>
            <a:ext cx="3313080" cy="210816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"/>
          <p:cNvSpPr/>
          <p:nvPr/>
        </p:nvSpPr>
        <p:spPr>
          <a:xfrm>
            <a:off x="5457600" y="32846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хохлат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6" name="Picture 8" descr="медуница2"/>
          <p:cNvPicPr/>
          <p:nvPr/>
        </p:nvPicPr>
        <p:blipFill>
          <a:blip r:embed="rId3"/>
          <a:stretch/>
        </p:blipFill>
        <p:spPr>
          <a:xfrm>
            <a:off x="3059280" y="4071960"/>
            <a:ext cx="3155760" cy="19288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3782160" y="6165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меду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Творческо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219640" y="2708280"/>
            <a:ext cx="37432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3300"/>
                </a:solidFill>
                <a:latin typeface="Georgia"/>
              </a:rPr>
              <a:t>Что мог увидеть подснежник в весеннем лесу в апреле?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4" descr="сканирование001001"/>
          <p:cNvPicPr/>
          <p:nvPr/>
        </p:nvPicPr>
        <p:blipFill>
          <a:blip r:embed="rId1"/>
          <a:srcRect l="6364" t="15573" r="810" b="12996"/>
          <a:stretch/>
        </p:blipFill>
        <p:spPr>
          <a:xfrm>
            <a:off x="468360" y="198900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588600" y="21744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 - это переселение птиц на роди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3" descr="bird29"/>
          <p:cNvPicPr/>
          <p:nvPr/>
        </p:nvPicPr>
        <p:blipFill>
          <a:blip r:embed="rId1"/>
          <a:stretch/>
        </p:blipFill>
        <p:spPr>
          <a:xfrm>
            <a:off x="7236000" y="242100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bird29"/>
          <p:cNvPicPr/>
          <p:nvPr/>
        </p:nvPicPr>
        <p:blipFill>
          <a:blip r:embed="rId2"/>
          <a:stretch/>
        </p:blipFill>
        <p:spPr>
          <a:xfrm>
            <a:off x="7812000" y="213372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bird29"/>
          <p:cNvPicPr/>
          <p:nvPr/>
        </p:nvPicPr>
        <p:blipFill>
          <a:blip r:embed="rId3"/>
          <a:stretch/>
        </p:blipFill>
        <p:spPr>
          <a:xfrm>
            <a:off x="7236000" y="69228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bird29"/>
          <p:cNvPicPr/>
          <p:nvPr/>
        </p:nvPicPr>
        <p:blipFill>
          <a:blip r:embed="rId4"/>
          <a:stretch/>
        </p:blipFill>
        <p:spPr>
          <a:xfrm>
            <a:off x="7812000" y="98100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bird29"/>
          <p:cNvPicPr/>
          <p:nvPr/>
        </p:nvPicPr>
        <p:blipFill>
          <a:blip r:embed="rId5"/>
          <a:stretch/>
        </p:blipFill>
        <p:spPr>
          <a:xfrm>
            <a:off x="5724360" y="692280"/>
            <a:ext cx="714600" cy="952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bird29"/>
          <p:cNvPicPr/>
          <p:nvPr/>
        </p:nvPicPr>
        <p:blipFill>
          <a:blip r:embed="rId6"/>
          <a:stretch/>
        </p:blipFill>
        <p:spPr>
          <a:xfrm>
            <a:off x="6516720" y="620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bird29"/>
          <p:cNvPicPr/>
          <p:nvPr/>
        </p:nvPicPr>
        <p:blipFill>
          <a:blip r:embed="rId7"/>
          <a:stretch/>
        </p:blipFill>
        <p:spPr>
          <a:xfrm>
            <a:off x="8028000" y="141300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bird29"/>
          <p:cNvPicPr/>
          <p:nvPr/>
        </p:nvPicPr>
        <p:blipFill>
          <a:blip r:embed="rId8"/>
          <a:stretch/>
        </p:blipFill>
        <p:spPr>
          <a:xfrm>
            <a:off x="4716360" y="54936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1" descr="jiv417"/>
          <p:cNvPicPr/>
          <p:nvPr/>
        </p:nvPicPr>
        <p:blipFill>
          <a:blip r:embed="rId9"/>
          <a:stretch/>
        </p:blipFill>
        <p:spPr>
          <a:xfrm>
            <a:off x="7236000" y="3860640"/>
            <a:ext cx="1114200" cy="8575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2" descr="jiv417"/>
          <p:cNvPicPr/>
          <p:nvPr/>
        </p:nvPicPr>
        <p:blipFill>
          <a:blip r:embed="rId10"/>
          <a:stretch/>
        </p:blipFill>
        <p:spPr>
          <a:xfrm>
            <a:off x="6372360" y="3284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3" descr="jiv417"/>
          <p:cNvPicPr/>
          <p:nvPr/>
        </p:nvPicPr>
        <p:blipFill>
          <a:blip r:embed="rId11"/>
          <a:stretch/>
        </p:blipFill>
        <p:spPr>
          <a:xfrm>
            <a:off x="4067280" y="1844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4" descr="jiv417"/>
          <p:cNvPicPr/>
          <p:nvPr/>
        </p:nvPicPr>
        <p:blipFill>
          <a:blip r:embed="rId12"/>
          <a:stretch/>
        </p:blipFill>
        <p:spPr>
          <a:xfrm>
            <a:off x="3348000" y="112536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" descr="jiv417"/>
          <p:cNvPicPr/>
          <p:nvPr/>
        </p:nvPicPr>
        <p:blipFill>
          <a:blip r:embed="rId13"/>
          <a:stretch/>
        </p:blipFill>
        <p:spPr>
          <a:xfrm>
            <a:off x="2268360" y="83664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jiv417"/>
          <p:cNvPicPr/>
          <p:nvPr/>
        </p:nvPicPr>
        <p:blipFill>
          <a:blip r:embed="rId14"/>
          <a:stretch/>
        </p:blipFill>
        <p:spPr>
          <a:xfrm>
            <a:off x="1116000" y="981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7" descr="jiv417"/>
          <p:cNvPicPr/>
          <p:nvPr/>
        </p:nvPicPr>
        <p:blipFill>
          <a:blip r:embed="rId15"/>
          <a:stretch/>
        </p:blipFill>
        <p:spPr>
          <a:xfrm>
            <a:off x="179280" y="1413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8" descr="стаи"/>
          <p:cNvPicPr/>
          <p:nvPr/>
        </p:nvPicPr>
        <p:blipFill>
          <a:blip r:embed="rId16"/>
          <a:srcRect l="0" t="4467" r="0" b="4467"/>
          <a:stretch/>
        </p:blipFill>
        <p:spPr>
          <a:xfrm>
            <a:off x="179280" y="2782800"/>
            <a:ext cx="6048360" cy="3835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9" descr="jiv417"/>
          <p:cNvPicPr/>
          <p:nvPr/>
        </p:nvPicPr>
        <p:blipFill>
          <a:blip r:embed="rId17"/>
          <a:stretch/>
        </p:blipFill>
        <p:spPr>
          <a:xfrm>
            <a:off x="1116000" y="981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0" descr="jiv418"/>
          <p:cNvPicPr/>
          <p:nvPr/>
        </p:nvPicPr>
        <p:blipFill>
          <a:blip r:embed="rId18"/>
          <a:stretch/>
        </p:blipFill>
        <p:spPr>
          <a:xfrm>
            <a:off x="7812000" y="4581360"/>
            <a:ext cx="105732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click?url=http%3A%2F%2Fdmitry"/>
          <p:cNvPicPr/>
          <p:nvPr/>
        </p:nvPicPr>
        <p:blipFill>
          <a:blip r:embed="rId1"/>
          <a:stretch/>
        </p:blipFill>
        <p:spPr>
          <a:xfrm>
            <a:off x="324000" y="404640"/>
            <a:ext cx="4163760" cy="2961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" descr="click?url=http%3A%2F%2Fzhurnal"/>
          <p:cNvPicPr/>
          <p:nvPr/>
        </p:nvPicPr>
        <p:blipFill>
          <a:blip r:embed="rId2"/>
          <a:stretch/>
        </p:blipFill>
        <p:spPr>
          <a:xfrm>
            <a:off x="4643280" y="3500280"/>
            <a:ext cx="4348440" cy="3202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click?url=http%3A%2F%2Fxpam"/>
          <p:cNvPicPr/>
          <p:nvPr/>
        </p:nvPicPr>
        <p:blipFill>
          <a:blip r:embed="rId3"/>
          <a:srcRect l="0" t="6299" r="0" b="0"/>
          <a:stretch/>
        </p:blipFill>
        <p:spPr>
          <a:xfrm>
            <a:off x="4716360" y="404640"/>
            <a:ext cx="4105440" cy="2887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click?url=http%3A%2F%2Fwww"/>
          <p:cNvPicPr/>
          <p:nvPr/>
        </p:nvPicPr>
        <p:blipFill>
          <a:blip r:embed="rId4"/>
          <a:stretch/>
        </p:blipFill>
        <p:spPr>
          <a:xfrm>
            <a:off x="250920" y="3500280"/>
            <a:ext cx="4219560" cy="316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9:31:27Z</dcterms:created>
  <dc:creator>Home</dc:creator>
  <dc:description/>
  <dc:language>en-US</dc:language>
  <cp:lastModifiedBy>Админ</cp:lastModifiedBy>
  <dcterms:modified xsi:type="dcterms:W3CDTF">2011-11-18T18:41:56Z</dcterms:modified>
  <cp:revision>15</cp:revision>
  <dc:subject/>
  <dc:title>Слайд 1</dc:title>
</cp:coreProperties>
</file>