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3.gif" ContentType="image/gif"/>
  <Override PartName="/ppt/media/image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1.png" ContentType="image/png"/>
  <Override PartName="/ppt/media/image16.gif" ContentType="image/gif"/>
  <Override PartName="/ppt/media/image14.gif" ContentType="image/gi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23FA-30BA-4E81-BEAE-C55177AE22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8B7E-81F8-4F4F-9934-ACE3E3B736D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94B-514E-43DB-8571-95B5D959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8DA-0F71-4D41-AE5C-9AE6D9A5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9C555-F110-4E76-BCD6-6763CB98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B9F28-8967-4305-BBDD-F53C653C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3CD11-186F-47D9-A2CB-20141A34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47943-83AD-450E-A4D2-AD3098B2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B3D1A-62BC-4040-A65A-B99A867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399C2-B038-4EC2-99EC-F895516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CDA27-3F94-49D3-99C2-EDD22379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A959A-1AA1-4FB9-A281-1E4617C9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88ABB-C838-464B-AA16-82FFAD84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F9BE4-FDE2-472D-A287-9513A2DB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2EA-C599-4DEF-B521-D8B73C82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C7528-9A23-49B7-AB3C-C6237FE1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556E9-80FF-4A51-B022-3E8D97D3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328DC-D436-41C2-9CD2-7A60EB09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61079-D406-4629-960F-9916B30B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A3A98-5F2C-4350-86D0-50766443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6B970-7283-4FAD-B8CB-7701B004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58639-BB21-48A4-8DF2-2325BB4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3C993-1808-4448-96E4-49AC8BE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8B388-E3B5-408D-BA31-D756735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3F046-1D00-409B-A5C0-71652AAC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841-504F-425F-8B50-81D0D7EA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F3B38-9384-415D-B36D-B4F6AA5F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0F631-66AD-47FB-860F-D5A7F235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D9F47-BE2F-436C-AD44-8EF3E126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98BAB-EF18-4EC6-B0BA-DB4E8DD9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66671-3C69-4805-9D7D-C1D971BB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C99F4-952C-4D5A-AE5A-05A50E59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2D56A-5087-4094-881B-D7CA7CE7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BFAE7-157E-4A63-BE03-D49A4CA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8BAAB-2CF7-4B82-9D9C-C0AD2013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90B48-B30D-4A63-9A9B-7545D55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C410-378A-4B3E-B2EE-A37783D6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D8087-97B5-4723-BD3B-17F8C811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6E1FA-EE3A-4CFD-8A35-27D97780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B697F-16CF-4C77-AC35-D51F331D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0F274-C03A-4C88-9E2F-B3CEE2B4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B0C58-7B6B-4479-B878-3F117319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0009D-F4DD-445D-B6D5-D499137F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853F84-F44D-40CB-90DE-BB62D74F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23521-6084-480D-8E12-84FDAF27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3ECA7-ED1A-4A82-9D5D-CECADDDF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3F5FA-E96D-4F1F-B00D-EAC84829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888E-9396-4B96-B004-3B9A09CD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92447-7C7A-4F5F-AF75-D5C71FA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82119-8AC0-4EF2-896B-A3ACA04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BFB79-0B7A-4861-A46E-A1B882C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7EC36-42BA-4DFB-BC62-D8F85719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67D7CB-ED96-4E59-BD38-C5D813EE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082A-7547-4BAD-BCBD-87AF2999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05CD-0AA3-4A0D-B851-1FAA7851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BEE5-E382-41EA-903F-AD9C799E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F789-6B78-4D50-ACC9-399FFAAB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F032-AC2A-4347-AAA8-E907B970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0A5-FB6F-40AA-9F0C-DA666F34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DA06-B87C-4F7C-99B2-565B3B7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EA06-E09B-4738-AD85-682E6CDE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014C-A7E3-421C-86A2-2312C4A4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304A-D2B7-4BF7-AB8D-F6612486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38B2-70B5-4F9F-9AD9-ED6B56B3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091A-987C-4CD4-9E98-AAFC9338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6207-9997-45FD-8E30-09F41D6D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86AE-C8C8-4C4B-A656-785353FC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45C3-65B7-4504-A321-524D4345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0A6F-F8CA-44AB-A297-F3009DBE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1E6-6A50-495D-A22D-70523433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6D90-3641-4FD7-91F9-D21BF313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F4C19-8093-413F-A782-3053FEE1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D346-A34E-448C-9028-A03DF9CC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4702-1EBB-421F-89A9-94A0EDC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DBEE-45CD-4444-B3C5-B35DF432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06C6-F44C-452A-8ABD-CE4C98E5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5A549-FD53-460B-B8B6-F00BCB91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B2B7-C064-46AA-9BCF-82A5B942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8498-1573-474A-AA2D-4314EEB2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3A9F0-B5B2-454B-8B63-FB2F4B72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5CC-6EEA-4A14-8D06-FEA8687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16071-6D72-431E-A9FB-C1394224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6521-5C1E-4B6A-9B9D-BBCFED58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3A945-6E68-4EDC-BF1F-EFC6BA85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92AC-9CA0-4043-860E-A549A42C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D861-B380-492B-B2A0-A6614DE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B538-56CF-4D29-9D48-A1151CDE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EE3B-62C8-4849-A09B-1760F192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14AAA-F910-4E3F-9C06-30DE529C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5F24C-96D9-453C-9142-0FFA1472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D43F7-F658-4F6A-849C-9C8A5AF3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463-3701-4E6E-9A38-2158032B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0BD7-C0E4-431F-AB04-5E8E7D5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92C86-F98F-476E-81CC-02D6627A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D1A3-C031-4579-94C3-B5F3CFBD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69B8-BA6F-441D-B860-2ED8F229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C60F-329C-4A4E-97AE-764FC67D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A23D0-8EF0-45B3-B3A4-AF6F93D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7E79-A28B-45FF-B1CB-C66FF67A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ADC1B-09FA-47C6-A3F8-CAF8AAD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4F45-3336-4690-9DB0-FB5FC78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9B97-73D6-4B27-B24D-663FDA6C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AF6-F17F-4DED-A4BD-C7E7E40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5CC0-8678-4B77-A7FA-73334073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3A20-CDC0-473A-B45F-C3B61453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36035-582B-4038-8A3E-440226B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3CF4-BA28-491C-A851-12B7B414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AEA7-8912-47B2-B925-D94002C8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BEB05-75F2-4E58-9F08-5B5F8F3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E9B7E-2379-420B-B965-A5461FFE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14C4-35EB-48CA-8216-DFF4925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7C2C6-E19B-4635-A8B1-3FF006E1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75DDD-86BF-4181-9260-9DA6D63C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004-7A46-49AF-8DE9-34F9A12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327DA-7194-431F-B1C5-06769912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9C9F-DDA2-41D3-AEEE-6CFED5EF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EC0F6-886C-4E3F-A89B-DD749E2B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39B9F-CA50-4281-A9CC-137FE50D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7CB1D-2F15-4100-8959-FBAE71E9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63D9E-A31C-4778-905A-339CA5FA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C6831-D9D9-4F8B-AFE6-4F7615C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C2AB-AAFA-4364-B734-53052E9D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9CB6B-9DBC-4025-A330-867D33F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EE97-BD79-4B1F-A415-E4ED15B5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EF4-1EA2-4AE2-9729-13D15565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C0025-F350-4182-A9FE-18ADC95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93A8-52A0-438A-AF7C-3D573AA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B0FD0-ED7E-483C-A4C8-9B39B77E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CF46F-A8C0-412E-9896-0468F443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AC59-A655-4D47-B951-6FDE7E62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15422-36FD-4D96-AF91-CBD983D1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1F3B5-D1DC-4B88-8134-1A299F5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78AB5-9227-41B2-89AB-1B237D8E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588E-616A-4425-AE05-E5EB18A9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02D5C-D930-4091-A324-F84BD986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F9A-2E90-4A51-B024-EEFA7BFE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CD103-4CD9-4E0C-B080-4370C819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B831-19D0-4BAD-AF30-32B2A2B2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ECB68-5BAE-408A-A96F-8E6CC33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314FD-87DA-41AD-9821-4F7A1CB0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2690B-349F-4597-8851-369BDA9A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DC19D-6F93-4976-8530-E8B09C31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01600-6E66-4B02-802A-CA575455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82E8D-FCCD-4A3D-9EE7-79586729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325B4-67EB-4E0A-B66B-266902FB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17820-AB18-4AAE-9A1E-EEEC6022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65DE-87EA-40AF-A9B5-D661CE08B7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AAE7-5ADC-4A4E-8726-A8BE81C057A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7E92-76B1-488B-9442-CEC1E860930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83F1-E038-494E-8A35-564B79E9FBE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EC80-9F0C-419C-95E6-71E7039A968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0612-2B63-42AC-8FE9-85E51F0352E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9B0-3761-44E1-B0C4-D5FAC90DF41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BC2E-B819-474D-AFB5-BD3640ACFD7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666E-D781-4983-8D1D-53A68C8F484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9A7B-52C7-4511-BEFE-5514DBA502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33F3-960F-4B6D-84FF-2F98CB7E275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7AA8-35BA-4C77-8DE5-4CB6F8D2291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image" Target="../media/image15.png"/><Relationship Id="rId17" Type="http://schemas.openxmlformats.org/officeDocument/2006/relationships/image" Target="../media/image14.gif"/><Relationship Id="rId18" Type="http://schemas.openxmlformats.org/officeDocument/2006/relationships/image" Target="../media/image16.gif"/><Relationship Id="rId1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Урок окружающего мира по теме:</a:t>
            </a:r>
            <a:br>
              <a:rPr sz="3200"/>
            </a:b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« Апрель»</a:t>
            </a:r>
            <a:br>
              <a:rPr sz="3200"/>
            </a:b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УМК «Начальная школа ХХ</a:t>
            </a: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 </a:t>
            </a:r>
            <a:r>
              <a:rPr b="0" lang="ru-RU" sz="3200" spc="-1" strike="noStrike">
                <a:solidFill>
                  <a:srgbClr val="d16349"/>
                </a:solidFill>
                <a:latin typeface="Georgia"/>
              </a:rPr>
              <a:t>века»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4" descr="апрель"/>
          <p:cNvPicPr/>
          <p:nvPr/>
        </p:nvPicPr>
        <p:blipFill>
          <a:blip r:embed="rId1"/>
          <a:stretch/>
        </p:blipFill>
        <p:spPr>
          <a:xfrm>
            <a:off x="1500120" y="2643120"/>
            <a:ext cx="63579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верба цветёт"/>
          <p:cNvPicPr/>
          <p:nvPr/>
        </p:nvPicPr>
        <p:blipFill>
          <a:blip r:embed="rId1"/>
          <a:srcRect l="1257" t="945" r="1257" b="945"/>
          <a:stretch/>
        </p:blipFill>
        <p:spPr>
          <a:xfrm>
            <a:off x="5054760" y="600120"/>
            <a:ext cx="3895560" cy="5226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260280" y="765000"/>
            <a:ext cx="4745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Долго шла весна тайк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От ветров и стуж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 сегодня прямико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Шлёпает по луж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Гонит талые сне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 гомоном и звоно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Чтобы выстелить лу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Бархатом зелёны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«Скоро, скоро, быть теплу!»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Эту новость перв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Барабанит по стекл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ерой лапкой верб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                      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Л. А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click?url=http%3A%2F%2Fwww"/>
          <p:cNvPicPr/>
          <p:nvPr/>
        </p:nvPicPr>
        <p:blipFill>
          <a:blip r:embed="rId1"/>
          <a:stretch/>
        </p:blipFill>
        <p:spPr>
          <a:xfrm>
            <a:off x="900000" y="765000"/>
            <a:ext cx="6697800" cy="59086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7762320" y="6049800"/>
            <a:ext cx="11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826920" y="260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Вылетела за первым медком пчёл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11592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Высоко в небе поёт жаворонок. А мимо него всё летя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и летят новые гости – журавли, лебеди, аисты, гус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0" name="Picture 3" descr="click?url=http%3A%2F%2Ffloranimal"/>
          <p:cNvPicPr/>
          <p:nvPr/>
        </p:nvPicPr>
        <p:blipFill>
          <a:blip r:embed="rId1"/>
          <a:srcRect l="2841" t="2841" r="2841" b="2841"/>
          <a:stretch/>
        </p:blipFill>
        <p:spPr>
          <a:xfrm>
            <a:off x="266760" y="1139760"/>
            <a:ext cx="2922480" cy="29224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4" descr="click?url=http%3A%2F%2Fwww"/>
          <p:cNvPicPr/>
          <p:nvPr/>
        </p:nvPicPr>
        <p:blipFill>
          <a:blip r:embed="rId2"/>
          <a:stretch/>
        </p:blipFill>
        <p:spPr>
          <a:xfrm>
            <a:off x="4357800" y="2928960"/>
            <a:ext cx="3652560" cy="2635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5"/>
          <p:cNvSpPr/>
          <p:nvPr/>
        </p:nvSpPr>
        <p:spPr>
          <a:xfrm>
            <a:off x="234360" y="41054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жаворон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4477680" y="612144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летят журав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4" name="Picture 7" descr="7h"/>
          <p:cNvPicPr/>
          <p:nvPr/>
        </p:nvPicPr>
        <p:blipFill>
          <a:blip r:embed="rId3"/>
          <a:stretch/>
        </p:blipFill>
        <p:spPr>
          <a:xfrm>
            <a:off x="4019400" y="305748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7h"/>
          <p:cNvPicPr/>
          <p:nvPr/>
        </p:nvPicPr>
        <p:blipFill>
          <a:blip r:embed="rId4"/>
          <a:stretch/>
        </p:blipFill>
        <p:spPr>
          <a:xfrm>
            <a:off x="7236000" y="141300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9" descr="7h"/>
          <p:cNvPicPr/>
          <p:nvPr/>
        </p:nvPicPr>
        <p:blipFill>
          <a:blip r:embed="rId5"/>
          <a:stretch/>
        </p:blipFill>
        <p:spPr>
          <a:xfrm>
            <a:off x="5940360" y="227664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0" descr="7h"/>
          <p:cNvPicPr/>
          <p:nvPr/>
        </p:nvPicPr>
        <p:blipFill>
          <a:blip r:embed="rId6"/>
          <a:stretch/>
        </p:blipFill>
        <p:spPr>
          <a:xfrm>
            <a:off x="4716360" y="170028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1" descr="7h"/>
          <p:cNvPicPr/>
          <p:nvPr/>
        </p:nvPicPr>
        <p:blipFill>
          <a:blip r:embed="rId7"/>
          <a:stretch/>
        </p:blipFill>
        <p:spPr>
          <a:xfrm>
            <a:off x="3635280" y="1052640"/>
            <a:ext cx="110484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447840" y="333360"/>
            <a:ext cx="83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кворцы уже давно облюбовали себе домики 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заботливо  устраивают тёплые гнёздыш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0" name="Picture 4" descr="click?url=http%3A%2F%2Fteatips"/>
          <p:cNvPicPr/>
          <p:nvPr/>
        </p:nvPicPr>
        <p:blipFill>
          <a:blip r:embed="rId1"/>
          <a:stretch/>
        </p:blipFill>
        <p:spPr>
          <a:xfrm>
            <a:off x="1500120" y="1714680"/>
            <a:ext cx="62866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1083600" y="74520"/>
            <a:ext cx="63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 Black"/>
                <a:ea typeface="Arial"/>
              </a:rPr>
              <a:t>Народные примет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324000" y="8366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Солнышко с апрельской горки в лето кати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водой славен.  Апрель всех напои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с водою – май с траво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Где  в апреле река, там в июне – лужиц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3" name="Picture 4" descr="апрель1"/>
          <p:cNvPicPr/>
          <p:nvPr/>
        </p:nvPicPr>
        <p:blipFill>
          <a:blip r:embed="rId1"/>
          <a:srcRect l="5597" t="7344" r="5597" b="7344"/>
          <a:stretch/>
        </p:blipFill>
        <p:spPr>
          <a:xfrm>
            <a:off x="2195640" y="2421000"/>
            <a:ext cx="4464000" cy="32716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324000" y="56707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Если утро туманное, то днём будет ясная по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Если на небе синие облака, то это к теплу и дожд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2844000" y="1413000"/>
            <a:ext cx="409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Т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Н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3780000" y="2060640"/>
            <a:ext cx="25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4572720" y="2708280"/>
            <a:ext cx="222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2340720" y="3357720"/>
            <a:ext cx="45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ДСН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НИК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4573440" y="4076640"/>
            <a:ext cx="19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Ж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548720" y="4724280"/>
            <a:ext cx="40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ЛОВОД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Отгадай!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Проблемная ситуация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6" name="Picture 7" descr="untitledся"/>
          <p:cNvPicPr/>
          <p:nvPr/>
        </p:nvPicPr>
        <p:blipFill>
          <a:blip r:embed="rId1"/>
          <a:stretch/>
        </p:blipFill>
        <p:spPr>
          <a:xfrm>
            <a:off x="539640" y="1557360"/>
            <a:ext cx="4319640" cy="439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 (128x128, 8Kb)"/>
          <p:cNvPicPr/>
          <p:nvPr/>
        </p:nvPicPr>
        <p:blipFill>
          <a:blip r:embed="rId2"/>
          <a:srcRect l="2923" t="17656" r="0" b="5846"/>
          <a:stretch/>
        </p:blipFill>
        <p:spPr>
          <a:xfrm>
            <a:off x="539640" y="342900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9"/>
          <p:cNvSpPr/>
          <p:nvPr/>
        </p:nvSpPr>
        <p:spPr>
          <a:xfrm>
            <a:off x="4932360" y="1270080"/>
            <a:ext cx="403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- Однажды, летая на воздушном шаре и пытаясь обмануть пчел, Вини-Пух задумался, что же происходит с приходом весны? Он обратился к друзьям: Пятачку, Сове, Кролику и Ослик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- Кролик сказа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«Распускается первый весенний цветок подснежник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лик Иа: « Стало теплее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Сова ответила: «Просыпаются звери от зимней спячк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А  Пятачок утверждает, что самое главное – прилетают перелетные птиц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20200" y="93600"/>
            <a:ext cx="314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 Black"/>
                <a:ea typeface="Arial"/>
              </a:rPr>
              <a:t>А п р е л 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1373040" y="836640"/>
            <a:ext cx="61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В народе апрель называют</a:t>
            </a:r>
            <a:r>
              <a:rPr b="1" lang="ru-RU" sz="2400" spc="-1" strike="noStrike" u="sng">
                <a:solidFill>
                  <a:srgbClr val="ff9900"/>
                </a:solidFill>
                <a:uFillTx/>
                <a:latin typeface="Arial"/>
              </a:rPr>
              <a:t> снегогон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Как вы думаете, почему?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1" name="Picture 4" descr="цuntitled"/>
          <p:cNvPicPr/>
          <p:nvPr/>
        </p:nvPicPr>
        <p:blipFill>
          <a:blip r:embed="rId1"/>
          <a:stretch/>
        </p:blipFill>
        <p:spPr>
          <a:xfrm>
            <a:off x="395280" y="1844640"/>
            <a:ext cx="5435640" cy="4226040"/>
          </a:xfrm>
          <a:prstGeom prst="rect">
            <a:avLst/>
          </a:prstGeom>
          <a:ln w="0">
            <a:noFill/>
          </a:ln>
        </p:spPr>
      </p:pic>
      <p:sp>
        <p:nvSpPr>
          <p:cNvPr id="622" name="AutoShape 5"/>
          <p:cNvSpPr/>
          <p:nvPr/>
        </p:nvSpPr>
        <p:spPr>
          <a:xfrm>
            <a:off x="3419640" y="1916280"/>
            <a:ext cx="5473440" cy="4752720"/>
          </a:xfrm>
          <a:prstGeom prst="cloudCallout">
            <a:avLst>
              <a:gd name="adj1" fmla="val 14296"/>
              <a:gd name="adj2" fmla="val -58685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Апрель -водолей. Солнце, снег и дождь вперемешк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Непостоянен обманщик - апрель: на дню семь пого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К концу этого месяца солнце красное прогоняет послед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ние остатки снега – поэтому апрель называют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него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гоном.</a:t>
            </a: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 Куда не ступишь, куда ни посмотришь – везд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во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88800" y="549360"/>
            <a:ext cx="87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Ещё его называют</a:t>
            </a:r>
            <a:r>
              <a:rPr b="1" lang="ru-RU" sz="3200" spc="-1" strike="noStrike" u="sng">
                <a:solidFill>
                  <a:srgbClr val="ff9900"/>
                </a:solidFill>
                <a:uFillTx/>
                <a:latin typeface="Arial"/>
              </a:rPr>
              <a:t> ручейник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. Почему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3" descr="120untitled"/>
          <p:cNvPicPr/>
          <p:nvPr/>
        </p:nvPicPr>
        <p:blipFill>
          <a:blip r:embed="rId1"/>
          <a:stretch/>
        </p:blipFill>
        <p:spPr>
          <a:xfrm>
            <a:off x="324000" y="1628640"/>
            <a:ext cx="6913440" cy="460548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4"/>
          <p:cNvSpPr/>
          <p:nvPr/>
        </p:nvSpPr>
        <p:spPr>
          <a:xfrm>
            <a:off x="4246560" y="2465280"/>
            <a:ext cx="4718160" cy="4132440"/>
          </a:xfrm>
          <a:prstGeom prst="cloudCallout">
            <a:avLst>
              <a:gd name="adj1" fmla="val -2490"/>
              <a:gd name="adj2" fmla="val -78388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И конечно же, весёлые весенние ручейки! Хочеш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смотри, как вода играет, хочешь слушай, как  в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журчит, а хочешь брось в ручей щепку, и она сраз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превратиться в корабл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Апрель - это время ручьёв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А ещё -</a:t>
            </a:r>
            <a:r>
              <a:rPr b="0" lang="ru-RU" sz="3300" spc="-1" strike="noStrike" u="sng">
                <a:solidFill>
                  <a:srgbClr val="ff9900"/>
                </a:solidFill>
                <a:uFillTx/>
                <a:latin typeface="Georgia"/>
              </a:rPr>
              <a:t> берёзозол</a:t>
            </a: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. Почему?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7" name="Picture 4" descr="un33titled"/>
          <p:cNvPicPr/>
          <p:nvPr/>
        </p:nvPicPr>
        <p:blipFill>
          <a:blip r:embed="rId1"/>
          <a:srcRect l="29001" t="6281" r="5385" b="6715"/>
          <a:stretch/>
        </p:blipFill>
        <p:spPr>
          <a:xfrm>
            <a:off x="179280" y="1773360"/>
            <a:ext cx="4392720" cy="48956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click?url=http%3A%2F%2Ftomico"/>
          <p:cNvPicPr/>
          <p:nvPr/>
        </p:nvPicPr>
        <p:blipFill>
          <a:blip r:embed="rId2"/>
          <a:stretch/>
        </p:blipFill>
        <p:spPr>
          <a:xfrm>
            <a:off x="6588000" y="1197000"/>
            <a:ext cx="2268720" cy="3024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77691"/>
          <p:cNvPicPr/>
          <p:nvPr/>
        </p:nvPicPr>
        <p:blipFill>
          <a:blip r:embed="rId3"/>
          <a:stretch/>
        </p:blipFill>
        <p:spPr>
          <a:xfrm>
            <a:off x="7524720" y="4581360"/>
            <a:ext cx="1351080" cy="180036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0"/>
          <p:cNvSpPr/>
          <p:nvPr/>
        </p:nvSpPr>
        <p:spPr>
          <a:xfrm>
            <a:off x="4284720" y="2781360"/>
            <a:ext cx="3313080" cy="3241440"/>
          </a:xfrm>
          <a:prstGeom prst="cloudCallout">
            <a:avLst>
              <a:gd name="adj1" fmla="val -9222"/>
              <a:gd name="adj2" fmla="val -88342"/>
            </a:avLst>
          </a:prstGeom>
          <a:solidFill>
            <a:srgbClr val="00a3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5d1d7"/>
                </a:solidFill>
                <a:latin typeface="Arial"/>
              </a:rPr>
              <a:t>Месяц апрель для берёз очень зол, т.к. в этом месяце собирают берёзовый со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1187280" y="26028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    </a:t>
            </a: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Запестрели повсюду весенние цветы.</a:t>
            </a:r>
            <a:r>
              <a:rPr b="1" lang="ru-RU" sz="2400" spc="-1" strike="noStrike">
                <a:solidFill>
                  <a:srgbClr val="ccb400"/>
                </a:solidFill>
                <a:latin typeface="Arial Blac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2" name="Picture 3" descr="ni_17"/>
          <p:cNvPicPr/>
          <p:nvPr/>
        </p:nvPicPr>
        <p:blipFill>
          <a:blip r:embed="rId1"/>
          <a:stretch/>
        </p:blipFill>
        <p:spPr>
          <a:xfrm>
            <a:off x="714240" y="1214280"/>
            <a:ext cx="3311640" cy="2068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4"/>
          <p:cNvSpPr/>
          <p:nvPr/>
        </p:nvSpPr>
        <p:spPr>
          <a:xfrm>
            <a:off x="1695960" y="32846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4" name="Picture 5" descr="хохлатка"/>
          <p:cNvPicPr/>
          <p:nvPr/>
        </p:nvPicPr>
        <p:blipFill>
          <a:blip r:embed="rId2"/>
          <a:stretch/>
        </p:blipFill>
        <p:spPr>
          <a:xfrm>
            <a:off x="4859280" y="1285920"/>
            <a:ext cx="3313080" cy="210816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6"/>
          <p:cNvSpPr/>
          <p:nvPr/>
        </p:nvSpPr>
        <p:spPr>
          <a:xfrm>
            <a:off x="5457600" y="328464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хохлат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6" name="Picture 8" descr="медуница2"/>
          <p:cNvPicPr/>
          <p:nvPr/>
        </p:nvPicPr>
        <p:blipFill>
          <a:blip r:embed="rId3"/>
          <a:stretch/>
        </p:blipFill>
        <p:spPr>
          <a:xfrm>
            <a:off x="3059280" y="4071960"/>
            <a:ext cx="3155760" cy="19288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9"/>
          <p:cNvSpPr/>
          <p:nvPr/>
        </p:nvSpPr>
        <p:spPr>
          <a:xfrm>
            <a:off x="3782160" y="61657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  <a:ea typeface="Arial"/>
              </a:rPr>
              <a:t>меду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9900"/>
                </a:solidFill>
                <a:latin typeface="Georgia"/>
              </a:rPr>
              <a:t>Творческое зад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219640" y="2708280"/>
            <a:ext cx="37432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3300"/>
                </a:solidFill>
                <a:latin typeface="Georgia"/>
              </a:rPr>
              <a:t>Что мог увидеть подснежник в весеннем лесу в апреле?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4" descr="сканирование001001"/>
          <p:cNvPicPr/>
          <p:nvPr/>
        </p:nvPicPr>
        <p:blipFill>
          <a:blip r:embed="rId1"/>
          <a:srcRect l="6364" t="15573" r="810" b="12996"/>
          <a:stretch/>
        </p:blipFill>
        <p:spPr>
          <a:xfrm>
            <a:off x="468360" y="1989000"/>
            <a:ext cx="4464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588600" y="21744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  <a:ea typeface="Arial"/>
              </a:rPr>
              <a:t>Апрель  - это переселение птиц на роди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2" name="Picture 3" descr="bird29"/>
          <p:cNvPicPr/>
          <p:nvPr/>
        </p:nvPicPr>
        <p:blipFill>
          <a:blip r:embed="rId1"/>
          <a:stretch/>
        </p:blipFill>
        <p:spPr>
          <a:xfrm>
            <a:off x="7236000" y="242100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bird29"/>
          <p:cNvPicPr/>
          <p:nvPr/>
        </p:nvPicPr>
        <p:blipFill>
          <a:blip r:embed="rId2"/>
          <a:stretch/>
        </p:blipFill>
        <p:spPr>
          <a:xfrm>
            <a:off x="7812000" y="213372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bird29"/>
          <p:cNvPicPr/>
          <p:nvPr/>
        </p:nvPicPr>
        <p:blipFill>
          <a:blip r:embed="rId3"/>
          <a:stretch/>
        </p:blipFill>
        <p:spPr>
          <a:xfrm>
            <a:off x="7236000" y="69228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bird29"/>
          <p:cNvPicPr/>
          <p:nvPr/>
        </p:nvPicPr>
        <p:blipFill>
          <a:blip r:embed="rId4"/>
          <a:stretch/>
        </p:blipFill>
        <p:spPr>
          <a:xfrm>
            <a:off x="7812000" y="98100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bird29"/>
          <p:cNvPicPr/>
          <p:nvPr/>
        </p:nvPicPr>
        <p:blipFill>
          <a:blip r:embed="rId5"/>
          <a:stretch/>
        </p:blipFill>
        <p:spPr>
          <a:xfrm>
            <a:off x="5724360" y="692280"/>
            <a:ext cx="714600" cy="952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8" descr="bird29"/>
          <p:cNvPicPr/>
          <p:nvPr/>
        </p:nvPicPr>
        <p:blipFill>
          <a:blip r:embed="rId6"/>
          <a:stretch/>
        </p:blipFill>
        <p:spPr>
          <a:xfrm>
            <a:off x="6516720" y="62064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9" descr="bird29"/>
          <p:cNvPicPr/>
          <p:nvPr/>
        </p:nvPicPr>
        <p:blipFill>
          <a:blip r:embed="rId7"/>
          <a:stretch/>
        </p:blipFill>
        <p:spPr>
          <a:xfrm>
            <a:off x="8028000" y="141300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0" descr="bird29"/>
          <p:cNvPicPr/>
          <p:nvPr/>
        </p:nvPicPr>
        <p:blipFill>
          <a:blip r:embed="rId8"/>
          <a:stretch/>
        </p:blipFill>
        <p:spPr>
          <a:xfrm>
            <a:off x="4716360" y="54936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1" descr="jiv417"/>
          <p:cNvPicPr/>
          <p:nvPr/>
        </p:nvPicPr>
        <p:blipFill>
          <a:blip r:embed="rId9"/>
          <a:stretch/>
        </p:blipFill>
        <p:spPr>
          <a:xfrm>
            <a:off x="7236000" y="3860640"/>
            <a:ext cx="1114200" cy="8575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2" descr="jiv417"/>
          <p:cNvPicPr/>
          <p:nvPr/>
        </p:nvPicPr>
        <p:blipFill>
          <a:blip r:embed="rId10"/>
          <a:stretch/>
        </p:blipFill>
        <p:spPr>
          <a:xfrm>
            <a:off x="6372360" y="328464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3" descr="jiv417"/>
          <p:cNvPicPr/>
          <p:nvPr/>
        </p:nvPicPr>
        <p:blipFill>
          <a:blip r:embed="rId11"/>
          <a:stretch/>
        </p:blipFill>
        <p:spPr>
          <a:xfrm>
            <a:off x="4067280" y="184464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4" descr="jiv417"/>
          <p:cNvPicPr/>
          <p:nvPr/>
        </p:nvPicPr>
        <p:blipFill>
          <a:blip r:embed="rId12"/>
          <a:stretch/>
        </p:blipFill>
        <p:spPr>
          <a:xfrm>
            <a:off x="3348000" y="112536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5" descr="jiv417"/>
          <p:cNvPicPr/>
          <p:nvPr/>
        </p:nvPicPr>
        <p:blipFill>
          <a:blip r:embed="rId13"/>
          <a:stretch/>
        </p:blipFill>
        <p:spPr>
          <a:xfrm>
            <a:off x="2268360" y="83664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6" descr="jiv417"/>
          <p:cNvPicPr/>
          <p:nvPr/>
        </p:nvPicPr>
        <p:blipFill>
          <a:blip r:embed="rId14"/>
          <a:stretch/>
        </p:blipFill>
        <p:spPr>
          <a:xfrm>
            <a:off x="1116000" y="981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7" descr="jiv417"/>
          <p:cNvPicPr/>
          <p:nvPr/>
        </p:nvPicPr>
        <p:blipFill>
          <a:blip r:embed="rId15"/>
          <a:stretch/>
        </p:blipFill>
        <p:spPr>
          <a:xfrm>
            <a:off x="179280" y="1413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8" descr="стаи"/>
          <p:cNvPicPr/>
          <p:nvPr/>
        </p:nvPicPr>
        <p:blipFill>
          <a:blip r:embed="rId16"/>
          <a:srcRect l="0" t="4467" r="0" b="4467"/>
          <a:stretch/>
        </p:blipFill>
        <p:spPr>
          <a:xfrm>
            <a:off x="179280" y="2782800"/>
            <a:ext cx="6048360" cy="38354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9" descr="jiv417"/>
          <p:cNvPicPr/>
          <p:nvPr/>
        </p:nvPicPr>
        <p:blipFill>
          <a:blip r:embed="rId17"/>
          <a:stretch/>
        </p:blipFill>
        <p:spPr>
          <a:xfrm>
            <a:off x="1116000" y="98100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0" descr="jiv418"/>
          <p:cNvPicPr/>
          <p:nvPr/>
        </p:nvPicPr>
        <p:blipFill>
          <a:blip r:embed="rId18"/>
          <a:stretch/>
        </p:blipFill>
        <p:spPr>
          <a:xfrm>
            <a:off x="7812000" y="4581360"/>
            <a:ext cx="105732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click?url=http%3A%2F%2Fdmitry"/>
          <p:cNvPicPr/>
          <p:nvPr/>
        </p:nvPicPr>
        <p:blipFill>
          <a:blip r:embed="rId1"/>
          <a:stretch/>
        </p:blipFill>
        <p:spPr>
          <a:xfrm>
            <a:off x="324000" y="404640"/>
            <a:ext cx="4163760" cy="29610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" descr="click?url=http%3A%2F%2Fzhurnal"/>
          <p:cNvPicPr/>
          <p:nvPr/>
        </p:nvPicPr>
        <p:blipFill>
          <a:blip r:embed="rId2"/>
          <a:stretch/>
        </p:blipFill>
        <p:spPr>
          <a:xfrm>
            <a:off x="4643280" y="3500280"/>
            <a:ext cx="4348440" cy="3202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click?url=http%3A%2F%2Fxpam"/>
          <p:cNvPicPr/>
          <p:nvPr/>
        </p:nvPicPr>
        <p:blipFill>
          <a:blip r:embed="rId3"/>
          <a:srcRect l="0" t="6299" r="0" b="0"/>
          <a:stretch/>
        </p:blipFill>
        <p:spPr>
          <a:xfrm>
            <a:off x="4716360" y="404640"/>
            <a:ext cx="4105440" cy="2887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click?url=http%3A%2F%2Fwww"/>
          <p:cNvPicPr/>
          <p:nvPr/>
        </p:nvPicPr>
        <p:blipFill>
          <a:blip r:embed="rId4"/>
          <a:stretch/>
        </p:blipFill>
        <p:spPr>
          <a:xfrm>
            <a:off x="250920" y="3500280"/>
            <a:ext cx="4219560" cy="316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9:31:27Z</dcterms:created>
  <dc:creator>Home</dc:creator>
  <dc:description/>
  <dc:language>en-US</dc:language>
  <cp:lastModifiedBy>Админ</cp:lastModifiedBy>
  <dcterms:modified xsi:type="dcterms:W3CDTF">2011-11-18T18:41:56Z</dcterms:modified>
  <cp:revision>15</cp:revision>
  <dc:subject/>
  <dc:title>Слайд 1</dc:title>
</cp:coreProperties>
</file>