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E26-005E-4E49-B39E-3E3D7742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866-7025-489A-BE86-E2E0762C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D91-BB62-4067-B884-624CD99F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FD6-AAF0-463E-B2B9-2B29978D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9567-9996-4A68-8558-E6618005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2A40-D4E5-4B89-932A-ED454357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795D-7C55-475B-943D-E8B6BF2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7DAB-CB17-4F29-8AFE-20DDCA84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816A-9958-436C-B575-3D817626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991B-830D-4659-8808-FB1CE9FE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A607-2CCE-42C2-BC36-EFEE518E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D43-AFBA-4FCC-91AE-3CF45AC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B13F-7FD9-47B7-A5A7-AE6D9B39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A34C-6466-43E2-8EC3-16374A64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1CD6-EB61-48DF-A571-41101796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7873-AB0E-4E1D-A25F-01EAB71B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4E4B-B714-4F67-AF49-9D43E95A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922-B0BC-4963-8397-A9101795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B3E-CD92-46E1-84B0-B31F5CF5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141-C018-4EEF-A6ED-0D5332FD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4EE-36BB-4AE8-BDA4-A46F23DE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01D-BA61-45C8-924F-C923512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7FD-A88C-4DFF-AB4C-FA2ABF27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EFA-5029-4BC4-BA83-CF6AAA2A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AD97-3ADB-416C-89FE-D24A453F45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17B2-731B-4F5D-8200-0D7B920FFE8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785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имволика чисел в русских народных сказках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(Проектно-исследовательская работа)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ыполнил Лузин Сергей, ученик 6 А класса МОУ «СОШ 13»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Научный руководитель: Румянцева И.А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7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дно из ряда священных чисел . Оно символизирует тайну, а также изучение и знание, как путь неизвестного и невидимого. В традициях Древней Руси число 7 применялось в колдовстве и заклинания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4176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1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то число высшего совершенства, так считается во всем мире. Дюжина составлена из умножения двух совершенных чисел 3 и 4, следовательно , она и есть верх совершенства. На большинстве языков дюжина означает дюжее, т.е. крепкое, здорово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294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этом числе соединились языческие и христианские тради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708360" y="2421000"/>
            <a:ext cx="54356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то число появилось после того, как возникла потребность людей в больших числах. В русских народных сказках используется для обозначения понятия «очень много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4572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имеры употребления числа 100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Доброе слово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арик заплатил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рублей; а Иван Несчастный пошёл домой, приходит, хвать – денег нету, дорогою вырони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Знахарь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вели жеребца из лесу; дал барин знахарю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рублев, и пошла об нём слава по всему царств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Вор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Коли так,- говорит барин,- вот тебе мой приказ: украдь у меня чёрного  быка из-под плуга;        уворуешь – дам тебе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рублей, не уворуешь – влеплю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 ст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плет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«…наслоение числительных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 Сказка о Ерше Ершовиче, сыне Щетинников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ршишко – кропачишко, ершишко – пагубнишко склался на дровнишки со своими маленькими ребятишками; пошёл он в Кам – реку, из Кам – реки в Трос – реку, из Трос – реки в Кубенское озеро, из Кубенского  озера в Ростовское озеро и в этом озере выпросился остаться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на одну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ночку;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одной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чки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е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чки,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у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чек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е н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дели,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у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ель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в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сяца,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от двух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месяцев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а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да, а от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двух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дов жил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тридцать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аблица употребления чисел в сказк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26920" y="2781360"/>
          <a:ext cx="8137800" cy="2152440"/>
        </p:xfrm>
        <a:graphic>
          <a:graphicData uri="http://schemas.openxmlformats.org/drawingml/2006/table">
            <a:tbl>
              <a:tblPr/>
              <a:tblGrid>
                <a:gridCol w="760680"/>
                <a:gridCol w="527040"/>
                <a:gridCol w="527040"/>
                <a:gridCol w="525240"/>
                <a:gridCol w="527040"/>
                <a:gridCol w="528840"/>
                <a:gridCol w="525240"/>
                <a:gridCol w="528840"/>
                <a:gridCol w="527040"/>
                <a:gridCol w="525600"/>
                <a:gridCol w="527040"/>
                <a:gridCol w="528480"/>
                <a:gridCol w="527040"/>
                <a:gridCol w="525600"/>
                <a:gridCol w="52704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Частотность употребления чисел в сказк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26920" y="2349360"/>
          <a:ext cx="769320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69320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64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Числительные в русских народных сказках играют немаловажную рол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Изучение роли числительных помогает почувствовать красоту текста, его смысловую наполненнос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Числ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олезное, нужно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Помогает, решает, дела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Без него не обойдется человек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Наставник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учение употребления чисел в русских народных сказках, исследование их символи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671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уги по 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сложная, смыслов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интересная, исследовательск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магическая, мощ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важная, величествен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обворожительная, объективная, объём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Л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лирическая, лучистая, легендар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интеллектуальная, информацион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К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колдовская, креатив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– актуальная, альтернативн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5" descr="BOOK"/>
          <p:cNvPicPr/>
          <p:nvPr/>
        </p:nvPicPr>
        <p:blipFill>
          <a:blip r:embed="rId1"/>
          <a:stretch/>
        </p:blipFill>
        <p:spPr>
          <a:xfrm>
            <a:off x="6948360" y="5373720"/>
            <a:ext cx="1621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исследова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брать сведения о символике чисел, анализируя литературные источник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йти примеры употребления чисел в русских народных сказка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анализировать частотность употребления чисел в данных произведения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делать  сравнительно-сопоставительный анализ  употребления чисел и обобщить полученные результат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рия появления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 одной из легенд именно Прометей, который украл на Олимпе огонь и отдал его людям, заодно познакомил их с числами и научил грамотно управляться с их значение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3384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означает начало, что-то единственное, очень малое, но существенное. Его характерными чертами являются сила, энергичность, воля, актив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401796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асто символизирует парность, четность, удвоение. Воплощает в себе нечто преходящее, неустойчивое, делимое. Несет в себе женское начало, и именно от него произошел мир чисе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44276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вященное, счастливое число.  Показывает, в основном, положительные качества: священность совершенного поступка, храбрость и огромную сил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600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Лиса- исповедниц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иса с насести-то так со страху полетела, что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недели лежала в лихорадк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Напуганные медведь и волки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 чём ты, ходя, плачешь, на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трёх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ногах скачешь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Медведь, собака и кошк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т дня через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вышел кобель со двора и видит, что кошка совсем  с голоду издыха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«Жадная старуха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ротился старик домой – изба новая, словно чаша полная, денег куры не клюют, хлеба на много лет хватит, а что коров, лошадей, овец –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в тр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дня не сосчитать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исло 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Звери в яме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т их набралось в яме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четверо,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стали они горевать, как им еду добывать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озьма Скоробогатый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ил – поживал Кузенька один – одинёшенек в тёмном лесу; у него был худой домишко, да один петушок, да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пя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уроч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6:12:57Z</dcterms:created>
  <dc:creator>Сан Леон</dc:creator>
  <dc:description/>
  <dc:language>en-US</dc:language>
  <cp:lastModifiedBy>Сан Леон</cp:lastModifiedBy>
  <dcterms:modified xsi:type="dcterms:W3CDTF">2009-04-07T15:59:58Z</dcterms:modified>
  <cp:revision>7</cp:revision>
  <dc:subject/>
  <dc:title>Символика чисел в русских народных сказках (Проектно-исследовательская работа)</dc:title>
</cp:coreProperties>
</file>