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598-4C8A-46E1-A8E8-3DA041FB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88B-492A-439D-A829-5770FA0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20B-B57E-455A-8CC4-2F1BEA95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CD1-20C2-4298-AD92-8B988302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ACD-1BB2-4078-B4EA-FF2479D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FCE7-698F-4321-9BA9-074B9AE5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711-6D7B-4C05-9755-172EB3C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6EF2-5DA4-4780-8EA7-A6D3FEDB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367-6598-48BE-90A6-DF87414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03B8-91CE-4228-B113-D22C748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6DC-6677-4EC9-8102-4C3DB8E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ACD-5A67-42C2-A0F6-ABE4B015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4286-EF13-450C-B45D-186C09FF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1327-8D59-4063-A649-8179F09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5E03-B632-415F-8BEC-3C08D0CB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AD1E-9B56-4B36-A227-D4ABD2B6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201-6D58-4455-8D4C-5A82561A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508-402F-482A-A411-542AA1F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E51-04CD-48DF-A8C1-A844170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05E-210C-4EA2-A6DB-9DD0F5D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F77-EBCB-4C20-9730-74BD2C81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A86-6D08-4895-B381-ABF1BA5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D32-C799-4A8A-8AC6-EBDD21A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D5A-8633-4B9C-8C31-BFE2237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939-376E-4632-B3F5-353FCD2602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AD9-2E47-46AA-8A13-78214F547F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имволика чисел в русских народных сказках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(Проектно-исследовательская работа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 Лузин Сергей, ученик 6 А класса МОУ «СОШ 13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Научный руководитель: Румянцева И.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7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о из ряда священных чисел . Оно символизирует тайну, а также изучение и знание, как путь неизвестного и невидимого. В традициях Древней Руси число 7 применялось в колдовстве и заклинан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76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то число высшего совершенства, так считается во всем мире. Дюжина составлена из умножения двух совершенных чисел 3 и 4, следовательно , она и есть верх совершенства. На большинстве языков дюжина означает дюжее, т.е. крепкое, здоров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294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этом числе соединились языческие и христианские тради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5435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о число появилось после того, как возникла потребность людей в больших числах. В русских народных сказках используется для обозначения понятия «очень мног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5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меры употребления числа 1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Доброе слов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рик заплатил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; а Иван Несчастный пошёл домой, приходит, хвать – денег нету, дорогою выро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Знахарь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вели жеребца из лесу; дал барин знахар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в, и пошла об нём слава по всему царст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ор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Коли так,- говорит барин,- вот тебе мой приказ: украдь у меня чёрного  быка из-под плуга;        уворуешь – дам тебе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, не уворуешь – влепл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лет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…наслоение числительных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 Сказка о Ерше Ершовиче, сыне Щетинников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ршишко – кропачишко, ершишко – пагубнишко склался на дровнишки со своими маленькими ребятишками; пошёл он в Кам – реку, из Кам – реки в Трос – реку, из Трос – реки в Кубенское озеро, из Кубенского  озера в Ростовское озеро и в этом озере выпросился остаться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дн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очку;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дно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ек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дел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ел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сяца,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т дву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сяцев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а, а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ов жил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тридц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блица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2781360"/>
          <a:ext cx="8137800" cy="2152440"/>
        </p:xfrm>
        <a:graphic>
          <a:graphicData uri="http://schemas.openxmlformats.org/drawingml/2006/table">
            <a:tbl>
              <a:tblPr/>
              <a:tblGrid>
                <a:gridCol w="760680"/>
                <a:gridCol w="527040"/>
                <a:gridCol w="527040"/>
                <a:gridCol w="525240"/>
                <a:gridCol w="527040"/>
                <a:gridCol w="528840"/>
                <a:gridCol w="525240"/>
                <a:gridCol w="528840"/>
                <a:gridCol w="527040"/>
                <a:gridCol w="525600"/>
                <a:gridCol w="527040"/>
                <a:gridCol w="528480"/>
                <a:gridCol w="527040"/>
                <a:gridCol w="525600"/>
                <a:gridCol w="5270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астотность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349360"/>
          <a:ext cx="769320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6932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Числительные в русских народных сказках играют немаловажную рол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зучение роли числительных помогает почувствовать красоту текста, его смысловую наполнен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исл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лезное, нуж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могает, решает, дела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Без него не обойдется челове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аставн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ение употребления чисел в русских народных сказках, исследование их символ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6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уги по 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ложная, смыслов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ресная, исследовательск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магическая, мощ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важная, величестве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обворожительная, объективная, объём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лирическая, лучистая, легендар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ллектуальная, информацио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колдовская, кре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актуальная, альтерн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5" descr="BOOK"/>
          <p:cNvPicPr/>
          <p:nvPr/>
        </p:nvPicPr>
        <p:blipFill>
          <a:blip r:embed="rId1"/>
          <a:stretch/>
        </p:blipFill>
        <p:spPr>
          <a:xfrm>
            <a:off x="6948360" y="5373720"/>
            <a:ext cx="1621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рать сведения о символике чисел, анализируя литературные источни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йти примеры употребления чисел в русских народных сказка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анализировать частотность употребления чисел в данных произведен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ть  сравнительно-сопоставительный анализ  употребления чисел и обобщить полученные результа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появления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одной из легенд именно Прометей, который украл на Олимпе огонь и отдал его людям, заодно познакомил их с числами и научил грамотно управляться с их значен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38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значает начало, что-то единственное, очень малое, но существенное. Его характерными чертами являются сила, энергичность, воля, актив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асто символизирует парность, четность, удвоение. Воплощает в себе нечто преходящее, неустойчивое, делимое. Несет в себе женское начало, и именно от него произошел мир чисе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щенное, счастливое число.  Показывает, в основном, положительные качества: священность совершенного поступка, храбрость и огромную сил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600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Лиса- исповедниц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са с насести-то так со страху полетела, чт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едели лежала в лихорадк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апуганные медведь и волки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 чём ты, ходя, плачешь, на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трё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огах скачешь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Медведь, собака и кошк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т дня через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вышел кобель со двора и видит, что кошка совсем  с голоду издыха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Жадная старух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ротился старик домой – изба новая, словно чаша полная, денег куры не клюют, хлеба на много лет хватит, а что коров, лошадей, овец –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в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дня не сосчит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Звери в яме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т их набралось в ям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четверо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стали они горевать, как им еду добыв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озьма Скоробогатый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ил – поживал Кузенька один – одинёшенек в тёмном лесу; у него был худой домишко, да один петушок, да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пя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уроч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6:12:57Z</dcterms:created>
  <dc:creator>Сан Леон</dc:creator>
  <dc:description/>
  <dc:language>en-US</dc:language>
  <cp:lastModifiedBy>Сан Леон</cp:lastModifiedBy>
  <dcterms:modified xsi:type="dcterms:W3CDTF">2009-04-07T15:59:58Z</dcterms:modified>
  <cp:revision>7</cp:revision>
  <dc:subject/>
  <dc:title>Символика чисел в русских народных сказках (Проектно-исследовательская работа)</dc:title>
</cp:coreProperties>
</file>