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D4F-D138-40CA-B80D-F8A95860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38A-05C9-4050-BE9E-8E18097A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9CA-163D-4268-8067-8406378A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88A-4593-4CA6-8909-774865A1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5116-5B0C-445E-A3C7-2E54EB5F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5D6A-376A-4186-ABB8-92818CB2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AFAF-465B-4A7E-8816-FD90F163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DC16-CDBE-4080-B6F8-6F122D2E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64C5-9BEE-4A89-B2EA-18DD0A7D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BF9F-7B3E-4E7F-970C-24FCFBE2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9DDB-DDB3-4459-921C-BE30D7B0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823-8F08-43AA-A076-589871D6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4EF0-9AA3-418D-954B-92656CFF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817A-9D7B-4C3D-9F44-BBE1AEE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5B97-C95A-487E-BEC4-CB7998DA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1A7C-08A4-42FD-84E8-053923E3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3EB2-BA7D-4098-B2EC-7656CD2D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47F-9CAE-4194-99FC-D3E80DAA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064-6E53-4BDC-80D8-0A0A91E8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F69-8144-486A-BB2C-61D3787D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182-035F-4FA6-AF99-AE96BB0D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C10-CED1-4DAC-B255-5DE8C1E8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870-62BE-4AF2-AD21-1529CA8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537-04F9-4304-B751-28BA05D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60A2-BCBC-4803-AFA4-F5A5102639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F381-9D62-4E7A-8ABD-51AA0E5B5C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785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имволика чисел в русских народных сказках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(Проектно-исследовательская работа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ыполнил Лузин Сергей, ученик 6 А класса МОУ «СОШ 13»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Научный руководитель: Румянцева И.А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7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дно из ряда священных чисел . Оно символизирует тайну, а также изучение и знание, как путь неизвестного и невидимого. В традициях Древней Руси число 7 применялось в колдовстве и заклинания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4176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Это число высшего совершенства, так считается во всем мире. Дюжина составлена из умножения двух совершенных чисел 3 и 4, следовательно , она и есть верх совершенства. На большинстве языков дюжина означает дюжее, т.е. крепкое, здорово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294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этом числе соединились языческие и христианские тради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708360" y="2421000"/>
            <a:ext cx="54356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то число появилось после того, как возникла потребность людей в больших числах. В русских народных сказках используется для обозначения понятия «очень много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4572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имеры употребления числа 10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Доброе слово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арик заплатил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рублей; а Иван Несчастный пошёл домой, приходит, хвать – денег нету, дорогою вырони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Знахарь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вели жеребца из лесу; дал барин знахарю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ст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рублев, и пошла об нём слава по всему царст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Вор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Коли так,- говорит барин,- вот тебе мой приказ: украдь у меня чёрного  быка из-под плуга;        уворуешь – дам тебе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т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рублей, не уворуешь – влеплю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ст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лет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«…наслоение числительных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 Сказка о Ерше Ершовиче, сыне Щетинникове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ршишко – кропачишко, ершишко – пагубнишко склался на дровнишки со своими маленькими ребятишками; пошёл он в Кам – реку, из Кам – реки в Трос – реку, из Трос – реки в Кубенское озеро, из Кубенского  озера в Ростовское озеро и в этом озере выпросился остаться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на одн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ночку; от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одной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чки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е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чки, от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ух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чек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е н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дели, от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ух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дель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в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сяца,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от дву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есяцев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да, а от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ух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дов жил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тридцать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аблица употребления чисел в сказк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26920" y="2781360"/>
          <a:ext cx="8137800" cy="2152440"/>
        </p:xfrm>
        <a:graphic>
          <a:graphicData uri="http://schemas.openxmlformats.org/drawingml/2006/table">
            <a:tbl>
              <a:tblPr/>
              <a:tblGrid>
                <a:gridCol w="760680"/>
                <a:gridCol w="527040"/>
                <a:gridCol w="527040"/>
                <a:gridCol w="525240"/>
                <a:gridCol w="527040"/>
                <a:gridCol w="528840"/>
                <a:gridCol w="525240"/>
                <a:gridCol w="528840"/>
                <a:gridCol w="527040"/>
                <a:gridCol w="525600"/>
                <a:gridCol w="527040"/>
                <a:gridCol w="528480"/>
                <a:gridCol w="527040"/>
                <a:gridCol w="525600"/>
                <a:gridCol w="52704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Частотность употребления чисел в сказк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26920" y="2349360"/>
          <a:ext cx="769320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69320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64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Числительные в русских народных сказках играют немаловажную рол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Изучение роли числительных помогает почувствовать красоту текста, его смысловую наполненност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Числ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Полезное, нужно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Помогает, решает, дела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Без него не обойдется челове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Наставник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рабо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учение употребления чисел в русских народных сказках, исследование их символ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3671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руги по 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сложная, смыслов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интересная, исследовательск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магическая, мощ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В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важная, величествен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обворожительная, объективная, объём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лирическая, лучистая, легендар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интеллектуальная, информацион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колдовская, креатив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актуальная, альтернатив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5" descr="BOOK"/>
          <p:cNvPicPr/>
          <p:nvPr/>
        </p:nvPicPr>
        <p:blipFill>
          <a:blip r:embed="rId1"/>
          <a:stretch/>
        </p:blipFill>
        <p:spPr>
          <a:xfrm>
            <a:off x="6948360" y="5373720"/>
            <a:ext cx="1621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исследова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брать сведения о символике чисел, анализируя литературные источник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йти примеры употребления чисел в русских народных сказках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анализировать частотность употребления чисел в данных произведениях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делать  сравнительно-сопоставительный анализ  употребления чисел и обобщить полученные результат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тория появления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одной из легенд именно Прометей, который украл на Олимпе огонь и отдал его людям, заодно познакомил их с числами и научил грамотно управляться с их значение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48360" y="2205000"/>
            <a:ext cx="3384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означает начало, что-то единственное, очень малое, но существенное. Его характерными чертами являются сила, энергичность, воля, актив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40179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асто символизирует парность, четность, удвоение. Воплощает в себе нечто преходящее, неустойчивое, делимое. Несет в себе женское начало, и именно от него произошел мир чисе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44276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вященное, счастливое число.  Показывает, в основном, положительные качества: священность совершенного поступка, храбрость и огромную сил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600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Лиса- исповедница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иса с насести-то так со страху полетела, чт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недели лежала в лихорадк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Напуганные медведь и волки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 чём ты, ходя, плачешь, на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трё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ногах скачешь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Медведь, собака и кошка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т дня через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вышел кобель со двора и видит, что кошка совсем  с голоду издыха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Жадная старуха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ротился старик домой – изба новая, словно чаша полная, денег куры не клюют, хлеба на много лет хватит, а что коров, лошадей, овец –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в 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дня не сосчитать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Звери в яме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т их набралось в яме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четверо,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стали они горевать, как им еду добыва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Козьма Скоробогатый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Жил – поживал Кузенька один – одинёшенек в тёмном лесу; у него был худой домишко, да один петушок, да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пя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уроч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6:12:57Z</dcterms:created>
  <dc:creator>Сан Леон</dc:creator>
  <dc:description/>
  <dc:language>en-US</dc:language>
  <cp:lastModifiedBy>Сан Леон</cp:lastModifiedBy>
  <dcterms:modified xsi:type="dcterms:W3CDTF">2009-04-07T15:59:58Z</dcterms:modified>
  <cp:revision>7</cp:revision>
  <dc:subject/>
  <dc:title>Символика чисел в русских народных сказках (Проектно-исследовательская работа)</dc:title>
</cp:coreProperties>
</file>