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CAE1-1EA6-40E7-938A-AFC2102C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F10-A82F-4AAF-BAB2-2ABCBAB8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572-FD1E-4E3A-BC06-A171943D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5B7-EE02-4D28-BD8B-31768374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7B1-0F71-4B1C-827D-FFDB308C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7D2-FD99-4A36-A019-DB8C818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950-9C75-4476-9C25-2B5652F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7D2-49E0-4F5A-9552-7086047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C34-B897-42D1-8BD5-C6A8326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63B-F294-4DFE-8BFE-7BCFF7B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E3C-540A-40FB-BBCE-52415BD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49A-C633-4525-8DED-65E1A5F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92d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055A-CAED-453D-92CD-33C6A368B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домик.jpg"/>
          <p:cNvPicPr/>
          <p:nvPr/>
        </p:nvPicPr>
        <p:blipFill>
          <a:blip r:embed="rId1"/>
          <a:srcRect l="0" t="1381" r="0" b="0"/>
          <a:stretch/>
        </p:blipFill>
        <p:spPr>
          <a:xfrm>
            <a:off x="571680" y="357120"/>
            <a:ext cx="7920000" cy="5857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0" y="492912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6c0a"/>
                </a:solidFill>
                <a:latin typeface="Constantia"/>
              </a:rPr>
              <a:t>Таинственные узо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14200" y="357120"/>
            <a:ext cx="4429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о внешний мир не всегда добр и, порой, от него надо защищать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нали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е только закрывали щели в оконном проеме от сквозняков и холода, они защищали дом от нечистой силы.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ОКОШКО.jpg"/>
          <p:cNvPicPr/>
          <p:nvPr/>
        </p:nvPicPr>
        <p:blipFill>
          <a:blip r:embed="rId1"/>
          <a:stretch/>
        </p:blipFill>
        <p:spPr>
          <a:xfrm>
            <a:off x="4429080" y="357120"/>
            <a:ext cx="450072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214200" y="21420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наличник.jpg"/>
          <p:cNvPicPr/>
          <p:nvPr/>
        </p:nvPicPr>
        <p:blipFill>
          <a:blip r:embed="rId1"/>
          <a:stretch/>
        </p:blipFill>
        <p:spPr>
          <a:xfrm>
            <a:off x="214200" y="21420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72000" y="21420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смотря на огромное разнообразие узоров, в них выделяются отдельные повторяющиеся образы. Эти же образы можно найти в русской народной вышивке. Чтобы ребенок был здоров, семья крепка и богата, женщина плодовита, необходимо было оградить их магическими заклинаниями. Именно эти заклинания и прорисованы в узорах вышивальщ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начит и узоры на наличниках несут в себе ту же магическую сил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еще узор.jpg"/>
          <p:cNvPicPr/>
          <p:nvPr/>
        </p:nvPicPr>
        <p:blipFill>
          <a:blip r:embed="rId1"/>
          <a:stretch/>
        </p:blipFill>
        <p:spPr>
          <a:xfrm>
            <a:off x="214200" y="142920"/>
            <a:ext cx="4229280" cy="6388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572000" y="214200"/>
            <a:ext cx="4572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было одним из самых важных событий в жизни наших древних предков? Наверное, рождение. И женщина-мать должна была стать главной фигурой.</a:t>
            </a: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1.jpg"/>
          <p:cNvPicPr/>
          <p:nvPr/>
        </p:nvPicPr>
        <p:blipFill>
          <a:blip r:embed="rId1"/>
          <a:stretch/>
        </p:blipFill>
        <p:spPr>
          <a:xfrm>
            <a:off x="500040" y="285840"/>
            <a:ext cx="2032200" cy="2361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берегиня.jpg"/>
          <p:cNvPicPr/>
          <p:nvPr/>
        </p:nvPicPr>
        <p:blipFill>
          <a:blip r:embed="rId2"/>
          <a:stretch/>
        </p:blipFill>
        <p:spPr>
          <a:xfrm>
            <a:off x="6000840" y="214200"/>
            <a:ext cx="2870280" cy="367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берегиня-2.jpg"/>
          <p:cNvPicPr/>
          <p:nvPr/>
        </p:nvPicPr>
        <p:blipFill>
          <a:blip r:embed="rId3"/>
          <a:stretch/>
        </p:blipFill>
        <p:spPr>
          <a:xfrm>
            <a:off x="2857680" y="1000080"/>
            <a:ext cx="2730240" cy="26035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285840" y="39290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игурка с раскинутыми руками и ногами - фигурка женщины, дарующей жизнь, олицетворяющая женское начало, один из самых частых образов, занимающих важное место, как и на старых вышивках, так и на резных наличниках. Одно из ее имен — берегин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лоб.jpg"/>
          <p:cNvPicPr/>
          <p:nvPr/>
        </p:nvPicPr>
        <p:blipFill>
          <a:blip r:embed="rId1"/>
          <a:stretch/>
        </p:blipFill>
        <p:spPr>
          <a:xfrm>
            <a:off x="571680" y="214200"/>
            <a:ext cx="7962840" cy="5975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3071880" y="607212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Знак солн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214200" y="142920"/>
            <a:ext cx="307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ще один важный символ магических знаков наших предков - это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285840" y="52149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Солнечный круг изображался в разных видах, можно найти восход солн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восходящее солнце.jpg"/>
          <p:cNvPicPr/>
          <p:nvPr/>
        </p:nvPicPr>
        <p:blipFill>
          <a:blip r:embed="rId1"/>
          <a:stretch/>
        </p:blipFill>
        <p:spPr>
          <a:xfrm>
            <a:off x="1000080" y="357120"/>
            <a:ext cx="71978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солнце в зените.jpg"/>
          <p:cNvPicPr/>
          <p:nvPr/>
        </p:nvPicPr>
        <p:blipFill>
          <a:blip r:embed="rId1"/>
          <a:stretch/>
        </p:blipFill>
        <p:spPr>
          <a:xfrm>
            <a:off x="500040" y="785880"/>
            <a:ext cx="8140680" cy="4140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928800" y="557208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 это знак солнца в зен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струящаяся вода.jpg"/>
          <p:cNvPicPr/>
          <p:nvPr/>
        </p:nvPicPr>
        <p:blipFill>
          <a:blip r:embed="rId1"/>
          <a:stretch/>
        </p:blipFill>
        <p:spPr>
          <a:xfrm>
            <a:off x="4500720" y="285840"/>
            <a:ext cx="3720960" cy="5371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071720" y="592920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руящаяся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ярусы небес хляби небесные.jpg"/>
          <p:cNvPicPr/>
          <p:nvPr/>
        </p:nvPicPr>
        <p:blipFill>
          <a:blip r:embed="rId2"/>
          <a:stretch/>
        </p:blipFill>
        <p:spPr>
          <a:xfrm>
            <a:off x="142920" y="285840"/>
            <a:ext cx="4216320" cy="2984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0" y="36432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Ярусы небес. Хляби неб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окно.jpg"/>
          <p:cNvPicPr/>
          <p:nvPr/>
        </p:nvPicPr>
        <p:blipFill>
          <a:blip r:embed="rId1"/>
          <a:stretch/>
        </p:blipFill>
        <p:spPr>
          <a:xfrm>
            <a:off x="357120" y="214200"/>
            <a:ext cx="4467240" cy="595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500800" y="142884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лнообразные узоры в верхней и нижней части наличника, бегущие ручейки по его боковым полочкам - это все знаки воды, дающей жизнь всему живому на зем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357800" y="214200"/>
            <a:ext cx="4538520" cy="6336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42920" y="9288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наки аграрной магии, пожалуй, самые простые, одни из самых распространенных. Ромбики с точками внутри, перекрещивающиеся двойные полосы - так рисовали наши предки вспаханное и засеян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ab8c19dcff15.jpg"/>
          <p:cNvPicPr/>
          <p:nvPr/>
        </p:nvPicPr>
        <p:blipFill>
          <a:blip r:embed="rId1"/>
          <a:stretch/>
        </p:blipFill>
        <p:spPr>
          <a:xfrm>
            <a:off x="642960" y="214200"/>
            <a:ext cx="799956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642960" y="4429080"/>
            <a:ext cx="7286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...А на Руси ценились топоры –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венели и в простой избе, и в храме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Но как нередко в час худой поры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Они, врубаясь в брань, гасили плам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e299790ae944.jpg"/>
          <p:cNvPicPr/>
          <p:nvPr/>
        </p:nvPicPr>
        <p:blipFill>
          <a:blip r:embed="rId1"/>
          <a:srcRect l="0" t="0" r="0" b="5002"/>
          <a:stretch/>
        </p:blipFill>
        <p:spPr>
          <a:xfrm>
            <a:off x="214200" y="285840"/>
            <a:ext cx="3267360" cy="54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4643280" y="214200"/>
            <a:ext cx="388620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142920" y="571500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паха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457200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сеянное 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85840" y="21420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 сколько звериных мотивов можно найти на наших окошках! Тут и драк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дракон.jpg"/>
          <p:cNvPicPr/>
          <p:nvPr/>
        </p:nvPicPr>
        <p:blipFill>
          <a:blip r:embed="rId1"/>
          <a:stretch/>
        </p:blipFill>
        <p:spPr>
          <a:xfrm>
            <a:off x="928800" y="1214280"/>
            <a:ext cx="723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кони.jpg"/>
          <p:cNvPicPr/>
          <p:nvPr/>
        </p:nvPicPr>
        <p:blipFill>
          <a:blip r:embed="rId1"/>
          <a:stretch/>
        </p:blipFill>
        <p:spPr>
          <a:xfrm>
            <a:off x="214200" y="214200"/>
            <a:ext cx="4326120" cy="6408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28760" y="285840"/>
            <a:ext cx="30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кони лебеди ужи.jpg"/>
          <p:cNvPicPr/>
          <p:nvPr/>
        </p:nvPicPr>
        <p:blipFill>
          <a:blip r:embed="rId2"/>
          <a:stretch/>
        </p:blipFill>
        <p:spPr>
          <a:xfrm>
            <a:off x="4643280" y="285840"/>
            <a:ext cx="4356360" cy="6037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5500800" y="5786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 леб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петушки.jpg"/>
          <p:cNvPicPr/>
          <p:nvPr/>
        </p:nvPicPr>
        <p:blipFill>
          <a:blip r:embed="rId1"/>
          <a:stretch/>
        </p:blipFill>
        <p:spPr>
          <a:xfrm>
            <a:off x="5072040" y="1428840"/>
            <a:ext cx="3276720" cy="5184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узоры.jpg"/>
          <p:cNvPicPr/>
          <p:nvPr/>
        </p:nvPicPr>
        <p:blipFill>
          <a:blip r:embed="rId2"/>
          <a:stretch/>
        </p:blipFill>
        <p:spPr>
          <a:xfrm>
            <a:off x="357120" y="571680"/>
            <a:ext cx="383868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4500720" y="28584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ух захватывает от разных п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кружевной подзор.jpg"/>
          <p:cNvPicPr/>
          <p:nvPr/>
        </p:nvPicPr>
        <p:blipFill>
          <a:blip r:embed="rId1"/>
          <a:stretch/>
        </p:blipFill>
        <p:spPr>
          <a:xfrm>
            <a:off x="254160" y="190440"/>
            <a:ext cx="863568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00040" y="5000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зентацию подготовила Фешина А.А. Егорлыкский район, Ростовская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терем.jpg"/>
          <p:cNvPicPr/>
          <p:nvPr/>
        </p:nvPicPr>
        <p:blipFill>
          <a:blip r:embed="rId1"/>
          <a:srcRect l="0" t="8867" r="0" b="0"/>
          <a:stretch/>
        </p:blipFill>
        <p:spPr>
          <a:xfrm>
            <a:off x="4071960" y="214200"/>
            <a:ext cx="4724280" cy="6480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57120" y="1785960"/>
            <a:ext cx="421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все ж, лихих врагов изгнав едв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емля щепою свежей покрывалась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 множились, красою наливались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За башней башня, за главой глав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7"/>
          <p:cNvSpPr/>
          <p:nvPr/>
        </p:nvSpPr>
        <p:spPr>
          <a:xfrm>
            <a:off x="5367240" y="723960"/>
            <a:ext cx="25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9" descr="юбки.jpg"/>
          <p:cNvPicPr/>
          <p:nvPr/>
        </p:nvPicPr>
        <p:blipFill>
          <a:blip r:embed="rId1"/>
          <a:stretch/>
        </p:blipFill>
        <p:spPr>
          <a:xfrm>
            <a:off x="571680" y="214200"/>
            <a:ext cx="8256240" cy="6191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8"/>
          <p:cNvSpPr/>
          <p:nvPr/>
        </p:nvSpPr>
        <p:spPr>
          <a:xfrm>
            <a:off x="642960" y="4572000"/>
            <a:ext cx="8286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И города высокие росли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Украшенные мастерами гордо,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Пока опять в обугленной да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Не проступали вражеские ор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31.jpg"/>
          <p:cNvPicPr/>
          <p:nvPr/>
        </p:nvPicPr>
        <p:blipFill>
          <a:blip r:embed="rId1"/>
          <a:stretch/>
        </p:blipFill>
        <p:spPr>
          <a:xfrm>
            <a:off x="500040" y="214200"/>
            <a:ext cx="8064360" cy="6048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71680" y="32860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1571760" y="478620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мастера за топоры брались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И снова гнали недругов нещадно,</a:t>
            </a:r>
            <a:br>
              <a:rPr sz="3200"/>
            </a:br>
            <a:r>
              <a:rPr b="1" i="1" lang="ru-RU" sz="3200" spc="-1" strike="noStrike">
                <a:solidFill>
                  <a:srgbClr val="eeece1"/>
                </a:solidFill>
                <a:latin typeface="Calibri"/>
              </a:rPr>
              <a:t>А возвратясь из тяжких сеч обратно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пепелищах возводил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дом-сказка.jpg"/>
          <p:cNvPicPr/>
          <p:nvPr/>
        </p:nvPicPr>
        <p:blipFill>
          <a:blip r:embed="rId1"/>
          <a:srcRect l="0" t="6894" r="0" b="4671"/>
          <a:stretch/>
        </p:blipFill>
        <p:spPr>
          <a:xfrm>
            <a:off x="785880" y="1000080"/>
            <a:ext cx="7619760" cy="55008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42920" y="0"/>
            <a:ext cx="67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а древе  ставя мастерства печа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Они трудились, позабыв усталост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И то, что их руками создавалось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Calibri"/>
              </a:rPr>
              <a:t>Не стыдно было Богу показ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win_folk_05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214200" y="2143080"/>
            <a:ext cx="3753000" cy="4429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57280" y="500040"/>
            <a:ext cx="428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214880" y="2428920"/>
            <a:ext cx="47149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езные, разных цветов, с простыми и замысловатыми узорами. Наличники на окне - словно лицо дома, его визитная карточка. Они делают каждый дом не похожим на своих соседей.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85880" y="35712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deada"/>
                </a:solidFill>
                <a:latin typeface="Constantia"/>
              </a:rPr>
              <a:t>НАЛИЧ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дом.jpg"/>
          <p:cNvPicPr/>
          <p:nvPr/>
        </p:nvPicPr>
        <p:blipFill>
          <a:blip r:embed="rId1"/>
          <a:srcRect l="2469" t="0" r="0" b="0"/>
          <a:stretch/>
        </p:blipFill>
        <p:spPr>
          <a:xfrm>
            <a:off x="928800" y="214200"/>
            <a:ext cx="7742160" cy="5292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85840" y="55008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слушайтесь в это слово: "наличник" - "находящийся на лице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голубая сказка.jpg"/>
          <p:cNvPicPr/>
          <p:nvPr/>
        </p:nvPicPr>
        <p:blipFill>
          <a:blip r:embed="rId1"/>
          <a:stretch/>
        </p:blipFill>
        <p:spPr>
          <a:xfrm>
            <a:off x="714240" y="142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0" y="585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 лицо должно быть умытым и красив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8:04:02Z</dcterms:created>
  <dc:creator>Аня</dc:creator>
  <dc:description/>
  <dc:language>en-US</dc:language>
  <cp:lastModifiedBy>Аня</cp:lastModifiedBy>
  <dcterms:modified xsi:type="dcterms:W3CDTF">2011-03-17T19:00:13Z</dcterms:modified>
  <cp:revision>41</cp:revision>
  <dc:subject/>
  <dc:title>Слайд 1</dc:title>
</cp:coreProperties>
</file>