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CB7-A390-476F-A031-8064C9C0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799-01B4-4D4A-B59D-51C8C64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D93-EFF6-4757-976C-B56CEA93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0EF-479A-45B5-9757-4C4222E7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B56-22D7-43F5-8B7F-A022BA67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C54-F36A-4396-8639-00855AC7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AD6-34FD-45DA-97E7-029D8304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676-4019-448E-85A6-C70D9C7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EAF-E005-4E0B-A480-E3F1E7A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8AF-651B-4FF5-826B-1143D94D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FC4-8C98-46C5-B8F4-D98B528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3EE-4F72-4052-AE83-C4BED40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7950-13EB-4DE5-85EA-6FC261616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домик.jpg"/>
          <p:cNvPicPr/>
          <p:nvPr/>
        </p:nvPicPr>
        <p:blipFill>
          <a:blip r:embed="rId1"/>
          <a:srcRect l="0" t="1381" r="0" b="0"/>
          <a:stretch/>
        </p:blipFill>
        <p:spPr>
          <a:xfrm>
            <a:off x="571680" y="357120"/>
            <a:ext cx="7920000" cy="5857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492912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6c0a"/>
                </a:solidFill>
                <a:latin typeface="Constantia"/>
              </a:rPr>
              <a:t>Таинственные узо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214200" y="357120"/>
            <a:ext cx="442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о внешний мир не всегда добр и, порой, от него надо защищ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нали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 только закрывали щели в оконном проеме от сквозняков и холода, они защищали дом от нечистой силы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ОКОШКО.jpg"/>
          <p:cNvPicPr/>
          <p:nvPr/>
        </p:nvPicPr>
        <p:blipFill>
          <a:blip r:embed="rId1"/>
          <a:stretch/>
        </p:blipFill>
        <p:spPr>
          <a:xfrm>
            <a:off x="4429080" y="357120"/>
            <a:ext cx="450072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214200" y="21420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наличник.jpg"/>
          <p:cNvPicPr/>
          <p:nvPr/>
        </p:nvPicPr>
        <p:blipFill>
          <a:blip r:embed="rId1"/>
          <a:stretch/>
        </p:blipFill>
        <p:spPr>
          <a:xfrm>
            <a:off x="214200" y="214200"/>
            <a:ext cx="4229280" cy="6388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572000" y="214200"/>
            <a:ext cx="43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смотря на огромное разнообразие узоров, в них выделяются отдельные повторяющиеся образы. Эти же образы можно найти в русской народной вышивке. Чтобы ребенок был здоров, семья крепка и богата, женщина плодовита, необходимо было оградить их магическими заклинаниями. Именно эти заклинания и прорисованы в узорах вышивальщ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начит и узоры на наличниках несут в себе ту же магическую сил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еще узор.jpg"/>
          <p:cNvPicPr/>
          <p:nvPr/>
        </p:nvPicPr>
        <p:blipFill>
          <a:blip r:embed="rId1"/>
          <a:stretch/>
        </p:blipFill>
        <p:spPr>
          <a:xfrm>
            <a:off x="214200" y="142920"/>
            <a:ext cx="4229280" cy="6388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572000" y="214200"/>
            <a:ext cx="4572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то было одним из самых важных событий в жизни наших древних предков? Наверное, рождение. И женщина-мать должна была стать главной фигурой.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11.jpg"/>
          <p:cNvPicPr/>
          <p:nvPr/>
        </p:nvPicPr>
        <p:blipFill>
          <a:blip r:embed="rId1"/>
          <a:stretch/>
        </p:blipFill>
        <p:spPr>
          <a:xfrm>
            <a:off x="500040" y="285840"/>
            <a:ext cx="20322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берегиня.jpg"/>
          <p:cNvPicPr/>
          <p:nvPr/>
        </p:nvPicPr>
        <p:blipFill>
          <a:blip r:embed="rId2"/>
          <a:stretch/>
        </p:blipFill>
        <p:spPr>
          <a:xfrm>
            <a:off x="6000840" y="214200"/>
            <a:ext cx="2870280" cy="367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берегиня-2.jpg"/>
          <p:cNvPicPr/>
          <p:nvPr/>
        </p:nvPicPr>
        <p:blipFill>
          <a:blip r:embed="rId3"/>
          <a:stretch/>
        </p:blipFill>
        <p:spPr>
          <a:xfrm>
            <a:off x="2857680" y="1000080"/>
            <a:ext cx="2730240" cy="26035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285840" y="39290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игурка с раскинутыми руками и ногами - фигурка женщины, дарующей жизнь, олицетворяющая женское начало, один из самых частых образов, занимающих важное место, как и на старых вышивках, так и на резных наличниках. Одно из ее имен — берегин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лоб.jpg"/>
          <p:cNvPicPr/>
          <p:nvPr/>
        </p:nvPicPr>
        <p:blipFill>
          <a:blip r:embed="rId1"/>
          <a:stretch/>
        </p:blipFill>
        <p:spPr>
          <a:xfrm>
            <a:off x="571680" y="214200"/>
            <a:ext cx="7962840" cy="5975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071880" y="60721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Знак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14200" y="142920"/>
            <a:ext cx="307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ще один важный символ магических знаков наших предков - это 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285840" y="52149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олнечный круг изображался в разных видах, можно найти восход солн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восходящее солнце.jpg"/>
          <p:cNvPicPr/>
          <p:nvPr/>
        </p:nvPicPr>
        <p:blipFill>
          <a:blip r:embed="rId1"/>
          <a:stretch/>
        </p:blipFill>
        <p:spPr>
          <a:xfrm>
            <a:off x="1000080" y="357120"/>
            <a:ext cx="71978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солнце в зените.jpg"/>
          <p:cNvPicPr/>
          <p:nvPr/>
        </p:nvPicPr>
        <p:blipFill>
          <a:blip r:embed="rId1"/>
          <a:stretch/>
        </p:blipFill>
        <p:spPr>
          <a:xfrm>
            <a:off x="500040" y="785880"/>
            <a:ext cx="8140680" cy="4140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928800" y="557208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 это знак солнца в зен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струящаяся вода.jpg"/>
          <p:cNvPicPr/>
          <p:nvPr/>
        </p:nvPicPr>
        <p:blipFill>
          <a:blip r:embed="rId1"/>
          <a:stretch/>
        </p:blipFill>
        <p:spPr>
          <a:xfrm>
            <a:off x="4500720" y="285840"/>
            <a:ext cx="3720960" cy="5371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071720" y="592920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руящаяся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ярусы небес хляби небесные.jpg"/>
          <p:cNvPicPr/>
          <p:nvPr/>
        </p:nvPicPr>
        <p:blipFill>
          <a:blip r:embed="rId2"/>
          <a:stretch/>
        </p:blipFill>
        <p:spPr>
          <a:xfrm>
            <a:off x="142920" y="285840"/>
            <a:ext cx="4216320" cy="2984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0" y="36432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русы небес. Хляби небе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окно.jpg"/>
          <p:cNvPicPr/>
          <p:nvPr/>
        </p:nvPicPr>
        <p:blipFill>
          <a:blip r:embed="rId1"/>
          <a:stretch/>
        </p:blipFill>
        <p:spPr>
          <a:xfrm>
            <a:off x="357120" y="214200"/>
            <a:ext cx="4467240" cy="5953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500800" y="142884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лнообразные узоры в верхней и нижней части наличника, бегущие ручейки по его боковым полочкам - это все знаки воды, дающей жизнь всему живому на земл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538520" cy="6336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42920" y="9288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наки аграрной магии, пожалуй, самые простые, одни из самых распространенных. Ромбики с точками внутри, перекрещивающиеся двойные полосы - так рисовали наши предки вспаханное и засеянное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ab8c19dcff15.jpg"/>
          <p:cNvPicPr/>
          <p:nvPr/>
        </p:nvPicPr>
        <p:blipFill>
          <a:blip r:embed="rId1"/>
          <a:stretch/>
        </p:blipFill>
        <p:spPr>
          <a:xfrm>
            <a:off x="642960" y="214200"/>
            <a:ext cx="799956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642960" y="442908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...А на Руси ценились топоры –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Звенели и в простой избе, и в храме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Но как нередко в час худой поры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Они, врубаясь в брань, гасили плам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e299790ae944.jpg"/>
          <p:cNvPicPr/>
          <p:nvPr/>
        </p:nvPicPr>
        <p:blipFill>
          <a:blip r:embed="rId1"/>
          <a:srcRect l="0" t="0" r="0" b="5002"/>
          <a:stretch/>
        </p:blipFill>
        <p:spPr>
          <a:xfrm>
            <a:off x="214200" y="285840"/>
            <a:ext cx="3267360" cy="54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643280" y="214200"/>
            <a:ext cx="388620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42920" y="571500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паханн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57200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сеянн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85840" y="2142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сколько звериных мотивов можно найти на наших окошках! Тут и драк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дракон.jpg"/>
          <p:cNvPicPr/>
          <p:nvPr/>
        </p:nvPicPr>
        <p:blipFill>
          <a:blip r:embed="rId1"/>
          <a:stretch/>
        </p:blipFill>
        <p:spPr>
          <a:xfrm>
            <a:off x="928800" y="1214280"/>
            <a:ext cx="723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кони.jpg"/>
          <p:cNvPicPr/>
          <p:nvPr/>
        </p:nvPicPr>
        <p:blipFill>
          <a:blip r:embed="rId1"/>
          <a:stretch/>
        </p:blipFill>
        <p:spPr>
          <a:xfrm>
            <a:off x="214200" y="214200"/>
            <a:ext cx="4326120" cy="6408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28760" y="285840"/>
            <a:ext cx="30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кони лебеди ужи.jpg"/>
          <p:cNvPicPr/>
          <p:nvPr/>
        </p:nvPicPr>
        <p:blipFill>
          <a:blip r:embed="rId2"/>
          <a:stretch/>
        </p:blipFill>
        <p:spPr>
          <a:xfrm>
            <a:off x="4643280" y="285840"/>
            <a:ext cx="4356360" cy="603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5500800" y="57862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 леб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петушки.jpg"/>
          <p:cNvPicPr/>
          <p:nvPr/>
        </p:nvPicPr>
        <p:blipFill>
          <a:blip r:embed="rId1"/>
          <a:stretch/>
        </p:blipFill>
        <p:spPr>
          <a:xfrm>
            <a:off x="5072040" y="1428840"/>
            <a:ext cx="3276720" cy="5184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узоры.jpg"/>
          <p:cNvPicPr/>
          <p:nvPr/>
        </p:nvPicPr>
        <p:blipFill>
          <a:blip r:embed="rId2"/>
          <a:stretch/>
        </p:blipFill>
        <p:spPr>
          <a:xfrm>
            <a:off x="357120" y="571680"/>
            <a:ext cx="383868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500720" y="28584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ух захватывает от разных п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кружевной подзор.jpg"/>
          <p:cNvPicPr/>
          <p:nvPr/>
        </p:nvPicPr>
        <p:blipFill>
          <a:blip r:embed="rId1"/>
          <a:stretch/>
        </p:blipFill>
        <p:spPr>
          <a:xfrm>
            <a:off x="254160" y="190440"/>
            <a:ext cx="8635680" cy="6477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00040" y="5000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зентацию подготовила Фешина А.А. Егорлыкский район, Ростов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терем.jpg"/>
          <p:cNvPicPr/>
          <p:nvPr/>
        </p:nvPicPr>
        <p:blipFill>
          <a:blip r:embed="rId1"/>
          <a:srcRect l="0" t="8867" r="0" b="0"/>
          <a:stretch/>
        </p:blipFill>
        <p:spPr>
          <a:xfrm>
            <a:off x="4071960" y="214200"/>
            <a:ext cx="4724280" cy="6480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57120" y="1785960"/>
            <a:ext cx="421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 все ж, лихих врагов изгнав едв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емля щепою свежей покрывалась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 множились, красою наливалис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а башней башня, за главой гла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7"/>
          <p:cNvSpPr/>
          <p:nvPr/>
        </p:nvSpPr>
        <p:spPr>
          <a:xfrm>
            <a:off x="5367240" y="723960"/>
            <a:ext cx="250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юбки.jpg"/>
          <p:cNvPicPr/>
          <p:nvPr/>
        </p:nvPicPr>
        <p:blipFill>
          <a:blip r:embed="rId1"/>
          <a:stretch/>
        </p:blipFill>
        <p:spPr>
          <a:xfrm>
            <a:off x="571680" y="214200"/>
            <a:ext cx="8256240" cy="6191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642960" y="4572000"/>
            <a:ext cx="8286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И города высокие росли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Украшенные мастерами гордо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Пока опять в обугленной дал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Не проступали вражеские ор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31.jpg"/>
          <p:cNvPicPr/>
          <p:nvPr/>
        </p:nvPicPr>
        <p:blipFill>
          <a:blip r:embed="rId1"/>
          <a:stretch/>
        </p:blipFill>
        <p:spPr>
          <a:xfrm>
            <a:off x="500040" y="21420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571680" y="32860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571760" y="478620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И мастера за топоры брались</a:t>
            </a:r>
            <a:br>
              <a:rPr sz="3200"/>
            </a:b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И снова гнали недругов нещадно,</a:t>
            </a:r>
            <a:br>
              <a:rPr sz="3200"/>
            </a:b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А возвратясь из тяжких сеч обрат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пепелищах возводил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дом-сказка.jpg"/>
          <p:cNvPicPr/>
          <p:nvPr/>
        </p:nvPicPr>
        <p:blipFill>
          <a:blip r:embed="rId1"/>
          <a:srcRect l="0" t="6894" r="0" b="4671"/>
          <a:stretch/>
        </p:blipFill>
        <p:spPr>
          <a:xfrm>
            <a:off x="785880" y="1000080"/>
            <a:ext cx="7619760" cy="55008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42920" y="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На древе  ставя мастерства печат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Они трудились, позабыв усталост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И то, что их руками создавалос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Не стыдно было Богу показ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win_folk_05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214200" y="2143080"/>
            <a:ext cx="3753000" cy="4429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357280" y="500040"/>
            <a:ext cx="428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214880" y="2428920"/>
            <a:ext cx="47149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зные, разных цветов, с простыми и замысловатыми узорами. Наличники на окне - словно лицо дома, его визитная карточка. Они делают каждый дом не похожим на своих соседей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85880" y="35712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deada"/>
                </a:solidFill>
                <a:latin typeface="Constantia"/>
              </a:rPr>
              <a:t>НАЛИЧ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дом.jpg"/>
          <p:cNvPicPr/>
          <p:nvPr/>
        </p:nvPicPr>
        <p:blipFill>
          <a:blip r:embed="rId1"/>
          <a:srcRect l="2469" t="0" r="0" b="0"/>
          <a:stretch/>
        </p:blipFill>
        <p:spPr>
          <a:xfrm>
            <a:off x="928800" y="214200"/>
            <a:ext cx="7742160" cy="5292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85840" y="55008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слушайтесь в это слово: "наличник" - "находящийся на лице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голубая сказка.jpg"/>
          <p:cNvPicPr/>
          <p:nvPr/>
        </p:nvPicPr>
        <p:blipFill>
          <a:blip r:embed="rId1"/>
          <a:stretch/>
        </p:blipFill>
        <p:spPr>
          <a:xfrm>
            <a:off x="714240" y="142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0" y="585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лицо должно быть умытым и красив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8:04:02Z</dcterms:created>
  <dc:creator>Аня</dc:creator>
  <dc:description/>
  <dc:language>en-US</dc:language>
  <cp:lastModifiedBy>Аня</cp:lastModifiedBy>
  <dcterms:modified xsi:type="dcterms:W3CDTF">2011-03-17T19:00:13Z</dcterms:modified>
  <cp:revision>41</cp:revision>
  <dc:subject/>
  <dc:title>Слайд 1</dc:title>
</cp:coreProperties>
</file>