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0AAC-2A55-4AD7-A687-9F614095C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B099-E04C-48C3-B664-48F32BD6E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BB3B-528B-4A2B-883B-D98D510B9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02F6-44BC-4369-9BD9-14A891EC9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BA87-6148-45F6-9336-9DF30DE75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A5A6-3818-467C-87F2-C8B2ACF17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CC15-DE80-4F83-B8A2-4851DA4B3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385E-7782-4EF6-A21F-12C9764F7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40A1-340E-406F-979C-336684C71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0A7A-7ECF-4405-A379-CAC4F211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FB99-F497-4D05-BCD8-4A799DE5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B465-9385-49F1-AB56-863573C9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d5d0c8"/>
                </a:gs>
                <a:gs pos="50000">
                  <a:srgbClr val="e2ddd4"/>
                </a:gs>
                <a:gs pos="100000">
                  <a:srgbClr val="d5d0c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fe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efe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f2efe8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f2efe8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E54A-8438-46D3-B162-E7CA0DC15B0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8f8e73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5229000"/>
            <a:ext cx="777240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Презентация ученицы 5 класса Калининой Анны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WordArt 5"/>
          <p:cNvSpPr txBox="1"/>
          <p:nvPr/>
        </p:nvSpPr>
        <p:spPr>
          <a:xfrm>
            <a:off x="179280" y="189000"/>
            <a:ext cx="878544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Impact"/>
              </a:rPr>
              <a:t>АФРОДИТА - БОГИНЯ ЛЮБВИ И КРАСО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Impact"/>
              <a:ea typeface="Impact"/>
            </a:endParaRPr>
          </a:p>
        </p:txBody>
      </p:sp>
      <p:pic>
        <p:nvPicPr>
          <p:cNvPr id="59" name="Picture 6" descr="37311042_shutterstock_4898941"/>
          <p:cNvPicPr/>
          <p:nvPr/>
        </p:nvPicPr>
        <p:blipFill>
          <a:blip r:embed="rId1"/>
          <a:stretch/>
        </p:blipFill>
        <p:spPr>
          <a:xfrm>
            <a:off x="1908000" y="2492280"/>
            <a:ext cx="5688360" cy="309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aramond"/>
              </a:rPr>
              <a:t>Источники:</a:t>
            </a:r>
            <a:endParaRPr b="1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Н.А.Кун Легенды и мифы древней Греции М.,2009 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1100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http://wikipedia.ru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692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Bradley Hand ITC"/>
              </a:rPr>
              <a:t>Передо мной были поставлены следующие задачи</a:t>
            </a:r>
            <a:r>
              <a:rPr b="1" i="1" lang="ru-RU" sz="4800" spc="-1" strike="noStrike">
                <a:solidFill>
                  <a:srgbClr val="000000"/>
                </a:solidFill>
                <a:latin typeface="Bradley Hand ITC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755280" y="2565360"/>
            <a:ext cx="777708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lnSpc>
                <a:spcPct val="80000"/>
              </a:lnSpc>
              <a:spcBef>
                <a:spcPts val="901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98989"/>
                </a:solidFill>
                <a:latin typeface="Garamond"/>
              </a:rPr>
              <a:t>ПОЗНАКОМИТЬ КЛАСС С ОДНИМ ИЗ ГЕРОЕВ МИФОВ ДРЕВНЕЙ ГРЕЦИИ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514440" indent="-514440">
              <a:lnSpc>
                <a:spcPct val="80000"/>
              </a:lnSpc>
              <a:spcBef>
                <a:spcPts val="901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98989"/>
                </a:solidFill>
                <a:latin typeface="Garamond"/>
              </a:rPr>
              <a:t>ПРЕДСТАВИТЬ МИФ ОБ ЭТОМ ГЕРОЕ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514440" indent="-514440">
              <a:lnSpc>
                <a:spcPct val="80000"/>
              </a:lnSpc>
              <a:spcBef>
                <a:spcPts val="901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98989"/>
                </a:solidFill>
                <a:latin typeface="Garamond"/>
              </a:rPr>
              <a:t>ОПРЕДЕЛИТЬ ФУНКЦИЮ ГЕРОЯ В ТЕКСТЕ МИФОВ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8588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aramond"/>
              </a:rPr>
              <a:t>Афродита</a:t>
            </a:r>
            <a:endParaRPr b="1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642920" y="1428480"/>
            <a:ext cx="40006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Arial"/>
              </a:rPr>
              <a:t>Афродита - (др.-греч. - Ἀφροδίτη, в древности истолковывалось как производное от ἀφρός — «пена») — в греческой мифологии  богиня красоты и любви, включавшаяся в число двенадцати великих богов. Она также богиня плодородия , вечной весны и жизни. Она — богиня браков и даже родов, а также «детопитательница». Любовной власти Афродиты подчинялись боги и люди. Жена Гефеста или Ареса. 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64" name="Picture 5" descr="58545149_3333"/>
          <p:cNvPicPr/>
          <p:nvPr/>
        </p:nvPicPr>
        <p:blipFill>
          <a:blip r:embed="rId1"/>
          <a:stretch/>
        </p:blipFill>
        <p:spPr>
          <a:xfrm>
            <a:off x="250920" y="1484280"/>
            <a:ext cx="4033800" cy="518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Схема 3" descr=""/>
          <p:cNvPicPr/>
          <p:nvPr/>
        </p:nvPicPr>
        <p:blipFill>
          <a:blip r:embed="rId1"/>
          <a:stretch/>
        </p:blipFill>
        <p:spPr>
          <a:xfrm>
            <a:off x="-6480" y="-19080"/>
            <a:ext cx="9156960" cy="688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85880" y="142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aramond"/>
              </a:rPr>
              <a:t>СПУТНИКИ АФРОДИТЫ:</a:t>
            </a:r>
            <a:endParaRPr b="1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67" name="Picture 2" descr="F:\KGCAQUSSBTCAXLBW0VCAQYYTRECAOK4K6OCAEGI2VVCA0V3MXPCA1IE4W7CA55GY6CCA4CXQSOCAREYPH4CA0S9KWLCACZSHLICADVQFBYCA4QH36FCANUWAZ9CA8LBY5SCA41T4ZUCAV6N0YACA2X2617.jpg"/>
          <p:cNvPicPr/>
          <p:nvPr/>
        </p:nvPicPr>
        <p:blipFill>
          <a:blip r:embed="rId1"/>
          <a:stretch/>
        </p:blipFill>
        <p:spPr>
          <a:xfrm>
            <a:off x="250920" y="1989000"/>
            <a:ext cx="2160360" cy="3456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F:\220px-Psycheabduct.jpg"/>
          <p:cNvPicPr/>
          <p:nvPr/>
        </p:nvPicPr>
        <p:blipFill>
          <a:blip r:embed="rId2"/>
          <a:stretch/>
        </p:blipFill>
        <p:spPr>
          <a:xfrm>
            <a:off x="2627280" y="1989000"/>
            <a:ext cx="1873440" cy="3456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F:\220px-Raffael_010.jpg"/>
          <p:cNvPicPr/>
          <p:nvPr/>
        </p:nvPicPr>
        <p:blipFill>
          <a:blip r:embed="rId3"/>
          <a:stretch/>
        </p:blipFill>
        <p:spPr>
          <a:xfrm>
            <a:off x="4716360" y="1989000"/>
            <a:ext cx="2095560" cy="3527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F:\170px-William-Adolphe_Bouguereau_(1825-1905)_-_Nymphs_and_Satyr_(1873).jpg"/>
          <p:cNvPicPr/>
          <p:nvPr/>
        </p:nvPicPr>
        <p:blipFill>
          <a:blip r:embed="rId4"/>
          <a:stretch/>
        </p:blipFill>
        <p:spPr>
          <a:xfrm>
            <a:off x="7164360" y="1989000"/>
            <a:ext cx="1820880" cy="35164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9"/>
          <p:cNvSpPr/>
          <p:nvPr/>
        </p:nvSpPr>
        <p:spPr>
          <a:xfrm>
            <a:off x="250920" y="5661000"/>
            <a:ext cx="2160360" cy="36036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0"/>
          <p:cNvSpPr/>
          <p:nvPr/>
        </p:nvSpPr>
        <p:spPr>
          <a:xfrm>
            <a:off x="2627280" y="5661000"/>
            <a:ext cx="1873440" cy="36036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ЭР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1"/>
          <p:cNvSpPr/>
          <p:nvPr/>
        </p:nvSpPr>
        <p:spPr>
          <a:xfrm>
            <a:off x="4716360" y="5661000"/>
            <a:ext cx="2087640" cy="36036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ХАРИ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2"/>
          <p:cNvSpPr/>
          <p:nvPr/>
        </p:nvSpPr>
        <p:spPr>
          <a:xfrm>
            <a:off x="7164360" y="5661000"/>
            <a:ext cx="1800360" cy="36036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НИМФ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84720" y="1267920"/>
            <a:ext cx="3959280" cy="396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Garamond"/>
              </a:rPr>
              <a:t>Миф о рождении Афродиты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Афродита возникла обнаженной из воздушной морской раковины вблизи Кипра — отсюда прозвище «Киприда» — и на раковине добралась до берега. Оры в золотых диадемах увенчали её золотым венцом, украсили золотым ожерельем и серьгами, а боги дивились её прелести и возгорались желанием взять её в жены.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76" name="Picture 5" descr="w21"/>
          <p:cNvPicPr/>
          <p:nvPr/>
        </p:nvPicPr>
        <p:blipFill>
          <a:blip r:embed="rId1"/>
          <a:stretch/>
        </p:blipFill>
        <p:spPr>
          <a:xfrm>
            <a:off x="468360" y="692280"/>
            <a:ext cx="3486240" cy="504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395280" y="404640"/>
            <a:ext cx="42480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898989"/>
                </a:solidFill>
                <a:uFillTx/>
                <a:latin typeface="Garamond"/>
              </a:rPr>
              <a:t>ЯБЛОКО РАЗДОРА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На свадьбе Пелея и морской нимфы Фетиды богиня раздора Эрида в отместку за то, что ее не пригласили, бросила среди гостей яблоко с надписью "Прекраснейшей". По совету Зевса богини Гера, Афина и Афродита призвали Париса выбрать из них прекраснейшую: Гера пообещала ему власть над миром, Афина - военную славу, Афродита - самую красивую женщину на земле. Парис вручил яблоко Афродите, которая помогла ему увезти прекрасную Елену в Трою, что послужило поводом к Троянской войне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78" name="Picture 4" descr="marra_352x416_0307_179"/>
          <p:cNvPicPr/>
          <p:nvPr/>
        </p:nvPicPr>
        <p:blipFill>
          <a:blip r:embed="rId1"/>
          <a:stretch/>
        </p:blipFill>
        <p:spPr>
          <a:xfrm>
            <a:off x="5148360" y="404640"/>
            <a:ext cx="3794040" cy="612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c1373fec5c5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539640" y="836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46032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Elephant"/>
              </a:rPr>
              <a:t>Афродита – олицетворение божественной красоты и неувядаемой юности. Она будит в сердцах богов и смертных любовь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46032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Elephant"/>
              </a:rPr>
              <a:t>Ей посвящены IV, VI и X гимны Гомера. Она - действующее лицо трагедии Еврипида «Ипполит»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46032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Elephant"/>
              </a:rPr>
              <a:t>Афродита часто изображалась в античной скульптуре : Венера Милосская, Венера Медичи, Купающаяся Афродита и так далее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11:23:08Z</dcterms:created>
  <dc:creator>k1_516_01</dc:creator>
  <dc:description/>
  <dc:language>en-US</dc:language>
  <cp:lastModifiedBy>k1_516_01</cp:lastModifiedBy>
  <dcterms:modified xsi:type="dcterms:W3CDTF">2010-11-19T12:13:50Z</dcterms:modified>
  <cp:revision>9</cp:revision>
  <dc:subject/>
  <dc:title>Презентация ученицы 5 класса Калининой Анны</dc:title>
</cp:coreProperties>
</file>