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1C0-D7E4-45E7-8C2C-5D69B3AE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33B-11C6-4D89-9799-A2E27270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E69-F9C3-473B-B461-F815932E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27C-1FAF-4443-BBB6-48ACF2C9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AE2-885C-461E-A874-3A10231B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EB4-090F-40DA-81B7-6FDE9781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64C-EA6D-4105-818D-E81CFA23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D7F-45ED-4E0B-B515-74413745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267-E51A-4334-96CC-0FB52946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A95-14CE-40E6-AABC-414628A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3B6-FD00-4D8D-8509-B1322D4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0B4-56BE-4A54-86F9-6D71DF42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94BE-78C5-4695-A084-93FA74E16A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езентация ученицы 5 класса Калининой Анны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79280" y="189000"/>
            <a:ext cx="878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АФРОДИТА - БОГИНЯ ЛЮБВИ И КРАС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pic>
        <p:nvPicPr>
          <p:cNvPr id="59" name="Picture 6" descr="37311042_shutterstock_4898941"/>
          <p:cNvPicPr/>
          <p:nvPr/>
        </p:nvPicPr>
        <p:blipFill>
          <a:blip r:embed="rId1"/>
          <a:stretch/>
        </p:blipFill>
        <p:spPr>
          <a:xfrm>
            <a:off x="1908000" y="2492280"/>
            <a:ext cx="5688360" cy="30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Источники: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Н.А.Кун Легенды и мифы древней Греции М.,2009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http://wikipedia.ru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radley Hand ITC"/>
              </a:rPr>
              <a:t>Передо мной были поставлены следующие задачи</a:t>
            </a:r>
            <a:r>
              <a:rPr b="1" i="1" lang="ru-RU" sz="4800" spc="-1" strike="noStrike">
                <a:solidFill>
                  <a:srgbClr val="000000"/>
                </a:solidFill>
                <a:latin typeface="Bradley Hand ITC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55280" y="2565360"/>
            <a:ext cx="7777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Garamond"/>
              </a:rPr>
              <a:t>ПОЗНАКОМИТЬ КЛАСС С ОДНИМ ИЗ ГЕРОЕВ МИФОВ ДРЕВНЕЙ ГРЕЦИИ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Garamond"/>
              </a:rPr>
              <a:t>ПРЕДСТАВИТЬ МИФ ОБ ЭТОМ ГЕРОЕ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Garamond"/>
              </a:rPr>
              <a:t>ОПРЕДЕЛИТЬ ФУНКЦИЮ ГЕРОЯ В ТЕКСТЕ МИФОВ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Афродита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642920" y="1428480"/>
            <a:ext cx="4000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Arial"/>
              </a:rPr>
              <a:t>Афродита - (др.-греч. - Ἀφροδίτη, в древности истолковывалось как производное от ἀφρός — «пена») — в греческой мифологии  богиня красоты и любви, включавшаяся в число двенадцати великих богов. Она также богиня плодородия , вечной весны и жизни. Она — богиня браков и даже родов, а также «детопитательница». Любовной власти Афродиты подчинялись боги и люди. Жена Гефеста или Ареса. 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4" name="Picture 5" descr="58545149_3333"/>
          <p:cNvPicPr/>
          <p:nvPr/>
        </p:nvPicPr>
        <p:blipFill>
          <a:blip r:embed="rId1"/>
          <a:stretch/>
        </p:blipFill>
        <p:spPr>
          <a:xfrm>
            <a:off x="250920" y="1484280"/>
            <a:ext cx="403380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хема 3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688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СПУТНИКИ АФРОДИТЫ: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" name="Picture 2" descr="F:\KGCAQUSSBTCAXLBW0VCAQYYTRECAOK4K6OCAEGI2VVCA0V3MXPCA1IE4W7CA55GY6CCA4CXQSOCAREYPH4CA0S9KWLCACZSHLICADVQFBYCA4QH36FCANUWAZ9CA8LBY5SCA41T4ZUCAV6N0YACA2X2617.jpg"/>
          <p:cNvPicPr/>
          <p:nvPr/>
        </p:nvPicPr>
        <p:blipFill>
          <a:blip r:embed="rId1"/>
          <a:stretch/>
        </p:blipFill>
        <p:spPr>
          <a:xfrm>
            <a:off x="250920" y="1989000"/>
            <a:ext cx="2160360" cy="34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220px-Psycheabduct.jpg"/>
          <p:cNvPicPr/>
          <p:nvPr/>
        </p:nvPicPr>
        <p:blipFill>
          <a:blip r:embed="rId2"/>
          <a:stretch/>
        </p:blipFill>
        <p:spPr>
          <a:xfrm>
            <a:off x="2627280" y="1989000"/>
            <a:ext cx="187344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F:\220px-Raffael_010.jpg"/>
          <p:cNvPicPr/>
          <p:nvPr/>
        </p:nvPicPr>
        <p:blipFill>
          <a:blip r:embed="rId3"/>
          <a:stretch/>
        </p:blipFill>
        <p:spPr>
          <a:xfrm>
            <a:off x="4716360" y="1989000"/>
            <a:ext cx="2095560" cy="352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F:\170px-William-Adolphe_Bouguereau_(1825-1905)_-_Nymphs_and_Satyr_(1873).jpg"/>
          <p:cNvPicPr/>
          <p:nvPr/>
        </p:nvPicPr>
        <p:blipFill>
          <a:blip r:embed="rId4"/>
          <a:stretch/>
        </p:blipFill>
        <p:spPr>
          <a:xfrm>
            <a:off x="7164360" y="1989000"/>
            <a:ext cx="1820880" cy="3516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250920" y="5661000"/>
            <a:ext cx="216036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2627280" y="5661000"/>
            <a:ext cx="187344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Э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716360" y="5661000"/>
            <a:ext cx="208764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ХАР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7164360" y="5661000"/>
            <a:ext cx="1800360" cy="3603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ИМ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720" y="1267920"/>
            <a:ext cx="395928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Миф о рождении Афродиты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фродита возникла обнаженной из воздушной морской раковины вблизи Кипра — отсюда прозвище «Киприда» — и на раковине добралась до берега. Оры в золотых диадемах увенчали её золотым венцом, украсили золотым ожерельем и серьгами, а боги дивились её прелести и возгорались желанием взять её в жены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6" name="Picture 5" descr="w21"/>
          <p:cNvPicPr/>
          <p:nvPr/>
        </p:nvPicPr>
        <p:blipFill>
          <a:blip r:embed="rId1"/>
          <a:stretch/>
        </p:blipFill>
        <p:spPr>
          <a:xfrm>
            <a:off x="468360" y="692280"/>
            <a:ext cx="348624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4248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898989"/>
                </a:solidFill>
                <a:uFillTx/>
                <a:latin typeface="Garamond"/>
              </a:rPr>
              <a:t>ЯБЛОКО РАЗДОР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 свадьбе Пелея и морской нимфы Фетиды богиня раздора Эрида в отместку за то, что ее не пригласили, бросила среди гостей яблоко с надписью "Прекраснейшей". По совету Зевса богини Гера, Афина и Афродита призвали Париса выбрать из них прекраснейшую: Гера пообещала ему власть над миром, Афина - военную славу, Афродита - самую красивую женщину на земле. Парис вручил яблоко Афродите, которая помогла ему увезти прекрасную Елену в Трою, что послужило поводом к Троянской войн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8" name="Picture 4" descr="marra_352x416_0307_179"/>
          <p:cNvPicPr/>
          <p:nvPr/>
        </p:nvPicPr>
        <p:blipFill>
          <a:blip r:embed="rId1"/>
          <a:stretch/>
        </p:blipFill>
        <p:spPr>
          <a:xfrm>
            <a:off x="5148360" y="404640"/>
            <a:ext cx="37940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1373fec5c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46032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Elephant"/>
              </a:rPr>
              <a:t>Афродита – олицетворение божественной красоты и неувядаемой юности. Она будит в сердцах богов и смертных любовь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46032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Elephant"/>
              </a:rPr>
              <a:t>Ей посвящены IV, VI и X гимны Гомера. Она - действующее лицо трагедии Еврипида «Ипполит»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46032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Elephant"/>
              </a:rPr>
              <a:t>Афродита часто изображалась в античной скульптуре : Венера Милосская, Венера Медичи, Купающаяся Афродита и так далее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1:23:08Z</dcterms:created>
  <dc:creator>k1_516_01</dc:creator>
  <dc:description/>
  <dc:language>en-US</dc:language>
  <cp:lastModifiedBy>k1_516_01</cp:lastModifiedBy>
  <dcterms:modified xsi:type="dcterms:W3CDTF">2010-11-19T12:13:50Z</dcterms:modified>
  <cp:revision>9</cp:revision>
  <dc:subject/>
  <dc:title>Презентация ученицы 5 класса Калининой Анны</dc:title>
</cp:coreProperties>
</file>