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C67-5799-4EC0-8236-254B3259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348-7B62-4229-A156-BCC8B29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4F4-1AE9-4BEF-B84D-EE3C620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E78-DBF8-4578-AF51-818A17A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D3D-89BB-4528-B431-1A30A9B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AC8-D53B-4FE4-A33D-1FB6C25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6A4-023B-44D8-BF46-D860680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948-C616-4165-AA13-8DA2E762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6D0-2993-44CA-8C34-1CC26D06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243-F544-4FCD-A536-6689948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F37-7CE2-4E24-AEA4-B6D7865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A13-A44E-4D07-8B91-CA5EA65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03D-EE66-4F03-B3C9-9AEF03BD6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1378080"/>
            <a:ext cx="63946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бы соблюдать духовные традиции, их над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гнор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ним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1536840"/>
            <a:ext cx="9064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28760" y="571320"/>
            <a:ext cx="82864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ля чего человеку необходима культу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Чтобы гордиться перед другими народами достояниями своей куль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Чтобы быть лучше вс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тобы знать свои традиции, приобщаться к наследию своей Родины, ценить и умнож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ное достояние сво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520" y="3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200" y="500040"/>
            <a:ext cx="8715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 религия даёт челове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Материальное благополуч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евосходство над нерелигиозными люд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ормы морали и нравственности, ориентиры на жизненном пути, возможность быть счастли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13840" y="500040"/>
            <a:ext cx="8929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Как культура и религ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заимодействуют друг с друго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ультура существует  только благодаря 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лигия основана на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ультура и религия взаимно дополняют друг друга. Религиозные переживания людей находят отражение в культуре, а культу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убляет религиозные предст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гда человек считается культур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гда он знает особенности культуры своей Родины и поступает в соответствии со своим зна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гда он занимается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гда он читает книги о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2"/>
          <a:stretch/>
        </p:blipFill>
        <p:spPr>
          <a:xfrm>
            <a:off x="1163520" y="1609560"/>
            <a:ext cx="742644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спредели слова на две групп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ещение музеев, знание основ живописи, интерес 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вописи, интеллигентность, чтение книг, сове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лостыня, молитва, исповедь грехов, доброде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, изучение стихосложения, правила пове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ы морали, помощь ближн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4357800"/>
          <a:ext cx="8001000" cy="18460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религии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культуры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лигиозным человека можно назвать, если 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зывает себя верующ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нает основы рели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блюдает правила, установленные в е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Calibri"/>
              </a:rPr>
              <a:t>Самым важным показателем религиозности человека является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ожение в церковном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емонстрация своего отношения к религии других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85680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чему каждый россияни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олжен любить свою Роди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Это позволяет комфортно ж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Родина у человека, как мать, - одна. Её нужно любить, как мы любим своих родных, как любим свою единственную м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Благодаря ресурсам страны человек может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гати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ультура дает  человеку знание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 духовных ценно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 материальном состояни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 правилах хорошего 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Фильм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340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к может проявляться «труд душ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отношению к Роди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 обогащении страны материальными бла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освоении духовных богатств своего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завоевании новых террито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чём вы видите духовное бога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шей многонациональной Род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 богатых и влиятельных люд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большой территории и природных ресур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духовных традициях народов, которы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ут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Зачем народу традиц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Традиции – это прежде всего праздники, они нужны для того, чтобы было веселее ж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Традиции вообще не нужны народ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Они помогают сохранять связь с прошл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ны, указывают каждому правильны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865080" y="1590840"/>
            <a:ext cx="721836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8571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пределите словосочетания на две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 о младших, мытье полов, уборка клас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Отечеству, уважение старших, любов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е, плотничество, помощь людям, проп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ум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85880" y="3857760"/>
          <a:ext cx="7429320" cy="1785960"/>
        </p:xfrm>
        <a:graphic>
          <a:graphicData uri="http://schemas.openxmlformats.org/drawingml/2006/table">
            <a:tbl>
              <a:tblPr/>
              <a:tblGrid>
                <a:gridCol w="3714840"/>
                <a:gridCol w="37144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уд ду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уд души необходим человеку для того, что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делать что-то лучше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статься прежн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тать луч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уховные традиции страны устанавливаю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рудом душ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тдельным челов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Юридическими зако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оседним государ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9:18:37Z</dcterms:created>
  <dc:creator>Admin</dc:creator>
  <dc:description/>
  <dc:language>en-US</dc:language>
  <cp:lastModifiedBy>Admin</cp:lastModifiedBy>
  <dcterms:modified xsi:type="dcterms:W3CDTF">2010-04-02T17:47:12Z</dcterms:modified>
  <cp:revision>8</cp:revision>
  <dc:subject/>
  <dc:title>Слайд 1</dc:title>
</cp:coreProperties>
</file>