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046-F102-4E2A-B762-91D8336B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4F5-36E0-4D6B-BB32-0BA5D726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DF8-58A8-43BB-8CA9-EE9F9861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518-B837-4E0D-8C6A-1A3758BD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6F5-F0DA-43EF-8717-5663AE1C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642-FB64-490E-818F-944284E4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8FA-196F-4EB5-8536-AD614B7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2D5-F80E-481F-976F-94AC0ABE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259-F000-4893-B33A-0774F7C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ED2-C43A-43EA-9418-E96FDD00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E5E-0191-48A7-B861-CA29947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DCC-8947-4126-8B13-57BEF72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4DDF-A1A9-4C00-8144-82E8DA218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311120" y="1378080"/>
            <a:ext cx="63946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бы соблюдать духовные традиции, их над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ч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Игнорир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оним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/>
          <p:cNvPicPr/>
          <p:nvPr/>
        </p:nvPicPr>
        <p:blipFill>
          <a:blip r:embed="rId2"/>
          <a:stretch/>
        </p:blipFill>
        <p:spPr>
          <a:xfrm>
            <a:off x="103320" y="1536840"/>
            <a:ext cx="90644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28760" y="571320"/>
            <a:ext cx="82864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ля чего человеку необходима культу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Чтобы гордиться перед другими народами достояниями своей куль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Чтобы быть лучше все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тобы знать свои традиции, приобщаться к наследию своей Родины, ценить и умножа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льтурное достояние свое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520" y="3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14200" y="500040"/>
            <a:ext cx="8715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 религия даёт челове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Материальное благополуч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ревосходство над нерелигиозными людь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ормы морали и нравственности, ориентиры на жизненном пути, возможность быть счастли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13840" y="500040"/>
            <a:ext cx="8929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Как культура и религ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заимодействуют друг с друго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ультура существует  только благодаря рели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Религия основана на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ультура и религия взаимно дополняют друг друга. Религиозные переживания людей находят отражение в культуре, а культу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лубляет религиозные предст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дание 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гда человек считается культурн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Когда он знает особенности культуры своей Родины и поступает в соответствии со своим зна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гда он занимается физической культур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огда он читает книги о куль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7" descr=""/>
          <p:cNvPicPr/>
          <p:nvPr/>
        </p:nvPicPr>
        <p:blipFill>
          <a:blip r:embed="rId2"/>
          <a:stretch/>
        </p:blipFill>
        <p:spPr>
          <a:xfrm>
            <a:off x="1163520" y="1609560"/>
            <a:ext cx="742644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спредели слова на две групп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ещение музеев, знание основ живописи, интерес 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вописи, интеллигентность, чтение книг, сове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лостыня, молитва, исповедь грехов, добродете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, изучение стихосложения, правила пове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ы морали, помощь ближн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4357800"/>
          <a:ext cx="8001000" cy="18460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е религии в челов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явление культуры в челове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елигиозным человека можно назвать, если 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зывает себя верующ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Знает основы рели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облюдает правила, установленные в ег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лиг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0000"/>
                </a:solidFill>
                <a:latin typeface="Calibri"/>
              </a:rPr>
              <a:t>Самым важным показателем религиозности человека является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ложение в церковном ми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емонстрация своего отношения к религии других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85680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Почему каждый россияни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должен любить свою Родин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Это позволяет комфортно ж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Родина у человека, как мать, - одна. Её нужно любить, как мы любим своих родных, как любим свою единственную м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Благодаря ресурсам страны человек может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огатит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4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ультура дает  человеку знание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 духовных ценно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 материальном состоянии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О правилах хорошего 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Фильм.wmv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3407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к может проявляться «труд душ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отношению к Роди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 обогащении страны материальными бла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освоении духовных богатств своего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завоевании новых террито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9288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чём вы видите духовное богатств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шей многонациональной Род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В богатых и влиятельных люд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большой территории и природных ресур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 духовных традициях народов, которы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ут на территории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ние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Зачем народу традици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Традиции – это прежде всего праздники, они нужны для того, чтобы было веселее жи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Традиции вообще не нужны народ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Они помогают сохранять связь с прошл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дины, указывают каждому правильный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" descr=""/>
          <p:cNvPicPr/>
          <p:nvPr/>
        </p:nvPicPr>
        <p:blipFill>
          <a:blip r:embed="rId2"/>
          <a:stretch/>
        </p:blipFill>
        <p:spPr>
          <a:xfrm>
            <a:off x="865080" y="1590840"/>
            <a:ext cx="721836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8571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пределите словосочетания на две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 о младших, мытье полов, уборка клас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вь к Отечеству, уважение старших, любовь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ье, плотничество, помощь людям, пропо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ум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85880" y="3857760"/>
          <a:ext cx="7429320" cy="1785960"/>
        </p:xfrm>
        <a:graphic>
          <a:graphicData uri="http://schemas.openxmlformats.org/drawingml/2006/table">
            <a:tbl>
              <a:tblPr/>
              <a:tblGrid>
                <a:gridCol w="3714840"/>
                <a:gridCol w="371448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уд ду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ий тр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2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руд души необходим человеку для того, что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делать что-то лучше друг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статься прежн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тать луч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user\Рабочий стол\шаблоны r ghtptynfwbb ghjtrn\My_new_fons_next 100\My_new_fons_next 100\3-в.jpg"/>
          <p:cNvPicPr/>
          <p:nvPr/>
        </p:nvPicPr>
        <p:blipFill>
          <a:blip r:embed="rId1"/>
          <a:stretch/>
        </p:blipFill>
        <p:spPr>
          <a:xfrm>
            <a:off x="0" y="0"/>
            <a:ext cx="91868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 3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фраз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уховные традиции страны устанавливаю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Трудом души 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тдельным челов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Юридическими зако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Соседним государст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9:18:37Z</dcterms:created>
  <dc:creator>Admin</dc:creator>
  <dc:description/>
  <dc:language>en-US</dc:language>
  <cp:lastModifiedBy>Admin</cp:lastModifiedBy>
  <dcterms:modified xsi:type="dcterms:W3CDTF">2010-04-02T17:47:12Z</dcterms:modified>
  <cp:revision>8</cp:revision>
  <dc:subject/>
  <dc:title>Слайд 1</dc:title>
</cp:coreProperties>
</file>