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1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3.jpeg" ContentType="image/jpe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40A-6158-4FD0-9147-AF2E8EC4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47F-29B6-466E-9660-711F63D3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AF2-3B3C-4B2F-8BB6-3E077B0C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D0F-E878-4EEF-AE30-42124097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060A-2532-43B6-B694-40D03CB3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0A57-87F7-403C-A8DF-E84403E9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BF4C-D4F9-459C-9845-99D76269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D2B-67D1-478C-A527-A3E57BFD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BBAE-2D4E-47CD-BC85-D32C94B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0E8A-C5FE-4E8B-A37B-8CA6931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C7F3-E10E-454A-938C-BC36373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D24-3A16-4607-9D70-381F949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F3FF-8A33-4430-ACD5-9DE307A5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6ED-E4D6-41A1-A106-FCDF651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03F-9B72-40C5-9901-B480CF42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C4A5-028D-4B1D-B650-33C83274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D800-A13D-4CB3-AA41-6A0A058E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6C1-AD4E-4ED8-B071-E543CB8D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19F-B34D-4EEA-AA63-4E9D28D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F88-FF4F-448E-AB50-57D15EEE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E22-60B6-486B-AD88-FAA278D5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3AD-31B8-4238-96A7-418B22D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B71-337D-4B2F-88CB-876E6ECD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CED-7840-403E-B266-9B047400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00E2-84A2-47C6-86DD-26364C33348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389-8E67-4087-AA2A-D4D4E73C25E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8137440" cy="6669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1e0f"/>
              </a:gs>
              <a:gs pos="50000">
                <a:srgbClr val="1e3e2e">
                  <a:alpha val="59215"/>
                </a:srgbClr>
              </a:gs>
              <a:gs pos="100000">
                <a:srgbClr val="001e0f"/>
              </a:gs>
            </a:gsLst>
            <a:lin ang="108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imes New Roman"/>
              </a:rPr>
              <a:t>Феодальный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imes New Roman"/>
              </a:rPr>
              <a:t>мир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273640" cy="5329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796000" y="2492280"/>
            <a:ext cx="3168720" cy="27338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лужб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воем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еньор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260280"/>
            <a:ext cx="2736720" cy="1081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628640"/>
            <a:ext cx="345744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цог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маркиз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раф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716280"/>
            <a:ext cx="4176720" cy="115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иконты баро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157720"/>
            <a:ext cx="4897440" cy="1484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днощит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рыцар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549360"/>
            <a:ext cx="1440000" cy="215892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478800">
            <a:off x="4500360" y="436572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478800">
            <a:off x="3779640" y="256536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692280"/>
            <a:ext cx="216036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5013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2997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1413000"/>
            <a:ext cx="3745080" cy="1439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3860640"/>
            <a:ext cx="3744720" cy="1008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8920" y="5850000"/>
            <a:ext cx="3745080" cy="1008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260280"/>
            <a:ext cx="619272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еньор - это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560" y="1052640"/>
            <a:ext cx="5761080" cy="1368360"/>
          </a:xfrm>
          <a:prstGeom prst="flowChartAlternateProcess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еодал, давший землю другому феодал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141720"/>
            <a:ext cx="648180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ассал - это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933720"/>
            <a:ext cx="6048360" cy="1368360"/>
          </a:xfrm>
          <a:prstGeom prst="flowChartAlternateProcess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еодал, получивший землю у другого феодал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709720" cy="2738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95280" y="5734080"/>
            <a:ext cx="8280360" cy="863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Вассал моего вассала – не мой васса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333360"/>
            <a:ext cx="5113080" cy="24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Оммаж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церемония заключения вассального договор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141720"/>
            <a:ext cx="6192720" cy="13669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Фуа –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клятва вассала сеньор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869000"/>
            <a:ext cx="6265800" cy="1800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Инвеститура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– передача феода сеньором вассал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3313080" cy="22813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2736720" cy="1081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345744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цог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маркиз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раф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716280"/>
            <a:ext cx="4176720" cy="115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иконты баро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157720"/>
            <a:ext cx="4897440" cy="1484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днощит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рыцар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549360"/>
            <a:ext cx="1440000" cy="215892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478800">
            <a:off x="4500360" y="436572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478800">
            <a:off x="3779640" y="256536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0" y="692280"/>
            <a:ext cx="216036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5013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2997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1413000"/>
            <a:ext cx="3745080" cy="1439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3860640"/>
            <a:ext cx="3744720" cy="1008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8920" y="5850000"/>
            <a:ext cx="3745080" cy="1008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24360" y="476280"/>
            <a:ext cx="3168720" cy="5329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Междоусобные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войны –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это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317920" cy="5975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940360" y="2060640"/>
            <a:ext cx="2808360" cy="1439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войны между феодалами с цель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284640"/>
            <a:ext cx="2881440" cy="3168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хвата земель, крестьян, получения выкупа или просто грабе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1800000" cy="863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ест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6367680" cy="4997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341360"/>
            <a:ext cx="31683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мок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673800" cy="5327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3068640"/>
            <a:ext cx="3168720" cy="24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Донжон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– главная башня зам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708360" y="1988640"/>
            <a:ext cx="309564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3789360"/>
            <a:ext cx="2951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170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8208720" cy="6166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8642160" cy="5798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258920" y="260280"/>
            <a:ext cx="5194440" cy="6408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398520"/>
            <a:ext cx="8209080" cy="61704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298440"/>
            <a:ext cx="7993080" cy="644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8640720" cy="5933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260280"/>
            <a:ext cx="2663640" cy="194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молит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349360"/>
            <a:ext cx="2663640" cy="194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воюе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508640"/>
            <a:ext cx="2592360" cy="19429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трудит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2279520" cy="2448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84720" y="2565360"/>
            <a:ext cx="2103480" cy="2664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516720" y="3860640"/>
            <a:ext cx="2289240" cy="2746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227640" y="692280"/>
            <a:ext cx="2665440" cy="1368360"/>
          </a:xfrm>
          <a:prstGeom prst="leftArrow">
            <a:avLst>
              <a:gd name="adj1" fmla="val 50000"/>
              <a:gd name="adj2" fmla="val 48698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уховен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133720"/>
            <a:ext cx="2448000" cy="1368360"/>
          </a:xfrm>
          <a:prstGeom prst="leftArrow">
            <a:avLst>
              <a:gd name="adj1" fmla="val 50000"/>
              <a:gd name="adj2" fmla="val 44725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воря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95640" y="5489640"/>
            <a:ext cx="2376720" cy="1368360"/>
          </a:xfrm>
          <a:prstGeom prst="leftArrow">
            <a:avLst>
              <a:gd name="adj1" fmla="val 50000"/>
              <a:gd name="adj2" fmla="val 43423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Крестья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68360" y="0"/>
            <a:ext cx="611280" cy="4437000"/>
          </a:xfrm>
          <a:custGeom>
            <a:avLst/>
            <a:gdLst>
              <a:gd name="textAreaLeft" fmla="*/ 360 w 611280"/>
              <a:gd name="textAreaRight" fmla="*/ 221040 w 611280"/>
              <a:gd name="textAreaTop" fmla="*/ 115560 h 4437000"/>
              <a:gd name="textAreaBottom" fmla="*/ 4321440 h 443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46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3846600" cy="5256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24000" y="1341360"/>
            <a:ext cx="2808000" cy="720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б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2276280" cy="3961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411280" y="1628640"/>
            <a:ext cx="3600720" cy="50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евиз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2349360"/>
            <a:ext cx="8569080" cy="719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Выше меня лишь Бог и король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292640"/>
            <a:ext cx="8496000" cy="79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Без лести предан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284640"/>
            <a:ext cx="8424720" cy="79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Бог и моё право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373720"/>
            <a:ext cx="8424720" cy="1224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Жизнь принадлежит Богу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честь – никому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435640" y="1268280"/>
            <a:ext cx="2808360" cy="2376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ама сердц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593960" cy="5329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5084640"/>
            <a:ext cx="2916000" cy="1295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оспехи и оружи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349360" cy="3490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348000" y="1341360"/>
            <a:ext cx="2809800" cy="4465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396120" y="1341360"/>
            <a:ext cx="2411280" cy="5183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48360" y="2708280"/>
            <a:ext cx="3097080" cy="151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аж или оруженосец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344840" cy="5184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435640" y="1197000"/>
            <a:ext cx="3384360" cy="5327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закономерный процесс распада единого государства на ряд более мелких полунезависимых государств при сохранении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7777080" cy="647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Феодальная раздробленность – эт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824360" cy="482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651640" y="4437000"/>
            <a:ext cx="2952720" cy="2016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языкового, религиозного и культурного единства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968720" cy="4259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20" name=""/>
          <p:cNvSpPr/>
          <p:nvPr/>
        </p:nvSpPr>
        <p:spPr>
          <a:xfrm rot="826200">
            <a:off x="1720440" y="5059080"/>
            <a:ext cx="4032360" cy="503280"/>
          </a:xfrm>
          <a:prstGeom prst="leftArrow">
            <a:avLst>
              <a:gd name="adj1" fmla="val 50000"/>
              <a:gd name="adj2" fmla="val 200304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3860640"/>
            <a:ext cx="3095640" cy="503280"/>
          </a:xfrm>
          <a:prstGeom prst="leftArrow">
            <a:avLst>
              <a:gd name="adj1" fmla="val 50000"/>
              <a:gd name="adj2" fmla="val 153773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2565360"/>
            <a:ext cx="2016000" cy="503280"/>
          </a:xfrm>
          <a:prstGeom prst="leftArrow">
            <a:avLst>
              <a:gd name="adj1" fmla="val 50000"/>
              <a:gd name="adj2" fmla="val 100143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5084640"/>
            <a:ext cx="3384360" cy="1079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Карлу Лысому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60280"/>
            <a:ext cx="7921440" cy="1297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843 год – внуки Карла Великого разделили империю в Верден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573360"/>
            <a:ext cx="3384360" cy="1079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Лотарю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2060640"/>
            <a:ext cx="3384360" cy="1079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Людовику Немецкому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24360" y="2276640"/>
            <a:ext cx="3095640" cy="42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Франции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основатель династии Капетинг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1640" y="404640"/>
            <a:ext cx="3241440" cy="1224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Гуго Капе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Гуго Капет"/>
          <p:cNvPicPr/>
          <p:nvPr/>
        </p:nvPicPr>
        <p:blipFill>
          <a:blip r:embed="rId2"/>
          <a:stretch/>
        </p:blipFill>
        <p:spPr>
          <a:xfrm>
            <a:off x="324000" y="404640"/>
            <a:ext cx="4929120" cy="62373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260280"/>
            <a:ext cx="6984720" cy="6193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Мужики что злы и грубы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а дворянство точат зубы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Только нищими мне любы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Любо видеть мне на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Голодающим, раздетым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Страждущим, необогретым!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Чтоб крестьяне не жирел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Чтоб лишения терпел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адобно из года в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Всех держать их в чёрном теле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Бертран де Борн, 119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260280"/>
            <a:ext cx="2449440" cy="223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раб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260280"/>
            <a:ext cx="554544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 свободные крестьяне, чью землю захватил феода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997360"/>
            <a:ext cx="4319280" cy="36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 свободные крестьяне, сами отдавшие землю феодалу в обмен на защи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2637000"/>
            <a:ext cx="3961080" cy="3887640"/>
          </a:xfrm>
          <a:prstGeom prst="ellipse">
            <a:avLst/>
          </a:pr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висим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рестьян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7775640" cy="6337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920000" cy="6378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61440" cy="5353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971640" y="5373720"/>
            <a:ext cx="26636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ой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116000" y="297000"/>
            <a:ext cx="6840720" cy="64260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4508640"/>
            <a:ext cx="4248000" cy="194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Барщина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все работы крестьянина в хозяйстве феодала со своими орудиями тру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60280"/>
            <a:ext cx="604836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Крестьянские повинност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принудительные обязан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о отношению к феодалу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4508640"/>
            <a:ext cx="3960720" cy="194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о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плата крестьянина феодалу продуктами или деньг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03640" y="2257560"/>
            <a:ext cx="2953080" cy="1995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68360" y="2279520"/>
            <a:ext cx="4103640" cy="2001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333360"/>
            <a:ext cx="8640720" cy="612000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Натуральное хозяйство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акое хозяйство, где всё необходимое производится самостоятельно и для собственного употребления, а не для продаж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662040"/>
            <a:ext cx="8713800" cy="5489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916280"/>
            <a:ext cx="8351640" cy="4537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293364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981160" cy="457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093080" y="1052640"/>
            <a:ext cx="299088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826920" y="1557360"/>
            <a:ext cx="29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1430280"/>
            <a:ext cx="8642160" cy="5076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971640" y="5373720"/>
            <a:ext cx="26636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урни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5977080" cy="53262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804000" y="5373720"/>
            <a:ext cx="208908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Охот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6624720" cy="54259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7451640" y="5373720"/>
            <a:ext cx="14414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и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09080" cy="42069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195640" y="5877000"/>
            <a:ext cx="5292720" cy="790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Рассказы о подвиг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332240" cy="54007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219640" y="4869000"/>
            <a:ext cx="3456000" cy="1798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очинение стихов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492280"/>
            <a:ext cx="4321440" cy="27338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реклонение перед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рекрасной Дамой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052880" cy="52563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2:07Z</dcterms:created>
  <dc:creator>Admin</dc:creator>
  <dc:description/>
  <dc:language>en-US</dc:language>
  <cp:lastModifiedBy>Admin</cp:lastModifiedBy>
  <dcterms:modified xsi:type="dcterms:W3CDTF">2010-01-10T07:30:26Z</dcterms:modified>
  <cp:revision>5</cp:revision>
  <dc:subject/>
  <dc:title>Слайд 1</dc:title>
</cp:coreProperties>
</file>