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jpeg" ContentType="image/jpeg"/>
  <Override PartName="/ppt/media/image40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5.jpeg" ContentType="image/jpeg"/>
  <Override PartName="/ppt/media/image38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1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3.jpeg" ContentType="image/jpe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355-E13B-4CD4-8B73-B3C6C480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266-4D73-4025-BAD5-FD138432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557-37E3-4C0D-9E6B-DB2910E5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A12-2205-48C3-904A-6FE2EAB7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B56A-4AFB-49B9-8655-94CBB0A5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B85A-D6BD-41E2-A2EF-04FAE81D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8685-4F7B-47DD-A437-D7C30214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E681-6952-4598-A69A-8F8B25DA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FC3D-5A27-4487-A0A2-6F7B17D7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7AEA-4FC8-4E18-BA00-675BDE72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602C-7D42-4010-9BF1-11F84B4C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3D6-C903-42E8-B72F-8C47CA1A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FECA-0BA6-4945-B390-056CF59F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1090-6522-44C6-8D42-3B2183A6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79EC-4360-4F12-8211-4F6AE7CF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34DC-DD55-4863-AB4B-EA2C443A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54F9-4AAC-4BD1-9E97-DD0B2FB3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014-EC32-48FB-9EE4-ADED873D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467-239C-46C3-B670-E101E1CE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413A-689E-4BED-B4E7-F64456DB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B6B-4B27-4B31-81BC-29E1F32B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906-5834-47C4-A7DB-4C493F68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32C-A80F-4539-BE17-2692E075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80F-60A7-4BA8-95E0-57070274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8F83-8751-43EE-8E94-032968A8B62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D3A8-783C-4E30-A344-A8F1AFA0DE3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189000"/>
            <a:ext cx="8137440" cy="6669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1e0f"/>
              </a:gs>
              <a:gs pos="50000">
                <a:srgbClr val="1e3e2e">
                  <a:alpha val="59215"/>
                </a:srgbClr>
              </a:gs>
              <a:gs pos="100000">
                <a:srgbClr val="001e0f"/>
              </a:gs>
            </a:gsLst>
            <a:lin ang="10800000"/>
          </a:gra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aeaea"/>
                </a:solidFill>
                <a:latin typeface="Times New Roman"/>
              </a:rPr>
              <a:t>Феодальный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aeaea"/>
                </a:solidFill>
                <a:latin typeface="Times New Roman"/>
              </a:rPr>
              <a:t>мир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5273640" cy="5329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5796000" y="2492280"/>
            <a:ext cx="3168720" cy="27338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Служб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своему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сеньору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260280"/>
            <a:ext cx="2736720" cy="1081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Король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628640"/>
            <a:ext cx="3457440" cy="1800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Герцог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маркиз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граф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716280"/>
            <a:ext cx="4176720" cy="1152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Виконты барон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157720"/>
            <a:ext cx="4897440" cy="1484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Однощитны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рыцар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549360"/>
            <a:ext cx="1440000" cy="2158920"/>
          </a:xfrm>
          <a:custGeom>
            <a:avLst/>
            <a:gdLst>
              <a:gd name="textAreaLeft" fmla="*/ 192960 w 1440000"/>
              <a:gd name="textAreaRight" fmla="*/ 1247040 w 144000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1478800">
            <a:off x="4500360" y="4365720"/>
            <a:ext cx="1439640" cy="215892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1478800">
            <a:off x="3779640" y="2565360"/>
            <a:ext cx="1439640" cy="215892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692280"/>
            <a:ext cx="216036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4720" y="5013360"/>
            <a:ext cx="216072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2997360"/>
            <a:ext cx="216072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1413000"/>
            <a:ext cx="3745080" cy="1439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3860640"/>
            <a:ext cx="3744720" cy="1008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8920" y="5850000"/>
            <a:ext cx="3745080" cy="1008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0920" y="260280"/>
            <a:ext cx="6192720" cy="2305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Сеньор - это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6560" y="1052640"/>
            <a:ext cx="5761080" cy="1368360"/>
          </a:xfrm>
          <a:prstGeom prst="flowChartAlternateProcess">
            <a:avLst/>
          </a:prstGeom>
          <a:solidFill>
            <a:srgbClr val="007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феодал, давший землю другому феодалу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3141720"/>
            <a:ext cx="6481800" cy="2305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Вассал - это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933720"/>
            <a:ext cx="6048360" cy="1368360"/>
          </a:xfrm>
          <a:prstGeom prst="flowChartAlternateProcess">
            <a:avLst/>
          </a:prstGeom>
          <a:solidFill>
            <a:srgbClr val="007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феодал, получивший землю у другого феодал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2709720" cy="27381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95280" y="5734080"/>
            <a:ext cx="8280360" cy="863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Вассал моего вассала – не мой васса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333360"/>
            <a:ext cx="5113080" cy="2448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aeaea"/>
                </a:solidFill>
                <a:uFillTx/>
                <a:latin typeface="Times New Roman"/>
              </a:rPr>
              <a:t>Оммаж</a:t>
            </a: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церемония заключения вассального договор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3141720"/>
            <a:ext cx="6192720" cy="13669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Фуа – </a:t>
            </a: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клятва вассала сеньору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869000"/>
            <a:ext cx="6265800" cy="1800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Инвеститура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– передача феода сеньором вассал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580000" y="476280"/>
            <a:ext cx="3313080" cy="228132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260280"/>
            <a:ext cx="2736720" cy="1081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Король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3457440" cy="1800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Герцог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маркиз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граф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3716280"/>
            <a:ext cx="4176720" cy="1152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Виконты барон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157720"/>
            <a:ext cx="4897440" cy="1484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Однощитны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рыцар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87640" y="549360"/>
            <a:ext cx="1440000" cy="2158920"/>
          </a:xfrm>
          <a:custGeom>
            <a:avLst/>
            <a:gdLst>
              <a:gd name="textAreaLeft" fmla="*/ 192960 w 1440000"/>
              <a:gd name="textAreaRight" fmla="*/ 1247040 w 144000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1478800">
            <a:off x="4500360" y="4365720"/>
            <a:ext cx="1439640" cy="215892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1478800">
            <a:off x="3779640" y="2565360"/>
            <a:ext cx="1439640" cy="215892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88000" y="692280"/>
            <a:ext cx="216036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5013360"/>
            <a:ext cx="216072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2997360"/>
            <a:ext cx="216072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1413000"/>
            <a:ext cx="3745080" cy="1439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3860640"/>
            <a:ext cx="3744720" cy="1008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8920" y="5850000"/>
            <a:ext cx="3745080" cy="1008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724360" y="476280"/>
            <a:ext cx="3168720" cy="5329080"/>
          </a:xfrm>
          <a:prstGeom prst="flowChartAlternateProcess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eaeaea"/>
                </a:solidFill>
                <a:uFillTx/>
                <a:latin typeface="Times New Roman"/>
              </a:rPr>
              <a:t>Междоусобные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eaeaea"/>
                </a:solidFill>
                <a:uFillTx/>
                <a:latin typeface="Times New Roman"/>
              </a:rPr>
              <a:t>войны –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это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5317920" cy="59752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5940360" y="2060640"/>
            <a:ext cx="2808360" cy="14396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войны между феодалами с цель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3284640"/>
            <a:ext cx="2881440" cy="3168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захвата земель, крестьян, получения выкупа или просто грабеж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844640"/>
            <a:ext cx="1800000" cy="863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есть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6367680" cy="49975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1341360"/>
            <a:ext cx="31683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мок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673800" cy="5327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8360" y="3068640"/>
            <a:ext cx="3168720" cy="2448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Донжон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– главная башня зам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708360" y="1988640"/>
            <a:ext cx="3095640" cy="180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3789360"/>
            <a:ext cx="2951280" cy="100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569080" cy="51703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8208720" cy="61660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250920" y="692280"/>
            <a:ext cx="8642160" cy="57988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258920" y="260280"/>
            <a:ext cx="5194440" cy="64087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398520"/>
            <a:ext cx="8209080" cy="61704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24000" y="298440"/>
            <a:ext cx="7993080" cy="64436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79280" y="476280"/>
            <a:ext cx="8640720" cy="59338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71640" y="260280"/>
            <a:ext cx="2663640" cy="1943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Те, кто молится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2349360"/>
            <a:ext cx="2663640" cy="1943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Те, кто воюе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4508640"/>
            <a:ext cx="2592360" cy="19429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Те, кто трудится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51280" y="333360"/>
            <a:ext cx="2279520" cy="24480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284720" y="2565360"/>
            <a:ext cx="2103480" cy="26640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516720" y="3860640"/>
            <a:ext cx="2289240" cy="2746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6227640" y="692280"/>
            <a:ext cx="2665440" cy="1368360"/>
          </a:xfrm>
          <a:prstGeom prst="leftArrow">
            <a:avLst>
              <a:gd name="adj1" fmla="val 50000"/>
              <a:gd name="adj2" fmla="val 48698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Духовен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2133720"/>
            <a:ext cx="2448000" cy="1368360"/>
          </a:xfrm>
          <a:prstGeom prst="leftArrow">
            <a:avLst>
              <a:gd name="adj1" fmla="val 50000"/>
              <a:gd name="adj2" fmla="val 44725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Дворян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995640" y="5489640"/>
            <a:ext cx="2376720" cy="1368360"/>
          </a:xfrm>
          <a:prstGeom prst="leftArrow">
            <a:avLst>
              <a:gd name="adj1" fmla="val 50000"/>
              <a:gd name="adj2" fmla="val 43423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Крестьян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68360" y="0"/>
            <a:ext cx="611280" cy="4437000"/>
          </a:xfrm>
          <a:custGeom>
            <a:avLst/>
            <a:gdLst>
              <a:gd name="textAreaLeft" fmla="*/ 360 w 611280"/>
              <a:gd name="textAreaRight" fmla="*/ 221040 w 611280"/>
              <a:gd name="textAreaTop" fmla="*/ 115560 h 4437000"/>
              <a:gd name="textAreaBottom" fmla="*/ 4321440 h 443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92280"/>
            <a:ext cx="468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Ф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3846600" cy="5256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324000" y="1341360"/>
            <a:ext cx="2808000" cy="720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Герб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971640" y="2492280"/>
            <a:ext cx="2276280" cy="39610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411280" y="1628640"/>
            <a:ext cx="3600720" cy="503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Девиз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2349360"/>
            <a:ext cx="8569080" cy="719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«Выше меня лишь Бог и король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4292640"/>
            <a:ext cx="8496000" cy="792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«Без лести предан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3284640"/>
            <a:ext cx="8424720" cy="792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«Бог и моё право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5373720"/>
            <a:ext cx="8424720" cy="1224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«Жизнь принадлежит Богу,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честь – никому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435640" y="1268280"/>
            <a:ext cx="2808360" cy="2376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Дама сердц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4593960" cy="5329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0920" y="5084640"/>
            <a:ext cx="2916000" cy="1295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Доспехи и оружи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349360" cy="34909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348000" y="1341360"/>
            <a:ext cx="2809800" cy="44658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6396120" y="1341360"/>
            <a:ext cx="2411280" cy="51832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48360" y="2708280"/>
            <a:ext cx="3097080" cy="1512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Паж или оруженосец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344840" cy="51847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435640" y="1197000"/>
            <a:ext cx="3384360" cy="5327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закономерный процесс распада единого государства на ряд более мелких полунезависимых государств при сохранении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60280"/>
            <a:ext cx="7777080" cy="647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Феодальная раздробленность – это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824360" cy="4824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5651640" y="4437000"/>
            <a:ext cx="2952720" cy="2016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языкового, религиозного и культурного единства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968720" cy="42591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20" name=""/>
          <p:cNvSpPr/>
          <p:nvPr/>
        </p:nvSpPr>
        <p:spPr>
          <a:xfrm rot="826200">
            <a:off x="1720440" y="5059080"/>
            <a:ext cx="4032360" cy="503280"/>
          </a:xfrm>
          <a:prstGeom prst="leftArrow">
            <a:avLst>
              <a:gd name="adj1" fmla="val 50000"/>
              <a:gd name="adj2" fmla="val 200304"/>
            </a:avLst>
          </a:prstGeom>
          <a:solidFill>
            <a:srgbClr val="ff00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3860640"/>
            <a:ext cx="3095640" cy="503280"/>
          </a:xfrm>
          <a:prstGeom prst="leftArrow">
            <a:avLst>
              <a:gd name="adj1" fmla="val 50000"/>
              <a:gd name="adj2" fmla="val 153773"/>
            </a:avLst>
          </a:prstGeom>
          <a:solidFill>
            <a:srgbClr val="ff00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2565360"/>
            <a:ext cx="2016000" cy="503280"/>
          </a:xfrm>
          <a:prstGeom prst="leftArrow">
            <a:avLst>
              <a:gd name="adj1" fmla="val 50000"/>
              <a:gd name="adj2" fmla="val 100143"/>
            </a:avLst>
          </a:prstGeom>
          <a:solidFill>
            <a:srgbClr val="ff00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8720" y="5084640"/>
            <a:ext cx="3384360" cy="1079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Карлу Лысому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260280"/>
            <a:ext cx="7921440" cy="1297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843 год – внуки Карла Великого разделили империю в Верден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08720" y="3573360"/>
            <a:ext cx="3384360" cy="1079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aeaea"/>
                </a:solidFill>
                <a:latin typeface="Times New Roman"/>
              </a:rPr>
              <a:t>Лотарю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35640" y="2060640"/>
            <a:ext cx="3384360" cy="1079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Людовику Немецкому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724360" y="2276640"/>
            <a:ext cx="3095640" cy="4248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Король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Франции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основатель династии Капетингов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51640" y="404640"/>
            <a:ext cx="3241440" cy="1224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Гуго Капе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Гуго Капет"/>
          <p:cNvPicPr/>
          <p:nvPr/>
        </p:nvPicPr>
        <p:blipFill>
          <a:blip r:embed="rId2"/>
          <a:stretch/>
        </p:blipFill>
        <p:spPr>
          <a:xfrm>
            <a:off x="324000" y="404640"/>
            <a:ext cx="4929120" cy="623736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35280" y="260280"/>
            <a:ext cx="6984720" cy="6193080"/>
          </a:xfrm>
          <a:prstGeom prst="flowChartAlternateProcess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Мужики что злы и грубы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На дворянство точат зубы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Только нищими мне любы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Любо видеть мне нар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Голодающим, раздетым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Страждущим, необогретым!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Чтоб крестьяне не жирели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Чтоб лишения терпели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Надобно из года в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Всех держать их в чёрном теле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Бертран де Борн, 1195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50920" y="260280"/>
            <a:ext cx="2449440" cy="2232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Бывши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раб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32000" y="260280"/>
            <a:ext cx="5545440" cy="2305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Бывшие свободные крестьяне, чью землю захватил феода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2997360"/>
            <a:ext cx="4319280" cy="3600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Бывшие свободные крестьяне, сами отдавшие землю феодалу в обмен на защит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03640" y="2637000"/>
            <a:ext cx="3961080" cy="3887640"/>
          </a:xfrm>
          <a:prstGeom prst="ellipse">
            <a:avLst/>
          </a:pr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висимы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крестьян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7775640" cy="6337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7920000" cy="63784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7561440" cy="53532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971640" y="5373720"/>
            <a:ext cx="2663640" cy="1006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Вой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116000" y="297000"/>
            <a:ext cx="6840720" cy="642600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4000" y="4508640"/>
            <a:ext cx="4248000" cy="194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Барщина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все работы крестьянина в хозяйстве феодала со своими орудиями труд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60280"/>
            <a:ext cx="6048360" cy="1800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Крестьянские повинности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(принудительные обязанност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по отношению к феодалу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4508640"/>
            <a:ext cx="3960720" cy="194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Оброк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плата крестьянина феодалу продуктами или деньга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03640" y="2257560"/>
            <a:ext cx="2953080" cy="19954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468360" y="2279520"/>
            <a:ext cx="4103640" cy="20019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79280" y="333360"/>
            <a:ext cx="8640720" cy="6120000"/>
          </a:xfrm>
          <a:prstGeom prst="flowChartAlternateProcess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Натуральное хозяйство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 –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такое хозяйство, где всё необходимое производится самостоятельно и для собственного употребления, а не для продаж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50920" y="662040"/>
            <a:ext cx="8713800" cy="54896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916280"/>
            <a:ext cx="8351640" cy="4537080"/>
          </a:xfrm>
          <a:prstGeom prst="flowChartAlternateProcess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932360" y="404640"/>
            <a:ext cx="2933640" cy="4572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2981160" cy="4572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7093080" y="1052640"/>
            <a:ext cx="299088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826920" y="1557360"/>
            <a:ext cx="2953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1430280"/>
            <a:ext cx="8642160" cy="50767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971640" y="5373720"/>
            <a:ext cx="2663640" cy="1006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Турнир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5977080" cy="532620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6804000" y="5373720"/>
            <a:ext cx="2089080" cy="1006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Охот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6624720" cy="542592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7451640" y="5373720"/>
            <a:ext cx="1441440" cy="1006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Пир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209080" cy="420696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2195640" y="5877000"/>
            <a:ext cx="5292720" cy="790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Рассказы о подвига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332240" cy="540072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5219640" y="4869000"/>
            <a:ext cx="3456000" cy="1798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Сочинение стихов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2492280"/>
            <a:ext cx="4321440" cy="27338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Преклонение перед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Прекрасной Дамой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052880" cy="525636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2:07Z</dcterms:created>
  <dc:creator>Admin</dc:creator>
  <dc:description/>
  <dc:language>en-US</dc:language>
  <cp:lastModifiedBy>Admin</cp:lastModifiedBy>
  <dcterms:modified xsi:type="dcterms:W3CDTF">2010-01-10T07:30:26Z</dcterms:modified>
  <cp:revision>5</cp:revision>
  <dc:subject/>
  <dc:title>Слайд 1</dc:title>
</cp:coreProperties>
</file>