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jpeg" ContentType="image/jpeg"/>
  <Override PartName="/ppt/media/image40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1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3.jpeg" ContentType="image/jpe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5A2-51B5-413C-AE73-52888700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D7A-82E9-4CB9-B1F3-4466D013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905-96FE-4E69-A624-587D8A3D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F07-4055-40ED-AB73-9AB04703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62BD-D03D-4A1D-8AA0-75F5EF3B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5AAC-7117-45F0-931C-B76A647F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6659-76D7-4F8E-9CD4-A5E974B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9427-D46F-47D7-8D9E-6EB2A8C3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07E2-9EDD-4DD3-92A1-3CACA65D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F78B-27F5-48DE-837A-C96B111A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7B3A-E512-41EE-99A4-7519345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0F5-ADA9-4301-9D1F-AC099D0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BB5B-BC8B-45E1-8475-6805FCCB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32E-46AC-4EBF-BC56-22284583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8A4-C6DA-4A4E-B958-EA8EF8F4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8B6-99A8-4D75-8824-F798AFE4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F0FA-7245-474B-A8D3-142770BE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7F74-5DA8-4C3F-BFCB-A9A8F54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E07-B7C5-4450-9A55-E32B8BFF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1B1-448D-4567-93B7-B16DF709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B6D-D49A-45C1-AD31-22339AC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348-3817-4BEA-B381-BC96C96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3C4-CBAD-4589-9F9E-C20977A2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8CF-2322-47D6-8E61-40BB1B4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ADFC-46A0-4A71-81D1-CDB34D676C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F168-47CA-487B-8CC3-37AF0F1773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8137440" cy="6669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1e0f"/>
              </a:gs>
              <a:gs pos="50000">
                <a:srgbClr val="1e3e2e">
                  <a:alpha val="59215"/>
                </a:srgbClr>
              </a:gs>
              <a:gs pos="100000">
                <a:srgbClr val="001e0f"/>
              </a:gs>
            </a:gsLst>
            <a:lin ang="10800000"/>
          </a:gra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Феодальный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aeaea"/>
                </a:solidFill>
                <a:latin typeface="Times New Roman"/>
              </a:rPr>
              <a:t>мир</a:t>
            </a:r>
            <a:endParaRPr b="0" lang="en-US" sz="9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527364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5796000" y="2492280"/>
            <a:ext cx="316872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лужб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воем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0280"/>
            <a:ext cx="619272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еньор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560" y="1052640"/>
            <a:ext cx="576108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давший землю другому феодал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141720"/>
            <a:ext cx="648180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ассал - это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933720"/>
            <a:ext cx="6048360" cy="1368360"/>
          </a:xfrm>
          <a:prstGeom prst="flowChartAlternateProcess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феодал, получивший землю у другого феодал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2709720" cy="2738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95280" y="5734080"/>
            <a:ext cx="828036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Вассал моего вассала – не мой васс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333360"/>
            <a:ext cx="511308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Оммаж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церемония заключения вассального договор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141720"/>
            <a:ext cx="6192720" cy="1366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Фуа –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клятва вассала сеньору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869000"/>
            <a:ext cx="6265800" cy="1800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Инвеститура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– передача феода сеньором вассал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3313080" cy="22813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2736720" cy="1081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345744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цог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маркиз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раф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716280"/>
            <a:ext cx="4176720" cy="115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иконты барон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157720"/>
            <a:ext cx="4897440" cy="1484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днощит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рыцар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549360"/>
            <a:ext cx="1440000" cy="215892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78800">
            <a:off x="4500360" y="436572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78800">
            <a:off x="3779640" y="2565360"/>
            <a:ext cx="1439640" cy="215892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77640 h 2158920"/>
              <a:gd name="textAreaBottom" fmla="*/ 1565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692280"/>
            <a:ext cx="216036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5013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2997360"/>
            <a:ext cx="2160720" cy="50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Дал фео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1413000"/>
            <a:ext cx="3745080" cy="1439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3860640"/>
            <a:ext cx="3744720" cy="1008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8920" y="5850000"/>
            <a:ext cx="3745080" cy="1008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Сеньо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Васса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24360" y="476280"/>
            <a:ext cx="3168720" cy="5329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Междоусобные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войны –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это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317920" cy="5975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940360" y="2060640"/>
            <a:ext cx="2808360" cy="14396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войны между феодалами с цель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284640"/>
            <a:ext cx="2881440" cy="31687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захвата земель, крестьян, получения выкупа или просто грабе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00000" cy="863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ест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6367680" cy="49975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1341360"/>
            <a:ext cx="31683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мок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673800" cy="532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3068640"/>
            <a:ext cx="3168720" cy="24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Донжон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– главная башня зам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708360" y="1988640"/>
            <a:ext cx="3095640" cy="180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08360" y="3789360"/>
            <a:ext cx="295128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1703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8208720" cy="6166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250920" y="692280"/>
            <a:ext cx="8642160" cy="5798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258920" y="260280"/>
            <a:ext cx="5194440" cy="6408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398520"/>
            <a:ext cx="8209080" cy="61704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24000" y="298440"/>
            <a:ext cx="7993080" cy="6443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79280" y="476280"/>
            <a:ext cx="8640720" cy="59338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71640" y="26028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мол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349360"/>
            <a:ext cx="2663640" cy="194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воюе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508640"/>
            <a:ext cx="2592360" cy="19429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е, кто трудитс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2279520" cy="2448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284720" y="2565360"/>
            <a:ext cx="2103480" cy="26640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516720" y="3860640"/>
            <a:ext cx="2289240" cy="2746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227640" y="692280"/>
            <a:ext cx="2665440" cy="1368360"/>
          </a:xfrm>
          <a:prstGeom prst="leftArrow">
            <a:avLst>
              <a:gd name="adj1" fmla="val 50000"/>
              <a:gd name="adj2" fmla="val 48698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уховенств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43640" y="2133720"/>
            <a:ext cx="2448000" cy="1368360"/>
          </a:xfrm>
          <a:prstGeom prst="leftArrow">
            <a:avLst>
              <a:gd name="adj1" fmla="val 50000"/>
              <a:gd name="adj2" fmla="val 44725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Двор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95640" y="5489640"/>
            <a:ext cx="2376720" cy="1368360"/>
          </a:xfrm>
          <a:prstGeom prst="leftArrow">
            <a:avLst>
              <a:gd name="adj1" fmla="val 50000"/>
              <a:gd name="adj2" fmla="val 43423"/>
            </a:avLst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68360" y="0"/>
            <a:ext cx="611280" cy="4437000"/>
          </a:xfrm>
          <a:custGeom>
            <a:avLst/>
            <a:gdLst>
              <a:gd name="textAreaLeft" fmla="*/ 360 w 611280"/>
              <a:gd name="textAreaRight" fmla="*/ 221040 w 611280"/>
              <a:gd name="textAreaTop" fmla="*/ 115560 h 4437000"/>
              <a:gd name="textAreaBottom" fmla="*/ 4321440 h 443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92280"/>
            <a:ext cx="46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356000" y="1268280"/>
            <a:ext cx="3846600" cy="5256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324000" y="1341360"/>
            <a:ext cx="2808000" cy="720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Герб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2276280" cy="3961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411280" y="1628640"/>
            <a:ext cx="3600720" cy="503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евиз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349360"/>
            <a:ext cx="8569080" cy="71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Выше меня лишь Бог и король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4292640"/>
            <a:ext cx="849600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ез лести предан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3284640"/>
            <a:ext cx="8424720" cy="79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Бог и моё право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373720"/>
            <a:ext cx="842472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«Жизнь принадлежит Богу,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честь – никому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435640" y="1268280"/>
            <a:ext cx="2808360" cy="2376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ама сердц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4593960" cy="5329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5084640"/>
            <a:ext cx="2916000" cy="1295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Доспехи и оружи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349360" cy="34909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348000" y="1341360"/>
            <a:ext cx="2809800" cy="44658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396120" y="1341360"/>
            <a:ext cx="2411280" cy="5183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48360" y="2708280"/>
            <a:ext cx="3097080" cy="1512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аж или оруженосец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344840" cy="5184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Что должно быть у настоящего рыцар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435640" y="1197000"/>
            <a:ext cx="3384360" cy="532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закономерный процесс распада единого государства на ряд более мелких полунезависимых государств при сохранении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60280"/>
            <a:ext cx="7777080" cy="647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Феодальная раздробленность – это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4824360" cy="4824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651640" y="4437000"/>
            <a:ext cx="2952720" cy="2016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языкового, религиозного и культурного единства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968720" cy="42591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220" name=""/>
          <p:cNvSpPr/>
          <p:nvPr/>
        </p:nvSpPr>
        <p:spPr>
          <a:xfrm rot="826200">
            <a:off x="1720440" y="5059080"/>
            <a:ext cx="4032360" cy="503280"/>
          </a:xfrm>
          <a:prstGeom prst="leftArrow">
            <a:avLst>
              <a:gd name="adj1" fmla="val 50000"/>
              <a:gd name="adj2" fmla="val 200304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3860640"/>
            <a:ext cx="3095640" cy="503280"/>
          </a:xfrm>
          <a:prstGeom prst="leftArrow">
            <a:avLst>
              <a:gd name="adj1" fmla="val 50000"/>
              <a:gd name="adj2" fmla="val 15377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2565360"/>
            <a:ext cx="2016000" cy="503280"/>
          </a:xfrm>
          <a:prstGeom prst="leftArrow">
            <a:avLst>
              <a:gd name="adj1" fmla="val 50000"/>
              <a:gd name="adj2" fmla="val 100143"/>
            </a:avLst>
          </a:prstGeom>
          <a:solidFill>
            <a:srgbClr val="ff00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08720" y="508464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Карлу Лыс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60280"/>
            <a:ext cx="7921440" cy="1297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843 год – внуки Карла Великого разделили империю в Верден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573360"/>
            <a:ext cx="3384360" cy="10796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Лотарю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060640"/>
            <a:ext cx="3384360" cy="10792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Times New Roman"/>
              </a:rPr>
              <a:t>Людовику Немецкому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24360" y="2276640"/>
            <a:ext cx="3095640" cy="4248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Корол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aeaea"/>
                </a:solidFill>
                <a:latin typeface="Times New Roman"/>
              </a:rPr>
              <a:t>Франции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основатель династии Капетинг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51640" y="404640"/>
            <a:ext cx="3241440" cy="1224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Гуго Капе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Гуго Капет"/>
          <p:cNvPicPr/>
          <p:nvPr/>
        </p:nvPicPr>
        <p:blipFill>
          <a:blip r:embed="rId2"/>
          <a:stretch/>
        </p:blipFill>
        <p:spPr>
          <a:xfrm>
            <a:off x="324000" y="404640"/>
            <a:ext cx="4929120" cy="6237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835280" y="260280"/>
            <a:ext cx="6984720" cy="6193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Мужики что злы и гр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 дворянство точат зубы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Только нищими мне любы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Любо видеть мне на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Голодающим, раздетым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траждущим, необогретым!.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крестьяне не жир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Чтоб лишения терпели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адобно из года в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сех держать их в чёрном теле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Бертран де Борн, 1195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0920" y="260280"/>
            <a:ext cx="2449440" cy="223200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раб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260280"/>
            <a:ext cx="5545440" cy="230508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чью землю захватил феода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997360"/>
            <a:ext cx="4319280" cy="36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Бывшие свободные крестьяне, сами отдавшие землю феодалу в обмен на защит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2637000"/>
            <a:ext cx="3961080" cy="3887640"/>
          </a:xfrm>
          <a:prstGeom prst="ellipse">
            <a:avLst/>
          </a:prstGeom>
          <a:solidFill>
            <a:srgbClr val="cc6600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висим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крестьян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7775640" cy="63374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7920000" cy="6378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61440" cy="535320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Вой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116000" y="297000"/>
            <a:ext cx="6840720" cy="64260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4508640"/>
            <a:ext cx="424800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Барщина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все работы крестьянина в хозяйстве феодала со своими орудиями тру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60280"/>
            <a:ext cx="6048360" cy="1800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Крестьянские повинност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(принудительные обязанност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по отношению к феодалу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4508640"/>
            <a:ext cx="3960720" cy="194472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Оброк 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плата крестьянина феодалу продуктами или деньг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03640" y="2257560"/>
            <a:ext cx="2953080" cy="19954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68360" y="2279520"/>
            <a:ext cx="4103640" cy="20019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9280" y="333360"/>
            <a:ext cx="8640720" cy="612000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Натуральное хозяйство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акое хозяйство, где всё необходимое производится самостоятельно и для собственного употребления, а не для продаж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662040"/>
            <a:ext cx="8713800" cy="54896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916280"/>
            <a:ext cx="8351640" cy="4537080"/>
          </a:xfrm>
          <a:prstGeom prst="flowChartAlternateProcess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2933640" cy="4572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981160" cy="4572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7093080" y="1052640"/>
            <a:ext cx="299088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826920" y="1557360"/>
            <a:ext cx="29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1430280"/>
            <a:ext cx="8642160" cy="507672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971640" y="5373720"/>
            <a:ext cx="26636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Турн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5977080" cy="53262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804000" y="5373720"/>
            <a:ext cx="208908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Охот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6624720" cy="54259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451640" y="5373720"/>
            <a:ext cx="1441440" cy="1006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ир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09080" cy="42069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195640" y="5877000"/>
            <a:ext cx="5292720" cy="790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Рассказы о подвига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332240" cy="540072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219640" y="4869000"/>
            <a:ext cx="3456000" cy="17985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Сочинение стихов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260280"/>
            <a:ext cx="8642160" cy="79236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Занятия, достойные дворяни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2492280"/>
            <a:ext cx="4321440" cy="2733840"/>
          </a:xfrm>
          <a:prstGeom prst="flowChartAlternateProcess">
            <a:avLst/>
          </a:prstGeom>
          <a:solidFill>
            <a:srgbClr val="00763b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лонение перед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Прекрасной Дамо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052880" cy="525636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2:07Z</dcterms:created>
  <dc:creator>Admin</dc:creator>
  <dc:description/>
  <dc:language>en-US</dc:language>
  <cp:lastModifiedBy>Admin</cp:lastModifiedBy>
  <dcterms:modified xsi:type="dcterms:W3CDTF">2010-01-10T07:30:26Z</dcterms:modified>
  <cp:revision>5</cp:revision>
  <dc:subject/>
  <dc:title>Слайд 1</dc:title>
</cp:coreProperties>
</file>