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AE1-7F15-4387-AFA0-F580303D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166E-98E9-4822-B3B8-DC0A033A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2CD4-44FF-4986-97C8-B8215651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A26-D8ED-4A9B-8129-52C050C0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7533-4227-42BD-A878-4DBC5FAC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10B4-61C6-4144-AFF7-F8CDDCC2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467D-6DF2-4F0E-9894-E7588DF4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72F6-C44C-4ABE-A499-AA688FC4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5DF7-32A6-4A21-A76D-799541D3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604D-121B-4387-9C88-A95B48D0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2A18-B97B-4F22-8BFB-DA2518B7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10E2-DD65-482D-99BA-35454C6F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C590-7512-41E8-81EF-B9C48204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9CBB-A413-4C54-9C77-2C21BB93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9349-8080-48C3-A684-C905DEE5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922F-3CBF-4A1C-88DC-95C2B583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468E-E708-4D3A-ADDF-D7D19E6A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859F-95A2-43BA-97D5-ECBEDCF0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1A7-C8DB-4664-952E-127D33F8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0FC9-8E24-4BEB-B922-FC4949F5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5CC-0080-40AF-A8F9-C29A3393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FE3-3054-49A3-86AB-A13D3029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D66-0C9E-4DB5-AE09-21317BA7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AEB-2419-4E33-9099-6EDBFC62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D536-6165-4D85-B08A-4A70F51F08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9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1483-ED94-486C-B5EE-0CE247E586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1676520"/>
            <a:ext cx="7391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00"/>
                </a:solidFill>
                <a:latin typeface="Times New Roman"/>
              </a:rPr>
              <a:t>Подготовка к ЕГЭ</a:t>
            </a:r>
            <a:endParaRPr b="0" lang="en-US" sz="6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42640" y="3809880"/>
            <a:ext cx="7467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Narrow"/>
              </a:rPr>
              <a:t>Слитное и раздельное напис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Задание А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9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И ЧТО(БЫ) мы не делали, мы ТО(ЖЕ) всегда заодн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Вековые сосны ТАК(ЖЕ), как и ели, утратили свой белый наряд, ЗА(ТО) тепло приятно радует животных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Не ЗА(ТО) волка бьют, что сер, а ЗА(ТО), что овцу съе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Водный ключ ТО(ЖЕ) бьёт сильно, (ОТ)ЧЕГО поверхность воды всегда беспокойна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10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Эта безлунная ночь в ТО(ЖЕ) самое время была всё ТАК(ЖЕ) великолепна, как и тогд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(В)СЛЕДСТВИЕ бури небо прояснилось, ЗА(ТО) ветер усилилс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ЗА(ТО) Ольга села на ступеньку крыльца и ТАК(ЖЕ), как мы, заплакал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Мы ТАК(ЖЕ) выяснили, что Иванов и таинственный ночной путник были одно и ТО(ЖЕ) лиц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ПРОВЕРЬ СЕБЯ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 – 1)    2 – 2)    3 – 2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 – 2)    5 – 4)    6 – 2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7 – 3)      8 – 1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 – 4)      10 – 2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1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Arial Narrow"/>
              </a:rPr>
              <a:t>(В)СЛЕДСТВИЕ задержки в пути верблюды купцов ТО(ЖЕ) устали и не могли продолжить пу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ТАК(ЖЕ), как и обычно, мастер всё починил, ПРИ(ТОМ) очень качествен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ЧТО(БЫ) ещё приготовить к празднику, ЧТО(БЫ) порадовать гост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Мы ехали ТЕМ(ЖЕ)полем, заросшим гречихой, а ТАК(ЖЕ) низким березня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2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огда (В)МЕСТО обстрела после атаки начинался ТОТ(ЖЕ) жуткий вой сирен, который так пугал тыловых рабо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 Narrow"/>
              </a:rPr>
              <a:t>У инженера Сергеева ТО(ЖЕ) огромный опыт работы, ПРИ(ЧЁМ) в области новых электронных технолог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ЧТО(БЫ) тебе подарить ещё, ЧТО(БЫ) мы могли простить друг др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ЗА(ТО) мне удалось спросить старика, а он ТАК(ЖЕ), как и все отказался пом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3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Спустившись в ТУ(ЖЕ) долину, туман растянулся (В)ВИДЕ скатер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 Narrow"/>
              </a:rPr>
              <a:t>Крыгин ТО(ЖЕ) является специалистом в этой области, (ПРИ)ТОМ известн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ЧТО(БЫ) ещё прочитать, ЧТО(БЫ) составить интересный доклад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Нам пришлось возвращаться на ТО(ЖЕ) место стоянки и расставлять палатки ТАК(ЖЕ), как и вч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4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Я раздумывал, ЧТО(БЫ) мне ответить отцу, ЧТО(БЫ) он не пережи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337"/>
                </a:solidFill>
                <a:latin typeface="Arial Narrow"/>
              </a:rPr>
              <a:t>(</a:t>
            </a:r>
            <a:r>
              <a:rPr b="0" lang="en-US" sz="3200" spc="-1" strike="noStrike">
                <a:solidFill>
                  <a:srgbClr val="666699"/>
                </a:solidFill>
                <a:latin typeface="Arial Narrow"/>
              </a:rPr>
              <a:t>В)ВИДУ оттепели лыжные соревнования ТО(ЖЕ) отменили в конце меся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В)ТЕЧЕНИЕ дня не упало с неба ни капли дождя, ЧТО(БЫ)напоить зем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ёплая небесная вода для цветов, леса ТО(ЖЕ), что для нас ТА(ЖЕ)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5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ПОСЛЕДСТВИИ всё ТАК(ЖЕ) прояснилось, как и в деле о мошенничест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Я имел (В)ВИДУ ТО(ЖЕ), что и в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Не ПО(ТОМУ)  суди, что другие говорят, а ПО(ТОМУ), что сердце вел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Arial Narrow"/>
              </a:rPr>
              <a:t>(В)СЛЕДСТВИЕ плохой погоды мы ТО(ЖЕ) не пошли в пох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6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ТЕЧЕНИЕ дня будет всё ТО(ЖЕ), что и вч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ЗА(ТО) в сети (В)ПОСЛЕДСТВИИ попалась очень крупная рыб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Я(ЖЕ) предложил ему чаю, (ПО)ТОМУ что хотя разбойник он, но всё-таки был моим куна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ЧТО(ЖЕ) ты бродил ТАК(ЖЕ) одиноко, как и вче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7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Не для ТОГО(ЖЕ) пахал он и сеял, ЧТО(БЫ) нас ветер осенний развея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СВЯЗИ с изменением расписания и (В)ВИДУ нелётной погоды поездку пришлось отмен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Arial Narrow"/>
              </a:rPr>
              <a:t>И собаки ТО(ЖЕ) притихли, (ОТ)ТОГО что их больше не тревожи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ЧТО(БЫ) ни говорили, а я (В)ТЕЧЕНИЕ месяца сдам экзаме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1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СЛЕДСТВИЕ задержки в пути верблюды купцов ТО(ЖЕ) устали и не могли продолжить пу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ТАК(ЖЕ), как и обычно, мастер всё починил, ПРИ(ТОМ) очень качествен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ЧТО(БЫ) ещё приготовить к празднику, ЧТО(БЫ) порадовать гост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Мы ехали ТЕМ(ЖЕ)полем, заросшим гречихой, а ТАК(ЖЕ) низким березня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8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 Narrow"/>
              </a:rPr>
              <a:t>Инструктор ТО(ЖЕ) распорядился (НА)СЧЁТ ремонта машин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И ЧТО(БЫ) и о ЧЁМ(БЫ) ни говорили в штабе, молодые лейтенанты слушали внимательн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На дворе всё ТАК(ЖЕ) сверкали звёзды, всё ТАК(ЖЕ), шелестя, сухой снег колол лоб, губы, как и вчер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(ПО)ЧЕМУ идём, на то и смотри, ЧТО(БЫ) не упаст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9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И ЧТО(БЫ) мы не делали, мы ТО(ЖЕ) всегда заодн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Вековые сосны ТАК(ЖЕ), как и ели, утратили свой белый наряд, ЗА(ТО) тепло приятно радует животных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Не ЗА(ТО) волка бьют, что сер, а ЗА(ТО), что овцу съе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 Narrow"/>
              </a:rPr>
              <a:t>Водный ключ ТО(ЖЕ) бьёт сильно, (ОТ)ЧЕГО поверхность воды всегда беспокойна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10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Эта безлунная ночь в ТО(ЖЕ) самое время была всё ТАК(ЖЕ) великолепна, как и тогд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 Narrow"/>
              </a:rPr>
              <a:t>(В)СЛЕДСТВИЕ бури небо прояснилось, ЗА(ТО) ветер усилился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ЗА(ТО) Ольга села на ступеньку крыльца и ТАК(ЖЕ), как мы, заплакал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Мы ТАК(ЖЕ) выяснили, что Иванов и таинственный ночной путник были одно и ТО(ЖЕ) лиц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2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огда (В)МЕСТО обстрела после атаки начинался ТОТ(ЖЕ) жуткий вой сирен, который так пугал тыловых рабо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У инженера Сергеева ТО(ЖЕ) огромный опыт работы, ПРИ(ЧЁМ) в области новых электронных технолог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ЧТО(БЫ) тебе подарить ещё, ЧТО(БЫ) мы могли простить друг др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ЗА(ТО) мне удалось спросить старика, а он ТАК(ЖЕ), как и все отказался пом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3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Спустившись в ТУ(ЖЕ) долину, туман растянулся (В)ВИДЕ скатер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Крыгин ТО(ЖЕ) является специалистом в этой области, (ПРИ)ТОМ известн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ЧТО(БЫ) ещё прочитать, ЧТО(БЫ) составить интересный доклад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Нам пришлось возвращаться на ТО(ЖЕ) место стоянки и расставлять палатки ТАК(ЖЕ), как и вч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4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Я раздумывал, ЧТО(БЫ) мне ответить отцу, ЧТО(БЫ) он не пережи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В)ВИДУ оттепели лыжные соревнования ТО(ЖЕ) отменили в конце меся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В)ТЕЧЕНИЕ дня не упало с неба ни капли дождя, ЧТО(БЫ)напоить зем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ёплая небесная вода для цветов, леса ТО(ЖЕ), что для нас ТА(ЖЕ)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5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ПОСЛЕДСТВИИ всё ТАК(ЖЕ) прояснилось, как и в деле о мошенничест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Я имел (В)ВИДУ ТО(ЖЕ), что и в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Не ПО(ТОМУ)  суди, что другие говорят, а ПО(ТОМУ), что сердце вел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СЛЕДСТВИЕ плохой погоды мы ТО(ЖЕ) не пошли в пох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6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ТЕЧЕНИЕ дня будет всё ТО(ЖЕ), что и вч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ЗА(ТО) в сети (В)ПОСЛЕДСТВИИ попалась очень крупная рыб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Я(ЖЕ) предложил ему чаю, (ПО)ТОМУ что хотя разбойник он, но всё-таки был моим куна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ЧТО(ЖЕ) ты бродил ТАК(ЖЕ) одиноко, как и вче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7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Не для ТОГО(ЖЕ) пахал он и сеял, ЧТО(БЫ) нас ветер осенний развея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СВЯЗИ с изменением расписания и (В)ВИДУ нелётной погоды поездку пришлось отмен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И собаки ТО(ЖЕ) притихли, (ОТ)ТОГО что их больше не тревожи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ЧТО(БЫ) ни говорили, а я (В)ТЕЧЕНИЕ месяца сдам экзаме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8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Инструктор ТО(ЖЕ) распорядился (НА)СЧЁТ ремонта машин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И ЧТО(БЫ) и о ЧЁМ(БЫ) ни говорили в штабе, молодые лейтенанты слушали внимательн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На дворе всё ТАК(ЖЕ) сверкали звёзды, всё ТАК(ЖЕ), шелестя, сухой снег колол лоб, губы, как и вчер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(ПО)ЧЕМУ идём, на то и смотри, ЧТО(БЫ) не упаст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 Валерьевна</cp:lastModifiedBy>
  <dcterms:modified xsi:type="dcterms:W3CDTF">2010-06-29T00:12:0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