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CDF-4129-4507-B15D-16625AB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578-D471-4982-9B3D-09FA834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E6A-E028-4C4E-9BA9-CEDFB81C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85D0-6607-4EB0-9C84-DE41FEBA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0D1F-E0F6-4FF7-B7E2-5BB45FAA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36B-0521-4495-BBC6-1CB90E4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7FD6-83AF-466C-BAF3-BC7B4631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48DF-A80A-4D3D-B9FD-5FB4DD50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E01-2A2A-4FBE-B362-AA2124A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4C99-7248-4424-9074-E4550DCF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21B9-C531-4650-90FD-468B9B9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9F7-D38B-4B25-9BDB-017C265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B624-299A-4388-B33D-1D7EB7FF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6713-E66A-4C3D-99FB-FE0A2298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F1A9-4429-483C-9BEC-30F10EEC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C399-E6A2-4BB3-BC61-FBA59BE0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3F4-F8F8-4652-B673-4EFEBE50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8D0-3855-4842-89E7-7142EB8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1AB-9C4F-449B-B21C-DCD276DD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3E2-9945-465E-8FF7-3952FE4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01E-3DF4-4054-A78D-3E313C82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9CA-17C5-4E87-869E-3E725B5B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82E-0693-4293-9579-3DB0317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A2B4-197A-4159-9E19-623F03C0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71BF-4949-4C79-BBD3-022E41BD4A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357-9DEA-4B20-BA50-322212D118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676520"/>
            <a:ext cx="7391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Times New Roman"/>
              </a:rPr>
              <a:t>Подготовка к ЕГЭ</a:t>
            </a:r>
            <a:endParaRPr b="0" lang="en-US" sz="6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2640" y="38098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Слитное и раздельное напис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Задание А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В)СЛЕДСТВИЕ бури небо прояснилось, ЗА(ТО) ветер усилилс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ПРОВЕРЬ СЕБЯ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 – 1)    2 – 2)    3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4 – 2)    5 – 4)    6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 – 3)      8 – 1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9 – 4)      10 – 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337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666699"/>
                </a:solidFill>
                <a:latin typeface="Arial Narrow"/>
              </a:rPr>
              <a:t>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задержки в пути верблюды купцов ТО(ЖЕ) устали и не могли продолжить пу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ТАК(ЖЕ), как и обычно, мастер всё починил, ПРИ(ТОМ) очень качествен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ещё приготовить к празднику, ЧТО(БЫ) порадовать гост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Мы ехали ТЕМ(ЖЕ)полем, заросшим гречихой, а ТАК(ЖЕ) низким березня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9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мы не делали, мы ТО(ЖЕ) всегда заод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Вековые сосны ТАК(ЖЕ), как и ели, утратили свой белый наряд, ЗА(ТО) тепло приятно радует животных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е ЗА(ТО) волка бьют, что сер, а ЗА(ТО), что овцу съе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Водный ключ ТО(ЖЕ) бьёт сильно, (ОТ)ЧЕГО поверхность воды всегда беспокойна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10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Эта безлунная ночь в ТО(ЖЕ) самое время была всё ТАК(ЖЕ) великолепна, как и тогд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6699"/>
                </a:solidFill>
                <a:latin typeface="Arial Narrow"/>
              </a:rPr>
              <a:t>(В)СЛЕДСТВИЕ бури небо прояснилось, ЗА(ТО) ветер усилился</a:t>
            </a: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ЗА(ТО) Ольга села на ступеньку крыльца и ТАК(ЖЕ), как мы, заплак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Мы ТАК(ЖЕ) выяснили, что Иванов и таинственный ночной путник были одно и ТО(ЖЕ) лиц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2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огда (В)МЕСТО обстрела после атаки начинался ТОТ(ЖЕ) жуткий вой сирен, который так пугал тылов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У инженера Сергеева ТО(ЖЕ) огромный опыт работы, ПРИ(ЧЁМ) в области новых электронных технол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ЧТО(БЫ) тебе подарить ещё, ЧТО(БЫ) мы могли простить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А(ТО) мне удалось спросить старика, а он ТАК(ЖЕ), как и все отказался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3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Спустившись в ТУ(ЖЕ) долину, туман растянулся (В)ВИДЕ скатер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Крыгин ТО(ЖЕ) является специалистом в этой области, (ПРИ)ТОМ извест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(БЫ) ещё прочитать, ЧТО(БЫ) составить интересный докла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Нам пришлось возвращаться на ТО(ЖЕ) место стоянки и расставлять палатки ТАК(ЖЕ), как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4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Я раздумывал, ЧТО(БЫ) мне ответить отцу, ЧТО(БЫ) он не пережи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ВИДУ оттепели лыжные соревнования ТО(ЖЕ) отменили в конце меся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В)ТЕЧЕНИЕ дня не упало с неба ни капли дождя, ЧТО(БЫ)напоить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ёплая небесная вода для цветов, леса ТО(ЖЕ), что для нас ТА(ЖЕ)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5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ПОСЛЕДСТВИИ всё ТАК(ЖЕ) прояснилось, как и в деле о мошенни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 имел (В)ВИДУ ТО(ЖЕ), что и в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ПО(ТОМУ)  суди, что другие говорят, а ПО(ТОМУ), что сердце вел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ЛЕДСТВИЕ плохой погоды мы ТО(ЖЕ) не пошли в по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6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ТЕЧЕНИЕ дня будет всё ТО(ЖЕ), что и вч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ЗА(ТО) в сети (В)ПОСЛЕДСТВИИ попалась очень крупная ры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Я(ЖЕ) предложил ему чаю, (ПО)ТОМУ что хотя разбойник он, но всё-таки был моим куна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ЖЕ) ты бродил ТАК(ЖЕ) одиноко, как и вче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7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Не для ТОГО(ЖЕ) пахал он и сеял, ЧТО(БЫ) нас ветер осенний развея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(В)СВЯЗИ с изменением расписания и (В)ВИДУ нелётной погоды поездку пришлось отме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И собаки ТО(ЖЕ) притихли, (ОТ)ТОГО что их больше не тревож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ЧТО(БЫ) ни говорили, а я (В)ТЕЧЕНИЕ месяца сдам экзаме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8. В каком предложении оба выделенных слова пишутся слитно?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нструктор ТО(ЖЕ) распорядился (НА)СЧЁТ ремонта маши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И ЧТО(БЫ) и о ЧЁМ(БЫ) ни говорили в штабе, молодые лейтенанты слушали вниматель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На дворе всё ТАК(ЖЕ) сверкали звёзды, всё ТАК(ЖЕ), шелестя, сухой снег колол лоб, губы, как и вче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999966"/>
              </a:buClr>
              <a:buSzPct val="9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Narrow"/>
              </a:rPr>
              <a:t>(ПО)ЧЕМУ идём, на то и смотри, ЧТО(БЫ) не упаст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 Валерьевна</cp:lastModifiedBy>
  <dcterms:modified xsi:type="dcterms:W3CDTF">2010-06-29T00:12:0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