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CA19-A058-480B-AAC7-54B479C62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81F6-A92E-4094-B96F-7CBCD8FF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57DD-14E4-4A02-B295-EEB264572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59A3-0A40-4119-B2E8-4F427C6D7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DB64-4A26-4A84-8A07-9337C645F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D718-5068-44A2-BC76-DD8A728F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5B84-C538-4952-9D93-87CA1986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F736-6B6F-4A65-BE47-5ACF7860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A054-2004-4042-B1BD-6DE9EB60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1FBB3-5B6D-4E86-A52C-E776FFE1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6452-B3EC-4D9E-9F56-3C0A2875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5A89-BF13-4CB6-AC0B-47226E28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416C-D3B6-4117-8887-28CA2979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F857-2B2E-48A5-85CC-9244EACD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2BF3-4831-43C7-9C74-81DAB9CB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58DF-ED9C-4EE3-B4B7-790075AD5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6449-4511-4DAB-85FC-CC7CDAAF5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EDE4-A24D-4E68-A4A5-9C8A6C49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36A0-5878-4E0B-B7E1-8CBEF1E5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B94C-9977-437D-BB14-23229C2E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1AC2-DBEF-4072-85FD-8055DE97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CCB1-417C-4D25-BFF2-13FD7365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8A6B-4C2A-46E7-815D-A695807C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CD0F-D780-421B-9F26-CFFB3A7D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99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862D-1FFF-4C84-AAB6-4A4E645392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99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9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99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99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AD10-1B28-4A57-AD78-69ABDD751A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480" y="1676520"/>
            <a:ext cx="7391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0000"/>
                </a:solidFill>
                <a:latin typeface="Times New Roman"/>
              </a:rPr>
              <a:t>Подготовка к ЕГЭ</a:t>
            </a:r>
            <a:endParaRPr b="0" lang="en-US" sz="6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42640" y="3809880"/>
            <a:ext cx="7467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Narrow"/>
              </a:rPr>
              <a:t>Слитное и раздельное напис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Задание А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9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И ЧТО(БЫ) мы не делали, мы ТО(ЖЕ) всегда заодно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Вековые сосны ТАК(ЖЕ), как и ели, утратили свой белый наряд, ЗА(ТО) тепло приятно радует животных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Не ЗА(ТО) волка бьют, что сер, а ЗА(ТО), что овцу съел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Водный ключ ТО(ЖЕ) бьёт сильно, (ОТ)ЧЕГО поверхность воды всегда беспокойная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10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Эта безлунная ночь в ТО(ЖЕ) самое время была всё ТАК(ЖЕ) великолепна, как и тогд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(В)СЛЕДСТВИЕ бури небо прояснилось, ЗА(ТО) ветер усилился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ЗА(ТО) Ольга села на ступеньку крыльца и ТАК(ЖЕ), как мы, заплакал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Мы ТАК(ЖЕ) выяснили, что Иванов и таинственный ночной путник были одно и ТО(ЖЕ) лицо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ПРОВЕРЬ СЕБЯ</a:t>
            </a: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 – 1)    2 – 2)    3 – 2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4 – 2)    5 – 4)    6 – 2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7 – 3)      8 – 1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9 – 4)      10 – 2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1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Arial Narrow"/>
              </a:rPr>
              <a:t>(В)СЛЕДСТВИЕ задержки в пути верблюды купцов ТО(ЖЕ) устали и не могли продолжить пу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ТАК(ЖЕ), как и обычно, мастер всё починил, ПРИ(ТОМ) очень качествен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ЧТО(БЫ) ещё приготовить к празднику, ЧТО(БЫ) порадовать гост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Мы ехали ТЕМ(ЖЕ)полем, заросшим гречихой, а ТАК(ЖЕ) низким березня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2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100000"/>
              </a:lnSpc>
              <a:spcBef>
                <a:spcPts val="799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Тогда (В)МЕСТО обстрела после атаки начинался ТОТ(ЖЕ) жуткий вой сирен, который так пугал тыловых работ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100000"/>
              </a:lnSpc>
              <a:spcBef>
                <a:spcPts val="799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Arial Narrow"/>
              </a:rPr>
              <a:t>У инженера Сергеева ТО(ЖЕ) огромный опыт работы, ПРИ(ЧЁМ) в области новых электронных технолог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100000"/>
              </a:lnSpc>
              <a:spcBef>
                <a:spcPts val="799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ЧТО(БЫ) тебе подарить ещё, ЧТО(БЫ) мы могли простить друг друг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100000"/>
              </a:lnSpc>
              <a:spcBef>
                <a:spcPts val="799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ЗА(ТО) мне удалось спросить старика, а он ТАК(ЖЕ), как и все отказался помо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3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Спустившись в ТУ(ЖЕ) долину, туман растянулся (В)ВИДЕ скатер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 Narrow"/>
              </a:rPr>
              <a:t>Крыгин ТО(ЖЕ) является специалистом в этой области, (ПРИ)ТОМ известны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ЧТО(БЫ) ещё прочитать, ЧТО(БЫ) составить интересный доклад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Нам пришлось возвращаться на ТО(ЖЕ) место стоянки и расставлять палатки ТАК(ЖЕ), как и вче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4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Я раздумывал, ЧТО(БЫ) мне ответить отцу, ЧТО(БЫ) он не пережи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337"/>
                </a:solidFill>
                <a:latin typeface="Arial Narrow"/>
              </a:rPr>
              <a:t>(</a:t>
            </a:r>
            <a:r>
              <a:rPr b="0" lang="en-US" sz="3200" spc="-1" strike="noStrike">
                <a:solidFill>
                  <a:srgbClr val="666699"/>
                </a:solidFill>
                <a:latin typeface="Arial Narrow"/>
              </a:rPr>
              <a:t>В)ВИДУ оттепели лыжные соревнования ТО(ЖЕ) отменили в конце меся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(В)ТЕЧЕНИЕ дня не упало с неба ни капли дождя, ЧТО(БЫ)напоить зем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Тёплая небесная вода для цветов, леса ТО(ЖЕ), что для нас ТА(ЖЕ)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5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(В)ПОСЛЕДСТВИИ всё ТАК(ЖЕ) прояснилось, как и в деле о мошенничеств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Я имел (В)ВИДУ ТО(ЖЕ), что и в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Не ПО(ТОМУ)  суди, что другие говорят, а ПО(ТОМУ), что сердце вели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Arial Narrow"/>
              </a:rPr>
              <a:t>(В)СЛЕДСТВИЕ плохой погоды мы ТО(ЖЕ) не пошли в пох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6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(В)ТЕЧЕНИЕ дня будет всё ТО(ЖЕ), что и вче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ЗА(ТО) в сети (В)ПОСЛЕДСТВИИ попалась очень крупная рыб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Я(ЖЕ) предложил ему чаю, (ПО)ТОМУ что хотя разбойник он, но всё-таки был моим куна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ЧТО(ЖЕ) ты бродил ТАК(ЖЕ) одиноко, как и вчер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7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Не для ТОГО(ЖЕ) пахал он и сеял, ЧТО(БЫ) нас ветер осенний развея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(В)СВЯЗИ с изменением расписания и (В)ВИДУ нелётной погоды поездку пришлось отмени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Arial Narrow"/>
              </a:rPr>
              <a:t>И собаки ТО(ЖЕ) притихли, (ОТ)ТОГО что их больше не тревожил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ЧТО(БЫ) ни говорили, а я (В)ТЕЧЕНИЕ месяца сдам экзаме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1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(В)СЛЕДСТВИЕ задержки в пути верблюды купцов ТО(ЖЕ) устали и не могли продолжить пу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ТАК(ЖЕ), как и обычно, мастер всё починил, ПРИ(ТОМ) очень качествен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ЧТО(БЫ) ещё приготовить к празднику, ЧТО(БЫ) порадовать гост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Мы ехали ТЕМ(ЖЕ)полем, заросшим гречихой, а ТАК(ЖЕ) низким березня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8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99"/>
                </a:solidFill>
                <a:latin typeface="Arial Narrow"/>
              </a:rPr>
              <a:t>Инструктор ТО(ЖЕ) распорядился (НА)СЧЁТ ремонта машин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И ЧТО(БЫ) и о ЧЁМ(БЫ) ни говорили в штабе, молодые лейтенанты слушали внимательно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На дворе всё ТАК(ЖЕ) сверкали звёзды, всё ТАК(ЖЕ), шелестя, сухой снег колол лоб, губы, как и вчер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(ПО)ЧЕМУ идём, на то и смотри, ЧТО(БЫ) не упасть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9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И ЧТО(БЫ) мы не делали, мы ТО(ЖЕ) всегда заодно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Вековые сосны ТАК(ЖЕ), как и ели, утратили свой белый наряд, ЗА(ТО) тепло приятно радует животных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Не ЗА(ТО) волка бьют, что сер, а ЗА(ТО), что овцу съел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99"/>
                </a:solidFill>
                <a:latin typeface="Arial Narrow"/>
              </a:rPr>
              <a:t>Водный ключ ТО(ЖЕ) бьёт сильно, (ОТ)ЧЕГО поверхность воды всегда беспокойная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10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Эта безлунная ночь в ТО(ЖЕ) самое время была всё ТАК(ЖЕ) великолепна, как и тогд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99"/>
                </a:solidFill>
                <a:latin typeface="Arial Narrow"/>
              </a:rPr>
              <a:t>(В)СЛЕДСТВИЕ бури небо прояснилось, ЗА(ТО) ветер усилился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ЗА(ТО) Ольга села на ступеньку крыльца и ТАК(ЖЕ), как мы, заплакал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Мы ТАК(ЖЕ) выяснили, что Иванов и таинственный ночной путник были одно и ТО(ЖЕ) лицо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2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100000"/>
              </a:lnSpc>
              <a:spcBef>
                <a:spcPts val="799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Тогда (В)МЕСТО обстрела после атаки начинался ТОТ(ЖЕ) жуткий вой сирен, который так пугал тыловых работ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100000"/>
              </a:lnSpc>
              <a:spcBef>
                <a:spcPts val="799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У инженера Сергеева ТО(ЖЕ) огромный опыт работы, ПРИ(ЧЁМ) в области новых электронных технолог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100000"/>
              </a:lnSpc>
              <a:spcBef>
                <a:spcPts val="799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ЧТО(БЫ) тебе подарить ещё, ЧТО(БЫ) мы могли простить друг друг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100000"/>
              </a:lnSpc>
              <a:spcBef>
                <a:spcPts val="799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ЗА(ТО) мне удалось спросить старика, а он ТАК(ЖЕ), как и все отказался помо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3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Спустившись в ТУ(ЖЕ) долину, туман растянулся (В)ВИДЕ скатер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Крыгин ТО(ЖЕ) является специалистом в этой области, (ПРИ)ТОМ известны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ЧТО(БЫ) ещё прочитать, ЧТО(БЫ) составить интересный доклад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Нам пришлось возвращаться на ТО(ЖЕ) место стоянки и расставлять палатки ТАК(ЖЕ), как и вче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4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Я раздумывал, ЧТО(БЫ) мне ответить отцу, ЧТО(БЫ) он не пережи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(В)ВИДУ оттепели лыжные соревнования ТО(ЖЕ) отменили в конце меся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(В)ТЕЧЕНИЕ дня не упало с неба ни капли дождя, ЧТО(БЫ)напоить зем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Тёплая небесная вода для цветов, леса ТО(ЖЕ), что для нас ТА(ЖЕ)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5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(В)ПОСЛЕДСТВИИ всё ТАК(ЖЕ) прояснилось, как и в деле о мошенничеств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Я имел (В)ВИДУ ТО(ЖЕ), что и в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Не ПО(ТОМУ)  суди, что другие говорят, а ПО(ТОМУ), что сердце вели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(В)СЛЕДСТВИЕ плохой погоды мы ТО(ЖЕ) не пошли в пох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6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(В)ТЕЧЕНИЕ дня будет всё ТО(ЖЕ), что и вче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ЗА(ТО) в сети (В)ПОСЛЕДСТВИИ попалась очень крупная рыб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Я(ЖЕ) предложил ему чаю, (ПО)ТОМУ что хотя разбойник он, но всё-таки был моим куна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ЧТО(ЖЕ) ты бродил ТАК(ЖЕ) одиноко, как и вчер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7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Не для ТОГО(ЖЕ) пахал он и сеял, ЧТО(БЫ) нас ветер осенний развея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(В)СВЯЗИ с изменением расписания и (В)ВИДУ нелётной погоды поездку пришлось отмени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И собаки ТО(ЖЕ) притихли, (ОТ)ТОГО что их больше не тревожил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ЧТО(БЫ) ни говорили, а я (В)ТЕЧЕНИЕ месяца сдам экзаме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8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Инструктор ТО(ЖЕ) распорядился (НА)СЧЁТ ремонта машин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И ЧТО(БЫ) и о ЧЁМ(БЫ) ни говорили в штабе, молодые лейтенанты слушали внимательно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На дворе всё ТАК(ЖЕ) сверкали звёзды, всё ТАК(ЖЕ), шелестя, сухой снег колол лоб, губы, как и вчер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(ПО)ЧЕМУ идём, на то и смотри, ЧТО(БЫ) не упасть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етлана Валерьевна</cp:lastModifiedBy>
  <dcterms:modified xsi:type="dcterms:W3CDTF">2010-06-29T00:12:00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