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1C05-EF54-4708-A4E6-1E51EF205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21FF-C237-4913-8733-3E89D3AC5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5D0B-C84C-4EBC-B6C6-BC0840E4F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D5B3-B6B8-4715-A4EC-1803AF41D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EA9B5-B3E8-440E-A7D0-664A27553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58650-3B5E-4928-9AE9-107493AAD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205FF-6ACC-4783-8BF1-D790D007C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D82FA-66E5-4D2F-9DC6-6DE71FA25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22A0F-CB3B-4852-87EF-6FD914824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99C9D-C24A-4B4B-BE30-7ED725018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56A7A-901A-4192-994A-FC61E43B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A02B-73CF-4662-B515-FA4BDC257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D7C51-4832-443B-A00B-0F63A2C5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AF0B9-13D9-47B0-9D7C-0C28285D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0205E-9C08-4488-ADBE-9A7F02C4D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F0610-71CF-4A93-9D61-1C98BF68C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468A1-1A54-4C3E-8844-8C95DA11F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07A0-1313-4B5D-885E-249E3B653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95B9-FEFF-476A-A0C7-7CB5F26D8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38D5-8021-4873-AA0E-76EB082C5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1FDF-4B61-46A5-891A-0C15B64CF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A643-C4DB-4784-A820-B7E1D158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5107-8994-4B9D-95F9-E5F38DC4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47A1-4F89-4613-B22C-6F89BA9C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04F6B-8146-4E0B-9B72-E7386D7B309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5A719-6BC2-4C0E-A0C7-EF5959F5D0F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539640" y="1268280"/>
            <a:ext cx="7777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еометрия 8 клас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ема: Признаки параллелограмма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Учитель МОУ Токмаклинской ООШ                                     Филиппова В.Н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899640" y="549000"/>
            <a:ext cx="798372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"/>
          <p:cNvSpPr/>
          <p:nvPr/>
        </p:nvSpPr>
        <p:spPr>
          <a:xfrm>
            <a:off x="4716360" y="17002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134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4642920" y="2205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21840" y="1989000"/>
            <a:ext cx="10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- - - - -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788000" y="2924280"/>
            <a:ext cx="102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859280" y="4437000"/>
            <a:ext cx="1028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217760" y="2852280"/>
            <a:ext cx="2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481640" y="4507920"/>
            <a:ext cx="16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3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- - - - - - - - -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1844640"/>
            <a:ext cx="4067280" cy="2952720"/>
          </a:xfrm>
          <a:prstGeom prst="parallelogram">
            <a:avLst>
              <a:gd name="adj" fmla="val 3443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880" y="47973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83640" y="15573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859120" y="515772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067280" y="1484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853720" y="4869000"/>
            <a:ext cx="3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0" y="1844640"/>
            <a:ext cx="406728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042920" y="1844640"/>
            <a:ext cx="201636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908000" y="2781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659640" y="1424880"/>
            <a:ext cx="172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а)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АВ=СД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300720" y="2635920"/>
            <a:ext cx="7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б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6877080" y="2781360"/>
                <a:ext cx="158436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В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СД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6732720" y="431856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7308720" y="4581360"/>
                <a:ext cx="13687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О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ОС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4209480" y="3656520"/>
            <a:ext cx="41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788000" y="1989000"/>
            <a:ext cx="685800" cy="4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932360" y="1988640"/>
            <a:ext cx="80172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367880" y="3141720"/>
            <a:ext cx="15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- - - - - - - -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140000" y="3357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428436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4360" y="-459000"/>
            <a:ext cx="51768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. Призна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211280" y="2133360"/>
            <a:ext cx="439092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"/>
          <p:cNvSpPr/>
          <p:nvPr/>
        </p:nvSpPr>
        <p:spPr>
          <a:xfrm>
            <a:off x="4356000" y="2276640"/>
            <a:ext cx="4608720" cy="3382920"/>
          </a:xfrm>
          <a:prstGeom prst="parallelogram">
            <a:avLst>
              <a:gd name="adj" fmla="val 34059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442764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508720" y="2205000"/>
            <a:ext cx="2448000" cy="338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219640" y="198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748720" y="1773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286520" y="5589720"/>
            <a:ext cx="3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742520" y="5589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43744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5004000" y="2275560"/>
            <a:ext cx="72000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 rot="10647600">
            <a:off x="7598880" y="5074560"/>
            <a:ext cx="86256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6944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229800" y="2492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094880" y="501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950760" y="2013120"/>
            <a:ext cx="2541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65960" y="1197000"/>
            <a:ext cx="879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.Если в четырехугольнике две стороны равны и параллельн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то этот  четырехугольник – параллелограмм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76200" y="2133720"/>
            <a:ext cx="3332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Дано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ВСД – четырехуго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В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l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С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АВ= С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Доказать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ВСД - параллелогра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5796360" y="1990800"/>
            <a:ext cx="288000" cy="71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5652000" y="1915560"/>
            <a:ext cx="28800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7236000" y="5229360"/>
            <a:ext cx="862560" cy="86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7451640" y="5300640"/>
            <a:ext cx="57744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I.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ризнак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148360" y="1828440"/>
            <a:ext cx="3233520" cy="35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"/>
          <p:cNvSpPr/>
          <p:nvPr/>
        </p:nvSpPr>
        <p:spPr>
          <a:xfrm>
            <a:off x="5256360" y="1989000"/>
            <a:ext cx="3887640" cy="3313080"/>
          </a:xfrm>
          <a:prstGeom prst="parallelogram">
            <a:avLst>
              <a:gd name="adj" fmla="val 29336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227640" y="1989000"/>
            <a:ext cx="1944720" cy="324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5509080" y="2491560"/>
            <a:ext cx="1005840" cy="14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229800" y="270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 rot="11256000">
            <a:off x="7801200" y="4608720"/>
            <a:ext cx="863280" cy="28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814160" y="40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940360" y="177336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005440" y="5373720"/>
            <a:ext cx="3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8758440" y="1700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958520" y="5373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-43200" y="812880"/>
            <a:ext cx="9833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2.Если в четырехугольнике противоположные стороны попарно рав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,то этот четырехугольник - параллелограм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76200" y="1870200"/>
            <a:ext cx="4267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Да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ВСД – четырехугольни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В=С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ВС=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Доказа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ВСД - параллелогра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451640" y="479736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588000" y="213372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6299640" y="1843920"/>
            <a:ext cx="28800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6301080" y="1699560"/>
            <a:ext cx="43128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7596360" y="4869000"/>
            <a:ext cx="720000" cy="86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7740720" y="5013360"/>
            <a:ext cx="43128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27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II.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ризнак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"/>
          <p:cNvSpPr/>
          <p:nvPr/>
        </p:nvSpPr>
        <p:spPr>
          <a:xfrm>
            <a:off x="4319640" y="1989000"/>
            <a:ext cx="4824360" cy="3961080"/>
          </a:xfrm>
          <a:prstGeom prst="parallelogram">
            <a:avLst>
              <a:gd name="adj" fmla="val 30449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4356000" y="1989000"/>
            <a:ext cx="4788000" cy="388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508720" y="1989000"/>
            <a:ext cx="2376360" cy="396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 rot="21064800">
            <a:off x="7685280" y="5196600"/>
            <a:ext cx="808560" cy="523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 rot="12951600">
            <a:off x="4637160" y="1559160"/>
            <a:ext cx="1152000" cy="864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971" y="3738"/>
                </a:moveTo>
                <a:arcTo wR="10800" hR="10800" stAng="-2450251" swAng="2450251"/>
                <a:lnTo>
                  <a:pt x="10800" y="10800"/>
                </a:lnTo>
                <a:close/>
              </a:path>
              <a:path fill="none" w="21600" h="21600">
                <a:moveTo>
                  <a:pt x="18971" y="3738"/>
                </a:moveTo>
                <a:arcTo wR="10800" hR="10800" stAng="-2450251" swAng="2450251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443640" y="335772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148360" y="1700280"/>
            <a:ext cx="3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809200" y="1700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068720" y="5877000"/>
            <a:ext cx="33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742520" y="595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51052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718520" y="486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598160" y="4941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532720" y="242100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50920" y="692280"/>
            <a:ext cx="8281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.Если в четырехугольнике диагонали пересекаются и точ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ересечения делятся пополам, то этот четырехугольник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араллелограм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35600" y="1965240"/>
            <a:ext cx="4547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Да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ВСД – четырехуголь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С и ВД – диагона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А=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ДО=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Доказа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ВСД- параллелогра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33" dur="20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изнаки параллелограмма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"/>
          <p:cNvSpPr/>
          <p:nvPr/>
        </p:nvSpPr>
        <p:spPr>
          <a:xfrm>
            <a:off x="684360" y="1773360"/>
            <a:ext cx="2714400" cy="718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В|| СД  и ВС|| С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55640" y="2781360"/>
            <a:ext cx="2664000" cy="647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В||СД  и АВ= С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84360" y="3860640"/>
            <a:ext cx="2519280" cy="719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В=СД ,АД= В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84360" y="5013360"/>
            <a:ext cx="2590560" cy="647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О=ОС,ВО=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635280" y="198900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564000" y="2852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492360" y="39337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564000" y="51577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219640" y="1844640"/>
            <a:ext cx="2808360" cy="647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ВСД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раллелограм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859280" y="2852640"/>
            <a:ext cx="3529080" cy="5050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ВСД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раллело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932360" y="3933720"/>
            <a:ext cx="3024360" cy="647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ВСД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раллело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003640" y="5084640"/>
            <a:ext cx="2953080" cy="720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ВСД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раллело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768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" dur="768" fill="hold"/>
                                        <p:tgtEl>
                                          <p:spTgt spid="3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3" dur="768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5" dur="768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лан уро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04600" indent="-804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оверка домашней работ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04600" indent="-804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ешение устных задач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04600" indent="-804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Изложение нового материал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04600" indent="-804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Закрепление изученного материал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04600" indent="-804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омашнее задани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04600" indent="-804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дведение итого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1128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) доказать, что в параллелограмме противоположные стороны равны и углы равны .(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свойство 1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) доказать ,что  диагонали параллелограмма точкой пересечения делятся пополам.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( свойство 2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войства Параллелограмма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611280" y="2349360"/>
            <a:ext cx="3168720" cy="1366920"/>
          </a:xfrm>
          <a:prstGeom prst="parallelogram">
            <a:avLst>
              <a:gd name="adj" fmla="val 57954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ВСД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раллело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92360" y="2924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5435640" y="4869000"/>
                <a:ext cx="93672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А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С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5651640" y="3141720"/>
                <a:ext cx="108108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В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2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716360" y="1989000"/>
            <a:ext cx="3816360" cy="34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 ||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 , ВС  ||  А 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 = СД , В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О = ОС     ,ВО= 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716360" y="3141720"/>
                <a:ext cx="100800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А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С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5724360" y="3141720"/>
                <a:ext cx="10796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В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859280" y="3573360"/>
                <a:ext cx="18003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А</m:t>
                    </m:r>
                    <m:r>
                      <m:t xml:space="preserve">+</m:t>
                    </m:r>
                    <m:r>
                      <m:t xml:space="preserve">∠</m:t>
                    </m:r>
                    <m:r>
                      <m:t xml:space="preserve">В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623160" y="37893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15280" y="20606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78560" y="19890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98080" y="3716280"/>
            <a:ext cx="3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5690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а)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620640"/>
            <a:ext cx="3814920" cy="2303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55640" y="177336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403280" y="141300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65800" y="14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889280" y="1865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565800" y="19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94000" y="1865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769280" y="1576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897280" y="281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08200" y="2924280"/>
            <a:ext cx="33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6300720" y="981000"/>
                <a:ext cx="1871640" cy="13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∠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436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9280" y="3859920"/>
            <a:ext cx="77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Является ли четырехугольник АВСД – параллелограммом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23640" y="404640"/>
            <a:ext cx="85690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б)  Докажите ,что четырехугольник АВСД – параллелограмм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Есл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3430440" y="2141280"/>
            <a:ext cx="4993560" cy="2079000"/>
            <a:chOff x="3430440" y="2141280"/>
            <a:chExt cx="4993560" cy="2079000"/>
          </a:xfrm>
        </p:grpSpPr>
        <p:sp>
          <p:nvSpPr>
            <p:cNvPr id="192" name=""/>
            <p:cNvSpPr/>
            <p:nvPr/>
          </p:nvSpPr>
          <p:spPr>
            <a:xfrm>
              <a:off x="3955680" y="2141280"/>
              <a:ext cx="1051560" cy="148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584400" y="2326680"/>
              <a:ext cx="1051920" cy="148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30440" y="2698200"/>
              <a:ext cx="394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55680" y="3441240"/>
              <a:ext cx="446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682080" y="2720880"/>
              <a:ext cx="789120" cy="52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34000" y="3060360"/>
              <a:ext cx="78732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360920" y="3060360"/>
              <a:ext cx="78948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944160" y="3478680"/>
              <a:ext cx="7894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23720" y="3665160"/>
              <a:ext cx="787320" cy="55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3564000" y="213372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950160" y="1989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250920" y="2276640"/>
                <a:ext cx="30859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p:transition>
    <p:split dir="in" orient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43588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) Является ли четырёхугольник АВСД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араллелограммо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4211640" y="2349360"/>
            <a:ext cx="4824360" cy="2386080"/>
            <a:chOff x="4211640" y="2349360"/>
            <a:chExt cx="4824360" cy="2386080"/>
          </a:xfrm>
        </p:grpSpPr>
        <p:sp>
          <p:nvSpPr>
            <p:cNvPr id="207" name=""/>
            <p:cNvSpPr txBox="1"/>
            <p:nvPr/>
          </p:nvSpPr>
          <p:spPr>
            <a:xfrm>
              <a:off x="4211640" y="2349360"/>
              <a:ext cx="4824360" cy="2386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874040" y="2349360"/>
              <a:ext cx="0" cy="209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761160" y="2559600"/>
              <a:ext cx="0" cy="188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453560" y="2977560"/>
              <a:ext cx="314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663080" y="4025880"/>
              <a:ext cx="272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211640" y="3058560"/>
              <a:ext cx="62820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841280" y="3687480"/>
              <a:ext cx="41904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309360" y="3606120"/>
              <a:ext cx="41904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728400" y="3606120"/>
              <a:ext cx="62964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211640" y="2349360"/>
              <a:ext cx="629640" cy="62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147440" y="2349360"/>
              <a:ext cx="41904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211640" y="4144320"/>
              <a:ext cx="62964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937560" y="4146120"/>
              <a:ext cx="63000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Д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684360" y="1989000"/>
                <a:ext cx="3125520" cy="15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476360" y="4221000"/>
                <a:ext cx="2087640" cy="106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∠</m:t>
                        </m:r>
                        <m:r>
                          <m:t xml:space="preserve">2</m:t>
                        </m:r>
                        <m:r>
                          <m:t xml:space="preserve">≠</m:t>
                        </m:r>
                        <m:r>
                          <m:t xml:space="preserve">∠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3864960" y="25516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81080" y="205992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4360" y="4149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250920" y="189000"/>
          <a:ext cx="8893080" cy="5251320"/>
        </p:xfrm>
        <a:graphic>
          <a:graphicData uri="http://schemas.openxmlformats.org/drawingml/2006/table">
            <a:tbl>
              <a:tblPr/>
              <a:tblGrid>
                <a:gridCol w="1877760"/>
                <a:gridCol w="2724480"/>
                <a:gridCol w="2334960"/>
                <a:gridCol w="19558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азвание фигур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пределен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войств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изна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аралле-лограм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Четырехугольнику которого противополож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ые  стороны попарн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араллельны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отивополож-ны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тороны и углы равн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) Диагонали точко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ересечения делятс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ополам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) Если в четырё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гольнике две стороны рав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 параллельны 2) Если в четы- рёхугольнике противополож-ные сторон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опарно равн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) Если четырех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гольнике диагонал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ересекаются и точкой пересече-ния делятся попола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"/>
          <p:cNvSpPr/>
          <p:nvPr/>
        </p:nvSpPr>
        <p:spPr>
          <a:xfrm>
            <a:off x="324000" y="2924280"/>
            <a:ext cx="1439640" cy="1152360"/>
          </a:xfrm>
          <a:prstGeom prst="parallelogram">
            <a:avLst>
              <a:gd name="adj" fmla="val 3123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4360" y="2924280"/>
            <a:ext cx="71892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324000" y="2923920"/>
            <a:ext cx="143964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5293080" y="2027520"/>
            <a:ext cx="1223640" cy="1025280"/>
            <a:chOff x="5293080" y="2027520"/>
            <a:chExt cx="1223640" cy="1025280"/>
          </a:xfrm>
        </p:grpSpPr>
        <p:sp>
          <p:nvSpPr>
            <p:cNvPr id="230" name=""/>
            <p:cNvSpPr/>
            <p:nvPr/>
          </p:nvSpPr>
          <p:spPr>
            <a:xfrm>
              <a:off x="5293080" y="2178360"/>
              <a:ext cx="1223640" cy="699480"/>
            </a:xfrm>
            <a:prstGeom prst="parallelogram">
              <a:avLst>
                <a:gd name="adj" fmla="val 437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380560" y="2528640"/>
              <a:ext cx="17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380560" y="2440800"/>
              <a:ext cx="26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342120" y="25286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342120" y="2440800"/>
              <a:ext cx="17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342120" y="25286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342120" y="25286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254640" y="2528640"/>
              <a:ext cx="26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5642280" y="2790720"/>
              <a:ext cx="8784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5992200" y="2091240"/>
              <a:ext cx="871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6079320" y="2703240"/>
              <a:ext cx="349200" cy="34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420520" y="2027520"/>
              <a:ext cx="262800" cy="37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405" y="8759"/>
                  </a:moveTo>
                  <a:arcTo wR="10800" hR="10800" stAng="-653496" swAng="641501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405" y="8759"/>
                  </a:moveTo>
                  <a:arcTo wR="10800" hR="10800" stAng="-653496" swAng="641501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4859280" y="5055840"/>
            <a:ext cx="1943280" cy="914400"/>
            <a:chOff x="4859280" y="5055840"/>
            <a:chExt cx="1943280" cy="914400"/>
          </a:xfrm>
        </p:grpSpPr>
        <p:sp>
          <p:nvSpPr>
            <p:cNvPr id="243" name=""/>
            <p:cNvSpPr/>
            <p:nvPr/>
          </p:nvSpPr>
          <p:spPr>
            <a:xfrm>
              <a:off x="4859280" y="5056200"/>
              <a:ext cx="1943280" cy="914040"/>
            </a:xfrm>
            <a:prstGeom prst="parallelogram">
              <a:avLst>
                <a:gd name="adj" fmla="val 5315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316840" y="5056200"/>
              <a:ext cx="102888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4859280" y="5055840"/>
              <a:ext cx="194328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02360" y="5742000"/>
              <a:ext cx="11412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202360" y="5742000"/>
              <a:ext cx="11412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316840" y="5627880"/>
              <a:ext cx="114120" cy="11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116760" y="5285160"/>
              <a:ext cx="113760" cy="11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230880" y="5285160"/>
              <a:ext cx="114840" cy="11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5430960" y="5169960"/>
              <a:ext cx="228240" cy="11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6002640" y="5742000"/>
              <a:ext cx="22824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250920" y="115560"/>
            <a:ext cx="864216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а)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  АВ=СД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"/>
          <p:cNvSpPr/>
          <p:nvPr/>
        </p:nvSpPr>
        <p:spPr>
          <a:xfrm>
            <a:off x="900000" y="836640"/>
            <a:ext cx="3384720" cy="1871640"/>
          </a:xfrm>
          <a:prstGeom prst="parallelogram">
            <a:avLst>
              <a:gd name="adj" fmla="val 45211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57600" y="12214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)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5435640" y="1268280"/>
                <a:ext cx="2089080" cy="13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В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СД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4500720" y="3094560"/>
            <a:ext cx="43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5219640" y="3213000"/>
                <a:ext cx="2017800" cy="14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О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ОС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685800" y="2781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549440" y="476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142160" y="404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852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8160" y="2708280"/>
            <a:ext cx="33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8T15:04:13Z</dcterms:created>
  <dc:creator>User</dc:creator>
  <dc:description/>
  <dc:language>en-US</dc:language>
  <cp:lastModifiedBy>User</cp:lastModifiedBy>
  <dcterms:modified xsi:type="dcterms:W3CDTF">2010-09-11T15:29:35Z</dcterms:modified>
  <cp:revision>30</cp:revision>
  <dc:subject/>
  <dc:title>Слайд 1</dc:title>
</cp:coreProperties>
</file>