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C3D-D603-4FB5-81F9-747B2D01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D9E-2767-4680-A90B-06DF8BBE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290-145B-4751-ACFA-F78E28B1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C42-FEC1-48E6-82BA-1A6373ED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EFE-8960-4100-8906-EE4964C1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6A4A-2221-4F30-B624-F627AA5A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5D2D-7E12-4B6A-A453-E052E366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A738-B053-47D5-A792-BB10A52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808-3A17-4BF0-A72C-F17BA3F9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FCD-0ED1-44E7-BB45-0ACAA854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83EA-1699-4EF9-B3BF-FC1C923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244-D2C3-47BA-B551-E950BD8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0DD-EB75-42B0-9E8D-8113A2C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614-025C-4CDE-A132-B0C09E4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A97-92DB-4D97-BAD3-043498E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9F30-281F-4D58-82A9-F01227A5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DAF-B6B3-45C4-B142-51B7907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55B-DB45-4A62-AA1D-CDBB6D0B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C7D-FD7C-44F8-8407-0966BA6B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25A-CAA9-4F76-9E83-56DA7FB0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8F9-FD2E-49C8-94A0-80C1FCA7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407-1F2A-427E-9D79-B5AE41D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817-7883-4DD7-95A2-3F20B22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F08-1347-4C3A-B0BE-7FD3A0F0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FB1-C12D-46BC-A916-85420F4A18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393-9B6A-464B-95F9-F6EE8010E1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МОУ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User</cp:lastModifiedBy>
  <dcterms:modified xsi:type="dcterms:W3CDTF">2010-09-11T15:29:35Z</dcterms:modified>
  <cp:revision>30</cp:revision>
  <dc:subject/>
  <dc:title>Слайд 1</dc:title>
</cp:coreProperties>
</file>