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F2C-DCAD-4319-A631-08FCD823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9F0-9C4A-48E6-AAE1-DF8F63A6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5CB-30DB-44C5-B042-E2949E8A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CD0-E563-460D-96F1-E982DBE6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024D-2086-4818-99D5-F8315772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7BEB-34A2-41D4-83BB-F4E1DD0E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DB5B-B2AD-4ECD-9E36-403CC9C3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F86E-8232-4A1C-B994-68D1560D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CA06-84E1-4146-B49E-6DECDBCE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AB45-A472-4640-B039-ED7E91C2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255C-865E-48CF-B636-D9D55420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48E-C582-411F-A208-910212B7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D383-6197-41CB-B7CB-FD997F15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562C-4866-4F98-ABBF-0D68A081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09E4-6234-4046-B0C3-9A6B6475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C308-7DB6-45AC-83DF-FC368904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6347-3E41-4892-A690-086D0D46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AC6-F7A0-4A39-890B-7FBC8965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DBA-DD38-46BA-94E8-9C44E1B5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654-4B9F-450C-B4E4-6CDFABC0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A3C-42C1-46F0-A8BC-46B2A250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AC7-00C1-41FA-B7B5-41ECA1CE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301-1008-419C-9B5A-E27D2FB7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437-D9E0-41BB-B9AC-E67BF19E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E8E0-F542-4B57-A96E-305D645D2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8006-56E3-4A96-A7A4-B796FAA9B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16000" y="1125360"/>
            <a:ext cx="720108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 работы хорош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68360" y="3573360"/>
            <a:ext cx="511200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меня растут года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ет мне семнадцать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работать мне тогда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заниматься ?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4038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тем на строй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бывают плотн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ТНИКИ устанавливают двери и ок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ят опилки белы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ят из-под пил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о плотник дела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мы и пол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опором, рубанк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стругивает пла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делал подокон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з сучка-задори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270400" y="620640"/>
            <a:ext cx="3395880" cy="550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60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36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68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40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08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76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2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880"/>
                            </p:stCondLst>
                            <p:childTnLst>
                              <p:par>
                                <p:cTn id="5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9680"/>
                            </p:stCondLst>
                            <p:childTnLst>
                              <p:par>
                                <p:cTn id="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40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НТЕХ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кладывают в дом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убы для холодной  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рячей воды, д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истемы отоплени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нализации и газов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у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8080" y="836640"/>
            <a:ext cx="3990960" cy="4314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44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16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880"/>
                            </p:stCondLst>
                            <p:childTnLst>
                              <p:par>
                                <p:cTn id="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520"/>
                            </p:stCondLst>
                            <p:childTnLst>
                              <p:par>
                                <p:cTn id="5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240"/>
                            </p:stCondLst>
                            <p:childTnLst>
                              <p:par>
                                <p:cTn id="5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040"/>
                            </p:stCondLst>
                            <p:childTnLst>
                              <p:par>
                                <p:cTn id="5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ЛЕКТРИКИ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водят электриче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ет в дом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645160" y="476280"/>
            <a:ext cx="2552760" cy="5654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3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44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32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АРЩ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н проводит свароч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боты, для того что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лезные конструкц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ржались крепче друг 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462640" y="476280"/>
            <a:ext cx="327672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32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120"/>
                            </p:stCondLst>
                            <p:childTnLst>
                              <p:par>
                                <p:cTn id="6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920"/>
                            </p:stCondLst>
                            <p:childTnLst>
                              <p:par>
                                <p:cTn id="6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20"/>
                            </p:stCondLst>
                            <p:childTnLst>
                              <p:par>
                                <p:cTn id="6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560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тем на строящемся объекте приступают к работе мастера отделочных рабо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ТУКА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640" y="1438200"/>
            <a:ext cx="403236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1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600"/>
                            </p:stCondLst>
                            <p:childTnLst>
                              <p:par>
                                <p:cTn id="6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ЛЯ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асить комнаты пора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гласили маля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не с кистью и ведр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ш маляр приходит в д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место кисти он принё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ханический нас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рызжет краска по стен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лнце светиться в окн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али стены голубы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ловно небо в выши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13440" y="765000"/>
            <a:ext cx="3713040" cy="533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0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280"/>
                            </p:stCondLst>
                            <p:childTnLst>
                              <p:par>
                                <p:cTn id="6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080"/>
                            </p:stCondLst>
                            <p:childTnLst>
                              <p:par>
                                <p:cTn id="7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4760"/>
                            </p:stCondLst>
                            <p:childTnLst>
                              <p:par>
                                <p:cTn id="7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520"/>
                            </p:stCondLst>
                            <p:childTnLst>
                              <p:par>
                                <p:cTn id="7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6400"/>
                            </p:stCondLst>
                            <p:childTnLst>
                              <p:par>
                                <p:cTn id="7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7200"/>
                            </p:stCondLst>
                            <p:childTnLst>
                              <p:par>
                                <p:cTn id="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96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840"/>
                            </p:stCondLst>
                            <p:childTnLst>
                              <p:par>
                                <p:cTn id="7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9720"/>
                            </p:stCondLst>
                            <p:childTnLst>
                              <p:par>
                                <p:cTn id="7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520"/>
                            </p:stCondLst>
                            <p:childTnLst>
                              <p:par>
                                <p:cTn id="7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123640" y="475920"/>
            <a:ext cx="43196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ИТОЧНИК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 облицовыва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иткой  стены в ва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нате, на кух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2479680"/>
            <a:ext cx="5759640" cy="4141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3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00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440"/>
                            </p:stCondLst>
                            <p:childTnLst>
                              <p:par>
                                <p:cTn id="7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040"/>
                            </p:stCondLst>
                            <p:childTnLst>
                              <p:par>
                                <p:cTn id="7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840"/>
                            </p:stCondLst>
                            <p:childTnLst>
                              <p:par>
                                <p:cTn id="7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 теперь ответьте  о каких строительных специальностях  мы узнали на нашем уро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от кто строил этот до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ом, в котором мы живё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3243240"/>
            <a:ext cx="8713800" cy="3211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760"/>
                            </p:stCondLst>
                            <p:childTnLst>
                              <p:par>
                                <p:cTn id="7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60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440"/>
                            </p:stCondLst>
                            <p:childTnLst>
                              <p:par>
                                <p:cTn id="8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Кто построил этот дом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На улице Садово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ом построен новы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нём столько светлых окон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Считать - не сосчитать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А крыша так высок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Что птицам не доста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доме десять этажей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доме тысячи люд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Кто построил этот дом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ом, в котором мы живём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Новый дом почти готов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имет к празднику жильц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от кто строил этот дом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ом, в котором мы живё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. Барузди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604880"/>
            <a:ext cx="482436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8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84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44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16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12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96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64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44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2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92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72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56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36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36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42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4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76360" y="160200"/>
            <a:ext cx="648036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вым принимается за работу по строительству до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РХИТЕКТО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н делает проект до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ртит, рису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8788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8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28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8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ам, где строят новый д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одит воин со щит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де пройдет он, станет глад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удет ровная площадка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огда проект здания готов, начинают готовить строите-льную площад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вым на строите-льную площадку приезжает бульдозер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ого кто работает на бульдозере  называют БУЛЬДОЗЕРИ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н на бульдозере равняет поверхность площад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059360" cy="181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88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6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60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88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840"/>
                            </p:stCondLst>
                            <p:childTnLst>
                              <p:par>
                                <p:cTn id="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8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 нам во двор забрался кро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ет землю у воро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онна в рот земли войд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сли крот откроет ро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сле бульдозера за работу принимается экскавато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ого кто работает на экскаваторе называю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КСКАВАТОРЩ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н роет котлов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еперь пора укладывать блоки для фундамента до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0960" y="692280"/>
            <a:ext cx="385920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96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6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44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24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8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56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16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80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нимает велик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уды груза к облак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м, где встанет он пот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стает новый д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укладки блоков д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ундамента нуж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ъемный кран. Он легк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равиться с этой работ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го кто работает 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ъемном кране называют КРАНОВЩ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73640" y="476280"/>
            <a:ext cx="3517920" cy="568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68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44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32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8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12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92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56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440"/>
                            </p:stCondLst>
                            <p:childTnLst>
                              <p:par>
                                <p:cTn id="3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940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12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067280" y="549360"/>
            <a:ext cx="489744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После закладки фундаме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строящий объект прибыва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бригада  КАМЕНЩ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Они выкладывают из кирпич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стены и перегородки з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стойке жаркая по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гнал уже проби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егодня каменщик с утр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 работе приступи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ладет кирпич за кирпичом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тёт этаж за этаж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с каждым час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 каждым днё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сё выше новый д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4040" y="476280"/>
            <a:ext cx="343548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88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64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60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60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36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900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984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56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1520"/>
                            </p:stCondLst>
                            <p:childTnLst>
                              <p:par>
                                <p:cTn id="4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32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292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344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вот наш дом почти построен, но остался один рабочий, который работает выше всех – э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ОВЕЛЬЩ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 покрывает кры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овля  это очень важный структурный элемент на завершающем этапе любого строения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овля способна защитить дом от любого каприза пог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0880" y="404640"/>
            <a:ext cx="317484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92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4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12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09:29:05Z</dcterms:created>
  <dc:creator>HomePC</dc:creator>
  <dc:description/>
  <dc:language>en-US</dc:language>
  <cp:lastModifiedBy>Ляля</cp:lastModifiedBy>
  <dcterms:modified xsi:type="dcterms:W3CDTF">2008-04-23T16:24:08Z</dcterms:modified>
  <cp:revision>4</cp:revision>
  <dc:subject/>
  <dc:title>Слайд 1</dc:title>
</cp:coreProperties>
</file>