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D44-52BF-4C2E-A34D-740DB663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C42-4764-4321-A0CF-E7ED073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C5C-BF13-492F-BFBB-158C20E0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F76-1FE6-4DD8-B3B2-A9F9C18B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1C3D-268A-488B-AA70-EB58D655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12CA-07FC-471B-A854-CD5AA29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80F-DAD4-4902-8C5E-41A1513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5F7-A68B-4AEC-A010-2FF919C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9C77-A24E-4DE9-AD31-EC84386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E456-12F7-4946-AD19-1752BAE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1D22-6277-4B5A-B3A1-A129261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846-69EA-4D0A-9A61-63D78112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AA8-E881-4673-A795-269E59A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5E28-9F92-4A21-ACEE-6239048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2095-7C2A-4012-8E16-A76913F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40F-E338-4A26-B5A1-F4DD1B49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AEC3-71F8-4848-96C0-BA25E2F2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B97-9CCB-4B8C-B75B-9B8DE58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2B6-4F85-4FB6-9F0A-6B66FB0B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D5A-9644-44CE-A5EC-7AE32AA1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AE7-A880-44DE-AC22-C411896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8B6-6844-4E0F-9556-DDDE3B9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801-8ADF-4558-823A-BF0E5DE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3C2-52C8-4D26-826F-EF0F599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D8C-3828-4913-B874-5A5642C7B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6D75-D071-4736-9E97-C6035B277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1125360"/>
            <a:ext cx="72010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работы хорош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68360" y="3573360"/>
            <a:ext cx="5112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меня растут год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ет мне семнадцать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работать мне тогда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заниматься ?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38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тем на строй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бывают пл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ТНИКИ устанавливают двери и ок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ят опилки белы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ят из-под пил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плотник дел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мы и по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опором, рубан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стругивает пла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делал подокон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 сучка-задори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70400" y="620640"/>
            <a:ext cx="339588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60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36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68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4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08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76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2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88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968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4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НТЕХ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кладывают в дом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убы для холодной  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ячей воды, д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истемы отопл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ализации и газов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у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8080" y="836640"/>
            <a:ext cx="39909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44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16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88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2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24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4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ЛЕКТРИКИ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ят электриче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ет в до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45160" y="476280"/>
            <a:ext cx="2552760" cy="5654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44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32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АР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проводит свароч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боты, для того что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лезные конструкц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жались крепче друг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62640" y="476280"/>
            <a:ext cx="327672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32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120"/>
                            </p:stCondLst>
                            <p:childTnLst>
                              <p:par>
                                <p:cTn id="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92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2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56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тем на строящемся объекте приступают к работе мастера отделочных рабо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ТУК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403236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60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Я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асить комнаты пора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гласили маля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не с кистью и ведр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ш маляр приходит в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место кисти он принё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ческий нас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рызжет краска по сте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лнце светиться в ок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али стены голуб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ловно небо в выши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13440" y="765000"/>
            <a:ext cx="3713040" cy="53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0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280"/>
                            </p:stCondLst>
                            <p:childTnLst>
                              <p:par>
                                <p:cTn id="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80"/>
                            </p:stCondLst>
                            <p:childTnLst>
                              <p:par>
                                <p:cTn id="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76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52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400"/>
                            </p:stCondLst>
                            <p:childTnLst>
                              <p:par>
                                <p:cTn id="7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20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96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84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72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2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123640" y="475920"/>
            <a:ext cx="4319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ИТОЧНИК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облицовы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иткой  стены в ва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нате, на кух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2479680"/>
            <a:ext cx="5759640" cy="414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440"/>
                            </p:stCondLst>
                            <p:childTnLst>
                              <p:par>
                                <p:cTn id="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040"/>
                            </p:stCondLst>
                            <p:childTnLst>
                              <p:par>
                                <p:cTn id="7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840"/>
                            </p:stCondLst>
                            <p:childTnLst>
                              <p:par>
                                <p:cTn id="7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 теперь ответьте  о каких строительных специальностях  мы узнали на нашем уро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т кто строил этот до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м, в котором мы жив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3243240"/>
            <a:ext cx="8713800" cy="321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760"/>
                            </p:stCondLst>
                            <p:childTnLst>
                              <p:par>
                                <p:cTn id="7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60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440"/>
                            </p:stCondLst>
                            <p:childTnLst>
                              <p:par>
                                <p:cTn id="8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Кто построил этот дом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а улице Садо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 построен новы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нём столько светлых окон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читать - не сосчитать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А крыша так высок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Что птицам не дост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доме десять этаже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доме тысячи лю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то построил этот дом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, в котором мы живём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овый дом почти готов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мет к празднику жильц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от кто строил этот дом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ом, в котором мы живё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. Барузди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604880"/>
            <a:ext cx="482436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8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84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44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16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12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96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64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4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2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9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72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6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3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3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4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60200"/>
            <a:ext cx="648036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вым принимается за работу по строительству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РХИТ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делает проект до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ртит, рису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878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8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8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8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м, где строят новый д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дит воин со щит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де пройдет он, станет глад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удет ровная площадк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гда проект здания готов, начинают готовить строите-льную площад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вым на строите-льную площадку приезжает бульдозер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го кто работает на бульдозере  называют БУЛЬДОЗЕР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 на бульдозере равняет поверхность площад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5936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88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6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6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88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84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нам во двор забрался кро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ет землю у вор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онна в рот земли войд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крот откроет ро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сле бульдозера за работу принимается экскавато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го кто работает на экскаваторе называю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СКАВАТОРЩ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 роет котлов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перь пора укладывать блоки для фундамента д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960" y="692280"/>
            <a:ext cx="38592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6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44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2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8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56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16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нимает велик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ды груза к облак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м, где встанет он пот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стает новый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кладки блоков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ндамента нуж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ъемный кран. Он легк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равиться с этой рабо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о кто работает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ъемном кране называют КРАНОВЩ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73640" y="476280"/>
            <a:ext cx="351792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68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44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32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1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92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44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40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12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067280" y="549360"/>
            <a:ext cx="4897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После закладки фунда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строящий объект прибыв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бригада  КАМЕН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Они выкладывают из кирпич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стены и перегородки з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стойке жаркая п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гнал уже проб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годня каменщик с ут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работе приступи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адет кирпич за кирпичом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тёт этаж за этаж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с каждым час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каждым днё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ё выше новый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040" y="476280"/>
            <a:ext cx="3435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8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6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6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6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84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56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52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32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92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344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вот наш дом почти построен, но остался один рабочий, который работает выше всех – э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ЕЛЬЩ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покрывает кры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ля  это очень важный структурный элемент на завершающем этапе любого строения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овля способна защитить дом от любого каприза пог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0880" y="404640"/>
            <a:ext cx="317484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92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4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1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9:29:05Z</dcterms:created>
  <dc:creator>HomePC</dc:creator>
  <dc:description/>
  <dc:language>en-US</dc:language>
  <cp:lastModifiedBy>Ляля</cp:lastModifiedBy>
  <dcterms:modified xsi:type="dcterms:W3CDTF">2008-04-23T16:24:08Z</dcterms:modified>
  <cp:revision>4</cp:revision>
  <dc:subject/>
  <dc:title>Слайд 1</dc:title>
</cp:coreProperties>
</file>