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4E00C-4140-4B04-8A10-E53B916A3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13080-7E46-4BB5-9BBB-D4ED23540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EBA18-CDB0-439B-A813-AA0838C37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35FD9-A098-4A6B-B09B-CAC2E4CEB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17189-484C-420A-A847-00901F6D5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A790D-5880-47A4-A802-9DE6BEE90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E1DF3-9226-4954-B777-9AEE1EF01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694E7-E964-4950-B77C-0DF460643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8D5FF-976A-4EB8-B228-26D9D3A0F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96E03-D576-4D51-9C8B-4C6C0E6CF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3E21A-929A-4E45-8DE4-5FDA71711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C213-0C8D-4F93-A590-E7C901851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F577-DFE5-46F1-B6FB-E17896D8F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D0914-EF3D-45DD-91F1-5A7D2948E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464A1-B717-4A47-AE20-EB458798C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B21A6-3F27-4C78-8394-90EC5BA83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E66F9-966D-4330-AB64-159ACF0B2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BF86F-62B6-4DDD-96CD-139B65FFB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0B8F-F848-41AE-84AC-15E0A1107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1D975-3E63-4866-ABDF-BA2E1E65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35DE9-815F-4D38-B4E9-B7818C5F6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C7B9E-0E04-4154-8075-B87874802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F58C-D20B-4158-845F-3713B9456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4FCA-0E85-4A82-A828-79822E26A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4990-4A83-4E11-8898-848F5D27C0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9264-8FE6-4EA3-B612-5F0F212CDA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Спорт сегодня</a:t>
            </a:r>
            <a:endParaRPr b="0" lang="en-US" sz="6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Арена большого спорта гостеприимна не для всех: только наличие достижений высокого уровня и рекордов позволяет стать профессионалом в этой области. К тому же спортсмены постоянно находятся в зоне риска: могут получить травмы, которые иногда не только стоят им карьеры, но и превращают в инвалидов. В сегодняшнем спорте — запредельные, просто сумасшедшие нагрузки на организм человека.</a:t>
            </a:r>
            <a:endParaRPr b="0" lang="en-US" sz="32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5157360"/>
            <a:ext cx="8362800" cy="12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Лыжные гонки — один из самых популярных зимних видов спорта в России. Еще бы, ведь у нас зимой полно снега, не случайно российские лыжники являются обладателями самых высоких наград Белых Олимпиад и чемпионатов мира. </a:t>
            </a:r>
            <a:endParaRPr b="0" lang="en-US" sz="2000" spc="-1" strike="noStrike">
              <a:solidFill>
                <a:srgbClr val="ffffff"/>
              </a:solidFill>
              <a:latin typeface="Tahoma"/>
            </a:endParaRPr>
          </a:p>
        </p:txBody>
      </p:sp>
      <p:pic>
        <p:nvPicPr>
          <p:cNvPr id="101" name="" descr=""/>
          <p:cNvPicPr/>
          <p:nvPr/>
        </p:nvPicPr>
        <p:blipFill>
          <a:blip r:embed="rId2"/>
          <a:stretch/>
        </p:blipFill>
        <p:spPr>
          <a:xfrm>
            <a:off x="611280" y="260280"/>
            <a:ext cx="7858080" cy="45658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ано закончив спортивную карьеру (в среднем это тридцатилетний рубеж), не все уходят из профессии. Многие спортсмены продолжают работать тренерами, достигают известности, как, например, фигуристка Татьяна Тарасова или футболист и хоккеист Вячеслав Фетисов. Воспитывая молодое поколение спортсменов, тренер испытывает не намного нагрузки меньшие, чем тренируясь и выступая на соревнованиях, что позволяет поддерживать форму, не опускать рук, не ощущать себя за бортом профессии, чувствовать себя нужным.                                                     Кто-то из бывших спортсменов находит свое призвание в просветительской деятельности. Так, известный в прошлом футболист Владимир Маслаченко, уйдя из большого спорта, стал не менее известным спортивным комментатором, а теннисистка Анна Дмитриева создала спортивный канал на телевидении.</a:t>
            </a:r>
            <a:endParaRPr b="0" lang="en-US" sz="2400" spc="-1" strike="noStrike">
              <a:solidFill>
                <a:srgbClr val="ffffff"/>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560" y="4869000"/>
            <a:ext cx="8435880" cy="172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портивные результаты очень часто непредсказуемы. Именитые чемпионы неожиданно проигрывают необстрелянным новичкам. Так случилось на Олимпиаде в Сиднее-2000, когда никому неизвестный российский легкоатлет — прыгун в высоту Сергей Клюгин опередил всех своих именитых соперников, показав, правда, довольно скромный результат (2, 35 см). Но на Олимпийских играх важно победить, рекорды отодвигаются на второй план.</a:t>
            </a:r>
            <a:endParaRPr b="0" lang="en-US" sz="1800" spc="-1" strike="noStrike">
              <a:solidFill>
                <a:srgbClr val="ffffff"/>
              </a:solidFill>
              <a:latin typeface="Tahoma"/>
            </a:endParaRPr>
          </a:p>
        </p:txBody>
      </p:sp>
      <p:pic>
        <p:nvPicPr>
          <p:cNvPr id="104" name="" descr=""/>
          <p:cNvPicPr/>
          <p:nvPr/>
        </p:nvPicPr>
        <p:blipFill>
          <a:blip r:embed="rId2"/>
          <a:stretch/>
        </p:blipFill>
        <p:spPr>
          <a:xfrm>
            <a:off x="1187280" y="189000"/>
            <a:ext cx="6553440" cy="4440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788000" y="1125360"/>
            <a:ext cx="4032000" cy="43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Российского фигуриста Евгения Плющенко называют  «ледовым принцем», «пришельцем из космоса». Так легко и изящно на льду не держится никто. К своему успеху он шел долгие годы, в совершенстве освоив сложнейшие прыжки в четыре оборота и овладев секретами хореографии, Плющенко стал абсолютным олимпийским чемпионом на Играх в Турине 2006.</a:t>
            </a:r>
            <a:endParaRPr b="0" lang="en-US" sz="2400" spc="-1" strike="noStrike">
              <a:solidFill>
                <a:srgbClr val="e5ffff"/>
              </a:solidFill>
              <a:latin typeface="Tahoma"/>
            </a:endParaRPr>
          </a:p>
        </p:txBody>
      </p:sp>
      <p:pic>
        <p:nvPicPr>
          <p:cNvPr id="84" name="" descr=""/>
          <p:cNvPicPr/>
          <p:nvPr/>
        </p:nvPicPr>
        <p:blipFill>
          <a:blip r:embed="rId2"/>
          <a:stretch/>
        </p:blipFill>
        <p:spPr>
          <a:xfrm>
            <a:off x="395280" y="620640"/>
            <a:ext cx="4105440" cy="4969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35280" y="1125000"/>
            <a:ext cx="3251160" cy="324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2000" spc="-1" strike="noStrike">
                <a:solidFill>
                  <a:srgbClr val="e5ffff"/>
                </a:solidFill>
                <a:latin typeface="Tahoma"/>
              </a:rPr>
              <a:t>Мария Шарапова — самая яркая звезда не только российского, но и мирового тенниса. Она стала самой юной победительницей Уимблдонского турнира в 2004 году.</a:t>
            </a:r>
            <a:endParaRPr b="0" lang="en-US" sz="2000" spc="-1" strike="noStrike">
              <a:solidFill>
                <a:srgbClr val="e5ffff"/>
              </a:solidFill>
              <a:latin typeface="Tahoma"/>
            </a:endParaRPr>
          </a:p>
        </p:txBody>
      </p:sp>
      <p:sp>
        <p:nvSpPr>
          <p:cNvPr id="86" name=""/>
          <p:cNvSpPr txBox="1"/>
          <p:nvPr/>
        </p:nvSpPr>
        <p:spPr>
          <a:xfrm>
            <a:off x="755640" y="4221000"/>
            <a:ext cx="8002440" cy="16891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Теннис требует фантастической выносливости, поскольку теннисные турниры проводятся один за другим круглый год, и чтобы соответствовать высокому месту в табели о рангах, приходится в них участвовать и подтверждать свой статус, что с успехом делает Маша.</a:t>
            </a:r>
            <a:endParaRPr b="0" lang="en-US" sz="2000" spc="-1" strike="noStrike">
              <a:solidFill>
                <a:srgbClr val="ffffff"/>
              </a:solidFill>
              <a:latin typeface="Tahoma"/>
            </a:endParaRPr>
          </a:p>
        </p:txBody>
      </p:sp>
      <p:pic>
        <p:nvPicPr>
          <p:cNvPr id="87" name="" descr=""/>
          <p:cNvPicPr/>
          <p:nvPr/>
        </p:nvPicPr>
        <p:blipFill>
          <a:blip r:embed="rId2"/>
          <a:stretch/>
        </p:blipFill>
        <p:spPr>
          <a:xfrm>
            <a:off x="611280" y="542880"/>
            <a:ext cx="4608360" cy="3600360"/>
          </a:xfrm>
          <a:prstGeom prst="rect">
            <a:avLst/>
          </a:prstGeom>
          <a:ln w="0">
            <a:noFill/>
          </a:ln>
        </p:spPr>
      </p:pic>
      <p:pic>
        <p:nvPicPr>
          <p:cNvPr id="88" name="" descr=""/>
          <p:cNvPicPr/>
          <p:nvPr/>
        </p:nvPicPr>
        <p:blipFill>
          <a:blip r:embed="rId3"/>
          <a:stretch/>
        </p:blipFill>
        <p:spPr>
          <a:xfrm>
            <a:off x="4419720" y="3276720"/>
            <a:ext cx="304560" cy="30456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88"/>
                    </p:tgtEl>
                  </p:cond>
                </p:stCondLst>
                <p:childTnLst>
                  <p:par>
                    <p:cTn id="3" fill="hold">
                      <p:stCondLst>
                        <p:cond evt="onClick">
                          <p:tgtEl>
                            <p:spTgt spid="88"/>
                          </p:tgtEl>
                        </p:cond>
                      </p:stCondLst>
                      <p:childTnLst>
                        <p:par>
                          <p:cTn id="4" fill="hold">
                            <p:stCondLst>
                              <p:cond delay="0"/>
                            </p:stCondLst>
                            <p:childTnLst>
                              <p:par>
                                <p:cTn id="5" nodeType="clickEffect" fill="hold" presetClass="mediacall" presetID="1">
                                  <p:stCondLst>
                                    <p:cond delay="0"/>
                                  </p:stCondLst>
                                  <p:childTnLst>
                                    <p:cmd type="call" cmd="playFrom(0.0)">
                                      <p:cBhvr>
                                        <p:cTn id="6" dur="21887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егодня спорт — одна из самых популярных и высокооплачиваемых областей человеческой деятельности. Прославленные спортсмены становятся мировыми звездами, кому не известны такие имена, как Евгений Плющенко, Александр Карелин, Диего Марадонна, Дэвид Бэкхем, Майк Тайсон, Братья Кличко, Алина Кабаева, Анна Курникова. Когда смотришь спортивные соревнования, то кажется, что легкоатлеты без труда метают тяжелый молот, фигуристы с легкостью выполняют прыжки и красивые пируэты, а велосипедисты с непринужденностью крутят педали. Но за всей этой легкостью и простотой стоят многочасовые ежедневные тренировки, непринужденность, красота и отточенность движений достигается потом и кровью.</a:t>
            </a:r>
            <a:endParaRPr b="0" lang="en-US" sz="2400" spc="-1" strike="noStrike">
              <a:solidFill>
                <a:srgbClr val="ffffff"/>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4356000" y="692280"/>
            <a:ext cx="4330800" cy="58910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a:t>
            </a:r>
            <a:br>
              <a:rPr sz="2000"/>
            </a:br>
            <a:r>
              <a:rPr b="0" lang="en-US" sz="2000" spc="-1" strike="noStrike">
                <a:solidFill>
                  <a:srgbClr val="e5ffff"/>
                </a:solidFill>
                <a:latin typeface="Tahoma"/>
              </a:rPr>
              <a:t> </a:t>
            </a:r>
            <a:br>
              <a:rPr sz="4000"/>
            </a:br>
            <a:endParaRPr b="0" lang="en-US" sz="2000" spc="-1" strike="noStrike">
              <a:solidFill>
                <a:srgbClr val="e5ffff"/>
              </a:solidFill>
              <a:latin typeface="Tahoma"/>
            </a:endParaRPr>
          </a:p>
        </p:txBody>
      </p:sp>
      <p:pic>
        <p:nvPicPr>
          <p:cNvPr id="91" name="" descr=""/>
          <p:cNvPicPr/>
          <p:nvPr/>
        </p:nvPicPr>
        <p:blipFill>
          <a:blip r:embed="rId2"/>
          <a:stretch/>
        </p:blipFill>
        <p:spPr>
          <a:xfrm>
            <a:off x="611280" y="692280"/>
            <a:ext cx="3297240" cy="52671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140000" y="404640"/>
            <a:ext cx="4546440" cy="612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Футбол — самый популярный вид спорта во всем мире. В 2006 году  в футбол на планете играло более  250 млн человек, из них более 20 млн — женщины. Зарегистрировано около 1,5 млн команд и 300 тыс профессиональных клубов. Футболист — универсальный спортсмен, он должен обладать скоростью спринтера, ловкостью гимнаста, силой борца. выносливостью стайера, реакцией автогонщика, меткостью «стрелка». </a:t>
            </a:r>
            <a:endParaRPr b="0" lang="en-US" sz="2400" spc="-1" strike="noStrike">
              <a:solidFill>
                <a:srgbClr val="ffffff"/>
              </a:solidFill>
              <a:latin typeface="Tahoma"/>
            </a:endParaRPr>
          </a:p>
        </p:txBody>
      </p:sp>
      <p:pic>
        <p:nvPicPr>
          <p:cNvPr id="93" name="" descr=""/>
          <p:cNvPicPr/>
          <p:nvPr/>
        </p:nvPicPr>
        <p:blipFill>
          <a:blip r:embed="rId2"/>
          <a:stretch/>
        </p:blipFill>
        <p:spPr>
          <a:xfrm>
            <a:off x="250920" y="620640"/>
            <a:ext cx="4000320" cy="54291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аще всего в спорт отдают детей для гармоничного физического развития, стремясь привить здоровый образ жизни и занять свободное время ребенка. Дети находят новых друзей, становятся сильнее, ловчее, уверенней в себе. Случается и такое, что хобби перерастает в образ жизни и становится насущной потребностью для человека. Ежедневные тренировки, жесткий график, постоянные ограничения воспитывают в будущем спортсмене дисциплину, целеустремленность, честолюбие, а порой и жажду славы. Как правило, чтобы стать спортсменом надо начинать заниматься в раннем детстве и, кроме того иметь определенные физические данные: длягимнастики — гибкость, для тяжелой атлетики — силу, для баскетбола — высокий рост и др. Каждый будущий спортсмен должен непременно обладать отменным здоровьем, выносливостью, целеустремленностью и железной волей.</a:t>
            </a:r>
            <a:endParaRPr b="0" lang="en-US" sz="2400" spc="-1" strike="noStrike">
              <a:solidFill>
                <a:srgbClr val="ffffff"/>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560" y="5013000"/>
            <a:ext cx="8435880" cy="158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Если ты маленького роста, тебя вряд ли возьмут в баскетбольную секцию, даже если тебе очень нравится этот вид спорта. Но одного высокого роста мало, необходимы скорость, прыгучесть, точность броска. Баскетбол — очень увлекательный вид спорта — каждую минуту, если не секунду, в баскетбольном матче меняется счет.</a:t>
            </a:r>
            <a:endParaRPr b="0" lang="en-US" sz="2000" spc="-1" strike="noStrike">
              <a:solidFill>
                <a:srgbClr val="ffffff"/>
              </a:solidFill>
              <a:latin typeface="Tahoma"/>
            </a:endParaRPr>
          </a:p>
        </p:txBody>
      </p:sp>
      <p:pic>
        <p:nvPicPr>
          <p:cNvPr id="96" name="" descr=""/>
          <p:cNvPicPr/>
          <p:nvPr/>
        </p:nvPicPr>
        <p:blipFill>
          <a:blip r:embed="rId2"/>
          <a:stretch/>
        </p:blipFill>
        <p:spPr>
          <a:xfrm>
            <a:off x="1403280" y="115920"/>
            <a:ext cx="6408720" cy="4753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5013000"/>
            <a:ext cx="8362800" cy="158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окс —  в общем-то мужской вид спорта, хотя в последние годы им стали увлекаться и женщины. Он требует особой силы, ловкости, а главное мужества. На ринге легендарный американский боксер Рой Джонс и сильнейший полутяжеловес мира Антонио Тарвер.</a:t>
            </a:r>
            <a:endParaRPr b="0" lang="en-US" sz="2000" spc="-1" strike="noStrike">
              <a:solidFill>
                <a:srgbClr val="ffffff"/>
              </a:solidFill>
              <a:latin typeface="Tahoma"/>
            </a:endParaRPr>
          </a:p>
        </p:txBody>
      </p:sp>
      <p:pic>
        <p:nvPicPr>
          <p:cNvPr id="98" name="" descr=""/>
          <p:cNvPicPr/>
          <p:nvPr/>
        </p:nvPicPr>
        <p:blipFill>
          <a:blip r:embed="rId2"/>
          <a:stretch/>
        </p:blipFill>
        <p:spPr>
          <a:xfrm>
            <a:off x="1187280" y="333360"/>
            <a:ext cx="6840720" cy="44863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4T22:17:29Z</dcterms:created>
  <dc:creator>User</dc:creator>
  <dc:description/>
  <dc:language>en-US</dc:language>
  <cp:lastModifiedBy>User</cp:lastModifiedBy>
  <dcterms:modified xsi:type="dcterms:W3CDTF">2008-12-15T00:24:01Z</dcterms:modified>
  <cp:revision>3</cp:revision>
  <dc:subject/>
  <dc:title>Российского фигуриста Евгения Плющенко называют  «ледовым принцем», «пришельцем из космоса». Так легко и изящно на льду не держится никто. К своему успеху он шел долгие годы, в совершенстве освоив сложнейшие прыжки в четыре оборота и овладев секретами хореографии, Плющенко стал абсолютным олимпийским чемпионом на Играх в Турине 2006.</dc:title>
</cp:coreProperties>
</file>