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D3D-B497-4BCB-AD1A-7BC0E441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9BD-91B6-41BF-9C0A-D42E964F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D93-C300-40DB-A0FE-B0DA74C5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6FB-0E90-4E88-8205-11867E6C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03B4-C209-4C65-A2D4-E0D20D74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AE9B-AFB1-49D3-B7CF-18AB2B9D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4E16-3912-4725-B043-B02B315E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A938-031B-456F-90B1-89FC3A77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F990-6705-47DA-A621-B9EE8964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48ED-F6A4-430C-BC39-F49A5F6A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C1EF-7D7A-4D9C-A0D4-ED077731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49C-A290-4C59-854E-0280AB24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AD74-88E9-48D1-BF2C-0C72F70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A5ED-DA6B-4401-9696-5ABD93E2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92E9-DD6E-4F1C-9F26-32EAB024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7FA2-CD2F-4670-9FF6-A111C85A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A07D-4E3E-4183-87E8-522DC40C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20A-CCD3-43E8-B65B-D9FDDFD0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4FF-A0D8-4CE9-9564-5E9C2F72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70E-8C5F-4A5D-8D37-3C29D72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15A-C2BB-4834-9934-87298C1E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1A4-7DEB-4571-9777-6FFB030A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13C-2B1F-4ACB-AB5E-77C06172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F95-E6E2-4145-94C0-36507828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44DE-B847-44BE-B358-AE4BDDF5D7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DED2-64AA-4446-809F-6C6BB3BC436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Book Antiqua"/>
              </a:rPr>
              <a:t>Мультимедийные презентации на уроке истории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Book Antiqua"/>
              </a:rPr>
              <a:t>НУ КАК?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Book Antiqua"/>
              </a:rPr>
              <a:t>ВЫ ГОТОВЫ К РАБОТЕ ?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7" descr="lines6"/>
          <p:cNvPicPr/>
          <p:nvPr/>
        </p:nvPicPr>
        <p:blipFill>
          <a:blip r:embed="rId1"/>
          <a:stretch/>
        </p:blipFill>
        <p:spPr>
          <a:xfrm>
            <a:off x="1523880" y="3276720"/>
            <a:ext cx="603900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Могут ли иллюстрации передать смысл исторических событий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4" descr="book32"/>
          <p:cNvPicPr/>
          <p:nvPr/>
        </p:nvPicPr>
        <p:blipFill>
          <a:blip r:embed="rId1"/>
          <a:stretch/>
        </p:blipFill>
        <p:spPr>
          <a:xfrm>
            <a:off x="5943600" y="2438280"/>
            <a:ext cx="289548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</a:rPr>
              <a:t>Что такое мультимедийная презентация?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icture 7" descr="Рисунок1"/>
          <p:cNvPicPr/>
          <p:nvPr/>
        </p:nvPicPr>
        <p:blipFill>
          <a:blip r:embed="rId1"/>
          <a:stretch/>
        </p:blipFill>
        <p:spPr>
          <a:xfrm>
            <a:off x="228600" y="2362320"/>
            <a:ext cx="17524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 rot="19374000">
            <a:off x="609480" y="190476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ужны ли презентации на уроке 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 rot="2185200">
            <a:off x="5047920" y="3028680"/>
            <a:ext cx="494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Что должно представлятьс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а презентации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Picture 7" descr="Рисунок1"/>
          <p:cNvPicPr/>
          <p:nvPr/>
        </p:nvPicPr>
        <p:blipFill>
          <a:blip r:embed="rId1"/>
          <a:stretch/>
        </p:blipFill>
        <p:spPr>
          <a:xfrm>
            <a:off x="3048120" y="2362320"/>
            <a:ext cx="2590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9144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Могут ли презентации заменить рефераты и доклады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5" descr="Рисунок1"/>
          <p:cNvPicPr/>
          <p:nvPr/>
        </p:nvPicPr>
        <p:blipFill>
          <a:blip r:embed="rId1"/>
          <a:stretch/>
        </p:blipFill>
        <p:spPr>
          <a:xfrm>
            <a:off x="3657600" y="3352680"/>
            <a:ext cx="149544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book37[1]"/>
          <p:cNvPicPr/>
          <p:nvPr/>
        </p:nvPicPr>
        <p:blipFill>
          <a:blip r:embed="rId2"/>
          <a:stretch/>
        </p:blipFill>
        <p:spPr>
          <a:xfrm rot="18552600">
            <a:off x="832320" y="3967560"/>
            <a:ext cx="1905120" cy="113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0285750"/>
          <p:cNvPicPr/>
          <p:nvPr/>
        </p:nvPicPr>
        <p:blipFill>
          <a:blip r:embed="rId3"/>
          <a:stretch/>
        </p:blipFill>
        <p:spPr>
          <a:xfrm>
            <a:off x="6172200" y="3886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69343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Для чего вам нужны презентации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6" descr="j0285750"/>
          <p:cNvPicPr/>
          <p:nvPr/>
        </p:nvPicPr>
        <p:blipFill>
          <a:blip r:embed="rId1"/>
          <a:stretch/>
        </p:blipFill>
        <p:spPr>
          <a:xfrm>
            <a:off x="6400800" y="3809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ook37[1]"/>
          <p:cNvPicPr/>
          <p:nvPr/>
        </p:nvPicPr>
        <p:blipFill>
          <a:blip r:embed="rId2"/>
          <a:stretch/>
        </p:blipFill>
        <p:spPr>
          <a:xfrm>
            <a:off x="6477120" y="1459080"/>
            <a:ext cx="1904760" cy="1131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ines22[1]"/>
          <p:cNvPicPr/>
          <p:nvPr/>
        </p:nvPicPr>
        <p:blipFill>
          <a:blip r:embed="rId3"/>
          <a:stretch/>
        </p:blipFill>
        <p:spPr>
          <a:xfrm>
            <a:off x="4495680" y="5715000"/>
            <a:ext cx="429588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imes New Roman"/>
              </a:rPr>
              <a:t>Хотите ли ВЫ научиться создавать презентации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4" descr="book37[1]"/>
          <p:cNvPicPr/>
          <p:nvPr/>
        </p:nvPicPr>
        <p:blipFill>
          <a:blip r:embed="rId1"/>
          <a:stretch/>
        </p:blipFill>
        <p:spPr>
          <a:xfrm>
            <a:off x="2819520" y="3108240"/>
            <a:ext cx="44956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Цель проекта:</a:t>
            </a:r>
            <a:br>
              <a:rPr sz="54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Book Antiqua"/>
              </a:rPr>
              <a:t>Научиться создавать презентации по истори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440" y="32004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ля этого нам нужно: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Познакомиться с программами для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создания презентаций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2. Научиться создавать графические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изображения, работать с текстами,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таблицами, диаграммами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3. Применять к ним звуковые эффекты и анимацию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7" descr="book32"/>
          <p:cNvPicPr/>
          <p:nvPr/>
        </p:nvPicPr>
        <p:blipFill>
          <a:blip r:embed="rId1"/>
          <a:stretch/>
        </p:blipFill>
        <p:spPr>
          <a:xfrm>
            <a:off x="0" y="2514600"/>
            <a:ext cx="28954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Коля</cp:lastModifiedBy>
  <dcterms:modified xsi:type="dcterms:W3CDTF">2013-09-05T13:23:17Z</dcterms:modified>
  <cp:revision>7</cp:revision>
  <dc:subject/>
  <dc:title>Стартовая 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