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CECA-2A5F-4D3C-ADC7-EBE77A9F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2F7-2E80-4463-A6A4-1F18B64B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0A8-C153-4831-AF7C-52E119DD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CBA-FF34-4E4D-9EBF-DC5C2C61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274-30AD-4185-9F1C-FAEF6351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5C4C-1B96-470E-A715-49BB209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47B9-810A-4FAD-919B-DB3114CD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6B34-04C0-4E9D-9DAC-80EC7E8D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8996-4A74-4C95-B6BA-2724D204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98CF-7F0A-4DD0-85D3-633D4E36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985C-988D-46B2-B6AA-F4FEF07D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9C4-28CA-4A25-8850-30F58F0E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0FF9-1D3C-4763-9A1F-0B3B7E1F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33AF-599F-48D3-B135-1D94FCA8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28C3-277F-4482-A856-D6DFC47E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B76E-57D5-4A08-82D6-4DCC3C570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7F17-876C-4007-9E7C-8360AC23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2E8-E944-462D-8FA9-0688B24F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F88-9CF8-4855-9AC3-08291132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B12-4DE1-4D6E-B14F-0D593CC7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C45-2D92-4FE1-8404-0B59EDDA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1C7-1249-4660-8341-AF945BE1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6DE-2645-4188-AF2E-EEB23707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DA3-FB14-430E-AF61-3875597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3FB9-ECBA-4B5E-A76D-5431D4335B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F39F-A8CD-4835-97C1-9B069C9A97B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Book Antiqua"/>
              </a:rPr>
              <a:t>Мультимедийные презентации на уроке истории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Book Antiqua"/>
              </a:rPr>
              <a:t>НУ КАК?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Book Antiqua"/>
              </a:rPr>
              <a:t>ВЫ ГОТОВЫ К РАБОТЕ ?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7" descr="lines6"/>
          <p:cNvPicPr/>
          <p:nvPr/>
        </p:nvPicPr>
        <p:blipFill>
          <a:blip r:embed="rId1"/>
          <a:stretch/>
        </p:blipFill>
        <p:spPr>
          <a:xfrm>
            <a:off x="1523880" y="3276720"/>
            <a:ext cx="603900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Могут ли иллюстрации передать смысл исторических событий?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4" descr="book32"/>
          <p:cNvPicPr/>
          <p:nvPr/>
        </p:nvPicPr>
        <p:blipFill>
          <a:blip r:embed="rId1"/>
          <a:stretch/>
        </p:blipFill>
        <p:spPr>
          <a:xfrm>
            <a:off x="5943600" y="2438280"/>
            <a:ext cx="289548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Times New Roman"/>
              </a:rPr>
              <a:t>Что такое мультимедийная презентация?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icture 7" descr="Рисунок1"/>
          <p:cNvPicPr/>
          <p:nvPr/>
        </p:nvPicPr>
        <p:blipFill>
          <a:blip r:embed="rId1"/>
          <a:stretch/>
        </p:blipFill>
        <p:spPr>
          <a:xfrm>
            <a:off x="228600" y="2362320"/>
            <a:ext cx="17524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 rot="19374000">
            <a:off x="609480" y="190476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ужны ли презентации на уроке 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 rot="2185200">
            <a:off x="5047920" y="3028680"/>
            <a:ext cx="494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Что должно представлятьс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а презентации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Picture 7" descr="Рисунок1"/>
          <p:cNvPicPr/>
          <p:nvPr/>
        </p:nvPicPr>
        <p:blipFill>
          <a:blip r:embed="rId1"/>
          <a:stretch/>
        </p:blipFill>
        <p:spPr>
          <a:xfrm>
            <a:off x="3048120" y="2362320"/>
            <a:ext cx="2590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9144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Могут ли презентации заменить рефераты и доклады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5" descr="Рисунок1"/>
          <p:cNvPicPr/>
          <p:nvPr/>
        </p:nvPicPr>
        <p:blipFill>
          <a:blip r:embed="rId1"/>
          <a:stretch/>
        </p:blipFill>
        <p:spPr>
          <a:xfrm>
            <a:off x="3657600" y="3352680"/>
            <a:ext cx="149544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book37[1]"/>
          <p:cNvPicPr/>
          <p:nvPr/>
        </p:nvPicPr>
        <p:blipFill>
          <a:blip r:embed="rId2"/>
          <a:stretch/>
        </p:blipFill>
        <p:spPr>
          <a:xfrm rot="18552600">
            <a:off x="832320" y="3967560"/>
            <a:ext cx="1905120" cy="113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0285750"/>
          <p:cNvPicPr/>
          <p:nvPr/>
        </p:nvPicPr>
        <p:blipFill>
          <a:blip r:embed="rId3"/>
          <a:stretch/>
        </p:blipFill>
        <p:spPr>
          <a:xfrm>
            <a:off x="6172200" y="3886200"/>
            <a:ext cx="2438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69343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Для чего вам нужны презентации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Picture 6" descr="j0285750"/>
          <p:cNvPicPr/>
          <p:nvPr/>
        </p:nvPicPr>
        <p:blipFill>
          <a:blip r:embed="rId1"/>
          <a:stretch/>
        </p:blipFill>
        <p:spPr>
          <a:xfrm>
            <a:off x="6400800" y="38098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book37[1]"/>
          <p:cNvPicPr/>
          <p:nvPr/>
        </p:nvPicPr>
        <p:blipFill>
          <a:blip r:embed="rId2"/>
          <a:stretch/>
        </p:blipFill>
        <p:spPr>
          <a:xfrm>
            <a:off x="6477120" y="1459080"/>
            <a:ext cx="1904760" cy="1131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lines22[1]"/>
          <p:cNvPicPr/>
          <p:nvPr/>
        </p:nvPicPr>
        <p:blipFill>
          <a:blip r:embed="rId3"/>
          <a:stretch/>
        </p:blipFill>
        <p:spPr>
          <a:xfrm>
            <a:off x="4495680" y="5715000"/>
            <a:ext cx="429588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imes New Roman"/>
              </a:rPr>
              <a:t>Хотите ли ВЫ научиться создавать презентации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4" descr="book37[1]"/>
          <p:cNvPicPr/>
          <p:nvPr/>
        </p:nvPicPr>
        <p:blipFill>
          <a:blip r:embed="rId1"/>
          <a:stretch/>
        </p:blipFill>
        <p:spPr>
          <a:xfrm>
            <a:off x="2819520" y="3108240"/>
            <a:ext cx="449568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Цель проекта:</a:t>
            </a:r>
            <a:br>
              <a:rPr sz="54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Book Antiqua"/>
              </a:rPr>
              <a:t>Научиться создавать презентации по истории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440" y="32004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Для этого нам нужно: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Познакомиться с программами для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создания презентаций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2. Научиться создавать графические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изображения, работать с текстами,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таблицами, диаграммами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Book Antiqua"/>
              </a:rPr>
              <a:t>3. Применять к ним звуковые эффекты и анимацию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Picture 7" descr="book32"/>
          <p:cNvPicPr/>
          <p:nvPr/>
        </p:nvPicPr>
        <p:blipFill>
          <a:blip r:embed="rId1"/>
          <a:stretch/>
        </p:blipFill>
        <p:spPr>
          <a:xfrm>
            <a:off x="0" y="2514600"/>
            <a:ext cx="28954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гей</dc:creator>
  <dc:description/>
  <dc:language>en-US</dc:language>
  <cp:lastModifiedBy>Коля</cp:lastModifiedBy>
  <dcterms:modified xsi:type="dcterms:W3CDTF">2013-09-05T13:23:17Z</dcterms:modified>
  <cp:revision>7</cp:revision>
  <dc:subject/>
  <dc:title>Стартовая 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