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187-C508-4734-876B-A81C354C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F3D-EC7C-4AC8-96A8-3F4C3EC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2F0-B40F-4D24-8394-AB07DE44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5C3-CC09-4F66-8D8E-6896428A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1FA4-A76E-4C93-ABA2-921E0D2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85E3-8663-460F-91CD-412B3E9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8BD6-6085-480C-A0A8-5D76FB8D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D85F-0689-406E-A907-290F030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79D3-417F-45BE-A4B7-591ED098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6C9-30AD-423D-AA89-77458976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C0B4-A5D2-436F-A964-E1F3B1F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C96-AF59-4EE5-8E2C-3F545B8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EDE2-50FC-4C86-9D56-B80B0B8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2C9E-7B72-47A4-BDBD-1AC08E2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3213-AE85-4A98-B1D1-35B72ABC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F796-8407-40CE-804C-EF904EB9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FD2-40A0-4C50-BF16-A0CCCEAB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6CA-A8A6-4614-B8A7-788FDFA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ADF-C598-41F4-86FE-E670BD73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65F-39C0-4520-8454-8AB0CFF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A21-8A08-4573-AC1C-151BC992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9BF-FA0C-446A-AE8B-9AD09C7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245-3129-4EC8-A8AF-23A7D3D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839-096E-459E-A85C-A14E2D13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765-DAB5-49EA-9EA2-9D703FA321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A34-43BA-40BA-9D69-6C5D23492DD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Book Antiqua"/>
              </a:rPr>
              <a:t>Мультимедийные презентации на уроке истории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Book Antiqua"/>
              </a:rPr>
              <a:t>НУ КАК?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Book Antiqua"/>
              </a:rPr>
              <a:t>ВЫ ГОТОВЫ К РАБОТЕ ?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7" descr="lines6"/>
          <p:cNvPicPr/>
          <p:nvPr/>
        </p:nvPicPr>
        <p:blipFill>
          <a:blip r:embed="rId1"/>
          <a:stretch/>
        </p:blipFill>
        <p:spPr>
          <a:xfrm>
            <a:off x="1523880" y="3276720"/>
            <a:ext cx="603900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Могут ли иллюстрации передать смысл исторических событий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4" descr="book32"/>
          <p:cNvPicPr/>
          <p:nvPr/>
        </p:nvPicPr>
        <p:blipFill>
          <a:blip r:embed="rId1"/>
          <a:stretch/>
        </p:blipFill>
        <p:spPr>
          <a:xfrm>
            <a:off x="5943600" y="2438280"/>
            <a:ext cx="28954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Что такое мультимедийная презентация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7" descr="Рисунок1"/>
          <p:cNvPicPr/>
          <p:nvPr/>
        </p:nvPicPr>
        <p:blipFill>
          <a:blip r:embed="rId1"/>
          <a:stretch/>
        </p:blipFill>
        <p:spPr>
          <a:xfrm>
            <a:off x="228600" y="236232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 rot="19374000">
            <a:off x="609480" y="190476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ужны ли презентации на уроке 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 rot="2185200">
            <a:off x="5047920" y="3028680"/>
            <a:ext cx="494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 должно представлятьс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 презентации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Picture 7" descr="Рисунок1"/>
          <p:cNvPicPr/>
          <p:nvPr/>
        </p:nvPicPr>
        <p:blipFill>
          <a:blip r:embed="rId1"/>
          <a:stretch/>
        </p:blipFill>
        <p:spPr>
          <a:xfrm>
            <a:off x="3048120" y="2362320"/>
            <a:ext cx="2590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14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Могут ли презентации заменить рефераты и доклады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5" descr="Рисунок1"/>
          <p:cNvPicPr/>
          <p:nvPr/>
        </p:nvPicPr>
        <p:blipFill>
          <a:blip r:embed="rId1"/>
          <a:stretch/>
        </p:blipFill>
        <p:spPr>
          <a:xfrm>
            <a:off x="3657600" y="3352680"/>
            <a:ext cx="149544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ook37[1]"/>
          <p:cNvPicPr/>
          <p:nvPr/>
        </p:nvPicPr>
        <p:blipFill>
          <a:blip r:embed="rId2"/>
          <a:stretch/>
        </p:blipFill>
        <p:spPr>
          <a:xfrm rot="18552600">
            <a:off x="832320" y="3967560"/>
            <a:ext cx="190512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0285750"/>
          <p:cNvPicPr/>
          <p:nvPr/>
        </p:nvPicPr>
        <p:blipFill>
          <a:blip r:embed="rId3"/>
          <a:stretch/>
        </p:blipFill>
        <p:spPr>
          <a:xfrm>
            <a:off x="6172200" y="3886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Для чего вам нужны презентации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6" descr="j0285750"/>
          <p:cNvPicPr/>
          <p:nvPr/>
        </p:nvPicPr>
        <p:blipFill>
          <a:blip r:embed="rId1"/>
          <a:stretch/>
        </p:blipFill>
        <p:spPr>
          <a:xfrm>
            <a:off x="6400800" y="3809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ook37[1]"/>
          <p:cNvPicPr/>
          <p:nvPr/>
        </p:nvPicPr>
        <p:blipFill>
          <a:blip r:embed="rId2"/>
          <a:stretch/>
        </p:blipFill>
        <p:spPr>
          <a:xfrm>
            <a:off x="6477120" y="1459080"/>
            <a:ext cx="1904760" cy="1131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ines22[1]"/>
          <p:cNvPicPr/>
          <p:nvPr/>
        </p:nvPicPr>
        <p:blipFill>
          <a:blip r:embed="rId3"/>
          <a:stretch/>
        </p:blipFill>
        <p:spPr>
          <a:xfrm>
            <a:off x="4495680" y="5715000"/>
            <a:ext cx="42958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imes New Roman"/>
              </a:rPr>
              <a:t>Хотите ли ВЫ научиться создавать презентации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book37[1]"/>
          <p:cNvPicPr/>
          <p:nvPr/>
        </p:nvPicPr>
        <p:blipFill>
          <a:blip r:embed="rId1"/>
          <a:stretch/>
        </p:blipFill>
        <p:spPr>
          <a:xfrm>
            <a:off x="2819520" y="3108240"/>
            <a:ext cx="44956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Цель проекта:</a:t>
            </a:r>
            <a:br>
              <a:rPr sz="54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Научиться создавать презентации по истори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3200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ля этого нам нужно: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Познакомиться с программами для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создания презентаци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2. Научиться создавать графические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изображения, работать с текстами,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таблицами, диаграммами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3. Применять к ним звуковые эффекты и анимацию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7" descr="book32"/>
          <p:cNvPicPr/>
          <p:nvPr/>
        </p:nvPicPr>
        <p:blipFill>
          <a:blip r:embed="rId1"/>
          <a:stretch/>
        </p:blipFill>
        <p:spPr>
          <a:xfrm>
            <a:off x="0" y="2514600"/>
            <a:ext cx="28954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Коля</cp:lastModifiedBy>
  <dcterms:modified xsi:type="dcterms:W3CDTF">2013-09-05T13:23:17Z</dcterms:modified>
  <cp:revision>7</cp:revision>
  <dc:subject/>
  <dc:title>Стартовая 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