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D6D-4B09-477C-9468-AFCF86F1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B99-7E00-433A-9C0E-7C355C76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0B8-9936-439A-BD33-BEF452B1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2D1-D8DB-45D5-8ABF-48340664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4E25-0900-45C0-A2F3-61B53EBB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626F-3FDB-410A-94BE-779D12E5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9B25-C060-4171-93B3-89D0F783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A4A2-44F6-445B-BDC8-6F8269B6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7C63-4CCA-45C2-B0C0-8FC6EC49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45ED-7830-476B-9EA1-BB1AA151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325A-3ECA-4B03-82D0-B00B18E9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5A7-C099-44E5-A2E6-FFBD081A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7073-43D0-4113-9DAC-C354B5A8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FC27-DB0A-49DE-ACF5-6C84F80D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FD2D-D22E-4AD6-BFAA-1F32B2ED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7511-F0B0-4C47-AD78-D3A6E14A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208B-6BBF-4B01-B6E5-1293E313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4C8-6866-4335-AF84-C2A8936C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629-BD5B-4297-B348-9546F4E2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F240-5175-4088-ACF3-3E0EF0BF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776-632C-4904-92FF-D08CA4DE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9FE-D934-4CB6-BEBF-82073281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D74-FC5A-432F-984C-F461BA51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5DF-4242-4C7B-AE5F-F01527E7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AEB1-6C2A-45CE-8445-1E1096237D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06F1-55BC-44E6-BA19-7E37152D70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У истоков зодчеств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теграционный проек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ебных предмет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иологии, географии, истории и хим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должительность проект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ект рассчитан на одну четвер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зультаты будут представлены на открытом интегрированном уроке, который будет проведен в неделю гуманитарных нау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Желаем удачи!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то Вам известно о зодчеств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одчество- это самые красивые зда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одчество- это здания построенные известными архитектор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одчество- это строительное искусств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типичные ответы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де строительство стало искусством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пытайтесь вспомнить самые древние архитектурные памятни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аких странах они  находятся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здания в центре нашего города похожи на них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нтересно узнать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куда к нам пришло строительное искусств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ой вклад внесли строители древнего Египта в зодчеств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ово влияние древних греков на облик наших городов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опросы, ответы на которые Мы будем искать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географическое положение, имеющиеся полезные ископаемые могут повлиять на развитие строительст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жет ли существующее общество и государство отразиться в зодчеств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чие групп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Древний Егип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натоки: биологи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еографи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тори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им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Древняя Грец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572000" y="2349360"/>
            <a:ext cx="4572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натоки: биологи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еографи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тори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им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ы работ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бор необходимой информации для выполнения проек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гружение в проект. Анализ собранных материалов самостоятельно и в групп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ставление полученных результат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та в группах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82880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09800" y="182880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пределить природный материа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ие орудия труда. (металл и его свойств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ивотные- помощники строителя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сштаб строитель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6" descr="C:\Documents and Settings\УЧЕНИК\Рабочий стол\пирамида.jpg"/>
          <p:cNvPicPr/>
          <p:nvPr/>
        </p:nvPicPr>
        <p:blipFill>
          <a:blip r:embed="rId1"/>
          <a:stretch/>
        </p:blipFill>
        <p:spPr>
          <a:xfrm>
            <a:off x="1428840" y="1714680"/>
            <a:ext cx="2914560" cy="1946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Documents and Settings\УЧЕНИК\Рабочий стол\парфенон.jpg"/>
          <p:cNvPicPr/>
          <p:nvPr/>
        </p:nvPicPr>
        <p:blipFill>
          <a:blip r:embed="rId2"/>
          <a:stretch/>
        </p:blipFill>
        <p:spPr>
          <a:xfrm>
            <a:off x="5286240" y="1747800"/>
            <a:ext cx="278604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едставление результатов исследовани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" name="Organization Chart 5"/>
          <p:cNvGrpSpPr/>
          <p:nvPr/>
        </p:nvGrpSpPr>
        <p:grpSpPr>
          <a:xfrm>
            <a:off x="682560" y="1812960"/>
            <a:ext cx="7632000" cy="3599280"/>
            <a:chOff x="682560" y="1812960"/>
            <a:chExt cx="7632000" cy="3599280"/>
          </a:xfrm>
        </p:grpSpPr>
        <p:cxnSp>
          <p:nvCxnSpPr>
            <p:cNvPr id="175" name="_s1028"/>
            <p:cNvCxnSpPr>
              <a:stCxn id="176" idx="0"/>
              <a:endCxn id="177" idx="2"/>
            </p:cNvCxnSpPr>
            <p:nvPr/>
          </p:nvCxnSpPr>
          <p:spPr>
            <a:xfrm flipV="1" rot="16200000">
              <a:off x="5473800" y="2275920"/>
              <a:ext cx="720360" cy="267192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1029"/>
            <p:cNvCxnSpPr>
              <a:stCxn id="179" idx="0"/>
              <a:endCxn id="177" idx="2"/>
            </p:cNvCxnSpPr>
            <p:nvPr/>
          </p:nvCxnSpPr>
          <p:spPr>
            <a:xfrm flipV="1">
              <a:off x="4498560" y="3251880"/>
              <a:ext cx="3600" cy="72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030"/>
            <p:cNvCxnSpPr>
              <a:stCxn id="181" idx="0"/>
              <a:endCxn id="177" idx="2"/>
            </p:cNvCxnSpPr>
            <p:nvPr/>
          </p:nvCxnSpPr>
          <p:spPr>
            <a:xfrm flipH="1" flipV="1" rot="5400000">
              <a:off x="2802960" y="2276280"/>
              <a:ext cx="720360" cy="267192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7" name="_s1031"/>
            <p:cNvSpPr/>
            <p:nvPr/>
          </p:nvSpPr>
          <p:spPr>
            <a:xfrm>
              <a:off x="3353760" y="1812960"/>
              <a:ext cx="228960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omic Sans MS"/>
                </a:rPr>
                <a:t>результат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_s1032"/>
            <p:cNvSpPr/>
            <p:nvPr/>
          </p:nvSpPr>
          <p:spPr>
            <a:xfrm>
              <a:off x="682560" y="3972600"/>
              <a:ext cx="228960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презентаци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_s1033"/>
            <p:cNvSpPr/>
            <p:nvPr/>
          </p:nvSpPr>
          <p:spPr>
            <a:xfrm>
              <a:off x="3353760" y="3972600"/>
              <a:ext cx="228960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публикации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_s1034"/>
            <p:cNvSpPr/>
            <p:nvPr/>
          </p:nvSpPr>
          <p:spPr>
            <a:xfrm>
              <a:off x="6024960" y="3972600"/>
              <a:ext cx="228960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модели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14:34:02Z</dcterms:created>
  <dc:creator>Андрей</dc:creator>
  <dc:description/>
  <dc:language>en-US</dc:language>
  <cp:lastModifiedBy>ZooM</cp:lastModifiedBy>
  <dcterms:modified xsi:type="dcterms:W3CDTF">2013-10-22T12:56:49Z</dcterms:modified>
  <cp:revision>6</cp:revision>
  <dc:subject/>
  <dc:title>У истоков зодчества.</dc:title>
</cp:coreProperties>
</file>