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9EC0-8115-4843-9127-A5F9A7495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D827-FAB0-4F2D-876E-67D74E38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34F2-84AF-4273-8D6C-943A2C40D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51AA-81CE-4B95-8011-CE0D08E06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06EF2-790D-49B3-A4BD-F27F72B96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6ACB8-755E-424B-974F-418A886A1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13998-7586-4A2B-8C8F-F3DDFF45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C9B63-F7C7-4ACC-8AE6-FE740C19A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29C3B-1232-42CA-8F95-F934C73E7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96099-CE0A-4DFC-9436-25F99AE21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10A6E-4842-49A6-B058-244723CE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4188-E466-44F7-B871-C798E85F1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3FF15-3E95-4A02-A811-335975EF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0B181-2782-4AF1-BD26-FB7A3319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CEC84-0B43-44D5-A839-71301F662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65AA3-C995-4927-909F-E008F7EA5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C787A-B94D-4B9C-8B45-30EA7C008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5BF2-83D8-4F6C-BA67-B35A2E582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BFCC-18BC-48AC-A494-A3C6076C2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A25E-94F0-4A9D-9024-281D170A6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F27F-CA25-439C-B5C1-FD61CB081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E0A7-F24C-43FD-92A7-BC383BC0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A4AA-8D1A-4C23-8E7B-87BE0FC0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8C55-7BCC-4441-8317-9A03E8BE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6C1D3-41F0-41C4-BB91-D8FC86F6D56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6CD86-1A2B-4C85-AA6C-4847DBA6C2F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У истоков зодчества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нтеграционный проек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чебных предметов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биологии, географии, истории и хими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родолжительность проекта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ект рассчитан на одну четверт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езультаты будут представлены на открытом интегрированном уроке, который будет проведен в неделю гуманитарных наук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Желаем удачи!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Что Вам известно о зодчестве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одчество- это самые красивые здани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одчество- это здания построенные известными архитекторам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одчество- это строительное искусство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типичные ответы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Где строительство стало искусством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пытайтесь вспомнить самые древние архитектурные памятник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каких странах они  находятся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кие здания в центре нашего города похожи на них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Интересно узнать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ткуда к нам пришло строительное искусство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кой вклад внесли строители древнего Египта в зодчество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ково влияние древних греков на облик наших городов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Вопросы, ответы на которые Мы будем искать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к географическое положение, имеющиеся полезные ископаемые могут повлиять на развитие строительства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ожет ли существующее общество и государство отразиться в зодчестве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абочие группы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Древний Египе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Знатоки: биологии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еографии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стории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хими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Древняя Грец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4572000" y="2349360"/>
            <a:ext cx="457200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Знатоки: биологии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еографии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стории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хими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Этапы работы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бор необходимой информации для выполнения проект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гружение в проект. Анализ собранных материалов самостоятельно и в групп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едставление полученных результато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абота в группах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1828800"/>
            <a:ext cx="3772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609800" y="1828800"/>
            <a:ext cx="3771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373392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пределить природный материа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акие орудия труда. (металл и его свойства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Животные- помощники строителя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асштаб строительств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6" descr="C:\Documents and Settings\УЧЕНИК\Рабочий стол\пирамида.jpg"/>
          <p:cNvPicPr/>
          <p:nvPr/>
        </p:nvPicPr>
        <p:blipFill>
          <a:blip r:embed="rId1"/>
          <a:stretch/>
        </p:blipFill>
        <p:spPr>
          <a:xfrm>
            <a:off x="1428840" y="1714680"/>
            <a:ext cx="2914560" cy="19461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C:\Documents and Settings\УЧЕНИК\Рабочий стол\парфенон.jpg"/>
          <p:cNvPicPr/>
          <p:nvPr/>
        </p:nvPicPr>
        <p:blipFill>
          <a:blip r:embed="rId2"/>
          <a:stretch/>
        </p:blipFill>
        <p:spPr>
          <a:xfrm>
            <a:off x="5286240" y="1747800"/>
            <a:ext cx="2786040" cy="19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редставление результатов исследования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4" name="Organization Chart 5"/>
          <p:cNvGrpSpPr/>
          <p:nvPr/>
        </p:nvGrpSpPr>
        <p:grpSpPr>
          <a:xfrm>
            <a:off x="682560" y="1812960"/>
            <a:ext cx="7632000" cy="3599280"/>
            <a:chOff x="682560" y="1812960"/>
            <a:chExt cx="7632000" cy="3599280"/>
          </a:xfrm>
        </p:grpSpPr>
        <p:cxnSp>
          <p:nvCxnSpPr>
            <p:cNvPr id="175" name="_s1028"/>
            <p:cNvCxnSpPr>
              <a:stCxn id="176" idx="0"/>
              <a:endCxn id="177" idx="2"/>
            </p:cNvCxnSpPr>
            <p:nvPr/>
          </p:nvCxnSpPr>
          <p:spPr>
            <a:xfrm flipV="1" rot="16200000">
              <a:off x="5473800" y="2275920"/>
              <a:ext cx="720360" cy="2671920"/>
            </a:xfrm>
            <a:prstGeom prst="bentConnector3">
              <a:avLst>
                <a:gd name="adj1" fmla="val 1585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8" name="_s1029"/>
            <p:cNvCxnSpPr>
              <a:stCxn id="179" idx="0"/>
              <a:endCxn id="177" idx="2"/>
            </p:cNvCxnSpPr>
            <p:nvPr/>
          </p:nvCxnSpPr>
          <p:spPr>
            <a:xfrm flipV="1">
              <a:off x="4498560" y="3251880"/>
              <a:ext cx="3600" cy="720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0" name="_s1030"/>
            <p:cNvCxnSpPr>
              <a:stCxn id="181" idx="0"/>
              <a:endCxn id="177" idx="2"/>
            </p:cNvCxnSpPr>
            <p:nvPr/>
          </p:nvCxnSpPr>
          <p:spPr>
            <a:xfrm flipH="1" flipV="1" rot="5400000">
              <a:off x="2802960" y="2276280"/>
              <a:ext cx="720360" cy="2671920"/>
            </a:xfrm>
            <a:prstGeom prst="bentConnector3">
              <a:avLst>
                <a:gd name="adj1" fmla="val 1585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7" name="_s1031"/>
            <p:cNvSpPr/>
            <p:nvPr/>
          </p:nvSpPr>
          <p:spPr>
            <a:xfrm>
              <a:off x="3353760" y="1812960"/>
              <a:ext cx="2289600" cy="143964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Comic Sans MS"/>
                </a:rPr>
                <a:t>результат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" name="_s1032"/>
            <p:cNvSpPr/>
            <p:nvPr/>
          </p:nvSpPr>
          <p:spPr>
            <a:xfrm>
              <a:off x="682560" y="3972600"/>
              <a:ext cx="2289600" cy="143964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презентация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" name="_s1033"/>
            <p:cNvSpPr/>
            <p:nvPr/>
          </p:nvSpPr>
          <p:spPr>
            <a:xfrm>
              <a:off x="3353760" y="3972600"/>
              <a:ext cx="2289600" cy="143964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публикации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" name="_s1034"/>
            <p:cNvSpPr/>
            <p:nvPr/>
          </p:nvSpPr>
          <p:spPr>
            <a:xfrm>
              <a:off x="6024960" y="3972600"/>
              <a:ext cx="2289600" cy="143964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модели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4T14:34:02Z</dcterms:created>
  <dc:creator>Андрей</dc:creator>
  <dc:description/>
  <dc:language>en-US</dc:language>
  <cp:lastModifiedBy>ZooM</cp:lastModifiedBy>
  <dcterms:modified xsi:type="dcterms:W3CDTF">2013-10-22T12:56:49Z</dcterms:modified>
  <cp:revision>6</cp:revision>
  <dc:subject/>
  <dc:title>У истоков зодчества.</dc:title>
</cp:coreProperties>
</file>