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795-253C-4B9A-96F9-FD6BFB06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855-94F2-400D-86A2-AEF170A4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51A-4500-42A2-8E15-AE5C14FD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5FE-265A-493B-A4C1-EE8AAF03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E7E6-9E58-4EFA-8A2F-92111456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0DEE-22D8-4169-80D3-738CFF39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A3B-8A60-44BA-B163-C9C004C9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C9BA-522D-4F96-B048-A2FDA26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1FB2-BAA7-47CA-B704-045C3429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233B-7A0B-4216-97D1-0BE0152B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FD5-1372-4BC7-A718-6053CC1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166-A365-46E5-855A-A7ABA7E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3145-8F37-4ECC-8BBE-ACEEB440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B8AA-BFCE-4187-B00E-06DD6E88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4BB-055C-44F7-9E43-ADC79E4C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E960-CACD-4ED2-8FFB-156BE281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F350-5677-4C2C-97C8-284ECEAE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9D3-58E2-4DFA-8EF9-CEE2FAFE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7E9-232F-4122-B1E7-6E3804F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65D-B6F4-4B63-B6F4-7CE2B72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3F7-4748-4E06-82D1-4560511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45D-0105-40D9-8337-596C751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395-65C9-47C2-9A2A-56698E0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BFC-E1DB-416C-944A-BD14AE5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6FB9-15DA-42D0-BCC4-0524ADB2E4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10C6-E3C1-4D19-A0E0-5BF8C3E404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 истоков зодчест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грационный проек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бных предме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иологии, географии, истории и хим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должительность проект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ект рассчитан на одну четвер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будут представлены на открытом интегрированном уроке, который будет проведен в неделю гуманитарных нау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Желаем удачи!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Вам известно о зодчеств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амые красивые зд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здания построенные известными архитектор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одчество- это строительное искусств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типичные ответы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строительство стало искусством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пытайтесь вспомнить самые древние архитектурные памятни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аких странах они  находятс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здания в центре нашего города похожи на ни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нтересно узна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куда к нам пришло строительное искус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й вклад внесли строители древнего Египта в зодче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ово влияние древних греков на облик наших город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просы, ответы на которые Мы будем иска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еографическое положение, имеющиеся полезные ископаемые могут повлиять на развитие строитель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ли существующее общество и государство отразиться в зодчест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чие групп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ий Егип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Древняя Грец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572000" y="234936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токи: биолог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граф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тори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им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работ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бор необходимой информации для выполнения проек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гружение в проект. Анализ собранных материалов самостоятельно и в групп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ие полученных результат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та в группа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3772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09800" y="182880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ределить природный матери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ие орудия труда. (металл и его свойств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ивотные- помощники строителя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штаб строитель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6" descr="C:\Documents and Settings\УЧЕНИК\Рабочий стол\пирамида.jpg"/>
          <p:cNvPicPr/>
          <p:nvPr/>
        </p:nvPicPr>
        <p:blipFill>
          <a:blip r:embed="rId1"/>
          <a:stretch/>
        </p:blipFill>
        <p:spPr>
          <a:xfrm>
            <a:off x="1428840" y="1714680"/>
            <a:ext cx="2914560" cy="1946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Documents and Settings\УЧЕНИК\Рабочий стол\парфенон.jpg"/>
          <p:cNvPicPr/>
          <p:nvPr/>
        </p:nvPicPr>
        <p:blipFill>
          <a:blip r:embed="rId2"/>
          <a:stretch/>
        </p:blipFill>
        <p:spPr>
          <a:xfrm>
            <a:off x="5286240" y="1747800"/>
            <a:ext cx="27860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едставление результатов исследован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Organization Chart 5"/>
          <p:cNvGrpSpPr/>
          <p:nvPr/>
        </p:nvGrpSpPr>
        <p:grpSpPr>
          <a:xfrm>
            <a:off x="682560" y="1812960"/>
            <a:ext cx="7632000" cy="3599280"/>
            <a:chOff x="682560" y="1812960"/>
            <a:chExt cx="7632000" cy="3599280"/>
          </a:xfrm>
        </p:grpSpPr>
        <p:cxnSp>
          <p:nvCxnSpPr>
            <p:cNvPr id="175" name="_s1028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473800" y="227592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29"/>
            <p:cNvCxnSpPr>
              <a:stCxn id="179" idx="0"/>
              <a:endCxn id="177" idx="2"/>
            </p:cNvCxnSpPr>
            <p:nvPr/>
          </p:nvCxnSpPr>
          <p:spPr>
            <a:xfrm flipV="1">
              <a:off x="4498560" y="3251880"/>
              <a:ext cx="3600" cy="72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0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2802960" y="2276280"/>
              <a:ext cx="720360" cy="2671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031"/>
            <p:cNvSpPr/>
            <p:nvPr/>
          </p:nvSpPr>
          <p:spPr>
            <a:xfrm>
              <a:off x="3353760" y="181296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Comic Sans MS"/>
                </a:rPr>
                <a:t>результа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_s1032"/>
            <p:cNvSpPr/>
            <p:nvPr/>
          </p:nvSpPr>
          <p:spPr>
            <a:xfrm>
              <a:off x="6825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езентация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33537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убликаци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6024960" y="3972600"/>
              <a:ext cx="228960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4:34:02Z</dcterms:created>
  <dc:creator>Андрей</dc:creator>
  <dc:description/>
  <dc:language>en-US</dc:language>
  <cp:lastModifiedBy>ZooM</cp:lastModifiedBy>
  <dcterms:modified xsi:type="dcterms:W3CDTF">2013-10-22T12:56:49Z</dcterms:modified>
  <cp:revision>6</cp:revision>
  <dc:subject/>
  <dc:title>У истоков зодчества.</dc:title>
</cp:coreProperties>
</file>