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BEC-F148-4458-B932-7AC54FDD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432-4144-4801-87CB-D2B81F7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877-BC02-46E5-BE54-DDF9AE9B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266-9A26-473D-B9DA-5D3246BC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058F-8DCC-4723-B8F2-BE4D0DB9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AE2-13D5-415F-A73A-CE2FF98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1272-96F1-405C-8310-2D81ADD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37EE-119D-4263-8558-0E665625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6CC5-DF5F-427C-B8A5-70CA906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EE0-7347-41B2-982E-E1A7219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8394-972C-4507-8C97-7A6F3AD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817-29F8-4419-B1D2-145AFDC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86A-CEE6-493B-957D-4B04974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AAC-C7B5-4E9D-BA84-2BFF344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C44-9254-4209-A808-B5D594B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5AE5-DF6F-4C5B-A985-BAADD10E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FF8-DF00-41E2-813B-6D782272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27852-7BA9-4070-BDF2-927B7C52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04103-02DB-4C40-B17C-668F67E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468C3-AE3E-450E-B3FB-34778DF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32837-5C76-4212-9652-F9E5AF08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D6069-F050-4DB7-99F1-1E5FACF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11A-BEE0-4B0C-ACC5-7AF0B81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DE1D4-8306-4C32-933C-64A3F7A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6B504-6D0D-4F0F-ADC0-4044930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C3C93-6F16-4CF4-B59A-D241C50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FCE29-0FC9-49C1-A897-B59E86A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41525-7E54-46F9-9676-2E6236B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93656-1D43-41D5-98E9-D1A009A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62B5B-F4A5-46FB-AC10-C7B46318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E110-40F6-4805-A169-C4110651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C473-C73E-4E1B-B4AD-2FA6733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5028-FE97-4C7B-ABF3-F9D8AA7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3DD-8797-47D2-A9E3-123997B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0E74-9F0A-4CD5-9B8B-CC56197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5550-D0E1-439C-8B7E-FAAEF0E4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6647-AAB5-49AE-A4C9-3CD23679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144F-330D-42E9-92B4-21A2344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8EDE-53F7-41E7-A3FB-CF56BD6C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9592-2EEA-49F6-ACE0-20B2795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16D1-EED8-4315-A982-87548AA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3093-65C4-4E0A-81BC-6113BFD5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A70E-0EDE-4E5F-885F-B0C2B8FA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DAB99-001F-45CD-800D-C2CD3952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9ED-E45B-4003-9EBE-E2B162A1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DC478-08EA-4E3F-A44F-25D8637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2D640-823E-475F-8071-AA6AB8BA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4AFD1-E28D-451E-8EE5-D8EEEF7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11881-82D9-4376-8C4B-FEB4BAF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F1EA6-9C2C-4CEE-A795-4C3A23E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09A4E-3FAA-4E44-BB88-043570C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40118-6ADE-4A3F-A8A8-4A2BE3C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44011-81E8-42F2-8C9E-E72371D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34ED2-709D-4DD1-90C3-0F6EE8D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C9C07-C091-4B9A-829F-4336CA58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44B-3083-420C-9BE3-8A39271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93D40-C3EA-4A8C-AB6F-32D1D6EA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3FB9C-0F4A-4532-9D5B-F1A2034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1693A-8D81-46FA-929C-5B11175E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3B60E-7A2C-47A5-9069-5920361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037FC-1CA7-40AD-A9FA-C00367D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6C2DD-BDB7-408F-B63C-7112BF44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6CA59-A029-480D-AE3D-58E59D47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C6679-6235-42F2-8E69-5B90DEB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55EFF-094A-4434-AA3E-811503B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1DF34-A6E7-4519-A433-572D414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BE3-4E61-4CFC-9BBF-EDDCA48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D8264-CA78-4440-8C11-DC5723A4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47129-89E3-4F2C-84E4-3A7CAFC1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01BBB-2271-4E5F-9735-7C716493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DC361-00D1-4670-9348-D0826014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B14BD-1FE8-4BCE-8EF8-A6B17253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20E4B-2DDC-4429-A7C2-DA4EAFB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2683B-404A-4B3A-B921-D5D3C8D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3F337-3005-4EF8-A6A0-C4CDE9F7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B2E72-1E4F-40D4-AEB1-BCDFBB0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F422B-D30B-4715-AD84-3E15064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A66-469F-4592-86B7-FEDD757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000B3-A5C9-49C1-B4FC-8461F307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C2C79-F2A1-467E-B13C-057E2B3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CB38B-7742-4066-A55E-68C9CC0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A1A4-E369-4A82-AA54-4415A8E7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A02E7-2303-45D7-8D4E-EB31F639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EFF-51E3-42F2-90AD-4321AFB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389-83BA-4F1C-8D50-5FADAF8DA2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F77-483C-4B28-8C9C-C86B8E1C43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87F-ABE1-4C95-9972-D425319A34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B8C-F523-41BC-B21C-F1BDEDB345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FB3B-C81B-45DB-A09B-EBF9C9DBB3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A02-A483-4288-94E6-ED4B6AEB5A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08D-D282-43A7-9600-F6C7472CA2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2680" y="714240"/>
            <a:ext cx="681516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ЧЕМУ НУЖНО ЕСТЬ МНОГО ОВОЩЕЙ И ФРУКТОВ? </a:t>
            </a:r>
            <a:br>
              <a:rPr sz="3000"/>
            </a:br>
            <a:br>
              <a:rPr sz="30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РОК ОКРУЖАЮЩЕГО МИРА В 1 КЛАССЕ ПО ПРОГРАММЕ «ШКОЛА РОССИИ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ЧИТЕЛЬ НАЧАЛЬНЫХ КЛАССОВ</a:t>
            </a: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ШЕУДЖЕН МАРИНА ЗАУРБИЕВНА</a:t>
            </a: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Долгожданный дан звонок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Начинается урок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ЗНАКОМСТВО С ВИТАМИНАМИ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2571840" cy="4572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27576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3000240" y="1857240"/>
            <a:ext cx="240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БЕСЕДА О ВИТАМИНАХ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28760" y="1600200"/>
            <a:ext cx="7786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ТОГ УРОКА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3920"/>
            <a:ext cx="3657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чему надо есть продукты, в которых есть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хорошо расти, хорошо видеть и иметь крепкие зубы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быть сильным, иметь хороший аппетит, не огорчаться и не плакать по пустякам.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реже простужать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быть бодрым, быстрее выздоравливать при болезн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70320" y="1600200"/>
            <a:ext cx="3657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что будет с Муравьишкой, если он будет есть только морковк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Он все равно может заболеть, т.к. он не ест витамины В и С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Нужно есть все овощи и фрукты, потому что в них разные витамины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6357960" y="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Ребята! Не забывайте перед едой хорошо мыть овощи и фрукты!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А почему — подумайте сами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ГРА «ПРАВИЛА ВЕЖЛИВОСТИ».</a:t>
            </a:r>
            <a:br>
              <a:rPr sz="3000"/>
            </a:br>
            <a:r>
              <a:rPr b="0" lang="ru-RU" sz="1300" spc="-1" strike="noStrike">
                <a:solidFill>
                  <a:srgbClr val="4e5b6f"/>
                </a:solidFill>
                <a:latin typeface="Century Schoolbook"/>
              </a:rPr>
              <a:t>УЧИТЕЛЬ ЧИТАЕТ ПРЕДЛОЖЕНИЯ, ЕСЛИ ЭТОГО НЕЛЬЗЯ ДЕЛАТЬ, ТО УЧЕНИКИ РИСУЮТ КРАСНЫЙ КРУЖОК, А ЕСЛИ МОЖНО, ТО ЗЕЛЕНЫЙ.</a:t>
            </a:r>
            <a:endParaRPr b="0" lang="en-US" sz="13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  Ветки не ломайте, деревья не качайте, ни травинку, ни лист зря не рвите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 В лесу можно поиграть: листьями побросаться, венки плести, букеты нарвать. Подумаешь, много зелени - еще выраст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  Наконец-то в лесу можно пошуметь, покричать, поаукать и, главное, никому не помешаешь! Ведь людей н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 Старайтесь не шуметь, а то лес испугается, затаиться, и вы не узнаете ни одной тайн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  Пучеглазую лягушку, ползучего ужа, неповоротливую жабу, противных гусениц можно прогнать, а лучше бы совсем не было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6. Звери всякие нужны — звери всякие важны. Каждый из них в природе делает свое дело. Не пугайте животных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7. Пришел на луг, нарви большой букет цветов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8. Не ловите бабочек, они так нужны цветам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270320" y="1714680"/>
            <a:ext cx="3657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ПРОВЕРКА ЗАДАНИЯ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Овал 4"/>
          <p:cNvSpPr/>
          <p:nvPr/>
        </p:nvSpPr>
        <p:spPr>
          <a:xfrm>
            <a:off x="685800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5"/>
          <p:cNvSpPr/>
          <p:nvPr/>
        </p:nvSpPr>
        <p:spPr>
          <a:xfrm>
            <a:off x="592920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6"/>
          <p:cNvSpPr/>
          <p:nvPr/>
        </p:nvSpPr>
        <p:spPr>
          <a:xfrm>
            <a:off x="5000760" y="3286080"/>
            <a:ext cx="78552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407196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314316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2214720" y="3214800"/>
            <a:ext cx="78552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0"/>
          <p:cNvSpPr/>
          <p:nvPr/>
        </p:nvSpPr>
        <p:spPr>
          <a:xfrm>
            <a:off x="1285920" y="3214800"/>
            <a:ext cx="78588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1"/>
          <p:cNvSpPr/>
          <p:nvPr/>
        </p:nvSpPr>
        <p:spPr>
          <a:xfrm>
            <a:off x="357120" y="3214800"/>
            <a:ext cx="785880" cy="7142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РАБОТА НАД ТЕМОЙ УРОКА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жарком солнышке подсо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 рвется из стручков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жде чем его мы съел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наплакаться успел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 круглый и красный, Как глаз светофор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грядке нет сочней 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6143760" y="1928880"/>
            <a:ext cx="2028600" cy="1847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4429080" y="3786120"/>
            <a:ext cx="18288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красно снаружи, Бело внут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зеленым хохолком на голов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том — в огороде, Свежие, зелены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зимою — в бочке, Крепкие, солены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286160" y="1714680"/>
            <a:ext cx="3648240" cy="1857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4071960" y="4000680"/>
            <a:ext cx="27860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лтый, круглый, ты откуда? —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ямо с солнечного ю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 на солнышко похож Можешь съесть меня, но тольк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дели сперва на доль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меня ты назовешь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 с кулачок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асный, желтый бочок. Тронешь пальцем — гладко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 откусишь сладк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715000" y="1571760"/>
            <a:ext cx="2138400" cy="207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4286160" y="4000680"/>
            <a:ext cx="2357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ОТГАДАЙ РЕБУС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ана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ая соединительная линия 5"/>
          <p:cNvSpPr/>
          <p:nvPr/>
        </p:nvSpPr>
        <p:spPr>
          <a:xfrm>
            <a:off x="1143000" y="3214800"/>
            <a:ext cx="2143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714920" y="1814400"/>
            <a:ext cx="2556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ощи                                           Фрук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7313760" cy="4572000"/>
          </a:xfrm>
          <a:prstGeom prst="rect">
            <a:avLst/>
          </a:prstGeom>
          <a:ln w="0">
            <a:noFill/>
          </a:ln>
        </p:spPr>
      </p:pic>
      <p:cxnSp>
        <p:nvCxnSpPr>
          <p:cNvPr id="386" name="Прямая со стрелкой 5"/>
          <p:cNvCxnSpPr/>
          <p:nvPr/>
        </p:nvCxnSpPr>
        <p:spPr>
          <a:xfrm>
            <a:off x="1356120" y="2000160"/>
            <a:ext cx="14364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7" name="Прямая со стрелкой 7"/>
          <p:cNvCxnSpPr/>
          <p:nvPr/>
        </p:nvCxnSpPr>
        <p:spPr>
          <a:xfrm>
            <a:off x="1428840" y="2000160"/>
            <a:ext cx="107208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8" name="Прямая со стрелкой 9"/>
          <p:cNvCxnSpPr/>
          <p:nvPr/>
        </p:nvCxnSpPr>
        <p:spPr>
          <a:xfrm>
            <a:off x="1571400" y="2000160"/>
            <a:ext cx="2215080" cy="572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9" name="Прямая со стрелкой 11"/>
          <p:cNvCxnSpPr/>
          <p:nvPr/>
        </p:nvCxnSpPr>
        <p:spPr>
          <a:xfrm>
            <a:off x="1499040" y="1999800"/>
            <a:ext cx="1358280" cy="1786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0" name="Прямая со стрелкой 13"/>
          <p:cNvCxnSpPr/>
          <p:nvPr/>
        </p:nvCxnSpPr>
        <p:spPr>
          <a:xfrm>
            <a:off x="1143000" y="2000160"/>
            <a:ext cx="28656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1" name="Прямая со стрелкой 15"/>
          <p:cNvCxnSpPr/>
          <p:nvPr/>
        </p:nvCxnSpPr>
        <p:spPr>
          <a:xfrm>
            <a:off x="1213200" y="1999800"/>
            <a:ext cx="786600" cy="4001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2" name="Прямая со стрелкой 17"/>
          <p:cNvCxnSpPr/>
          <p:nvPr/>
        </p:nvCxnSpPr>
        <p:spPr>
          <a:xfrm>
            <a:off x="1428840" y="2000160"/>
            <a:ext cx="200088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3" name="Прямая со стрелкой 19"/>
          <p:cNvCxnSpPr/>
          <p:nvPr/>
        </p:nvCxnSpPr>
        <p:spPr>
          <a:xfrm>
            <a:off x="1428840" y="2071440"/>
            <a:ext cx="1715040" cy="4072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4" name="Прямая со стрелкой 21"/>
          <p:cNvCxnSpPr/>
          <p:nvPr/>
        </p:nvCxnSpPr>
        <p:spPr>
          <a:xfrm>
            <a:off x="1571760" y="1999800"/>
            <a:ext cx="3572640" cy="42872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5" name="Прямая со стрелкой 23"/>
          <p:cNvCxnSpPr/>
          <p:nvPr/>
        </p:nvCxnSpPr>
        <p:spPr>
          <a:xfrm flipH="1">
            <a:off x="5142960" y="1928880"/>
            <a:ext cx="572040" cy="9295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6" name="Прямая со стрелкой 25"/>
          <p:cNvCxnSpPr/>
          <p:nvPr/>
        </p:nvCxnSpPr>
        <p:spPr>
          <a:xfrm flipH="1">
            <a:off x="4285800" y="1928880"/>
            <a:ext cx="1215360" cy="1929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7" name="Прямая со стрелкой 27"/>
          <p:cNvCxnSpPr/>
          <p:nvPr/>
        </p:nvCxnSpPr>
        <p:spPr>
          <a:xfrm flipH="1">
            <a:off x="5071320" y="2071440"/>
            <a:ext cx="857880" cy="3072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8" name="Прямая со стрелкой 29"/>
          <p:cNvCxnSpPr/>
          <p:nvPr/>
        </p:nvCxnSpPr>
        <p:spPr>
          <a:xfrm flipH="1">
            <a:off x="3285360" y="1857240"/>
            <a:ext cx="2143800" cy="25725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9" name="Прямая со стрелкой 31"/>
          <p:cNvCxnSpPr/>
          <p:nvPr/>
        </p:nvCxnSpPr>
        <p:spPr>
          <a:xfrm>
            <a:off x="6000840" y="1928520"/>
            <a:ext cx="429120" cy="1143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0" name="Прямая со стрелкой 33"/>
          <p:cNvCxnSpPr/>
          <p:nvPr/>
        </p:nvCxnSpPr>
        <p:spPr>
          <a:xfrm>
            <a:off x="5999760" y="1999800"/>
            <a:ext cx="214920" cy="2358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1" name="Прямая со стрелкой 35"/>
          <p:cNvCxnSpPr/>
          <p:nvPr/>
        </p:nvCxnSpPr>
        <p:spPr>
          <a:xfrm flipH="1">
            <a:off x="1928520" y="1999080"/>
            <a:ext cx="3643920" cy="15008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бята, а как вы отличаете овощи от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любит есть овощи и фрукт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нужно есть много овощей и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Овощей и фруктов нужно есть как можно больше, потому что в них много витаминов и других полезных веществ. Без витаминов человек более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2114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1:49:47Z</dcterms:created>
  <dc:creator>Игорёк</dc:creator>
  <dc:description/>
  <dc:language>en-US</dc:language>
  <cp:lastModifiedBy>Марина</cp:lastModifiedBy>
  <dcterms:modified xsi:type="dcterms:W3CDTF">2012-02-08T08:29:07Z</dcterms:modified>
  <cp:revision>16</cp:revision>
  <dc:subject/>
  <dc:title>Почему нужно есть много овощей и фруктов?</dc:title>
</cp:coreProperties>
</file>