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C04-5F31-45EF-8BF0-5158EE5B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53B-D538-4991-824F-CD43BD2D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EE2-E536-4E9F-B999-AA371CCC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485-97CA-4C35-AA28-6D96D41A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EC4-087A-4CF8-8ACD-62797555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57C-C0A1-4FCE-A241-E19879A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A588-0697-406E-BB48-257AA72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8B34-BE0F-4BDC-A38F-2A5E194E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1CD-D120-4268-9E40-1C1C61D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0AA9-2B22-495C-A79C-67360E2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2C10-F4B6-40D9-B614-E86132F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7CA-6B59-4430-AAD0-F49D519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744F-3F18-4C03-9B11-C61888F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4C7-BA3C-4928-B7F2-943A12F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5DC8-6E17-403A-8DA2-E284014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1D04-F865-42CC-8897-A102FAD0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B05B-83A4-4B19-B50A-E4906AC5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2CFD6-02B7-4EDE-8841-FD16D2E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E341D-329F-4957-8682-4CD39C2D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3B010-5B90-4944-9178-C11B05F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E7203-2640-4D86-A1E1-3C8F89F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4D3FF-AE9A-4A12-B514-A3E9F51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BCD-2166-4B04-99E6-45D780B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5B3A3-387D-4CF6-8C35-1CCE0C69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A02C3-9753-40FA-8C36-1C84A6B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74DAF-DE45-44FF-94D1-BFF6593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1B1F4-86B1-4F3D-AED3-BE1D7BB8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97F23-4ADB-44A0-A077-EC6A8596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859E3-0737-40E5-BA84-382E258F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BBDA5-AE7A-4F6D-A9E7-4673C9DE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4774-13F6-4086-A7BE-B5AD597B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50CF-66DF-42DB-AAFA-F8B912E2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7F76-4B50-4ECD-B28C-02BB6AE6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486-E3E2-4391-A0FC-9A3C1A8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FEBF-6C2A-4CE9-9F1A-B2F6AA7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08D8-1EA0-4581-8CE8-008A7E8D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183C-A8DA-49E0-BDFF-A56B877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DFAE-0832-47BB-A8DD-B808FF8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B5DD-AF1B-4F6A-A2A9-D789EB75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CAB80-F168-4DCA-AE11-76DC412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1E74-9FD5-44CF-8FF4-617DCCD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C621-56C4-42A4-91F4-810FAD66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8CBC-0DB9-481B-B349-277B81FD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EB9C5-778B-4527-95C4-40CEBD3B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E2B-63BC-4075-AFE4-F1CB5E0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02BCC-8A30-4D66-9288-5360C7AE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A57F6-A732-4D9F-92BD-DD498DB1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C2874-E94D-4327-B7DA-542691BE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98061-CDF0-441B-83DE-B853482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D20AC-A4AA-4150-8860-CDF665C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FD266-1BFC-4A72-ADFF-8EE1C42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24CFA-25C4-43E4-92EC-8C4FC69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7185A-D7E4-41CF-BC64-63D12F3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47AE7-84BC-4ED3-AF80-892EC148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824B8-E3C4-4687-B66C-059536E7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E06-B59F-41DE-A459-D036BC8B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456A7-56E8-4D26-81AD-35D25542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2B082-F43A-4DDA-8850-877B1417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1FAC9-974F-4988-B093-C2258595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0301E-A2EC-4A3B-AEDE-17C527E0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64E69-BDB5-405E-9FD2-D5EA2B92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CBFE3-73DE-4011-9924-543947D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B4CA3-A9D2-4D3E-83A3-A58DA3B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8A344-B868-4179-8D54-BCBE57AB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58B9F-05DB-484F-B649-3D3E4D5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712C3-F1C0-4045-B428-AAB45FF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740-30BF-4FF1-BD00-0C65B62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1D360-159C-490E-8630-6FE0973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58356-C9A7-42F7-9852-2BE4E76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2BD63-FFCC-4BBC-B44A-392A3ADA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ACDFF-7DBB-406E-8116-94DAF0B9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CFA98-1C91-44EC-A5FE-48EB839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CBD881-5718-4C84-B8E1-D7A09CBF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CFDC4-CC4D-4A2D-8DF2-6DD9CE5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3DAA0-7CE0-4F3F-80FF-3B697C8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9FC27-A5AD-4635-AAD2-EDD109B9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866E7-C89E-4DCB-ABF0-29F0B0AC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E5E-E0D0-4EE3-8BF1-A0AD1B3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DFF66-0A11-46AB-A0B4-FF6277F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4393A-B70C-4E8F-BAC1-3CDF2C3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07BFE-481D-43F5-8398-8AD9073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D73E0-0133-4ACD-B65E-5AB2DBE4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B7DE1-8201-4A3D-A3FD-97D61F40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77D-F215-4BD0-927B-54F8625D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D83B-C3B4-4A0E-8338-FC186D622A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89E-3F42-4782-88A5-8A7C3CC60F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518-8FA0-4DD0-9F3F-2DC298F21A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E71-1E4B-4BBA-B7DD-4452652E10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770-1726-42A2-B025-B60058020E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210B-9F70-46D2-915E-9575535ACD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437-B52D-4EAF-A590-FFF3F97A3F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2680" y="714240"/>
            <a:ext cx="681516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ЧЕМУ НУЖНО ЕСТЬ МНОГО ОВОЩЕЙ И ФРУКТОВ? </a:t>
            </a:r>
            <a:br>
              <a:rPr sz="3000"/>
            </a:br>
            <a:br>
              <a:rPr sz="30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РОК ОКРУЖАЮЩЕГО МИРА В 1 КЛАССЕ ПО ПРОГРАММЕ «ШКОЛА РОССИИ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ЧИТЕЛЬ НАЧАЛЬНЫХ КЛАССОВ</a:t>
            </a: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ШЕУДЖЕН МАРИНА ЗАУРБИЕВНА</a:t>
            </a: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Долгожданный дан звонок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Начинается урок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ЗНАКОМСТВО С ВИТАМИНАМИ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2571840" cy="4572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27576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3000240" y="1857240"/>
            <a:ext cx="240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БЕСЕДА О ВИТАМИНАХ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28760" y="1600200"/>
            <a:ext cx="7786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ТОГ УРОКА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3920"/>
            <a:ext cx="3657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чему надо есть продукты, в которых есть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хорошо расти, хорошо видеть и иметь крепкие зубы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быть сильным, иметь хороший аппетит, не огорчаться и не плакать по пустякам.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реже простужать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быть бодрым, быстрее выздоравливать при болезн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70320" y="1600200"/>
            <a:ext cx="3657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что будет с Муравьишкой, если он будет есть только морковк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Он все равно может заболеть, т.к. он не ест витамины В и С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Нужно есть все овощи и фрукты, потому что в них разные витамины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6357960" y="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Ребята! Не забывайте перед едой хорошо мыть овощи и фрукты!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А почему — подумайте сами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ГРА «ПРАВИЛА ВЕЖЛИВОСТИ».</a:t>
            </a:r>
            <a:br>
              <a:rPr sz="3000"/>
            </a:br>
            <a:r>
              <a:rPr b="0" lang="ru-RU" sz="1300" spc="-1" strike="noStrike">
                <a:solidFill>
                  <a:srgbClr val="4e5b6f"/>
                </a:solidFill>
                <a:latin typeface="Century Schoolbook"/>
              </a:rPr>
              <a:t>УЧИТЕЛЬ ЧИТАЕТ ПРЕДЛОЖЕНИЯ, ЕСЛИ ЭТОГО НЕЛЬЗЯ ДЕЛАТЬ, ТО УЧЕНИКИ РИСУЮТ КРАСНЫЙ КРУЖОК, А ЕСЛИ МОЖНО, ТО ЗЕЛЕНЫЙ.</a:t>
            </a:r>
            <a:endParaRPr b="0" lang="en-US" sz="13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  Ветки не ломайте, деревья не качайте, ни травинку, ни лист зря не рвите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 В лесу можно поиграть: листьями побросаться, венки плести, букеты нарвать. Подумаешь, много зелени - еще выраст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  Наконец-то в лесу можно пошуметь, покричать, поаукать и, главное, никому не помешаешь! Ведь людей н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 Старайтесь не шуметь, а то лес испугается, затаиться, и вы не узнаете ни одной тайн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  Пучеглазую лягушку, ползучего ужа, неповоротливую жабу, противных гусениц можно прогнать, а лучше бы совсем не было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6. Звери всякие нужны — звери всякие важны. Каждый из них в природе делает свое дело. Не пугайте животных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7. Пришел на луг, нарви большой букет цветов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8. Не ловите бабочек, они так нужны цветам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270320" y="1714680"/>
            <a:ext cx="3657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ПРОВЕРКА ЗАДАНИЯ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Овал 4"/>
          <p:cNvSpPr/>
          <p:nvPr/>
        </p:nvSpPr>
        <p:spPr>
          <a:xfrm>
            <a:off x="685800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5"/>
          <p:cNvSpPr/>
          <p:nvPr/>
        </p:nvSpPr>
        <p:spPr>
          <a:xfrm>
            <a:off x="592920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6"/>
          <p:cNvSpPr/>
          <p:nvPr/>
        </p:nvSpPr>
        <p:spPr>
          <a:xfrm>
            <a:off x="5000760" y="3286080"/>
            <a:ext cx="78552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407196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314316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2214720" y="3214800"/>
            <a:ext cx="78552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0"/>
          <p:cNvSpPr/>
          <p:nvPr/>
        </p:nvSpPr>
        <p:spPr>
          <a:xfrm>
            <a:off x="1285920" y="3214800"/>
            <a:ext cx="78588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1"/>
          <p:cNvSpPr/>
          <p:nvPr/>
        </p:nvSpPr>
        <p:spPr>
          <a:xfrm>
            <a:off x="357120" y="3214800"/>
            <a:ext cx="785880" cy="7142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РАБОТА НАД ТЕМОЙ УРОКА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жарком солнышке подсо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 рвется из стручков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жде чем его мы съел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наплакаться успел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 круглый и красный, Как глаз светофор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грядке нет сочней 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6143760" y="1928880"/>
            <a:ext cx="2028600" cy="1847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4429080" y="3786120"/>
            <a:ext cx="18288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красно снаружи, Бело внут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зеленым хохолком на голов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том — в огороде, Свежие, зелены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зимою — в бочке, Крепкие, солены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286160" y="1714680"/>
            <a:ext cx="3648240" cy="1857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4071960" y="4000680"/>
            <a:ext cx="27860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лтый, круглый, ты откуда? —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ямо с солнечного ю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 на солнышко похож Можешь съесть меня, но тольк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дели сперва на доль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меня ты назовешь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 с кулачок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асный, желтый бочок. Тронешь пальцем — гладко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 откусишь сладк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715000" y="1571760"/>
            <a:ext cx="2138400" cy="207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4286160" y="4000680"/>
            <a:ext cx="2357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ОТГАДАЙ РЕБУС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ана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ая соединительная линия 5"/>
          <p:cNvSpPr/>
          <p:nvPr/>
        </p:nvSpPr>
        <p:spPr>
          <a:xfrm>
            <a:off x="1143000" y="3214800"/>
            <a:ext cx="2143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714920" y="1814400"/>
            <a:ext cx="2556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ощи                                           Фрук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7313760" cy="4572000"/>
          </a:xfrm>
          <a:prstGeom prst="rect">
            <a:avLst/>
          </a:prstGeom>
          <a:ln w="0">
            <a:noFill/>
          </a:ln>
        </p:spPr>
      </p:pic>
      <p:cxnSp>
        <p:nvCxnSpPr>
          <p:cNvPr id="386" name="Прямая со стрелкой 5"/>
          <p:cNvCxnSpPr/>
          <p:nvPr/>
        </p:nvCxnSpPr>
        <p:spPr>
          <a:xfrm>
            <a:off x="1356120" y="2000160"/>
            <a:ext cx="14364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7" name="Прямая со стрелкой 7"/>
          <p:cNvCxnSpPr/>
          <p:nvPr/>
        </p:nvCxnSpPr>
        <p:spPr>
          <a:xfrm>
            <a:off x="1428840" y="2000160"/>
            <a:ext cx="107208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8" name="Прямая со стрелкой 9"/>
          <p:cNvCxnSpPr/>
          <p:nvPr/>
        </p:nvCxnSpPr>
        <p:spPr>
          <a:xfrm>
            <a:off x="1571400" y="2000160"/>
            <a:ext cx="2215080" cy="572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9" name="Прямая со стрелкой 11"/>
          <p:cNvCxnSpPr/>
          <p:nvPr/>
        </p:nvCxnSpPr>
        <p:spPr>
          <a:xfrm>
            <a:off x="1499040" y="1999800"/>
            <a:ext cx="1358280" cy="1786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0" name="Прямая со стрелкой 13"/>
          <p:cNvCxnSpPr/>
          <p:nvPr/>
        </p:nvCxnSpPr>
        <p:spPr>
          <a:xfrm>
            <a:off x="1143000" y="2000160"/>
            <a:ext cx="28656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1" name="Прямая со стрелкой 15"/>
          <p:cNvCxnSpPr/>
          <p:nvPr/>
        </p:nvCxnSpPr>
        <p:spPr>
          <a:xfrm>
            <a:off x="1213200" y="1999800"/>
            <a:ext cx="786600" cy="4001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2" name="Прямая со стрелкой 17"/>
          <p:cNvCxnSpPr/>
          <p:nvPr/>
        </p:nvCxnSpPr>
        <p:spPr>
          <a:xfrm>
            <a:off x="1428840" y="2000160"/>
            <a:ext cx="200088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3" name="Прямая со стрелкой 19"/>
          <p:cNvCxnSpPr/>
          <p:nvPr/>
        </p:nvCxnSpPr>
        <p:spPr>
          <a:xfrm>
            <a:off x="1428840" y="2071440"/>
            <a:ext cx="1715040" cy="4072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4" name="Прямая со стрелкой 21"/>
          <p:cNvCxnSpPr/>
          <p:nvPr/>
        </p:nvCxnSpPr>
        <p:spPr>
          <a:xfrm>
            <a:off x="1571760" y="1999800"/>
            <a:ext cx="3572640" cy="42872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5" name="Прямая со стрелкой 23"/>
          <p:cNvCxnSpPr/>
          <p:nvPr/>
        </p:nvCxnSpPr>
        <p:spPr>
          <a:xfrm flipH="1">
            <a:off x="5142960" y="1928880"/>
            <a:ext cx="572040" cy="9295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6" name="Прямая со стрелкой 25"/>
          <p:cNvCxnSpPr/>
          <p:nvPr/>
        </p:nvCxnSpPr>
        <p:spPr>
          <a:xfrm flipH="1">
            <a:off x="4285800" y="1928880"/>
            <a:ext cx="1215360" cy="1929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7" name="Прямая со стрелкой 27"/>
          <p:cNvCxnSpPr/>
          <p:nvPr/>
        </p:nvCxnSpPr>
        <p:spPr>
          <a:xfrm flipH="1">
            <a:off x="5071320" y="2071440"/>
            <a:ext cx="857880" cy="3072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8" name="Прямая со стрелкой 29"/>
          <p:cNvCxnSpPr/>
          <p:nvPr/>
        </p:nvCxnSpPr>
        <p:spPr>
          <a:xfrm flipH="1">
            <a:off x="3285360" y="1857240"/>
            <a:ext cx="2143800" cy="25725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9" name="Прямая со стрелкой 31"/>
          <p:cNvCxnSpPr/>
          <p:nvPr/>
        </p:nvCxnSpPr>
        <p:spPr>
          <a:xfrm>
            <a:off x="6000840" y="1928520"/>
            <a:ext cx="429120" cy="1143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0" name="Прямая со стрелкой 33"/>
          <p:cNvCxnSpPr/>
          <p:nvPr/>
        </p:nvCxnSpPr>
        <p:spPr>
          <a:xfrm>
            <a:off x="5999760" y="1999800"/>
            <a:ext cx="214920" cy="2358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1" name="Прямая со стрелкой 35"/>
          <p:cNvCxnSpPr/>
          <p:nvPr/>
        </p:nvCxnSpPr>
        <p:spPr>
          <a:xfrm flipH="1">
            <a:off x="1928520" y="1999080"/>
            <a:ext cx="3643920" cy="15008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бята, а как вы отличаете овощи от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любит есть овощи и фрукт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нужно есть много овощей и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Овощей и фруктов нужно есть как можно больше, потому что в них много витаминов и других полезных веществ. Без витаминов человек более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2114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1:49:47Z</dcterms:created>
  <dc:creator>Игорёк</dc:creator>
  <dc:description/>
  <dc:language>en-US</dc:language>
  <cp:lastModifiedBy>Марина</cp:lastModifiedBy>
  <dcterms:modified xsi:type="dcterms:W3CDTF">2012-02-08T08:29:07Z</dcterms:modified>
  <cp:revision>16</cp:revision>
  <dc:subject/>
  <dc:title>Почему нужно есть много овощей и фруктов?</dc:title>
</cp:coreProperties>
</file>