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5FB-8D36-475C-8A81-24CFF1EB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1CB-7637-43B2-A810-E98F71E0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91C-BB7A-44ED-B7E3-173B3991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2E5-0EA6-47A5-8955-5638899A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9A10-270B-405B-9CC3-414A64CC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DEE7-9A52-4368-9757-81CE4A49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283D-545C-431D-A03F-4BDA921B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CC0C-0EA4-47E2-B9C4-867BCC2E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1B4E-840A-491C-822E-DCBF8ECB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97EB-EB02-4677-8781-94580B73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222B-9DFB-437F-A76C-499FAC39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2B3-17E5-4967-8405-13F389A3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FC32-F606-4D3C-9EEF-494DC836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8B53-6AF5-41B1-86BE-6CD5BCFF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844A-74D7-4662-8F18-FB948C84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DFE4-1C4F-406A-8809-6E0A08BE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C034-37DE-42D8-A99D-0FD2A214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832BF-DB44-4B04-8183-B35FA955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E2421-9E89-43BC-9139-614DA027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E35B0-A2EA-4790-BEBA-10686E3B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99C73-6F4C-4CEC-8973-44FF1AC5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626ED-479C-44A9-BC2F-F38C01CB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AB5-A129-46FE-A6A6-17AEE217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CF81C-C5CE-48E5-B250-EB721420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6F3D8-5071-4225-A01D-59265A98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DB05F-016D-4DF6-96DA-263F57D5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0B676-F1B0-41AE-89F5-8577B4A1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002F0-C64B-49BC-84A1-C3B4F835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A23B0-6249-4745-9B69-B5DD3A39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89A92-F103-4F5F-A09C-425B9165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978D5-9E46-4E16-B9E4-6FDF72E6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D8126-EA68-480D-B3FE-C1536F59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716D4-B2CB-4482-9A6F-B56AD771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EB6-02B8-418D-826E-A68721D3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4F860-4A37-4C75-83AE-9E199FFD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80495-1853-4461-905A-390964D9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48CB3-CA5C-4822-A7A7-208C8361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8E510-34FA-4D04-A53F-28DF1602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9064A-F9CC-449F-BE7A-59FB7897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144E3-9A47-48DB-89D6-48128CCB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448C2-24B2-49BD-88B1-A5AB336F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54883-F39C-4A68-860C-4364618F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DE919-ABE6-49E3-95DC-42FA2CAF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14661-FDF2-491F-B081-97D9140D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C3D-59C3-4A3E-9A3C-EB4E2713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CEFD7-E5DE-4E79-B25F-6A56FC60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76692-2D36-41DC-BA39-4E15327F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07FB0-EF45-40BB-AC6E-B249BCDC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E9506-7672-42DE-8EBD-28CC0699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ED528-260E-4495-8BA1-B5A8E3EC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78CBB-5D5B-4512-B4E5-F62FA81C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1A160-D05C-4AEB-86AF-B07CEA34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1962E-525E-4EEB-BD4D-686D1CE8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BA3D5-8D1E-4E74-807C-6D24933E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FF997-73ED-4AA8-B2B0-2044C813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AE2-B770-42EC-BD2A-72338986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34DC2-0936-4014-BCB6-1E49549B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52A9C5-8956-4407-8E0A-C59387E4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9A6EC7-3442-42D0-BB5E-50719A25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B4BF7-000A-45A1-9610-9F0F4D22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C02BC6-FC64-4A00-A62C-1B79C18D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84452-7D80-4901-B34E-3034CB1D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F404C-9F1B-4AA4-8889-0FF71365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C76132-17EC-4C5C-AC14-6AEAC2E1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ACE8CA-6BDE-4930-8F40-A034B753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50732F-60FC-4E45-A87C-9A700A0A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1EA-7C1A-49FC-B7D7-F4F9D80E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031219-FD3D-466B-BCF2-EA6F76AD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136E33-9182-4059-B140-F724752F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A6315-5414-494E-83A9-CED98A31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E91079-664E-475F-84CB-94ADA335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8013E-6029-490D-8937-7233E439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7C9A3-1ABA-4816-9B42-F94EABE7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FFDE2F-7303-43D2-9DB3-EBD885FB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B5BE5A-4A9C-4EBC-9FD4-B1B767B6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6BBD09-E85D-46C0-8D51-A6ED3ADB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441A13-6F5D-479A-93AF-6220F0EC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9FC-688D-4A86-B019-1CE568B2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8D529-2290-44E8-83C1-918900B9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BCAB55-A7FD-49CD-A6A5-6D02AE98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CEF41F-669C-4EA6-9A6A-4D1B83EF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0EA976-F435-4A12-AE8D-4E9D6CF7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96E833-C82A-4F08-81F5-BF34A7BD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27E-0034-4AF6-A2E8-47D75E90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5BE1-5838-42EF-A45C-8DA87EA62DA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7D18-85D0-430F-82A6-ED345AC4E6F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203B-87D4-43C7-9EB8-04BAB1834D4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477A-3DEB-42C3-86E6-682D1ACC3D8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4C20-81D9-43D4-AA37-35FD51266D7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43D0-82ED-450E-9124-CD7B74836EB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9DC7-F319-4A0F-8C84-67A62962C66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42680" y="714240"/>
            <a:ext cx="681516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ПОЧЕМУ НУЖНО ЕСТЬ МНОГО ОВОЩЕЙ И ФРУКТОВ? </a:t>
            </a:r>
            <a:br>
              <a:rPr sz="3000"/>
            </a:br>
            <a:br>
              <a:rPr sz="3000"/>
            </a:br>
            <a:r>
              <a:rPr b="1" lang="ru-RU" sz="2200" spc="-1" strike="noStrike">
                <a:solidFill>
                  <a:srgbClr val="4e5b6f"/>
                </a:solidFill>
                <a:latin typeface="Century Schoolbook"/>
              </a:rPr>
              <a:t>УРОК ОКРУЖАЮЩЕГО МИРА В 1 КЛАССЕ ПО ПРОГРАММЕ «ШКОЛА РОССИИ»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4e5b6f"/>
                </a:solidFill>
                <a:latin typeface="Century Schoolbook"/>
              </a:rPr>
              <a:t>УЧИТЕЛЬ НАЧАЛЬНЫХ КЛАССОВ</a:t>
            </a:r>
            <a:br>
              <a:rPr sz="2200"/>
            </a:br>
            <a:r>
              <a:rPr b="1" lang="ru-RU" sz="2200" spc="-1" strike="noStrike">
                <a:solidFill>
                  <a:srgbClr val="4e5b6f"/>
                </a:solidFill>
                <a:latin typeface="Century Schoolbook"/>
              </a:rPr>
              <a:t>ШЕУДЖЕН МАРИНА ЗАУРБИЕВНА</a:t>
            </a:r>
            <a:endParaRPr b="0" lang="en-US" sz="2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Долгожданный дан звонок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Начинается урок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ЗНАКОМСТВО С ВИТАМИНАМИ.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5357880" y="1857240"/>
            <a:ext cx="2571840" cy="4572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"/>
          <p:cNvPicPr/>
          <p:nvPr/>
        </p:nvPicPr>
        <p:blipFill>
          <a:blip r:embed="rId2"/>
          <a:stretch/>
        </p:blipFill>
        <p:spPr>
          <a:xfrm>
            <a:off x="357120" y="1857240"/>
            <a:ext cx="2757600" cy="457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"/>
          <p:cNvPicPr/>
          <p:nvPr/>
        </p:nvPicPr>
        <p:blipFill>
          <a:blip r:embed="rId3"/>
          <a:stretch/>
        </p:blipFill>
        <p:spPr>
          <a:xfrm>
            <a:off x="3000240" y="1857240"/>
            <a:ext cx="2409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БЕСЕДА О ВИТАМИНАХ.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28760" y="1600200"/>
            <a:ext cx="77864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ИТОГ УРОКА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3920"/>
            <a:ext cx="3657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чему надо есть продукты, в которых есть витамин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(Чтобы хорошо расти, хорошо видеть и иметь крепкие зубы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ля чего нужен витамин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(Чтобы быть сильным, иметь хороший аппетит, не огорчаться и не плакать по пустякам.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ля чего нужен витамин </a:t>
            </a: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(Чтобы реже простужаться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entury Schoolbook"/>
              </a:rPr>
              <a:t>быть бодрым, быстрее выздоравливать при болезни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270320" y="1600200"/>
            <a:ext cx="3657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что будет с Муравьишкой, если он будет есть только морковк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(Он все равно может заболеть, т.к. он не ест витамины В и С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ой вывод можно сдела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(Нужно есть все овощи и фрукты, потому что в них разные витамины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6357960" y="0"/>
            <a:ext cx="24764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692280"/>
            <a:ext cx="746748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entury Schoolbook"/>
              </a:rPr>
              <a:t>Ребята! Не забывайте перед едой хорошо мыть овощи и фрукты!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entury Schoolbook"/>
              </a:rPr>
              <a:t>А почему — подумайте сами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ИГРА «ПРАВИЛА ВЕЖЛИВОСТИ».</a:t>
            </a:r>
            <a:br>
              <a:rPr sz="3000"/>
            </a:br>
            <a:r>
              <a:rPr b="0" lang="ru-RU" sz="1300" spc="-1" strike="noStrike">
                <a:solidFill>
                  <a:srgbClr val="4e5b6f"/>
                </a:solidFill>
                <a:latin typeface="Century Schoolbook"/>
              </a:rPr>
              <a:t>УЧИТЕЛЬ ЧИТАЕТ ПРЕДЛОЖЕНИЯ, ЕСЛИ ЭТОГО НЕЛЬЗЯ ДЕЛАТЬ, ТО УЧЕНИКИ РИСУЮТ КРАСНЫЙ КРУЖОК, А ЕСЛИ МОЖНО, ТО ЗЕЛЕНЫЙ.</a:t>
            </a:r>
            <a:endParaRPr b="0" lang="en-US" sz="13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1.  Ветки не ломайте, деревья не качайте, ни травинку, ни лист зря не рвите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2.  В лесу можно поиграть: листьями побросаться, венки плести, букеты нарвать. Подумаешь, много зелени - еще вырастет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3.  Наконец-то в лесу можно пошуметь, покричать, поаукать и, главное, никому не помешаешь! Ведь людей нет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4.  Старайтесь не шуметь, а то лес испугается, затаиться, и вы не узнаете ни одной тайны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5.  Пучеглазую лягушку, ползучего ужа, неповоротливую жабу, противных гусениц можно прогнать, а лучше бы совсем не было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6. Звери всякие нужны — звери всякие важны. Каждый из них в природе делает свое дело. Не пугайте животных!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7. Пришел на луг, нарви большой букет цветов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8. Не ловите бабочек, они так нужны цветам!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4270320" y="1714680"/>
            <a:ext cx="36576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ПРОВЕРКА ЗАДАНИЯ.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7" name="Овал 4"/>
          <p:cNvSpPr/>
          <p:nvPr/>
        </p:nvSpPr>
        <p:spPr>
          <a:xfrm>
            <a:off x="6858000" y="3286080"/>
            <a:ext cx="785880" cy="7146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5"/>
          <p:cNvSpPr/>
          <p:nvPr/>
        </p:nvSpPr>
        <p:spPr>
          <a:xfrm>
            <a:off x="5929200" y="3286080"/>
            <a:ext cx="785880" cy="714600"/>
          </a:xfrm>
          <a:prstGeom prst="ellipse">
            <a:avLst/>
          </a:prstGeom>
          <a:solidFill>
            <a:srgbClr val="ea157a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6"/>
          <p:cNvSpPr/>
          <p:nvPr/>
        </p:nvSpPr>
        <p:spPr>
          <a:xfrm>
            <a:off x="5000760" y="3286080"/>
            <a:ext cx="785520" cy="7146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7"/>
          <p:cNvSpPr/>
          <p:nvPr/>
        </p:nvSpPr>
        <p:spPr>
          <a:xfrm>
            <a:off x="4071960" y="3286080"/>
            <a:ext cx="785880" cy="714600"/>
          </a:xfrm>
          <a:prstGeom prst="ellipse">
            <a:avLst/>
          </a:prstGeom>
          <a:solidFill>
            <a:srgbClr val="ea157a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8"/>
          <p:cNvSpPr/>
          <p:nvPr/>
        </p:nvSpPr>
        <p:spPr>
          <a:xfrm>
            <a:off x="3143160" y="3286080"/>
            <a:ext cx="785880" cy="71460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9"/>
          <p:cNvSpPr/>
          <p:nvPr/>
        </p:nvSpPr>
        <p:spPr>
          <a:xfrm>
            <a:off x="2214720" y="3214800"/>
            <a:ext cx="785520" cy="714240"/>
          </a:xfrm>
          <a:prstGeom prst="ellipse">
            <a:avLst/>
          </a:prstGeom>
          <a:solidFill>
            <a:srgbClr val="ea157a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10"/>
          <p:cNvSpPr/>
          <p:nvPr/>
        </p:nvSpPr>
        <p:spPr>
          <a:xfrm>
            <a:off x="1285920" y="3214800"/>
            <a:ext cx="785880" cy="714240"/>
          </a:xfrm>
          <a:prstGeom prst="ellipse">
            <a:avLst/>
          </a:prstGeom>
          <a:solidFill>
            <a:srgbClr val="ea157a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11"/>
          <p:cNvSpPr/>
          <p:nvPr/>
        </p:nvSpPr>
        <p:spPr>
          <a:xfrm>
            <a:off x="357120" y="3214800"/>
            <a:ext cx="785880" cy="71424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РАБОТА НАД ТЕМОЙ УРОКА.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 жарком солнышке подсох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 рвется из стручков..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режде чем его мы съели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се наплакаться успели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н круглый и красный, Как глаз светофора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 грядке нет сочней ..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6143760" y="1928880"/>
            <a:ext cx="2028600" cy="18478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2"/>
          <a:stretch/>
        </p:blipFill>
        <p:spPr>
          <a:xfrm>
            <a:off x="4429080" y="3786120"/>
            <a:ext cx="18288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красно снаружи, Бело внутр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зеленым хохолком на голов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том — в огороде, Свежие, зеленые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зимою — в бочке, Крепкие, солены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4286160" y="1714680"/>
            <a:ext cx="3648240" cy="18572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4071960" y="4000680"/>
            <a:ext cx="27860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Желтый, круглый, ты откуда? —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ямо с солнечного юг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ам на солнышко похож Можешь съесть меня, но только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здели сперва на дольк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ак меня ты назовешь?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амо с кулачок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Красный, желтый бочок. Тронешь пальцем — гладко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 откусишь сладко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5715000" y="1571760"/>
            <a:ext cx="2138400" cy="2071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4286160" y="4000680"/>
            <a:ext cx="23576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5b6f"/>
                </a:solidFill>
                <a:latin typeface="Century Schoolbook"/>
              </a:rPr>
              <a:t>ОТГАДАЙ РЕБУС.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entury Schoolbook"/>
              </a:rPr>
              <a:t>ана</a:t>
            </a:r>
            <a:endParaRPr b="0" lang="en-US" sz="8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8800" spc="-1" strike="noStrike">
                <a:solidFill>
                  <a:srgbClr val="000000"/>
                </a:solidFill>
                <a:latin typeface="Century Schoolbook"/>
              </a:rPr>
              <a:t>с</a:t>
            </a:r>
            <a:endParaRPr b="0" lang="en-US" sz="8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Прямая соединительная линия 5"/>
          <p:cNvSpPr/>
          <p:nvPr/>
        </p:nvSpPr>
        <p:spPr>
          <a:xfrm>
            <a:off x="1143000" y="3214800"/>
            <a:ext cx="214308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714920" y="1814400"/>
            <a:ext cx="25560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вощи                                           Фрук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642960" y="2071800"/>
            <a:ext cx="7313760" cy="4572000"/>
          </a:xfrm>
          <a:prstGeom prst="rect">
            <a:avLst/>
          </a:prstGeom>
          <a:ln w="0">
            <a:noFill/>
          </a:ln>
        </p:spPr>
      </p:pic>
      <p:cxnSp>
        <p:nvCxnSpPr>
          <p:cNvPr id="386" name="Прямая со стрелкой 5"/>
          <p:cNvCxnSpPr/>
          <p:nvPr/>
        </p:nvCxnSpPr>
        <p:spPr>
          <a:xfrm>
            <a:off x="1356120" y="2000160"/>
            <a:ext cx="143640" cy="6433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87" name="Прямая со стрелкой 7"/>
          <p:cNvCxnSpPr/>
          <p:nvPr/>
        </p:nvCxnSpPr>
        <p:spPr>
          <a:xfrm>
            <a:off x="1428840" y="2000160"/>
            <a:ext cx="1072080" cy="6433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88" name="Прямая со стрелкой 9"/>
          <p:cNvCxnSpPr/>
          <p:nvPr/>
        </p:nvCxnSpPr>
        <p:spPr>
          <a:xfrm>
            <a:off x="1571400" y="2000160"/>
            <a:ext cx="2215080" cy="5724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89" name="Прямая со стрелкой 11"/>
          <p:cNvCxnSpPr/>
          <p:nvPr/>
        </p:nvCxnSpPr>
        <p:spPr>
          <a:xfrm>
            <a:off x="1499040" y="1999800"/>
            <a:ext cx="1358280" cy="17866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0" name="Прямая со стрелкой 13"/>
          <p:cNvCxnSpPr/>
          <p:nvPr/>
        </p:nvCxnSpPr>
        <p:spPr>
          <a:xfrm>
            <a:off x="1143000" y="2000160"/>
            <a:ext cx="286560" cy="3286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1" name="Прямая со стрелкой 15"/>
          <p:cNvCxnSpPr/>
          <p:nvPr/>
        </p:nvCxnSpPr>
        <p:spPr>
          <a:xfrm>
            <a:off x="1213200" y="1999800"/>
            <a:ext cx="786600" cy="40014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2" name="Прямая со стрелкой 17"/>
          <p:cNvCxnSpPr/>
          <p:nvPr/>
        </p:nvCxnSpPr>
        <p:spPr>
          <a:xfrm>
            <a:off x="1428840" y="2000160"/>
            <a:ext cx="2000880" cy="3286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3" name="Прямая со стрелкой 19"/>
          <p:cNvCxnSpPr/>
          <p:nvPr/>
        </p:nvCxnSpPr>
        <p:spPr>
          <a:xfrm>
            <a:off x="1428840" y="2071440"/>
            <a:ext cx="1715040" cy="40726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4" name="Прямая со стрелкой 21"/>
          <p:cNvCxnSpPr/>
          <p:nvPr/>
        </p:nvCxnSpPr>
        <p:spPr>
          <a:xfrm>
            <a:off x="1571760" y="1999800"/>
            <a:ext cx="3572640" cy="42872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5" name="Прямая со стрелкой 23"/>
          <p:cNvCxnSpPr/>
          <p:nvPr/>
        </p:nvCxnSpPr>
        <p:spPr>
          <a:xfrm flipH="1">
            <a:off x="5142960" y="1928880"/>
            <a:ext cx="572040" cy="9295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6" name="Прямая со стрелкой 25"/>
          <p:cNvCxnSpPr/>
          <p:nvPr/>
        </p:nvCxnSpPr>
        <p:spPr>
          <a:xfrm flipH="1">
            <a:off x="4285800" y="1928880"/>
            <a:ext cx="1215360" cy="19296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7" name="Прямая со стрелкой 27"/>
          <p:cNvCxnSpPr/>
          <p:nvPr/>
        </p:nvCxnSpPr>
        <p:spPr>
          <a:xfrm flipH="1">
            <a:off x="5071320" y="2071440"/>
            <a:ext cx="857880" cy="30726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8" name="Прямая со стрелкой 29"/>
          <p:cNvCxnSpPr/>
          <p:nvPr/>
        </p:nvCxnSpPr>
        <p:spPr>
          <a:xfrm flipH="1">
            <a:off x="3285360" y="1857240"/>
            <a:ext cx="2143800" cy="257256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99" name="Прямая со стрелкой 31"/>
          <p:cNvCxnSpPr/>
          <p:nvPr/>
        </p:nvCxnSpPr>
        <p:spPr>
          <a:xfrm>
            <a:off x="6000840" y="1928520"/>
            <a:ext cx="429120" cy="11437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400" name="Прямая со стрелкой 33"/>
          <p:cNvCxnSpPr/>
          <p:nvPr/>
        </p:nvCxnSpPr>
        <p:spPr>
          <a:xfrm>
            <a:off x="5999760" y="1999800"/>
            <a:ext cx="214920" cy="235836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401" name="Прямая со стрелкой 35"/>
          <p:cNvCxnSpPr/>
          <p:nvPr/>
        </p:nvCxnSpPr>
        <p:spPr>
          <a:xfrm flipH="1">
            <a:off x="1928520" y="1999080"/>
            <a:ext cx="3643920" cy="15008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бята, а как вы отличаете овощи от фруктов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любит есть овощи и фрукт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чему нужно есть много овощей и фруктов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entury Schoolbook"/>
              </a:rPr>
              <a:t>Овощей и фруктов нужно есть как можно больше, потому что в них много витаминов и других полезных веществ. Без витаминов человек болеет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928880" y="928800"/>
            <a:ext cx="21146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1:49:47Z</dcterms:created>
  <dc:creator>Игорёк</dc:creator>
  <dc:description/>
  <dc:language>en-US</dc:language>
  <cp:lastModifiedBy>Марина</cp:lastModifiedBy>
  <dcterms:modified xsi:type="dcterms:W3CDTF">2012-02-08T08:29:07Z</dcterms:modified>
  <cp:revision>16</cp:revision>
  <dc:subject/>
  <dc:title>Почему нужно есть много овощей и фруктов?</dc:title>
</cp:coreProperties>
</file>