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FCD-7BCA-4082-BCAE-3B37A115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FC8-D3C5-4843-816D-1237D397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D93-006D-4A01-ABFF-6F14B2B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B58-FF84-4364-95FC-90E32FBB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63B4-1EB1-444F-9E33-2FAE4205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CA6-60A9-4A9D-9E9C-182F609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BF9B-9DE3-4EED-B87A-D123A7A3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C6C-B61E-4981-AC83-5D16382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AD6-93AD-443F-A371-DCD464F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23B-7826-4F2A-B350-CEF0AE2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F3F-B009-4408-B884-8E04CEA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84B-802D-4E08-B93D-2460A64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4781-73DB-427D-9702-45427C1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4F41-DDA9-4942-B0F8-D5230C4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9E8-BF10-4BF1-BE9F-DA5F68E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2938-91F2-44B8-8F24-DC0931AB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6FF-D02B-454F-BA67-E88A1868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E6F-5FB6-4192-8D4C-EA0E4C5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77C-915E-4B0E-A950-54A8F0F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7F1-E106-4847-8142-365FFE5D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FE0-9578-45C0-A1F9-BDA6D19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6E2-49DA-4E42-BE44-EAE2C26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3F1-CD55-483F-9434-538C63B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F13-96BF-45B8-962C-05DB91EB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095-5F13-4B93-8AD9-BC821529EB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955-C9B5-4E54-8184-103BAC91C9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89000"/>
            <a:ext cx="835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м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2000" y="1763640"/>
            <a:ext cx="3375000" cy="317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7000" y="4959360"/>
            <a:ext cx="711180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лайд – ле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ставлена учителем математики Поназыревской средней общеобразовательной школы Орловой Н.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Garamond"/>
              </a:rPr>
              <a:t>Правиль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99864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- это </a:t>
            </a:r>
            <a:r>
              <a:rPr b="0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прямая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призма, основанием которой является правильный многоугольник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71640" y="3338640"/>
            <a:ext cx="1214280" cy="2295360"/>
            <a:chOff x="971640" y="3338640"/>
            <a:chExt cx="1214280" cy="2295360"/>
          </a:xfrm>
        </p:grpSpPr>
        <p:sp>
          <p:nvSpPr>
            <p:cNvPr id="350" name=""/>
            <p:cNvSpPr/>
            <p:nvPr/>
          </p:nvSpPr>
          <p:spPr>
            <a:xfrm>
              <a:off x="971640" y="3429000"/>
              <a:ext cx="121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1640" y="3429000"/>
              <a:ext cx="76500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736640" y="342900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1640" y="5184720"/>
              <a:ext cx="1214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1640" y="5184720"/>
              <a:ext cx="76500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736640" y="518472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71640" y="342900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6640" y="387828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85920" y="342900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1640" y="3338640"/>
              <a:ext cx="4464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85920" y="3654360"/>
              <a:ext cx="225360" cy="8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27360" y="3654360"/>
              <a:ext cx="13464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7360" y="3473280"/>
            <a:ext cx="1214640" cy="1890720"/>
            <a:chOff x="3357360" y="3473280"/>
            <a:chExt cx="1214640" cy="1890720"/>
          </a:xfrm>
        </p:grpSpPr>
        <p:sp>
          <p:nvSpPr>
            <p:cNvPr id="363" name=""/>
            <p:cNvSpPr/>
            <p:nvPr/>
          </p:nvSpPr>
          <p:spPr>
            <a:xfrm>
              <a:off x="3357720" y="3564000"/>
              <a:ext cx="1214280" cy="180000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2000" y="3564000"/>
              <a:ext cx="0" cy="1485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72000" y="5049720"/>
              <a:ext cx="90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357360" y="5049720"/>
              <a:ext cx="314280" cy="2700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985920" y="3473280"/>
              <a:ext cx="90360" cy="18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7720" y="3743280"/>
              <a:ext cx="179280" cy="4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897000" y="3833640"/>
              <a:ext cx="44280" cy="135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2000" y="3699000"/>
              <a:ext cx="179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211280" y="3564000"/>
              <a:ext cx="135000" cy="903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1640" y="3654360"/>
              <a:ext cx="2700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695920" y="3429000"/>
            <a:ext cx="1982880" cy="1935000"/>
            <a:chOff x="5695920" y="3429000"/>
            <a:chExt cx="1982880" cy="1935000"/>
          </a:xfrm>
        </p:grpSpPr>
        <p:sp>
          <p:nvSpPr>
            <p:cNvPr id="374" name=""/>
            <p:cNvSpPr/>
            <p:nvPr/>
          </p:nvSpPr>
          <p:spPr>
            <a:xfrm>
              <a:off x="6418440" y="4824360"/>
              <a:ext cx="8092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27720" y="482436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002000" y="5094360"/>
              <a:ext cx="67644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192360" y="536400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697000" y="4824360"/>
              <a:ext cx="721080" cy="2253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97360" y="5049720"/>
              <a:ext cx="49536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16640" y="351792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6280" y="351792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000920" y="3787920"/>
              <a:ext cx="6760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146280" y="4059360"/>
              <a:ext cx="85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695920" y="351792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95920" y="3743280"/>
              <a:ext cx="45072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697360" y="374292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146640" y="405936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002360" y="405936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677000" y="378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416640" y="351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227720" y="351900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67360" y="3564000"/>
              <a:ext cx="13500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921280" y="3878280"/>
              <a:ext cx="90720" cy="9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21640" y="3429000"/>
              <a:ext cx="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407000" y="3564000"/>
              <a:ext cx="13500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6640" y="3833640"/>
              <a:ext cx="9072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2000" y="3968640"/>
              <a:ext cx="0" cy="18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50920" y="5670720"/>
            <a:ext cx="26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равносторонний 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86280" y="5724360"/>
            <a:ext cx="27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86280" y="5670720"/>
            <a:ext cx="24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основании прави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-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17000" y="6354720"/>
            <a:ext cx="585720" cy="360360"/>
          </a:xfrm>
          <a:custGeom>
            <a:avLst/>
            <a:gdLst>
              <a:gd name="textAreaLeft" fmla="*/ 23040 w 585720"/>
              <a:gd name="textAreaRight" fmla="*/ 562680 w 585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5095" h="21600">
                <a:moveTo>
                  <a:pt x="0" y="0"/>
                </a:moveTo>
                <a:lnTo>
                  <a:pt x="35095" y="0"/>
                </a:lnTo>
                <a:lnTo>
                  <a:pt x="35095" y="21600"/>
                </a:lnTo>
                <a:lnTo>
                  <a:pt x="0" y="21600"/>
                </a:lnTo>
                <a:close/>
              </a:path>
              <a:path fill="lightenLess" w="35095" h="21600">
                <a:moveTo>
                  <a:pt x="0" y="0"/>
                </a:moveTo>
                <a:lnTo>
                  <a:pt x="35095" y="0"/>
                </a:lnTo>
                <a:lnTo>
                  <a:pt x="33695" y="1400"/>
                </a:lnTo>
                <a:lnTo>
                  <a:pt x="1400" y="1400"/>
                </a:lnTo>
                <a:close/>
              </a:path>
              <a:path fill="darken" w="35095" h="21600">
                <a:moveTo>
                  <a:pt x="35095" y="0"/>
                </a:moveTo>
                <a:lnTo>
                  <a:pt x="35095" y="21600"/>
                </a:lnTo>
                <a:lnTo>
                  <a:pt x="33695" y="20200"/>
                </a:lnTo>
                <a:lnTo>
                  <a:pt x="33695" y="1400"/>
                </a:lnTo>
                <a:close/>
              </a:path>
              <a:path fill="darkenLess" w="35095" h="21600">
                <a:moveTo>
                  <a:pt x="35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5" y="20200"/>
                </a:lnTo>
                <a:close/>
              </a:path>
              <a:path fill="lighten" w="35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5" h="21600">
                <a:moveTo>
                  <a:pt x="10541" y="7493"/>
                </a:moveTo>
                <a:lnTo>
                  <a:pt x="14048" y="7493"/>
                </a:lnTo>
                <a:lnTo>
                  <a:pt x="14048" y="12828"/>
                </a:lnTo>
                <a:cubicBezTo>
                  <a:pt x="14048" y="13751"/>
                  <a:pt x="14849" y="14482"/>
                  <a:pt x="15885" y="14482"/>
                </a:cubicBezTo>
                <a:lnTo>
                  <a:pt x="17547" y="14482"/>
                </a:lnTo>
                <a:cubicBezTo>
                  <a:pt x="18583" y="14482"/>
                  <a:pt x="19384" y="13751"/>
                  <a:pt x="19384" y="12828"/>
                </a:cubicBezTo>
                <a:lnTo>
                  <a:pt x="19384" y="7493"/>
                </a:lnTo>
                <a:lnTo>
                  <a:pt x="17547" y="7493"/>
                </a:lnTo>
                <a:lnTo>
                  <a:pt x="21055" y="3985"/>
                </a:lnTo>
                <a:lnTo>
                  <a:pt x="24728" y="7493"/>
                </a:lnTo>
                <a:lnTo>
                  <a:pt x="22891" y="7493"/>
                </a:lnTo>
                <a:lnTo>
                  <a:pt x="22891" y="12828"/>
                </a:lnTo>
                <a:cubicBezTo>
                  <a:pt x="22891" y="15596"/>
                  <a:pt x="20315" y="18155"/>
                  <a:pt x="17547" y="18155"/>
                </a:cubicBezTo>
                <a:lnTo>
                  <a:pt x="15885" y="18155"/>
                </a:lnTo>
                <a:cubicBezTo>
                  <a:pt x="13117" y="18155"/>
                  <a:pt x="10541" y="15596"/>
                  <a:pt x="1054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Garamond"/>
              </a:rPr>
              <a:t>Наклон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- это призма, боковые рёбра которой не перпендикулярны основанию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266640" y="3833640"/>
            <a:ext cx="2161080" cy="2386080"/>
            <a:chOff x="3266640" y="3833640"/>
            <a:chExt cx="2161080" cy="2386080"/>
          </a:xfrm>
        </p:grpSpPr>
        <p:sp>
          <p:nvSpPr>
            <p:cNvPr id="405" name=""/>
            <p:cNvSpPr/>
            <p:nvPr/>
          </p:nvSpPr>
          <p:spPr>
            <a:xfrm>
              <a:off x="3627360" y="3835440"/>
              <a:ext cx="134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7360" y="383544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257720" y="410508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976280" y="383544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67000" y="558972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67000" y="5589720"/>
              <a:ext cx="630360" cy="63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897360" y="585900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4572000" y="5589360"/>
              <a:ext cx="449280" cy="269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266640" y="383544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897000" y="4465800"/>
              <a:ext cx="360360" cy="175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020920" y="4105440"/>
              <a:ext cx="406440" cy="175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572000" y="3835440"/>
              <a:ext cx="40464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27360" y="3833640"/>
              <a:ext cx="0" cy="18907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7000" y="5589720"/>
              <a:ext cx="360360" cy="134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3600" y="5353200"/>
              <a:ext cx="176400" cy="339480"/>
            </a:xfrm>
            <a:custGeom>
              <a:avLst/>
              <a:gdLst/>
              <a:ahLst/>
              <a:rect l="l" t="t" r="r" b="b"/>
              <a:pathLst>
                <a:path w="111" h="214">
                  <a:moveTo>
                    <a:pt x="0" y="0"/>
                  </a:moveTo>
                  <a:cubicBezTo>
                    <a:pt x="22" y="6"/>
                    <a:pt x="48" y="9"/>
                    <a:pt x="65" y="28"/>
                  </a:cubicBezTo>
                  <a:cubicBezTo>
                    <a:pt x="80" y="45"/>
                    <a:pt x="102" y="84"/>
                    <a:pt x="102" y="84"/>
                  </a:cubicBezTo>
                  <a:cubicBezTo>
                    <a:pt x="105" y="112"/>
                    <a:pt x="111" y="140"/>
                    <a:pt x="111" y="168"/>
                  </a:cubicBezTo>
                  <a:cubicBezTo>
                    <a:pt x="111" y="184"/>
                    <a:pt x="102" y="198"/>
                    <a:pt x="102" y="214"/>
                  </a:cubicBezTo>
                </a:path>
              </a:pathLst>
            </a:custGeom>
            <a:noFill/>
            <a:ln w="28440">
              <a:solidFill>
                <a:srgbClr val="cc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1280" y="4643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Garamond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993080" y="6308640"/>
            <a:ext cx="539640" cy="40644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8673" h="21600">
                <a:moveTo>
                  <a:pt x="0" y="0"/>
                </a:moveTo>
                <a:lnTo>
                  <a:pt x="28673" y="0"/>
                </a:lnTo>
                <a:lnTo>
                  <a:pt x="28673" y="21600"/>
                </a:lnTo>
                <a:lnTo>
                  <a:pt x="0" y="21600"/>
                </a:lnTo>
                <a:close/>
              </a:path>
              <a:path fill="lightenLess" w="28673" h="21600">
                <a:moveTo>
                  <a:pt x="0" y="0"/>
                </a:moveTo>
                <a:lnTo>
                  <a:pt x="28673" y="0"/>
                </a:lnTo>
                <a:lnTo>
                  <a:pt x="27273" y="1400"/>
                </a:lnTo>
                <a:lnTo>
                  <a:pt x="1400" y="1400"/>
                </a:lnTo>
                <a:close/>
              </a:path>
              <a:path fill="darken" w="28673" h="21600">
                <a:moveTo>
                  <a:pt x="28673" y="0"/>
                </a:moveTo>
                <a:lnTo>
                  <a:pt x="28673" y="21600"/>
                </a:lnTo>
                <a:lnTo>
                  <a:pt x="27273" y="20200"/>
                </a:lnTo>
                <a:lnTo>
                  <a:pt x="27273" y="1400"/>
                </a:lnTo>
                <a:close/>
              </a:path>
              <a:path fill="darkenLess" w="28673" h="21600">
                <a:moveTo>
                  <a:pt x="28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73" y="20200"/>
                </a:lnTo>
                <a:close/>
              </a:path>
              <a:path fill="lighten" w="28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73" h="21600">
                <a:moveTo>
                  <a:pt x="7330" y="7493"/>
                </a:moveTo>
                <a:lnTo>
                  <a:pt x="10837" y="7493"/>
                </a:lnTo>
                <a:lnTo>
                  <a:pt x="10837" y="12828"/>
                </a:lnTo>
                <a:cubicBezTo>
                  <a:pt x="10837" y="13751"/>
                  <a:pt x="11638" y="14482"/>
                  <a:pt x="12674" y="14482"/>
                </a:cubicBezTo>
                <a:lnTo>
                  <a:pt x="14336" y="14482"/>
                </a:lnTo>
                <a:cubicBezTo>
                  <a:pt x="15372" y="14482"/>
                  <a:pt x="16173" y="13751"/>
                  <a:pt x="16173" y="12828"/>
                </a:cubicBezTo>
                <a:lnTo>
                  <a:pt x="16173" y="7493"/>
                </a:lnTo>
                <a:lnTo>
                  <a:pt x="14336" y="7493"/>
                </a:lnTo>
                <a:lnTo>
                  <a:pt x="17844" y="3985"/>
                </a:lnTo>
                <a:lnTo>
                  <a:pt x="21517" y="7493"/>
                </a:lnTo>
                <a:lnTo>
                  <a:pt x="19680" y="7493"/>
                </a:lnTo>
                <a:lnTo>
                  <a:pt x="19680" y="12828"/>
                </a:lnTo>
                <a:cubicBezTo>
                  <a:pt x="19680" y="15596"/>
                  <a:pt x="17104" y="18155"/>
                  <a:pt x="14336" y="18155"/>
                </a:cubicBezTo>
                <a:lnTo>
                  <a:pt x="12674" y="18155"/>
                </a:lnTo>
                <a:cubicBezTo>
                  <a:pt x="9906" y="18155"/>
                  <a:pt x="7330" y="15596"/>
                  <a:pt x="733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3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оверхность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6640" y="1088640"/>
            <a:ext cx="838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Garamond"/>
              </a:rPr>
              <a:t>Полная поверхность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Garamond"/>
              </a:rPr>
              <a:t>пол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baseline="-25000">
                <a:solidFill>
                  <a:srgbClr val="ffff00"/>
                </a:solidFill>
                <a:latin typeface="Garamond"/>
              </a:rPr>
              <a:t>Поверхность – это сумма площадей граней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1763640"/>
            <a:ext cx="8712360" cy="3267000"/>
            <a:chOff x="0" y="1763640"/>
            <a:chExt cx="8712360" cy="3267000"/>
          </a:xfrm>
        </p:grpSpPr>
        <p:sp>
          <p:nvSpPr>
            <p:cNvPr id="425" name=""/>
            <p:cNvSpPr/>
            <p:nvPr/>
          </p:nvSpPr>
          <p:spPr>
            <a:xfrm flipH="1">
              <a:off x="2411280" y="1763640"/>
              <a:ext cx="811440" cy="8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1640" y="1763640"/>
              <a:ext cx="900360" cy="8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3024360"/>
              <a:ext cx="421164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Garamond"/>
                </a:rPr>
                <a:t>Боковая поверхность </a:t>
              </a:r>
              <a:r>
                <a:rPr b="1" lang="en-US" sz="4000" spc="-1" strike="noStrike">
                  <a:solidFill>
                    <a:srgbClr val="ff3399"/>
                  </a:solidFill>
                  <a:latin typeface="Garamond"/>
                </a:rPr>
                <a:t>S</a:t>
              </a:r>
              <a:r>
                <a:rPr b="1" lang="ru-RU" sz="4000" spc="-1" strike="noStrike" baseline="-25000">
                  <a:solidFill>
                    <a:srgbClr val="ff3399"/>
                  </a:solidFill>
                  <a:latin typeface="Garamond"/>
                </a:rPr>
                <a:t>бок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86280" y="2933640"/>
              <a:ext cx="3826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Garamond"/>
                </a:rPr>
                <a:t>Поверхность оснований </a:t>
              </a:r>
              <a:r>
                <a:rPr b="1" lang="en-US" sz="4000" spc="-1" strike="noStrike">
                  <a:solidFill>
                    <a:srgbClr val="ff3399"/>
                  </a:solidFill>
                  <a:latin typeface="Garamond"/>
                </a:rPr>
                <a:t>S</a:t>
              </a:r>
              <a:r>
                <a:rPr b="1" lang="ru-RU" sz="4000" spc="-1" strike="noStrike" baseline="-25000">
                  <a:solidFill>
                    <a:srgbClr val="ff3399"/>
                  </a:solidFill>
                  <a:latin typeface="Garamond"/>
                </a:rPr>
                <a:t>ос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807000" y="3384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50920" y="6399360"/>
            <a:ext cx="630000" cy="315720"/>
          </a:xfrm>
          <a:custGeom>
            <a:avLst/>
            <a:gdLst>
              <a:gd name="textAreaLeft" fmla="*/ 20160 w 630000"/>
              <a:gd name="textAreaRight" fmla="*/ 609840 w 6300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43077" h="21600">
                <a:moveTo>
                  <a:pt x="0" y="0"/>
                </a:moveTo>
                <a:lnTo>
                  <a:pt x="43077" y="0"/>
                </a:lnTo>
                <a:lnTo>
                  <a:pt x="43077" y="21600"/>
                </a:lnTo>
                <a:lnTo>
                  <a:pt x="0" y="21600"/>
                </a:lnTo>
                <a:close/>
              </a:path>
              <a:path fill="lightenLess" w="43077" h="21600">
                <a:moveTo>
                  <a:pt x="0" y="0"/>
                </a:moveTo>
                <a:lnTo>
                  <a:pt x="43077" y="0"/>
                </a:lnTo>
                <a:lnTo>
                  <a:pt x="41677" y="1400"/>
                </a:lnTo>
                <a:lnTo>
                  <a:pt x="1400" y="1400"/>
                </a:lnTo>
                <a:close/>
              </a:path>
              <a:path fill="darken" w="43077" h="21600">
                <a:moveTo>
                  <a:pt x="43077" y="0"/>
                </a:moveTo>
                <a:lnTo>
                  <a:pt x="43077" y="21600"/>
                </a:lnTo>
                <a:lnTo>
                  <a:pt x="41677" y="20200"/>
                </a:lnTo>
                <a:lnTo>
                  <a:pt x="41677" y="1400"/>
                </a:lnTo>
                <a:close/>
              </a:path>
              <a:path fill="darkenLess" w="43077" h="21600">
                <a:moveTo>
                  <a:pt x="43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7" y="20200"/>
                </a:lnTo>
                <a:close/>
              </a:path>
              <a:path fill="lighten" w="43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7" h="21600">
                <a:moveTo>
                  <a:pt x="14532" y="3794"/>
                </a:moveTo>
                <a:lnTo>
                  <a:pt x="28545" y="10800"/>
                </a:lnTo>
                <a:lnTo>
                  <a:pt x="1453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998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998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998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920" y="-36720"/>
            <a:ext cx="88660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Боковая поверхность прямой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5920" y="171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Теорема: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Боковая поверхность прямой призмы равна произведению периметра основания на длину бокового ребр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яма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-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гольная призма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… 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тороны основания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боковое ребр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оказать: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бок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Garamond"/>
              </a:rPr>
              <a:t>осн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7858080" y="6129360"/>
            <a:ext cx="674640" cy="368280"/>
          </a:xfrm>
          <a:custGeom>
            <a:avLst/>
            <a:gdLst>
              <a:gd name="textAreaLeft" fmla="*/ 23760 w 674640"/>
              <a:gd name="textAreaRight" fmla="*/ 650880 w 674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39551" h="21600">
                <a:moveTo>
                  <a:pt x="0" y="0"/>
                </a:moveTo>
                <a:lnTo>
                  <a:pt x="39551" y="0"/>
                </a:lnTo>
                <a:lnTo>
                  <a:pt x="39551" y="21600"/>
                </a:lnTo>
                <a:lnTo>
                  <a:pt x="0" y="21600"/>
                </a:lnTo>
                <a:close/>
              </a:path>
              <a:path fill="lightenLess" w="39551" h="21600">
                <a:moveTo>
                  <a:pt x="0" y="0"/>
                </a:moveTo>
                <a:lnTo>
                  <a:pt x="39551" y="0"/>
                </a:lnTo>
                <a:lnTo>
                  <a:pt x="38151" y="1400"/>
                </a:lnTo>
                <a:lnTo>
                  <a:pt x="1400" y="1400"/>
                </a:lnTo>
                <a:close/>
              </a:path>
              <a:path fill="darken" w="39551" h="21600">
                <a:moveTo>
                  <a:pt x="39551" y="0"/>
                </a:moveTo>
                <a:lnTo>
                  <a:pt x="39551" y="21600"/>
                </a:lnTo>
                <a:lnTo>
                  <a:pt x="38151" y="20200"/>
                </a:lnTo>
                <a:lnTo>
                  <a:pt x="38151" y="1400"/>
                </a:lnTo>
                <a:close/>
              </a:path>
              <a:path fill="darkenLess" w="39551" h="21600">
                <a:moveTo>
                  <a:pt x="39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1" y="20200"/>
                </a:lnTo>
                <a:close/>
              </a:path>
              <a:path fill="lighten" w="39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1" h="21600">
                <a:moveTo>
                  <a:pt x="12769" y="3794"/>
                </a:moveTo>
                <a:lnTo>
                  <a:pt x="26782" y="10800"/>
                </a:lnTo>
                <a:lnTo>
                  <a:pt x="127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67000" y="6264360"/>
            <a:ext cx="17542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76280" y="-3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Garamond"/>
              </a:rPr>
              <a:t>Доказательство теоре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1640" y="122364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Боковые грани прямой призмы – прямоугольники у которых сторонами являются стороны основания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змы и боковые рёбра призм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, 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…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Garamond"/>
              </a:rPr>
              <a:t>бок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…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 =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+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+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l =P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Garamond"/>
              </a:rPr>
              <a:t>осн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Теорема доказ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"/>
          <p:cNvSpPr/>
          <p:nvPr/>
        </p:nvSpPr>
        <p:spPr>
          <a:xfrm>
            <a:off x="5292720" y="2843280"/>
            <a:ext cx="720720" cy="269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911640" y="3833640"/>
            <a:ext cx="1800720" cy="2700360"/>
            <a:chOff x="6911640" y="3833640"/>
            <a:chExt cx="1800720" cy="2700360"/>
          </a:xfrm>
        </p:grpSpPr>
        <p:sp>
          <p:nvSpPr>
            <p:cNvPr id="439" name=""/>
            <p:cNvSpPr/>
            <p:nvPr/>
          </p:nvSpPr>
          <p:spPr>
            <a:xfrm>
              <a:off x="7093080" y="383364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3080" y="3833640"/>
              <a:ext cx="67464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397720" y="4238640"/>
              <a:ext cx="27000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42360" y="4464000"/>
              <a:ext cx="855360" cy="4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6911640" y="4103280"/>
              <a:ext cx="630360" cy="4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12000" y="3833640"/>
              <a:ext cx="18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37360" y="585936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37360" y="5859360"/>
              <a:ext cx="675000" cy="4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397720" y="6264360"/>
              <a:ext cx="31464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542360" y="6489720"/>
              <a:ext cx="855360" cy="4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957720" y="6129360"/>
              <a:ext cx="58428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958080" y="5859360"/>
              <a:ext cx="1810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93080" y="383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12000" y="410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42360" y="451008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93080" y="383364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97720" y="4464000"/>
              <a:ext cx="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67720" y="4238640"/>
              <a:ext cx="4464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562720" y="5724360"/>
            <a:ext cx="583920" cy="360360"/>
          </a:xfrm>
          <a:custGeom>
            <a:avLst/>
            <a:gdLst>
              <a:gd name="textAreaLeft" fmla="*/ 23040 w 583920"/>
              <a:gd name="textAreaRight" fmla="*/ 560880 w 583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987" h="21600">
                <a:moveTo>
                  <a:pt x="0" y="0"/>
                </a:moveTo>
                <a:lnTo>
                  <a:pt x="34987" y="0"/>
                </a:lnTo>
                <a:lnTo>
                  <a:pt x="34987" y="21600"/>
                </a:lnTo>
                <a:lnTo>
                  <a:pt x="0" y="21600"/>
                </a:lnTo>
                <a:close/>
              </a:path>
              <a:path fill="lightenLess" w="34987" h="21600">
                <a:moveTo>
                  <a:pt x="0" y="0"/>
                </a:moveTo>
                <a:lnTo>
                  <a:pt x="34987" y="0"/>
                </a:lnTo>
                <a:lnTo>
                  <a:pt x="33587" y="1400"/>
                </a:lnTo>
                <a:lnTo>
                  <a:pt x="1400" y="1400"/>
                </a:lnTo>
                <a:close/>
              </a:path>
              <a:path fill="darken" w="34987" h="21600">
                <a:moveTo>
                  <a:pt x="34987" y="0"/>
                </a:moveTo>
                <a:lnTo>
                  <a:pt x="34987" y="21600"/>
                </a:lnTo>
                <a:lnTo>
                  <a:pt x="33587" y="20200"/>
                </a:lnTo>
                <a:lnTo>
                  <a:pt x="33587" y="1400"/>
                </a:lnTo>
                <a:close/>
              </a:path>
              <a:path fill="darkenLess" w="34987" h="21600">
                <a:moveTo>
                  <a:pt x="3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87" y="20200"/>
                </a:lnTo>
                <a:close/>
              </a:path>
              <a:path fill="lighten" w="3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87" h="21600">
                <a:moveTo>
                  <a:pt x="10487" y="7493"/>
                </a:moveTo>
                <a:lnTo>
                  <a:pt x="13995" y="7493"/>
                </a:lnTo>
                <a:lnTo>
                  <a:pt x="13995" y="12828"/>
                </a:lnTo>
                <a:cubicBezTo>
                  <a:pt x="13995" y="13751"/>
                  <a:pt x="14795" y="14482"/>
                  <a:pt x="15831" y="14482"/>
                </a:cubicBezTo>
                <a:lnTo>
                  <a:pt x="17493" y="14482"/>
                </a:lnTo>
                <a:cubicBezTo>
                  <a:pt x="18529" y="14482"/>
                  <a:pt x="19330" y="13751"/>
                  <a:pt x="19330" y="12828"/>
                </a:cubicBezTo>
                <a:lnTo>
                  <a:pt x="19330" y="7493"/>
                </a:lnTo>
                <a:lnTo>
                  <a:pt x="17493" y="7493"/>
                </a:lnTo>
                <a:lnTo>
                  <a:pt x="21001" y="3985"/>
                </a:lnTo>
                <a:lnTo>
                  <a:pt x="24674" y="7493"/>
                </a:lnTo>
                <a:lnTo>
                  <a:pt x="22837" y="7493"/>
                </a:lnTo>
                <a:lnTo>
                  <a:pt x="22837" y="12828"/>
                </a:lnTo>
                <a:cubicBezTo>
                  <a:pt x="22837" y="15596"/>
                  <a:pt x="20261" y="18155"/>
                  <a:pt x="17493" y="18155"/>
                </a:cubicBezTo>
                <a:lnTo>
                  <a:pt x="15831" y="18155"/>
                </a:lnTo>
                <a:cubicBezTo>
                  <a:pt x="13063" y="18155"/>
                  <a:pt x="10487" y="15596"/>
                  <a:pt x="1048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98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Особые сечения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128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Диагональное сечение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сечение проходящее через два боковых ребра, не принадлежащих одной гра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Перпендикулярное сечение –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сечение, проходящее перпендикулярно боковым ребр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69840" y="4327560"/>
            <a:ext cx="1982880" cy="1846080"/>
            <a:chOff x="969840" y="4327560"/>
            <a:chExt cx="1982880" cy="1846080"/>
          </a:xfrm>
        </p:grpSpPr>
        <p:sp>
          <p:nvSpPr>
            <p:cNvPr id="462" name=""/>
            <p:cNvSpPr/>
            <p:nvPr/>
          </p:nvSpPr>
          <p:spPr>
            <a:xfrm>
              <a:off x="1692360" y="563400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2000" y="563400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276640" y="5904000"/>
              <a:ext cx="6760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466640" y="617364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71640" y="563400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1640" y="5859360"/>
              <a:ext cx="49536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90560" y="4327560"/>
              <a:ext cx="80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00200" y="432756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274480" y="4597560"/>
              <a:ext cx="67644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420920" y="4869000"/>
              <a:ext cx="853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969840" y="4327560"/>
              <a:ext cx="72072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9840" y="4552920"/>
              <a:ext cx="451080" cy="31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971640" y="455256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420920" y="4869000"/>
              <a:ext cx="0" cy="1304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276640" y="4869000"/>
              <a:ext cx="0" cy="13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951280" y="459864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690560" y="4328640"/>
              <a:ext cx="0" cy="1305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02000" y="4328640"/>
              <a:ext cx="0" cy="130500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420920" y="5633640"/>
              <a:ext cx="103500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420920" y="4373640"/>
              <a:ext cx="1081080" cy="495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420920" y="5182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420920" y="5047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420920" y="4912920"/>
              <a:ext cx="10810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420920" y="4822560"/>
              <a:ext cx="1081080" cy="584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420920" y="4733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420920" y="4598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420920" y="4463640"/>
              <a:ext cx="1081080" cy="539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20920" y="5317920"/>
              <a:ext cx="1081080" cy="585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420920" y="5452920"/>
              <a:ext cx="1081080" cy="586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006280" y="907920"/>
            <a:ext cx="4545360" cy="540000"/>
            <a:chOff x="2006280" y="907920"/>
            <a:chExt cx="4545360" cy="540000"/>
          </a:xfrm>
        </p:grpSpPr>
        <p:sp>
          <p:nvSpPr>
            <p:cNvPr id="492" name=""/>
            <p:cNvSpPr/>
            <p:nvPr/>
          </p:nvSpPr>
          <p:spPr>
            <a:xfrm flipH="1">
              <a:off x="2006280" y="954000"/>
              <a:ext cx="1035000" cy="493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72000" y="907920"/>
              <a:ext cx="1079640" cy="54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518080" y="4014720"/>
            <a:ext cx="2160720" cy="2384640"/>
            <a:chOff x="5518080" y="4014720"/>
            <a:chExt cx="2160720" cy="2384640"/>
          </a:xfrm>
        </p:grpSpPr>
        <p:sp>
          <p:nvSpPr>
            <p:cNvPr id="495" name=""/>
            <p:cNvSpPr/>
            <p:nvPr/>
          </p:nvSpPr>
          <p:spPr>
            <a:xfrm>
              <a:off x="5878440" y="4014720"/>
              <a:ext cx="134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78440" y="401472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508800" y="428436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227360" y="4014720"/>
              <a:ext cx="45108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18080" y="576900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8080" y="576900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148440" y="603864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6823080" y="5769000"/>
              <a:ext cx="449280" cy="2700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519520" y="401472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148080" y="464508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272000" y="4284720"/>
              <a:ext cx="40644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823080" y="4014720"/>
              <a:ext cx="40464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372360" y="5138280"/>
              <a:ext cx="1079280" cy="181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651640" y="5003640"/>
              <a:ext cx="720720" cy="316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51640" y="5003640"/>
              <a:ext cx="1350720" cy="9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02360" y="5094360"/>
              <a:ext cx="449280" cy="4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77000" y="5003640"/>
              <a:ext cx="630000" cy="270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46640" y="5049720"/>
              <a:ext cx="495360" cy="223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72360" y="5049720"/>
              <a:ext cx="449280" cy="179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86640" y="5094360"/>
              <a:ext cx="315720" cy="9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8080" y="5094360"/>
              <a:ext cx="179280" cy="34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2000" y="4824360"/>
              <a:ext cx="1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876640" y="4824360"/>
              <a:ext cx="4428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51640" y="5229360"/>
              <a:ext cx="134640" cy="4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786280" y="5138280"/>
              <a:ext cx="460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7362360" y="4959000"/>
              <a:ext cx="135000" cy="4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16640" y="4959360"/>
              <a:ext cx="46080" cy="13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997360" y="6354720"/>
            <a:ext cx="20700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7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Призмы вокруг на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92000" y="1268280"/>
            <a:ext cx="3824280" cy="32734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5427720" y="1224000"/>
            <a:ext cx="3060720" cy="30448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6012000" y="4643280"/>
            <a:ext cx="1803240" cy="18068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1376280" y="4710240"/>
            <a:ext cx="3421080" cy="210348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" action="ppaction://hlinkshowjump?jump=firstslide"/>
          </p:cNvPr>
          <p:cNvSpPr/>
          <p:nvPr/>
        </p:nvSpPr>
        <p:spPr>
          <a:xfrm>
            <a:off x="8172360" y="6308640"/>
            <a:ext cx="630360" cy="316080"/>
          </a:xfrm>
          <a:custGeom>
            <a:avLst/>
            <a:gdLst>
              <a:gd name="textAreaLeft" fmla="*/ 20160 w 630360"/>
              <a:gd name="textAreaRight" fmla="*/ 610200 w 63036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43053" h="21600">
                <a:moveTo>
                  <a:pt x="0" y="0"/>
                </a:moveTo>
                <a:lnTo>
                  <a:pt x="43053" y="0"/>
                </a:lnTo>
                <a:lnTo>
                  <a:pt x="43053" y="21600"/>
                </a:lnTo>
                <a:lnTo>
                  <a:pt x="0" y="21600"/>
                </a:lnTo>
                <a:close/>
              </a:path>
              <a:path fill="lightenLess" w="43053" h="21600">
                <a:moveTo>
                  <a:pt x="0" y="0"/>
                </a:moveTo>
                <a:lnTo>
                  <a:pt x="43053" y="0"/>
                </a:lnTo>
                <a:lnTo>
                  <a:pt x="41653" y="1400"/>
                </a:lnTo>
                <a:lnTo>
                  <a:pt x="1400" y="1400"/>
                </a:lnTo>
                <a:close/>
              </a:path>
              <a:path fill="darken" w="43053" h="21600">
                <a:moveTo>
                  <a:pt x="43053" y="0"/>
                </a:moveTo>
                <a:lnTo>
                  <a:pt x="43053" y="21600"/>
                </a:lnTo>
                <a:lnTo>
                  <a:pt x="41653" y="20200"/>
                </a:lnTo>
                <a:lnTo>
                  <a:pt x="41653" y="1400"/>
                </a:lnTo>
                <a:close/>
              </a:path>
              <a:path fill="darkenLess" w="43053" h="21600">
                <a:moveTo>
                  <a:pt x="4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3" y="20200"/>
                </a:lnTo>
                <a:close/>
              </a:path>
              <a:path fill="lighten" w="4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53" h="21600">
                <a:moveTo>
                  <a:pt x="18027" y="10800"/>
                </a:moveTo>
                <a:lnTo>
                  <a:pt x="28533" y="3794"/>
                </a:lnTo>
                <a:lnTo>
                  <a:pt x="28533" y="17806"/>
                </a:lnTo>
                <a:close/>
              </a:path>
              <a:path fill="darken" w="43053" h="21600">
                <a:moveTo>
                  <a:pt x="14520" y="3794"/>
                </a:moveTo>
                <a:lnTo>
                  <a:pt x="16182" y="3794"/>
                </a:lnTo>
                <a:lnTo>
                  <a:pt x="16182" y="17806"/>
                </a:lnTo>
                <a:lnTo>
                  <a:pt x="1452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Garamond"/>
              </a:rPr>
              <a:t>План л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Понятие и чертё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Элементы приз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Общие свойства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Виды призм и их особе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6" action="ppaction://hlinksldjump"/>
              </a:rPr>
              <a:t>Поверхность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7" action="ppaction://hlinksldjump"/>
              </a:rPr>
              <a:t>Сечения приз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мы вокруг на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онятие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97000" y="1358640"/>
            <a:ext cx="4038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Призма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о многогранник состоящий из двух плоских многоугольников, лежащих в разных плоскостях и совмещаемых параллельным переносо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 всех отрезков, соединяющих соответствующие точки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их многоуголь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640" y="1179360"/>
            <a:ext cx="4005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тёж приз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50920" y="2195640"/>
            <a:ext cx="2594160" cy="4174920"/>
            <a:chOff x="1150920" y="2195640"/>
            <a:chExt cx="2594160" cy="4174920"/>
          </a:xfrm>
        </p:grpSpPr>
        <p:sp>
          <p:nvSpPr>
            <p:cNvPr id="122" name=""/>
            <p:cNvSpPr/>
            <p:nvPr/>
          </p:nvSpPr>
          <p:spPr>
            <a:xfrm>
              <a:off x="1150920" y="2933640"/>
              <a:ext cx="0" cy="295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1640" y="3419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0000" y="3419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2195640"/>
              <a:ext cx="0" cy="2950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5080" y="2771640"/>
              <a:ext cx="0" cy="295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19280" y="1763640"/>
            <a:ext cx="3673440" cy="4869000"/>
            <a:chOff x="719280" y="1763640"/>
            <a:chExt cx="3673440" cy="4869000"/>
          </a:xfrm>
        </p:grpSpPr>
        <p:sp>
          <p:nvSpPr>
            <p:cNvPr id="128" name=""/>
            <p:cNvSpPr/>
            <p:nvPr/>
          </p:nvSpPr>
          <p:spPr>
            <a:xfrm>
              <a:off x="2232000" y="1763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5080" y="241128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1640" y="3274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00360" y="2987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3640" y="2482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3640" y="478800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Garamond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360" y="5291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7720" y="62643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44720" y="6012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9280" y="5724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4681440" y="6308640"/>
            <a:ext cx="18702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50560" y="2168640"/>
            <a:ext cx="2594520" cy="4176720"/>
            <a:chOff x="1150560" y="2168640"/>
            <a:chExt cx="2594520" cy="4176720"/>
          </a:xfrm>
        </p:grpSpPr>
        <p:sp>
          <p:nvSpPr>
            <p:cNvPr id="140" name=""/>
            <p:cNvSpPr/>
            <p:nvPr/>
          </p:nvSpPr>
          <p:spPr>
            <a:xfrm>
              <a:off x="1152360" y="2889360"/>
              <a:ext cx="71928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71640" y="3402000"/>
              <a:ext cx="136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40000" y="2744640"/>
              <a:ext cx="505080" cy="6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231640" y="2168640"/>
              <a:ext cx="151308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52360" y="5840280"/>
              <a:ext cx="719280" cy="5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1640" y="6345360"/>
              <a:ext cx="136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240000" y="5624640"/>
              <a:ext cx="5050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32000" y="5121360"/>
              <a:ext cx="1513080" cy="503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152000" y="5121360"/>
              <a:ext cx="1079640" cy="71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150560" y="2187720"/>
              <a:ext cx="1079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50920" y="2168640"/>
            <a:ext cx="2565360" cy="4140000"/>
            <a:chOff x="1150920" y="2168640"/>
            <a:chExt cx="2565360" cy="4140000"/>
          </a:xfrm>
        </p:grpSpPr>
        <p:sp>
          <p:nvSpPr>
            <p:cNvPr id="151" name=""/>
            <p:cNvSpPr/>
            <p:nvPr/>
          </p:nvSpPr>
          <p:spPr>
            <a:xfrm>
              <a:off x="1150920" y="2168640"/>
              <a:ext cx="2565360" cy="1216080"/>
            </a:xfrm>
            <a:custGeom>
              <a:avLst/>
              <a:gdLst/>
              <a:ahLst/>
              <a:rect l="l" t="t" r="r" b="b"/>
              <a:pathLst>
                <a:path w="1616" h="766">
                  <a:moveTo>
                    <a:pt x="0" y="454"/>
                  </a:moveTo>
                  <a:lnTo>
                    <a:pt x="681" y="0"/>
                  </a:lnTo>
                  <a:lnTo>
                    <a:pt x="1616" y="340"/>
                  </a:lnTo>
                  <a:lnTo>
                    <a:pt x="1305" y="766"/>
                  </a:lnTo>
                  <a:lnTo>
                    <a:pt x="454" y="766"/>
                  </a:lnTo>
                  <a:lnTo>
                    <a:pt x="0" y="454"/>
                  </a:lnTo>
                  <a:close/>
                </a:path>
              </a:pathLst>
            </a:custGeom>
            <a:gradFill rotWithShape="0">
              <a:gsLst>
                <a:gs pos="0">
                  <a:srgbClr val="ffff00">
                    <a:alpha val="28235"/>
                  </a:srgbClr>
                </a:gs>
                <a:gs pos="100000">
                  <a:srgbClr val="757500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0920" y="5094360"/>
              <a:ext cx="2565360" cy="1214280"/>
            </a:xfrm>
            <a:custGeom>
              <a:avLst/>
              <a:gdLst/>
              <a:ahLst/>
              <a:rect l="l" t="t" r="r" b="b"/>
              <a:pathLst>
                <a:path w="1616" h="765">
                  <a:moveTo>
                    <a:pt x="0" y="482"/>
                  </a:moveTo>
                  <a:lnTo>
                    <a:pt x="426" y="765"/>
                  </a:lnTo>
                  <a:lnTo>
                    <a:pt x="1333" y="765"/>
                  </a:lnTo>
                  <a:lnTo>
                    <a:pt x="1616" y="340"/>
                  </a:lnTo>
                  <a:lnTo>
                    <a:pt x="681" y="0"/>
                  </a:lnTo>
                  <a:lnTo>
                    <a:pt x="0" y="482"/>
                  </a:lnTo>
                  <a:close/>
                </a:path>
              </a:pathLst>
            </a:custGeom>
            <a:gradFill rotWithShape="0">
              <a:gsLst>
                <a:gs pos="0">
                  <a:srgbClr val="ffff00">
                    <a:alpha val="33333"/>
                  </a:srgbClr>
                </a:gs>
                <a:gs pos="100000">
                  <a:srgbClr val="757500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1280" y="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Garamond"/>
              </a:rPr>
              <a:t>Элементы призм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16000" y="907920"/>
            <a:ext cx="3888360" cy="1081080"/>
            <a:chOff x="4716000" y="907920"/>
            <a:chExt cx="3888360" cy="1081080"/>
          </a:xfrm>
        </p:grpSpPr>
        <p:sp>
          <p:nvSpPr>
            <p:cNvPr id="155" name=""/>
            <p:cNvSpPr/>
            <p:nvPr/>
          </p:nvSpPr>
          <p:spPr>
            <a:xfrm flipH="1">
              <a:off x="4716000" y="1197000"/>
              <a:ext cx="64764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35640" y="907920"/>
              <a:ext cx="31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Ребро основ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35640" y="1542960"/>
            <a:ext cx="2739240" cy="806400"/>
            <a:chOff x="5435640" y="1542960"/>
            <a:chExt cx="2739240" cy="806400"/>
          </a:xfrm>
        </p:grpSpPr>
        <p:sp>
          <p:nvSpPr>
            <p:cNvPr id="158" name=""/>
            <p:cNvSpPr/>
            <p:nvPr/>
          </p:nvSpPr>
          <p:spPr>
            <a:xfrm flipH="1">
              <a:off x="5435640" y="1844640"/>
              <a:ext cx="1008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4160" y="1542960"/>
              <a:ext cx="18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ерш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4000" y="3456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637000"/>
            <a:ext cx="2519280" cy="947160"/>
            <a:chOff x="324000" y="2637000"/>
            <a:chExt cx="2519280" cy="947160"/>
          </a:xfrm>
        </p:grpSpPr>
        <p:sp>
          <p:nvSpPr>
            <p:cNvPr id="162" name=""/>
            <p:cNvSpPr/>
            <p:nvPr/>
          </p:nvSpPr>
          <p:spPr>
            <a:xfrm>
              <a:off x="1835280" y="3357720"/>
              <a:ext cx="100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637000"/>
              <a:ext cx="172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Боковое ребр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500360" y="4437000"/>
            <a:ext cx="3311640" cy="1888920"/>
            <a:chOff x="4500360" y="4437000"/>
            <a:chExt cx="3311640" cy="1888920"/>
          </a:xfrm>
        </p:grpSpPr>
        <p:sp>
          <p:nvSpPr>
            <p:cNvPr id="165" name=""/>
            <p:cNvSpPr/>
            <p:nvPr/>
          </p:nvSpPr>
          <p:spPr>
            <a:xfrm flipH="1" flipV="1">
              <a:off x="4500360" y="4437000"/>
              <a:ext cx="165564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27640" y="5805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ысо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0" y="3860640"/>
            <a:ext cx="3708360" cy="947160"/>
            <a:chOff x="0" y="3860640"/>
            <a:chExt cx="3708360" cy="947160"/>
          </a:xfrm>
        </p:grpSpPr>
        <p:sp>
          <p:nvSpPr>
            <p:cNvPr id="168" name=""/>
            <p:cNvSpPr/>
            <p:nvPr/>
          </p:nvSpPr>
          <p:spPr>
            <a:xfrm>
              <a:off x="1908000" y="4221000"/>
              <a:ext cx="180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3860640"/>
              <a:ext cx="190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диагона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48360" y="3645000"/>
            <a:ext cx="3095640" cy="947160"/>
            <a:chOff x="5148360" y="3645000"/>
            <a:chExt cx="3095640" cy="947160"/>
          </a:xfrm>
        </p:grpSpPr>
        <p:sp>
          <p:nvSpPr>
            <p:cNvPr id="171" name=""/>
            <p:cNvSpPr/>
            <p:nvPr/>
          </p:nvSpPr>
          <p:spPr>
            <a:xfrm flipH="1">
              <a:off x="5148360" y="40766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3640" y="3645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Боковая гра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63080" y="6354720"/>
            <a:ext cx="404640" cy="233280"/>
          </a:xfrm>
          <a:custGeom>
            <a:avLst/>
            <a:gdLst>
              <a:gd name="textAreaLeft" fmla="*/ 15120 w 404640"/>
              <a:gd name="textAreaRight" fmla="*/ 389520 w 40464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37442" h="21600">
                <a:moveTo>
                  <a:pt x="0" y="0"/>
                </a:moveTo>
                <a:lnTo>
                  <a:pt x="37442" y="0"/>
                </a:lnTo>
                <a:lnTo>
                  <a:pt x="37442" y="21600"/>
                </a:lnTo>
                <a:lnTo>
                  <a:pt x="0" y="21600"/>
                </a:lnTo>
                <a:close/>
              </a:path>
              <a:path fill="lightenLess" w="37442" h="21600">
                <a:moveTo>
                  <a:pt x="0" y="0"/>
                </a:moveTo>
                <a:lnTo>
                  <a:pt x="37442" y="0"/>
                </a:lnTo>
                <a:lnTo>
                  <a:pt x="36042" y="1400"/>
                </a:lnTo>
                <a:lnTo>
                  <a:pt x="1400" y="1400"/>
                </a:lnTo>
                <a:close/>
              </a:path>
              <a:path fill="darken" w="37442" h="21600">
                <a:moveTo>
                  <a:pt x="37442" y="0"/>
                </a:moveTo>
                <a:lnTo>
                  <a:pt x="37442" y="21600"/>
                </a:lnTo>
                <a:lnTo>
                  <a:pt x="36042" y="20200"/>
                </a:lnTo>
                <a:lnTo>
                  <a:pt x="36042" y="1400"/>
                </a:lnTo>
                <a:close/>
              </a:path>
              <a:path fill="darkenLess" w="37442" h="21600">
                <a:moveTo>
                  <a:pt x="37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42" y="20200"/>
                </a:lnTo>
                <a:close/>
              </a:path>
              <a:path fill="lighten" w="37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42" h="21600">
                <a:moveTo>
                  <a:pt x="11715" y="3794"/>
                </a:moveTo>
                <a:lnTo>
                  <a:pt x="25728" y="10800"/>
                </a:lnTo>
                <a:lnTo>
                  <a:pt x="1171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4360" y="4734000"/>
            <a:ext cx="4743360" cy="2373840"/>
            <a:chOff x="684360" y="4734000"/>
            <a:chExt cx="4743360" cy="2373840"/>
          </a:xfrm>
        </p:grpSpPr>
        <p:sp>
          <p:nvSpPr>
            <p:cNvPr id="175" name=""/>
            <p:cNvSpPr/>
            <p:nvPr/>
          </p:nvSpPr>
          <p:spPr>
            <a:xfrm>
              <a:off x="684360" y="5734080"/>
              <a:ext cx="201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Нижнее осно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16280" y="4734000"/>
              <a:ext cx="2611440" cy="1216080"/>
            </a:xfrm>
            <a:custGeom>
              <a:avLst/>
              <a:gdLst/>
              <a:ahLst/>
              <a:rect l="l" t="t" r="r" b="b"/>
              <a:pathLst>
                <a:path w="1645" h="766">
                  <a:moveTo>
                    <a:pt x="0" y="454"/>
                  </a:moveTo>
                  <a:lnTo>
                    <a:pt x="709" y="0"/>
                  </a:lnTo>
                  <a:lnTo>
                    <a:pt x="1645" y="312"/>
                  </a:lnTo>
                  <a:lnTo>
                    <a:pt x="1333" y="766"/>
                  </a:lnTo>
                  <a:lnTo>
                    <a:pt x="454" y="766"/>
                  </a:lnTo>
                  <a:lnTo>
                    <a:pt x="0" y="4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02000" y="1763640"/>
            <a:ext cx="2952720" cy="4402080"/>
            <a:chOff x="2502000" y="1763640"/>
            <a:chExt cx="2952720" cy="4402080"/>
          </a:xfrm>
        </p:grpSpPr>
        <p:sp>
          <p:nvSpPr>
            <p:cNvPr id="178" name=""/>
            <p:cNvSpPr/>
            <p:nvPr/>
          </p:nvSpPr>
          <p:spPr>
            <a:xfrm flipH="1">
              <a:off x="2862000" y="1773360"/>
              <a:ext cx="1079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360" y="2494080"/>
              <a:ext cx="719280" cy="503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640" y="299736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0000" y="2349360"/>
              <a:ext cx="504720" cy="648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42000" y="1773360"/>
              <a:ext cx="1512720" cy="576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2360" y="5445000"/>
              <a:ext cx="719280" cy="505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640" y="595008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950000" y="5229360"/>
              <a:ext cx="50472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2000" y="4726080"/>
              <a:ext cx="1512720" cy="503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862000" y="4726080"/>
              <a:ext cx="1079640" cy="718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502000" y="5589720"/>
              <a:ext cx="93528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5280" y="2492280"/>
              <a:ext cx="0" cy="2952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581280" y="1773360"/>
              <a:ext cx="360360" cy="4176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45280" y="515772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0920" y="515772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0000" y="1763640"/>
              <a:ext cx="2565360" cy="1260720"/>
            </a:xfrm>
            <a:custGeom>
              <a:avLst/>
              <a:gdLst/>
              <a:ahLst/>
              <a:rect l="l" t="t" r="r" b="b"/>
              <a:pathLst>
                <a:path w="1616" h="794">
                  <a:moveTo>
                    <a:pt x="0" y="482"/>
                  </a:moveTo>
                  <a:lnTo>
                    <a:pt x="680" y="0"/>
                  </a:lnTo>
                  <a:lnTo>
                    <a:pt x="1616" y="369"/>
                  </a:lnTo>
                  <a:lnTo>
                    <a:pt x="1304" y="766"/>
                  </a:lnTo>
                  <a:lnTo>
                    <a:pt x="425" y="794"/>
                  </a:lnTo>
                  <a:lnTo>
                    <a:pt x="0" y="4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80000" y="2484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0000" y="2997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2000" y="177336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54720" y="234936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5300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54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300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1500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2772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70280" y="2475000"/>
              <a:ext cx="0" cy="2950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192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640" y="2987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2280" y="176364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5360" y="2340000"/>
              <a:ext cx="0" cy="2951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7360" y="998640"/>
            <a:ext cx="3328920" cy="1260360"/>
            <a:chOff x="657360" y="998640"/>
            <a:chExt cx="3328920" cy="1260360"/>
          </a:xfrm>
        </p:grpSpPr>
        <p:sp>
          <p:nvSpPr>
            <p:cNvPr id="235" name=""/>
            <p:cNvSpPr/>
            <p:nvPr/>
          </p:nvSpPr>
          <p:spPr>
            <a:xfrm>
              <a:off x="657360" y="998640"/>
              <a:ext cx="332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Верхнее основ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2360" y="1538280"/>
              <a:ext cx="1124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862360" y="1763640"/>
            <a:ext cx="2609640" cy="1216080"/>
          </a:xfrm>
          <a:custGeom>
            <a:avLst/>
            <a:gdLst/>
            <a:ahLst/>
            <a:rect l="l" t="t" r="r" b="b"/>
            <a:pathLst>
              <a:path w="1644" h="766">
                <a:moveTo>
                  <a:pt x="0" y="482"/>
                </a:moveTo>
                <a:lnTo>
                  <a:pt x="680" y="0"/>
                </a:lnTo>
                <a:lnTo>
                  <a:pt x="1644" y="369"/>
                </a:lnTo>
                <a:lnTo>
                  <a:pt x="1304" y="766"/>
                </a:lnTo>
                <a:lnTo>
                  <a:pt x="453" y="766"/>
                </a:lnTo>
                <a:lnTo>
                  <a:pt x="0" y="482"/>
                </a:lnTo>
                <a:close/>
              </a:path>
            </a:pathLst>
          </a:custGeom>
          <a:solidFill>
            <a:srgbClr val="33ccc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06640" y="4734000"/>
            <a:ext cx="2565360" cy="1216080"/>
          </a:xfrm>
          <a:custGeom>
            <a:avLst/>
            <a:gdLst/>
            <a:ahLst/>
            <a:rect l="l" t="t" r="r" b="b"/>
            <a:pathLst>
              <a:path w="1616" h="766">
                <a:moveTo>
                  <a:pt x="0" y="454"/>
                </a:moveTo>
                <a:lnTo>
                  <a:pt x="425" y="766"/>
                </a:lnTo>
                <a:lnTo>
                  <a:pt x="1304" y="766"/>
                </a:lnTo>
                <a:lnTo>
                  <a:pt x="1616" y="312"/>
                </a:lnTo>
                <a:lnTo>
                  <a:pt x="680" y="0"/>
                </a:lnTo>
                <a:lnTo>
                  <a:pt x="0" y="454"/>
                </a:lnTo>
                <a:close/>
              </a:path>
            </a:pathLst>
          </a:cu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37000" y="2484000"/>
            <a:ext cx="0" cy="297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349360"/>
            <a:ext cx="539640" cy="3600720"/>
          </a:xfrm>
          <a:custGeom>
            <a:avLst/>
            <a:gdLst/>
            <a:ahLst/>
            <a:rect l="l" t="t" r="r" b="b"/>
            <a:pathLst>
              <a:path w="340" h="2268">
                <a:moveTo>
                  <a:pt x="0" y="2268"/>
                </a:moveTo>
                <a:lnTo>
                  <a:pt x="0" y="425"/>
                </a:lnTo>
                <a:lnTo>
                  <a:pt x="340" y="0"/>
                </a:lnTo>
                <a:lnTo>
                  <a:pt x="312" y="1814"/>
                </a:lnTo>
                <a:lnTo>
                  <a:pt x="0" y="22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41640" y="1763640"/>
            <a:ext cx="148608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81280" y="5364000"/>
            <a:ext cx="46080" cy="5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7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Элементы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886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Осн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грани, совмещаемые параллельным перенос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Боковая гран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грань, не являющаяся основани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Боковые рёбр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отрезки, соединяющие соответствующие вершины основ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Вершин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точки, являющиеся вершинами основа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Высот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перпендикуляр, опущенный из одного основания на друг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Диагонал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отрезок, соединяющий две вершины, не лежащие в одной гр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3222720" y="6308640"/>
            <a:ext cx="170964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Общие свойства призм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снования призмы ра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снования призмы лежат в параллельных плоск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 призмы боковые рёбра параллельны и ра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Любая боковая грань является параллелограм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176640" y="6308640"/>
            <a:ext cx="170964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Виды призм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568440" y="911160"/>
            <a:ext cx="7785000" cy="924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n –</a:t>
            </a:r>
            <a:r>
              <a:rPr b="0" lang="ru-RU" sz="48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угольная  призма</a:t>
            </a:r>
            <a:r>
              <a:rPr b="0" lang="en-US" sz="48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3080" y="1722600"/>
            <a:ext cx="53964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00" y="2306520"/>
            <a:ext cx="3735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Прям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18080" y="1722600"/>
            <a:ext cx="541440" cy="583920"/>
          </a:xfrm>
          <a:prstGeom prst="downArrow">
            <a:avLst>
              <a:gd name="adj1" fmla="val 50000"/>
              <a:gd name="adj2" fmla="val 2696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97360" y="2394000"/>
            <a:ext cx="414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6" action="ppaction://hlinksldjump"/>
              </a:rPr>
              <a:t>Наклонн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06640" y="4869000"/>
            <a:ext cx="584280" cy="630000"/>
          </a:xfrm>
          <a:prstGeom prst="downArrow">
            <a:avLst>
              <a:gd name="adj1" fmla="val 50000"/>
              <a:gd name="adj2" fmla="val 2695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" y="5364000"/>
            <a:ext cx="396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99"/>
                </a:solidFill>
                <a:uFillTx/>
                <a:latin typeface="Garamond"/>
                <a:hlinkClick r:id="rId7" action="ppaction://hlinksldjump"/>
              </a:rPr>
              <a:t>Правильная при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1332000" y="2933640"/>
            <a:ext cx="1709640" cy="16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5877000" y="3114720"/>
            <a:ext cx="1762200" cy="1398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86280" y="4869000"/>
            <a:ext cx="1214280" cy="180000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85920" y="4869000"/>
            <a:ext cx="1216440" cy="1800000"/>
            <a:chOff x="3985920" y="4869000"/>
            <a:chExt cx="1216440" cy="1800000"/>
          </a:xfrm>
        </p:grpSpPr>
        <p:sp>
          <p:nvSpPr>
            <p:cNvPr id="261" name=""/>
            <p:cNvSpPr/>
            <p:nvPr/>
          </p:nvSpPr>
          <p:spPr>
            <a:xfrm>
              <a:off x="4302000" y="4869000"/>
              <a:ext cx="0" cy="153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02000" y="6399360"/>
              <a:ext cx="900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985920" y="6399360"/>
              <a:ext cx="315720" cy="2696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>
            <a:hlinkClick r:id="rId10" action="ppaction://hlinksldjump"/>
          </p:cNvPr>
          <p:cNvSpPr/>
          <p:nvPr/>
        </p:nvSpPr>
        <p:spPr>
          <a:xfrm>
            <a:off x="6102360" y="6264360"/>
            <a:ext cx="175572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Вернуться к пл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98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498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498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498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N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-угольн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1280" y="117936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это призма, в основании которой лежит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n -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угольни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27000" y="2933640"/>
            <a:ext cx="1214640" cy="2205000"/>
            <a:chOff x="927000" y="2933640"/>
            <a:chExt cx="1214640" cy="2205000"/>
          </a:xfrm>
        </p:grpSpPr>
        <p:sp>
          <p:nvSpPr>
            <p:cNvPr id="268" name=""/>
            <p:cNvSpPr/>
            <p:nvPr/>
          </p:nvSpPr>
          <p:spPr>
            <a:xfrm>
              <a:off x="927000" y="2933640"/>
              <a:ext cx="121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7000" y="2933640"/>
              <a:ext cx="76536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692360" y="293364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7000" y="4689360"/>
              <a:ext cx="121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7000" y="4689360"/>
              <a:ext cx="76536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692360" y="4689360"/>
              <a:ext cx="449280" cy="44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7000" y="293364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338292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41640" y="2933640"/>
              <a:ext cx="0" cy="175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57360" y="5724360"/>
            <a:ext cx="20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Тре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527360" y="4689360"/>
            <a:ext cx="448920" cy="270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20560" y="2933640"/>
            <a:ext cx="2161080" cy="2384640"/>
            <a:chOff x="3220560" y="2933640"/>
            <a:chExt cx="2161080" cy="2384640"/>
          </a:xfrm>
        </p:grpSpPr>
        <p:sp>
          <p:nvSpPr>
            <p:cNvPr id="280" name=""/>
            <p:cNvSpPr/>
            <p:nvPr/>
          </p:nvSpPr>
          <p:spPr>
            <a:xfrm>
              <a:off x="3581280" y="2933640"/>
              <a:ext cx="134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1280" y="293364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11640" y="3203280"/>
              <a:ext cx="117000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930920" y="2933640"/>
              <a:ext cx="45072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20920" y="4687920"/>
              <a:ext cx="1305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0920" y="4687920"/>
              <a:ext cx="63036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851280" y="4957560"/>
              <a:ext cx="112392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220560" y="293364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0920" y="3564000"/>
              <a:ext cx="36036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74840" y="3203640"/>
              <a:ext cx="406440" cy="175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25560" y="2933640"/>
              <a:ext cx="405000" cy="1754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132000" y="5815080"/>
            <a:ext cx="27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Четырёх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92720" y="581508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Garamond"/>
              </a:rPr>
              <a:t>Шестиугольная пр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352000" y="6354720"/>
            <a:ext cx="495000" cy="316080"/>
          </a:xfrm>
          <a:custGeom>
            <a:avLst/>
            <a:gdLst>
              <a:gd name="textAreaLeft" fmla="*/ 20160 w 495000"/>
              <a:gd name="textAreaRight" fmla="*/ 474840 w 495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33813" h="21600">
                <a:moveTo>
                  <a:pt x="0" y="0"/>
                </a:moveTo>
                <a:lnTo>
                  <a:pt x="33813" y="0"/>
                </a:lnTo>
                <a:lnTo>
                  <a:pt x="33813" y="21600"/>
                </a:lnTo>
                <a:lnTo>
                  <a:pt x="0" y="21600"/>
                </a:lnTo>
                <a:close/>
              </a:path>
              <a:path fill="lightenLess" w="33813" h="21600">
                <a:moveTo>
                  <a:pt x="0" y="0"/>
                </a:moveTo>
                <a:lnTo>
                  <a:pt x="33813" y="0"/>
                </a:lnTo>
                <a:lnTo>
                  <a:pt x="32413" y="1400"/>
                </a:lnTo>
                <a:lnTo>
                  <a:pt x="1400" y="1400"/>
                </a:lnTo>
                <a:close/>
              </a:path>
              <a:path fill="darken" w="33813" h="21600">
                <a:moveTo>
                  <a:pt x="33813" y="0"/>
                </a:moveTo>
                <a:lnTo>
                  <a:pt x="33813" y="21600"/>
                </a:lnTo>
                <a:lnTo>
                  <a:pt x="32413" y="20200"/>
                </a:lnTo>
                <a:lnTo>
                  <a:pt x="32413" y="1400"/>
                </a:lnTo>
                <a:close/>
              </a:path>
              <a:path fill="darkenLess" w="33813" h="21600">
                <a:moveTo>
                  <a:pt x="338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13" y="20200"/>
                </a:lnTo>
                <a:close/>
              </a:path>
              <a:path fill="lighten" w="338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13" h="21600">
                <a:moveTo>
                  <a:pt x="9900" y="7493"/>
                </a:moveTo>
                <a:lnTo>
                  <a:pt x="13408" y="7493"/>
                </a:lnTo>
                <a:lnTo>
                  <a:pt x="13408" y="12828"/>
                </a:lnTo>
                <a:cubicBezTo>
                  <a:pt x="13408" y="13751"/>
                  <a:pt x="14208" y="14482"/>
                  <a:pt x="15244" y="14482"/>
                </a:cubicBezTo>
                <a:lnTo>
                  <a:pt x="16906" y="14482"/>
                </a:lnTo>
                <a:cubicBezTo>
                  <a:pt x="17942" y="14482"/>
                  <a:pt x="18743" y="13751"/>
                  <a:pt x="18743" y="12828"/>
                </a:cubicBezTo>
                <a:lnTo>
                  <a:pt x="18743" y="7493"/>
                </a:lnTo>
                <a:lnTo>
                  <a:pt x="16906" y="7493"/>
                </a:lnTo>
                <a:lnTo>
                  <a:pt x="20414" y="3985"/>
                </a:lnTo>
                <a:lnTo>
                  <a:pt x="24087" y="7493"/>
                </a:lnTo>
                <a:lnTo>
                  <a:pt x="22251" y="7493"/>
                </a:lnTo>
                <a:lnTo>
                  <a:pt x="22251" y="12828"/>
                </a:lnTo>
                <a:cubicBezTo>
                  <a:pt x="22251" y="15596"/>
                  <a:pt x="19674" y="18155"/>
                  <a:pt x="16906" y="18155"/>
                </a:cubicBezTo>
                <a:lnTo>
                  <a:pt x="15244" y="18155"/>
                </a:lnTo>
                <a:cubicBezTo>
                  <a:pt x="12476" y="18155"/>
                  <a:pt x="9900" y="15596"/>
                  <a:pt x="990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1640" y="2754000"/>
            <a:ext cx="1800000" cy="2745000"/>
            <a:chOff x="6551640" y="2754000"/>
            <a:chExt cx="1800000" cy="2745000"/>
          </a:xfrm>
        </p:grpSpPr>
        <p:sp>
          <p:nvSpPr>
            <p:cNvPr id="295" name=""/>
            <p:cNvSpPr/>
            <p:nvPr/>
          </p:nvSpPr>
          <p:spPr>
            <a:xfrm>
              <a:off x="6732360" y="2754360"/>
              <a:ext cx="90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32720" y="2754360"/>
              <a:ext cx="67464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037360" y="3159000"/>
              <a:ext cx="27000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6551640" y="3023640"/>
              <a:ext cx="630000" cy="4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51640" y="2754000"/>
              <a:ext cx="18072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7000" y="4780080"/>
              <a:ext cx="900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7000" y="4780080"/>
              <a:ext cx="674640" cy="404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37000" y="5184720"/>
              <a:ext cx="314280" cy="225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181280" y="5410080"/>
              <a:ext cx="855720" cy="4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597720" y="5049360"/>
              <a:ext cx="58392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97720" y="4779720"/>
              <a:ext cx="180720" cy="2696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32360" y="2754360"/>
              <a:ext cx="44640" cy="20257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37360" y="3384360"/>
              <a:ext cx="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07360" y="315900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3440" y="347508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4880" y="3024000"/>
              <a:ext cx="44280" cy="202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41280" y="1179360"/>
            <a:ext cx="82296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137360" y="2754360"/>
            <a:ext cx="900000" cy="2023920"/>
            <a:chOff x="7137360" y="2754360"/>
            <a:chExt cx="900000" cy="2023920"/>
          </a:xfrm>
        </p:grpSpPr>
        <p:sp>
          <p:nvSpPr>
            <p:cNvPr id="313" name=""/>
            <p:cNvSpPr/>
            <p:nvPr/>
          </p:nvSpPr>
          <p:spPr>
            <a:xfrm flipV="1">
              <a:off x="7137360" y="3384360"/>
              <a:ext cx="900000" cy="4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677000" y="2754360"/>
              <a:ext cx="0" cy="2023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Garamond"/>
              </a:rPr>
              <a:t>Прямая призм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- это призма, боковые рёбра которой перпендикулярны основанию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Её высота рав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боковому ребр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"/>
          <p:cNvSpPr/>
          <p:nvPr/>
        </p:nvSpPr>
        <p:spPr>
          <a:xfrm>
            <a:off x="8325000" y="449100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4662360" y="6308640"/>
            <a:ext cx="449280" cy="360360"/>
          </a:xfrm>
          <a:custGeom>
            <a:avLst/>
            <a:gdLst>
              <a:gd name="textAreaLeft" fmla="*/ 23040 w 449280"/>
              <a:gd name="textAreaRight" fmla="*/ 426240 w 44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6925" h="21600">
                <a:moveTo>
                  <a:pt x="0" y="0"/>
                </a:moveTo>
                <a:lnTo>
                  <a:pt x="26925" y="0"/>
                </a:lnTo>
                <a:lnTo>
                  <a:pt x="26925" y="21600"/>
                </a:lnTo>
                <a:lnTo>
                  <a:pt x="0" y="21600"/>
                </a:lnTo>
                <a:close/>
              </a:path>
              <a:path fill="lightenLess" w="26925" h="21600">
                <a:moveTo>
                  <a:pt x="0" y="0"/>
                </a:moveTo>
                <a:lnTo>
                  <a:pt x="26925" y="0"/>
                </a:lnTo>
                <a:lnTo>
                  <a:pt x="25525" y="1400"/>
                </a:lnTo>
                <a:lnTo>
                  <a:pt x="1400" y="1400"/>
                </a:lnTo>
                <a:close/>
              </a:path>
              <a:path fill="darken" w="26925" h="21600">
                <a:moveTo>
                  <a:pt x="26925" y="0"/>
                </a:moveTo>
                <a:lnTo>
                  <a:pt x="26925" y="21600"/>
                </a:lnTo>
                <a:lnTo>
                  <a:pt x="25525" y="20200"/>
                </a:lnTo>
                <a:lnTo>
                  <a:pt x="25525" y="1400"/>
                </a:lnTo>
                <a:close/>
              </a:path>
              <a:path fill="darkenLess" w="26925" h="21600">
                <a:moveTo>
                  <a:pt x="26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5" y="20200"/>
                </a:lnTo>
                <a:close/>
              </a:path>
              <a:path fill="lighten" w="26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5" h="21600">
                <a:moveTo>
                  <a:pt x="6456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800" y="14482"/>
                </a:cubicBezTo>
                <a:lnTo>
                  <a:pt x="13462" y="14482"/>
                </a:lnTo>
                <a:cubicBezTo>
                  <a:pt x="14498" y="14482"/>
                  <a:pt x="15299" y="13751"/>
                  <a:pt x="15299" y="12828"/>
                </a:cubicBezTo>
                <a:lnTo>
                  <a:pt x="15299" y="7493"/>
                </a:lnTo>
                <a:lnTo>
                  <a:pt x="13462" y="7493"/>
                </a:lnTo>
                <a:lnTo>
                  <a:pt x="16970" y="3985"/>
                </a:lnTo>
                <a:lnTo>
                  <a:pt x="20643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30" y="18155"/>
                  <a:pt x="13462" y="18155"/>
                </a:cubicBezTo>
                <a:lnTo>
                  <a:pt x="11800" y="18155"/>
                </a:lnTo>
                <a:cubicBezTo>
                  <a:pt x="9032" y="18155"/>
                  <a:pt x="6456" y="15596"/>
                  <a:pt x="645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651640" y="2484000"/>
            <a:ext cx="2628720" cy="4185000"/>
            <a:chOff x="5651640" y="2484000"/>
            <a:chExt cx="2628720" cy="4185000"/>
          </a:xfrm>
        </p:grpSpPr>
        <p:sp>
          <p:nvSpPr>
            <p:cNvPr id="320" name=""/>
            <p:cNvSpPr/>
            <p:nvPr/>
          </p:nvSpPr>
          <p:spPr>
            <a:xfrm flipH="1">
              <a:off x="5670720" y="2484360"/>
              <a:ext cx="107928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0720" y="3205080"/>
              <a:ext cx="71892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9640" y="3708360"/>
              <a:ext cx="1368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7758000" y="3060360"/>
              <a:ext cx="50508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749640" y="2484000"/>
              <a:ext cx="151308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0720" y="3222360"/>
              <a:ext cx="0" cy="29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9640" y="370836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0720" y="3717720"/>
              <a:ext cx="0" cy="29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50000" y="248436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63080" y="3060720"/>
              <a:ext cx="17280" cy="2862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70720" y="6156000"/>
              <a:ext cx="718920" cy="5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89640" y="6661080"/>
              <a:ext cx="1368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758000" y="5940360"/>
              <a:ext cx="50508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50000" y="5437080"/>
              <a:ext cx="1513080" cy="503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670720" y="5437080"/>
              <a:ext cx="1079280" cy="718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670720" y="5562360"/>
              <a:ext cx="314280" cy="27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85000" y="56070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0720" y="5878440"/>
              <a:ext cx="17928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50000" y="6057720"/>
              <a:ext cx="0" cy="22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3267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58080" y="4410000"/>
              <a:ext cx="36036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Garamond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80360" y="592272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05720" y="5922720"/>
              <a:ext cx="0" cy="27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240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07360" y="3240000"/>
              <a:ext cx="0" cy="2950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85080" y="4427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34360" y="3257280"/>
              <a:ext cx="0" cy="2951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00:51Z</dcterms:created>
  <dc:creator>Наталья</dc:creator>
  <dc:description/>
  <dc:language>en-US</dc:language>
  <cp:lastModifiedBy>Наталья</cp:lastModifiedBy>
  <dcterms:modified xsi:type="dcterms:W3CDTF">2008-10-19T12:14:21Z</dcterms:modified>
  <cp:revision>8</cp:revision>
  <dc:subject/>
  <dc:title>Слайд 1</dc:title>
</cp:coreProperties>
</file>