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DFD4-2940-46FF-9920-A0CD4CD5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51AD-A6EE-4FEE-8D39-AE09EE12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750B-A400-4543-9958-231CC5B7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94B3-8AE3-484D-BE57-ABAEFC2B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098D-68F8-4F8A-A60B-7E994852B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7444-795A-4CC2-83AF-758694F6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02B1-8802-4CA3-8D19-D201B543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AB2F-65F1-4F57-97C6-407AA98F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CE66-4308-4245-B2EE-0091BF24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92D6-A9A9-4487-813E-9F0778EB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9E3A-9EAF-4BAE-B3D0-2ECAB4D5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8C85-0B9A-402A-B534-B410D2FC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C0DE-F201-447C-9C63-0BA9CBAF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D966-26E8-46E9-88B9-B0F7748F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2571-CFD3-4372-937C-23D33686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FD6D-6667-440B-9C0B-31147523F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6347-2A8E-4B17-9833-981795E8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605D-BC90-428D-9D47-1F1BDB47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C16E-EFC3-4A60-B596-991BC2F7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88C1-3FD8-4F7C-9485-94F7FBF0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C384-052D-4D68-92AC-89C24C94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8817-7331-4CA4-9C3A-67CE918B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F0F2-ED21-4FEA-993C-1C1B76C5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107A-A5FB-46E2-AA32-17D4C394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31CB-4D61-40C1-B0DF-F2C697061F6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7704-4D16-41E5-BA3D-912869F3E8A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12.xml"/><Relationship Id="rId7" Type="http://schemas.openxmlformats.org/officeDocument/2006/relationships/slide" Target="slide15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0.xml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slide" Target="slide2.xml"/><Relationship Id="rId1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95280" y="189000"/>
            <a:ext cx="83534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зм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502000" y="1763640"/>
            <a:ext cx="3375000" cy="3171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97000" y="4959360"/>
            <a:ext cx="7111800" cy="20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Слайд – лек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оставлена учителем математики Поназыревской средней общеобразовательной школы Орловой Н. 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Garamond"/>
              </a:rPr>
              <a:t>Правильная призма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1280" y="998640"/>
            <a:ext cx="8229600" cy="58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- это </a:t>
            </a:r>
            <a:r>
              <a:rPr b="0" lang="en-US" sz="4400" spc="-1" strike="noStrike" u="sng">
                <a:solidFill>
                  <a:srgbClr val="ff3399"/>
                </a:solidFill>
                <a:uFillTx/>
                <a:latin typeface="Garamond"/>
              </a:rPr>
              <a:t>прямая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 призма, основанием которой является правильный многоугольник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971640" y="3338640"/>
            <a:ext cx="1214280" cy="2295360"/>
            <a:chOff x="971640" y="3338640"/>
            <a:chExt cx="1214280" cy="2295360"/>
          </a:xfrm>
        </p:grpSpPr>
        <p:sp>
          <p:nvSpPr>
            <p:cNvPr id="350" name=""/>
            <p:cNvSpPr/>
            <p:nvPr/>
          </p:nvSpPr>
          <p:spPr>
            <a:xfrm>
              <a:off x="971640" y="3429000"/>
              <a:ext cx="1214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71640" y="3429000"/>
              <a:ext cx="765000" cy="44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1736640" y="3429000"/>
              <a:ext cx="449280" cy="44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71640" y="5184720"/>
              <a:ext cx="121428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971640" y="5184720"/>
              <a:ext cx="765000" cy="44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1736640" y="5184720"/>
              <a:ext cx="449280" cy="44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71640" y="3429000"/>
              <a:ext cx="0" cy="1755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736640" y="3878280"/>
              <a:ext cx="0" cy="1755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85920" y="3429000"/>
              <a:ext cx="0" cy="1755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01640" y="3338640"/>
              <a:ext cx="44640" cy="13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1285920" y="3654360"/>
              <a:ext cx="225360" cy="8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827360" y="3654360"/>
              <a:ext cx="134640" cy="135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357360" y="3473280"/>
            <a:ext cx="1214640" cy="1890720"/>
            <a:chOff x="3357360" y="3473280"/>
            <a:chExt cx="1214640" cy="1890720"/>
          </a:xfrm>
        </p:grpSpPr>
        <p:sp>
          <p:nvSpPr>
            <p:cNvPr id="363" name=""/>
            <p:cNvSpPr/>
            <p:nvPr/>
          </p:nvSpPr>
          <p:spPr>
            <a:xfrm>
              <a:off x="3357720" y="3564000"/>
              <a:ext cx="1214280" cy="1800000"/>
            </a:xfrm>
            <a:prstGeom prst="cube">
              <a:avLst>
                <a:gd name="adj" fmla="val 25000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672000" y="3564000"/>
              <a:ext cx="0" cy="14857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3672000" y="5049720"/>
              <a:ext cx="9000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357360" y="5049720"/>
              <a:ext cx="314280" cy="2700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3985920" y="3473280"/>
              <a:ext cx="90360" cy="18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257720" y="3743280"/>
              <a:ext cx="179280" cy="46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3897000" y="3833640"/>
              <a:ext cx="44280" cy="135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02000" y="3699000"/>
              <a:ext cx="179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4211280" y="3564000"/>
              <a:ext cx="135000" cy="90360"/>
            </a:xfrm>
            <a:prstGeom prst="line">
              <a:avLst/>
            </a:prstGeom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11640" y="3654360"/>
              <a:ext cx="270000" cy="0"/>
            </a:xfrm>
            <a:prstGeom prst="line">
              <a:avLst/>
            </a:prstGeom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5695920" y="3429000"/>
            <a:ext cx="1982880" cy="1935000"/>
            <a:chOff x="5695920" y="3429000"/>
            <a:chExt cx="1982880" cy="1935000"/>
          </a:xfrm>
        </p:grpSpPr>
        <p:sp>
          <p:nvSpPr>
            <p:cNvPr id="374" name=""/>
            <p:cNvSpPr/>
            <p:nvPr/>
          </p:nvSpPr>
          <p:spPr>
            <a:xfrm>
              <a:off x="6418440" y="4824360"/>
              <a:ext cx="80928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227720" y="4824360"/>
              <a:ext cx="451080" cy="27000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7002000" y="5094360"/>
              <a:ext cx="676440" cy="26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6192360" y="5364000"/>
              <a:ext cx="809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5697000" y="4824360"/>
              <a:ext cx="721080" cy="22536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697360" y="5049720"/>
              <a:ext cx="495360" cy="314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416640" y="3517920"/>
              <a:ext cx="809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226280" y="3517920"/>
              <a:ext cx="450720" cy="270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7000920" y="3787920"/>
              <a:ext cx="676080" cy="26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6146280" y="4059360"/>
              <a:ext cx="854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695920" y="3517920"/>
              <a:ext cx="720720" cy="225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95920" y="3743280"/>
              <a:ext cx="450720" cy="314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5697360" y="3742920"/>
              <a:ext cx="0" cy="1306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6146640" y="4059360"/>
              <a:ext cx="0" cy="130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7002360" y="4059360"/>
              <a:ext cx="0" cy="130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7677000" y="3789000"/>
              <a:ext cx="0" cy="1305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6416640" y="3519000"/>
              <a:ext cx="0" cy="130500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7227720" y="3519000"/>
              <a:ext cx="0" cy="130500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67360" y="3564000"/>
              <a:ext cx="135000" cy="9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5921280" y="3878280"/>
              <a:ext cx="90720" cy="9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821640" y="3429000"/>
              <a:ext cx="0" cy="135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7407000" y="3564000"/>
              <a:ext cx="135000" cy="135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316640" y="3833640"/>
              <a:ext cx="90720" cy="135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642000" y="3968640"/>
              <a:ext cx="0" cy="18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250920" y="5670720"/>
            <a:ext cx="26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 основании равносторонний треуголь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086280" y="5724360"/>
            <a:ext cx="274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 основании квад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786280" y="5670720"/>
            <a:ext cx="247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 основании правиль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6-уголь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217000" y="6354720"/>
            <a:ext cx="585720" cy="360360"/>
          </a:xfrm>
          <a:custGeom>
            <a:avLst/>
            <a:gdLst>
              <a:gd name="textAreaLeft" fmla="*/ 23040 w 585720"/>
              <a:gd name="textAreaRight" fmla="*/ 562680 w 585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5095" h="21600">
                <a:moveTo>
                  <a:pt x="0" y="0"/>
                </a:moveTo>
                <a:lnTo>
                  <a:pt x="35095" y="0"/>
                </a:lnTo>
                <a:lnTo>
                  <a:pt x="35095" y="21600"/>
                </a:lnTo>
                <a:lnTo>
                  <a:pt x="0" y="21600"/>
                </a:lnTo>
                <a:close/>
              </a:path>
              <a:path fill="lightenLess" w="35095" h="21600">
                <a:moveTo>
                  <a:pt x="0" y="0"/>
                </a:moveTo>
                <a:lnTo>
                  <a:pt x="35095" y="0"/>
                </a:lnTo>
                <a:lnTo>
                  <a:pt x="33695" y="1400"/>
                </a:lnTo>
                <a:lnTo>
                  <a:pt x="1400" y="1400"/>
                </a:lnTo>
                <a:close/>
              </a:path>
              <a:path fill="darken" w="35095" h="21600">
                <a:moveTo>
                  <a:pt x="35095" y="0"/>
                </a:moveTo>
                <a:lnTo>
                  <a:pt x="35095" y="21600"/>
                </a:lnTo>
                <a:lnTo>
                  <a:pt x="33695" y="20200"/>
                </a:lnTo>
                <a:lnTo>
                  <a:pt x="33695" y="1400"/>
                </a:lnTo>
                <a:close/>
              </a:path>
              <a:path fill="darkenLess" w="35095" h="21600">
                <a:moveTo>
                  <a:pt x="35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95" y="20200"/>
                </a:lnTo>
                <a:close/>
              </a:path>
              <a:path fill="lighten" w="35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95" h="21600">
                <a:moveTo>
                  <a:pt x="10541" y="7493"/>
                </a:moveTo>
                <a:lnTo>
                  <a:pt x="14048" y="7493"/>
                </a:lnTo>
                <a:lnTo>
                  <a:pt x="14048" y="12828"/>
                </a:lnTo>
                <a:cubicBezTo>
                  <a:pt x="14048" y="13751"/>
                  <a:pt x="14849" y="14482"/>
                  <a:pt x="15885" y="14482"/>
                </a:cubicBezTo>
                <a:lnTo>
                  <a:pt x="17547" y="14482"/>
                </a:lnTo>
                <a:cubicBezTo>
                  <a:pt x="18583" y="14482"/>
                  <a:pt x="19384" y="13751"/>
                  <a:pt x="19384" y="12828"/>
                </a:cubicBezTo>
                <a:lnTo>
                  <a:pt x="19384" y="7493"/>
                </a:lnTo>
                <a:lnTo>
                  <a:pt x="17547" y="7493"/>
                </a:lnTo>
                <a:lnTo>
                  <a:pt x="21055" y="3985"/>
                </a:lnTo>
                <a:lnTo>
                  <a:pt x="24728" y="7493"/>
                </a:lnTo>
                <a:lnTo>
                  <a:pt x="22891" y="7493"/>
                </a:lnTo>
                <a:lnTo>
                  <a:pt x="22891" y="12828"/>
                </a:lnTo>
                <a:cubicBezTo>
                  <a:pt x="22891" y="15596"/>
                  <a:pt x="20315" y="18155"/>
                  <a:pt x="17547" y="18155"/>
                </a:cubicBezTo>
                <a:lnTo>
                  <a:pt x="15885" y="18155"/>
                </a:lnTo>
                <a:cubicBezTo>
                  <a:pt x="13117" y="18155"/>
                  <a:pt x="10541" y="15596"/>
                  <a:pt x="10541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Garamond"/>
              </a:rPr>
              <a:t>Наклонная призма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- это призма, боковые рёбра которой не перпендикулярны основанию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266640" y="3833640"/>
            <a:ext cx="2161080" cy="2386080"/>
            <a:chOff x="3266640" y="3833640"/>
            <a:chExt cx="2161080" cy="2386080"/>
          </a:xfrm>
        </p:grpSpPr>
        <p:sp>
          <p:nvSpPr>
            <p:cNvPr id="405" name=""/>
            <p:cNvSpPr/>
            <p:nvPr/>
          </p:nvSpPr>
          <p:spPr>
            <a:xfrm>
              <a:off x="3627360" y="3835440"/>
              <a:ext cx="1349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627360" y="3835440"/>
              <a:ext cx="630360" cy="63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4257720" y="4105080"/>
              <a:ext cx="1170000" cy="36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4976280" y="3835440"/>
              <a:ext cx="451080" cy="270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67000" y="5589720"/>
              <a:ext cx="130500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267000" y="5589720"/>
              <a:ext cx="630360" cy="630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3897360" y="5859000"/>
              <a:ext cx="1123920" cy="36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4572000" y="5589360"/>
              <a:ext cx="449280" cy="26964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3266640" y="3835440"/>
              <a:ext cx="360360" cy="1754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3897000" y="4465800"/>
              <a:ext cx="360360" cy="1753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5020920" y="4105440"/>
              <a:ext cx="406440" cy="1753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4572000" y="3835440"/>
              <a:ext cx="404640" cy="175428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27360" y="3833640"/>
              <a:ext cx="0" cy="1890720"/>
            </a:xfrm>
            <a:prstGeom prst="line">
              <a:avLst/>
            </a:prstGeom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67000" y="5589720"/>
              <a:ext cx="360360" cy="134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333600" y="5353200"/>
              <a:ext cx="176400" cy="339480"/>
            </a:xfrm>
            <a:custGeom>
              <a:avLst/>
              <a:gdLst/>
              <a:ahLst/>
              <a:rect l="l" t="t" r="r" b="b"/>
              <a:pathLst>
                <a:path w="111" h="214">
                  <a:moveTo>
                    <a:pt x="0" y="0"/>
                  </a:moveTo>
                  <a:cubicBezTo>
                    <a:pt x="22" y="6"/>
                    <a:pt x="48" y="9"/>
                    <a:pt x="65" y="28"/>
                  </a:cubicBezTo>
                  <a:cubicBezTo>
                    <a:pt x="80" y="45"/>
                    <a:pt x="102" y="84"/>
                    <a:pt x="102" y="84"/>
                  </a:cubicBezTo>
                  <a:cubicBezTo>
                    <a:pt x="105" y="112"/>
                    <a:pt x="111" y="140"/>
                    <a:pt x="111" y="168"/>
                  </a:cubicBezTo>
                  <a:cubicBezTo>
                    <a:pt x="111" y="184"/>
                    <a:pt x="102" y="198"/>
                    <a:pt x="102" y="214"/>
                  </a:cubicBezTo>
                </a:path>
              </a:pathLst>
            </a:custGeom>
            <a:noFill/>
            <a:ln w="28440">
              <a:solidFill>
                <a:srgbClr val="cc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581280" y="4643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Garamond"/>
                </a:rPr>
                <a:t>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7993080" y="6308640"/>
            <a:ext cx="539640" cy="406440"/>
          </a:xfrm>
          <a:custGeom>
            <a:avLst/>
            <a:gdLst>
              <a:gd name="textAreaLeft" fmla="*/ 26280 w 539640"/>
              <a:gd name="textAreaRight" fmla="*/ 513360 w 53964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28673" h="21600">
                <a:moveTo>
                  <a:pt x="0" y="0"/>
                </a:moveTo>
                <a:lnTo>
                  <a:pt x="28673" y="0"/>
                </a:lnTo>
                <a:lnTo>
                  <a:pt x="28673" y="21600"/>
                </a:lnTo>
                <a:lnTo>
                  <a:pt x="0" y="21600"/>
                </a:lnTo>
                <a:close/>
              </a:path>
              <a:path fill="lightenLess" w="28673" h="21600">
                <a:moveTo>
                  <a:pt x="0" y="0"/>
                </a:moveTo>
                <a:lnTo>
                  <a:pt x="28673" y="0"/>
                </a:lnTo>
                <a:lnTo>
                  <a:pt x="27273" y="1400"/>
                </a:lnTo>
                <a:lnTo>
                  <a:pt x="1400" y="1400"/>
                </a:lnTo>
                <a:close/>
              </a:path>
              <a:path fill="darken" w="28673" h="21600">
                <a:moveTo>
                  <a:pt x="28673" y="0"/>
                </a:moveTo>
                <a:lnTo>
                  <a:pt x="28673" y="21600"/>
                </a:lnTo>
                <a:lnTo>
                  <a:pt x="27273" y="20200"/>
                </a:lnTo>
                <a:lnTo>
                  <a:pt x="27273" y="1400"/>
                </a:lnTo>
                <a:close/>
              </a:path>
              <a:path fill="darkenLess" w="28673" h="21600">
                <a:moveTo>
                  <a:pt x="28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73" y="20200"/>
                </a:lnTo>
                <a:close/>
              </a:path>
              <a:path fill="lighten" w="28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73" h="21600">
                <a:moveTo>
                  <a:pt x="7330" y="7493"/>
                </a:moveTo>
                <a:lnTo>
                  <a:pt x="10837" y="7493"/>
                </a:lnTo>
                <a:lnTo>
                  <a:pt x="10837" y="12828"/>
                </a:lnTo>
                <a:cubicBezTo>
                  <a:pt x="10837" y="13751"/>
                  <a:pt x="11638" y="14482"/>
                  <a:pt x="12674" y="14482"/>
                </a:cubicBezTo>
                <a:lnTo>
                  <a:pt x="14336" y="14482"/>
                </a:lnTo>
                <a:cubicBezTo>
                  <a:pt x="15372" y="14482"/>
                  <a:pt x="16173" y="13751"/>
                  <a:pt x="16173" y="12828"/>
                </a:cubicBezTo>
                <a:lnTo>
                  <a:pt x="16173" y="7493"/>
                </a:lnTo>
                <a:lnTo>
                  <a:pt x="14336" y="7493"/>
                </a:lnTo>
                <a:lnTo>
                  <a:pt x="17844" y="3985"/>
                </a:lnTo>
                <a:lnTo>
                  <a:pt x="21517" y="7493"/>
                </a:lnTo>
                <a:lnTo>
                  <a:pt x="19680" y="7493"/>
                </a:lnTo>
                <a:lnTo>
                  <a:pt x="19680" y="12828"/>
                </a:lnTo>
                <a:cubicBezTo>
                  <a:pt x="19680" y="15596"/>
                  <a:pt x="17104" y="18155"/>
                  <a:pt x="14336" y="18155"/>
                </a:cubicBezTo>
                <a:lnTo>
                  <a:pt x="12674" y="18155"/>
                </a:lnTo>
                <a:cubicBezTo>
                  <a:pt x="9906" y="18155"/>
                  <a:pt x="7330" y="15596"/>
                  <a:pt x="7330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3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Garamond"/>
              </a:rPr>
              <a:t>Поверхность призмы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96640" y="1088640"/>
            <a:ext cx="83898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99"/>
                </a:solidFill>
                <a:latin typeface="Garamond"/>
              </a:rPr>
              <a:t>Полная поверхность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1" lang="ru-RU" sz="4400" spc="-1" strike="noStrike" baseline="-25000">
                <a:solidFill>
                  <a:srgbClr val="ffffff"/>
                </a:solidFill>
                <a:latin typeface="Garamond"/>
              </a:rPr>
              <a:t>полн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baseline="-25000">
                <a:solidFill>
                  <a:srgbClr val="ffff00"/>
                </a:solidFill>
                <a:latin typeface="Garamond"/>
              </a:rPr>
              <a:t>Поверхность – это сумма площадей граней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0" y="1763640"/>
            <a:ext cx="8712360" cy="3267000"/>
            <a:chOff x="0" y="1763640"/>
            <a:chExt cx="8712360" cy="3267000"/>
          </a:xfrm>
        </p:grpSpPr>
        <p:sp>
          <p:nvSpPr>
            <p:cNvPr id="425" name=""/>
            <p:cNvSpPr/>
            <p:nvPr/>
          </p:nvSpPr>
          <p:spPr>
            <a:xfrm flipH="1">
              <a:off x="2411280" y="1763640"/>
              <a:ext cx="811440" cy="809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111640" y="1763640"/>
              <a:ext cx="900360" cy="809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0" y="3024360"/>
              <a:ext cx="4211640" cy="20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Garamond"/>
                </a:rPr>
                <a:t>Боковая поверхность </a:t>
              </a:r>
              <a:r>
                <a:rPr b="1" lang="en-US" sz="4000" spc="-1" strike="noStrike">
                  <a:solidFill>
                    <a:srgbClr val="ff3399"/>
                  </a:solidFill>
                  <a:latin typeface="Garamond"/>
                </a:rPr>
                <a:t>S</a:t>
              </a:r>
              <a:r>
                <a:rPr b="1" lang="ru-RU" sz="4000" spc="-1" strike="noStrike" baseline="-25000">
                  <a:solidFill>
                    <a:srgbClr val="ff3399"/>
                  </a:solidFill>
                  <a:latin typeface="Garamond"/>
                </a:rPr>
                <a:t>бок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86280" y="2933640"/>
              <a:ext cx="3826080" cy="20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Garamond"/>
                </a:rPr>
                <a:t>Поверхность оснований </a:t>
              </a:r>
              <a:r>
                <a:rPr b="1" lang="en-US" sz="4000" spc="-1" strike="noStrike">
                  <a:solidFill>
                    <a:srgbClr val="ff3399"/>
                  </a:solidFill>
                  <a:latin typeface="Garamond"/>
                </a:rPr>
                <a:t>S</a:t>
              </a:r>
              <a:r>
                <a:rPr b="1" lang="ru-RU" sz="4000" spc="-1" strike="noStrike" baseline="-25000">
                  <a:solidFill>
                    <a:srgbClr val="ff3399"/>
                  </a:solidFill>
                  <a:latin typeface="Garamond"/>
                </a:rPr>
                <a:t>осн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3807000" y="3384720"/>
            <a:ext cx="76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>
            <a:hlinkClick r:id="" action="ppaction://hlinkshowjump?jump=nextslide"/>
          </p:cNvPr>
          <p:cNvSpPr/>
          <p:nvPr/>
        </p:nvSpPr>
        <p:spPr>
          <a:xfrm>
            <a:off x="250920" y="6399360"/>
            <a:ext cx="630000" cy="315720"/>
          </a:xfrm>
          <a:custGeom>
            <a:avLst/>
            <a:gdLst>
              <a:gd name="textAreaLeft" fmla="*/ 20160 w 630000"/>
              <a:gd name="textAreaRight" fmla="*/ 609840 w 630000"/>
              <a:gd name="textAreaTop" fmla="*/ 20160 h 315720"/>
              <a:gd name="textAreaBottom" fmla="*/ 295560 h 315720"/>
            </a:gdLst>
            <a:ahLst/>
            <a:rect l="textAreaLeft" t="textAreaTop" r="textAreaRight" b="textAreaBottom"/>
            <a:pathLst>
              <a:path w="43077" h="21600">
                <a:moveTo>
                  <a:pt x="0" y="0"/>
                </a:moveTo>
                <a:lnTo>
                  <a:pt x="43077" y="0"/>
                </a:lnTo>
                <a:lnTo>
                  <a:pt x="43077" y="21600"/>
                </a:lnTo>
                <a:lnTo>
                  <a:pt x="0" y="21600"/>
                </a:lnTo>
                <a:close/>
              </a:path>
              <a:path fill="lightenLess" w="43077" h="21600">
                <a:moveTo>
                  <a:pt x="0" y="0"/>
                </a:moveTo>
                <a:lnTo>
                  <a:pt x="43077" y="0"/>
                </a:lnTo>
                <a:lnTo>
                  <a:pt x="41677" y="1400"/>
                </a:lnTo>
                <a:lnTo>
                  <a:pt x="1400" y="1400"/>
                </a:lnTo>
                <a:close/>
              </a:path>
              <a:path fill="darken" w="43077" h="21600">
                <a:moveTo>
                  <a:pt x="43077" y="0"/>
                </a:moveTo>
                <a:lnTo>
                  <a:pt x="43077" y="21600"/>
                </a:lnTo>
                <a:lnTo>
                  <a:pt x="41677" y="20200"/>
                </a:lnTo>
                <a:lnTo>
                  <a:pt x="41677" y="1400"/>
                </a:lnTo>
                <a:close/>
              </a:path>
              <a:path fill="darkenLess" w="43077" h="21600">
                <a:moveTo>
                  <a:pt x="43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7" y="20200"/>
                </a:lnTo>
                <a:close/>
              </a:path>
              <a:path fill="lighten" w="43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7" h="21600">
                <a:moveTo>
                  <a:pt x="14532" y="3794"/>
                </a:moveTo>
                <a:lnTo>
                  <a:pt x="28545" y="10800"/>
                </a:lnTo>
                <a:lnTo>
                  <a:pt x="14532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768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768" fill="hold"/>
                                        <p:tgtEl>
                                          <p:spTgt spid="4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2" dur="768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4" dur="768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998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998"/>
                            </p:stCondLst>
                            <p:childTnLst>
                              <p:par>
                                <p:cTn id="4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998"/>
                            </p:stCondLst>
                            <p:childTnLst>
                              <p:par>
                                <p:cTn id="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5920" y="-36720"/>
            <a:ext cx="88660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Garamond"/>
              </a:rPr>
              <a:t>Боковая поверхность прямой призмы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5920" y="1719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Теорема: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Боковая поверхность прямой призмы равна произведению периметра основания на длину бокового ребр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Дано: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рямая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-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гольная призма,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Garamond"/>
              </a:rPr>
              <a:t>1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а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Garamond"/>
              </a:rPr>
              <a:t>2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… 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n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стороны основания,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 -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боковое ребро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Доказать: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Garamond"/>
              </a:rPr>
              <a:t>бок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Garamond"/>
              </a:rPr>
              <a:t>осн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3" name="">
            <a:hlinkClick r:id="" action="ppaction://hlinkshowjump?jump=nextslide"/>
          </p:cNvPr>
          <p:cNvSpPr/>
          <p:nvPr/>
        </p:nvSpPr>
        <p:spPr>
          <a:xfrm>
            <a:off x="7858080" y="6129360"/>
            <a:ext cx="674640" cy="368280"/>
          </a:xfrm>
          <a:custGeom>
            <a:avLst/>
            <a:gdLst>
              <a:gd name="textAreaLeft" fmla="*/ 23760 w 674640"/>
              <a:gd name="textAreaRight" fmla="*/ 650880 w 67464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39551" h="21600">
                <a:moveTo>
                  <a:pt x="0" y="0"/>
                </a:moveTo>
                <a:lnTo>
                  <a:pt x="39551" y="0"/>
                </a:lnTo>
                <a:lnTo>
                  <a:pt x="39551" y="21600"/>
                </a:lnTo>
                <a:lnTo>
                  <a:pt x="0" y="21600"/>
                </a:lnTo>
                <a:close/>
              </a:path>
              <a:path fill="lightenLess" w="39551" h="21600">
                <a:moveTo>
                  <a:pt x="0" y="0"/>
                </a:moveTo>
                <a:lnTo>
                  <a:pt x="39551" y="0"/>
                </a:lnTo>
                <a:lnTo>
                  <a:pt x="38151" y="1400"/>
                </a:lnTo>
                <a:lnTo>
                  <a:pt x="1400" y="1400"/>
                </a:lnTo>
                <a:close/>
              </a:path>
              <a:path fill="darken" w="39551" h="21600">
                <a:moveTo>
                  <a:pt x="39551" y="0"/>
                </a:moveTo>
                <a:lnTo>
                  <a:pt x="39551" y="21600"/>
                </a:lnTo>
                <a:lnTo>
                  <a:pt x="38151" y="20200"/>
                </a:lnTo>
                <a:lnTo>
                  <a:pt x="38151" y="1400"/>
                </a:lnTo>
                <a:close/>
              </a:path>
              <a:path fill="darkenLess" w="39551" h="21600">
                <a:moveTo>
                  <a:pt x="39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51" y="20200"/>
                </a:lnTo>
                <a:close/>
              </a:path>
              <a:path fill="lighten" w="39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51" h="21600">
                <a:moveTo>
                  <a:pt x="12769" y="3794"/>
                </a:moveTo>
                <a:lnTo>
                  <a:pt x="26782" y="10800"/>
                </a:lnTo>
                <a:lnTo>
                  <a:pt x="1276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267000" y="6264360"/>
            <a:ext cx="175428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Вернуться к план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0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5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0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5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76280" y="-36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Garamond"/>
              </a:rPr>
              <a:t>Доказательство теоремы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31640" y="1223640"/>
            <a:ext cx="822960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Боковые грани прямой призмы – прямоугольники у которых сторонами являются стороны основания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призмы и боковые рёбра призмы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 , S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=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 …S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Garamond"/>
              </a:rPr>
              <a:t>бок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+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+…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 =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+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+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) l =P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Garamond"/>
              </a:rPr>
              <a:t>осн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Garamond"/>
              </a:rPr>
              <a:t>          </a:t>
            </a:r>
            <a:r>
              <a:rPr b="1" i="1" lang="ru-RU" sz="3200" spc="-1" strike="noStrike">
                <a:solidFill>
                  <a:srgbClr val="ffff00"/>
                </a:solidFill>
                <a:latin typeface="Garamond"/>
              </a:rPr>
              <a:t>Теорема доказа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7" name=""/>
          <p:cNvSpPr/>
          <p:nvPr/>
        </p:nvSpPr>
        <p:spPr>
          <a:xfrm>
            <a:off x="5292720" y="2843280"/>
            <a:ext cx="720720" cy="269640"/>
          </a:xfrm>
          <a:custGeom>
            <a:avLst/>
            <a:gdLst>
              <a:gd name="textAreaLeft" fmla="*/ 112320 w 720720"/>
              <a:gd name="textAreaRight" fmla="*/ 630720 w 720720"/>
              <a:gd name="textAreaTop" fmla="*/ 67320 h 269640"/>
              <a:gd name="textAreaBottom" fmla="*/ 202320 h 269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6911640" y="3833640"/>
            <a:ext cx="1800720" cy="2700360"/>
            <a:chOff x="6911640" y="3833640"/>
            <a:chExt cx="1800720" cy="2700360"/>
          </a:xfrm>
        </p:grpSpPr>
        <p:sp>
          <p:nvSpPr>
            <p:cNvPr id="439" name=""/>
            <p:cNvSpPr/>
            <p:nvPr/>
          </p:nvSpPr>
          <p:spPr>
            <a:xfrm>
              <a:off x="7093080" y="3833640"/>
              <a:ext cx="90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93080" y="3833640"/>
              <a:ext cx="674640" cy="405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8397720" y="4238640"/>
              <a:ext cx="270000" cy="225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542360" y="4464000"/>
              <a:ext cx="855360" cy="46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6911640" y="4103280"/>
              <a:ext cx="630360" cy="406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912000" y="3833640"/>
              <a:ext cx="181080" cy="270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37360" y="5859360"/>
              <a:ext cx="90000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37360" y="5859360"/>
              <a:ext cx="675000" cy="40500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8397720" y="6264360"/>
              <a:ext cx="314640" cy="225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7542360" y="6489720"/>
              <a:ext cx="855360" cy="44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6957720" y="6129360"/>
              <a:ext cx="584280" cy="40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6958080" y="5859360"/>
              <a:ext cx="181080" cy="27000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093080" y="3833640"/>
              <a:ext cx="44280" cy="202572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912000" y="4103640"/>
              <a:ext cx="44280" cy="2025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42360" y="4510080"/>
              <a:ext cx="0" cy="2023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993080" y="3833640"/>
              <a:ext cx="44280" cy="202572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397720" y="4464000"/>
              <a:ext cx="0" cy="2025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667720" y="4238640"/>
              <a:ext cx="44640" cy="2025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5562720" y="5724360"/>
            <a:ext cx="583920" cy="360360"/>
          </a:xfrm>
          <a:custGeom>
            <a:avLst/>
            <a:gdLst>
              <a:gd name="textAreaLeft" fmla="*/ 23040 w 583920"/>
              <a:gd name="textAreaRight" fmla="*/ 560880 w 583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987" h="21600">
                <a:moveTo>
                  <a:pt x="0" y="0"/>
                </a:moveTo>
                <a:lnTo>
                  <a:pt x="34987" y="0"/>
                </a:lnTo>
                <a:lnTo>
                  <a:pt x="34987" y="21600"/>
                </a:lnTo>
                <a:lnTo>
                  <a:pt x="0" y="21600"/>
                </a:lnTo>
                <a:close/>
              </a:path>
              <a:path fill="lightenLess" w="34987" h="21600">
                <a:moveTo>
                  <a:pt x="0" y="0"/>
                </a:moveTo>
                <a:lnTo>
                  <a:pt x="34987" y="0"/>
                </a:lnTo>
                <a:lnTo>
                  <a:pt x="33587" y="1400"/>
                </a:lnTo>
                <a:lnTo>
                  <a:pt x="1400" y="1400"/>
                </a:lnTo>
                <a:close/>
              </a:path>
              <a:path fill="darken" w="34987" h="21600">
                <a:moveTo>
                  <a:pt x="34987" y="0"/>
                </a:moveTo>
                <a:lnTo>
                  <a:pt x="34987" y="21600"/>
                </a:lnTo>
                <a:lnTo>
                  <a:pt x="33587" y="20200"/>
                </a:lnTo>
                <a:lnTo>
                  <a:pt x="33587" y="1400"/>
                </a:lnTo>
                <a:close/>
              </a:path>
              <a:path fill="darkenLess" w="34987" h="21600">
                <a:moveTo>
                  <a:pt x="34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87" y="20200"/>
                </a:lnTo>
                <a:close/>
              </a:path>
              <a:path fill="lighten" w="34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87" h="21600">
                <a:moveTo>
                  <a:pt x="10487" y="7493"/>
                </a:moveTo>
                <a:lnTo>
                  <a:pt x="13995" y="7493"/>
                </a:lnTo>
                <a:lnTo>
                  <a:pt x="13995" y="12828"/>
                </a:lnTo>
                <a:cubicBezTo>
                  <a:pt x="13995" y="13751"/>
                  <a:pt x="14795" y="14482"/>
                  <a:pt x="15831" y="14482"/>
                </a:cubicBezTo>
                <a:lnTo>
                  <a:pt x="17493" y="14482"/>
                </a:lnTo>
                <a:cubicBezTo>
                  <a:pt x="18529" y="14482"/>
                  <a:pt x="19330" y="13751"/>
                  <a:pt x="19330" y="12828"/>
                </a:cubicBezTo>
                <a:lnTo>
                  <a:pt x="19330" y="7493"/>
                </a:lnTo>
                <a:lnTo>
                  <a:pt x="17493" y="7493"/>
                </a:lnTo>
                <a:lnTo>
                  <a:pt x="21001" y="3985"/>
                </a:lnTo>
                <a:lnTo>
                  <a:pt x="24674" y="7493"/>
                </a:lnTo>
                <a:lnTo>
                  <a:pt x="22837" y="7493"/>
                </a:lnTo>
                <a:lnTo>
                  <a:pt x="22837" y="12828"/>
                </a:lnTo>
                <a:cubicBezTo>
                  <a:pt x="22837" y="15596"/>
                  <a:pt x="20261" y="18155"/>
                  <a:pt x="17493" y="18155"/>
                </a:cubicBezTo>
                <a:lnTo>
                  <a:pt x="15831" y="18155"/>
                </a:lnTo>
                <a:cubicBezTo>
                  <a:pt x="13063" y="18155"/>
                  <a:pt x="10487" y="15596"/>
                  <a:pt x="10487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898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1000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Особые сечения призмы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31280" y="1628280"/>
            <a:ext cx="4038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Garamond"/>
              </a:rPr>
              <a:t>Диагональное сечение –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это сечение проходящее через два боковых ребра, не принадлежащих одной гран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Garamond"/>
              </a:rPr>
              <a:t>Перпендикулярное сечение –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это сечение, проходящее перпендикулярно боковым ребра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969840" y="4327560"/>
            <a:ext cx="1982880" cy="1846080"/>
            <a:chOff x="969840" y="4327560"/>
            <a:chExt cx="1982880" cy="1846080"/>
          </a:xfrm>
        </p:grpSpPr>
        <p:sp>
          <p:nvSpPr>
            <p:cNvPr id="462" name=""/>
            <p:cNvSpPr/>
            <p:nvPr/>
          </p:nvSpPr>
          <p:spPr>
            <a:xfrm>
              <a:off x="1692360" y="5634000"/>
              <a:ext cx="80964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02000" y="5634000"/>
              <a:ext cx="450720" cy="27000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2276640" y="5904000"/>
              <a:ext cx="676080" cy="26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1466640" y="6173640"/>
              <a:ext cx="809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971640" y="5634000"/>
              <a:ext cx="720720" cy="22536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71640" y="5859360"/>
              <a:ext cx="495360" cy="314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690560" y="4327560"/>
              <a:ext cx="809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500200" y="4327560"/>
              <a:ext cx="451080" cy="270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2274480" y="4597560"/>
              <a:ext cx="676440" cy="26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1420920" y="4869000"/>
              <a:ext cx="853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969840" y="4327560"/>
              <a:ext cx="720720" cy="225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69840" y="4552920"/>
              <a:ext cx="451080" cy="314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971640" y="4552560"/>
              <a:ext cx="0" cy="1306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1420920" y="4869000"/>
              <a:ext cx="0" cy="1304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2276640" y="4869000"/>
              <a:ext cx="0" cy="130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2951280" y="4598640"/>
              <a:ext cx="0" cy="1305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1690560" y="4328640"/>
              <a:ext cx="0" cy="130500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2502000" y="4328640"/>
              <a:ext cx="0" cy="130500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1420920" y="5633640"/>
              <a:ext cx="1035000" cy="539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1420920" y="4373640"/>
              <a:ext cx="1081080" cy="4953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1420920" y="5182920"/>
              <a:ext cx="1081080" cy="585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1420920" y="5047920"/>
              <a:ext cx="1081080" cy="585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1420920" y="4912920"/>
              <a:ext cx="1081080" cy="6094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1420920" y="4822560"/>
              <a:ext cx="1081080" cy="584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1420920" y="4733640"/>
              <a:ext cx="1081080" cy="539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1420920" y="4598640"/>
              <a:ext cx="1081080" cy="539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1420920" y="4463640"/>
              <a:ext cx="1081080" cy="539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1420920" y="5317920"/>
              <a:ext cx="1081080" cy="585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1420920" y="5452920"/>
              <a:ext cx="1081080" cy="586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2006280" y="907920"/>
            <a:ext cx="4545360" cy="540000"/>
            <a:chOff x="2006280" y="907920"/>
            <a:chExt cx="4545360" cy="540000"/>
          </a:xfrm>
        </p:grpSpPr>
        <p:sp>
          <p:nvSpPr>
            <p:cNvPr id="492" name=""/>
            <p:cNvSpPr/>
            <p:nvPr/>
          </p:nvSpPr>
          <p:spPr>
            <a:xfrm flipH="1">
              <a:off x="2006280" y="954000"/>
              <a:ext cx="1035000" cy="493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72000" y="907920"/>
              <a:ext cx="1079640" cy="540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5518080" y="4014720"/>
            <a:ext cx="2160720" cy="2384640"/>
            <a:chOff x="5518080" y="4014720"/>
            <a:chExt cx="2160720" cy="2384640"/>
          </a:xfrm>
        </p:grpSpPr>
        <p:sp>
          <p:nvSpPr>
            <p:cNvPr id="495" name=""/>
            <p:cNvSpPr/>
            <p:nvPr/>
          </p:nvSpPr>
          <p:spPr>
            <a:xfrm>
              <a:off x="5878440" y="4014720"/>
              <a:ext cx="1349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878440" y="4014720"/>
              <a:ext cx="630360" cy="63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6508800" y="4284360"/>
              <a:ext cx="1170000" cy="36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 flipV="1">
              <a:off x="7227360" y="4014720"/>
              <a:ext cx="451080" cy="270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18080" y="5769000"/>
              <a:ext cx="130500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518080" y="5769000"/>
              <a:ext cx="630360" cy="63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6148440" y="6038640"/>
              <a:ext cx="1123920" cy="36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 flipV="1">
              <a:off x="6823080" y="5769000"/>
              <a:ext cx="449280" cy="27000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5519520" y="4014720"/>
              <a:ext cx="360360" cy="1754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6148080" y="4645080"/>
              <a:ext cx="360360" cy="1754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7272000" y="4284720"/>
              <a:ext cx="406440" cy="1754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6823080" y="4014720"/>
              <a:ext cx="404640" cy="175428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6372360" y="5138280"/>
              <a:ext cx="1079280" cy="1810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 flipV="1">
              <a:off x="5651640" y="5003640"/>
              <a:ext cx="720720" cy="3160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651640" y="5003640"/>
              <a:ext cx="1350720" cy="907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002360" y="5094360"/>
              <a:ext cx="449280" cy="44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877000" y="5003640"/>
              <a:ext cx="630000" cy="2700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146640" y="5049720"/>
              <a:ext cx="495360" cy="2239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372360" y="5049720"/>
              <a:ext cx="449280" cy="1796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686640" y="5094360"/>
              <a:ext cx="315720" cy="9036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958080" y="5094360"/>
              <a:ext cx="179280" cy="349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42000" y="4824360"/>
              <a:ext cx="179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5876640" y="4824360"/>
              <a:ext cx="44280" cy="17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651640" y="5229360"/>
              <a:ext cx="134640" cy="44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5786280" y="5138280"/>
              <a:ext cx="46080" cy="135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 flipV="1">
              <a:off x="7362360" y="4959000"/>
              <a:ext cx="135000" cy="44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7316640" y="4959360"/>
              <a:ext cx="46080" cy="135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997360" y="6354720"/>
            <a:ext cx="2070000" cy="6426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Вернуться к план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970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Призмы вокруг нас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792000" y="1268280"/>
            <a:ext cx="3824280" cy="327348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5427720" y="1224000"/>
            <a:ext cx="3060720" cy="304488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6012000" y="4643280"/>
            <a:ext cx="1803240" cy="180684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5"/>
          <a:stretch/>
        </p:blipFill>
        <p:spPr>
          <a:xfrm>
            <a:off x="1376280" y="4710240"/>
            <a:ext cx="3421080" cy="2103480"/>
          </a:xfrm>
          <a:prstGeom prst="rect">
            <a:avLst/>
          </a:prstGeom>
          <a:ln w="0">
            <a:noFill/>
          </a:ln>
        </p:spPr>
      </p:pic>
      <p:sp>
        <p:nvSpPr>
          <p:cNvPr id="528" name="">
            <a:hlinkClick r:id="" action="ppaction://hlinkshowjump?jump=firstslide"/>
          </p:cNvPr>
          <p:cNvSpPr/>
          <p:nvPr/>
        </p:nvSpPr>
        <p:spPr>
          <a:xfrm>
            <a:off x="8172360" y="6308640"/>
            <a:ext cx="630360" cy="316080"/>
          </a:xfrm>
          <a:custGeom>
            <a:avLst/>
            <a:gdLst>
              <a:gd name="textAreaLeft" fmla="*/ 20160 w 630360"/>
              <a:gd name="textAreaRight" fmla="*/ 610200 w 630360"/>
              <a:gd name="textAreaTop" fmla="*/ 20160 h 316080"/>
              <a:gd name="textAreaBottom" fmla="*/ 295920 h 316080"/>
            </a:gdLst>
            <a:ahLst/>
            <a:rect l="textAreaLeft" t="textAreaTop" r="textAreaRight" b="textAreaBottom"/>
            <a:pathLst>
              <a:path w="43053" h="21600">
                <a:moveTo>
                  <a:pt x="0" y="0"/>
                </a:moveTo>
                <a:lnTo>
                  <a:pt x="43053" y="0"/>
                </a:lnTo>
                <a:lnTo>
                  <a:pt x="43053" y="21600"/>
                </a:lnTo>
                <a:lnTo>
                  <a:pt x="0" y="21600"/>
                </a:lnTo>
                <a:close/>
              </a:path>
              <a:path fill="lightenLess" w="43053" h="21600">
                <a:moveTo>
                  <a:pt x="0" y="0"/>
                </a:moveTo>
                <a:lnTo>
                  <a:pt x="43053" y="0"/>
                </a:lnTo>
                <a:lnTo>
                  <a:pt x="41653" y="1400"/>
                </a:lnTo>
                <a:lnTo>
                  <a:pt x="1400" y="1400"/>
                </a:lnTo>
                <a:close/>
              </a:path>
              <a:path fill="darken" w="43053" h="21600">
                <a:moveTo>
                  <a:pt x="43053" y="0"/>
                </a:moveTo>
                <a:lnTo>
                  <a:pt x="43053" y="21600"/>
                </a:lnTo>
                <a:lnTo>
                  <a:pt x="41653" y="20200"/>
                </a:lnTo>
                <a:lnTo>
                  <a:pt x="41653" y="1400"/>
                </a:lnTo>
                <a:close/>
              </a:path>
              <a:path fill="darkenLess" w="43053" h="21600">
                <a:moveTo>
                  <a:pt x="430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53" y="20200"/>
                </a:lnTo>
                <a:close/>
              </a:path>
              <a:path fill="lighten" w="430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53" h="21600">
                <a:moveTo>
                  <a:pt x="18027" y="10800"/>
                </a:moveTo>
                <a:lnTo>
                  <a:pt x="28533" y="3794"/>
                </a:lnTo>
                <a:lnTo>
                  <a:pt x="28533" y="17806"/>
                </a:lnTo>
                <a:close/>
              </a:path>
              <a:path fill="darken" w="43053" h="21600">
                <a:moveTo>
                  <a:pt x="14520" y="3794"/>
                </a:moveTo>
                <a:lnTo>
                  <a:pt x="16182" y="3794"/>
                </a:lnTo>
                <a:lnTo>
                  <a:pt x="16182" y="17806"/>
                </a:lnTo>
                <a:lnTo>
                  <a:pt x="1452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2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6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4000"/>
                            </p:stCondLst>
                            <p:childTnLst>
                              <p:par>
                                <p:cTn id="5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0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6000"/>
                            </p:stCondLst>
                            <p:childTnLst>
                              <p:par>
                                <p:cTn id="5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00"/>
                </a:solidFill>
                <a:latin typeface="Garamond"/>
              </a:rPr>
              <a:t>План лекции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99"/>
                </a:solidFill>
                <a:uFillTx/>
                <a:latin typeface="Garamond"/>
                <a:hlinkClick r:id="rId2" action="ppaction://hlinksldjump"/>
              </a:rPr>
              <a:t>Понятие и чертёж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99"/>
                </a:solidFill>
                <a:uFillTx/>
                <a:latin typeface="Garamond"/>
                <a:hlinkClick r:id="rId3" action="ppaction://hlinksldjump"/>
              </a:rPr>
              <a:t>Элементы призм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99"/>
                </a:solidFill>
                <a:uFillTx/>
                <a:latin typeface="Garamond"/>
                <a:hlinkClick r:id="rId4" action="ppaction://hlinksldjump"/>
              </a:rPr>
              <a:t>Общие свойства приз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99"/>
                </a:solidFill>
                <a:uFillTx/>
                <a:latin typeface="Garamond"/>
                <a:hlinkClick r:id="rId5" action="ppaction://hlinksldjump"/>
              </a:rPr>
              <a:t>Виды призм и их особен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99"/>
                </a:solidFill>
                <a:uFillTx/>
                <a:latin typeface="Garamond"/>
                <a:hlinkClick r:id="rId6" action="ppaction://hlinksldjump"/>
              </a:rPr>
              <a:t>Поверхность приз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99"/>
                </a:solidFill>
                <a:uFillTx/>
                <a:latin typeface="Garamond"/>
                <a:hlinkClick r:id="rId7" action="ppaction://hlinksldjump"/>
              </a:rPr>
              <a:t>Сечения приз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змы вокруг на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Garamond"/>
              </a:rPr>
              <a:t>Понятие призмы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797000" y="1358640"/>
            <a:ext cx="40388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Призма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-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это многогранник состоящий из двух плоских многоугольников, лежащих в разных плоскостях и совмещаемых параллельным переносом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и всех отрезков, соединяющих соответствующие точки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этих многоугольник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1640" y="1179360"/>
            <a:ext cx="4005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Чертёж призмы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150920" y="2195640"/>
            <a:ext cx="2594160" cy="4174920"/>
            <a:chOff x="1150920" y="2195640"/>
            <a:chExt cx="2594160" cy="4174920"/>
          </a:xfrm>
        </p:grpSpPr>
        <p:sp>
          <p:nvSpPr>
            <p:cNvPr id="122" name=""/>
            <p:cNvSpPr/>
            <p:nvPr/>
          </p:nvSpPr>
          <p:spPr>
            <a:xfrm>
              <a:off x="1150920" y="2933640"/>
              <a:ext cx="0" cy="2951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71640" y="3419640"/>
              <a:ext cx="0" cy="29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40000" y="3419640"/>
              <a:ext cx="0" cy="29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32000" y="2195640"/>
              <a:ext cx="0" cy="29509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45080" y="2771640"/>
              <a:ext cx="0" cy="2951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19280" y="1763640"/>
            <a:ext cx="3673440" cy="4869000"/>
            <a:chOff x="719280" y="1763640"/>
            <a:chExt cx="3673440" cy="4869000"/>
          </a:xfrm>
        </p:grpSpPr>
        <p:sp>
          <p:nvSpPr>
            <p:cNvPr id="128" name=""/>
            <p:cNvSpPr/>
            <p:nvPr/>
          </p:nvSpPr>
          <p:spPr>
            <a:xfrm>
              <a:off x="2232000" y="1763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745080" y="241128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11640" y="32749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00360" y="2987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63640" y="24829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03640" y="4788000"/>
              <a:ext cx="4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A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Garamond"/>
                </a:rPr>
                <a:t>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16360" y="5291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57720" y="6264360"/>
              <a:ext cx="4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C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44720" y="60120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9280" y="57243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K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4681440" y="6308640"/>
            <a:ext cx="1870200" cy="6426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Вернуться к план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150560" y="2168640"/>
            <a:ext cx="2594520" cy="4176720"/>
            <a:chOff x="1150560" y="2168640"/>
            <a:chExt cx="2594520" cy="4176720"/>
          </a:xfrm>
        </p:grpSpPr>
        <p:sp>
          <p:nvSpPr>
            <p:cNvPr id="140" name=""/>
            <p:cNvSpPr/>
            <p:nvPr/>
          </p:nvSpPr>
          <p:spPr>
            <a:xfrm>
              <a:off x="1152360" y="2889360"/>
              <a:ext cx="719280" cy="5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71640" y="3402000"/>
              <a:ext cx="1368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240000" y="2744640"/>
              <a:ext cx="505080" cy="648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2231640" y="2168640"/>
              <a:ext cx="1513080" cy="57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52360" y="5840280"/>
              <a:ext cx="719280" cy="505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71640" y="6345360"/>
              <a:ext cx="1368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240000" y="5624640"/>
              <a:ext cx="50508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32000" y="5121360"/>
              <a:ext cx="1513080" cy="5032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1152000" y="5121360"/>
              <a:ext cx="1079640" cy="7189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150560" y="2187720"/>
              <a:ext cx="107964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150920" y="2168640"/>
            <a:ext cx="2565360" cy="4140000"/>
            <a:chOff x="1150920" y="2168640"/>
            <a:chExt cx="2565360" cy="4140000"/>
          </a:xfrm>
        </p:grpSpPr>
        <p:sp>
          <p:nvSpPr>
            <p:cNvPr id="151" name=""/>
            <p:cNvSpPr/>
            <p:nvPr/>
          </p:nvSpPr>
          <p:spPr>
            <a:xfrm>
              <a:off x="1150920" y="2168640"/>
              <a:ext cx="2565360" cy="1216080"/>
            </a:xfrm>
            <a:custGeom>
              <a:avLst/>
              <a:gdLst/>
              <a:ahLst/>
              <a:rect l="l" t="t" r="r" b="b"/>
              <a:pathLst>
                <a:path w="1616" h="766">
                  <a:moveTo>
                    <a:pt x="0" y="454"/>
                  </a:moveTo>
                  <a:lnTo>
                    <a:pt x="681" y="0"/>
                  </a:lnTo>
                  <a:lnTo>
                    <a:pt x="1616" y="340"/>
                  </a:lnTo>
                  <a:lnTo>
                    <a:pt x="1305" y="766"/>
                  </a:lnTo>
                  <a:lnTo>
                    <a:pt x="454" y="766"/>
                  </a:lnTo>
                  <a:lnTo>
                    <a:pt x="0" y="454"/>
                  </a:lnTo>
                  <a:close/>
                </a:path>
              </a:pathLst>
            </a:custGeom>
            <a:gradFill rotWithShape="0">
              <a:gsLst>
                <a:gs pos="0">
                  <a:srgbClr val="ffff00">
                    <a:alpha val="28235"/>
                  </a:srgbClr>
                </a:gs>
                <a:gs pos="100000">
                  <a:srgbClr val="757500">
                    <a:alpha val="23137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50920" y="5094360"/>
              <a:ext cx="2565360" cy="1214280"/>
            </a:xfrm>
            <a:custGeom>
              <a:avLst/>
              <a:gdLst/>
              <a:ahLst/>
              <a:rect l="l" t="t" r="r" b="b"/>
              <a:pathLst>
                <a:path w="1616" h="765">
                  <a:moveTo>
                    <a:pt x="0" y="482"/>
                  </a:moveTo>
                  <a:lnTo>
                    <a:pt x="426" y="765"/>
                  </a:lnTo>
                  <a:lnTo>
                    <a:pt x="1333" y="765"/>
                  </a:lnTo>
                  <a:lnTo>
                    <a:pt x="1616" y="340"/>
                  </a:lnTo>
                  <a:lnTo>
                    <a:pt x="681" y="0"/>
                  </a:lnTo>
                  <a:lnTo>
                    <a:pt x="0" y="482"/>
                  </a:lnTo>
                  <a:close/>
                </a:path>
              </a:pathLst>
            </a:custGeom>
            <a:gradFill rotWithShape="0">
              <a:gsLst>
                <a:gs pos="0">
                  <a:srgbClr val="ffff00">
                    <a:alpha val="33333"/>
                  </a:srgbClr>
                </a:gs>
                <a:gs pos="100000">
                  <a:srgbClr val="757500">
                    <a:alpha val="2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200"/>
                            </p:stCondLst>
                            <p:childTnLst>
                              <p:par>
                                <p:cTn id="5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" dur="1" fill="hold"/>
                                  <p:tgtEl>
                                    <p:spTgt spid="1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1280" y="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Элементы призмы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716000" y="907920"/>
            <a:ext cx="3888360" cy="1081080"/>
            <a:chOff x="4716000" y="907920"/>
            <a:chExt cx="3888360" cy="1081080"/>
          </a:xfrm>
        </p:grpSpPr>
        <p:sp>
          <p:nvSpPr>
            <p:cNvPr id="155" name=""/>
            <p:cNvSpPr/>
            <p:nvPr/>
          </p:nvSpPr>
          <p:spPr>
            <a:xfrm flipH="1">
              <a:off x="4716000" y="1197000"/>
              <a:ext cx="647640" cy="79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35640" y="907920"/>
              <a:ext cx="3168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Ребро основан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435640" y="1542960"/>
            <a:ext cx="2739240" cy="806400"/>
            <a:chOff x="5435640" y="1542960"/>
            <a:chExt cx="2739240" cy="806400"/>
          </a:xfrm>
        </p:grpSpPr>
        <p:sp>
          <p:nvSpPr>
            <p:cNvPr id="158" name=""/>
            <p:cNvSpPr/>
            <p:nvPr/>
          </p:nvSpPr>
          <p:spPr>
            <a:xfrm flipH="1">
              <a:off x="5435640" y="1844640"/>
              <a:ext cx="1008000" cy="50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84160" y="1542960"/>
              <a:ext cx="18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вершин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24000" y="3456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24000" y="2637000"/>
            <a:ext cx="2519280" cy="947160"/>
            <a:chOff x="324000" y="2637000"/>
            <a:chExt cx="2519280" cy="947160"/>
          </a:xfrm>
        </p:grpSpPr>
        <p:sp>
          <p:nvSpPr>
            <p:cNvPr id="162" name=""/>
            <p:cNvSpPr/>
            <p:nvPr/>
          </p:nvSpPr>
          <p:spPr>
            <a:xfrm>
              <a:off x="1835280" y="3357720"/>
              <a:ext cx="1008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4000" y="2637000"/>
              <a:ext cx="1726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Боковое ребр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500360" y="4437000"/>
            <a:ext cx="3311640" cy="1888920"/>
            <a:chOff x="4500360" y="4437000"/>
            <a:chExt cx="3311640" cy="1888920"/>
          </a:xfrm>
        </p:grpSpPr>
        <p:sp>
          <p:nvSpPr>
            <p:cNvPr id="165" name=""/>
            <p:cNvSpPr/>
            <p:nvPr/>
          </p:nvSpPr>
          <p:spPr>
            <a:xfrm flipH="1" flipV="1">
              <a:off x="4500360" y="4437000"/>
              <a:ext cx="1655640" cy="165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27640" y="58053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высот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0" y="3860640"/>
            <a:ext cx="3708360" cy="947160"/>
            <a:chOff x="0" y="3860640"/>
            <a:chExt cx="3708360" cy="947160"/>
          </a:xfrm>
        </p:grpSpPr>
        <p:sp>
          <p:nvSpPr>
            <p:cNvPr id="168" name=""/>
            <p:cNvSpPr/>
            <p:nvPr/>
          </p:nvSpPr>
          <p:spPr>
            <a:xfrm>
              <a:off x="1908000" y="4221000"/>
              <a:ext cx="1800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3860640"/>
              <a:ext cx="1908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диагонал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148360" y="3645000"/>
            <a:ext cx="3095640" cy="947160"/>
            <a:chOff x="5148360" y="3645000"/>
            <a:chExt cx="3095640" cy="947160"/>
          </a:xfrm>
        </p:grpSpPr>
        <p:sp>
          <p:nvSpPr>
            <p:cNvPr id="171" name=""/>
            <p:cNvSpPr/>
            <p:nvPr/>
          </p:nvSpPr>
          <p:spPr>
            <a:xfrm flipH="1">
              <a:off x="5148360" y="4076640"/>
              <a:ext cx="1224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43640" y="3645000"/>
              <a:ext cx="18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Боковая гран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8263080" y="6354720"/>
            <a:ext cx="404640" cy="233280"/>
          </a:xfrm>
          <a:custGeom>
            <a:avLst/>
            <a:gdLst>
              <a:gd name="textAreaLeft" fmla="*/ 15120 w 404640"/>
              <a:gd name="textAreaRight" fmla="*/ 389520 w 404640"/>
              <a:gd name="textAreaTop" fmla="*/ 15120 h 233280"/>
              <a:gd name="textAreaBottom" fmla="*/ 218160 h 233280"/>
            </a:gdLst>
            <a:ahLst/>
            <a:rect l="textAreaLeft" t="textAreaTop" r="textAreaRight" b="textAreaBottom"/>
            <a:pathLst>
              <a:path w="37442" h="21600">
                <a:moveTo>
                  <a:pt x="0" y="0"/>
                </a:moveTo>
                <a:lnTo>
                  <a:pt x="37442" y="0"/>
                </a:lnTo>
                <a:lnTo>
                  <a:pt x="37442" y="21600"/>
                </a:lnTo>
                <a:lnTo>
                  <a:pt x="0" y="21600"/>
                </a:lnTo>
                <a:close/>
              </a:path>
              <a:path fill="lightenLess" w="37442" h="21600">
                <a:moveTo>
                  <a:pt x="0" y="0"/>
                </a:moveTo>
                <a:lnTo>
                  <a:pt x="37442" y="0"/>
                </a:lnTo>
                <a:lnTo>
                  <a:pt x="36042" y="1400"/>
                </a:lnTo>
                <a:lnTo>
                  <a:pt x="1400" y="1400"/>
                </a:lnTo>
                <a:close/>
              </a:path>
              <a:path fill="darken" w="37442" h="21600">
                <a:moveTo>
                  <a:pt x="37442" y="0"/>
                </a:moveTo>
                <a:lnTo>
                  <a:pt x="37442" y="21600"/>
                </a:lnTo>
                <a:lnTo>
                  <a:pt x="36042" y="20200"/>
                </a:lnTo>
                <a:lnTo>
                  <a:pt x="36042" y="1400"/>
                </a:lnTo>
                <a:close/>
              </a:path>
              <a:path fill="darkenLess" w="37442" h="21600">
                <a:moveTo>
                  <a:pt x="374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42" y="20200"/>
                </a:lnTo>
                <a:close/>
              </a:path>
              <a:path fill="lighten" w="374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42" h="21600">
                <a:moveTo>
                  <a:pt x="11715" y="3794"/>
                </a:moveTo>
                <a:lnTo>
                  <a:pt x="25728" y="10800"/>
                </a:lnTo>
                <a:lnTo>
                  <a:pt x="11715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84360" y="4734000"/>
            <a:ext cx="4743360" cy="2373840"/>
            <a:chOff x="684360" y="4734000"/>
            <a:chExt cx="4743360" cy="2373840"/>
          </a:xfrm>
        </p:grpSpPr>
        <p:sp>
          <p:nvSpPr>
            <p:cNvPr id="175" name=""/>
            <p:cNvSpPr/>
            <p:nvPr/>
          </p:nvSpPr>
          <p:spPr>
            <a:xfrm>
              <a:off x="684360" y="5734080"/>
              <a:ext cx="2016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Нижнее основа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16280" y="4734000"/>
              <a:ext cx="2611440" cy="1216080"/>
            </a:xfrm>
            <a:custGeom>
              <a:avLst/>
              <a:gdLst/>
              <a:ahLst/>
              <a:rect l="l" t="t" r="r" b="b"/>
              <a:pathLst>
                <a:path w="1645" h="766">
                  <a:moveTo>
                    <a:pt x="0" y="454"/>
                  </a:moveTo>
                  <a:lnTo>
                    <a:pt x="709" y="0"/>
                  </a:lnTo>
                  <a:lnTo>
                    <a:pt x="1645" y="312"/>
                  </a:lnTo>
                  <a:lnTo>
                    <a:pt x="1333" y="766"/>
                  </a:lnTo>
                  <a:lnTo>
                    <a:pt x="454" y="766"/>
                  </a:lnTo>
                  <a:lnTo>
                    <a:pt x="0" y="45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502000" y="1763640"/>
            <a:ext cx="2952720" cy="4402080"/>
            <a:chOff x="2502000" y="1763640"/>
            <a:chExt cx="2952720" cy="4402080"/>
          </a:xfrm>
        </p:grpSpPr>
        <p:sp>
          <p:nvSpPr>
            <p:cNvPr id="178" name=""/>
            <p:cNvSpPr/>
            <p:nvPr/>
          </p:nvSpPr>
          <p:spPr>
            <a:xfrm flipH="1">
              <a:off x="2862000" y="1773360"/>
              <a:ext cx="1079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62360" y="2494080"/>
              <a:ext cx="719280" cy="503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640" y="2997360"/>
              <a:ext cx="13683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4950000" y="2349360"/>
              <a:ext cx="504720" cy="648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942000" y="1773360"/>
              <a:ext cx="1512720" cy="576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80000" y="248436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81640" y="2997360"/>
              <a:ext cx="0" cy="2950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50000" y="2997360"/>
              <a:ext cx="0" cy="2950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42000" y="1773360"/>
              <a:ext cx="0" cy="295092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54720" y="234936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62360" y="5445000"/>
              <a:ext cx="719280" cy="505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81640" y="5950080"/>
              <a:ext cx="13683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950000" y="5229360"/>
              <a:ext cx="50472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42000" y="4726080"/>
              <a:ext cx="1512720" cy="5032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2862000" y="4726080"/>
              <a:ext cx="1079640" cy="71892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2502000" y="5589720"/>
              <a:ext cx="935280" cy="57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45280" y="2492280"/>
              <a:ext cx="0" cy="295272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3581280" y="1773360"/>
              <a:ext cx="360360" cy="417672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45280" y="5157720"/>
              <a:ext cx="21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60920" y="5157720"/>
              <a:ext cx="0" cy="2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80000" y="1763640"/>
              <a:ext cx="2565360" cy="1260720"/>
            </a:xfrm>
            <a:custGeom>
              <a:avLst/>
              <a:gdLst/>
              <a:ahLst/>
              <a:rect l="l" t="t" r="r" b="b"/>
              <a:pathLst>
                <a:path w="1616" h="794">
                  <a:moveTo>
                    <a:pt x="0" y="482"/>
                  </a:moveTo>
                  <a:lnTo>
                    <a:pt x="680" y="0"/>
                  </a:lnTo>
                  <a:lnTo>
                    <a:pt x="1616" y="369"/>
                  </a:lnTo>
                  <a:lnTo>
                    <a:pt x="1304" y="766"/>
                  </a:lnTo>
                  <a:lnTo>
                    <a:pt x="425" y="794"/>
                  </a:lnTo>
                  <a:lnTo>
                    <a:pt x="0" y="48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80000" y="248436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81640" y="2997360"/>
              <a:ext cx="0" cy="2950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950000" y="2997360"/>
              <a:ext cx="0" cy="2950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942000" y="1773360"/>
              <a:ext cx="0" cy="295092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54720" y="234936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80000" y="248436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81640" y="2997360"/>
              <a:ext cx="0" cy="2950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950000" y="2997360"/>
              <a:ext cx="0" cy="2950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42000" y="1773360"/>
              <a:ext cx="0" cy="295092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54720" y="234936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53000" y="2475000"/>
              <a:ext cx="0" cy="2950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54640" y="298764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923000" y="298764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15000" y="176364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27720" y="234000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70280" y="2475000"/>
              <a:ext cx="0" cy="2950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71920" y="298764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940640" y="298764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32280" y="176364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45360" y="234000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70280" y="2475000"/>
              <a:ext cx="0" cy="2950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71920" y="298764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940640" y="298764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32280" y="176364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45360" y="234000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70280" y="2475000"/>
              <a:ext cx="0" cy="2950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71920" y="298764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940640" y="298764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32280" y="176364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45360" y="234000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70280" y="2475000"/>
              <a:ext cx="0" cy="2950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71920" y="298764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40640" y="298764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32280" y="176364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445360" y="234000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57360" y="998640"/>
            <a:ext cx="3328920" cy="1260360"/>
            <a:chOff x="657360" y="998640"/>
            <a:chExt cx="3328920" cy="1260360"/>
          </a:xfrm>
        </p:grpSpPr>
        <p:sp>
          <p:nvSpPr>
            <p:cNvPr id="235" name=""/>
            <p:cNvSpPr/>
            <p:nvPr/>
          </p:nvSpPr>
          <p:spPr>
            <a:xfrm>
              <a:off x="657360" y="998640"/>
              <a:ext cx="3328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Верхнее основа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322360" y="1538280"/>
              <a:ext cx="112428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862360" y="1763640"/>
            <a:ext cx="2609640" cy="1216080"/>
          </a:xfrm>
          <a:custGeom>
            <a:avLst/>
            <a:gdLst/>
            <a:ahLst/>
            <a:rect l="l" t="t" r="r" b="b"/>
            <a:pathLst>
              <a:path w="1644" h="766">
                <a:moveTo>
                  <a:pt x="0" y="482"/>
                </a:moveTo>
                <a:lnTo>
                  <a:pt x="680" y="0"/>
                </a:lnTo>
                <a:lnTo>
                  <a:pt x="1644" y="369"/>
                </a:lnTo>
                <a:lnTo>
                  <a:pt x="1304" y="766"/>
                </a:lnTo>
                <a:lnTo>
                  <a:pt x="453" y="766"/>
                </a:lnTo>
                <a:lnTo>
                  <a:pt x="0" y="482"/>
                </a:lnTo>
                <a:close/>
              </a:path>
            </a:pathLst>
          </a:custGeom>
          <a:solidFill>
            <a:srgbClr val="33cccc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906640" y="4734000"/>
            <a:ext cx="2565360" cy="1216080"/>
          </a:xfrm>
          <a:custGeom>
            <a:avLst/>
            <a:gdLst/>
            <a:ahLst/>
            <a:rect l="l" t="t" r="r" b="b"/>
            <a:pathLst>
              <a:path w="1616" h="766">
                <a:moveTo>
                  <a:pt x="0" y="454"/>
                </a:moveTo>
                <a:lnTo>
                  <a:pt x="425" y="766"/>
                </a:lnTo>
                <a:lnTo>
                  <a:pt x="1304" y="766"/>
                </a:lnTo>
                <a:lnTo>
                  <a:pt x="1616" y="312"/>
                </a:lnTo>
                <a:lnTo>
                  <a:pt x="680" y="0"/>
                </a:lnTo>
                <a:lnTo>
                  <a:pt x="0" y="454"/>
                </a:lnTo>
                <a:close/>
              </a:path>
            </a:pathLst>
          </a:custGeom>
          <a:solidFill>
            <a:srgbClr val="33cccc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437000" y="2484000"/>
            <a:ext cx="0" cy="297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932360" y="2349360"/>
            <a:ext cx="539640" cy="3600720"/>
          </a:xfrm>
          <a:custGeom>
            <a:avLst/>
            <a:gdLst/>
            <a:ahLst/>
            <a:rect l="l" t="t" r="r" b="b"/>
            <a:pathLst>
              <a:path w="340" h="2268">
                <a:moveTo>
                  <a:pt x="0" y="2268"/>
                </a:moveTo>
                <a:lnTo>
                  <a:pt x="0" y="425"/>
                </a:lnTo>
                <a:lnTo>
                  <a:pt x="340" y="0"/>
                </a:lnTo>
                <a:lnTo>
                  <a:pt x="312" y="1814"/>
                </a:lnTo>
                <a:lnTo>
                  <a:pt x="0" y="226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41640" y="1763640"/>
            <a:ext cx="1486080" cy="585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581280" y="5364000"/>
            <a:ext cx="46080" cy="5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122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13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7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13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4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Garamond"/>
              </a:rPr>
              <a:t>Элементы призмы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08864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Основания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–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это грани, совмещаемые параллельным переносо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Боковая грань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это грань, не являющаяся основание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Боковые рёбра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–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это отрезки, соединяющие соответствующие вершины основани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Вершины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–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это точки, являющиеся вершинами основани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Высота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–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это перпендикуляр, опущенный из одного основания на друго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Диагональ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это отрезок, соединяющий две вершины, не лежащие в одной гран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">
            <a:hlinkClick r:id="rId2" action="ppaction://hlinksldjump"/>
          </p:cNvPr>
          <p:cNvSpPr/>
          <p:nvPr/>
        </p:nvSpPr>
        <p:spPr>
          <a:xfrm>
            <a:off x="3222720" y="6308640"/>
            <a:ext cx="1709640" cy="6426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Вернуться к план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5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5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7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5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5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Garamond"/>
              </a:rPr>
              <a:t>Общие свойства призмы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Основания призмы рав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Основания призмы лежат в параллельных плоскост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У призмы боковые рёбра параллельны и рав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Любая боковая грань является параллелограмм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">
            <a:hlinkClick r:id="rId2" action="ppaction://hlinksldjump"/>
          </p:cNvPr>
          <p:cNvSpPr/>
          <p:nvPr/>
        </p:nvSpPr>
        <p:spPr>
          <a:xfrm>
            <a:off x="3176640" y="6308640"/>
            <a:ext cx="1709640" cy="6426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Вернуться к план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5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Garamond"/>
              </a:rPr>
              <a:t>Виды призм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0" name=""/>
          <p:cNvSpPr/>
          <p:nvPr/>
        </p:nvSpPr>
        <p:spPr>
          <a:xfrm>
            <a:off x="568440" y="911160"/>
            <a:ext cx="7785000" cy="9244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ff99"/>
                </a:solidFill>
                <a:uFillTx/>
                <a:latin typeface="Garamond"/>
                <a:hlinkClick r:id="rId2" action="ppaction://hlinksldjump"/>
              </a:rPr>
              <a:t>n –</a:t>
            </a:r>
            <a:r>
              <a:rPr b="0" lang="ru-RU" sz="4800" spc="-1" strike="noStrike" u="sng">
                <a:solidFill>
                  <a:srgbClr val="00ff99"/>
                </a:solidFill>
                <a:uFillTx/>
                <a:latin typeface="Garamond"/>
                <a:hlinkClick r:id="rId3" action="ppaction://hlinksldjump"/>
              </a:rPr>
              <a:t>угольная  призма</a:t>
            </a:r>
            <a:r>
              <a:rPr b="0" lang="en-US" sz="4800" spc="-1" strike="noStrike" u="sng">
                <a:solidFill>
                  <a:srgbClr val="00ff99"/>
                </a:solidFill>
                <a:uFillTx/>
                <a:latin typeface="Garamond"/>
                <a:hlinkClick r:id="rId4" action="ppaction://hlinksldjump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13080" y="1722600"/>
            <a:ext cx="539640" cy="539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2000" y="2306520"/>
            <a:ext cx="3735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99"/>
                </a:solidFill>
                <a:uFillTx/>
                <a:latin typeface="Garamond"/>
                <a:hlinkClick r:id="rId5" action="ppaction://hlinksldjump"/>
              </a:rPr>
              <a:t>Прямая приз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518080" y="1722600"/>
            <a:ext cx="541440" cy="583920"/>
          </a:xfrm>
          <a:prstGeom prst="downArrow">
            <a:avLst>
              <a:gd name="adj1" fmla="val 50000"/>
              <a:gd name="adj2" fmla="val 26961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97360" y="2394000"/>
            <a:ext cx="4140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99"/>
                </a:solidFill>
                <a:uFillTx/>
                <a:latin typeface="Garamond"/>
                <a:hlinkClick r:id="rId6" action="ppaction://hlinksldjump"/>
              </a:rPr>
              <a:t>Наклонная приз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006640" y="4869000"/>
            <a:ext cx="584280" cy="630000"/>
          </a:xfrm>
          <a:prstGeom prst="downArrow">
            <a:avLst>
              <a:gd name="adj1" fmla="val 50000"/>
              <a:gd name="adj2" fmla="val 2695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6280" y="5364000"/>
            <a:ext cx="3961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99"/>
                </a:solidFill>
                <a:uFillTx/>
                <a:latin typeface="Garamond"/>
                <a:hlinkClick r:id="rId7" action="ppaction://hlinksldjump"/>
              </a:rPr>
              <a:t>Правильная приз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8"/>
          <a:stretch/>
        </p:blipFill>
        <p:spPr>
          <a:xfrm>
            <a:off x="1332000" y="2933640"/>
            <a:ext cx="1709640" cy="16207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9"/>
          <a:stretch/>
        </p:blipFill>
        <p:spPr>
          <a:xfrm>
            <a:off x="5877000" y="3114720"/>
            <a:ext cx="1762200" cy="1398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986280" y="4869000"/>
            <a:ext cx="1214280" cy="180000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985920" y="4869000"/>
            <a:ext cx="1216440" cy="1800000"/>
            <a:chOff x="3985920" y="4869000"/>
            <a:chExt cx="1216440" cy="1800000"/>
          </a:xfrm>
        </p:grpSpPr>
        <p:sp>
          <p:nvSpPr>
            <p:cNvPr id="261" name=""/>
            <p:cNvSpPr/>
            <p:nvPr/>
          </p:nvSpPr>
          <p:spPr>
            <a:xfrm>
              <a:off x="4302000" y="4869000"/>
              <a:ext cx="0" cy="153036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02000" y="6399360"/>
              <a:ext cx="90036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3985920" y="6399360"/>
              <a:ext cx="315720" cy="2696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">
            <a:hlinkClick r:id="rId10" action="ppaction://hlinksldjump"/>
          </p:cNvPr>
          <p:cNvSpPr/>
          <p:nvPr/>
        </p:nvSpPr>
        <p:spPr>
          <a:xfrm>
            <a:off x="6102360" y="6264360"/>
            <a:ext cx="1755720" cy="6426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Вернуться к план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768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768" fill="hold"/>
                                        <p:tgtEl>
                                          <p:spTgt spid="2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6" dur="768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8" dur="768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998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498"/>
                            </p:stCondLst>
                            <p:childTnLst>
                              <p:par>
                                <p:cTn id="2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498"/>
                            </p:stCondLst>
                            <p:childTnLst>
                              <p:par>
                                <p:cTn id="2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498"/>
                            </p:stCondLst>
                            <p:childTnLst>
                              <p:par>
                                <p:cTn id="2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Garamond"/>
              </a:rPr>
              <a:t>N</a:t>
            </a:r>
            <a:r>
              <a:rPr b="1" lang="ru-RU" sz="6000" spc="-1" strike="noStrike">
                <a:solidFill>
                  <a:srgbClr val="ff9900"/>
                </a:solidFill>
                <a:latin typeface="Garamond"/>
              </a:rPr>
              <a:t>-угольная призма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41280" y="1179360"/>
            <a:ext cx="8229600" cy="54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ru-RU" sz="4400" spc="-1" strike="noStrike">
                <a:solidFill>
                  <a:srgbClr val="ffff00"/>
                </a:solidFill>
                <a:latin typeface="Garamond"/>
              </a:rPr>
              <a:t>это призма, в основании которой лежит 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n -</a:t>
            </a:r>
            <a:r>
              <a:rPr b="0" lang="ru-RU" sz="4400" spc="-1" strike="noStrike">
                <a:solidFill>
                  <a:srgbClr val="ffff00"/>
                </a:solidFill>
                <a:latin typeface="Garamond"/>
              </a:rPr>
              <a:t>угольник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927000" y="2933640"/>
            <a:ext cx="1214640" cy="2205000"/>
            <a:chOff x="927000" y="2933640"/>
            <a:chExt cx="1214640" cy="2205000"/>
          </a:xfrm>
        </p:grpSpPr>
        <p:sp>
          <p:nvSpPr>
            <p:cNvPr id="268" name=""/>
            <p:cNvSpPr/>
            <p:nvPr/>
          </p:nvSpPr>
          <p:spPr>
            <a:xfrm>
              <a:off x="927000" y="2933640"/>
              <a:ext cx="1214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27000" y="2933640"/>
              <a:ext cx="765360" cy="44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692360" y="2933640"/>
              <a:ext cx="449280" cy="44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27000" y="4689360"/>
              <a:ext cx="121464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27000" y="4689360"/>
              <a:ext cx="765360" cy="44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1692360" y="4689360"/>
              <a:ext cx="449280" cy="44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27000" y="2933640"/>
              <a:ext cx="0" cy="1755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92360" y="3382920"/>
              <a:ext cx="0" cy="1755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41640" y="2933640"/>
              <a:ext cx="0" cy="1755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57360" y="5724360"/>
            <a:ext cx="207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Garamond"/>
              </a:rPr>
              <a:t>Треугольная пр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4527360" y="4689360"/>
            <a:ext cx="448920" cy="2700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220560" y="2933640"/>
            <a:ext cx="2161080" cy="2384640"/>
            <a:chOff x="3220560" y="2933640"/>
            <a:chExt cx="2161080" cy="2384640"/>
          </a:xfrm>
        </p:grpSpPr>
        <p:sp>
          <p:nvSpPr>
            <p:cNvPr id="280" name=""/>
            <p:cNvSpPr/>
            <p:nvPr/>
          </p:nvSpPr>
          <p:spPr>
            <a:xfrm>
              <a:off x="3581280" y="2933640"/>
              <a:ext cx="1349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581280" y="2933640"/>
              <a:ext cx="630360" cy="63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4211640" y="3203280"/>
              <a:ext cx="1170000" cy="36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4930920" y="2933640"/>
              <a:ext cx="450720" cy="270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220920" y="4687920"/>
              <a:ext cx="130500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220920" y="4687920"/>
              <a:ext cx="630360" cy="63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3851280" y="4957560"/>
              <a:ext cx="1123920" cy="36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3220560" y="2933640"/>
              <a:ext cx="360360" cy="1754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0920" y="3564000"/>
              <a:ext cx="360360" cy="1754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4974840" y="3203640"/>
              <a:ext cx="406440" cy="1754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4525560" y="2933640"/>
              <a:ext cx="405000" cy="175428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132000" y="5815080"/>
            <a:ext cx="274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Garamond"/>
              </a:rPr>
              <a:t>Четырёхугольная пр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92720" y="5815080"/>
            <a:ext cx="29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Garamond"/>
              </a:rPr>
              <a:t>Шестиугольная пр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8352000" y="6354720"/>
            <a:ext cx="495000" cy="316080"/>
          </a:xfrm>
          <a:custGeom>
            <a:avLst/>
            <a:gdLst>
              <a:gd name="textAreaLeft" fmla="*/ 20160 w 495000"/>
              <a:gd name="textAreaRight" fmla="*/ 474840 w 495000"/>
              <a:gd name="textAreaTop" fmla="*/ 20160 h 316080"/>
              <a:gd name="textAreaBottom" fmla="*/ 295920 h 316080"/>
            </a:gdLst>
            <a:ahLst/>
            <a:rect l="textAreaLeft" t="textAreaTop" r="textAreaRight" b="textAreaBottom"/>
            <a:pathLst>
              <a:path w="33813" h="21600">
                <a:moveTo>
                  <a:pt x="0" y="0"/>
                </a:moveTo>
                <a:lnTo>
                  <a:pt x="33813" y="0"/>
                </a:lnTo>
                <a:lnTo>
                  <a:pt x="33813" y="21600"/>
                </a:lnTo>
                <a:lnTo>
                  <a:pt x="0" y="21600"/>
                </a:lnTo>
                <a:close/>
              </a:path>
              <a:path fill="lightenLess" w="33813" h="21600">
                <a:moveTo>
                  <a:pt x="0" y="0"/>
                </a:moveTo>
                <a:lnTo>
                  <a:pt x="33813" y="0"/>
                </a:lnTo>
                <a:lnTo>
                  <a:pt x="32413" y="1400"/>
                </a:lnTo>
                <a:lnTo>
                  <a:pt x="1400" y="1400"/>
                </a:lnTo>
                <a:close/>
              </a:path>
              <a:path fill="darken" w="33813" h="21600">
                <a:moveTo>
                  <a:pt x="33813" y="0"/>
                </a:moveTo>
                <a:lnTo>
                  <a:pt x="33813" y="21600"/>
                </a:lnTo>
                <a:lnTo>
                  <a:pt x="32413" y="20200"/>
                </a:lnTo>
                <a:lnTo>
                  <a:pt x="32413" y="1400"/>
                </a:lnTo>
                <a:close/>
              </a:path>
              <a:path fill="darkenLess" w="33813" h="21600">
                <a:moveTo>
                  <a:pt x="338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13" y="20200"/>
                </a:lnTo>
                <a:close/>
              </a:path>
              <a:path fill="lighten" w="338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13" h="21600">
                <a:moveTo>
                  <a:pt x="9900" y="7493"/>
                </a:moveTo>
                <a:lnTo>
                  <a:pt x="13408" y="7493"/>
                </a:lnTo>
                <a:lnTo>
                  <a:pt x="13408" y="12828"/>
                </a:lnTo>
                <a:cubicBezTo>
                  <a:pt x="13408" y="13751"/>
                  <a:pt x="14208" y="14482"/>
                  <a:pt x="15244" y="14482"/>
                </a:cubicBezTo>
                <a:lnTo>
                  <a:pt x="16906" y="14482"/>
                </a:lnTo>
                <a:cubicBezTo>
                  <a:pt x="17942" y="14482"/>
                  <a:pt x="18743" y="13751"/>
                  <a:pt x="18743" y="12828"/>
                </a:cubicBezTo>
                <a:lnTo>
                  <a:pt x="18743" y="7493"/>
                </a:lnTo>
                <a:lnTo>
                  <a:pt x="16906" y="7493"/>
                </a:lnTo>
                <a:lnTo>
                  <a:pt x="20414" y="3985"/>
                </a:lnTo>
                <a:lnTo>
                  <a:pt x="24087" y="7493"/>
                </a:lnTo>
                <a:lnTo>
                  <a:pt x="22251" y="7493"/>
                </a:lnTo>
                <a:lnTo>
                  <a:pt x="22251" y="12828"/>
                </a:lnTo>
                <a:cubicBezTo>
                  <a:pt x="22251" y="15596"/>
                  <a:pt x="19674" y="18155"/>
                  <a:pt x="16906" y="18155"/>
                </a:cubicBezTo>
                <a:lnTo>
                  <a:pt x="15244" y="18155"/>
                </a:lnTo>
                <a:cubicBezTo>
                  <a:pt x="12476" y="18155"/>
                  <a:pt x="9900" y="15596"/>
                  <a:pt x="9900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551640" y="2754000"/>
            <a:ext cx="1800000" cy="2745000"/>
            <a:chOff x="6551640" y="2754000"/>
            <a:chExt cx="1800000" cy="2745000"/>
          </a:xfrm>
        </p:grpSpPr>
        <p:sp>
          <p:nvSpPr>
            <p:cNvPr id="295" name=""/>
            <p:cNvSpPr/>
            <p:nvPr/>
          </p:nvSpPr>
          <p:spPr>
            <a:xfrm>
              <a:off x="6732360" y="2754360"/>
              <a:ext cx="900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632720" y="2754360"/>
              <a:ext cx="674640" cy="40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8037360" y="3159000"/>
              <a:ext cx="270000" cy="225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6551640" y="3023640"/>
              <a:ext cx="630000" cy="406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6551640" y="2754000"/>
              <a:ext cx="180720" cy="26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77000" y="4780080"/>
              <a:ext cx="90000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677000" y="4780080"/>
              <a:ext cx="674640" cy="40464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8037000" y="5184720"/>
              <a:ext cx="314280" cy="225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7181280" y="5410080"/>
              <a:ext cx="855720" cy="4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6597720" y="5049360"/>
              <a:ext cx="583920" cy="405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6597720" y="4779720"/>
              <a:ext cx="180720" cy="26964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732360" y="2754360"/>
              <a:ext cx="44640" cy="202572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037360" y="3384360"/>
              <a:ext cx="0" cy="2025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307360" y="3159000"/>
              <a:ext cx="44280" cy="2025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83440" y="3475080"/>
              <a:ext cx="0" cy="2023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54880" y="3024000"/>
              <a:ext cx="44280" cy="2025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341280" y="1179360"/>
            <a:ext cx="8229600" cy="54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7137360" y="2754360"/>
            <a:ext cx="900000" cy="2023920"/>
            <a:chOff x="7137360" y="2754360"/>
            <a:chExt cx="900000" cy="2023920"/>
          </a:xfrm>
        </p:grpSpPr>
        <p:sp>
          <p:nvSpPr>
            <p:cNvPr id="313" name=""/>
            <p:cNvSpPr/>
            <p:nvPr/>
          </p:nvSpPr>
          <p:spPr>
            <a:xfrm flipV="1">
              <a:off x="7137360" y="3384360"/>
              <a:ext cx="900000" cy="44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7677000" y="2754360"/>
              <a:ext cx="0" cy="202392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Garamond"/>
              </a:rPr>
              <a:t>Прямая призма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8229600" cy="57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Garamond"/>
              </a:rPr>
              <a:t>- это призма, боковые рёбра которой перпендикулярны основанию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Garamond"/>
              </a:rPr>
              <a:t>Её высота равна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    </a:t>
            </a:r>
            <a:r>
              <a:rPr b="0" lang="ru-RU" sz="4400" spc="-1" strike="noStrike">
                <a:solidFill>
                  <a:srgbClr val="ffff00"/>
                </a:solidFill>
                <a:latin typeface="Garamond"/>
              </a:rPr>
              <a:t>боковому ребру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"/>
          <p:cNvSpPr/>
          <p:nvPr/>
        </p:nvSpPr>
        <p:spPr>
          <a:xfrm>
            <a:off x="8325000" y="4491000"/>
            <a:ext cx="5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>
            <a:hlinkClick r:id="rId2" action="ppaction://hlinksldjump"/>
          </p:cNvPr>
          <p:cNvSpPr/>
          <p:nvPr/>
        </p:nvSpPr>
        <p:spPr>
          <a:xfrm>
            <a:off x="4662360" y="6308640"/>
            <a:ext cx="449280" cy="360360"/>
          </a:xfrm>
          <a:custGeom>
            <a:avLst/>
            <a:gdLst>
              <a:gd name="textAreaLeft" fmla="*/ 23040 w 449280"/>
              <a:gd name="textAreaRight" fmla="*/ 426240 w 44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6925" h="21600">
                <a:moveTo>
                  <a:pt x="0" y="0"/>
                </a:moveTo>
                <a:lnTo>
                  <a:pt x="26925" y="0"/>
                </a:lnTo>
                <a:lnTo>
                  <a:pt x="26925" y="21600"/>
                </a:lnTo>
                <a:lnTo>
                  <a:pt x="0" y="21600"/>
                </a:lnTo>
                <a:close/>
              </a:path>
              <a:path fill="lightenLess" w="26925" h="21600">
                <a:moveTo>
                  <a:pt x="0" y="0"/>
                </a:moveTo>
                <a:lnTo>
                  <a:pt x="26925" y="0"/>
                </a:lnTo>
                <a:lnTo>
                  <a:pt x="25525" y="1400"/>
                </a:lnTo>
                <a:lnTo>
                  <a:pt x="1400" y="1400"/>
                </a:lnTo>
                <a:close/>
              </a:path>
              <a:path fill="darken" w="26925" h="21600">
                <a:moveTo>
                  <a:pt x="26925" y="0"/>
                </a:moveTo>
                <a:lnTo>
                  <a:pt x="26925" y="21600"/>
                </a:lnTo>
                <a:lnTo>
                  <a:pt x="25525" y="20200"/>
                </a:lnTo>
                <a:lnTo>
                  <a:pt x="25525" y="1400"/>
                </a:lnTo>
                <a:close/>
              </a:path>
              <a:path fill="darkenLess" w="26925" h="21600">
                <a:moveTo>
                  <a:pt x="269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25" y="20200"/>
                </a:lnTo>
                <a:close/>
              </a:path>
              <a:path fill="lighten" w="269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25" h="21600">
                <a:moveTo>
                  <a:pt x="6456" y="7493"/>
                </a:moveTo>
                <a:lnTo>
                  <a:pt x="9963" y="7493"/>
                </a:lnTo>
                <a:lnTo>
                  <a:pt x="9963" y="12828"/>
                </a:lnTo>
                <a:cubicBezTo>
                  <a:pt x="9963" y="13751"/>
                  <a:pt x="10764" y="14482"/>
                  <a:pt x="11800" y="14482"/>
                </a:cubicBezTo>
                <a:lnTo>
                  <a:pt x="13462" y="14482"/>
                </a:lnTo>
                <a:cubicBezTo>
                  <a:pt x="14498" y="14482"/>
                  <a:pt x="15299" y="13751"/>
                  <a:pt x="15299" y="12828"/>
                </a:cubicBezTo>
                <a:lnTo>
                  <a:pt x="15299" y="7493"/>
                </a:lnTo>
                <a:lnTo>
                  <a:pt x="13462" y="7493"/>
                </a:lnTo>
                <a:lnTo>
                  <a:pt x="16970" y="3985"/>
                </a:lnTo>
                <a:lnTo>
                  <a:pt x="20643" y="7493"/>
                </a:lnTo>
                <a:lnTo>
                  <a:pt x="18806" y="7493"/>
                </a:lnTo>
                <a:lnTo>
                  <a:pt x="18806" y="12828"/>
                </a:lnTo>
                <a:cubicBezTo>
                  <a:pt x="18806" y="15596"/>
                  <a:pt x="16230" y="18155"/>
                  <a:pt x="13462" y="18155"/>
                </a:cubicBezTo>
                <a:lnTo>
                  <a:pt x="11800" y="18155"/>
                </a:lnTo>
                <a:cubicBezTo>
                  <a:pt x="9032" y="18155"/>
                  <a:pt x="6456" y="15596"/>
                  <a:pt x="6456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5651640" y="2484000"/>
            <a:ext cx="2628720" cy="4185000"/>
            <a:chOff x="5651640" y="2484000"/>
            <a:chExt cx="2628720" cy="4185000"/>
          </a:xfrm>
        </p:grpSpPr>
        <p:sp>
          <p:nvSpPr>
            <p:cNvPr id="320" name=""/>
            <p:cNvSpPr/>
            <p:nvPr/>
          </p:nvSpPr>
          <p:spPr>
            <a:xfrm flipH="1">
              <a:off x="5670720" y="2484360"/>
              <a:ext cx="1079280" cy="72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70720" y="3205080"/>
              <a:ext cx="718920" cy="503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389640" y="3708360"/>
              <a:ext cx="1368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7758000" y="3060360"/>
              <a:ext cx="505080" cy="647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flipV="1">
              <a:off x="6749640" y="2484000"/>
              <a:ext cx="1513080" cy="576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670720" y="3222360"/>
              <a:ext cx="0" cy="2951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389640" y="3708360"/>
              <a:ext cx="0" cy="2950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740720" y="3717720"/>
              <a:ext cx="0" cy="2951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50000" y="2484360"/>
              <a:ext cx="0" cy="295092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63080" y="3060720"/>
              <a:ext cx="17280" cy="28620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70720" y="6156000"/>
              <a:ext cx="718920" cy="505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389640" y="6661080"/>
              <a:ext cx="1368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7758000" y="5940360"/>
              <a:ext cx="505080" cy="72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50000" y="5437080"/>
              <a:ext cx="1513080" cy="50328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670720" y="5437080"/>
              <a:ext cx="1079280" cy="71892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670720" y="5562360"/>
              <a:ext cx="314280" cy="27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985000" y="560700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70720" y="5878440"/>
              <a:ext cx="179280" cy="17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850000" y="6057720"/>
              <a:ext cx="0" cy="225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380360" y="3267000"/>
              <a:ext cx="0" cy="295092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958080" y="4410000"/>
              <a:ext cx="360360" cy="581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Garamond"/>
                </a:rPr>
                <a:t>h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80360" y="5922720"/>
              <a:ext cx="2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05720" y="5922720"/>
              <a:ext cx="0" cy="27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51640" y="3240000"/>
              <a:ext cx="0" cy="2950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407360" y="3240000"/>
              <a:ext cx="0" cy="295092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85080" y="442728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h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434360" y="3257280"/>
              <a:ext cx="0" cy="295128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1:00:51Z</dcterms:created>
  <dc:creator>Наталья</dc:creator>
  <dc:description/>
  <dc:language>en-US</dc:language>
  <cp:lastModifiedBy>Наталья</cp:lastModifiedBy>
  <dcterms:modified xsi:type="dcterms:W3CDTF">2008-10-19T12:14:21Z</dcterms:modified>
  <cp:revision>8</cp:revision>
  <dc:subject/>
  <dc:title>Слайд 1</dc:title>
</cp:coreProperties>
</file>