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4232-6F56-4E8D-B14B-8CB5BA3280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3F1-06DB-4F0D-8DD7-A645FD00EA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607-CA59-4F69-B855-E5D7DC98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58B-095B-4E83-B692-AEEA0B9E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6C6-DE0D-4A18-85EE-BB8607A2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888-A402-4FA6-8824-131275CC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B65-920E-49F9-AE39-1C0F0D44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E296-10D0-46C3-91FB-A6AAE58F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FD7-20C6-4CBA-9D59-10BCB761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2EB1-1480-45E8-81CD-EF90731E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6CAD-5332-4C10-9973-77DC37D1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D91-CF20-4F97-85B2-7B7FA6DE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271-3102-4DAF-A30C-82FE496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7F1-47A5-482D-AF38-021F8845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A689-C383-4673-8BD8-F182E0E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96A-2536-4764-A0D7-C0E4ED0A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658E-1738-45B4-ABFF-93E9630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4720-2869-4F18-BA25-0B91D957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8AD-658F-4585-993B-2B2563AE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2AC-D99F-4B8F-B5A8-886178C3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00E-DFAB-443F-B10D-E121211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029-10DD-4982-8503-425FD831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F9B-3135-4AB9-9313-24397A8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820-7665-4EA8-8964-9FAB30EF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28E-BA9D-4AD4-B7C0-E43D9F4C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C1E-B416-479C-B51A-D32EB37E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77ED-B8DE-4A50-9AC1-D9DAB6BC9A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0148-EFF5-4CF2-88D1-0D64B81DAF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toy07_05401_123big"/>
          <p:cNvPicPr/>
          <p:nvPr/>
        </p:nvPicPr>
        <p:blipFill>
          <a:blip r:embed="rId1"/>
          <a:stretch/>
        </p:blipFill>
        <p:spPr>
          <a:xfrm>
            <a:off x="755640" y="0"/>
            <a:ext cx="7623360" cy="4916520"/>
          </a:xfrm>
          <a:prstGeom prst="rect">
            <a:avLst/>
          </a:prstGeom>
          <a:ln w="0">
            <a:noFill/>
          </a:ln>
        </p:spPr>
      </p:pic>
      <p:sp>
        <p:nvSpPr>
          <p:cNvPr id="219" name="WordArt 5"/>
          <p:cNvSpPr txBox="1"/>
          <p:nvPr/>
        </p:nvSpPr>
        <p:spPr>
          <a:xfrm>
            <a:off x="324000" y="5084640"/>
            <a:ext cx="82008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ок-морское путешествие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54520" y="5997600"/>
            <a:ext cx="40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теме «Имя прилагательное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3120" y="126828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627640" y="189000"/>
            <a:ext cx="4009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орм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рю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уб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мбу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Имена прилагательные изменяются по родам, числам, падежа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 Имена прилагательные во множественном числе по родам не изменяю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По падежу имени существительного можно узнать падеж имени прилагательного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атрос_кий, со_нц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_питанский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о_кие, к_ю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687840" y="157644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637440" y="155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5942160" y="1384200"/>
            <a:ext cx="53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918520" y="3213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204720" y="494172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079240" y="49417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Barents_Sea_map"/>
          <p:cNvPicPr/>
          <p:nvPr/>
        </p:nvPicPr>
        <p:blipFill>
          <a:blip r:embed="rId1"/>
          <a:stretch/>
        </p:blipFill>
        <p:spPr>
          <a:xfrm>
            <a:off x="900000" y="0"/>
            <a:ext cx="74898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5"/>
          <p:cNvSpPr/>
          <p:nvPr/>
        </p:nvSpPr>
        <p:spPr>
          <a:xfrm>
            <a:off x="542880" y="18900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угу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42520" y="83664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умя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44680" y="1484280"/>
            <a:ext cx="32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ошади__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73040" y="2060640"/>
            <a:ext cx="30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еде__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43600" y="2637000"/>
            <a:ext cx="31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Шерстя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43960" y="321300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__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42520" y="3789360"/>
            <a:ext cx="312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юкве__у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3240" y="436572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озястве__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44680" y="5013360"/>
            <a:ext cx="35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врем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43240" y="5661000"/>
            <a:ext cx="28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обе__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4716360" y="404640"/>
            <a:ext cx="503280" cy="5977080"/>
          </a:xfrm>
          <a:custGeom>
            <a:avLst/>
            <a:gdLst>
              <a:gd name="textAreaLeft" fmla="*/ 0 w 503280"/>
              <a:gd name="textAreaRight" fmla="*/ 181800 w 503280"/>
              <a:gd name="textAreaTop" fmla="*/ 155880 h 5977080"/>
              <a:gd name="textAreaBottom" fmla="*/ 582120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222880" y="256536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Н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1549080" y="2602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1909440" y="907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2557440" y="148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5992920" y="5508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980720" y="2060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2465280" y="2700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3493800" y="3213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2269800" y="3789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2701440" y="43657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2628360" y="508464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2052000" y="57340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9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и мама и пап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живу хорошо. У меня есть свой дом. Он ____ . А ещё у нас ______ печка есть. Здоровье-то у меня не очень: то лапы ломит, то хвост отваливается. Потому что, _______ мои мама и папа, у меня была _______ жизнь, полная лишений и выгоня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на днях я линять начал. _______ шерсть с меня сыплется – хоть в дом не заходи. Зато ______ шерсть растёт - ______, __________! Просто каракуль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______ папа и мама, вы меня теперь не узнаете, хвост у меня крючком, уши торчком, нос _______, и лохматость повысила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видания. Ваш сын – дядя Шар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720920" y="78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610720" y="121608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ёпл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058360" y="2008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761280" y="23670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лож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222880" y="321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ар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87600" y="400536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4553280" y="3951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5922000" y="402444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шелковис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666360" y="48164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ро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69800" y="55897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холод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497"/>
          <p:cNvSpPr txBox="1"/>
          <p:nvPr/>
        </p:nvSpPr>
        <p:spPr>
          <a:xfrm>
            <a:off x="123840" y="1268280"/>
            <a:ext cx="90201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частливого 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вания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27:27Z</dcterms:created>
  <dc:creator>ruschuv</dc:creator>
  <dc:description/>
  <dc:language>en-US</dc:language>
  <cp:lastModifiedBy>COMP</cp:lastModifiedBy>
  <dcterms:modified xsi:type="dcterms:W3CDTF">2011-10-13T09:27:18Z</dcterms:modified>
  <cp:revision>9</cp:revision>
  <dc:subject/>
  <dc:title>Слайд 1</dc:title>
</cp:coreProperties>
</file>