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03A1-3898-4DDD-AAA8-0466817535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0837-1DB1-4F0B-B1F4-C4803FA0BE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E29-8B17-4806-B5FC-9309ECC7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6EC-A756-44B9-B9FC-BD850280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77A-BC39-4A13-B808-CB6F183D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74F-1AF6-4CC9-893A-324CC927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AF18-4CAC-4299-9294-F13B2EEA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06C2-37F3-4259-8E9A-C33912FC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984C-7238-40D0-9717-794C3983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8E70-DC6B-4F27-9050-C147CB89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2C5D-F60F-4118-9DEB-327AFA5D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5C55-9442-4CD6-9D07-6490BECD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FE0F-96C0-418F-8F55-2541722E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BFFA-DBE0-47C4-B658-169DFE83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4EBC-6027-441E-97F3-BEFE87ED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385A-D38A-4DFE-978B-EEA60A35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54DF-D86B-458B-B3DB-C66136EE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6A0D-8C6D-4560-AA6C-D9031A9E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4B2B-375F-400F-82EB-9E99FE30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FD2-DE09-45F6-A993-BD67AA80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E62-834B-43DB-B812-12DDFF2A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72E-D8FE-4C19-AD45-7CA193C0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63F-BE2B-4A3A-86BD-82E017A2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82B-C367-4396-A3B2-041588FD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644-6AC2-484D-99FB-F7AF24C7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423-DDFF-4229-8D34-D5508F78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F13B-798A-4280-A09C-CCFF0C8395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CE2F-85B1-46A7-8DA7-B5C24694064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toy07_05401_123big"/>
          <p:cNvPicPr/>
          <p:nvPr/>
        </p:nvPicPr>
        <p:blipFill>
          <a:blip r:embed="rId1"/>
          <a:stretch/>
        </p:blipFill>
        <p:spPr>
          <a:xfrm>
            <a:off x="755640" y="0"/>
            <a:ext cx="7623360" cy="4916520"/>
          </a:xfrm>
          <a:prstGeom prst="rect">
            <a:avLst/>
          </a:prstGeom>
          <a:ln w="0">
            <a:noFill/>
          </a:ln>
        </p:spPr>
      </p:pic>
      <p:sp>
        <p:nvSpPr>
          <p:cNvPr id="219" name="WordArt 5"/>
          <p:cNvSpPr txBox="1"/>
          <p:nvPr/>
        </p:nvSpPr>
        <p:spPr>
          <a:xfrm>
            <a:off x="324000" y="5084640"/>
            <a:ext cx="82008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ок-морское путешествие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54520" y="5997600"/>
            <a:ext cx="40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теме «Имя прилагательное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743120" y="1268280"/>
            <a:ext cx="56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627640" y="189000"/>
            <a:ext cx="40093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орм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Трю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Руб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амбуз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Имена прилагательные изменяются по родам, числам, падежа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. Имена прилагательные во множественном числе по родам не изменяют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. По падежу имени существительного можно узнать падеж имени прилагательного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атрос_кий, со_нце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_питанский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о_кие, к_ют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687840" y="1576440"/>
            <a:ext cx="59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637440" y="1557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5942160" y="1384200"/>
            <a:ext cx="53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918520" y="3213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3204720" y="494172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5079240" y="49417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Barents_Sea_map"/>
          <p:cNvPicPr/>
          <p:nvPr/>
        </p:nvPicPr>
        <p:blipFill>
          <a:blip r:embed="rId1"/>
          <a:stretch/>
        </p:blipFill>
        <p:spPr>
          <a:xfrm>
            <a:off x="900000" y="0"/>
            <a:ext cx="74898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5"/>
          <p:cNvSpPr/>
          <p:nvPr/>
        </p:nvSpPr>
        <p:spPr>
          <a:xfrm>
            <a:off x="542880" y="189000"/>
            <a:ext cx="242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угу__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42520" y="836640"/>
            <a:ext cx="26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умя__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44680" y="1484280"/>
            <a:ext cx="32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ошади__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73040" y="2060640"/>
            <a:ext cx="30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еде__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43600" y="2637000"/>
            <a:ext cx="31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Шерстя__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543960" y="3213000"/>
            <a:ext cx="426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сударстве__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542520" y="3789360"/>
            <a:ext cx="312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юкве__у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543240" y="4365720"/>
            <a:ext cx="34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озястве__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544680" y="5013360"/>
            <a:ext cx="35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време__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543240" y="5661000"/>
            <a:ext cx="289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обе__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7"/>
          <p:cNvSpPr/>
          <p:nvPr/>
        </p:nvSpPr>
        <p:spPr>
          <a:xfrm>
            <a:off x="4716360" y="404640"/>
            <a:ext cx="503280" cy="5977080"/>
          </a:xfrm>
          <a:custGeom>
            <a:avLst/>
            <a:gdLst>
              <a:gd name="textAreaLeft" fmla="*/ 0 w 503280"/>
              <a:gd name="textAreaRight" fmla="*/ 181800 w 503280"/>
              <a:gd name="textAreaTop" fmla="*/ 155880 h 5977080"/>
              <a:gd name="textAreaBottom" fmla="*/ 5821200 h 597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5222880" y="2565360"/>
            <a:ext cx="353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Н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1549080" y="2602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1909440" y="907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3"/>
          <p:cNvSpPr/>
          <p:nvPr/>
        </p:nvSpPr>
        <p:spPr>
          <a:xfrm>
            <a:off x="2557440" y="148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5992920" y="5508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1980720" y="206064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2465280" y="2700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3493800" y="321300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2269800" y="378936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2701440" y="436572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0"/>
          <p:cNvSpPr/>
          <p:nvPr/>
        </p:nvSpPr>
        <p:spPr>
          <a:xfrm>
            <a:off x="2628360" y="508464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1"/>
          <p:cNvSpPr/>
          <p:nvPr/>
        </p:nvSpPr>
        <p:spPr>
          <a:xfrm>
            <a:off x="2052000" y="57340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94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и мама и папа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живу хорошо. У меня есть свой дом. Он ____ . А ещё у нас ______ печка есть. Здоровье-то у меня не очень: то лапы ломит, то хвост отваливается. Потому что, _______ мои мама и папа, у меня была _______ жизнь, полная лишений и выгоня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а днях я линять начал. _______ шерсть с меня сыплется – хоть в дом не заходи. Зато ______ шерсть растёт - ______, __________! Просто каракуль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______ папа и мама, вы меня теперь не узнаете, хвост у меня крючком, уши торчком, нос _______, и лохматость повысила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 свидания. Ваш сын – дядя Шар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7720920" y="7840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тёпл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2610720" y="12160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тёпл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5058360" y="2008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орог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3761280" y="23670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лож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222880" y="3213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тар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87600" y="400536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4553280" y="3951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чист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5922000" y="402444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шелковист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666360" y="481644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орог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469800" y="55897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холод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1497"/>
          <p:cNvSpPr txBox="1"/>
          <p:nvPr/>
        </p:nvSpPr>
        <p:spPr>
          <a:xfrm>
            <a:off x="123840" y="1268280"/>
            <a:ext cx="90201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частливого 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лавания !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5:27:27Z</dcterms:created>
  <dc:creator>ruschuv</dc:creator>
  <dc:description/>
  <dc:language>en-US</dc:language>
  <cp:lastModifiedBy>COMP</cp:lastModifiedBy>
  <dcterms:modified xsi:type="dcterms:W3CDTF">2011-10-13T09:27:18Z</dcterms:modified>
  <cp:revision>9</cp:revision>
  <dc:subject/>
  <dc:title>Слайд 1</dc:title>
</cp:coreProperties>
</file>