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9C8A-3786-42EE-9033-E24E362C78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D7C5-41E7-4C09-8CA4-AC6DA041AC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7EE-989A-4DD5-92A3-3DDCE0C1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7487-5CAA-4C9E-B71A-9664CCE5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8C3-55C3-405B-891A-3ADE3311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A383-DDBF-45D9-B12D-83F720B1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FE17-137A-4558-A81D-2DC1F760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DB9E-9751-4D58-ACEB-87BE0536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7EE1-4BB0-4B01-8365-C8E595D2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3AE7-A086-4FE4-9E68-A241AF0C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5184-988C-4E58-887D-61B347D4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65BA-2B8A-439B-800A-833C456F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2C1B-5355-4969-B94A-B2800F6A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25B-5A20-4E6C-829D-E884401C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04A9-E0EE-4F07-8193-55A5CFE8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55B8-53D2-445F-8789-279CD7E2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2D8A-6DFA-415E-B52C-4C4DFB69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534E-3B16-4527-A551-47EFCE62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2BC3-676A-447C-B986-4986804F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93E-B80F-41CC-B8AE-CCD1233A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149-86AE-40D7-A6DE-99564E84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013-09D4-4417-8F53-BF3F4600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5416-7D5A-4A3A-ADF8-4BCEF8AE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9853-9D6E-4669-9AEC-EFF7C353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7BB5-C1BE-46E3-BD54-BE082339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2BF-F4E9-4B0A-B5B7-290E79D4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ED3F-8D20-4B82-A91F-9808769173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F0D4-185A-4E46-9A67-D2D4E91E04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toy07_05401_123big"/>
          <p:cNvPicPr/>
          <p:nvPr/>
        </p:nvPicPr>
        <p:blipFill>
          <a:blip r:embed="rId1"/>
          <a:stretch/>
        </p:blipFill>
        <p:spPr>
          <a:xfrm>
            <a:off x="755640" y="0"/>
            <a:ext cx="7623360" cy="4916520"/>
          </a:xfrm>
          <a:prstGeom prst="rect">
            <a:avLst/>
          </a:prstGeom>
          <a:ln w="0">
            <a:noFill/>
          </a:ln>
        </p:spPr>
      </p:pic>
      <p:sp>
        <p:nvSpPr>
          <p:cNvPr id="219" name="WordArt 5"/>
          <p:cNvSpPr txBox="1"/>
          <p:nvPr/>
        </p:nvSpPr>
        <p:spPr>
          <a:xfrm>
            <a:off x="324000" y="5084640"/>
            <a:ext cx="82008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ок-морское путешествие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54520" y="5997600"/>
            <a:ext cx="40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теме «Имя прилагательное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1743120" y="1268280"/>
            <a:ext cx="563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2627640" y="189000"/>
            <a:ext cx="40093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Корм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Трю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Руб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Камбуз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 Имена прилагательные изменяются по родам, числам, падежа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. Имена прилагательные во множественном числе по родам не изменяютс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5. По падежу имени существительного можно узнать падеж имени прилагательного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атрос_кий, со_нце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_питанский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ло_кие, к_ют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687840" y="1576440"/>
            <a:ext cx="59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3637440" y="1557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5942160" y="1384200"/>
            <a:ext cx="53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918520" y="3213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3204720" y="494172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5079240" y="49417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Barents_Sea_map"/>
          <p:cNvPicPr/>
          <p:nvPr/>
        </p:nvPicPr>
        <p:blipFill>
          <a:blip r:embed="rId1"/>
          <a:stretch/>
        </p:blipFill>
        <p:spPr>
          <a:xfrm>
            <a:off x="900000" y="0"/>
            <a:ext cx="74898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5"/>
          <p:cNvSpPr/>
          <p:nvPr/>
        </p:nvSpPr>
        <p:spPr>
          <a:xfrm>
            <a:off x="542880" y="189000"/>
            <a:ext cx="242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угу__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42520" y="836640"/>
            <a:ext cx="26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умя__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44680" y="1484280"/>
            <a:ext cx="32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ошади__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73040" y="2060640"/>
            <a:ext cx="303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еде__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43600" y="2637000"/>
            <a:ext cx="310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Шерстя__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543960" y="3213000"/>
            <a:ext cx="426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сударстве__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542520" y="3789360"/>
            <a:ext cx="312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юкве__у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543240" y="4365720"/>
            <a:ext cx="34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озястве__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544680" y="5013360"/>
            <a:ext cx="35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време__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543240" y="5661000"/>
            <a:ext cx="289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обе__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7"/>
          <p:cNvSpPr/>
          <p:nvPr/>
        </p:nvSpPr>
        <p:spPr>
          <a:xfrm>
            <a:off x="4716360" y="404640"/>
            <a:ext cx="503280" cy="5977080"/>
          </a:xfrm>
          <a:custGeom>
            <a:avLst/>
            <a:gdLst>
              <a:gd name="textAreaLeft" fmla="*/ 0 w 503280"/>
              <a:gd name="textAreaRight" fmla="*/ 181800 w 503280"/>
              <a:gd name="textAreaTop" fmla="*/ 155880 h 5977080"/>
              <a:gd name="textAreaBottom" fmla="*/ 5821200 h 597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5222880" y="2565360"/>
            <a:ext cx="353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НН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1549080" y="26028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2"/>
          <p:cNvSpPr/>
          <p:nvPr/>
        </p:nvSpPr>
        <p:spPr>
          <a:xfrm>
            <a:off x="1909440" y="907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3"/>
          <p:cNvSpPr/>
          <p:nvPr/>
        </p:nvSpPr>
        <p:spPr>
          <a:xfrm>
            <a:off x="2557440" y="148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5992920" y="5508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5"/>
          <p:cNvSpPr/>
          <p:nvPr/>
        </p:nvSpPr>
        <p:spPr>
          <a:xfrm>
            <a:off x="1980720" y="206064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2465280" y="2700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7"/>
          <p:cNvSpPr/>
          <p:nvPr/>
        </p:nvSpPr>
        <p:spPr>
          <a:xfrm>
            <a:off x="3493800" y="321300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2269800" y="378936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9"/>
          <p:cNvSpPr/>
          <p:nvPr/>
        </p:nvSpPr>
        <p:spPr>
          <a:xfrm>
            <a:off x="2701440" y="436572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0"/>
          <p:cNvSpPr/>
          <p:nvPr/>
        </p:nvSpPr>
        <p:spPr>
          <a:xfrm>
            <a:off x="2628360" y="508464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1"/>
          <p:cNvSpPr/>
          <p:nvPr/>
        </p:nvSpPr>
        <p:spPr>
          <a:xfrm>
            <a:off x="2052000" y="573408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94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и мама и папа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живу хорошо. У меня есть свой дом. Он ____ . А ещё у нас ______ печка есть. Здоровье-то у меня не очень: то лапы ломит, то хвост отваливается. Потому что, _______ мои мама и папа, у меня была _______ жизнь, полная лишений и выгоня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на днях я линять начал. _______ шерсть с меня сыплется – хоть в дом не заходи. Зато ______ шерсть растёт - ______, __________! Просто каракуль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______ папа и мама, вы меня теперь не узнаете, хвост у меня крючком, уши торчком, нос _______, и лохматость повысила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 свидания. Ваш сын – дядя Шар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7720920" y="7840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тёпл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2610720" y="12160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тёпл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5058360" y="2008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орог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3761280" y="23670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лож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5222880" y="3213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тар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687600" y="400536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о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4553280" y="39513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чист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4"/>
          <p:cNvSpPr/>
          <p:nvPr/>
        </p:nvSpPr>
        <p:spPr>
          <a:xfrm>
            <a:off x="5922000" y="402444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шелковист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666360" y="481644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орог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469800" y="55897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холод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1497"/>
          <p:cNvSpPr txBox="1"/>
          <p:nvPr/>
        </p:nvSpPr>
        <p:spPr>
          <a:xfrm>
            <a:off x="123840" y="1268280"/>
            <a:ext cx="90201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частливого 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лавания !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5:27:27Z</dcterms:created>
  <dc:creator>ruschuv</dc:creator>
  <dc:description/>
  <dc:language>en-US</dc:language>
  <cp:lastModifiedBy>COMP</cp:lastModifiedBy>
  <dcterms:modified xsi:type="dcterms:W3CDTF">2011-10-13T09:27:18Z</dcterms:modified>
  <cp:revision>9</cp:revision>
  <dc:subject/>
  <dc:title>Слайд 1</dc:title>
</cp:coreProperties>
</file>