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4.jpeg" ContentType="image/jpeg"/>
  <Override PartName="/ppt/media/image19.gif" ContentType="image/gif"/>
  <Override PartName="/ppt/media/image24.png" ContentType="image/png"/>
  <Override PartName="/ppt/media/image2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AC8-79E7-446D-96F2-E2CE3A12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BC5-5870-4614-BD80-271CE05C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9F0B-9934-4CDF-9F5F-AC2D6171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DBA-FF22-4B58-AB0A-29C0BBE2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1188-A05E-4C85-9FE8-61734661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B06C-A510-45AD-8C46-9E87F0E5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EE12-981C-457D-B2C8-FBA03847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0CD8-DD21-465D-B0E2-76053F15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CBBB-2A40-443E-A898-1FC7FAAC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29F9-1CC4-4B85-9E53-EBC3593D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2EB5-6094-4618-9077-6373E104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ACB-4E17-4FC4-A3A2-5D8112ED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9F2D-71D6-4844-A5FC-13491EEC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BE86-2D4F-49AA-8118-4930135D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AFA4-6A55-492F-8D12-39364381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1CB6-97B2-4C18-B439-73E48795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2759-685F-4139-8E01-CC0A76DE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A7A9-DC1E-4982-A60C-F44C5265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8F410-3FF3-444F-B6E4-91618393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A09CD-FE8A-431C-9B30-B87A7DA1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C73B-F556-4B72-9D52-7CF52B34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78628-ED48-4A5F-8C02-AB899CF0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61E-DD1C-46EF-A58E-B004F5D6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AB6BB-5F15-429C-97EF-87F4A3ED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A123-86A5-46CD-A79E-2C4CD18B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880CA-CF85-4374-93BE-1721D81A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5157D-74A6-4728-A178-AD2E146E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63080-C680-4A0B-AACF-5B7C26DE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FAEDE-C283-43E1-A51E-8F36FAAB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18DE6-8CF0-4C61-8A41-D152FE4A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C2EA2-D759-46A0-8798-715EA447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19A0D-FBF4-42E9-B74C-C91C9155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3A8C0-BBE2-438A-B7E2-A022A1B4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716-2C4F-43B2-97E1-42F8B645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D7080-1DAB-4B7B-B2D5-F297CE7D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C762E-01AB-4424-A3A0-D573D28A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91E3-551E-4135-959B-CD01041E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FF90C-B5C8-4A33-8A54-D391D939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90A22-0DF6-4746-9057-397B2A87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C03D7-BF61-4C4F-9991-72A62BAB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C3D30-807B-4543-942F-A2AB0523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163DD-0E7B-43EB-B7E9-2701B4C5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170B1-9BDD-4A87-AC58-654BFDC3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154D0-6CB9-4388-9D3D-CE7EC704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51A-55A0-4303-8A47-1AAA51EB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5839D-2B4D-431A-826A-49175A3C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9600E-5997-44DB-A47F-13EAC6F5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F5B7A-ACF0-4A1E-90BF-B88D5898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BB857-FD4B-4BB3-B47C-7AABB6CE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28F24-75A1-4A1C-9A26-726D4900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DFBA5-BEF8-4802-B8D0-236C2E56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7A643-8D12-43E1-B061-9BCE63BA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2CB15-2090-4CAB-854B-0BC4278A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EC57B-931D-4A2A-93B7-94DE39E6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A2919-5029-4D8E-A871-BE369D77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85B-C305-4E4B-9EBA-13F410D6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1C18D-A1D4-468D-ABCB-69D8672A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87E2A-054A-4B78-BBA8-CC500AC3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CB577-2E90-4CEB-9D8B-884E9C8A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745A3-8CA5-4BBC-B3D9-E2364AFE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03B8C-8C8E-4192-A3CE-ADAF9203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8E0E2-624D-4E7C-89B0-CB2236C1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6288E-8745-43D8-98C6-B66EDDE4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51939-7980-4D64-803E-3A659976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D7782-04E6-475E-BAB5-77375A10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D1139-6D69-4585-BC5F-23E73575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A35-9B36-463E-BFD3-E968006C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D7293-29DC-4C6A-B726-DA0E984B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D3A13-17EF-4832-8EEF-70C76E66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4878C-DB67-46BD-963A-1131BFF5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E60FA-95C6-417F-BE5B-44723B29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64309-D238-4B6A-9D27-04FF4089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EC932-5FB6-44F2-85BE-6364D37B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B0B8A-FE7A-4779-940D-7A44269E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5090A-7EEB-4FFF-80CD-490B5A8E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01CC5-8B77-4352-8846-0A390493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51E65-DC71-449C-86C2-7D8EF50E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2624-7595-4F16-80F1-D4567B68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AA591-DBC2-4454-B122-9B75EA4B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C6E7C-2D3F-465E-B97D-FDBA6F2D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64850-AA01-433F-8F22-D31F86EA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A32E2-3FBE-4D23-BBDD-017DF492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CCBAE-0A8E-4A11-A7C4-09DA1B89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6C8-BC34-46A6-9F13-DABA35D7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0C8E-8518-44AE-8C2C-D79C6712BD67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BD64-C562-4230-BA4E-FD3324B814CE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775C-D31B-4E72-BF59-A5BEC301631E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ED60-891C-44B8-9663-B45A0C23FACD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79C7-B2BE-4C8C-A9CB-07DC96FB0594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3EBC-7662-4DDC-8C02-C795C37C55D2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267F-ADBC-43E9-BA5A-6CF06CA28C71}" type="slidenum">
              <a:rPr b="0" lang="ru-RU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573120" y="360360"/>
            <a:ext cx="8265960" cy="26877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431720" y="4285800"/>
            <a:ext cx="74070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383d"/>
                </a:solidFill>
                <a:latin typeface="Corbel"/>
              </a:rPr>
              <a:t>…</a:t>
            </a:r>
            <a:r>
              <a:rPr b="0" lang="ru-RU" sz="2400" spc="-1" strike="noStrike">
                <a:solidFill>
                  <a:srgbClr val="3a383d"/>
                </a:solidFill>
                <a:latin typeface="Corbel"/>
              </a:rPr>
              <a:t>что за гуманность, что за теплое слово при простоте и радужных красках, что за грусть, покорность судьбе и радость за человеческое существова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383d"/>
                </a:solidFill>
                <a:latin typeface="Corbel"/>
              </a:rPr>
              <a:t>                                                                              </a:t>
            </a:r>
            <a:r>
              <a:rPr b="0" lang="ru-RU" sz="2400" spc="-1" strike="noStrike">
                <a:solidFill>
                  <a:srgbClr val="3a383d"/>
                </a:solidFill>
                <a:latin typeface="Corbel"/>
              </a:rPr>
              <a:t>П. В. Анненк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Рисунок 3" descr="Тургенев И.jpg"/>
          <p:cNvPicPr/>
          <p:nvPr/>
        </p:nvPicPr>
        <p:blipFill>
          <a:blip r:embed="rId2"/>
          <a:srcRect l="3203" t="12380" r="2348" b="9219"/>
          <a:stretch/>
        </p:blipFill>
        <p:spPr>
          <a:xfrm>
            <a:off x="4929120" y="0"/>
            <a:ext cx="4214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1176480" y="274680"/>
            <a:ext cx="7759440" cy="1268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rbel"/>
              </a:rPr>
              <a:t>Любов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Вечная, неж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Рождается, цветет, вдохновляе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Любовь побеждает даже смерть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Отнимает, убивает, пугает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Холодная, мрач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Смерт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rbel"/>
              </a:rPr>
              <a:t>Молодост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Красивая, беспеч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Живет, влюбляется, надеетс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Молодость счастлива, старость жестока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Угасает, отнимает, маетс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Горькая, безысход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Старость 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9167760" cy="1200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Стремление приостановить течение времени, запечатлеть прекрасное мгновение прошлого – свойство человека, понимающего подлинную ценность красоты мира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Мотивы неотвратимого хода времени, смерти, одиночества, памяти, поиска утраченной красоты и гармонии сплелись в этом стихотворении воедино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Удивителен интонационный  и ритмический рисунок стихотворения: он похож на мелодию, которая звучит то тихо, то звонко, то скорбно, то нежно, то трагически и постепенно затихает, уходит в небыти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Рефреном, своеобразным аккордом звучит строка «Как хороши, как свежи были розы…». В сочетании согласных звуков улавливается противопоставление по глухости-звонкости рождает особенную музыкальную фразу, полную печали, тоски по прошлому, его красот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Рефрен делит стихотворение на своеобразные строфы и окольцовывает произведени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Форма прошедшего времени сказуемого заставляет читателя задуматься о том, что все на свете проходит, пройдет и твоя жизнь, которая также недолговечна, как и прекрасный цветок, заставляет вспомнить слова из книги пророка Еклизиаста: «Всему свое время… Время жить и время умирать…»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Рисунок 3" descr="bestgif.narod.ru_534.gif"/>
          <p:cNvPicPr/>
          <p:nvPr/>
        </p:nvPicPr>
        <p:blipFill>
          <a:blip r:embed="rId2"/>
          <a:stretch/>
        </p:blipFill>
        <p:spPr>
          <a:xfrm>
            <a:off x="0" y="3657600"/>
            <a:ext cx="2724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26960" y="12600"/>
            <a:ext cx="8832960" cy="15606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1000080" y="1499760"/>
            <a:ext cx="79344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Прием рефрена (повторения) связывает образы прошлого и настоящег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кие абзацы повествуют о прошлом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, 3, 5 абзац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кие абзацы говорят о настоящем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2, 4, 6 абзац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к представлен мир прошлого в словах – доминантах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Звуки                                                                                        запах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3ea9"/>
                </a:solidFill>
                <a:latin typeface="Corbel"/>
              </a:rPr>
              <a:t>Ровно дышит, бьется мое сердце                            пахнет резедой и лип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3ea9"/>
                </a:solidFill>
                <a:latin typeface="Corbel"/>
              </a:rPr>
              <a:t>Веселый шум, молодые добрые голо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33ea9"/>
                </a:solidFill>
                <a:latin typeface="Corbel"/>
              </a:rPr>
              <a:t>Ланнеровский вальс, воркотня самовар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Люди                                                                                        прир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3d75"/>
                </a:solidFill>
                <a:latin typeface="Corbel"/>
              </a:rPr>
              <a:t>Девушка, я, 2 русые головки                             летний вечер, небо, первые звезд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1438200" y="92160"/>
            <a:ext cx="7497720" cy="16812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Автор подчеркивает, насколько дороги ему эти воспоминания о  молодости, о людях, с которыми он общал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5e3c"/>
                </a:solidFill>
                <a:latin typeface="Corbel"/>
              </a:rPr>
              <a:t>Звуки слышащейся музыки передают душевное волнение и состояние влюбленности лирического геро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3d75"/>
                </a:solidFill>
                <a:latin typeface="Corbel"/>
              </a:rPr>
              <a:t>Ностальгические воспоминания наполняют героя радостью и печаль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1438200" y="274680"/>
            <a:ext cx="7497720" cy="12682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1142640" y="1428840"/>
            <a:ext cx="779148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олод          темнота      свеча              зву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1" name="Прямоугольник 3"/>
          <p:cNvGrpSpPr/>
          <p:nvPr/>
        </p:nvGrpSpPr>
        <p:grpSpPr>
          <a:xfrm>
            <a:off x="1030320" y="2023920"/>
            <a:ext cx="1974960" cy="2359080"/>
            <a:chOff x="1030320" y="2023920"/>
            <a:chExt cx="1974960" cy="2359080"/>
          </a:xfrm>
        </p:grpSpPr>
        <p:pic>
          <p:nvPicPr>
            <p:cNvPr id="352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30320" y="2023920"/>
              <a:ext cx="197496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1143000" y="2071800"/>
              <a:ext cx="1714680" cy="22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Зима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Мороз скрипит и злится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Жмется старый пес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Мне холодно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Я зябну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54" name="Прямоугольник 4"/>
          <p:cNvSpPr/>
          <p:nvPr/>
        </p:nvSpPr>
        <p:spPr>
          <a:xfrm>
            <a:off x="3071880" y="2286000"/>
            <a:ext cx="1714320" cy="17859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емная комна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се темней и темне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5" name="Прямоугольник 5"/>
          <p:cNvGrpSpPr/>
          <p:nvPr/>
        </p:nvGrpSpPr>
        <p:grpSpPr>
          <a:xfrm>
            <a:off x="4913280" y="2236680"/>
            <a:ext cx="1749600" cy="2000520"/>
            <a:chOff x="4913280" y="2236680"/>
            <a:chExt cx="1749600" cy="2000520"/>
          </a:xfrm>
        </p:grpSpPr>
        <p:pic>
          <p:nvPicPr>
            <p:cNvPr id="356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913280" y="2236680"/>
              <a:ext cx="174960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000760" y="2286000"/>
              <a:ext cx="157140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Горит одна свеча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Нагоревшая свеча трещит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Меркнет и гаснет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358" name="Прямоугольник 6" descr=""/>
          <p:cNvPicPr/>
          <p:nvPr/>
        </p:nvPicPr>
        <p:blipFill>
          <a:blip r:embed="rId4"/>
          <a:stretch/>
        </p:blipFill>
        <p:spPr>
          <a:xfrm>
            <a:off x="6754680" y="1816200"/>
            <a:ext cx="2133720" cy="2646360"/>
          </a:xfrm>
          <a:prstGeom prst="rect">
            <a:avLst/>
          </a:prstGeom>
          <a:ln w="0">
            <a:noFill/>
          </a:ln>
        </p:spPr>
      </p:pic>
      <p:cxnSp>
        <p:nvCxnSpPr>
          <p:cNvPr id="359" name="Прямая со стрелкой 8"/>
          <p:cNvCxnSpPr/>
          <p:nvPr/>
        </p:nvCxnSpPr>
        <p:spPr>
          <a:xfrm>
            <a:off x="1928880" y="4357440"/>
            <a:ext cx="643320" cy="857880"/>
          </a:xfrm>
          <a:prstGeom prst="straightConnector1">
            <a:avLst/>
          </a:prstGeom>
          <a:ln w="93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360" name="Прямая со стрелкой 10"/>
          <p:cNvCxnSpPr/>
          <p:nvPr/>
        </p:nvCxnSpPr>
        <p:spPr>
          <a:xfrm flipH="1">
            <a:off x="3071880" y="4214880"/>
            <a:ext cx="643320" cy="1000800"/>
          </a:xfrm>
          <a:prstGeom prst="straightConnector1">
            <a:avLst/>
          </a:prstGeom>
          <a:ln w="93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361" name="Прямая со стрелкой 13"/>
          <p:cNvCxnSpPr/>
          <p:nvPr/>
        </p:nvCxnSpPr>
        <p:spPr>
          <a:xfrm flipH="1">
            <a:off x="5643360" y="4287600"/>
            <a:ext cx="2160" cy="641880"/>
          </a:xfrm>
          <a:prstGeom prst="straightConnector1">
            <a:avLst/>
          </a:prstGeom>
          <a:ln w="936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362" name="Прямая со стрелкой 16"/>
          <p:cNvCxnSpPr/>
          <p:nvPr/>
        </p:nvCxnSpPr>
        <p:spPr>
          <a:xfrm flipH="1">
            <a:off x="7786440" y="4573440"/>
            <a:ext cx="2160" cy="713520"/>
          </a:xfrm>
          <a:prstGeom prst="straightConnector1">
            <a:avLst/>
          </a:prstGeom>
          <a:ln w="9360">
            <a:solidFill>
              <a:srgbClr val="ceb966"/>
            </a:solidFill>
            <a:miter/>
            <a:tailEnd len="med" type="arrow" w="med"/>
          </a:ln>
        </p:spPr>
      </p:cxnSp>
      <p:sp>
        <p:nvSpPr>
          <p:cNvPr id="363" name="TextBox 17"/>
          <p:cNvSpPr/>
          <p:nvPr/>
        </p:nvSpPr>
        <p:spPr>
          <a:xfrm>
            <a:off x="1643040" y="5357880"/>
            <a:ext cx="2428920" cy="1191240"/>
          </a:xfrm>
          <a:prstGeom prst="rect">
            <a:avLst/>
          </a:prstGeom>
          <a:solidFill>
            <a:srgbClr val="6585cf"/>
          </a:solidFill>
          <a:ln w="25560">
            <a:solidFill>
              <a:srgbClr val="4860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олод и темнота проникают сначала в комнату, а потом в душу геро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TextBox 19" descr=""/>
          <p:cNvPicPr/>
          <p:nvPr/>
        </p:nvPicPr>
        <p:blipFill>
          <a:blip r:embed="rId5"/>
          <a:stretch/>
        </p:blipFill>
        <p:spPr>
          <a:xfrm>
            <a:off x="4273560" y="4992840"/>
            <a:ext cx="2382840" cy="1742760"/>
          </a:xfrm>
          <a:prstGeom prst="rect">
            <a:avLst/>
          </a:prstGeom>
          <a:ln w="0">
            <a:noFill/>
          </a:ln>
        </p:spPr>
      </p:pic>
      <p:grpSp>
        <p:nvGrpSpPr>
          <p:cNvPr id="365" name="Прямоугольник 20"/>
          <p:cNvGrpSpPr/>
          <p:nvPr/>
        </p:nvGrpSpPr>
        <p:grpSpPr>
          <a:xfrm>
            <a:off x="6858000" y="5310360"/>
            <a:ext cx="2073240" cy="1431720"/>
            <a:chOff x="6858000" y="5310360"/>
            <a:chExt cx="2073240" cy="1431720"/>
          </a:xfrm>
        </p:grpSpPr>
        <p:pic>
          <p:nvPicPr>
            <p:cNvPr id="366" name="Прямоугольник 20" descr=""/>
            <p:cNvPicPr/>
            <p:nvPr/>
          </p:nvPicPr>
          <p:blipFill>
            <a:blip r:embed="rId6"/>
            <a:stretch/>
          </p:blipFill>
          <p:spPr>
            <a:xfrm>
              <a:off x="6858000" y="5310360"/>
              <a:ext cx="207324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929280" y="5357880"/>
              <a:ext cx="192888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Звуки приглушенные, невнятные</a:t>
              </a: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1176480" y="274680"/>
            <a:ext cx="7759440" cy="1268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Мир прошлого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раскрываетс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через образы лета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тепла, люд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ир настоящего –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это зима, холод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диночеств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Рисунок 3" descr="Тургенев И 002.jpg"/>
          <p:cNvPicPr/>
          <p:nvPr/>
        </p:nvPicPr>
        <p:blipFill>
          <a:blip r:embed="rId2"/>
          <a:srcRect l="0" t="0" r="0" b="7074"/>
          <a:stretch/>
        </p:blipFill>
        <p:spPr>
          <a:xfrm>
            <a:off x="3857760" y="285840"/>
            <a:ext cx="5121000" cy="61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5057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69666e"/>
                </a:solidFill>
                <a:latin typeface="Corbel"/>
              </a:rPr>
              <a:t>                           </a:t>
            </a:r>
            <a:r>
              <a:rPr b="0" lang="ru-RU" sz="2800" spc="-1" strike="noStrike">
                <a:solidFill>
                  <a:srgbClr val="69666e"/>
                </a:solidFill>
                <a:latin typeface="Corbel"/>
              </a:rPr>
              <a:t>Воспоминание безмолвно</a:t>
            </a:r>
            <a:br>
              <a:rPr sz="2800"/>
            </a:br>
            <a:r>
              <a:rPr b="0" lang="ru-RU" sz="2800" spc="-1" strike="noStrike">
                <a:solidFill>
                  <a:srgbClr val="69666e"/>
                </a:solidFill>
                <a:latin typeface="Corbel"/>
              </a:rPr>
              <a:t>                                                         предо мной</a:t>
            </a:r>
            <a:br>
              <a:rPr sz="2800"/>
            </a:br>
            <a:r>
              <a:rPr b="0" lang="ru-RU" sz="2800" spc="-1" strike="noStrike">
                <a:solidFill>
                  <a:srgbClr val="69666e"/>
                </a:solidFill>
                <a:latin typeface="Corbel"/>
              </a:rPr>
              <a:t>              Свой длинный развивает свиток.</a:t>
            </a:r>
            <a:br>
              <a:rPr sz="2800"/>
            </a:br>
            <a:r>
              <a:rPr b="0" lang="ru-RU" sz="2800" spc="-1" strike="noStrike">
                <a:solidFill>
                  <a:srgbClr val="69666e"/>
                </a:solidFill>
                <a:latin typeface="Corbel"/>
              </a:rPr>
              <a:t>А. С. Пушкин </a:t>
            </a:r>
            <a:endParaRPr b="0" lang="en-US" sz="28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56800" y="207180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акова основная мысль стихотворения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Человеку не дано остановить мгновение, но именно из них складывается вечност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аждый человек помнит все хорошее, что случилось с ним, до конца жизн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се постепенно угасает, и только воспоминания могут осветить твою душу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ак бы ни была тяжела жизнь, в ней было много прекрасных моментов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гда у тебя есть воспоминания – темнота не страшн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оспоминания – это мостик между живыми и мертвым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Рисунок 3" descr="Тургенев 004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487600" y="214200"/>
            <a:ext cx="50133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1438200" y="274680"/>
            <a:ext cx="7497720" cy="12682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пробуйте написать свое стихотворение в прозе, соблюдая его основные признаки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orbel"/>
              </a:rPr>
              <a:t>Желаю удачи!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резентация составлена Велиевой Н. С. , учителем МОУ сош №6 г.Приволжска Ивановской области по материалам  Вологжаниной В. В. И.С. Тургенев «Стихотворения в прозе»; Ануфриевой А. М. О стихотворении И. С. Тургенева «Как хороши, как свежи были розы…». – Приложение к журналу «Литература в школе», №10-2008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1359000" y="96840"/>
            <a:ext cx="7499160" cy="16891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ем отличается проза от поэзи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общего у стихотворений в прозе с поэзией и прозо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иниатюрность формы, краткость текст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огатое использование изобразительно-выразительных средст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Эмоциональность повествова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Ритмизированность, музыкально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ирический герой – субъект переживания и объект изображен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731880" y="139680"/>
            <a:ext cx="8204040" cy="15606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1000080" y="144756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ургенев обратилс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 этому жанру в конц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жизни. Его волнуют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ренные вопросы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ытия, он ставит 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ытается решить и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своих стихотворениях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начале он хотел дат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м общее названи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«Посмертное», пото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«Старческое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3" descr="Тургенев И 001.jpg"/>
          <p:cNvPicPr/>
          <p:nvPr/>
        </p:nvPicPr>
        <p:blipFill>
          <a:blip r:embed="rId2"/>
          <a:srcRect l="1462" t="0" r="6283" b="10416"/>
          <a:stretch/>
        </p:blipFill>
        <p:spPr>
          <a:xfrm>
            <a:off x="4714920" y="0"/>
            <a:ext cx="442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438200" y="92160"/>
            <a:ext cx="7497720" cy="16812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85680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76d"/>
                </a:solidFill>
                <a:latin typeface="Corbel"/>
              </a:rPr>
              <a:t>Каким настроением проникнуты стихотворени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группа «Воробей», «Мы еще повоюем!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 группа «Без гнезда», «Песочные часы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группа «Стой!», «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ssum maggior dolore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»(«Нет большей скорби»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219320" y="274680"/>
            <a:ext cx="7716600" cy="12002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928440" y="1356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 группа – светлые, оптимистичные, радостные, благоговейные чувст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 группа – печальные, ностальгические, пессимистичные, трагичные, грустные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 группа – соединяют в себе одновременно дв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отивоположных настроения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жизнерадостное и драматическое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адостное и печальное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Рисунок 3" descr="Тургенев 003.jpg"/>
          <p:cNvPicPr/>
          <p:nvPr/>
        </p:nvPicPr>
        <p:blipFill>
          <a:blip r:embed="rId2">
            <a:lum contrast="10000"/>
          </a:blip>
          <a:srcRect l="5835" t="0" r="0" b="0"/>
          <a:stretch/>
        </p:blipFill>
        <p:spPr>
          <a:xfrm>
            <a:off x="7215120" y="3429000"/>
            <a:ext cx="19288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57200" y="142920"/>
            <a:ext cx="75772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66e"/>
                </a:solidFill>
                <a:latin typeface="Corbel"/>
              </a:rPr>
              <a:t>Вывод: сквозным мотивом тургеневского цикла является контраст, который проявляется во всем цикле, так и в отдельном произведении</a:t>
            </a:r>
            <a:endParaRPr b="0" lang="en-US" sz="2800" spc="-1" strike="noStrike">
              <a:solidFill>
                <a:srgbClr val="69666e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28800" y="1928520"/>
            <a:ext cx="80056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дтвердите вывод словами из стихотворен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rbel"/>
              </a:rPr>
              <a:t>«Мы еще повоюем!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«Я поглядел, засмеялся, встряхнулся – и грустные думы тотчас отлетели прочь: отвагу, удаль, охоту к жизни почувствовал я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rbel"/>
              </a:rPr>
              <a:t>«Без гнезда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«И не пора ли и мне упасть в море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orbel"/>
              </a:rPr>
              <a:t>«Стой!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частье, блаженное сознание красоты и щепотка пепла, отблеск веч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781200" y="92160"/>
            <a:ext cx="8154720" cy="1681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лодость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юбовь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ра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орьба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рагичное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ветлое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Жизнь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иг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шлое и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Рисунок 3" descr="Тургенев.jpg"/>
          <p:cNvPicPr/>
          <p:nvPr/>
        </p:nvPicPr>
        <p:blipFill>
          <a:blip r:embed="rId2">
            <a:lum contrast="10000"/>
          </a:blip>
          <a:srcRect l="13402" t="3124" r="7975" b="10418"/>
          <a:stretch/>
        </p:blipFill>
        <p:spPr>
          <a:xfrm>
            <a:off x="4857840" y="785880"/>
            <a:ext cx="41432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1438200" y="274680"/>
            <a:ext cx="7497720" cy="1268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Цель – акцентировать внимание на богатстве смыслов антитез в творчестве Тургенев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аймонд – особая форма творческой рабо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                      </a:t>
            </a:r>
            <a:r>
              <a:rPr b="0" lang="ru-RU" sz="2200" spc="-1" strike="noStrike">
                <a:solidFill>
                  <a:srgbClr val="c00000"/>
                </a:solidFill>
                <a:latin typeface="Corbel"/>
              </a:rPr>
              <a:t>Даймонд состоит из 7 строк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c00000"/>
                </a:solidFill>
                <a:uFillTx/>
                <a:latin typeface="Corbel"/>
              </a:rPr>
              <a:t>2 существительных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первая и последняя строки) выражают 2 противоположных понятия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торая и шестая строка – </a:t>
            </a:r>
            <a:r>
              <a:rPr b="0" lang="ru-RU" sz="2200" spc="-1" strike="noStrike" u="sng">
                <a:solidFill>
                  <a:srgbClr val="c00000"/>
                </a:solidFill>
                <a:uFillTx/>
                <a:latin typeface="Corbel"/>
              </a:rPr>
              <a:t>2 прилагательных или причастия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раскрывающие признаки существительного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Третья и пятая строка – </a:t>
            </a:r>
            <a:r>
              <a:rPr b="0" lang="ru-RU" sz="2200" spc="-1" strike="noStrike" u="sng">
                <a:solidFill>
                  <a:srgbClr val="c00000"/>
                </a:solidFill>
                <a:uFillTx/>
                <a:latin typeface="Corbel"/>
              </a:rPr>
              <a:t>3 глагола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которые выражают действ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Центральная строка состоит </a:t>
            </a:r>
            <a:r>
              <a:rPr b="0" lang="ru-RU" sz="2200" spc="-1" strike="noStrike" u="sng">
                <a:solidFill>
                  <a:srgbClr val="c00000"/>
                </a:solidFill>
                <a:uFillTx/>
                <a:latin typeface="Corbel"/>
              </a:rPr>
              <a:t>из 4 слов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причем первые два характеризуют первое существительное, вторые два - второе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176480" y="274680"/>
            <a:ext cx="7759440" cy="1268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1071360" y="14997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rbel"/>
              </a:rPr>
              <a:t>Радост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Светлая, лучезар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Поглощает, уносит, зовет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Радость жизни и беспощадность смерти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Разрушает, губит, лишает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Убивающее, ужасающее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Горе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c00000"/>
                </a:solidFill>
                <a:latin typeface="Corbel"/>
              </a:rPr>
              <a:t>Мечт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Волшебная, прекрас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Светит, манит, зовет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Неожиданно мечту затмевает тревог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Она губит, пугает и жже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Ах, эта дерзкая, жестокая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Реальност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3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6:18:42Z</dcterms:created>
  <dc:creator>sancho</dc:creator>
  <dc:description/>
  <dc:language>en-US</dc:language>
  <cp:lastModifiedBy>User</cp:lastModifiedBy>
  <dcterms:modified xsi:type="dcterms:W3CDTF">2011-07-23T12:57:37Z</dcterms:modified>
  <cp:revision>23</cp:revision>
  <dc:subject/>
  <dc:title>И. С. Тургенев  «Стихотворения     в прозе»</dc:title>
</cp:coreProperties>
</file>