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4.jpeg" ContentType="image/jpeg"/>
  <Override PartName="/ppt/media/image19.gif" ContentType="image/gif"/>
  <Override PartName="/ppt/media/image24.png" ContentType="image/png"/>
  <Override PartName="/ppt/media/image2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044-C89A-4661-B084-FCA8A4BD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D07D-06E3-4DC8-AE29-276C4FC7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46A-2AD7-47C4-9F2F-C88C3042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0CDB-F6D8-4714-BCC5-BECFAE60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A182-A1BF-4673-A8F8-B7BAC13A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5AA9-1679-4C4D-926D-DF6EBB0B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F5D7-8649-4B26-B5EE-9CC24D51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7873-DB77-478B-9D21-C2235531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47D6-AAC1-4C80-9D3A-11418D1C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67C7-506E-4420-A184-AE5493D4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3779-0F46-426B-ACD6-FD09EFB8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8B52-76BE-488C-8381-EB7B185E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66BA-41A9-4FC8-AB0C-64401749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A838-4084-4471-802D-821ADE2D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FA83-A979-49D3-856C-24D7837A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D2ED-3E1C-49FA-A244-1970109D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27E4-E8CE-4065-9D72-E57A4597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EE28C-71EF-47CE-A082-32575B07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5B072-5C9F-4F50-99A0-079614F9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5CAEA-B4BB-4D6A-B460-6E136439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BFC41-E782-4A1A-89F4-1F69B848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62A37-5FBC-41C6-B54C-2F8D0550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FEDB-B06C-4A56-BE17-81F244F4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5AA30-E063-4540-B8DD-D4A0B736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4BFA8-ADDF-41FB-989F-B86938D6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81142-2154-49DE-B8EE-44787515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00A30-F32F-4F29-AF20-0744F891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71B3D-EA52-49EA-AE18-C64D3866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0C506-5E21-4CF9-BD21-DDD045F3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7AE69-2BF1-446F-BA13-0E15C6EA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07827-1895-49B6-A06F-B714265E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FBC84-95C1-40AA-B465-CB62C428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97721-8693-473A-87DD-444D5F58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CED-A719-4F84-8932-BA046EFF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D682D-7D05-4E1B-8BB4-7F52F6CD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99389-1723-4B90-9D6C-4CE89957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8313F-9328-42AD-997E-E42A062D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EEAE4-FD11-45C4-B3F1-59473D43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9A8D0-C29A-45CF-B835-5886E446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BFE23-4E1D-4820-A8FB-8A983B01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5188F-36D2-4279-AF77-3FB4CDC0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406A8-A113-4987-A19A-A9BD8A6B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1EEB3-3951-41AC-B34C-FF79F82E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E4DEF-A155-4211-BB8E-0D7C39A9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6322-60DD-4432-9057-51A8A967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D07D9-5CBE-4ECA-8B09-E37405F4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B9743-39DD-467F-A601-A4F6A898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97DD7-2077-48F1-82CB-A7A2ADEE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B7B91-EF10-4C90-8ABF-DFE9929D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3551C-2B1B-439D-993F-8136CE0E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F5028-163C-4882-BFDD-5565AFD5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7AE90-CCFD-42B4-AC75-98589626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10B7B-848F-46C2-B4CC-8656FD02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C2FB2-1A3E-4CEB-89F3-E600BF57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78E63-521C-4F93-B725-B778C11D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4552-5666-4018-A9DD-158D38DC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CCD40-3A65-45B8-8787-6EFF0D35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6B484-C62F-4B23-AC28-AFBC7FE5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ABA4A-29E4-431F-9C44-D3C67D96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47D9F-C7FE-45D9-8436-3FF48D49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0E846-12FD-4F9F-95DD-EC56773F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82C2D-850F-46C6-9EE1-ED81FB5A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427BC-428F-488A-8446-59B215B4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F7BA3-DFB9-4EB5-B954-92985A6A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57B32-6C98-420D-9EFD-59FCD672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F219D-3C28-46A0-AD2F-DC40A840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ED56-DE10-4D74-BDC4-16617DBB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CBE0B-7D55-4FB7-BF81-2FB4E9FB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E93F8-2801-477B-B913-F16EF96C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3B3B7-A58E-4781-83AB-7ED7ED75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84D7D-4BD6-482C-90E4-B3BF9F8C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35B78-F9B2-4D60-8513-F1AE7111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648E9-EF8B-4492-9C3C-93DE353E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BFF9C-2FAB-448D-A858-788BE4C1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739B0-8304-4D9E-B17A-841F5A34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8A9D6-BA49-4F57-975C-76F68086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5370D-FFB1-4BEA-A17A-B64E4B9D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90DA-B962-495E-9BD5-6958A273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EFA8A-6004-4775-B587-EAB2AFA4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CF5D3-E652-4BB4-9A47-0EB990A3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655EC-24A3-4C0B-803A-14280911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C57B5-265C-4A32-8E32-CC33EC25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C7F80-A61E-45DB-A13D-0E4AB0C7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8B96-71F9-4915-926E-BF6DE2FC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70E8-6200-4B97-AEBB-4736531F97B2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6B86-EE98-4365-AB99-E4D2CEDDA947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8AFA-D711-4EF5-843D-65B31CFDD17D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7BCC-A811-4299-9DCD-D48F6F834B36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E8A8-E82B-4576-8414-6AFDF8928E8E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7A9F-EF11-40DA-9FAF-6790196555A0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A965-9B9F-4182-AC1A-A6C66949CB2E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573120" y="360360"/>
            <a:ext cx="8265960" cy="26877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431720" y="4285800"/>
            <a:ext cx="74070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a383d"/>
                </a:solidFill>
                <a:latin typeface="Corbel"/>
              </a:rPr>
              <a:t>…</a:t>
            </a:r>
            <a:r>
              <a:rPr b="0" lang="ru-RU" sz="2400" spc="-1" strike="noStrike">
                <a:solidFill>
                  <a:srgbClr val="3a383d"/>
                </a:solidFill>
                <a:latin typeface="Corbel"/>
              </a:rPr>
              <a:t>что за гуманность, что за теплое слово при простоте и радужных красках, что за грусть, покорность судьбе и радость за человеческое существован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a383d"/>
                </a:solidFill>
                <a:latin typeface="Corbel"/>
              </a:rPr>
              <a:t>                                                                              </a:t>
            </a:r>
            <a:r>
              <a:rPr b="0" lang="ru-RU" sz="2400" spc="-1" strike="noStrike">
                <a:solidFill>
                  <a:srgbClr val="3a383d"/>
                </a:solidFill>
                <a:latin typeface="Corbel"/>
              </a:rPr>
              <a:t>П. В. Анненк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Рисунок 3" descr="Тургенев И.jpg"/>
          <p:cNvPicPr/>
          <p:nvPr/>
        </p:nvPicPr>
        <p:blipFill>
          <a:blip r:embed="rId2"/>
          <a:srcRect l="3203" t="12380" r="2348" b="9219"/>
          <a:stretch/>
        </p:blipFill>
        <p:spPr>
          <a:xfrm>
            <a:off x="4929120" y="0"/>
            <a:ext cx="4214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1176480" y="274680"/>
            <a:ext cx="7759440" cy="12682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rbel"/>
              </a:rPr>
              <a:t>Любовь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Вечная, нежна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Рождается, цветет, вдохновляет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Любовь побеждает даже смерть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Отнимает, убивает, пугает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Холодная, мрачна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Смерть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rbel"/>
              </a:rPr>
              <a:t>Молодость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Красивая, беспечна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Живет, влюбляется, надеетс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Молодость счастлива, старость жестока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Угасает, отнимает, маетс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Горькая, безысходна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Старость 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Заголовок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9167760" cy="1200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Стремление приостановить течение времени, запечатлеть прекрасное мгновение прошлого – свойство человека, понимающего подлинную ценность красоты мира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Мотивы неотвратимого хода времени, смерти, одиночества, памяти, поиска утраченной красоты и гармонии сплелись в этом стихотворении воедино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Удивителен интонационный  и ритмический рисунок стихотворения: он похож на мелодию, которая звучит то тихо, то звонко, то скорбно, то нежно, то трагически и постепенно затихает, уходит в небытие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Рефреном, своеобразным аккордом звучит строка «Как хороши, как свежи были розы…». В сочетании согласных звуков улавливается противопоставление по глухости-звонкости рождает особенную музыкальную фразу, полную печали, тоски по прошлому, его красоте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Рефрен делит стихотворение на своеобразные строфы и окольцовывает произведение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Форма прошедшего времени сказуемого заставляет читателя задуматься о том, что все на свете проходит, пройдет и твоя жизнь, которая также недолговечна, как и прекрасный цветок, заставляет вспомнить слова из книги пророка Еклизиаста: «Всему свое время… Время жить и время умирать…»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Рисунок 3" descr="bestgif.narod.ru_534.gif"/>
          <p:cNvPicPr/>
          <p:nvPr/>
        </p:nvPicPr>
        <p:blipFill>
          <a:blip r:embed="rId2"/>
          <a:stretch/>
        </p:blipFill>
        <p:spPr>
          <a:xfrm>
            <a:off x="0" y="3657600"/>
            <a:ext cx="2724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26960" y="12600"/>
            <a:ext cx="8832960" cy="15606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1000080" y="1499760"/>
            <a:ext cx="79344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Прием рефрена (повторения) связывает образы прошлого и настоящег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кие абзацы повествуют о прошлом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, 3, 5 абзац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кие абзацы говорят о настоящем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2, 4, 6 абзац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к представлен мир прошлого в словах – доминантах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</a:t>
            </a: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Звуки                                                                                        запах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33ea9"/>
                </a:solidFill>
                <a:latin typeface="Corbel"/>
              </a:rPr>
              <a:t>Ровно дышит, бьется мое сердце                            пахнет резедой и липо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33ea9"/>
                </a:solidFill>
                <a:latin typeface="Corbel"/>
              </a:rPr>
              <a:t>Веселый шум, молодые добрые голос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33ea9"/>
                </a:solidFill>
                <a:latin typeface="Corbel"/>
              </a:rPr>
              <a:t>Ланнеровский вальс, воркотня самовар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</a:t>
            </a: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Люди                                                                                        приро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3d75"/>
                </a:solidFill>
                <a:latin typeface="Corbel"/>
              </a:rPr>
              <a:t>Девушка, я, 2 русые головки                             летний вечер, небо, первые звезд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1438200" y="92160"/>
            <a:ext cx="7497720" cy="16812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Автор подчеркивает, насколько дороги ему эти воспоминания о  молодости, о людях, с которыми он общал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5e3c"/>
                </a:solidFill>
                <a:latin typeface="Corbel"/>
              </a:rPr>
              <a:t>Звуки слышащейся музыки передают душевное волнение и состояние влюбленности лирического геро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3d75"/>
                </a:solidFill>
                <a:latin typeface="Corbel"/>
              </a:rPr>
              <a:t>Ностальгические воспоминания наполняют героя радостью и печалью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7" dur="2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1438200" y="274680"/>
            <a:ext cx="7497720" cy="12682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1142640" y="1428840"/>
            <a:ext cx="77914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олод          темнота      свеча              зву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51" name="Прямоугольник 3"/>
          <p:cNvGrpSpPr/>
          <p:nvPr/>
        </p:nvGrpSpPr>
        <p:grpSpPr>
          <a:xfrm>
            <a:off x="1030320" y="2023920"/>
            <a:ext cx="1974960" cy="2359080"/>
            <a:chOff x="1030320" y="2023920"/>
            <a:chExt cx="1974960" cy="2359080"/>
          </a:xfrm>
        </p:grpSpPr>
        <p:pic>
          <p:nvPicPr>
            <p:cNvPr id="352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030320" y="2023920"/>
              <a:ext cx="1974960" cy="23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1143000" y="2071800"/>
              <a:ext cx="1714680" cy="22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Зима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Мороз скрипит и злится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Жмется старый пес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Мне холодно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Я зябну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54" name="Прямоугольник 4"/>
          <p:cNvSpPr/>
          <p:nvPr/>
        </p:nvSpPr>
        <p:spPr>
          <a:xfrm>
            <a:off x="3071880" y="2286000"/>
            <a:ext cx="1714320" cy="17859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ная комнат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се темней и темне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55" name="Прямоугольник 5"/>
          <p:cNvGrpSpPr/>
          <p:nvPr/>
        </p:nvGrpSpPr>
        <p:grpSpPr>
          <a:xfrm>
            <a:off x="4913280" y="2236680"/>
            <a:ext cx="1749600" cy="2000520"/>
            <a:chOff x="4913280" y="2236680"/>
            <a:chExt cx="1749600" cy="2000520"/>
          </a:xfrm>
        </p:grpSpPr>
        <p:pic>
          <p:nvPicPr>
            <p:cNvPr id="356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4913280" y="2236680"/>
              <a:ext cx="174960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000760" y="2286000"/>
              <a:ext cx="157140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Горит одна свеча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Нагоревшая свеча трещит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Меркнет и гаснет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358" name="Прямоугольник 6" descr=""/>
          <p:cNvPicPr/>
          <p:nvPr/>
        </p:nvPicPr>
        <p:blipFill>
          <a:blip r:embed="rId4"/>
          <a:stretch/>
        </p:blipFill>
        <p:spPr>
          <a:xfrm>
            <a:off x="6754680" y="1816200"/>
            <a:ext cx="2133720" cy="2646360"/>
          </a:xfrm>
          <a:prstGeom prst="rect">
            <a:avLst/>
          </a:prstGeom>
          <a:ln w="0">
            <a:noFill/>
          </a:ln>
        </p:spPr>
      </p:pic>
      <p:cxnSp>
        <p:nvCxnSpPr>
          <p:cNvPr id="359" name="Прямая со стрелкой 8"/>
          <p:cNvCxnSpPr/>
          <p:nvPr/>
        </p:nvCxnSpPr>
        <p:spPr>
          <a:xfrm>
            <a:off x="1928880" y="4357440"/>
            <a:ext cx="643320" cy="857880"/>
          </a:xfrm>
          <a:prstGeom prst="straightConnector1">
            <a:avLst/>
          </a:prstGeom>
          <a:ln w="9360">
            <a:solidFill>
              <a:srgbClr val="ceb966"/>
            </a:solidFill>
            <a:miter/>
            <a:tailEnd len="med" type="arrow" w="med"/>
          </a:ln>
        </p:spPr>
      </p:cxnSp>
      <p:cxnSp>
        <p:nvCxnSpPr>
          <p:cNvPr id="360" name="Прямая со стрелкой 10"/>
          <p:cNvCxnSpPr/>
          <p:nvPr/>
        </p:nvCxnSpPr>
        <p:spPr>
          <a:xfrm flipH="1">
            <a:off x="3071880" y="4214880"/>
            <a:ext cx="643320" cy="1000800"/>
          </a:xfrm>
          <a:prstGeom prst="straightConnector1">
            <a:avLst/>
          </a:prstGeom>
          <a:ln w="9360">
            <a:solidFill>
              <a:srgbClr val="ceb966"/>
            </a:solidFill>
            <a:miter/>
            <a:tailEnd len="med" type="arrow" w="med"/>
          </a:ln>
        </p:spPr>
      </p:cxnSp>
      <p:cxnSp>
        <p:nvCxnSpPr>
          <p:cNvPr id="361" name="Прямая со стрелкой 13"/>
          <p:cNvCxnSpPr/>
          <p:nvPr/>
        </p:nvCxnSpPr>
        <p:spPr>
          <a:xfrm flipH="1">
            <a:off x="5643360" y="4287600"/>
            <a:ext cx="2160" cy="641880"/>
          </a:xfrm>
          <a:prstGeom prst="straightConnector1">
            <a:avLst/>
          </a:prstGeom>
          <a:ln w="9360">
            <a:solidFill>
              <a:srgbClr val="ceb966"/>
            </a:solidFill>
            <a:miter/>
            <a:tailEnd len="med" type="arrow" w="med"/>
          </a:ln>
        </p:spPr>
      </p:cxnSp>
      <p:cxnSp>
        <p:nvCxnSpPr>
          <p:cNvPr id="362" name="Прямая со стрелкой 16"/>
          <p:cNvCxnSpPr/>
          <p:nvPr/>
        </p:nvCxnSpPr>
        <p:spPr>
          <a:xfrm flipH="1">
            <a:off x="7786440" y="4573440"/>
            <a:ext cx="2160" cy="713520"/>
          </a:xfrm>
          <a:prstGeom prst="straightConnector1">
            <a:avLst/>
          </a:prstGeom>
          <a:ln w="9360">
            <a:solidFill>
              <a:srgbClr val="ceb966"/>
            </a:solidFill>
            <a:miter/>
            <a:tailEnd len="med" type="arrow" w="med"/>
          </a:ln>
        </p:spPr>
      </p:cxnSp>
      <p:sp>
        <p:nvSpPr>
          <p:cNvPr id="363" name="TextBox 17"/>
          <p:cNvSpPr/>
          <p:nvPr/>
        </p:nvSpPr>
        <p:spPr>
          <a:xfrm>
            <a:off x="1643040" y="5357880"/>
            <a:ext cx="2428920" cy="1191240"/>
          </a:xfrm>
          <a:prstGeom prst="rect">
            <a:avLst/>
          </a:prstGeom>
          <a:solidFill>
            <a:srgbClr val="6585cf"/>
          </a:solidFill>
          <a:ln w="25560">
            <a:solidFill>
              <a:srgbClr val="486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Холод и темнота проникают сначала в комнату, а потом в душу геро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TextBox 19" descr=""/>
          <p:cNvPicPr/>
          <p:nvPr/>
        </p:nvPicPr>
        <p:blipFill>
          <a:blip r:embed="rId5"/>
          <a:stretch/>
        </p:blipFill>
        <p:spPr>
          <a:xfrm>
            <a:off x="4273560" y="4992840"/>
            <a:ext cx="2382840" cy="1742760"/>
          </a:xfrm>
          <a:prstGeom prst="rect">
            <a:avLst/>
          </a:prstGeom>
          <a:ln w="0">
            <a:noFill/>
          </a:ln>
        </p:spPr>
      </p:pic>
      <p:grpSp>
        <p:nvGrpSpPr>
          <p:cNvPr id="365" name="Прямоугольник 20"/>
          <p:cNvGrpSpPr/>
          <p:nvPr/>
        </p:nvGrpSpPr>
        <p:grpSpPr>
          <a:xfrm>
            <a:off x="6858000" y="5310360"/>
            <a:ext cx="2073240" cy="1431720"/>
            <a:chOff x="6858000" y="5310360"/>
            <a:chExt cx="2073240" cy="1431720"/>
          </a:xfrm>
        </p:grpSpPr>
        <p:pic>
          <p:nvPicPr>
            <p:cNvPr id="366" name="Прямоугольник 20" descr=""/>
            <p:cNvPicPr/>
            <p:nvPr/>
          </p:nvPicPr>
          <p:blipFill>
            <a:blip r:embed="rId6"/>
            <a:stretch/>
          </p:blipFill>
          <p:spPr>
            <a:xfrm>
              <a:off x="6858000" y="5310360"/>
              <a:ext cx="207324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6929280" y="5357880"/>
              <a:ext cx="192888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Звуки приглушенные, невнятные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1176480" y="274680"/>
            <a:ext cx="7759440" cy="12682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1000080" y="1447560"/>
            <a:ext cx="7934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Мир прошлого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раскрываетс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через образы лета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тепла, люд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Мир настоящего –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это зима, холод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одиночеств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Рисунок 3" descr="Тургенев И 002.jpg"/>
          <p:cNvPicPr/>
          <p:nvPr/>
        </p:nvPicPr>
        <p:blipFill>
          <a:blip r:embed="rId2"/>
          <a:srcRect l="0" t="0" r="0" b="7074"/>
          <a:stretch/>
        </p:blipFill>
        <p:spPr>
          <a:xfrm>
            <a:off x="3857760" y="285840"/>
            <a:ext cx="5121000" cy="61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5057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69666e"/>
                </a:solidFill>
                <a:latin typeface="Corbel"/>
              </a:rPr>
              <a:t>                           </a:t>
            </a:r>
            <a:r>
              <a:rPr b="0" lang="ru-RU" sz="2800" spc="-1" strike="noStrike">
                <a:solidFill>
                  <a:srgbClr val="69666e"/>
                </a:solidFill>
                <a:latin typeface="Corbel"/>
              </a:rPr>
              <a:t>Воспоминание безмолвно</a:t>
            </a:r>
            <a:br>
              <a:rPr sz="2800"/>
            </a:br>
            <a:r>
              <a:rPr b="0" lang="ru-RU" sz="2800" spc="-1" strike="noStrike">
                <a:solidFill>
                  <a:srgbClr val="69666e"/>
                </a:solidFill>
                <a:latin typeface="Corbel"/>
              </a:rPr>
              <a:t>                                                         предо мной</a:t>
            </a:r>
            <a:br>
              <a:rPr sz="2800"/>
            </a:br>
            <a:r>
              <a:rPr b="0" lang="ru-RU" sz="2800" spc="-1" strike="noStrike">
                <a:solidFill>
                  <a:srgbClr val="69666e"/>
                </a:solidFill>
                <a:latin typeface="Corbel"/>
              </a:rPr>
              <a:t>              Свой длинный развивает свиток.</a:t>
            </a:r>
            <a:br>
              <a:rPr sz="2800"/>
            </a:br>
            <a:r>
              <a:rPr b="0" lang="ru-RU" sz="2800" spc="-1" strike="noStrike">
                <a:solidFill>
                  <a:srgbClr val="69666e"/>
                </a:solidFill>
                <a:latin typeface="Corbel"/>
              </a:rPr>
              <a:t>А. С. Пушкин </a:t>
            </a:r>
            <a:endParaRPr b="0" lang="en-US" sz="28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56800" y="207180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Какова основная мысль стихотворения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Человеку не дано остановить мгновение, но именно из них складывается вечность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аждый человек помнит все хорошее, что случилось с ним, до конца жизн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се постепенно угасает, и только воспоминания могут осветить твою душу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ак бы ни была тяжела жизнь, в ней было много прекрасных моментов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огда у тебя есть воспоминания – темнота не страшн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оспоминания – это мостик между живыми и мертвым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3" name="Рисунок 3" descr="Тургенев 004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487600" y="214200"/>
            <a:ext cx="50133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1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2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2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1438200" y="274680"/>
            <a:ext cx="7497720" cy="12682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опробуйте написать свое стихотворение в прозе, соблюдая его основные признаки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Corbel"/>
              </a:rPr>
              <a:t>Желаю удачи!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резентация составлена Велиевой Н. С. , учителем МОУ сош №6 г.Приволжска Ивановской области по материалам  Вологжаниной В. В. И.С. Тургенев «Стихотворения в прозе»; Ануфриевой А. М. О стихотворении И. С. Тургенева «Как хороши, как свежи были розы…». – Приложение к журналу «Литература в школе», №10-2008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1359000" y="96840"/>
            <a:ext cx="7499160" cy="16891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ем отличается проза от поэзии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то общего у стихотворений в прозе с поэзией и прозой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иниатюрность формы, краткость текст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Богатое использование изобразительно-выразительных средст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Эмоциональность повествова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итмизированность, музыкальност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ирический герой – субъект переживания и объект изображе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731880" y="139680"/>
            <a:ext cx="8204040" cy="15606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1000080" y="1447560"/>
            <a:ext cx="7934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ургенев обратилс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 этому жанру в конц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жизни. Его волнуют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ренные вопросы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ытия, он ставит и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ытается решить их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своих стихотворениях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начале он хотел дать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м общее названи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«Посмертное», потом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«Старческое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Рисунок 3" descr="Тургенев И 001.jpg"/>
          <p:cNvPicPr/>
          <p:nvPr/>
        </p:nvPicPr>
        <p:blipFill>
          <a:blip r:embed="rId2"/>
          <a:srcRect l="1462" t="0" r="6283" b="10416"/>
          <a:stretch/>
        </p:blipFill>
        <p:spPr>
          <a:xfrm>
            <a:off x="4714920" y="0"/>
            <a:ext cx="442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438200" y="92160"/>
            <a:ext cx="7497720" cy="16812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85680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76d"/>
                </a:solidFill>
                <a:latin typeface="Corbel"/>
              </a:rPr>
              <a:t>Каким настроением проникнуты стихотворения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 группа «Воробей», «Мы еще повоюем!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 группа «Без гнезда», «Песочные часы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группа «Стой!», «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ssum maggior dolore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»(«Нет большей скорби»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716600" cy="12002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928440" y="13568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 группа – светлые, оптимистичные, радостные, благоговейные чувств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 группа – печальные, ностальгические, пессимистичные, трагичные, грустные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 группа – соединяют в себе одновременно дв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отивоположных настроения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жизнерадостное и драматическое,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радостное и печальное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Рисунок 3" descr="Тургенев 003.jpg"/>
          <p:cNvPicPr/>
          <p:nvPr/>
        </p:nvPicPr>
        <p:blipFill>
          <a:blip r:embed="rId2">
            <a:lum contrast="10000"/>
          </a:blip>
          <a:srcRect l="5835" t="0" r="0" b="0"/>
          <a:stretch/>
        </p:blipFill>
        <p:spPr>
          <a:xfrm>
            <a:off x="7215120" y="3429000"/>
            <a:ext cx="19288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57200" y="142920"/>
            <a:ext cx="75772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66e"/>
                </a:solidFill>
                <a:latin typeface="Corbel"/>
              </a:rPr>
              <a:t>Вывод: сквозным мотивом тургеневского цикла является контраст, который проявляется во всем цикле, так и в отдельном произведении</a:t>
            </a:r>
            <a:endParaRPr b="0" lang="en-US" sz="28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28800" y="1928520"/>
            <a:ext cx="80056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дтвердите вывод словами из стихотворени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orbel"/>
              </a:rPr>
              <a:t>«Мы еще повоюем!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«Я поглядел, засмеялся, встряхнулся – и грустные думы тотчас отлетели прочь: отвагу, удаль, охоту к жизни почувствовал я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orbel"/>
              </a:rPr>
              <a:t>«Без гнезда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«И не пора ли и мне упасть в море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orbel"/>
              </a:rPr>
              <a:t>«Стой!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частье, блаженное сознание красоты и щепотка пепла, отблеск веч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781200" y="92160"/>
            <a:ext cx="8154720" cy="1681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лодость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юбовь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ера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орьба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рагичное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ветлое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Жизнь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иг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шлое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Рисунок 3" descr="Тургенев.jpg"/>
          <p:cNvPicPr/>
          <p:nvPr/>
        </p:nvPicPr>
        <p:blipFill>
          <a:blip r:embed="rId2">
            <a:lum contrast="10000"/>
          </a:blip>
          <a:srcRect l="13402" t="3124" r="7975" b="10418"/>
          <a:stretch/>
        </p:blipFill>
        <p:spPr>
          <a:xfrm>
            <a:off x="4857840" y="785880"/>
            <a:ext cx="414324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1" descr=""/>
          <p:cNvPicPr/>
          <p:nvPr/>
        </p:nvPicPr>
        <p:blipFill>
          <a:blip r:embed="rId1"/>
          <a:stretch/>
        </p:blipFill>
        <p:spPr>
          <a:xfrm>
            <a:off x="1438200" y="274680"/>
            <a:ext cx="7497720" cy="12682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Цель – акцентировать внимание на богатстве смыслов антитез в творчестве Тургенев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аймонд – особая форма творческой работ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                      </a:t>
            </a:r>
            <a:r>
              <a:rPr b="0" lang="ru-RU" sz="2200" spc="-1" strike="noStrike">
                <a:solidFill>
                  <a:srgbClr val="c00000"/>
                </a:solidFill>
                <a:latin typeface="Corbel"/>
              </a:rPr>
              <a:t>Даймонд состоит из 7 строк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c00000"/>
                </a:solidFill>
                <a:uFillTx/>
                <a:latin typeface="Corbel"/>
              </a:rPr>
              <a:t>2 существительных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(первая и последняя строки) выражают 2 противоположных понятия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торая и шестая строка – </a:t>
            </a:r>
            <a:r>
              <a:rPr b="0" lang="ru-RU" sz="2200" spc="-1" strike="noStrike" u="sng">
                <a:solidFill>
                  <a:srgbClr val="c00000"/>
                </a:solidFill>
                <a:uFillTx/>
                <a:latin typeface="Corbel"/>
              </a:rPr>
              <a:t>2 прилагательных или причастия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, раскрывающие признаки существительного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Третья и пятая строка – </a:t>
            </a:r>
            <a:r>
              <a:rPr b="0" lang="ru-RU" sz="2200" spc="-1" strike="noStrike" u="sng">
                <a:solidFill>
                  <a:srgbClr val="c00000"/>
                </a:solidFill>
                <a:uFillTx/>
                <a:latin typeface="Corbel"/>
              </a:rPr>
              <a:t>3 глагола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, которые выражают действи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Центральная строка состоит </a:t>
            </a:r>
            <a:r>
              <a:rPr b="0" lang="ru-RU" sz="2200" spc="-1" strike="noStrike" u="sng">
                <a:solidFill>
                  <a:srgbClr val="c00000"/>
                </a:solidFill>
                <a:uFillTx/>
                <a:latin typeface="Corbel"/>
              </a:rPr>
              <a:t>из 4 слов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, причем первые два характеризуют первое существительное, вторые два - второ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1176480" y="274680"/>
            <a:ext cx="7759440" cy="12682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1071360" y="14997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rbel"/>
              </a:rPr>
              <a:t>Радость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Светлая, лучезарна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Поглощает, уносит, зовет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Радость жизни и беспощадность смерти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Разрушает, губит, лишает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Убивающее, ужасающее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Горе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rbel"/>
              </a:rPr>
              <a:t>                                                                    </a:t>
            </a:r>
            <a:r>
              <a:rPr b="0" lang="ru-RU" sz="1900" spc="-1" strike="noStrike">
                <a:solidFill>
                  <a:srgbClr val="c00000"/>
                </a:solidFill>
                <a:latin typeface="Corbel"/>
              </a:rPr>
              <a:t>Мечта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Волшебная, прекрасна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Светит, манит, зовет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Неожиданно мечту затмевает тревога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Она губит, пугает и жжет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Ах, эта дерзкая, жестокая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</a:t>
            </a: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Реальность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3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3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6:18:42Z</dcterms:created>
  <dc:creator>sancho</dc:creator>
  <dc:description/>
  <dc:language>en-US</dc:language>
  <cp:lastModifiedBy>User</cp:lastModifiedBy>
  <dcterms:modified xsi:type="dcterms:W3CDTF">2011-07-23T12:57:37Z</dcterms:modified>
  <cp:revision>23</cp:revision>
  <dc:subject/>
  <dc:title>И. С. Тургенев  «Стихотворения     в прозе»</dc:title>
</cp:coreProperties>
</file>