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4.jpeg" ContentType="image/jpeg"/>
  <Override PartName="/ppt/media/image19.gif" ContentType="image/gif"/>
  <Override PartName="/ppt/media/image24.png" ContentType="image/png"/>
  <Override PartName="/ppt/media/image2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25B-825D-4539-A97E-80529B4D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390-62CB-41F3-98F5-1273F967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B46-FCF9-44E6-95B1-AB2ED94A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528-4929-40F9-B7BC-AEA4DCAE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6726-F972-4F69-9777-ACE78D94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5122-AE46-4D93-AA90-E90FB0C7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72E2-7325-46D7-95DE-5B4CADA6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5838-9F85-445B-92DD-6491EC12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1811-5696-42C5-8C4C-1D016636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9E86-4DC8-4693-B826-11814EEA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C17C-2246-4EB9-8A9D-64AD3177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346-6CDE-4080-8CF9-725CF32C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428C-7BA3-4A01-9DDB-CB519DB8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0843-0D53-4CBF-B6AF-31C2358F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F5D8-DF44-475B-ACDF-81338A35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72EE-0C27-481C-85CE-A12213EA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DCCE-4AAA-4478-9352-3905CBEB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1588C-4832-48E5-8F38-F288337D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29CE3-6317-4981-876D-AF163EAE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0EE2C-4A56-407C-95D3-8158421B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8C264-BD09-47E4-B5FC-D83ACB9A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1178D-8D63-491E-93A3-B2106B54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9FF-9D67-4B62-ACE2-E35C2679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51404-66F4-4962-939F-1914635A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56BD-9F5A-4ECE-A6EA-5D5E2932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85E93-8BF0-46BE-A48F-5744FFCC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C1B37-924E-4943-B96C-64107799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035AE-DB12-404C-A9AD-6AEB18DC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AFA6F-7038-40FA-81E9-A6C2584B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642E-AA20-421F-A50B-08FD3BC9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E7871-1765-4D1A-BC56-3B016133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898CF-4987-4258-93B6-E62D66A8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40623-48CC-4DE3-9583-8653C955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7A6-EF80-4375-BA60-2E9CF5B0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0F3E4-583E-4B11-9A99-26C34E5B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AFA39-5430-4ED9-B7F4-0A8862B3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C2461-8265-4945-82B5-AA415465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A9CC1-718D-4C7F-A6F9-51D7B635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B4DFE-4183-496C-B31B-54B792F5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CD711-E4A9-45CD-B91F-64AF3CC2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A4082-238A-4873-A655-BCFAEF5F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8E297-28C8-4242-920D-41D4017D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7C0CF-3644-4DF0-87DA-93B548FC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4C7D3-C6CA-4C16-9899-708F0961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F51-772C-40B8-87A8-56AC7F24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F213C-B619-4FDC-BFE8-4FA96AE8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141C6-3A04-4D0A-8A37-5BBFA130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1C635-C1FF-4181-904E-E4D48582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6BDE5-093B-41A8-B97A-6D229C03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AF64D-2897-47E4-97F4-BE61B152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7F4FC-B892-48CC-A83A-48482214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636BF-5C51-4214-8E64-E204E467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A8232-A6BC-4762-8E6B-4CD1A15B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0B78C-AE4D-4D53-90D6-59351C16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D4734-0DF2-4E62-B709-289F4986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265-574C-41AC-9571-54837102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1B190-93D5-43B1-90F5-EE162772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8B839-C954-42AC-9796-9F462019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B4564-BF11-4422-9AA3-24479A8D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BD1E5-2F25-4D76-A41E-BF0217D9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46C56-C72F-45C0-9081-3C9B93EE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5A3E1-1FB5-4F9C-BF94-A24749ED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FDBF7-433C-44AB-A614-C9B5EC45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D85E5-2D6F-460F-A008-687C1B50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8F7DD-0EA5-4AF0-80A0-F320D1B9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C6574-A8C4-49D9-95C0-CF7B0CB3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D0A-8B75-408D-855A-03F2B515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4581B-957E-4A83-AE50-8995F102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FA30E-F5D3-4DFC-9F47-90808F72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9B0EC-28CB-4628-B730-DCFDC463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C1E23-5A69-4893-9803-D6383428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BF57D-4022-4D91-AAA5-87C72EB6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944F0-DE17-4346-8D9A-83EB184F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E616F-7464-43DD-81A6-9E2A0008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6ECB5-A843-477D-8AAD-ADCFDB08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DFCD4-26C5-4316-A259-56587BD9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3420A-673E-45BF-86F1-0756B440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FD9-1BD4-4E38-8570-EF1DDD84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037FD-FB25-4276-AB3D-11D4B929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CDD77-01D4-4C4E-8C30-309368A9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1BDAD-FE59-4E22-9919-5DD5F80E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37016-53A7-48B2-BD9C-30822F2C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E0A52-4F83-49B7-8DAF-DD3C3B2C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31A-BE11-4752-B0AC-BD77EAD5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48A1-2D59-446C-BA83-C5887C197DD4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5A0D-C3BD-46DE-9F0D-6FE93B042200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B1F1-2F75-4312-8BB9-F539423C3DE4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8303-578E-4698-A2CD-CE8DAD4F73E6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1547-DD30-4711-AA7A-BCDEBB4BBDC3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4083-95F5-4814-B93F-E1BD35B584BD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DDD1-A173-4AD1-819F-93C19EFE53F5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573120" y="360360"/>
            <a:ext cx="8265960" cy="26877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31720" y="4285800"/>
            <a:ext cx="74070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383d"/>
                </a:solidFill>
                <a:latin typeface="Corbel"/>
              </a:rPr>
              <a:t>…</a:t>
            </a:r>
            <a:r>
              <a:rPr b="0" lang="ru-RU" sz="2400" spc="-1" strike="noStrike">
                <a:solidFill>
                  <a:srgbClr val="3a383d"/>
                </a:solidFill>
                <a:latin typeface="Corbel"/>
              </a:rPr>
              <a:t>что за гуманность, что за теплое слово при простоте и радужных красках, что за грусть, покорность судьбе и радость за человеческое существова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383d"/>
                </a:solidFill>
                <a:latin typeface="Corbel"/>
              </a:rPr>
              <a:t>                                                                              </a:t>
            </a:r>
            <a:r>
              <a:rPr b="0" lang="ru-RU" sz="2400" spc="-1" strike="noStrike">
                <a:solidFill>
                  <a:srgbClr val="3a383d"/>
                </a:solidFill>
                <a:latin typeface="Corbel"/>
              </a:rPr>
              <a:t>П. В. Анненк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Рисунок 3" descr="Тургенев И.jpg"/>
          <p:cNvPicPr/>
          <p:nvPr/>
        </p:nvPicPr>
        <p:blipFill>
          <a:blip r:embed="rId2"/>
          <a:srcRect l="3203" t="12380" r="2348" b="9219"/>
          <a:stretch/>
        </p:blipFill>
        <p:spPr>
          <a:xfrm>
            <a:off x="4929120" y="0"/>
            <a:ext cx="4214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1176480" y="274680"/>
            <a:ext cx="7759440" cy="1268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rbel"/>
              </a:rPr>
              <a:t>Любовь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Вечная, неж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Рождается, цветет, вдохновляе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Любовь побеждает даже смерть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Отнимает, убивает, пугает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Холодная, мрач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Смерть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rbel"/>
              </a:rPr>
              <a:t>Молодость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Красивая, беспеч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Живет, влюбляется, надеетс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Молодость счастлива, старость жестока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Угасает, отнимает, маетс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Горькая, безысход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Старость 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9167760" cy="1200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Стремление приостановить течение времени, запечатлеть прекрасное мгновение прошлого – свойство человека, понимающего подлинную ценность красоты мира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Мотивы неотвратимого хода времени, смерти, одиночества, памяти, поиска утраченной красоты и гармонии сплелись в этом стихотворении воедино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Удивителен интонационный  и ритмический рисунок стихотворения: он похож на мелодию, которая звучит то тихо, то звонко, то скорбно, то нежно, то трагически и постепенно затихает, уходит в небыти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Рефреном, своеобразным аккордом звучит строка «Как хороши, как свежи были розы…». В сочетании согласных звуков улавливается противопоставление по глухости-звонкости рождает особенную музыкальную фразу, полную печали, тоски по прошлому, его красот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Рефрен делит стихотворение на своеобразные строфы и окольцовывает произведени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Форма прошедшего времени сказуемого заставляет читателя задуматься о том, что все на свете проходит, пройдет и твоя жизнь, которая также недолговечна, как и прекрасный цветок, заставляет вспомнить слова из книги пророка Еклизиаста: «Всему свое время… Время жить и время умирать…»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Рисунок 3" descr="bestgif.narod.ru_534.gif"/>
          <p:cNvPicPr/>
          <p:nvPr/>
        </p:nvPicPr>
        <p:blipFill>
          <a:blip r:embed="rId2"/>
          <a:stretch/>
        </p:blipFill>
        <p:spPr>
          <a:xfrm>
            <a:off x="0" y="3657600"/>
            <a:ext cx="2724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26960" y="12600"/>
            <a:ext cx="8832960" cy="15606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1000080" y="1499760"/>
            <a:ext cx="79344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Прием рефрена (повторения) связывает образы прошлого и настоящег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кие абзацы повествуют о прошлом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, 3, 5 абзац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кие абзацы говорят о настоящем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2, 4, 6 абзац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к представлен мир прошлого в словах – доминантах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Звуки                                                                                        запах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3ea9"/>
                </a:solidFill>
                <a:latin typeface="Corbel"/>
              </a:rPr>
              <a:t>Ровно дышит, бьется мое сердце                            пахнет резедой и лип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3ea9"/>
                </a:solidFill>
                <a:latin typeface="Corbel"/>
              </a:rPr>
              <a:t>Веселый шум, молодые добрые голос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3ea9"/>
                </a:solidFill>
                <a:latin typeface="Corbel"/>
              </a:rPr>
              <a:t>Ланнеровский вальс, воркотня самовар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Люди                                                                                        прир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3d75"/>
                </a:solidFill>
                <a:latin typeface="Corbel"/>
              </a:rPr>
              <a:t>Девушка, я, 2 русые головки                             летний вечер, небо, первые звезд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1438200" y="92160"/>
            <a:ext cx="7497720" cy="16812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Автор подчеркивает, насколько дороги ему эти воспоминания о  молодости, о людях, с которыми он общал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5e3c"/>
                </a:solidFill>
                <a:latin typeface="Corbel"/>
              </a:rPr>
              <a:t>Звуки слышащейся музыки передают душевное волнение и состояние влюбленности лирического геро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3d75"/>
                </a:solidFill>
                <a:latin typeface="Corbel"/>
              </a:rPr>
              <a:t>Ностальгические воспоминания наполняют героя радостью и печаль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1438200" y="274680"/>
            <a:ext cx="7497720" cy="12682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1142640" y="1428840"/>
            <a:ext cx="7791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олод          темнота      свеча              зву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1" name="Прямоугольник 3"/>
          <p:cNvGrpSpPr/>
          <p:nvPr/>
        </p:nvGrpSpPr>
        <p:grpSpPr>
          <a:xfrm>
            <a:off x="1030320" y="2023920"/>
            <a:ext cx="1974960" cy="2359080"/>
            <a:chOff x="1030320" y="2023920"/>
            <a:chExt cx="1974960" cy="2359080"/>
          </a:xfrm>
        </p:grpSpPr>
        <p:pic>
          <p:nvPicPr>
            <p:cNvPr id="352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30320" y="2023920"/>
              <a:ext cx="1974960" cy="23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1143000" y="2071800"/>
              <a:ext cx="1714680" cy="22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Зима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Мороз скрипит и злится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Жмется старый пес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Мне холодно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Я зябну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54" name="Прямоугольник 4"/>
          <p:cNvSpPr/>
          <p:nvPr/>
        </p:nvSpPr>
        <p:spPr>
          <a:xfrm>
            <a:off x="3071880" y="2286000"/>
            <a:ext cx="1714320" cy="17859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ная комна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се темней и темне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5" name="Прямоугольник 5"/>
          <p:cNvGrpSpPr/>
          <p:nvPr/>
        </p:nvGrpSpPr>
        <p:grpSpPr>
          <a:xfrm>
            <a:off x="4913280" y="2236680"/>
            <a:ext cx="1749600" cy="2000520"/>
            <a:chOff x="4913280" y="2236680"/>
            <a:chExt cx="1749600" cy="2000520"/>
          </a:xfrm>
        </p:grpSpPr>
        <p:pic>
          <p:nvPicPr>
            <p:cNvPr id="356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4913280" y="2236680"/>
              <a:ext cx="174960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000760" y="2286000"/>
              <a:ext cx="15714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Горит одна свеча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Нагоревшая свеча трещит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Меркнет и гаснет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358" name="Прямоугольник 6" descr=""/>
          <p:cNvPicPr/>
          <p:nvPr/>
        </p:nvPicPr>
        <p:blipFill>
          <a:blip r:embed="rId4"/>
          <a:stretch/>
        </p:blipFill>
        <p:spPr>
          <a:xfrm>
            <a:off x="6754680" y="1816200"/>
            <a:ext cx="2133720" cy="2646360"/>
          </a:xfrm>
          <a:prstGeom prst="rect">
            <a:avLst/>
          </a:prstGeom>
          <a:ln w="0">
            <a:noFill/>
          </a:ln>
        </p:spPr>
      </p:pic>
      <p:cxnSp>
        <p:nvCxnSpPr>
          <p:cNvPr id="359" name="Прямая со стрелкой 8"/>
          <p:cNvCxnSpPr/>
          <p:nvPr/>
        </p:nvCxnSpPr>
        <p:spPr>
          <a:xfrm>
            <a:off x="1928880" y="4357440"/>
            <a:ext cx="643320" cy="857880"/>
          </a:xfrm>
          <a:prstGeom prst="straightConnector1">
            <a:avLst/>
          </a:prstGeom>
          <a:ln w="93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360" name="Прямая со стрелкой 10"/>
          <p:cNvCxnSpPr/>
          <p:nvPr/>
        </p:nvCxnSpPr>
        <p:spPr>
          <a:xfrm flipH="1">
            <a:off x="3071880" y="4214880"/>
            <a:ext cx="643320" cy="1000800"/>
          </a:xfrm>
          <a:prstGeom prst="straightConnector1">
            <a:avLst/>
          </a:prstGeom>
          <a:ln w="93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361" name="Прямая со стрелкой 13"/>
          <p:cNvCxnSpPr/>
          <p:nvPr/>
        </p:nvCxnSpPr>
        <p:spPr>
          <a:xfrm flipH="1">
            <a:off x="5643360" y="4287600"/>
            <a:ext cx="2160" cy="641880"/>
          </a:xfrm>
          <a:prstGeom prst="straightConnector1">
            <a:avLst/>
          </a:prstGeom>
          <a:ln w="93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362" name="Прямая со стрелкой 16"/>
          <p:cNvCxnSpPr/>
          <p:nvPr/>
        </p:nvCxnSpPr>
        <p:spPr>
          <a:xfrm flipH="1">
            <a:off x="7786440" y="4573440"/>
            <a:ext cx="2160" cy="713520"/>
          </a:xfrm>
          <a:prstGeom prst="straightConnector1">
            <a:avLst/>
          </a:prstGeom>
          <a:ln w="9360">
            <a:solidFill>
              <a:srgbClr val="ceb966"/>
            </a:solidFill>
            <a:miter/>
            <a:tailEnd len="med" type="arrow" w="med"/>
          </a:ln>
        </p:spPr>
      </p:cxnSp>
      <p:sp>
        <p:nvSpPr>
          <p:cNvPr id="363" name="TextBox 17"/>
          <p:cNvSpPr/>
          <p:nvPr/>
        </p:nvSpPr>
        <p:spPr>
          <a:xfrm>
            <a:off x="1643040" y="5357880"/>
            <a:ext cx="2428920" cy="1191240"/>
          </a:xfrm>
          <a:prstGeom prst="rect">
            <a:avLst/>
          </a:prstGeom>
          <a:solidFill>
            <a:srgbClr val="6585cf"/>
          </a:solidFill>
          <a:ln w="25560">
            <a:solidFill>
              <a:srgbClr val="486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олод и темнота проникают сначала в комнату, а потом в душу геро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TextBox 19" descr=""/>
          <p:cNvPicPr/>
          <p:nvPr/>
        </p:nvPicPr>
        <p:blipFill>
          <a:blip r:embed="rId5"/>
          <a:stretch/>
        </p:blipFill>
        <p:spPr>
          <a:xfrm>
            <a:off x="4273560" y="4992840"/>
            <a:ext cx="2382840" cy="1742760"/>
          </a:xfrm>
          <a:prstGeom prst="rect">
            <a:avLst/>
          </a:prstGeom>
          <a:ln w="0">
            <a:noFill/>
          </a:ln>
        </p:spPr>
      </p:pic>
      <p:grpSp>
        <p:nvGrpSpPr>
          <p:cNvPr id="365" name="Прямоугольник 20"/>
          <p:cNvGrpSpPr/>
          <p:nvPr/>
        </p:nvGrpSpPr>
        <p:grpSpPr>
          <a:xfrm>
            <a:off x="6858000" y="5310360"/>
            <a:ext cx="2073240" cy="1431720"/>
            <a:chOff x="6858000" y="5310360"/>
            <a:chExt cx="2073240" cy="1431720"/>
          </a:xfrm>
        </p:grpSpPr>
        <p:pic>
          <p:nvPicPr>
            <p:cNvPr id="366" name="Прямоугольник 20" descr=""/>
            <p:cNvPicPr/>
            <p:nvPr/>
          </p:nvPicPr>
          <p:blipFill>
            <a:blip r:embed="rId6"/>
            <a:stretch/>
          </p:blipFill>
          <p:spPr>
            <a:xfrm>
              <a:off x="6858000" y="5310360"/>
              <a:ext cx="207324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929280" y="5357880"/>
              <a:ext cx="192888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Звуки приглушенные, невнятные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1176480" y="274680"/>
            <a:ext cx="7759440" cy="1268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Мир прошлог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раскрываетс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через образы лета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тепла, люд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ир настоящего –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это зима, холод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диночеств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Рисунок 3" descr="Тургенев И 002.jpg"/>
          <p:cNvPicPr/>
          <p:nvPr/>
        </p:nvPicPr>
        <p:blipFill>
          <a:blip r:embed="rId2"/>
          <a:srcRect l="0" t="0" r="0" b="7074"/>
          <a:stretch/>
        </p:blipFill>
        <p:spPr>
          <a:xfrm>
            <a:off x="3857760" y="285840"/>
            <a:ext cx="5121000" cy="61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5057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9666e"/>
                </a:solidFill>
                <a:latin typeface="Corbel"/>
              </a:rPr>
              <a:t>                           </a:t>
            </a:r>
            <a:r>
              <a:rPr b="0" lang="ru-RU" sz="2800" spc="-1" strike="noStrike">
                <a:solidFill>
                  <a:srgbClr val="69666e"/>
                </a:solidFill>
                <a:latin typeface="Corbel"/>
              </a:rPr>
              <a:t>Воспоминание безмолвно</a:t>
            </a:r>
            <a:br>
              <a:rPr sz="2800"/>
            </a:br>
            <a:r>
              <a:rPr b="0" lang="ru-RU" sz="2800" spc="-1" strike="noStrike">
                <a:solidFill>
                  <a:srgbClr val="69666e"/>
                </a:solidFill>
                <a:latin typeface="Corbel"/>
              </a:rPr>
              <a:t>                                                         предо мной</a:t>
            </a:r>
            <a:br>
              <a:rPr sz="2800"/>
            </a:br>
            <a:r>
              <a:rPr b="0" lang="ru-RU" sz="2800" spc="-1" strike="noStrike">
                <a:solidFill>
                  <a:srgbClr val="69666e"/>
                </a:solidFill>
                <a:latin typeface="Corbel"/>
              </a:rPr>
              <a:t>              Свой длинный развивает свиток.</a:t>
            </a:r>
            <a:br>
              <a:rPr sz="2800"/>
            </a:br>
            <a:r>
              <a:rPr b="0" lang="ru-RU" sz="2800" spc="-1" strike="noStrike">
                <a:solidFill>
                  <a:srgbClr val="69666e"/>
                </a:solidFill>
                <a:latin typeface="Corbel"/>
              </a:rPr>
              <a:t>А. С. Пушкин </a:t>
            </a:r>
            <a:endParaRPr b="0" lang="en-US" sz="28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56800" y="207180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акова основная мысль стихотворения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Человеку не дано остановить мгновение, но именно из них складывается вечност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аждый человек помнит все хорошее, что случилось с ним, до конца жизн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се постепенно угасает, и только воспоминания могут осветить твою душу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ак бы ни была тяжела жизнь, в ней было много прекрасных моменто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гда у тебя есть воспоминания – темнота не страшн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оспоминания – это мостик между живыми и мертвым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Рисунок 3" descr="Тургенев 004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487600" y="214200"/>
            <a:ext cx="50133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2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1438200" y="274680"/>
            <a:ext cx="7497720" cy="12682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опробуйте написать свое стихотворение в прозе, соблюдая его основные признаки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orbel"/>
              </a:rPr>
              <a:t>Желаю удачи!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резентация составлена Велиевой Н. С. , учителем МОУ сош №6 г.Приволжска Ивановской области по материалам  Вологжаниной В. В. И.С. Тургенев «Стихотворения в прозе»; Ануфриевой А. М. О стихотворении И. С. Тургенева «Как хороши, как свежи были розы…». – Приложение к журналу «Литература в школе», №10-2008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1359000" y="96840"/>
            <a:ext cx="7499160" cy="16891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м отличается проза от поэзи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общего у стихотворений в прозе с поэзией и прозо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иниатюрность формы, краткость текст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огатое использование изобразительно-выразительных средст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Эмоциональность повествова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итмизированность, музыкально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ирический герой – субъект переживания и объект изображ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731880" y="139680"/>
            <a:ext cx="8204040" cy="15606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ургенев обратилс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 этому жанру в конц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жизни. Его волнуют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ренные вопросы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ытия, он ставит 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ытается решить и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своих стихотворениях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начале он хотел дат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м общее названи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«Посмертное», пото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«Старческое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Рисунок 3" descr="Тургенев И 001.jpg"/>
          <p:cNvPicPr/>
          <p:nvPr/>
        </p:nvPicPr>
        <p:blipFill>
          <a:blip r:embed="rId2"/>
          <a:srcRect l="1462" t="0" r="6283" b="10416"/>
          <a:stretch/>
        </p:blipFill>
        <p:spPr>
          <a:xfrm>
            <a:off x="4714920" y="0"/>
            <a:ext cx="442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438200" y="92160"/>
            <a:ext cx="7497720" cy="16812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85680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76d"/>
                </a:solidFill>
                <a:latin typeface="Corbel"/>
              </a:rPr>
              <a:t>Каким настроением проникнуты стихотворени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группа «Воробей», «Мы еще повоюем!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группа «Без гнезда», «Песочные часы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группа «Стой!», «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ssum maggior dolore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»(«Нет большей скорби»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716600" cy="12002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928440" y="13568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 группа – светлые, оптимистичные, радостные, благоговейные чувств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 группа – печальные, ностальгические, пессимистичные, трагичные, грустные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 группа – соединяют в себе одновременно дв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отивоположных настроения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жизнерадостное и драматическое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адостное и печальное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Рисунок 3" descr="Тургенев 003.jpg"/>
          <p:cNvPicPr/>
          <p:nvPr/>
        </p:nvPicPr>
        <p:blipFill>
          <a:blip r:embed="rId2">
            <a:lum contrast="10000"/>
          </a:blip>
          <a:srcRect l="5835" t="0" r="0" b="0"/>
          <a:stretch/>
        </p:blipFill>
        <p:spPr>
          <a:xfrm>
            <a:off x="7215120" y="3429000"/>
            <a:ext cx="19288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57200" y="142920"/>
            <a:ext cx="75772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66e"/>
                </a:solidFill>
                <a:latin typeface="Corbel"/>
              </a:rPr>
              <a:t>Вывод: сквозным мотивом тургеневского цикла является контраст, который проявляется во всем цикле, так и в отдельном произведении</a:t>
            </a:r>
            <a:endParaRPr b="0" lang="en-US" sz="28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28800" y="1928520"/>
            <a:ext cx="80056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дтвердите вывод словами из стихотворен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rbel"/>
              </a:rPr>
              <a:t>«Мы еще повоюем!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«Я поглядел, засмеялся, встряхнулся – и грустные думы тотчас отлетели прочь: отвагу, удаль, охоту к жизни почувствовал я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rbel"/>
              </a:rPr>
              <a:t>«Без гнезда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«И не пора ли и мне упасть в море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rbel"/>
              </a:rPr>
              <a:t>«Стой!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частье, блаженное сознание красоты и щепотка пепла, отблеск веч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781200" y="92160"/>
            <a:ext cx="8154720" cy="1681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лодость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юбовь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ра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орьба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агичное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ветлое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Жизнь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иг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шлое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Рисунок 3" descr="Тургенев.jpg"/>
          <p:cNvPicPr/>
          <p:nvPr/>
        </p:nvPicPr>
        <p:blipFill>
          <a:blip r:embed="rId2">
            <a:lum contrast="10000"/>
          </a:blip>
          <a:srcRect l="13402" t="3124" r="7975" b="10418"/>
          <a:stretch/>
        </p:blipFill>
        <p:spPr>
          <a:xfrm>
            <a:off x="4857840" y="785880"/>
            <a:ext cx="41432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1438200" y="274680"/>
            <a:ext cx="7497720" cy="1268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Цель – акцентировать внимание на богатстве смыслов антитез в творчестве Тургенев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аймонд – особая форма творческой рабо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                 </a:t>
            </a:r>
            <a:r>
              <a:rPr b="0" lang="ru-RU" sz="2200" spc="-1" strike="noStrike">
                <a:solidFill>
                  <a:srgbClr val="c00000"/>
                </a:solidFill>
                <a:latin typeface="Corbel"/>
              </a:rPr>
              <a:t>Даймонд состоит из 7 строк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c00000"/>
                </a:solidFill>
                <a:uFillTx/>
                <a:latin typeface="Corbel"/>
              </a:rPr>
              <a:t>2 существительных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первая и последняя строки) выражают 2 противоположных понятия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торая и шестая строка – </a:t>
            </a:r>
            <a:r>
              <a:rPr b="0" lang="ru-RU" sz="2200" spc="-1" strike="noStrike" u="sng">
                <a:solidFill>
                  <a:srgbClr val="c00000"/>
                </a:solidFill>
                <a:uFillTx/>
                <a:latin typeface="Corbel"/>
              </a:rPr>
              <a:t>2 прилагательных или причастия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раскрывающие признаки существительного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Третья и пятая строка – </a:t>
            </a:r>
            <a:r>
              <a:rPr b="0" lang="ru-RU" sz="2200" spc="-1" strike="noStrike" u="sng">
                <a:solidFill>
                  <a:srgbClr val="c00000"/>
                </a:solidFill>
                <a:uFillTx/>
                <a:latin typeface="Corbel"/>
              </a:rPr>
              <a:t>3 глагол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которые выражают действи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Центральная строка состоит </a:t>
            </a:r>
            <a:r>
              <a:rPr b="0" lang="ru-RU" sz="2200" spc="-1" strike="noStrike" u="sng">
                <a:solidFill>
                  <a:srgbClr val="c00000"/>
                </a:solidFill>
                <a:uFillTx/>
                <a:latin typeface="Corbel"/>
              </a:rPr>
              <a:t>из 4 слов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причем первые два характеризуют первое существительное, вторые два - второ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176480" y="274680"/>
            <a:ext cx="7759440" cy="1268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1071360" y="14997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rbel"/>
              </a:rPr>
              <a:t>Радость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Светлая, лучезар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Поглощает, уносит, зовет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Радость жизни и беспощадность смерти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Разрушает, губит, лишает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Убивающее, ужасающее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Горе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c00000"/>
                </a:solidFill>
                <a:latin typeface="Corbel"/>
              </a:rPr>
              <a:t>Мечт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Волшебная, прекрас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Светит, манит, зовет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Неожиданно мечту затмевает тревог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Она губит, пугает и жже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Ах, эта дерзкая, жестокая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Реальность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3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6:18:42Z</dcterms:created>
  <dc:creator>sancho</dc:creator>
  <dc:description/>
  <dc:language>en-US</dc:language>
  <cp:lastModifiedBy>User</cp:lastModifiedBy>
  <dcterms:modified xsi:type="dcterms:W3CDTF">2011-07-23T12:57:37Z</dcterms:modified>
  <cp:revision>23</cp:revision>
  <dc:subject/>
  <dc:title>И. С. Тургенев  «Стихотворения     в прозе»</dc:title>
</cp:coreProperties>
</file>