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dt" idx="4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7A7EC0-F12F-456A-A41F-8C2FA7F00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F40D54-3A86-4AAF-B91B-321B07030A5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6814CC-765B-4B16-9688-B2F2FEE91DF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5FBC-2169-4A6C-9BC2-9763E0C9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6A9-4DF2-496C-B694-78D36E67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2211B-910B-4307-9902-580A8017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D15C9-6DCB-4F05-A352-D3F69645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6D45D-CBB5-466F-B4DD-E95993DB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51305-CD09-4B53-82C5-FFE6FBA8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6DF35-5A2C-4BF4-B3BD-A4007398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81062-0F55-4386-B26E-BE20A65B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9A95C-B118-44AB-A058-FBB88D53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7272B-BDC4-42DC-8B69-8C3F57AB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7F590-E86C-45DA-87F1-4EF3D5DC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6A817-9145-4765-A729-3B915B6E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1AF-FC47-4B51-BBFA-928ADC8F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FD44D-9D38-47A2-8863-10119222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33A16-3667-4C54-B286-D959D138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3C2AC-FC5E-419F-8B3F-96BC772A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2A903-AE57-42E0-97F0-1825DF3A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44BEF-1709-4D4E-8C18-DD0C5684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9C0AB-181F-4D19-B2A9-73ECEFE4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F02B1-C98F-462B-A16F-22A829D8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BD8B1-6636-4976-8FBB-696FAEC5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DADA2-3A8E-4AEF-9DF9-154981F7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6EB02-61AD-4914-9758-AFD710F2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40B9-8352-4252-B431-107B184D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56EBA-04EA-46B9-9E19-F80FC542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D99B0-3799-458F-9CB8-0F9C2BFE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B0E16-2E07-4215-8613-894DD002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2B0EF-BD59-4AA7-B287-AE8221B9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56907-0566-487D-80DA-176EE4C3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213CC-0ECF-4BC9-A432-B326AF94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7B1CA-5309-43CF-B86A-B955A1A8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21F07-E05E-44A2-9BDF-415FA870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A4B50-A182-40EE-94E2-4E16A3CD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E65A9-A512-4C0A-B03C-7557DDB1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6EA1-E9AE-44C0-B627-E998931F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5CBD1-90DC-49D5-8325-464900D0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15318-30C0-43CC-90B1-6411B80A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A97E1-6B56-4634-B586-E8F57D47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32D2A-40FB-44CA-B782-2EF60C5B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ED55F-4937-45A9-A619-13F74925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21634-09D9-44CD-92F8-AE0A7138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72847-083E-407B-85D4-A93A611D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EA628-C50A-4290-A939-EC4DD449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37F36-6294-41C6-A275-22C5E195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033A6-0A74-4606-8488-3F90E40B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6A32-5861-40DD-8B24-3E2CCFAA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4361A-9FCD-4CDF-BF9A-6287AD3F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6994C-813B-4990-A6AA-84E1F7B1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33908-E174-4C63-9844-449839B0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4FA97-962C-4912-BC30-AD1A82D5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B31DA-3D6B-455E-8194-98889786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1471DC-8C3C-4996-8270-F20E5E32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1D21B-7257-4B38-B9F4-A0E7837B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51181-926E-4EFC-AA8F-BEBB17BC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E3554-A9C6-444D-BF06-60AD5DEE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291BF9-ABA4-47A3-9943-95982AB5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8D84-EB6B-45E0-B6A9-7CFA24CB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B19945-0E2B-400B-BF4C-D78EA0D9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B2143-2A1C-4A84-924D-1391D92F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AC14A-8AA9-4A3E-976A-9B12B2EC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B459B-F868-4D46-8F18-FA6346CC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C6FE4-1863-4135-9DB0-C6D9DE6A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611B1D-863D-4C44-AB4F-859F7E31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E51EF-378E-418E-A684-4CBEF13A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A0E1-F7DF-4DEE-A3F6-E52F6990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190E-75FE-4250-AEBE-007B28BF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8082-4F53-4F96-834F-C7D249AB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0C5F-3F83-4A46-8C60-9DE258E4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297-310A-4186-8D2B-BD87070B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3E1A-E7D2-4A98-9085-DD0B8B1D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63E1-1574-469B-AE63-87A8C384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8E70-E552-4861-9D9A-2F0C8F36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E189-BBCE-418A-BA2F-5A0A6643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47BB-E911-4B39-A387-41BEFD2D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05CC3-0AAB-430D-9351-7C5DA58E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73057-5A2F-40D8-91A4-0599D201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3930D-DE21-473D-B4F6-189275EC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94829-33C7-4571-92FE-0FCB84DC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F6022-FB43-42E4-BD8B-E6CD816D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007-828B-49E4-A786-7DEA57D8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0313F-5083-4626-A27C-58772F6D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0A89A-9C6D-49C0-8D1A-541A706E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85AB2-41F9-4203-ACD0-42EF7C36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08AAA-9F18-4C9B-9DB6-335978C2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A633E-C418-4F3A-BF17-CDA4B431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CE215-C2F7-4EE2-AF69-377D6E59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0BE00-1A19-4CAA-9D50-237C159F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38CF5-D5A6-424E-8448-0D812166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4568C-6B7A-481F-9C99-C1744A5A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4CAD4-DF23-46F2-A522-DE258E58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E0F-DDBE-457F-B0F5-8DBDD5B0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63E86-69DE-4733-BE80-1FF9B7FB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1AFFD-B948-453A-8EA6-E4FACBC9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CFB7F-E89F-4EB3-AF0A-9D381991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7E981-3EF2-4D7A-B88E-F29FAAE1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D709E-FEBF-4E69-853F-149B638D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35B59-E56C-46AD-AF67-A7C756C0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D7C5B-C90D-4352-A0DC-6778DDCE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B171A-9612-40F6-A5D6-4F1F0306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1B1E8-515C-4A91-8CF3-AF4924BB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BA99A-2B29-42F8-8191-1177F1DC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4CB1-C25E-4B8E-BEB9-1194EB6D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80714-E637-4E2C-91EB-54AAE469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E32AD-C071-4194-AB63-40EB297D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BE52C-93CA-4152-930C-BFE49E0A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60ED0-1461-485C-B3D0-2DB05585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2434E-F752-4842-85DE-D743D37C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22E97-0268-4939-BBCF-69B64E3B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7555E-49A3-4A0E-A130-7A32D85F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24A33-0C3D-440B-9ADD-14A05438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ED8B1-DB18-4D16-848F-A626F6CE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27026-FBDA-4A95-8FD7-B12B8462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0A7-E968-472E-94EF-C410BACD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6EA08-26EE-4A9B-8380-730CB9F9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58A04-AE1C-40DC-8AFF-07CE65DE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B9587-6AD3-4F75-BBC7-130B8477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55A51-D76F-4292-B514-6F47143E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78FB3-3E76-4817-86CC-41DA59BB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F1A8A-E86C-41BF-B941-8D80942D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48F22-2E52-416B-AEB5-68D0C607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E5B0E-9678-4B64-9C0F-6366D53C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F9AA9-9060-4081-A622-F07D2FCA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E65C0-7EDC-41AE-982F-98A867AC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F83-C7E4-40AC-ACFF-D3303A67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D2A2B-DF70-4CF5-9C3A-654CD9C4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4BA12-CD85-44EE-B3D3-CEEA6959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40BE8-FA90-4388-A10D-FD59AF0E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E1111-BA9B-48C9-8F47-C90690AA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7F6EC-90D0-41F8-95C5-35C52D03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F749B-6E85-402F-A262-47525C05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8EFD7-C12D-4207-9C62-7D7DF824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C27BC-3B54-4B2B-A5CD-30688397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65D0D-7047-4036-8B57-D4089DDB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9BE6F-5E24-44A9-A757-08A9CC89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4FC-E1C3-4387-AB0C-E95BDC34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CB255-BA87-4F78-B233-FF5F6864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9D7DD-EA30-4CF7-B04C-D5BE66DD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579C7-31D1-4BF4-B2E6-C431E8A1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2F961-C5C7-40C7-99FE-44648A93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AC9C9-307A-4184-A834-A4079D36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7881A-73E9-458B-B799-F8D4CCF5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4B27A-9B04-4409-BFD6-C8C06825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7F139-3256-477C-9FD4-3E451E90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6EF5C-DCA7-499C-A3B4-B9A5CB75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BBAFF-2158-4321-8483-FCC92964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DF4-7D0C-4022-9452-8EDD5662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8BCEB-72E2-4B33-8030-EE89A253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3B7B1-C9E5-45CA-A4BE-995ADACB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01BCC-5315-4915-B94B-55D4C25F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E1D35-10E8-4F16-B87D-1FEF1F4C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08CA1-FE1F-4B7E-A768-3CAC8DD3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1F8E3-8B6B-4175-8D43-1D6BEF9B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7CF05-784F-4097-BB96-642953B0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D0B78-AC49-4666-9B9A-1B0B41A4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32AFF-A56A-4A95-9FC5-6F7FE7DB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55009-6387-466D-9F41-8E3E7011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3E1823-3CE9-46D1-AEA4-4B11E393D0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1ABC20-B545-409C-92D9-5CB5F7104C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1B77E4-C930-4AF9-BE2C-2B9F46B875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3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5FAF59-E78C-4D1E-8012-6B2C31B1CA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3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9DFC4B-9D61-4B71-967F-0A62E1A21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9A6094-FD1D-41DF-81FF-FF1F29E6CC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5237DE-90D7-4916-9DC9-DC843826D2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8B1A0F-95E0-46E9-AE6D-EF7CA8B791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3CCC99-5FC1-4E15-8EF2-3EF53B282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EF1A7A-F766-42D6-88C7-5C0A126D5C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093670-3528-4658-9306-891F8B31D7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2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3D34DA-C3A6-4577-8DCA-4E9360C445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F3179C-1119-427F-A69E-5B9DD1AF21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49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Заголовок 1"/>
          <p:cNvSpPr/>
          <p:nvPr/>
        </p:nvSpPr>
        <p:spPr>
          <a:xfrm>
            <a:off x="683640" y="1772640"/>
            <a:ext cx="777204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1 </a:t>
            </a: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сентября 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2013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одзаголовок 2"/>
          <p:cNvSpPr/>
          <p:nvPr/>
        </p:nvSpPr>
        <p:spPr>
          <a:xfrm>
            <a:off x="683640" y="2997000"/>
            <a:ext cx="770436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1 А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Школа 2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Учитель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Иванова Татьяна Николае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http://www.allpolus.com/uploads/posts/2011-01-28/9879-0.jpg"/>
          <p:cNvPicPr/>
          <p:nvPr/>
        </p:nvPicPr>
        <p:blipFill>
          <a:blip r:embed="rId1"/>
          <a:stretch/>
        </p:blipFill>
        <p:spPr>
          <a:xfrm>
            <a:off x="7380360" y="332640"/>
            <a:ext cx="1225440" cy="1341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Заголовок 1"/>
          <p:cNvSpPr/>
          <p:nvPr/>
        </p:nvSpPr>
        <p:spPr>
          <a:xfrm>
            <a:off x="467640" y="1484640"/>
            <a:ext cx="822924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Математическ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бъект 2"/>
          <p:cNvSpPr/>
          <p:nvPr/>
        </p:nvSpPr>
        <p:spPr>
          <a:xfrm>
            <a:off x="251640" y="2997000"/>
            <a:ext cx="889200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авайте, ребята, учиться счит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елить, умножать, прибавлять, отним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Запомните все , что без точного счё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е сдвинется с места люб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323640" y="2493000"/>
            <a:ext cx="8229240" cy="356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StarSymbol"/>
              <a:buAutoNum type="arabicPeriod"/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чёт от 1 до 10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StarSymbol"/>
              <a:buAutoNum type="arabicPeriod"/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чёт от 10 до 1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StarSymbol"/>
              <a:buAutoNum type="arabicPeriod"/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бавляем  к  1 по  2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StarSymbol"/>
              <a:buAutoNum type="arabicPeriod"/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бавляем к  2  по  2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StarSymbol"/>
              <a:buAutoNum type="arabicPeriod"/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ычитаем из  10  по  2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Заголовок 1"/>
          <p:cNvSpPr/>
          <p:nvPr/>
        </p:nvSpPr>
        <p:spPr>
          <a:xfrm>
            <a:off x="467640" y="1556640"/>
            <a:ext cx="518436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Задачи  - 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бъект 2"/>
          <p:cNvSpPr/>
          <p:nvPr/>
        </p:nvSpPr>
        <p:spPr>
          <a:xfrm>
            <a:off x="323640" y="2565000"/>
            <a:ext cx="5400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Повезло опять Егорке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У реки сидел не з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Два карасика в ведёр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И четыре песка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Сосчитайте-ка улов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У кого ответ готов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http://www.artscroll.ru/Images/2008/s/Sever%20Vera/000009.jpg"/>
          <p:cNvPicPr/>
          <p:nvPr/>
        </p:nvPicPr>
        <p:blipFill>
          <a:blip r:embed="rId1"/>
          <a:stretch/>
        </p:blipFill>
        <p:spPr>
          <a:xfrm>
            <a:off x="6660360" y="1556640"/>
            <a:ext cx="2188080" cy="29048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цифра 6"/>
          <p:cNvPicPr/>
          <p:nvPr/>
        </p:nvPicPr>
        <p:blipFill>
          <a:blip r:embed="rId2"/>
          <a:stretch/>
        </p:blipFill>
        <p:spPr>
          <a:xfrm>
            <a:off x="6516360" y="4797000"/>
            <a:ext cx="1872000" cy="18720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0" descr="http://im3-tub-ru.yandex.net/i?id=448125438-21-72&amp;n=21"/>
          <p:cNvPicPr/>
          <p:nvPr/>
        </p:nvPicPr>
        <p:blipFill>
          <a:blip r:embed="rId3"/>
          <a:stretch/>
        </p:blipFill>
        <p:spPr>
          <a:xfrm>
            <a:off x="4932000" y="4437000"/>
            <a:ext cx="1161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Объект 2"/>
          <p:cNvSpPr/>
          <p:nvPr/>
        </p:nvSpPr>
        <p:spPr>
          <a:xfrm>
            <a:off x="3780000" y="1772640"/>
            <a:ext cx="511236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К серой цапле на ур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Прилетело 7 сор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Но лишь только 3 соро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Приготовили у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Сколько лодырей-сор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Прилетело  на урок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цифра 4"/>
          <p:cNvPicPr/>
          <p:nvPr/>
        </p:nvPicPr>
        <p:blipFill>
          <a:blip r:embed="rId1"/>
          <a:stretch/>
        </p:blipFill>
        <p:spPr>
          <a:xfrm>
            <a:off x="6804360" y="494100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http://4.bp.blogspot.com/_ZaAtUy028z4/S8OfHmaYDnI/AAAAAAAAANg/-cl1R6gW7RI/s1600/great-blue-heron-797050.jpg"/>
          <p:cNvPicPr/>
          <p:nvPr/>
        </p:nvPicPr>
        <p:blipFill>
          <a:blip r:embed="rId2"/>
          <a:stretch/>
        </p:blipFill>
        <p:spPr>
          <a:xfrm flipH="1">
            <a:off x="324000" y="1124640"/>
            <a:ext cx="1819800" cy="2088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8" descr="http://arkaim.at.ua/GIVAJ_PLANETA/ptici/soroka.jpg"/>
          <p:cNvPicPr/>
          <p:nvPr/>
        </p:nvPicPr>
        <p:blipFill>
          <a:blip r:embed="rId3"/>
          <a:stretch/>
        </p:blipFill>
        <p:spPr>
          <a:xfrm>
            <a:off x="1043640" y="3069000"/>
            <a:ext cx="2304000" cy="15296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0" descr="http://im3-tub-ru.yandex.net/i?id=448125438-21-72&amp;n=21"/>
          <p:cNvPicPr/>
          <p:nvPr/>
        </p:nvPicPr>
        <p:blipFill>
          <a:blip r:embed="rId4"/>
          <a:stretch/>
        </p:blipFill>
        <p:spPr>
          <a:xfrm>
            <a:off x="2627640" y="5085360"/>
            <a:ext cx="1161720" cy="1428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Заголовок 1"/>
          <p:cNvSpPr/>
          <p:nvPr/>
        </p:nvSpPr>
        <p:spPr>
          <a:xfrm>
            <a:off x="539640" y="134064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Решаем кроссвор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оугольник 2"/>
          <p:cNvSpPr/>
          <p:nvPr/>
        </p:nvSpPr>
        <p:spPr>
          <a:xfrm>
            <a:off x="755640" y="2061000"/>
            <a:ext cx="7272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1" i="1" lang="ru-RU" sz="66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тгадай, что за вещица: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стрый клювик, а не пт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Этим клювиком 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еет, сеет семен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http://kanc-koshik.com.ua/foto/tovar/2012/02/ZB_2243_open_s_kolpa4kom.jpg"/>
          <p:cNvPicPr/>
          <p:nvPr/>
        </p:nvPicPr>
        <p:blipFill>
          <a:blip r:embed="rId1"/>
          <a:stretch/>
        </p:blipFill>
        <p:spPr>
          <a:xfrm>
            <a:off x="6084000" y="3861000"/>
            <a:ext cx="2723040" cy="27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Прямоугольник 1"/>
          <p:cNvSpPr/>
          <p:nvPr/>
        </p:nvSpPr>
        <p:spPr>
          <a:xfrm>
            <a:off x="827640" y="2061000"/>
            <a:ext cx="6696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600" spc="-1" strike="noStrike">
                <a:solidFill>
                  <a:srgbClr val="00206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о я в клетку, то в линей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писать на мне сумей-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ожно и нарисов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Что такое я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" descr="http://www.shkolnikoff.ru/_mod_files/ce_images/eshop/generated/tetrad__12l._kosaja_linejka_action__rozovaja__art._an-12014m_249x300_pc.jpg"/>
          <p:cNvPicPr/>
          <p:nvPr/>
        </p:nvPicPr>
        <p:blipFill>
          <a:blip r:embed="rId1"/>
          <a:stretch/>
        </p:blipFill>
        <p:spPr>
          <a:xfrm rot="20397600">
            <a:off x="3930480" y="4447080"/>
            <a:ext cx="1673280" cy="2016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http://3-inter.ru/published/publicdata/DEVELOP581DVSHL58/attachments/SC/products_pictures_enl/92354.jpg"/>
          <p:cNvPicPr/>
          <p:nvPr/>
        </p:nvPicPr>
        <p:blipFill>
          <a:blip r:embed="rId2"/>
          <a:stretch/>
        </p:blipFill>
        <p:spPr>
          <a:xfrm rot="528600">
            <a:off x="6396480" y="3781440"/>
            <a:ext cx="1963440" cy="23515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Прямоугольник 1"/>
          <p:cNvSpPr/>
          <p:nvPr/>
        </p:nvSpPr>
        <p:spPr>
          <a:xfrm>
            <a:off x="971640" y="1989000"/>
            <a:ext cx="7128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600" spc="-1" strike="noStrike">
                <a:solidFill>
                  <a:srgbClr val="00206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овый дом несу в ру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вери дома на зам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ам жильцы бумаж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се ужасно важные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2" descr="http://kirovograd.era.com.ua/market/img/?f=367&amp;i=479066_3_134676.jpg"/>
          <p:cNvPicPr/>
          <p:nvPr/>
        </p:nvPicPr>
        <p:blipFill>
          <a:blip r:embed="rId1"/>
          <a:stretch/>
        </p:blipFill>
        <p:spPr>
          <a:xfrm>
            <a:off x="6660360" y="4005000"/>
            <a:ext cx="194400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Прямоугольник 1"/>
          <p:cNvSpPr/>
          <p:nvPr/>
        </p:nvSpPr>
        <p:spPr>
          <a:xfrm>
            <a:off x="1043640" y="1772640"/>
            <a:ext cx="6408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600" spc="-1" strike="noStrike">
                <a:solidFill>
                  <a:srgbClr val="00206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Говорит она беззву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 понятно и не скуч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ы беседуй чаще с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танешь вчетверо умней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http://www.xxlbook.ru/imgh122992.png"/>
          <p:cNvPicPr/>
          <p:nvPr/>
        </p:nvPicPr>
        <p:blipFill>
          <a:blip r:embed="rId1"/>
          <a:stretch/>
        </p:blipFill>
        <p:spPr>
          <a:xfrm rot="718800">
            <a:off x="5650920" y="4456080"/>
            <a:ext cx="1711440" cy="2248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" descr="http://i053.radikal.ru/1003/22/b595b67d00f5.jpg"/>
          <p:cNvPicPr/>
          <p:nvPr/>
        </p:nvPicPr>
        <p:blipFill>
          <a:blip r:embed="rId2"/>
          <a:stretch/>
        </p:blipFill>
        <p:spPr>
          <a:xfrm rot="20446200">
            <a:off x="3275640" y="4429080"/>
            <a:ext cx="1616400" cy="212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11640" y="155664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Какое слово получилось ?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7640" y="2349000"/>
            <a:ext cx="8229240" cy="302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</a:tabLst>
            </a:pPr>
            <a:r>
              <a:rPr b="1" lang="ru-RU" sz="20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урок</a:t>
            </a:r>
            <a:endParaRPr b="0" lang="ru-RU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Заголовок 1"/>
          <p:cNvSpPr/>
          <p:nvPr/>
        </p:nvSpPr>
        <p:spPr>
          <a:xfrm>
            <a:off x="611640" y="155664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От урока до урока 11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бъект 2"/>
          <p:cNvSpPr/>
          <p:nvPr/>
        </p:nvSpPr>
        <p:spPr>
          <a:xfrm>
            <a:off x="611640" y="233208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От урока до у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От звонка и до звон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Нужно ждать совсем не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Перемена – коро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Но от первого урока до последнего у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Лет – 11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Нужно каждый год уч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Не лениться, а труд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И от школьного пор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 жизнь откроется дорога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http://img1.liveinternet.ru/images/attach/c/3/77/936/77936409_1809.jpg"/>
          <p:cNvPicPr/>
          <p:nvPr/>
        </p:nvPicPr>
        <p:blipFill>
          <a:blip r:embed="rId1"/>
          <a:stretch/>
        </p:blipFill>
        <p:spPr>
          <a:xfrm>
            <a:off x="2339640" y="1700640"/>
            <a:ext cx="4706640" cy="4706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Объект 2"/>
          <p:cNvSpPr/>
          <p:nvPr/>
        </p:nvSpPr>
        <p:spPr>
          <a:xfrm>
            <a:off x="539640" y="2133000"/>
            <a:ext cx="822924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Через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11 лет вы вспомните свой первый урок в этой школе, вспомните меня, своих товарищей по классу. А чтобы было легче вспоминать, сделаем рисунки. Что рисовать, каждый выберет с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Заголовок 1"/>
          <p:cNvSpPr/>
          <p:nvPr/>
        </p:nvSpPr>
        <p:spPr>
          <a:xfrm>
            <a:off x="611640" y="141264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траничка худож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2"/>
          <p:cNvSpPr/>
          <p:nvPr/>
        </p:nvSpPr>
        <p:spPr>
          <a:xfrm>
            <a:off x="179640" y="2277000"/>
            <a:ext cx="8712720" cy="25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Нарисуйте самое любимое и интересн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яркое и незабываем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Что нам понадобится для рис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" descr="http://forum.ivd.ru/uploads/monthly_03_2011/post-42492-1299338197_thumb.jpg"/>
          <p:cNvPicPr/>
          <p:nvPr/>
        </p:nvPicPr>
        <p:blipFill>
          <a:blip r:embed="rId1"/>
          <a:stretch/>
        </p:blipFill>
        <p:spPr>
          <a:xfrm>
            <a:off x="323640" y="2709000"/>
            <a:ext cx="1367640" cy="13676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http://img0.liveinternet.ru/images/attach/c/4/78/423/78423682_large_0_506df_98ab5f4a_XL.png"/>
          <p:cNvPicPr/>
          <p:nvPr/>
        </p:nvPicPr>
        <p:blipFill>
          <a:blip r:embed="rId2"/>
          <a:stretch/>
        </p:blipFill>
        <p:spPr>
          <a:xfrm>
            <a:off x="7164360" y="2205000"/>
            <a:ext cx="1774080" cy="26611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http://polzunki.com.ua/files/store_apendix_large5969_1354.jpg"/>
          <p:cNvPicPr/>
          <p:nvPr/>
        </p:nvPicPr>
        <p:blipFill>
          <a:blip r:embed="rId3"/>
          <a:stretch/>
        </p:blipFill>
        <p:spPr>
          <a:xfrm>
            <a:off x="2988000" y="306900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http://s43.radikal.ru/i102/0812/17/3735c570fb35.png"/>
          <p:cNvPicPr/>
          <p:nvPr/>
        </p:nvPicPr>
        <p:blipFill>
          <a:blip r:embed="rId4"/>
          <a:stretch/>
        </p:blipFill>
        <p:spPr>
          <a:xfrm>
            <a:off x="6156000" y="3285000"/>
            <a:ext cx="1295640" cy="12337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0" descr="http://kak-risovat.com/wp-content/uploads/2012/07/tank.jpg"/>
          <p:cNvPicPr/>
          <p:nvPr/>
        </p:nvPicPr>
        <p:blipFill>
          <a:blip r:embed="rId5"/>
          <a:stretch/>
        </p:blipFill>
        <p:spPr>
          <a:xfrm>
            <a:off x="1907640" y="3357000"/>
            <a:ext cx="947160" cy="7196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2" descr="http://chydo.com.ua/cms_files/194/164/Figurka_serii___ChEREPAShKI_NINDZYa._YuBILEYNAYa_SERIYa__Rafael___55813_.jpg"/>
          <p:cNvPicPr/>
          <p:nvPr/>
        </p:nvPicPr>
        <p:blipFill>
          <a:blip r:embed="rId6"/>
          <a:stretch/>
        </p:blipFill>
        <p:spPr>
          <a:xfrm>
            <a:off x="4644000" y="2997000"/>
            <a:ext cx="1377720" cy="13777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4" descr="http://clipstock.ucoz.ru/_ph/27/2/203145477.jpg"/>
          <p:cNvPicPr/>
          <p:nvPr/>
        </p:nvPicPr>
        <p:blipFill>
          <a:blip r:embed="rId7"/>
          <a:stretch/>
        </p:blipFill>
        <p:spPr>
          <a:xfrm>
            <a:off x="755640" y="5013000"/>
            <a:ext cx="1809720" cy="15346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6" descr="http://static1.read.ru/images/illustrations/1346525654267369396.jpeg"/>
          <p:cNvPicPr/>
          <p:nvPr/>
        </p:nvPicPr>
        <p:blipFill>
          <a:blip r:embed="rId8"/>
          <a:stretch/>
        </p:blipFill>
        <p:spPr>
          <a:xfrm>
            <a:off x="6444360" y="5013000"/>
            <a:ext cx="1931040" cy="14482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8" descr="http://www.avangardbumaga.ru/imgcatalog/catalog15big1.jpg"/>
          <p:cNvPicPr/>
          <p:nvPr/>
        </p:nvPicPr>
        <p:blipFill>
          <a:blip r:embed="rId9"/>
          <a:stretch/>
        </p:blipFill>
        <p:spPr>
          <a:xfrm rot="20968200">
            <a:off x="3347640" y="5013000"/>
            <a:ext cx="2279160" cy="1454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11640" y="1917000"/>
            <a:ext cx="8229240" cy="201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6000" spc="-1" strike="noStrike">
                <a:solidFill>
                  <a:srgbClr val="c00000"/>
                </a:solidFill>
                <a:latin typeface="Arial"/>
              </a:rPr>
              <a:t>Поздравляю всех</a:t>
            </a:r>
            <a:br>
              <a:rPr sz="6000"/>
            </a:br>
            <a:r>
              <a:rPr b="1" i="1" lang="ru-RU" sz="6000" spc="-1" strike="noStrike">
                <a:solidFill>
                  <a:srgbClr val="c00000"/>
                </a:solidFill>
                <a:latin typeface="Arial"/>
              </a:rPr>
              <a:t>учеников с началом школьной жизни!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2" descr="http://im0-tub-ru.yandex.net/i?id=368599873-37-72&amp;n=21"/>
          <p:cNvPicPr/>
          <p:nvPr/>
        </p:nvPicPr>
        <p:blipFill>
          <a:blip r:embed="rId1"/>
          <a:stretch/>
        </p:blipFill>
        <p:spPr>
          <a:xfrm>
            <a:off x="3060000" y="4437000"/>
            <a:ext cx="3096000" cy="2025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23640" y="141264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Ы ТЕПЕРЬ УЧЕНИКИ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39640" y="3213000"/>
            <a:ext cx="8229240" cy="269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ДАВАЙТЕ      ПОЗНАКОМИМСЯ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Заголовок 1"/>
          <p:cNvSpPr/>
          <p:nvPr/>
        </p:nvSpPr>
        <p:spPr>
          <a:xfrm>
            <a:off x="395640" y="119664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В первый ра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бъект 2"/>
          <p:cNvSpPr/>
          <p:nvPr/>
        </p:nvSpPr>
        <p:spPr>
          <a:xfrm>
            <a:off x="539640" y="2205000"/>
            <a:ext cx="842472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Все бывает в первый р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Первый зуб и первый клас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Первая пятё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Как начало первых др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Первый схваченный синя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Первая шпарга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День за днём, за годом г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Человек живёт,  растёт, облик свой меня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А под старость он подчас, то, что было в первый ра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С  грустью вспомин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Заголовок 1"/>
          <p:cNvSpPr/>
          <p:nvPr/>
        </p:nvSpPr>
        <p:spPr>
          <a:xfrm>
            <a:off x="467640" y="1412640"/>
            <a:ext cx="82292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Письмо первоклассни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бъект 2"/>
          <p:cNvSpPr/>
          <p:nvPr/>
        </p:nvSpPr>
        <p:spPr>
          <a:xfrm>
            <a:off x="467640" y="2205000"/>
            <a:ext cx="8136720" cy="43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2000"/>
          </a:bodyPr>
          <a:p>
            <a:pPr marL="303480" indent="-30348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орогой первокласс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егодня ты впервые пришёл в школу. Здесь тебя все очень ждали, все тебя любят. В школе ты научишься хорошо читать, грамотно писать, любить и понимать природу, уважительно относиться к людям, а главное, ты научишься труд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1 долгих лет школа будет твоим вторым домом. Полюби школу, своих товарищ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учись   быть     терпеливым,       добрым, внимательным   и   трудолюбивым.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Я желаю тебе успехов  в  учёбе.  Надеюсь,  что  ты   будешь послушным   и   старате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атьяна Никола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Заголовок 1"/>
          <p:cNvSpPr/>
          <p:nvPr/>
        </p:nvSpPr>
        <p:spPr>
          <a:xfrm>
            <a:off x="611640" y="134064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Вы - учен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бъект 2"/>
          <p:cNvSpPr/>
          <p:nvPr/>
        </p:nvSpPr>
        <p:spPr>
          <a:xfrm>
            <a:off x="539640" y="2277000"/>
            <a:ext cx="82292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Школьные</a:t>
            </a:r>
            <a:r>
              <a:rPr b="1" lang="ru-RU" sz="3200" spc="-1" strike="noStrike">
                <a:solidFill>
                  <a:schemeClr val="accent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е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2" descr="http://www.megakot.ru/pictures/ranets_shkolnyy_pirat_djek_38_sm_00043634_large.jpg"/>
          <p:cNvPicPr/>
          <p:nvPr/>
        </p:nvPicPr>
        <p:blipFill>
          <a:blip r:embed="rId1"/>
          <a:stretch/>
        </p:blipFill>
        <p:spPr>
          <a:xfrm>
            <a:off x="611640" y="2925000"/>
            <a:ext cx="1665720" cy="16657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http://im6-tub-ru.yandex.net/i?id=140797843-69-72&amp;n=21"/>
          <p:cNvPicPr/>
          <p:nvPr/>
        </p:nvPicPr>
        <p:blipFill>
          <a:blip r:embed="rId2"/>
          <a:stretch/>
        </p:blipFill>
        <p:spPr>
          <a:xfrm>
            <a:off x="3204000" y="4797000"/>
            <a:ext cx="1790280" cy="14284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http://im2-tub-ru.yandex.net/i?id=207093865-13-72&amp;n=21"/>
          <p:cNvPicPr/>
          <p:nvPr/>
        </p:nvPicPr>
        <p:blipFill>
          <a:blip r:embed="rId3"/>
          <a:stretch/>
        </p:blipFill>
        <p:spPr>
          <a:xfrm>
            <a:off x="2915640" y="3069000"/>
            <a:ext cx="1190160" cy="14284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8" descr="http://im2-tub-ru.yandex.net/i?id=39701597-50-72&amp;n=21"/>
          <p:cNvPicPr/>
          <p:nvPr/>
        </p:nvPicPr>
        <p:blipFill>
          <a:blip r:embed="rId4"/>
          <a:stretch/>
        </p:blipFill>
        <p:spPr>
          <a:xfrm>
            <a:off x="4788000" y="3141000"/>
            <a:ext cx="1771200" cy="14284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http://im4-tub-ru.yandex.net/i?id=251902151-61-72&amp;n=21"/>
          <p:cNvPicPr/>
          <p:nvPr/>
        </p:nvPicPr>
        <p:blipFill>
          <a:blip r:embed="rId5"/>
          <a:stretch/>
        </p:blipFill>
        <p:spPr>
          <a:xfrm>
            <a:off x="539640" y="494100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4" descr="http://im2-tub-ru.yandex.net/i?id=98565432-66-72&amp;n=21"/>
          <p:cNvPicPr/>
          <p:nvPr/>
        </p:nvPicPr>
        <p:blipFill>
          <a:blip r:embed="rId6"/>
          <a:stretch/>
        </p:blipFill>
        <p:spPr>
          <a:xfrm>
            <a:off x="7380360" y="1917000"/>
            <a:ext cx="818640" cy="14284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" descr="http://im8-tub-ru.yandex.net/i?id=80422986-24-72&amp;n=21"/>
          <p:cNvPicPr/>
          <p:nvPr/>
        </p:nvPicPr>
        <p:blipFill>
          <a:blip r:embed="rId7"/>
          <a:stretch/>
        </p:blipFill>
        <p:spPr>
          <a:xfrm>
            <a:off x="7236360" y="350100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" descr="http://forum.gorod.dp.ua/attachment.php?attachmentid=750179&amp;d=1330790209"/>
          <p:cNvPicPr/>
          <p:nvPr/>
        </p:nvPicPr>
        <p:blipFill>
          <a:blip r:embed="rId8"/>
          <a:stretch/>
        </p:blipFill>
        <p:spPr>
          <a:xfrm>
            <a:off x="5580000" y="4797000"/>
            <a:ext cx="1837080" cy="14068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0" dur="1" fill="hold"/>
                                        <p:tgtEl>
                                          <p:spTgt spid="559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Заголовок 1"/>
          <p:cNvSpPr/>
          <p:nvPr/>
        </p:nvSpPr>
        <p:spPr>
          <a:xfrm>
            <a:off x="0" y="1340640"/>
            <a:ext cx="89640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Правила поведения в шко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Объект 2"/>
          <p:cNvSpPr/>
          <p:nvPr/>
        </p:nvSpPr>
        <p:spPr>
          <a:xfrm>
            <a:off x="467640" y="233208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Учитель спросит – надо вст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Когда он сесть позволит – сяд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Ответить хочешь – не шум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А только руку подни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ри прави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2 нельзя  и  1 обязатель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Заголовок 1"/>
          <p:cNvSpPr/>
          <p:nvPr/>
        </p:nvSpPr>
        <p:spPr>
          <a:xfrm>
            <a:off x="251640" y="274680"/>
            <a:ext cx="31680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оиграем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бъект 2"/>
          <p:cNvSpPr/>
          <p:nvPr/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арта, стол, лопата, руки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 каждом слове слышим звук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http://www.axed.ru/main.php?g2_view=core.DownloadItem&amp;g2_itemId=98227&amp;g2_serialNumber=1"/>
          <p:cNvPicPr/>
          <p:nvPr/>
        </p:nvPicPr>
        <p:blipFill>
          <a:blip r:embed="rId1"/>
          <a:stretch/>
        </p:blipFill>
        <p:spPr>
          <a:xfrm rot="17321400">
            <a:off x="69840" y="4137840"/>
            <a:ext cx="2465280" cy="18486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http://im2-tub-ru.yandex.net/i?id=138388566-66-72&amp;n=21"/>
          <p:cNvPicPr/>
          <p:nvPr/>
        </p:nvPicPr>
        <p:blipFill>
          <a:blip r:embed="rId2"/>
          <a:stretch/>
        </p:blipFill>
        <p:spPr>
          <a:xfrm rot="20743200">
            <a:off x="3106080" y="3112920"/>
            <a:ext cx="2385360" cy="15969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2" descr="http://im5-tub-ru.yandex.net/i?id=145224938-28-72&amp;n=21"/>
          <p:cNvPicPr/>
          <p:nvPr/>
        </p:nvPicPr>
        <p:blipFill>
          <a:blip r:embed="rId3"/>
          <a:stretch/>
        </p:blipFill>
        <p:spPr>
          <a:xfrm>
            <a:off x="6012000" y="306900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6" descr="http://img7.imageshost.ru/imgs/090724/6755c6bcc3/a580b.jpg"/>
          <p:cNvPicPr/>
          <p:nvPr/>
        </p:nvPicPr>
        <p:blipFill>
          <a:blip r:embed="rId4"/>
          <a:stretch/>
        </p:blipFill>
        <p:spPr>
          <a:xfrm>
            <a:off x="2988000" y="5013000"/>
            <a:ext cx="2520000" cy="1296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лова  рассыпались: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л  -  пе,     чка  -  ру,     та  -  пар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ик  -  у  -  че,     ка  -  пя  -  тёр,     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ба  -  друж,    ме  -  на  -  ре  -  пе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цы  -  лод  -  м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6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2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1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6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7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7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3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4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4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1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5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5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  <Words>634</Words>
  <Paragraphs>1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04:22:56Z</dcterms:created>
  <dc:creator>ТАТЬЯНА</dc:creator>
  <dc:description/>
  <dc:language>en-US</dc:language>
  <cp:lastModifiedBy>ТАТЬЯНА</cp:lastModifiedBy>
  <dcterms:modified xsi:type="dcterms:W3CDTF">2013-09-01T18:52:48Z</dcterms:modified>
  <cp:revision>5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22</vt:r8>
  </property>
</Properties>
</file>