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61193D-D685-4DD5-B165-C0BAD71E0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D885D8-B21B-420F-A0BA-624F2FBB3AB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F4BC49-AE7E-4586-A4BB-9B2E4B5AF5D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60E-4864-41E5-BAD6-E9A9C976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712-5EA6-4AB9-B9B4-01F1386C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80C61-6C9A-4DEC-B902-3B5F8BD7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D321B-48DB-4541-A9FD-AF2F003F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43D27-22DC-4637-824E-44608AA6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F170B-F315-47B7-B96B-188AFB71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B50B6-6B69-410C-9016-AD6F8DF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B7832-116A-4016-999C-3EE75EA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FEA45-402D-4B0C-869A-5D6C0611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B6F96-3804-4B73-8836-DB5D06B6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A03C5-3D68-4A7C-965C-855E697F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7A69C-7566-4D9B-BD71-27CADC88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4A4-0380-405A-8C44-72AC5131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BA979-3203-4894-B872-9C60D33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A8E4D-45B1-4905-A9E8-6D5D5FE2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ADE49-B32A-4D29-B9AF-D87AA75F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53427-612F-4CC7-9E79-5A65F4D4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E6960-C0FB-445E-A8E3-9CC12093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4BA08-0E18-4BED-AAA6-9F6CE70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EEC76-6DD2-4198-AF23-279EEE6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8ABA5-4639-4C65-8433-59726AA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829F0-27ED-427A-9EEB-412B2828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9F415-DBE4-4163-AA9C-F0CB92A1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B86-DE6B-4028-A2B0-2FF43BE7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C0465-4346-49A9-AFF9-E8D683B9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D27A7-8E37-4D0E-AC5D-276E91D9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F5AEB-5CA6-43D5-B865-F79733D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3F6EA-07C2-40CA-BE5B-0A56B7DF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9F231-FE59-49BE-A626-349D326D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49AF8-86FE-4A20-8CE1-122E8051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2B0FD-4A84-4154-829D-19B8AC76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8FD1C-09E0-4FC7-8C2F-6E371FCE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055AA-C627-4F0B-9508-78F51D8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E2D96-7FC7-4B61-839C-9592A87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4610-C8A0-41CC-B71B-E501BFA6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9AEE6-1D71-45EF-B9FD-A8457488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68877-42A4-403A-9807-A51341FE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CF5AD-AB24-4010-B0D8-FF0EFA8F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535EA-06AA-425D-B2C9-78216B3E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C715B-7EBE-43C6-9E30-1A9F6EBC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5BCF9-9F4D-4B98-A16A-45F17C3E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7DB4A-8BC0-45EF-B4B2-3B7634C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E7371-8982-4477-85F1-18FE54E4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B9BC8-D14D-4D61-A289-E7E2EC58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A682E-728C-453B-9925-5485AEE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470A-790A-4628-A0A6-0090DD43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0A591-DD1A-4024-93A4-F485BA89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C04D8-09EB-487F-A36E-25F0022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92A5B-8F50-4DD7-9783-27D59AD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C7A8F-076E-4E10-B5FB-CEA700CB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C3135-B298-4C1E-A3FD-C6C70A8A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CB62D-58FE-4E6F-9DFE-328EA090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24B9E-EAE7-4211-AC09-5EB8DFA5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C1494-08B5-4F1B-AD6A-4C6ECC29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04C44-2A05-4CE9-8280-2A3A134D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FFC7F-E57E-41B6-80B5-E9401B5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168C-BFA9-48D0-8D66-BDE6AA86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1C0A8-E0C8-4C55-83F2-8BC13CCF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ED046-381B-4218-96AE-3B34E25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61BB1-67D6-4848-A33F-DFCF7DC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F5C97-795B-4647-BE0D-2918802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E4936-73A3-4569-9ACB-747F9884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9E5B3-3F43-4424-9142-97D54332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7F272-2F77-44AA-8AC0-DDA1DD6A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E9A2-A114-4265-8BC7-1499C0A8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A455-D89B-4EA6-B6DB-459F7DB9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E11-6DA0-43F3-9FEA-2C5A40B0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5178-2F21-4786-8B34-64513B8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585-329E-4796-B378-BD8BC950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A56E-A2EE-40C0-86BE-32E6D99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63DA-40E6-49C2-8770-B241B8D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CF50-2B6F-460D-B960-77CD65B1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97D8-1F92-4262-9EA9-0ABDC357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9733-4BC1-479D-BAF4-72C96A92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C607-CC78-48C6-875C-98F8A493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741B-BAB0-4E72-BD82-0B77FAE9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306E-647E-4473-8C36-6E1BE05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5CAE-EE10-434C-AF37-1A2022C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8779E-B981-431E-9C1F-60464D25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D68-ACF5-4844-8D80-0AD8C50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F041-2E5E-4F87-BF62-6A2B0D7C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6D20-4685-4187-B483-8DDDC675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E5AE-98D3-4437-887B-3CB0CCC0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9E6C-BCD7-4BFD-8618-5332964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8C4C-CF0D-4C61-BF96-1BE5B96E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F5D5-64D5-4F91-B8E7-C882BBE4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416F-FFEF-4EB3-B4AD-BAE82987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0879-2BB9-4522-9801-9313F5EF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79FC6-935E-461B-A09D-7D6C08A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00E3-88CE-4240-B7B7-CA14D761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A11-555C-4A4C-8B97-36BBC70A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1087-8107-40CF-B7C5-DD2A8930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DD1C-7330-45B9-85CA-6D3DC129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7D3C-903C-4B5D-BDCA-2FEDD764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EE63-9545-4C88-BA35-13B0D1A8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D57A-304E-48F2-9BFD-E3045BB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333B-7559-483F-A842-77236FAB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3804-D6B0-4395-AF63-12262163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060A-95F0-4114-937A-857F0F11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410D4-85AC-4F44-B02C-9D6DAEE9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0B85-B223-47F8-8529-7A32700E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524-5426-4AA4-840F-7DE80BED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4D20A-9748-4BAF-8477-3B58B4F5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1984-86C2-4723-97BB-6675D641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6DCBC-FCA4-4158-AF1A-201C5E6E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4C6F-D581-4E05-9099-383B5174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E442A-B8DB-47AC-B3FF-6CFD4DCC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0D0D2-C2D6-42A8-806C-DFA8304B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F6FE-B8E0-45D1-B400-C5220B9F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59BB-8F24-4663-9C7C-93EF685F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6493-9F86-47EA-B1A8-A0BAC3AA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F19D-E3AB-4980-961D-C84F5CD9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52F-F2F8-4E4C-A2DF-D031B081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0425-C954-43B6-810C-047C7020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6D55-46F9-4DD3-8796-D13B9E36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87BFD-C567-4148-B8E1-6393736F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105B0-6C9A-47AF-817A-D208A045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21900-8DAA-45D9-AA9C-D9CD1142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DFF7-F1BC-4900-876B-EFE09B91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8DD3-4680-4723-BF2F-20560DC4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DD5B-2FF0-40E4-BC60-B8F503D4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68770-4EE2-45EB-8C50-057EA70B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9E849-2B46-4FBC-AC9A-DA0D6472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F0A-A72B-43D8-AEF9-4DDC53F9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9F6DA-4B9C-4950-8BA5-2D4292F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3ABFD-3086-4868-9AAD-B45DAB3D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03389-026F-46DE-BE5C-36F764D3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39DD-837E-46F2-88E7-3676CA3B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C38AC-7449-4FDF-A735-E77D3C84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50D3-2217-4673-9D7C-684AA58C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2B718-D820-4531-AA05-CEAD241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606A-F1DA-49D0-9F98-EB6A69B2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3BBC-8183-41CC-949A-467F67CA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C153-AF80-4AC8-9280-50BC2065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7AD-55F9-460A-9593-DCDA29B3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BA99D-5448-467A-B24A-3FC004F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09FFD-8614-40C0-85DC-831CF9AD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5BBE-F06C-411D-B98B-84F63DC8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C38A-CD7A-49E5-99C7-41A8929D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C7FB-6962-4147-B88E-FCEED75A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7CF2-1526-45DE-8054-5F13D515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77A98-4694-4DAB-ADBF-9F114141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6FA55-B654-494D-9CF1-A644D914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38D16-2AC5-412A-9779-65C34EF6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0F214-D0ED-4D0A-A6D4-F2AF5958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7A8-9A5F-4DED-B603-F2FE96C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B78FF-214D-4D81-A222-C863BF5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468AE-ADFE-427E-994C-3BCDD7C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A9A27-9122-4E62-B69A-DA41716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C6049-1C5B-466E-9E1D-893006E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6F011-3896-4752-A86C-9AEA8F3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F1D84-A78C-42E1-9F02-780888DD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CE1F0-A068-4280-9529-6C9A9B94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0BCF7-15AB-4A49-B8FF-D51E3B08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FFF9C-65D6-4DAD-936D-CB762453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D6239-C4B4-406A-B7A5-A0CF3E16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4EF26F-EC00-48D4-BE6F-AF16A387D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831E18-69E2-4C46-A45B-CCCC0EC68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253BF7-87FE-4CF1-A7C4-B13042AB9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D1D008-7041-4F06-B29A-ED51434CA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8D8D29-6F73-4A40-8E94-310E37D94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968D0F-AFD2-4DF8-B1E3-396ED7965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0667F3-3444-4A59-A754-4711CE601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BCD08D-A2AB-4C7A-8435-CB442CDA3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8ED1B4-97F4-4E9C-A2E3-FF167B3C9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A970A0-3945-4A11-9B0E-16472AB59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D5ED10-E139-4423-B8C1-15931C408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0B9F17-C093-4E1C-9AA4-19E2E2F0B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AAC396-953F-44C4-BBC1-4BFF8F69A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9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Заголовок 1"/>
          <p:cNvSpPr/>
          <p:nvPr/>
        </p:nvSpPr>
        <p:spPr>
          <a:xfrm>
            <a:off x="683640" y="177264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сентября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2013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одзаголовок 2"/>
          <p:cNvSpPr/>
          <p:nvPr/>
        </p:nvSpPr>
        <p:spPr>
          <a:xfrm>
            <a:off x="683640" y="2997000"/>
            <a:ext cx="77043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1 А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кола 2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Учител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Иванова Татьяна Никола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http://www.allpolus.com/uploads/posts/2011-01-28/9879-0.jpg"/>
          <p:cNvPicPr/>
          <p:nvPr/>
        </p:nvPicPr>
        <p:blipFill>
          <a:blip r:embed="rId1"/>
          <a:stretch/>
        </p:blipFill>
        <p:spPr>
          <a:xfrm>
            <a:off x="7380360" y="332640"/>
            <a:ext cx="1225440" cy="134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Заголовок 1"/>
          <p:cNvSpPr/>
          <p:nvPr/>
        </p:nvSpPr>
        <p:spPr>
          <a:xfrm>
            <a:off x="467640" y="1484640"/>
            <a:ext cx="82292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Математическ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бъект 2"/>
          <p:cNvSpPr/>
          <p:nvPr/>
        </p:nvSpPr>
        <p:spPr>
          <a:xfrm>
            <a:off x="251640" y="2997000"/>
            <a:ext cx="8892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вайте, ребята, учиться счит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лить, умножать, прибавлять, отни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помните все , что без точного счё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сдвинется с места люб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23640" y="2493000"/>
            <a:ext cx="8229240" cy="35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чёт от 1 до 10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чёт от 10 до 1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бавляем  к  1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бавляем к  2 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ычитаем из  10 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Заголовок 1"/>
          <p:cNvSpPr/>
          <p:nvPr/>
        </p:nvSpPr>
        <p:spPr>
          <a:xfrm>
            <a:off x="467640" y="1556640"/>
            <a:ext cx="51843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Задачи  -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бъект 2"/>
          <p:cNvSpPr/>
          <p:nvPr/>
        </p:nvSpPr>
        <p:spPr>
          <a:xfrm>
            <a:off x="323640" y="2565000"/>
            <a:ext cx="5400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овезло опять Егорке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 реки сидел не з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Два карасика в ведёр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И четыре песк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осчитайте-ка улов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 кого ответ готов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http://www.artscroll.ru/Images/2008/s/Sever%20Vera/000009.jpg"/>
          <p:cNvPicPr/>
          <p:nvPr/>
        </p:nvPicPr>
        <p:blipFill>
          <a:blip r:embed="rId1"/>
          <a:stretch/>
        </p:blipFill>
        <p:spPr>
          <a:xfrm>
            <a:off x="6660360" y="1556640"/>
            <a:ext cx="2188080" cy="29048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цифра 6"/>
          <p:cNvPicPr/>
          <p:nvPr/>
        </p:nvPicPr>
        <p:blipFill>
          <a:blip r:embed="rId2"/>
          <a:stretch/>
        </p:blipFill>
        <p:spPr>
          <a:xfrm>
            <a:off x="6516360" y="4797000"/>
            <a:ext cx="1872000" cy="1872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http://im3-tub-ru.yandex.net/i?id=448125438-21-72&amp;n=21"/>
          <p:cNvPicPr/>
          <p:nvPr/>
        </p:nvPicPr>
        <p:blipFill>
          <a:blip r:embed="rId3"/>
          <a:stretch/>
        </p:blipFill>
        <p:spPr>
          <a:xfrm>
            <a:off x="4932000" y="4437000"/>
            <a:ext cx="1161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Объект 2"/>
          <p:cNvSpPr/>
          <p:nvPr/>
        </p:nvSpPr>
        <p:spPr>
          <a:xfrm>
            <a:off x="3780000" y="1772640"/>
            <a:ext cx="5112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К серой цапле на у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летело 7 со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о лишь только 3 соро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готовили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колько лодырей-со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летело  на уро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цифра 4"/>
          <p:cNvPicPr/>
          <p:nvPr/>
        </p:nvPicPr>
        <p:blipFill>
          <a:blip r:embed="rId1"/>
          <a:stretch/>
        </p:blipFill>
        <p:spPr>
          <a:xfrm>
            <a:off x="6804360" y="494100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http://4.bp.blogspot.com/_ZaAtUy028z4/S8OfHmaYDnI/AAAAAAAAANg/-cl1R6gW7RI/s1600/great-blue-heron-797050.jpg"/>
          <p:cNvPicPr/>
          <p:nvPr/>
        </p:nvPicPr>
        <p:blipFill>
          <a:blip r:embed="rId2"/>
          <a:stretch/>
        </p:blipFill>
        <p:spPr>
          <a:xfrm flipH="1">
            <a:off x="324000" y="1124640"/>
            <a:ext cx="1819800" cy="2088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http://arkaim.at.ua/GIVAJ_PLANETA/ptici/soroka.jpg"/>
          <p:cNvPicPr/>
          <p:nvPr/>
        </p:nvPicPr>
        <p:blipFill>
          <a:blip r:embed="rId3"/>
          <a:stretch/>
        </p:blipFill>
        <p:spPr>
          <a:xfrm>
            <a:off x="1043640" y="3069000"/>
            <a:ext cx="2304000" cy="1529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0" descr="http://im3-tub-ru.yandex.net/i?id=448125438-21-72&amp;n=21"/>
          <p:cNvPicPr/>
          <p:nvPr/>
        </p:nvPicPr>
        <p:blipFill>
          <a:blip r:embed="rId4"/>
          <a:stretch/>
        </p:blipFill>
        <p:spPr>
          <a:xfrm>
            <a:off x="2627640" y="5085360"/>
            <a:ext cx="116172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Заголовок 1"/>
          <p:cNvSpPr/>
          <p:nvPr/>
        </p:nvSpPr>
        <p:spPr>
          <a:xfrm>
            <a:off x="539640" y="134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Решаем кроссвор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2"/>
          <p:cNvSpPr/>
          <p:nvPr/>
        </p:nvSpPr>
        <p:spPr>
          <a:xfrm>
            <a:off x="755640" y="2061000"/>
            <a:ext cx="7272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i="1" lang="ru-RU" sz="66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тгадай, что за вещица: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стрый клювик, а не пт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тим клювиком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ет, сеет семен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://kanc-koshik.com.ua/foto/tovar/2012/02/ZB_2243_open_s_kolpa4kom.jpg"/>
          <p:cNvPicPr/>
          <p:nvPr/>
        </p:nvPicPr>
        <p:blipFill>
          <a:blip r:embed="rId1"/>
          <a:stretch/>
        </p:blipFill>
        <p:spPr>
          <a:xfrm>
            <a:off x="6084000" y="3861000"/>
            <a:ext cx="2723040" cy="27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1"/>
          <p:cNvSpPr/>
          <p:nvPr/>
        </p:nvSpPr>
        <p:spPr>
          <a:xfrm>
            <a:off x="827640" y="2061000"/>
            <a:ext cx="669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о я в клетку, то в линей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писать на мне сумей-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жно и нарисов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 такое 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http://www.shkolnikoff.ru/_mod_files/ce_images/eshop/generated/tetrad__12l._kosaja_linejka_action__rozovaja__art._an-12014m_249x300_pc.jpg"/>
          <p:cNvPicPr/>
          <p:nvPr/>
        </p:nvPicPr>
        <p:blipFill>
          <a:blip r:embed="rId1"/>
          <a:stretch/>
        </p:blipFill>
        <p:spPr>
          <a:xfrm rot="20397600">
            <a:off x="3930480" y="4447080"/>
            <a:ext cx="1673280" cy="2016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http://3-inter.ru/published/publicdata/DEVELOP581DVSHL58/attachments/SC/products_pictures_enl/92354.jpg"/>
          <p:cNvPicPr/>
          <p:nvPr/>
        </p:nvPicPr>
        <p:blipFill>
          <a:blip r:embed="rId2"/>
          <a:stretch/>
        </p:blipFill>
        <p:spPr>
          <a:xfrm rot="528600">
            <a:off x="6396480" y="3781440"/>
            <a:ext cx="1963440" cy="2351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1"/>
          <p:cNvSpPr/>
          <p:nvPr/>
        </p:nvSpPr>
        <p:spPr>
          <a:xfrm>
            <a:off x="971640" y="1989000"/>
            <a:ext cx="712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овый дом несу в р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вери дома на зам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м жильцы бумаж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се ужасно важны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http://kirovograd.era.com.ua/market/img/?f=367&amp;i=479066_3_134676.jpg"/>
          <p:cNvPicPr/>
          <p:nvPr/>
        </p:nvPicPr>
        <p:blipFill>
          <a:blip r:embed="rId1"/>
          <a:stretch/>
        </p:blipFill>
        <p:spPr>
          <a:xfrm>
            <a:off x="6660360" y="4005000"/>
            <a:ext cx="19440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1"/>
          <p:cNvSpPr/>
          <p:nvPr/>
        </p:nvSpPr>
        <p:spPr>
          <a:xfrm>
            <a:off x="1043640" y="1772640"/>
            <a:ext cx="640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ворит она беззву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понятно и не ску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ы беседуй чаще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нешь вчетверо умне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http://www.xxlbook.ru/imgh122992.png"/>
          <p:cNvPicPr/>
          <p:nvPr/>
        </p:nvPicPr>
        <p:blipFill>
          <a:blip r:embed="rId1"/>
          <a:stretch/>
        </p:blipFill>
        <p:spPr>
          <a:xfrm rot="718800">
            <a:off x="5650920" y="4456080"/>
            <a:ext cx="1711440" cy="2248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http://i053.radikal.ru/1003/22/b595b67d00f5.jpg"/>
          <p:cNvPicPr/>
          <p:nvPr/>
        </p:nvPicPr>
        <p:blipFill>
          <a:blip r:embed="rId2"/>
          <a:stretch/>
        </p:blipFill>
        <p:spPr>
          <a:xfrm rot="20446200">
            <a:off x="3275640" y="4429080"/>
            <a:ext cx="161640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1640" y="1556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акое слово получилось 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7640" y="2349000"/>
            <a:ext cx="8229240" cy="30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</a:tabLst>
            </a:pPr>
            <a:r>
              <a:rPr b="1" lang="ru-RU" sz="20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рок</a:t>
            </a:r>
            <a:endParaRPr b="0" lang="ru-RU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Заголовок 1"/>
          <p:cNvSpPr/>
          <p:nvPr/>
        </p:nvSpPr>
        <p:spPr>
          <a:xfrm>
            <a:off x="611640" y="1556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т урока до урока 11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бъект 2"/>
          <p:cNvSpPr/>
          <p:nvPr/>
        </p:nvSpPr>
        <p:spPr>
          <a:xfrm>
            <a:off x="61164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От урока до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От звонка и до зво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ужно ждать совсем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еремена – коро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о от первого урока до последнего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ет – 11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ужно каждый год 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е лениться, а 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И от школьного пор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жизнь откроется дорог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http://img1.liveinternet.ru/images/attach/c/3/77/936/77936409_1809.jpg"/>
          <p:cNvPicPr/>
          <p:nvPr/>
        </p:nvPicPr>
        <p:blipFill>
          <a:blip r:embed="rId1"/>
          <a:stretch/>
        </p:blipFill>
        <p:spPr>
          <a:xfrm>
            <a:off x="2339640" y="1700640"/>
            <a:ext cx="4706640" cy="470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Объект 2"/>
          <p:cNvSpPr/>
          <p:nvPr/>
        </p:nvSpPr>
        <p:spPr>
          <a:xfrm>
            <a:off x="539640" y="2133000"/>
            <a:ext cx="822924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Через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11 лет вы вспомните свой первый урок в этой школе, вспомните меня, своих товарищей по классу. А чтобы было легче вспоминать, сделаем рисунки. Что рисовать, каждый выберет 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Заголовок 1"/>
          <p:cNvSpPr/>
          <p:nvPr/>
        </p:nvSpPr>
        <p:spPr>
          <a:xfrm>
            <a:off x="611640" y="1412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траничка худож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2"/>
          <p:cNvSpPr/>
          <p:nvPr/>
        </p:nvSpPr>
        <p:spPr>
          <a:xfrm>
            <a:off x="179640" y="2277000"/>
            <a:ext cx="8712720" cy="25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арисуйте самое любимое и интерес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яркое и незабывае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Что нам понадобится для рис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http://forum.ivd.ru/uploads/monthly_03_2011/post-42492-1299338197_thumb.jpg"/>
          <p:cNvPicPr/>
          <p:nvPr/>
        </p:nvPicPr>
        <p:blipFill>
          <a:blip r:embed="rId1"/>
          <a:stretch/>
        </p:blipFill>
        <p:spPr>
          <a:xfrm>
            <a:off x="323640" y="2709000"/>
            <a:ext cx="1367640" cy="1367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http://img0.liveinternet.ru/images/attach/c/4/78/423/78423682_large_0_506df_98ab5f4a_XL.png"/>
          <p:cNvPicPr/>
          <p:nvPr/>
        </p:nvPicPr>
        <p:blipFill>
          <a:blip r:embed="rId2"/>
          <a:stretch/>
        </p:blipFill>
        <p:spPr>
          <a:xfrm>
            <a:off x="7164360" y="2205000"/>
            <a:ext cx="1774080" cy="2661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http://polzunki.com.ua/files/store_apendix_large5969_1354.jpg"/>
          <p:cNvPicPr/>
          <p:nvPr/>
        </p:nvPicPr>
        <p:blipFill>
          <a:blip r:embed="rId3"/>
          <a:stretch/>
        </p:blipFill>
        <p:spPr>
          <a:xfrm>
            <a:off x="2988000" y="306900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http://s43.radikal.ru/i102/0812/17/3735c570fb35.png"/>
          <p:cNvPicPr/>
          <p:nvPr/>
        </p:nvPicPr>
        <p:blipFill>
          <a:blip r:embed="rId4"/>
          <a:stretch/>
        </p:blipFill>
        <p:spPr>
          <a:xfrm>
            <a:off x="6156000" y="3285000"/>
            <a:ext cx="1295640" cy="1233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http://kak-risovat.com/wp-content/uploads/2012/07/tank.jpg"/>
          <p:cNvPicPr/>
          <p:nvPr/>
        </p:nvPicPr>
        <p:blipFill>
          <a:blip r:embed="rId5"/>
          <a:stretch/>
        </p:blipFill>
        <p:spPr>
          <a:xfrm>
            <a:off x="1907640" y="3357000"/>
            <a:ext cx="947160" cy="71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http://chydo.com.ua/cms_files/194/164/Figurka_serii___ChEREPAShKI_NINDZYa._YuBILEYNAYa_SERIYa__Rafael___55813_.jpg"/>
          <p:cNvPicPr/>
          <p:nvPr/>
        </p:nvPicPr>
        <p:blipFill>
          <a:blip r:embed="rId6"/>
          <a:stretch/>
        </p:blipFill>
        <p:spPr>
          <a:xfrm>
            <a:off x="4644000" y="2997000"/>
            <a:ext cx="1377720" cy="1377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4" descr="http://clipstock.ucoz.ru/_ph/27/2/203145477.jpg"/>
          <p:cNvPicPr/>
          <p:nvPr/>
        </p:nvPicPr>
        <p:blipFill>
          <a:blip r:embed="rId7"/>
          <a:stretch/>
        </p:blipFill>
        <p:spPr>
          <a:xfrm>
            <a:off x="755640" y="5013000"/>
            <a:ext cx="1809720" cy="1534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6" descr="http://static1.read.ru/images/illustrations/1346525654267369396.jpeg"/>
          <p:cNvPicPr/>
          <p:nvPr/>
        </p:nvPicPr>
        <p:blipFill>
          <a:blip r:embed="rId8"/>
          <a:stretch/>
        </p:blipFill>
        <p:spPr>
          <a:xfrm>
            <a:off x="6444360" y="5013000"/>
            <a:ext cx="1931040" cy="1448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8" descr="http://www.avangardbumaga.ru/imgcatalog/catalog15big1.jpg"/>
          <p:cNvPicPr/>
          <p:nvPr/>
        </p:nvPicPr>
        <p:blipFill>
          <a:blip r:embed="rId9"/>
          <a:stretch/>
        </p:blipFill>
        <p:spPr>
          <a:xfrm rot="20968200">
            <a:off x="3347640" y="5013000"/>
            <a:ext cx="2279160" cy="1454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1640" y="1917000"/>
            <a:ext cx="82292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Поздравляю всех</a:t>
            </a:r>
            <a:br>
              <a:rPr sz="6000"/>
            </a:b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учеников с началом школьной жизни!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" descr="http://im0-tub-ru.yandex.net/i?id=368599873-37-72&amp;n=21"/>
          <p:cNvPicPr/>
          <p:nvPr/>
        </p:nvPicPr>
        <p:blipFill>
          <a:blip r:embed="rId1"/>
          <a:stretch/>
        </p:blipFill>
        <p:spPr>
          <a:xfrm>
            <a:off x="3060000" y="4437000"/>
            <a:ext cx="3096000" cy="2025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 ТЕПЕРЬ УЧЕНИК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240" cy="269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ДАВАЙТЕ      ПОЗНАКОМИМСЯ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Заголовок 1"/>
          <p:cNvSpPr/>
          <p:nvPr/>
        </p:nvSpPr>
        <p:spPr>
          <a:xfrm>
            <a:off x="395640" y="1196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В первый ра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бъект 2"/>
          <p:cNvSpPr/>
          <p:nvPr/>
        </p:nvSpPr>
        <p:spPr>
          <a:xfrm>
            <a:off x="539640" y="2205000"/>
            <a:ext cx="842472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се бывает в первый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ый зуб и первый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ая пятё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Как начало первых др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ый схваченный синя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ая шпарга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День за днём, за годом г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Человек живёт,  растёт, облик свой мен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А под старость он подчас, то, что было в первый р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С  грустью вспомин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Заголовок 1"/>
          <p:cNvSpPr/>
          <p:nvPr/>
        </p:nvSpPr>
        <p:spPr>
          <a:xfrm>
            <a:off x="467640" y="1412640"/>
            <a:ext cx="82292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исьмо первоклассни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бъект 2"/>
          <p:cNvSpPr/>
          <p:nvPr/>
        </p:nvSpPr>
        <p:spPr>
          <a:xfrm>
            <a:off x="467640" y="2205000"/>
            <a:ext cx="813672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2000"/>
          </a:bodyPr>
          <a:p>
            <a:pPr marL="303480" indent="-3034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орогой первокласс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годня ты впервые пришёл в школу. Здесь тебя все очень ждали, все тебя любят. В школе ты научишься хорошо читать, грамотно писать, любить и понимать природу, уважительно относиться к людям, а главное, ты научишься 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1 долгих лет школа будет твоим вторым домом. Полюби школу, своих товари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учись   быть     терпеливым,       добрым, внимательным   и   трудолюбивым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желаю тебе успехов  в  учёбе.  Надеюсь,  что  ты   будешь послушным   и   стар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Заголовок 1"/>
          <p:cNvSpPr/>
          <p:nvPr/>
        </p:nvSpPr>
        <p:spPr>
          <a:xfrm>
            <a:off x="611640" y="134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ы - уче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бъект 2"/>
          <p:cNvSpPr/>
          <p:nvPr/>
        </p:nvSpPr>
        <p:spPr>
          <a:xfrm>
            <a:off x="539640" y="2277000"/>
            <a:ext cx="82292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кольные</a:t>
            </a:r>
            <a:r>
              <a:rPr b="1" lang="ru-RU" sz="3200" spc="-1" strike="noStrike">
                <a:solidFill>
                  <a:schemeClr val="accent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http://www.megakot.ru/pictures/ranets_shkolnyy_pirat_djek_38_sm_00043634_large.jpg"/>
          <p:cNvPicPr/>
          <p:nvPr/>
        </p:nvPicPr>
        <p:blipFill>
          <a:blip r:embed="rId1"/>
          <a:stretch/>
        </p:blipFill>
        <p:spPr>
          <a:xfrm>
            <a:off x="611640" y="2925000"/>
            <a:ext cx="1665720" cy="1665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http://im6-tub-ru.yandex.net/i?id=140797843-69-72&amp;n=21"/>
          <p:cNvPicPr/>
          <p:nvPr/>
        </p:nvPicPr>
        <p:blipFill>
          <a:blip r:embed="rId2"/>
          <a:stretch/>
        </p:blipFill>
        <p:spPr>
          <a:xfrm>
            <a:off x="3204000" y="4797000"/>
            <a:ext cx="1790280" cy="1428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http://im2-tub-ru.yandex.net/i?id=207093865-13-72&amp;n=21"/>
          <p:cNvPicPr/>
          <p:nvPr/>
        </p:nvPicPr>
        <p:blipFill>
          <a:blip r:embed="rId3"/>
          <a:stretch/>
        </p:blipFill>
        <p:spPr>
          <a:xfrm>
            <a:off x="2915640" y="3069000"/>
            <a:ext cx="1190160" cy="1428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http://im2-tub-ru.yandex.net/i?id=39701597-50-72&amp;n=21"/>
          <p:cNvPicPr/>
          <p:nvPr/>
        </p:nvPicPr>
        <p:blipFill>
          <a:blip r:embed="rId4"/>
          <a:stretch/>
        </p:blipFill>
        <p:spPr>
          <a:xfrm>
            <a:off x="4788000" y="3141000"/>
            <a:ext cx="1771200" cy="14284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http://im4-tub-ru.yandex.net/i?id=251902151-61-72&amp;n=21"/>
          <p:cNvPicPr/>
          <p:nvPr/>
        </p:nvPicPr>
        <p:blipFill>
          <a:blip r:embed="rId5"/>
          <a:stretch/>
        </p:blipFill>
        <p:spPr>
          <a:xfrm>
            <a:off x="539640" y="4941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http://im2-tub-ru.yandex.net/i?id=98565432-66-72&amp;n=21"/>
          <p:cNvPicPr/>
          <p:nvPr/>
        </p:nvPicPr>
        <p:blipFill>
          <a:blip r:embed="rId6"/>
          <a:stretch/>
        </p:blipFill>
        <p:spPr>
          <a:xfrm>
            <a:off x="7380360" y="1917000"/>
            <a:ext cx="818640" cy="14284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http://im8-tub-ru.yandex.net/i?id=80422986-24-72&amp;n=21"/>
          <p:cNvPicPr/>
          <p:nvPr/>
        </p:nvPicPr>
        <p:blipFill>
          <a:blip r:embed="rId7"/>
          <a:stretch/>
        </p:blipFill>
        <p:spPr>
          <a:xfrm>
            <a:off x="7236360" y="3501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http://forum.gorod.dp.ua/attachment.php?attachmentid=750179&amp;d=1330790209"/>
          <p:cNvPicPr/>
          <p:nvPr/>
        </p:nvPicPr>
        <p:blipFill>
          <a:blip r:embed="rId8"/>
          <a:stretch/>
        </p:blipFill>
        <p:spPr>
          <a:xfrm>
            <a:off x="5580000" y="4797000"/>
            <a:ext cx="1837080" cy="14068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0" dur="1" fill="hold"/>
                                        <p:tgtEl>
                                          <p:spTgt spid="55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Заголовок 1"/>
          <p:cNvSpPr/>
          <p:nvPr/>
        </p:nvSpPr>
        <p:spPr>
          <a:xfrm>
            <a:off x="0" y="1340640"/>
            <a:ext cx="8964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Правила поведения в шк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Объект 2"/>
          <p:cNvSpPr/>
          <p:nvPr/>
        </p:nvSpPr>
        <p:spPr>
          <a:xfrm>
            <a:off x="46764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читель спросит – надо вс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огда он сесть позволит – ся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тветить хочешь – не шу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А только руку под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ри 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 нельзя  и  1 обязатель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Заголовок 1"/>
          <p:cNvSpPr/>
          <p:nvPr/>
        </p:nvSpPr>
        <p:spPr>
          <a:xfrm>
            <a:off x="251640" y="274680"/>
            <a:ext cx="3168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играем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бъект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арта, стол, лопата, ру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каждом слове слышим звук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http://www.axed.ru/main.php?g2_view=core.DownloadItem&amp;g2_itemId=98227&amp;g2_serialNumber=1"/>
          <p:cNvPicPr/>
          <p:nvPr/>
        </p:nvPicPr>
        <p:blipFill>
          <a:blip r:embed="rId1"/>
          <a:stretch/>
        </p:blipFill>
        <p:spPr>
          <a:xfrm rot="17321400">
            <a:off x="69840" y="4137840"/>
            <a:ext cx="2465280" cy="184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http://im2-tub-ru.yandex.net/i?id=138388566-66-72&amp;n=21"/>
          <p:cNvPicPr/>
          <p:nvPr/>
        </p:nvPicPr>
        <p:blipFill>
          <a:blip r:embed="rId2"/>
          <a:stretch/>
        </p:blipFill>
        <p:spPr>
          <a:xfrm rot="20743200">
            <a:off x="3106080" y="3112920"/>
            <a:ext cx="2385360" cy="1596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http://im5-tub-ru.yandex.net/i?id=145224938-28-72&amp;n=21"/>
          <p:cNvPicPr/>
          <p:nvPr/>
        </p:nvPicPr>
        <p:blipFill>
          <a:blip r:embed="rId3"/>
          <a:stretch/>
        </p:blipFill>
        <p:spPr>
          <a:xfrm>
            <a:off x="6012000" y="3069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6" descr="http://img7.imageshost.ru/imgs/090724/6755c6bcc3/a580b.jpg"/>
          <p:cNvPicPr/>
          <p:nvPr/>
        </p:nvPicPr>
        <p:blipFill>
          <a:blip r:embed="rId4"/>
          <a:stretch/>
        </p:blipFill>
        <p:spPr>
          <a:xfrm>
            <a:off x="2988000" y="5013000"/>
            <a:ext cx="2520000" cy="1296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лова  рассыпались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л  -  пе,     чка  -  ру,     та  -  пар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ик  -  у  -  че,     ка  -  пя  -  тёр, 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а  -  друж,    ме  -  на  -  ре  -  пе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ы  -  лод  -  м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6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2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1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6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7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4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5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5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  <Words>634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4:22:56Z</dcterms:created>
  <dc:creator>ТАТЬЯНА</dc:creator>
  <dc:description/>
  <dc:language>en-US</dc:language>
  <cp:lastModifiedBy>ТАТЬЯНА</cp:lastModifiedBy>
  <dcterms:modified xsi:type="dcterms:W3CDTF">2013-09-01T18:52:48Z</dcterms:modified>
  <cp:revision>5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