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294AF-E38A-4468-9ACF-201C8B76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575F41-D552-48B7-BA13-096E1FB690B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ECD512-4E04-4DEF-8369-C7E41B4D3D8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EFE-A929-429E-B575-E703B60A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D62-2864-405D-B566-B36B8D0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71BFF-CD8A-41B3-B8F2-538D824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B6D6B-CD7C-4F2F-9E62-F4A717B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1E94C-B097-4F51-BBBE-3625DB78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BC995-9E96-436C-9B61-95F702E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1395B-69F2-47B2-AA82-A27753DF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5FD15-2B9B-4F99-809A-44FEEAD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66D50-CB23-4DBC-AB46-23520F5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6357A-8185-4D96-BEE1-145369B5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EA633-60B3-4DB3-A88D-357F3279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B58F1-60ED-4154-9EA2-F87C292A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C43-8957-4BB7-BFCD-2CC422E0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AD3C3-B62B-4C4B-A631-47884D2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4FFC-5554-4E97-B2C2-D5E0298B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AA09D-D95C-4BCC-92A5-CBE66A35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0657C-6339-4FFE-9187-2B5AEB0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A7AC5-E04C-4BD2-9920-64F9B170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138BA-1FD5-437C-A8EC-B3557CD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BE290-12A8-478C-AA72-C57F180C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4945B-3C30-47A5-B1CB-D505EA6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0FCB9-687A-4C22-80E9-847EEFB1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0D4CE-FF52-4E0A-A2C0-D39B57A8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317-BE9C-4A3A-B353-AC2311EE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F07F0-2917-47E8-88C2-C92AFE8E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902D-4374-426F-BEE5-30FBA429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2D74B-513A-442B-95FE-7A3BF090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22C07-2431-47B7-AA46-4C9AF1E9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E475F-A20A-482E-AB6A-8884B0E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D9630-62F0-44FD-9034-115E867A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D5C1E-07DB-45CA-9962-C41EC416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03734-3620-4F27-B499-702D3B9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73CFC-00D1-40F3-8714-F2ADA6B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494AD-CD3B-47E5-9324-924E91E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63B8-02CE-44C2-8070-CB8BF0F6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C3C10-5542-47C7-8369-33BE161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2BD1C-2503-455E-AFA3-872AC9FE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F7C22-D6A9-4C6E-8C49-FB90E48B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35817-62B5-4942-A811-6688E32E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AC43C-9E04-46F2-B3F0-F3C7C6E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904A8-FBAB-4272-A0E4-928B8A7F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62FBB-04C8-4274-A521-FE51BFA2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BEAF2-23FA-4C03-B870-50344B2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4ABB9-019C-4656-BC5B-94BCC2A1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EBC4-C9CB-41C1-961B-0A80141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3021-D8A1-469D-B33F-5C978E65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6D0FC-F086-4427-ABCD-D6AE9F2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96C52-F928-41FA-B7CE-3D2DE1B3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8BBCF-762A-4E4B-94B0-3FB7E84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EFB18-0EB6-441D-A183-DCD9194C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C0420-4E4F-4119-99D7-93D2F9FD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0BFC1-30D8-4AD3-84AA-B661973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91A48-2E7E-4935-9A49-C55624DF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EBB86-67BF-4110-AF85-E039972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F11B3-B8A7-45CC-BAAE-162852C5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1A4E8-CBD8-422B-8181-6C24ED78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E7D-9B80-415A-A540-7CC4D1FF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7E7AB-12FE-4463-B3BB-0E956F01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02C91-2F9D-44A9-8E59-886AC36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DADF7-8E36-4065-A4F7-1A52FB8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D9100-F1DA-4F33-83A7-1BC00BD3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DEF4C-927D-4A1B-BAC3-1855DAA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B3241-17FD-4711-B369-1894B963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6509B-505B-427B-B9BA-4FA1E855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0AB-E84B-4068-9349-BCABAA90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BCB3-1594-46BD-8EC7-9CDF378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0AFF-7E9E-4679-BF84-544DEB90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95D8-0D97-4EAC-82FD-ED2B8DFF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E72-DB77-4F11-B9B0-F17A4A51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F1C-A4D4-4EF4-ADE1-FCEB288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21E8-DB47-44E9-A831-49D0B69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BB1E-303A-4BF7-8886-81693633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6725-477C-4F82-B60B-8FBDC286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62D1-10AD-4C4A-AA75-176A539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56E9-FE00-415A-ADF5-2F271115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BD97-73C0-4116-8539-86FBF426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E0558-A5D6-45B6-A230-E7F89E40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8800-88F3-4A48-A04D-75E1DAB4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380C-7499-4A01-9658-36D7CE3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D33-1CD7-40E5-99B7-69AD0027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C608-BFD0-4B5D-BAA7-FA3D8F0C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CB5F-1E31-48B4-BE64-DF616EA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0F7D-5624-4FE6-A8EC-5F63A68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8EA2-E5E7-45B9-B8DF-C4D51BC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3A5F-FFD8-4B93-81EA-94FCA26B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A659-41D6-40D3-9A2D-6168A1A6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118C-48C1-4F42-BA2E-AFB05AFB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6345-EBF4-4948-BDCD-AA73EF04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3706-B7A9-4B7D-B5DC-7E66F2E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0993-2C05-471B-8AB0-BA44A97B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E28-A9C7-4635-A545-53F238F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CFDB-131A-4F68-83F8-464475FC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096B-673C-44FA-95E8-DC428714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D091-BA16-4713-8EB2-4485383C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924B-E272-45F7-BD89-661B0B6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E0B3-2B58-4868-BDF1-61CBE27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7A08-FD17-452E-98F4-BEABAE0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44EE-AFDA-40D5-94A6-CE873269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5420-1FAD-4F27-BBA5-A4050477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74B3-1579-4016-A808-A3163C7C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7ABC-E95C-4D30-85B0-8B074157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3BF-EFB5-4E73-97E7-0F9DAD56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5DAF-FDCD-4DF1-BB2D-1EF1B00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16D1-5E26-4992-8710-23063462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1412-66C2-43E0-BD25-1E58186E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CC20-99DB-4CDE-8347-EF827D79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D845-7D2C-4638-B5FD-49A2E9E6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82EB3-ED20-4E91-95FC-2909B16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9136A-6229-464C-87AE-20F5E4B7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9B6D-64B1-4D69-8ED0-7FBF5B6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0357-1481-4279-8D1F-2283EA18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999C2-5072-4D99-82FA-32E4B737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86D-42EF-4FCC-83BB-8869C430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8DE6C-B500-4948-9FDB-EC047C50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8997-F44E-4566-A99A-8443995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9AB14-FDAD-443B-9B7C-97A97FBD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4D96-7ABB-43D6-9339-09187BFE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F594-4457-44CE-9DD2-37272C8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8F79-54A9-4412-BDA4-F7F6E7C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C9362-2B8A-454C-BF8F-60B341EB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1A313-E440-4E70-9072-10E7557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83D12-F2EB-42B8-A618-B1C84BF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2479-AB95-46C7-9C0F-F3949E08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7EF-926B-4502-A8A8-594890F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1EC45-AE5F-4668-A703-AE02E139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20A0-2501-42B7-9D01-B4133305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9057-9F82-433D-B3D7-A6884601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5E6A3-F978-47DB-A3B2-6A25CD8D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A69B2-72BB-4555-930E-8B45AFC3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6A46-48EE-4145-9409-D7F94DEF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A598C-5995-4483-A605-4890E1B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1DEB-21F2-410C-A0EA-2E17E2E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DD1C-1DAA-4659-80A6-46D8F32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46DF0-D513-49E0-A34B-E37294B6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D62-A445-4957-A3E9-88B7A497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C3C1-31E1-4F33-A070-D683A5E2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842F-17CE-4C27-98FD-01348EA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DAE11-8848-48A5-9C29-99210B9F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F5FC-922C-4168-BEB7-6C6DA736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1F9C-B365-402E-8296-061A32DA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0992-0C54-489D-8B4F-9E4962CB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D5F8C-A48E-4FBD-835F-6C8AC81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A8264-992B-403B-94A4-2DE9EAC4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43CC-7A82-49DF-9728-3634448D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9774-249E-45EA-B5D4-38780CB4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42C-3197-40DC-8E49-09FC75F8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EC2F-7883-42F4-B9C2-450D603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2A46D-FF2C-48C1-90B3-122B7D56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B29EB-9B07-4913-A8F5-B835E4D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78DEB-5811-44F4-8063-C1BFCE3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BCA5-A188-46D5-84A9-BE615EF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F42C-0298-472D-8861-578B7CD6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ECD35-142C-4DB4-BD0B-12ECF4C7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60957-2FF4-4DBC-B31E-BE2DC7C5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330D9-9040-41FB-A577-E53319B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145FE-3228-45CC-9BB9-45C0D44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4D7A92-10FB-4882-B133-99E1AF275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1CDD43-3CBD-43BE-BB12-DDE386680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F3985-F6D2-4778-AD19-BC4BD7AA4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3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2912EB-0ECC-457D-929B-407B2B105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68E43D-3DE5-4FFD-971E-57DCF6795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6066E-7D2F-4725-906A-588DAFFD4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A2B483-FC62-4DE9-82A8-6B2FBD2E9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DC1867-AE3D-49EE-ACD7-070EA33491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2ADDEC-8A9A-43A4-B862-71063A8F8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735A07-6719-47B6-A12E-0310144CF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5F8E19-AB3B-4A25-902C-821C912AD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72A067-0FAD-4838-8491-7A6ABDDCC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2FB89C-E273-4AF0-8D0E-452FEBF58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Заголовок 1"/>
          <p:cNvSpPr/>
          <p:nvPr/>
        </p:nvSpPr>
        <p:spPr>
          <a:xfrm>
            <a:off x="683640" y="177264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сентября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2013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одзаголовок 2"/>
          <p:cNvSpPr/>
          <p:nvPr/>
        </p:nvSpPr>
        <p:spPr>
          <a:xfrm>
            <a:off x="683640" y="2997000"/>
            <a:ext cx="7704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1 А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кола 2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Учител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Иванова Татьяна Никола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http://www.allpolus.com/uploads/posts/2011-01-28/9879-0.jpg"/>
          <p:cNvPicPr/>
          <p:nvPr/>
        </p:nvPicPr>
        <p:blipFill>
          <a:blip r:embed="rId1"/>
          <a:stretch/>
        </p:blipFill>
        <p:spPr>
          <a:xfrm>
            <a:off x="7380360" y="332640"/>
            <a:ext cx="1225440" cy="134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Заголовок 1"/>
          <p:cNvSpPr/>
          <p:nvPr/>
        </p:nvSpPr>
        <p:spPr>
          <a:xfrm>
            <a:off x="467640" y="1484640"/>
            <a:ext cx="82292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атематическ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251640" y="2997000"/>
            <a:ext cx="889200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вайте, ребята, учиться счит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лить, умножать, прибавлять, от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помните все , что без точного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сдвинется с места люб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23640" y="2493000"/>
            <a:ext cx="8229240" cy="35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 до 10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чёт от 10 до 1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 к  1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бавляем к  2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ычитаем из  10  по  2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Заголовок 1"/>
          <p:cNvSpPr/>
          <p:nvPr/>
        </p:nvSpPr>
        <p:spPr>
          <a:xfrm>
            <a:off x="467640" y="1556640"/>
            <a:ext cx="51843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дачи  -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бъект 2"/>
          <p:cNvSpPr/>
          <p:nvPr/>
        </p:nvSpPr>
        <p:spPr>
          <a:xfrm>
            <a:off x="323640" y="2565000"/>
            <a:ext cx="540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овезло опять Егорке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реки сидел не з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Два карасика в ведёр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четыре песк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осчитайте-ка ул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 кого ответ готов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http://www.artscroll.ru/Images/2008/s/Sever%20Vera/000009.jpg"/>
          <p:cNvPicPr/>
          <p:nvPr/>
        </p:nvPicPr>
        <p:blipFill>
          <a:blip r:embed="rId1"/>
          <a:stretch/>
        </p:blipFill>
        <p:spPr>
          <a:xfrm>
            <a:off x="6660360" y="1556640"/>
            <a:ext cx="2188080" cy="29048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цифра 6"/>
          <p:cNvPicPr/>
          <p:nvPr/>
        </p:nvPicPr>
        <p:blipFill>
          <a:blip r:embed="rId2"/>
          <a:stretch/>
        </p:blipFill>
        <p:spPr>
          <a:xfrm>
            <a:off x="6516360" y="4797000"/>
            <a:ext cx="1872000" cy="1872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http://im3-tub-ru.yandex.net/i?id=448125438-21-72&amp;n=21"/>
          <p:cNvPicPr/>
          <p:nvPr/>
        </p:nvPicPr>
        <p:blipFill>
          <a:blip r:embed="rId3"/>
          <a:stretch/>
        </p:blipFill>
        <p:spPr>
          <a:xfrm>
            <a:off x="4932000" y="443700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Объект 2"/>
          <p:cNvSpPr/>
          <p:nvPr/>
        </p:nvSpPr>
        <p:spPr>
          <a:xfrm>
            <a:off x="3780000" y="1772640"/>
            <a:ext cx="5112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К серой цапле на 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7 со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лишь только 3 соро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готовили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Сколько лодырей-со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рилетело  на уро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цифра 4"/>
          <p:cNvPicPr/>
          <p:nvPr/>
        </p:nvPicPr>
        <p:blipFill>
          <a:blip r:embed="rId1"/>
          <a:stretch/>
        </p:blipFill>
        <p:spPr>
          <a:xfrm>
            <a:off x="6804360" y="494100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http://4.bp.blogspot.com/_ZaAtUy028z4/S8OfHmaYDnI/AAAAAAAAANg/-cl1R6gW7RI/s1600/great-blue-heron-797050.jpg"/>
          <p:cNvPicPr/>
          <p:nvPr/>
        </p:nvPicPr>
        <p:blipFill>
          <a:blip r:embed="rId2"/>
          <a:stretch/>
        </p:blipFill>
        <p:spPr>
          <a:xfrm flipH="1">
            <a:off x="324000" y="1124640"/>
            <a:ext cx="1819800" cy="208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http://arkaim.at.ua/GIVAJ_PLANETA/ptici/soroka.jpg"/>
          <p:cNvPicPr/>
          <p:nvPr/>
        </p:nvPicPr>
        <p:blipFill>
          <a:blip r:embed="rId3"/>
          <a:stretch/>
        </p:blipFill>
        <p:spPr>
          <a:xfrm>
            <a:off x="1043640" y="3069000"/>
            <a:ext cx="2304000" cy="1529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0" descr="http://im3-tub-ru.yandex.net/i?id=448125438-21-72&amp;n=21"/>
          <p:cNvPicPr/>
          <p:nvPr/>
        </p:nvPicPr>
        <p:blipFill>
          <a:blip r:embed="rId4"/>
          <a:stretch/>
        </p:blipFill>
        <p:spPr>
          <a:xfrm>
            <a:off x="2627640" y="5085360"/>
            <a:ext cx="1161720" cy="142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Заголовок 1"/>
          <p:cNvSpPr/>
          <p:nvPr/>
        </p:nvSpPr>
        <p:spPr>
          <a:xfrm>
            <a:off x="539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Решаем кроссвор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2"/>
          <p:cNvSpPr/>
          <p:nvPr/>
        </p:nvSpPr>
        <p:spPr>
          <a:xfrm>
            <a:off x="755640" y="2061000"/>
            <a:ext cx="727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1" i="1" lang="ru-RU" sz="66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тгадай, что за вещица: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стрый клювик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Этим клювиком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ет, сеет семен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://kanc-koshik.com.ua/foto/tovar/2012/02/ZB_2243_open_s_kolpa4kom.jpg"/>
          <p:cNvPicPr/>
          <p:nvPr/>
        </p:nvPicPr>
        <p:blipFill>
          <a:blip r:embed="rId1"/>
          <a:stretch/>
        </p:blipFill>
        <p:spPr>
          <a:xfrm>
            <a:off x="6084000" y="3861000"/>
            <a:ext cx="2723040" cy="27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1"/>
          <p:cNvSpPr/>
          <p:nvPr/>
        </p:nvSpPr>
        <p:spPr>
          <a:xfrm>
            <a:off x="827640" y="2061000"/>
            <a:ext cx="669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писать на мне сумей-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жно и нарисо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такое 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http://www.shkolnikoff.ru/_mod_files/ce_images/eshop/generated/tetrad__12l._kosaja_linejka_action__rozovaja__art._an-12014m_249x300_pc.jpg"/>
          <p:cNvPicPr/>
          <p:nvPr/>
        </p:nvPicPr>
        <p:blipFill>
          <a:blip r:embed="rId1"/>
          <a:stretch/>
        </p:blipFill>
        <p:spPr>
          <a:xfrm rot="20397600">
            <a:off x="3930480" y="4447080"/>
            <a:ext cx="1673280" cy="2016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http://3-inter.ru/published/publicdata/DEVELOP581DVSHL58/attachments/SC/products_pictures_enl/92354.jpg"/>
          <p:cNvPicPr/>
          <p:nvPr/>
        </p:nvPicPr>
        <p:blipFill>
          <a:blip r:embed="rId2"/>
          <a:stretch/>
        </p:blipFill>
        <p:spPr>
          <a:xfrm rot="528600">
            <a:off x="6396480" y="3781440"/>
            <a:ext cx="1963440" cy="23515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971640" y="1989000"/>
            <a:ext cx="712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вери дома на зам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м жильцы бумаж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се ужасно важны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" descr="http://kirovograd.era.com.ua/market/img/?f=367&amp;i=479066_3_134676.jpg"/>
          <p:cNvPicPr/>
          <p:nvPr/>
        </p:nvPicPr>
        <p:blipFill>
          <a:blip r:embed="rId1"/>
          <a:stretch/>
        </p:blipFill>
        <p:spPr>
          <a:xfrm>
            <a:off x="6660360" y="4005000"/>
            <a:ext cx="1944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1"/>
          <p:cNvSpPr/>
          <p:nvPr/>
        </p:nvSpPr>
        <p:spPr>
          <a:xfrm>
            <a:off x="1043640" y="1772640"/>
            <a:ext cx="640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600" spc="-1" strike="noStrike">
                <a:solidFill>
                  <a:srgbClr val="00206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ворит она беззву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понятно и не ску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ы беседуй чаще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нешь вчетверо умне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http://www.xxlbook.ru/imgh122992.png"/>
          <p:cNvPicPr/>
          <p:nvPr/>
        </p:nvPicPr>
        <p:blipFill>
          <a:blip r:embed="rId1"/>
          <a:stretch/>
        </p:blipFill>
        <p:spPr>
          <a:xfrm rot="718800">
            <a:off x="5650920" y="4456080"/>
            <a:ext cx="1711440" cy="2248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http://i053.radikal.ru/1003/22/b595b67d00f5.jpg"/>
          <p:cNvPicPr/>
          <p:nvPr/>
        </p:nvPicPr>
        <p:blipFill>
          <a:blip r:embed="rId2"/>
          <a:stretch/>
        </p:blipFill>
        <p:spPr>
          <a:xfrm rot="20446200">
            <a:off x="3275640" y="4429080"/>
            <a:ext cx="1616400" cy="21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Какое слово получилось 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7640" y="2349000"/>
            <a:ext cx="8229240" cy="30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</a:tabLst>
            </a:pPr>
            <a:r>
              <a:rPr b="1" lang="ru-RU" sz="20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урок</a:t>
            </a:r>
            <a:endParaRPr b="0" lang="ru-RU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Заголовок 1"/>
          <p:cNvSpPr/>
          <p:nvPr/>
        </p:nvSpPr>
        <p:spPr>
          <a:xfrm>
            <a:off x="611640" y="155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 урока до урока 11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бъект 2"/>
          <p:cNvSpPr/>
          <p:nvPr/>
        </p:nvSpPr>
        <p:spPr>
          <a:xfrm>
            <a:off x="611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урока д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От звонка и до звон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ждать совсем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Перемена –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о от первого урока до последнего у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Лет – 11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ужно каждый год 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е лениться, а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И от школьного пор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 жизнь откроется дорог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http://img1.liveinternet.ru/images/attach/c/3/77/936/77936409_1809.jpg"/>
          <p:cNvPicPr/>
          <p:nvPr/>
        </p:nvPicPr>
        <p:blipFill>
          <a:blip r:embed="rId1"/>
          <a:stretch/>
        </p:blipFill>
        <p:spPr>
          <a:xfrm>
            <a:off x="2339640" y="1700640"/>
            <a:ext cx="4706640" cy="470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Объект 2"/>
          <p:cNvSpPr/>
          <p:nvPr/>
        </p:nvSpPr>
        <p:spPr>
          <a:xfrm>
            <a:off x="539640" y="2133000"/>
            <a:ext cx="822924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ерез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11 лет вы вспомните свой первый урок в этой школе, вспомните меня, своих товарищей по классу. А чтобы было легче вспоминать, сделаем рисунки. Что рисовать, каждый выберет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611640" y="1412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траничка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2"/>
          <p:cNvSpPr/>
          <p:nvPr/>
        </p:nvSpPr>
        <p:spPr>
          <a:xfrm>
            <a:off x="179640" y="2277000"/>
            <a:ext cx="8712720" cy="25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Нарисуйте самое любимое и интерес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яркое и незабывае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Что нам понадобится для рис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http://forum.ivd.ru/uploads/monthly_03_2011/post-42492-1299338197_thumb.jpg"/>
          <p:cNvPicPr/>
          <p:nvPr/>
        </p:nvPicPr>
        <p:blipFill>
          <a:blip r:embed="rId1"/>
          <a:stretch/>
        </p:blipFill>
        <p:spPr>
          <a:xfrm>
            <a:off x="323640" y="2709000"/>
            <a:ext cx="1367640" cy="1367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http://img0.liveinternet.ru/images/attach/c/4/78/423/78423682_large_0_506df_98ab5f4a_XL.png"/>
          <p:cNvPicPr/>
          <p:nvPr/>
        </p:nvPicPr>
        <p:blipFill>
          <a:blip r:embed="rId2"/>
          <a:stretch/>
        </p:blipFill>
        <p:spPr>
          <a:xfrm>
            <a:off x="7164360" y="2205000"/>
            <a:ext cx="1774080" cy="2661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http://polzunki.com.ua/files/store_apendix_large5969_1354.jpg"/>
          <p:cNvPicPr/>
          <p:nvPr/>
        </p:nvPicPr>
        <p:blipFill>
          <a:blip r:embed="rId3"/>
          <a:stretch/>
        </p:blipFill>
        <p:spPr>
          <a:xfrm>
            <a:off x="2988000" y="306900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http://s43.radikal.ru/i102/0812/17/3735c570fb35.png"/>
          <p:cNvPicPr/>
          <p:nvPr/>
        </p:nvPicPr>
        <p:blipFill>
          <a:blip r:embed="rId4"/>
          <a:stretch/>
        </p:blipFill>
        <p:spPr>
          <a:xfrm>
            <a:off x="6156000" y="3285000"/>
            <a:ext cx="1295640" cy="1233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http://kak-risovat.com/wp-content/uploads/2012/07/tank.jpg"/>
          <p:cNvPicPr/>
          <p:nvPr/>
        </p:nvPicPr>
        <p:blipFill>
          <a:blip r:embed="rId5"/>
          <a:stretch/>
        </p:blipFill>
        <p:spPr>
          <a:xfrm>
            <a:off x="1907640" y="3357000"/>
            <a:ext cx="947160" cy="71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2" descr="http://chydo.com.ua/cms_files/194/164/Figurka_serii___ChEREPAShKI_NINDZYa._YuBILEYNAYa_SERIYa__Rafael___55813_.jpg"/>
          <p:cNvPicPr/>
          <p:nvPr/>
        </p:nvPicPr>
        <p:blipFill>
          <a:blip r:embed="rId6"/>
          <a:stretch/>
        </p:blipFill>
        <p:spPr>
          <a:xfrm>
            <a:off x="4644000" y="2997000"/>
            <a:ext cx="1377720" cy="1377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http://clipstock.ucoz.ru/_ph/27/2/203145477.jpg"/>
          <p:cNvPicPr/>
          <p:nvPr/>
        </p:nvPicPr>
        <p:blipFill>
          <a:blip r:embed="rId7"/>
          <a:stretch/>
        </p:blipFill>
        <p:spPr>
          <a:xfrm>
            <a:off x="755640" y="5013000"/>
            <a:ext cx="1809720" cy="1534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6" descr="http://static1.read.ru/images/illustrations/1346525654267369396.jpeg"/>
          <p:cNvPicPr/>
          <p:nvPr/>
        </p:nvPicPr>
        <p:blipFill>
          <a:blip r:embed="rId8"/>
          <a:stretch/>
        </p:blipFill>
        <p:spPr>
          <a:xfrm>
            <a:off x="6444360" y="5013000"/>
            <a:ext cx="1931040" cy="1448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8" descr="http://www.avangardbumaga.ru/imgcatalog/catalog15big1.jpg"/>
          <p:cNvPicPr/>
          <p:nvPr/>
        </p:nvPicPr>
        <p:blipFill>
          <a:blip r:embed="rId9"/>
          <a:stretch/>
        </p:blipFill>
        <p:spPr>
          <a:xfrm rot="20968200">
            <a:off x="3347640" y="5013000"/>
            <a:ext cx="2279160" cy="1454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640" y="1917000"/>
            <a:ext cx="82292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здравляю всех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учеников с началом школьной жизни!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http://im0-tub-ru.yandex.net/i?id=368599873-37-72&amp;n=21"/>
          <p:cNvPicPr/>
          <p:nvPr/>
        </p:nvPicPr>
        <p:blipFill>
          <a:blip r:embed="rId1"/>
          <a:stretch/>
        </p:blipFill>
        <p:spPr>
          <a:xfrm>
            <a:off x="3060000" y="4437000"/>
            <a:ext cx="3096000" cy="2025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 ТЕПЕРЬ УЧЕНИК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240" cy="2696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ДАВАЙТЕ      ПОЗНАКОМИМСЯ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Заголовок 1"/>
          <p:cNvSpPr/>
          <p:nvPr/>
        </p:nvSpPr>
        <p:spPr>
          <a:xfrm>
            <a:off x="395640" y="1196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В первый ра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бъект 2"/>
          <p:cNvSpPr/>
          <p:nvPr/>
        </p:nvSpPr>
        <p:spPr>
          <a:xfrm>
            <a:off x="539640" y="2205000"/>
            <a:ext cx="842472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се бывает в первый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зуб и первый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пятё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Как начало первых др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ый схваченный синя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ервая шпарга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День за днём, за годом г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Человек живёт,  растёт, облик свой мен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А под старость он подчас, то, что было в первый ра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  грустью вспомин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Заголовок 1"/>
          <p:cNvSpPr/>
          <p:nvPr/>
        </p:nvSpPr>
        <p:spPr>
          <a:xfrm>
            <a:off x="467640" y="1412640"/>
            <a:ext cx="82292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исьмо первоклассни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бъект 2"/>
          <p:cNvSpPr/>
          <p:nvPr/>
        </p:nvSpPr>
        <p:spPr>
          <a:xfrm>
            <a:off x="467640" y="2205000"/>
            <a:ext cx="813672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2000"/>
          </a:bodyPr>
          <a:p>
            <a:pPr marL="303480" indent="-3034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орогой первокласс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егодня ты впервые пришёл в школу. Здесь тебя все очень ждали, все тебя любят. В школе ты научишься хорошо читать, грамотно писать, любить и понимать природу, уважительно относиться к людям, а главное, ты научишься труд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11 долгих лет школа будет твоим вторым домом. Полюби школу, своих товари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учись   быть     терпеливым,       добрым, внимательным   и   трудолюбивым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желаю тебе успехов  в  учёбе.  Надеюсь,  что  ты   будешь послушным   и   стар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тья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611640" y="134064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 - уче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бъект 2"/>
          <p:cNvSpPr/>
          <p:nvPr/>
        </p:nvSpPr>
        <p:spPr>
          <a:xfrm>
            <a:off x="539640" y="227700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Школьные</a:t>
            </a:r>
            <a:r>
              <a:rPr b="1" lang="ru-RU" sz="3200" spc="-1" strike="noStrike">
                <a:solidFill>
                  <a:schemeClr val="accent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http://www.megakot.ru/pictures/ranets_shkolnyy_pirat_djek_38_sm_00043634_large.jpg"/>
          <p:cNvPicPr/>
          <p:nvPr/>
        </p:nvPicPr>
        <p:blipFill>
          <a:blip r:embed="rId1"/>
          <a:stretch/>
        </p:blipFill>
        <p:spPr>
          <a:xfrm>
            <a:off x="611640" y="2925000"/>
            <a:ext cx="1665720" cy="1665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http://im6-tub-ru.yandex.net/i?id=140797843-69-72&amp;n=21"/>
          <p:cNvPicPr/>
          <p:nvPr/>
        </p:nvPicPr>
        <p:blipFill>
          <a:blip r:embed="rId2"/>
          <a:stretch/>
        </p:blipFill>
        <p:spPr>
          <a:xfrm>
            <a:off x="3204000" y="4797000"/>
            <a:ext cx="1790280" cy="14284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http://im2-tub-ru.yandex.net/i?id=207093865-13-72&amp;n=21"/>
          <p:cNvPicPr/>
          <p:nvPr/>
        </p:nvPicPr>
        <p:blipFill>
          <a:blip r:embed="rId3"/>
          <a:stretch/>
        </p:blipFill>
        <p:spPr>
          <a:xfrm>
            <a:off x="2915640" y="3069000"/>
            <a:ext cx="1190160" cy="14284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http://im2-tub-ru.yandex.net/i?id=39701597-50-72&amp;n=21"/>
          <p:cNvPicPr/>
          <p:nvPr/>
        </p:nvPicPr>
        <p:blipFill>
          <a:blip r:embed="rId4"/>
          <a:stretch/>
        </p:blipFill>
        <p:spPr>
          <a:xfrm>
            <a:off x="4788000" y="3141000"/>
            <a:ext cx="1771200" cy="1428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http://im4-tub-ru.yandex.net/i?id=251902151-61-72&amp;n=21"/>
          <p:cNvPicPr/>
          <p:nvPr/>
        </p:nvPicPr>
        <p:blipFill>
          <a:blip r:embed="rId5"/>
          <a:stretch/>
        </p:blipFill>
        <p:spPr>
          <a:xfrm>
            <a:off x="539640" y="494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http://im2-tub-ru.yandex.net/i?id=98565432-66-72&amp;n=21"/>
          <p:cNvPicPr/>
          <p:nvPr/>
        </p:nvPicPr>
        <p:blipFill>
          <a:blip r:embed="rId6"/>
          <a:stretch/>
        </p:blipFill>
        <p:spPr>
          <a:xfrm>
            <a:off x="7380360" y="1917000"/>
            <a:ext cx="818640" cy="14284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" descr="http://im8-tub-ru.yandex.net/i?id=80422986-24-72&amp;n=21"/>
          <p:cNvPicPr/>
          <p:nvPr/>
        </p:nvPicPr>
        <p:blipFill>
          <a:blip r:embed="rId7"/>
          <a:stretch/>
        </p:blipFill>
        <p:spPr>
          <a:xfrm>
            <a:off x="7236360" y="35010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http://forum.gorod.dp.ua/attachment.php?attachmentid=750179&amp;d=1330790209"/>
          <p:cNvPicPr/>
          <p:nvPr/>
        </p:nvPicPr>
        <p:blipFill>
          <a:blip r:embed="rId8"/>
          <a:stretch/>
        </p:blipFill>
        <p:spPr>
          <a:xfrm>
            <a:off x="5580000" y="4797000"/>
            <a:ext cx="1837080" cy="14068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0" dur="1" fill="hold"/>
                                        <p:tgtEl>
                                          <p:spTgt spid="55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Заголовок 1"/>
          <p:cNvSpPr/>
          <p:nvPr/>
        </p:nvSpPr>
        <p:spPr>
          <a:xfrm>
            <a:off x="0" y="1340640"/>
            <a:ext cx="8964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равила поведения в шк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Объект 2"/>
          <p:cNvSpPr/>
          <p:nvPr/>
        </p:nvSpPr>
        <p:spPr>
          <a:xfrm>
            <a:off x="467640" y="233208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читель спросит – надо вс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огда он сесть позволит – сяд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ветить хочешь – не шу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 только руку под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ри 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2 нельзя  и  1 обяза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Заголовок 1"/>
          <p:cNvSpPr/>
          <p:nvPr/>
        </p:nvSpPr>
        <p:spPr>
          <a:xfrm>
            <a:off x="251640" y="274680"/>
            <a:ext cx="31680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играем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бъект 2"/>
          <p:cNvSpPr/>
          <p:nvPr/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арта, стол, лопата, руки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каждом слове слышим зву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http://www.axed.ru/main.php?g2_view=core.DownloadItem&amp;g2_itemId=98227&amp;g2_serialNumber=1"/>
          <p:cNvPicPr/>
          <p:nvPr/>
        </p:nvPicPr>
        <p:blipFill>
          <a:blip r:embed="rId1"/>
          <a:stretch/>
        </p:blipFill>
        <p:spPr>
          <a:xfrm rot="17321400">
            <a:off x="69840" y="4137840"/>
            <a:ext cx="2465280" cy="184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http://im2-tub-ru.yandex.net/i?id=138388566-66-72&amp;n=21"/>
          <p:cNvPicPr/>
          <p:nvPr/>
        </p:nvPicPr>
        <p:blipFill>
          <a:blip r:embed="rId2"/>
          <a:stretch/>
        </p:blipFill>
        <p:spPr>
          <a:xfrm rot="20743200">
            <a:off x="3106080" y="3112920"/>
            <a:ext cx="2385360" cy="1596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2" descr="http://im5-tub-ru.yandex.net/i?id=145224938-28-72&amp;n=21"/>
          <p:cNvPicPr/>
          <p:nvPr/>
        </p:nvPicPr>
        <p:blipFill>
          <a:blip r:embed="rId3"/>
          <a:stretch/>
        </p:blipFill>
        <p:spPr>
          <a:xfrm>
            <a:off x="6012000" y="306900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6" descr="http://img7.imageshost.ru/imgs/090724/6755c6bcc3/a580b.jpg"/>
          <p:cNvPicPr/>
          <p:nvPr/>
        </p:nvPicPr>
        <p:blipFill>
          <a:blip r:embed="rId4"/>
          <a:stretch/>
        </p:blipFill>
        <p:spPr>
          <a:xfrm>
            <a:off x="2988000" y="5013000"/>
            <a:ext cx="2520000" cy="129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лова  рассыпались: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ал  -  пе,     чка  -  ру,     та  -  пар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ик  -  у  -  че,     ка  -  пя  -  тёр,     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а  -  друж,    ме  -  на  -  ре  -  пе,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ы  -  лод  -  м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2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6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5_Оформление по умолчанию">
  <a:themeElements>
    <a:clrScheme name="1_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  <Words>634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4:22:56Z</dcterms:created>
  <dc:creator>ТАТЬЯНА</dc:creator>
  <dc:description/>
  <dc:language>en-US</dc:language>
  <cp:lastModifiedBy>ТАТЬЯНА</cp:lastModifiedBy>
  <dcterms:modified xsi:type="dcterms:W3CDTF">2013-09-01T18:52:48Z</dcterms:modified>
  <cp:revision>5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