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wmf" ContentType="image/x-wmf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C18F-8CDE-438A-A5AA-469B5964A2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94CE-4E80-4592-ABFC-F389228615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EF1-AE74-4D18-B8CF-B9407304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53B-5F54-4A45-99CE-734AD13E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B5C-1DE4-4490-B7CE-57729963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149-A7E7-4873-BF15-9BE6AC81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9266-385F-4202-8932-99599448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1B6D-F176-4B48-ACE3-876D1D4B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35E7-EFD3-4368-A305-882BEE07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0B68-7568-45C3-B5A8-CBC6904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FCAA-8E19-4EB9-8B01-7CB33F25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A323-9563-4E09-9FCD-8109AE5F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5773-D433-45FC-BA03-4E531BB3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1E8-C9C5-4319-B4D1-B88183AE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02F3-58E4-4F31-A291-3F4867A1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DB0D-EC53-4415-8E48-8069785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B15-B811-4E2B-9FF5-D9105307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FE9E-9BD8-43A4-A6F7-826C2A2D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1221-D1C1-4D38-8DA2-A23CFFEE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A13E-94A2-497E-A8B0-076EF7E0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C3AA-3263-4556-93D3-392108F7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BCA61-8EE7-4B0C-ADD5-8D0B8EB2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E15A-00B8-44B8-B87B-F8B1A439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41C8-F332-4915-945A-557D912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08E-7020-4BAB-AD55-7883E2FA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010D-53E8-4F92-B9EF-3053F2C5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7154-29F4-4102-A3F3-630CFD8F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DDAF-1EF8-4513-AAF9-0ABE524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5A301-5766-4B5B-8A50-6C40DE7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2B23-B881-405F-9051-893BA987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4464-D006-4D66-8F02-47661162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F5C3-E87D-4E1A-ADCC-A55FD35E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916A2-A6DC-480A-A445-752936AF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042D2-D3E9-46A4-BA93-792AFDAB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4821-998B-45EF-89FC-FCED3C1F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27E-A9E4-43BC-B6CF-920FFAFA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FA24E-D99B-4901-9F84-7C02E690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311C-52AE-4B1E-B77F-34EC95F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FB22-F589-4BF5-8F47-99CC109C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545A-66FC-4320-A223-613B310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BAE8E-ED5E-4870-9625-C70BA63B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CBA7-58CD-4020-8208-D9B2A013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ADBD-CC5C-4978-848C-A81F3F17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0730-D080-49DE-BACE-AE2FFABC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B180-DEB1-4288-907A-6BF57F3D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A706-37D2-44F3-8924-4F5A7F18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501-8ACB-4612-B180-01A3B70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CD4F-B151-4FF2-83DA-8687C218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47C0C-45D2-4CBF-B076-FFC3975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F8A6-8AEC-485F-8C9F-0011A843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7851-BF25-40B8-8882-AB286F89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1676-3EE0-48B8-B645-5784F1D5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6DFC6-B7F3-4506-BD18-93CF6FD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ACEEA-1C03-4ADA-BD5A-3043B61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F9237-8CC3-4B3C-9FF4-393BE17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0175E-DBBA-422B-9FD7-97DE41BD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B01B-437F-4558-A235-3050059B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922-1B55-4E4C-A668-6B9F7232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B9ECC-F068-401B-9BDA-0FAAAC2F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1149-52A2-44C8-9ACC-BB6C32D4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2C78F-25DE-4115-A0E6-351081A7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3CC19-F165-4ECE-AFF3-73460733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1051-E0B7-4A3D-8E4B-05F955A9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66AFE-2A1B-4118-A573-7D15B910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B3E09-FD7E-402F-B4AC-2665B327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E184A-0A0F-4036-8D1A-C530D807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75DB-1916-44B6-8F85-732E905C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A2050-BC1A-45A3-A98C-595FAFD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A52-01F5-4821-B2D8-B6FA684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29BAA-32CF-4F21-985E-30E8167D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4426E-6AAE-4F90-8307-C42BA170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001BD-085B-468E-B105-20DD2391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6B5F-8E4C-4D2E-84A4-17974A73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2BA32-7718-4EB6-8429-2B8ED422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41C7-1925-43E7-88C6-58872D23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BEEA-109E-45ED-85C1-084FAE88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66C0C-323D-403D-94D8-3B067D38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FA26B-E5A5-433B-AE17-4B3A8C9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5EB6-64B0-4C40-BCA4-52D8DA12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CE9-3418-433C-8B95-0669A48D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F85C4-9E13-4765-8462-1F0BE22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5623F-8C97-4988-BEEC-3D751BE5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CE11C-FEA4-4AA9-A562-38902D1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C6B33-A387-46B5-948A-96885736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D6D8-0CA4-4056-9D9C-77F13294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29FDC-4D3F-468F-B165-25A30BF8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1BDA5-2472-4A1F-8C84-C6787484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6F812-250D-4446-9E91-5ED92252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FAA00-3195-432A-A937-AC14AE4C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B4B6-412B-4683-BF2B-32B06A28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B13-75B9-4918-AC2F-D529402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A5861-9E75-47B7-9775-59B46AF5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ADB3D-2378-4B03-B1A0-831E78C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0FCB-9DEF-468E-8BC5-A64BAD45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E762F-8398-4701-A6D6-68AB33FF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9D894-9127-4E78-BEDA-D3F8F0EB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702BD-F5BB-452D-A6FC-F4F3A432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54AA7-DA6D-45DD-89AD-CBAAB98D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8A78-ECBB-44C8-B65E-73CB8EB0580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C174-2DC6-40D1-B6AA-350619111AC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5589-F881-4FAF-8CE1-959FECA3E37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32E-A238-4FEA-91CE-EC58459864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037D-1844-466F-8E7D-C097EFD4D43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ECD-3D84-45FA-AFFC-616E79CC284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3249-F8E8-4B9D-B1BA-E044E262DE7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309F-F368-4E69-8216-6B390D6D658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353880" y="420840"/>
            <a:ext cx="8217000" cy="18525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ыполнили: студентки гр.ФС-251 Воронина Ю, Одулад 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2840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ункции управления имеют специфический характер, особое содержание и могут осуществляться самостоятельно, быть как не связанными между собой, так и неразрывно связанными, более того, они как бы взаимопроникают друг в друга. Иными словами, в системе управления все управленческие функции объединены в единый целостный процес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4786200" y="4429080"/>
            <a:ext cx="2214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новные функции менеджмента характеризуются полнотой содержания, устойчивостью структуры, системностью и универсальностью использования в разных сферах деятельности. Главная их особенность в том, что каждая основная функция  менеджмента представляет собой отдельный процесс управления по выработке методов активизации и средств воздействия на персонал и его деятельность для достижения общих результатов социально-экономической системы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231840" y="133200"/>
            <a:ext cx="8504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огноз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учное предвидение возможного состояния фирмы, корпорации, экономики, общества в будущем. Прогнозы в бизнесе разрабатываются по сложным социально-экономическим проблемам, как правило, на долгосрочный или среднесрочный период. Чаще всего прогноз используется в стратегическом управлен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5286240" y="4357800"/>
            <a:ext cx="2714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Планирование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представляет собой виды деятельности по формированию средств воздействия, обеспечивающих единое направление усилий всех членов фирмы на достижение общих целей. Планирование как процесс управления включает разработку и реализацию средств воздействия: концепцию, прогноз, программу, план. Каждое из средств воздействия имеет свою специфику и условия использова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онцепц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дея, теоретические и методологические основы ее разработки, обоснование, методы и условия реализации. Любая теоретическая экономическая проблема до ее воплощения в экономике проходит стадию формирования концепц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5072040" y="3929040"/>
            <a:ext cx="3071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Программа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- законченный комплекс заданий, мероприятий, работ, объединенных общей целью, имеющий конкретный конечный результат, требующий привлечения значительных ресурсов, осуществляемый совокупностью взаимодействующих органов, организаций, лиц разных функциональных сфер экономики. Формирование целевых комплексных программ в бизнесе и их реализация играют все возрастающую роль в процессах управления в разных сферах экономики и научных исследованиях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Регулировани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 - вид деятельности по поддержанию режимов функционирования социально-экономической системы в сфере действия объективных законов, принципов и обеспечению условий проявления объективных процессов и тенденций. В процессе регулирования вырабатываются средства воздействия и механизмы реализации взаимодействия государственных и рыночных регуляторов. Данная функция адаптирует менеджмент к устанавливаемым государством параметрам, таким, как налоги, процентные ставки, тарифы, валютный курс, и обеспечивает реагирование на изменения макроэкономических параметров: уровня занятости, уровня инфляции, изменения динамики валового внутреннего продукта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572000" y="4500720"/>
            <a:ext cx="42861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рганизация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представляет собой вид деятельности людей для достижения целей. При реализации данной функции оперируют  категориями: процесс, система, коммуникации, организационно-стабилизационные методы и организационно-распорядительные средства. Организация как функция менеджмента формирует объект, совершенствует его, разрабатывает режимы функционирования, создает механизмы адаптации  в изменениях внешних и внутренних связей в системе управления. Поэтому организация управления - формирование условий устойчивости и гибкости социально-экономической системы на основе комплексного подхода с учетом системных и ситуационных фактор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1"/>
          <a:stretch/>
        </p:blipFill>
        <p:spPr>
          <a:xfrm>
            <a:off x="6072120" y="4524480"/>
            <a:ext cx="27860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Координац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как основная функция менеджмента представляет собой вид деятельности по согласованию и упорядочению объединенных общей целью и совместной деятельностью людей в производственно-хозяйственных организациях. В организациях, ориентированных на долговременное функционирование, координация рассматривается как дополнение и расширение функции организации. В процессе реализации данной функции осуществляется координация преимущественно внешних связей руководителями высших уровней отраслевого, регионального, муниципального управлен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5653080" y="4795920"/>
            <a:ext cx="29289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2876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отиваци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связана с процессом побуждения себя и других людей к деятельности через формирование мотивов поведения для достижения личных целей и целей организации. В процессе мотивации предполагается использование определенной последовательности взаимозависимых категорий: потребности людей - интересы людей - мотивы деятельности - действия людей.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5500800" y="4857840"/>
            <a:ext cx="27860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212760" y="542880"/>
            <a:ext cx="8540640" cy="292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3786120" y="3571920"/>
            <a:ext cx="44290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имулировани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основная функция, связанная с процессом активизации деятельности людей и коллективов путем использования стимулов, рычагов и способов формирования интересов и мотивов деятельности. Отсюда следует, что функция стимулирования основывается на процессах мотивации, преобразуя их в стимулы, воздействующие на поведение и деятельность преимущественно коллективов и фир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786280" y="4643280"/>
            <a:ext cx="2829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50004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Гуманизация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отражает  социальный характер менеджмента и роль человеческого фактора как субъекта и объекта менеджмента. Как уже отмечалось, человек в системе менеджмента - не только фактор производства и средство достижения цели, но и цель менеджмента. Поэтому функция гуманизации управленческих отношений и всей системы общественных отношений в условиях переориентации кадров российской экономики на рыночное мышление приобретает особое значение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орпоратизм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это метод хозяйствования, развития экономики и социальных отношений сообщества, совокупность этических и правовых норм поведения индивидуума в сообществе; это договорное сообщество, в котором главным фактором роста благосостояния человека является баланс личных и корпоративных интересов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143240" y="4357800"/>
            <a:ext cx="3500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Контроль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к основная функция менеджмента объединяет виды управленческой деятельности, связанные с формированием информации  о состоянии  и функционировании объекта управления (учет), изучением информации о процессах и результатах деятельности (анализ), работой по диагностике и оценке процессов развития и достижения целей, эффективности стратегий, успехов и просчетов в использовании средств и методов управл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Каждая функция менеджмента представляет собой сферу действия  определенного процесса управления, а система управления конкретным объектом или видом деятельности - это совокупность функций, связанных единым управленческим циклом. В этом суть процессного подхода к исследованию функций менеджмента.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Основные функции обладают самостоятельностью и следуют одна за другой пока каждая конкретная не выполнится.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5712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Lucida Sans Unicode"/>
              </a:rPr>
              <a:t>Функция </a:t>
            </a:r>
            <a:r>
              <a:rPr b="0" lang="ru-RU" sz="3100" spc="-1" strike="noStrike">
                <a:solidFill>
                  <a:srgbClr val="000000"/>
                </a:solidFill>
                <a:latin typeface="Lucida Sans Unicode"/>
              </a:rPr>
              <a:t>- широко распространенное слово, имеющее множество значений. Функция  (лат.functio) - это обязанность, круг деятельности, назначение, роль. Данное понятие используется во всех областях знаний и во всех сферах деятельности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857840" y="3857760"/>
            <a:ext cx="3357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Функции занимают особое место в системе менеджмента и играют ключевую роль в ее формировании. В данной работе рассматривается весь комплекс функций менеджмента, критерии их выделения и взаимосвязь между ними. Приводятся основы функционального моделирования систем менеджмента, содержатся рекомендации, как работать с функциями менеджмента и как при помощи функций создать эффективно работающий аппарат управлен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3"/>
          <p:cNvSpPr/>
          <p:nvPr/>
        </p:nvSpPr>
        <p:spPr>
          <a:xfrm>
            <a:off x="3357720" y="214200"/>
            <a:ext cx="2714400" cy="785880"/>
          </a:xfrm>
          <a:prstGeom prst="rect">
            <a:avLst/>
          </a:prstGeom>
          <a:solidFill>
            <a:srgbClr val="ffffff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ханизмы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7"/>
          <p:cNvCxnSpPr/>
          <p:nvPr/>
        </p:nvCxnSpPr>
        <p:spPr>
          <a:xfrm flipH="1">
            <a:off x="4787280" y="1000080"/>
            <a:ext cx="1080" cy="5421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386" name="Блок-схема: процесс 11"/>
          <p:cNvSpPr/>
          <p:nvPr/>
        </p:nvSpPr>
        <p:spPr>
          <a:xfrm>
            <a:off x="3857760" y="1571760"/>
            <a:ext cx="1857240" cy="357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Блок-схема: процесс 15"/>
          <p:cNvSpPr/>
          <p:nvPr/>
        </p:nvSpPr>
        <p:spPr>
          <a:xfrm>
            <a:off x="3571920" y="2286000"/>
            <a:ext cx="2428920" cy="300024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ог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28400" y="428400"/>
            <a:ext cx="825804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ункция менеджмента как возможная область формирования управляющего воздействия предполагает осуществление непрерывных взаимосвязанных между собой действий по выработке средств и методов воздействия и их реализации применительно к решению конкретной проблемы. Поэтому функция рассматривается как объективно необходимая область процесса управления, имеющего временную и пространственную определенность и конечную результатив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00040" y="3567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Функции управляющей системы, т.е. менеджмента как такового, определяет всего несколько видов функций. Самый принципиальный подход - подход американской школы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1.     Планировани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2.     Организация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3.     Стимулирование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4.     Контрол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ждая функция менеджмента представляет собой сферу действия определенного процесса управления, а система управления конкретным объектом или видом деятельности - это совокупность функций, связанных единым управленческим циклом. В этом суть процессного подхода к исследованию функций менеджмен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3500280" y="4071960"/>
            <a:ext cx="4214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1:52:18Z</dcterms:created>
  <dc:creator>Admin</dc:creator>
  <dc:description/>
  <dc:language>en-US</dc:language>
  <cp:lastModifiedBy>Admin</cp:lastModifiedBy>
  <dcterms:modified xsi:type="dcterms:W3CDTF">2011-11-21T19:35:06Z</dcterms:modified>
  <cp:revision>21</cp:revision>
  <dc:subject/>
  <dc:title>Функции управления</dc:title>
</cp:coreProperties>
</file>