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0.wmf" ContentType="image/x-wmf"/>
  <Override PartName="/ppt/media/image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5.wmf" ContentType="image/x-wmf"/>
  <Override PartName="/ppt/media/image12.wmf" ContentType="image/x-wmf"/>
  <Override PartName="/ppt/media/image4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.png" ContentType="image/png"/>
  <Override PartName="/ppt/media/image18.wmf" ContentType="image/x-wmf"/>
  <Override PartName="/ppt/media/image20.wmf" ContentType="image/x-wmf"/>
  <Override PartName="/ppt/media/image5.jpeg" ContentType="image/jpeg"/>
  <Override PartName="/ppt/media/image9.wmf" ContentType="image/x-wmf"/>
  <Override PartName="/ppt/media/image14.png" ContentType="image/png"/>
  <Override PartName="/ppt/media/image6.jpeg" ContentType="image/jpeg"/>
  <Override PartName="/ppt/media/image8.png" ContentType="image/png"/>
  <Override PartName="/ppt/media/image16.wmf" ContentType="image/x-wm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B6EDF-23A6-4C18-902A-301C29702E2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48EBD-EB05-442F-8511-CD768C9FCD8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5AE7-F3DC-4882-B7ED-52001F12B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C565-83C1-4BF0-B28F-FB72BCC2B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2496-AC84-4767-8939-9436C7D14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37E6-00D4-4C30-850E-F67C958FC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EE5D8-7951-42ED-B1D3-B3C019D0E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1E9C1-8FDD-4DBE-99CF-28A63E127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D6BE7-EE78-42FD-BC78-2B08B042E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178D2-DCD2-4AFC-8F23-86B9F82F5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B8C81-6EAC-4DDD-92F6-6AFCAF410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19186-4163-450B-8F26-8F1BCDB5B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F5965-7AF9-418F-BE14-ACE11C01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C3A1-14B2-4B02-ACF4-D12066D83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8C273-BB2D-48FE-9BC9-27382B203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0E0A1-E3D8-4A0E-B63F-37B5393F8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20D90-F5D3-4F76-9FB0-174B7549F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A1627-6610-4FFA-BEE2-2C221C7EC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16EAA-19C4-4AFB-A17C-C7FF802C7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B236D-F2DB-429F-9B3E-79A724E76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369F0-A596-4DFE-93EC-8EB3FAA5A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AC6BC-CAAC-40C3-8EAF-CE5E38D95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E3C6B-4E97-4308-BCBC-7611478E3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1C9EE-A07E-4945-8E32-7113BBC9B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A95D-6975-4D05-AEA8-CCDC0B6C4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1BE79-F3F6-408C-908D-03E91D9F5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4EB55-6B00-44A4-A540-E789AF7E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DF3E6-EF8A-4461-8F0E-3E99A3E00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F731F-15DB-44B0-8B69-9E02D4C33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9C2E1-0358-411E-946C-0D3C249E4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D9785-1EB8-42A9-BF29-5FCA886E8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07639-11FE-48AD-9254-65EA950B8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2CE5D-462D-410A-AC9C-1336D3529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CE725-6C08-4C9D-8685-EBBD4E5D8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B7B06-7E35-4CCA-A31E-AC4D93F00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2E21-D735-4B4C-A77D-65B13E97C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97BB1-FE25-40B5-8BF2-37FB9F7A4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CC6B0-C6F9-4CA6-B7E9-CDE0FDDAC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2BA33-89AE-4942-8D6C-0D486A105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603B5-E403-4A79-A1A3-E947697C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90B0E-FC8C-4F45-813A-33121592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5FB1D-EAC6-4052-8648-7D82B896A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4C578-C7FB-4451-A86D-4790BCF4B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B37C7-E6CC-4DB6-8D7D-890C498F1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7F24B-3636-4415-975C-41DD2FE98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3DA88B-104A-44A0-8E0E-B8AAEE3F3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5FCC-5B96-4C4B-855D-F69E58C87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C5CF8-4461-4FA0-9182-C45BB27C1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52D27A-82F9-4BA7-90C4-B301B5CD0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063F4-B22D-4DE5-B7A6-A667F34BA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B60E7E-E14C-49A5-8CB9-1E412B4A8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7E4157-2CFA-4805-94E4-1AC3C7E66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5724F9-8C55-40F9-A822-5466B4724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777EB7-D257-470A-839F-FA62B42F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DB54A1-C069-4001-9D0B-88C990948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033F0-FA8E-44C2-A15E-5D4416A2E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B5347-C921-4050-BAB7-C554C865F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C503-85B9-4A71-B739-68D9AB1AD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25DE9C-F589-4EF6-9290-F9DA02778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F48AF4-9FDC-4430-A89B-F67733FBE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4D9D01-0336-4C3C-AD66-0A5612325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FAF9BA-4D2C-42F8-A811-55640A6CF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1AD66E-6B8B-4514-B703-7C6E0F9D2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D62556-0F3B-4B6B-85C1-1B2E14958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D347F9-0E77-4E2D-B531-93AE59AA6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1BE6DF-54B0-4DC1-B754-E9F59442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3CB1DF-3D70-4671-86D7-AEEA4F1F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C05F44-A852-4B05-9591-D1EF28E7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C2BE-B1D9-4BC9-B99F-B52865A07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6103F6-439A-4404-A5B0-62D027DBF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850A5-0C76-42DC-A29E-9CE787B92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581F2D-8AA7-4642-9C88-4B3AFCC77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961FBD-2CD2-460D-900A-501362176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35F7F6-3AC4-455C-9789-BF93B43F5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5BF006-C86A-45E7-BA98-66A26F3C9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70E9F1-8912-4314-B8B8-C68A3ED4E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D7CF82-D2C8-4CBD-AA6A-FA9A5B7FF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568219-B1AC-49E5-9945-2646B810A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D33B37-5669-4A5F-8A14-E1F80F339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BF79-5227-4B4B-AF0E-E0C45A129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C5C03B-D84B-4AA7-8A88-0ECF38DC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EF5229-EB74-4597-BA9F-710EE93A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B6DC06-8014-4FAF-B6E0-93A058F43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A818BC-F051-49A4-A228-A78F9A955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7AB67D-C8A7-45B2-A3AE-1DAA33ED2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0DB8CF-8802-4841-80BD-BCDE24C25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D2FF31-FE5A-451F-A074-F74F0F81C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ADE20D-6160-4E4D-B32E-9B0B3283D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56C6CD-0BFC-4AAE-A8DF-32799D0AE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9CA1A9-A1F9-4764-A674-F6D8103F7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F706-8DD4-416E-9D88-2A4A17C1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301A21-3DC2-4F14-9117-2DC8C0562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0E8000-787D-48C4-B495-A65ED276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6ABE90-DC97-4BAA-A4AD-A3E3690EC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F9D3AC-7A4A-4390-816C-BE8EB2E1B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ECF311-3F25-47B6-91B3-3D2410374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F5B0FF-2F3F-4A73-A323-203B85F52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047E63-1ABD-4941-A34F-C1174AD71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65CAE-8F51-4BFF-8C94-494056684B21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22EC3-2128-4314-9DED-5609EF778871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AF230-3B45-4E00-BEF8-8897E4A569CE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28470-FF3D-4E37-A26D-669CCBDFE523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7D165-B96F-4149-9D51-5794726DA233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E59FE-89CC-469A-B4A1-AD862781E44D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577A0-9A51-4E4C-8C0E-2CD83D258E9E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67641-B020-4DA4-B3E3-2A64D1E3E713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Заголовок 1" descr=""/>
          <p:cNvPicPr/>
          <p:nvPr/>
        </p:nvPicPr>
        <p:blipFill>
          <a:blip r:embed="rId1"/>
          <a:stretch/>
        </p:blipFill>
        <p:spPr>
          <a:xfrm>
            <a:off x="353880" y="420840"/>
            <a:ext cx="8217000" cy="185256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Lucida Sans Unicode"/>
              </a:rPr>
              <a:t>Выполнили: студентки гр.ФС-251 Воронина Ю, Одулад Н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428400"/>
            <a:ext cx="8229600" cy="55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Функции управления имеют специфический характер, особое содержание и могут осуществляться самостоятельно, быть как не связанными между собой, так и неразрывно связанными, более того, они как бы взаимопроникают друг в друга. Иными словами, в системе управления все управленческие функции объединены в единый целостный процесс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Picture 2" descr=""/>
          <p:cNvPicPr/>
          <p:nvPr/>
        </p:nvPicPr>
        <p:blipFill>
          <a:blip r:embed="rId1"/>
          <a:stretch/>
        </p:blipFill>
        <p:spPr>
          <a:xfrm>
            <a:off x="4786200" y="4429080"/>
            <a:ext cx="221472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Основные функции менеджмента характеризуются полнотой содержания, устойчивостью структуры, системностью и универсальностью использования в разных сферах деятельности. Главная их особенность в том, что каждая основная функция  менеджмента представляет собой отдельный процесс управления по выработке методов активизации и средств воздействия на персонал и его деятельность для достижения общих результатов социально-экономической системы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Заголовок 2" descr=""/>
          <p:cNvPicPr/>
          <p:nvPr/>
        </p:nvPicPr>
        <p:blipFill>
          <a:blip r:embed="rId1"/>
          <a:stretch/>
        </p:blipFill>
        <p:spPr>
          <a:xfrm>
            <a:off x="231840" y="133200"/>
            <a:ext cx="8504280" cy="12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28760" y="1000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Прогноз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научное предвидение возможного состояния фирмы, корпорации, экономики, общества в будущем. Прогнозы в бизнесе разрабатываются по сложным социально-экономическим проблемам, как правило, на долгосрочный или среднесрочный период. Чаще всего прогноз используется в стратегическом управлени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Picture 2" descr=""/>
          <p:cNvPicPr/>
          <p:nvPr/>
        </p:nvPicPr>
        <p:blipFill>
          <a:blip r:embed="rId1"/>
          <a:stretch/>
        </p:blipFill>
        <p:spPr>
          <a:xfrm>
            <a:off x="5286240" y="4357800"/>
            <a:ext cx="271476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28760" y="714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1" lang="ru-RU" sz="2500" spc="-1" strike="noStrike">
                <a:solidFill>
                  <a:srgbClr val="000000"/>
                </a:solidFill>
                <a:latin typeface="Lucida Sans Unicode"/>
              </a:rPr>
              <a:t>Планирование  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как основная функция менеджмента представляет собой виды деятельности по формированию средств воздействия, обеспечивающих единое направление усилий всех членов фирмы на достижение общих целей. Планирование как процесс управления включает разработку и реализацию средств воздействия: концепцию, прогноз, программу, план. Каждое из средств воздействия имеет свою специфику и условия использования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500040" y="428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Концепция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идея, теоретические и методологические основы ее разработки, обоснование, методы и условия реализации. Любая теоретическая экономическая проблема до ее воплощения в экономике проходит стадию формирования концепци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1" name="Picture 2" descr=""/>
          <p:cNvPicPr/>
          <p:nvPr/>
        </p:nvPicPr>
        <p:blipFill>
          <a:blip r:embed="rId1"/>
          <a:stretch/>
        </p:blipFill>
        <p:spPr>
          <a:xfrm>
            <a:off x="5072040" y="3929040"/>
            <a:ext cx="307188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28760" y="571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1" lang="ru-RU" sz="2500" spc="-1" strike="noStrike">
                <a:solidFill>
                  <a:srgbClr val="000000"/>
                </a:solidFill>
                <a:latin typeface="Lucida Sans Unicode"/>
              </a:rPr>
              <a:t>Программа 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- законченный комплекс заданий, мероприятий, работ, объединенных общей целью, имеющий конкретный конечный результат, требующий привлечения значительных ресурсов, осуществляемый совокупностью взаимодействующих органов, организаций, лиц разных функциональных сфер экономики. Формирование целевых комплексных программ в бизнесе и их реализация играют все возрастающую роль в процессах управления в разных сферах экономики и научных исследованиях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28760" y="428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1" lang="ru-RU" sz="2100" spc="-1" strike="noStrike">
                <a:solidFill>
                  <a:srgbClr val="000000"/>
                </a:solidFill>
                <a:latin typeface="Lucida Sans Unicode"/>
              </a:rPr>
              <a:t>Регулирование</a:t>
            </a: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  - вид деятельности по поддержанию режимов функционирования социально-экономической системы в сфере действия объективных законов, принципов и обеспечению условий проявления объективных процессов и тенденций. В процессе регулирования вырабатываются средства воздействия и механизмы реализации взаимодействия государственных и рыночных регуляторов. Данная функция адаптирует менеджмент к устанавливаемым государством параметрам, таким, как налоги, процентные ставки, тарифы, валютный курс, и обеспечивает реагирование на изменения макроэкономических параметров: уровня занятости, уровня инфляции, изменения динамики валового внутреннего продукта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Picture 2" descr=""/>
          <p:cNvPicPr/>
          <p:nvPr/>
        </p:nvPicPr>
        <p:blipFill>
          <a:blip r:embed="rId1"/>
          <a:stretch/>
        </p:blipFill>
        <p:spPr>
          <a:xfrm>
            <a:off x="4572000" y="4500720"/>
            <a:ext cx="4286160" cy="19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28760" y="642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1" lang="ru-RU" sz="2100" spc="-1" strike="noStrike">
                <a:solidFill>
                  <a:srgbClr val="000000"/>
                </a:solidFill>
                <a:latin typeface="Lucida Sans Unicode"/>
              </a:rPr>
              <a:t>Организация </a:t>
            </a: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как основная функция менеджмента представляет собой вид деятельности людей для достижения целей. При реализации данной функции оперируют  категориями: процесс, система, коммуникации, организационно-стабилизационные методы и организационно-распорядительные средства. Организация как функция менеджмента формирует объект, совершенствует его, разрабатывает режимы функционирования, создает механизмы адаптации  в изменениях внешних и внутренних связей в системе управления. Поэтому организация управления - формирование условий устойчивости и гибкости социально-экономической системы на основе комплексного подхода с учетом системных и ситуационных факторов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Picture 5" descr=""/>
          <p:cNvPicPr/>
          <p:nvPr/>
        </p:nvPicPr>
        <p:blipFill>
          <a:blip r:embed="rId1"/>
          <a:stretch/>
        </p:blipFill>
        <p:spPr>
          <a:xfrm>
            <a:off x="6072120" y="4524480"/>
            <a:ext cx="278604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500040" y="642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1" lang="ru-RU" sz="2300" spc="-1" strike="noStrike">
                <a:solidFill>
                  <a:srgbClr val="000000"/>
                </a:solidFill>
                <a:latin typeface="Lucida Sans Unicode"/>
              </a:rPr>
              <a:t>Координация</a:t>
            </a: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   как основная функция менеджмента представляет собой вид деятельности по согласованию и упорядочению объединенных общей целью и совместной деятельностью людей в производственно-хозяйственных организациях. В организациях, ориентированных на долговременное функционирование, координация рассматривается как дополнение и расширение функции организации. В процессе реализации данной функции осуществляется координация преимущественно внешних связей руководителями высших уровней отраслевого, регионального, муниципального управления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8" name="Picture 2" descr=""/>
          <p:cNvPicPr/>
          <p:nvPr/>
        </p:nvPicPr>
        <p:blipFill>
          <a:blip r:embed="rId1"/>
          <a:stretch/>
        </p:blipFill>
        <p:spPr>
          <a:xfrm>
            <a:off x="5653080" y="4795920"/>
            <a:ext cx="2928960" cy="17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428760" y="500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Мотивация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как основная функция менеджмента связана с процессом побуждения себя и других людей к деятельности через формирование мотивов поведения для достижения личных целей и целей организации. В процессе мотивации предполагается использование определенной последовательности взаимозависимых категорий: потребности людей - интересы людей - мотивы деятельности - действия людей.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0" name="Picture 2" descr=""/>
          <p:cNvPicPr/>
          <p:nvPr/>
        </p:nvPicPr>
        <p:blipFill>
          <a:blip r:embed="rId1"/>
          <a:stretch/>
        </p:blipFill>
        <p:spPr>
          <a:xfrm>
            <a:off x="5500800" y="4857840"/>
            <a:ext cx="278604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Заголовок 1" descr=""/>
          <p:cNvPicPr/>
          <p:nvPr/>
        </p:nvPicPr>
        <p:blipFill>
          <a:blip r:embed="rId1"/>
          <a:stretch/>
        </p:blipFill>
        <p:spPr>
          <a:xfrm>
            <a:off x="212760" y="542880"/>
            <a:ext cx="8540640" cy="29257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2" descr=""/>
          <p:cNvPicPr/>
          <p:nvPr/>
        </p:nvPicPr>
        <p:blipFill>
          <a:blip r:embed="rId2"/>
          <a:stretch/>
        </p:blipFill>
        <p:spPr>
          <a:xfrm>
            <a:off x="3786120" y="3571920"/>
            <a:ext cx="4429080" cy="30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500040" y="571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Стимулирование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- основная функция, связанная с процессом активизации деятельности людей и коллективов путем использования стимулов, рычагов и способов формирования интересов и мотивов деятельности. Отсюда следует, что функция стимулирования основывается на процессах мотивации, преобразуя их в стимулы, воздействующие на поведение и деятельность преимущественно коллективов и фирм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Picture 2" descr=""/>
          <p:cNvPicPr/>
          <p:nvPr/>
        </p:nvPicPr>
        <p:blipFill>
          <a:blip r:embed="rId1"/>
          <a:stretch/>
        </p:blipFill>
        <p:spPr>
          <a:xfrm>
            <a:off x="5786280" y="4643280"/>
            <a:ext cx="282924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500040" y="571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1" lang="ru-RU" sz="2500" spc="-1" strike="noStrike">
                <a:solidFill>
                  <a:srgbClr val="000000"/>
                </a:solidFill>
                <a:latin typeface="Lucida Sans Unicode"/>
              </a:rPr>
              <a:t>Гуманизация 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как основная функция менеджмента отражает  социальный характер менеджмента и роль человеческого фактора как субъекта и объекта менеджмента. Как уже отмечалось, человек в системе менеджмента - не только фактор производства и средство достижения цели, но и цель менеджмента. Поэтому функция гуманизации управленческих отношений и всей системы общественных отношений в условиях переориентации кадров российской экономики на рыночное мышление приобретает особое значение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500040" y="714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Корпоратизм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– это метод хозяйствования, развития экономики и социальных отношений сообщества, совокупность этических и правовых норм поведения индивидуума в сообществе; это договорное сообщество, в котором главным фактором роста благосостояния человека является баланс личных и корпоративных интересов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5" name="Picture 5" descr=""/>
          <p:cNvPicPr/>
          <p:nvPr/>
        </p:nvPicPr>
        <p:blipFill>
          <a:blip r:embed="rId1"/>
          <a:stretch/>
        </p:blipFill>
        <p:spPr>
          <a:xfrm>
            <a:off x="4143240" y="4357800"/>
            <a:ext cx="35006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500040" y="500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1" lang="ru-RU" sz="2500" spc="-1" strike="noStrike">
                <a:solidFill>
                  <a:srgbClr val="000000"/>
                </a:solidFill>
                <a:latin typeface="Lucida Sans Unicode"/>
              </a:rPr>
              <a:t>Контроль 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как основная функция менеджмента объединяет виды управленческой деятельности, связанные с формированием информации  о состоянии  и функционировании объекта управления (учет), изучением информации о процессах и результатах деятельности (анализ), работой по диагностике и оценке процессов развития и достижения целей, эффективности стратегий, успехов и просчетов в использовании средств и методов управления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428760" y="785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Каждая функция менеджмента представляет собой сферу действия  определенного процесса управления, а система управления конкретным объектом или видом деятельности - это совокупность функций, связанных единым управленческим циклом. В этом суть процессного подхода к исследованию функций менеджмента. 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Основные функции обладают самостоятельностью и следуют одна за другой пока каждая конкретная не выполнится. 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357120" y="571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r>
              <a:rPr b="0" lang="ru-RU" sz="31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1" lang="ru-RU" sz="3100" spc="-1" strike="noStrike">
                <a:solidFill>
                  <a:srgbClr val="000000"/>
                </a:solidFill>
                <a:latin typeface="Lucida Sans Unicode"/>
              </a:rPr>
              <a:t>Функция </a:t>
            </a:r>
            <a:r>
              <a:rPr b="0" lang="ru-RU" sz="3100" spc="-1" strike="noStrike">
                <a:solidFill>
                  <a:srgbClr val="000000"/>
                </a:solidFill>
                <a:latin typeface="Lucida Sans Unicode"/>
              </a:rPr>
              <a:t>- широко распространенное слово, имеющее множество значений. Функция  (лат.functio) - это обязанность, круг деятельности, назначение, роль. Данное понятие используется во всех областях знаний и во всех сферах деятельности.</a:t>
            </a: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Picture 2" descr=""/>
          <p:cNvPicPr/>
          <p:nvPr/>
        </p:nvPicPr>
        <p:blipFill>
          <a:blip r:embed="rId1"/>
          <a:stretch/>
        </p:blipFill>
        <p:spPr>
          <a:xfrm>
            <a:off x="4857840" y="3857760"/>
            <a:ext cx="335736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28760" y="642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Функции занимают особое место в системе менеджмента и играют ключевую роль в ее формировании. В данной работе рассматривается весь комплекс функций менеджмента, критерии их выделения и взаимосвязь между ними. Приводятся основы функционального моделирования систем менеджмента, содержатся рекомендации, как работать с функциями менеджмента и как при помощи функций создать эффективно работающий аппарат управления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Прямоугольник 3"/>
          <p:cNvSpPr/>
          <p:nvPr/>
        </p:nvSpPr>
        <p:spPr>
          <a:xfrm>
            <a:off x="3357720" y="214200"/>
            <a:ext cx="2714400" cy="785880"/>
          </a:xfrm>
          <a:prstGeom prst="rect">
            <a:avLst/>
          </a:prstGeom>
          <a:solidFill>
            <a:srgbClr val="ffffff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Механизмы упр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5" name="Прямая со стрелкой 7"/>
          <p:cNvCxnSpPr/>
          <p:nvPr/>
        </p:nvCxnSpPr>
        <p:spPr>
          <a:xfrm flipH="1">
            <a:off x="4787280" y="1000080"/>
            <a:ext cx="1080" cy="542160"/>
          </a:xfrm>
          <a:prstGeom prst="straightConnector1">
            <a:avLst/>
          </a:prstGeom>
          <a:ln w="38160">
            <a:solidFill>
              <a:srgbClr val="0d0d0d"/>
            </a:solidFill>
            <a:miter/>
            <a:tailEnd len="med" type="arrow" w="med"/>
          </a:ln>
        </p:spPr>
      </p:cxnSp>
      <p:sp>
        <p:nvSpPr>
          <p:cNvPr id="386" name="Блок-схема: процесс 11"/>
          <p:cNvSpPr/>
          <p:nvPr/>
        </p:nvSpPr>
        <p:spPr>
          <a:xfrm>
            <a:off x="3857760" y="1571760"/>
            <a:ext cx="1857240" cy="357120"/>
          </a:xfrm>
          <a:prstGeom prst="flowChartProcess">
            <a:avLst/>
          </a:prstGeom>
          <a:solidFill>
            <a:srgbClr val="ffffff"/>
          </a:solidFill>
          <a:ln w="126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фун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Блок-схема: процесс 15"/>
          <p:cNvSpPr/>
          <p:nvPr/>
        </p:nvSpPr>
        <p:spPr>
          <a:xfrm>
            <a:off x="3571920" y="2286000"/>
            <a:ext cx="2428920" cy="3000240"/>
          </a:xfrm>
          <a:prstGeom prst="flowChartProcess">
            <a:avLst/>
          </a:prstGeom>
          <a:solidFill>
            <a:srgbClr val="ffffff"/>
          </a:solidFill>
          <a:ln w="126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Прогно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План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Проект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Орган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Регул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Учё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Контр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Анал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28400" y="428400"/>
            <a:ext cx="8258040" cy="55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Функция менеджмента как возможная область формирования управляющего воздействия предполагает осуществление непрерывных взаимосвязанных между собой действий по выработке средств и методов воздействия и их реализации применительно к решению конкретной проблемы. Поэтому функция рассматривается как объективно необходимая область процесса управления, имеющего временную и пространственную определенность и конечную результативность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500040" y="35676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Функции управляющей системы, т.е. менеджмента как такового, определяет всего несколько видов функций. Самый принципиальный подход - подход американской школы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1.     Планирование;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2.     Организация;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3.     Стимулирование;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4.     Контроль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500040" y="642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Каждая функция менеджмента представляет собой сферу действия определенного процесса управления, а система управления конкретным объектом или видом деятельности - это совокупность функций, связанных единым управленческим циклом. В этом суть процессного подхода к исследованию функций менеджмент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Picture 2" descr=""/>
          <p:cNvPicPr/>
          <p:nvPr/>
        </p:nvPicPr>
        <p:blipFill>
          <a:blip r:embed="rId1"/>
          <a:stretch/>
        </p:blipFill>
        <p:spPr>
          <a:xfrm>
            <a:off x="3500280" y="4071960"/>
            <a:ext cx="42148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6T11:52:18Z</dcterms:created>
  <dc:creator>Admin</dc:creator>
  <dc:description/>
  <dc:language>en-US</dc:language>
  <cp:lastModifiedBy>Admin</cp:lastModifiedBy>
  <dcterms:modified xsi:type="dcterms:W3CDTF">2011-11-21T19:35:06Z</dcterms:modified>
  <cp:revision>21</cp:revision>
  <dc:subject/>
  <dc:title>Функции управления</dc:title>
</cp:coreProperties>
</file>