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807D-89C6-4F1F-968D-EF628D2E2F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5803-E1EC-49E0-8D90-328626EFC5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6A8-FE69-438A-84A5-DCE8E07A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9CE-C8F0-46B1-A60C-DB264731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8D6-2AE5-47E0-8FF1-7B4884C1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BA3-FF97-49FD-9A02-20CDADCF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8A2D-1EEB-4893-813F-188C16C8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AC72-40F9-4E1E-9E53-31AE8186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04FA-9505-426E-9CBA-4DBC38A2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8542-B125-4C73-9C8C-81DD93D9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A759-7A1A-403F-9F16-0E11170C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D136-9B52-4C28-90A9-3AEF9652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E0AD-6D05-4EF8-B4B5-E5B953F2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104-3DCB-4469-A0DA-8B8635EF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AFAA-BF3B-4AFF-974B-7A7A7DA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31DD-F877-43A5-8992-23ECAA2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B6B3-8DE5-48A9-854A-3A77B7BB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57EF-BC83-4DB5-8BA8-E900FAFF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984D-8F60-40FD-9345-E2A23178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FBF03-A4AD-46C0-9239-0E11A50A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78AA-6920-4322-8570-4F6F35FD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379A-4FC2-4A83-BC6B-F592E140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6349-A9A1-4994-89E5-69CE669D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A748-0858-49BB-9854-05CDC708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507-63AC-4E58-947C-BB0076DC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9D83-A018-49FD-973F-380A3D70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AE13-D5F0-4BAA-91CB-A8A8ACF3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EE96-F7EF-4E21-919C-E3C9302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02C5-2189-4A01-A4A4-1B32B7FE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869B-B7F9-4E70-9B9F-E062B76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5022-F585-45D9-BF19-4AF36C69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BC58-F5E6-49CC-AC46-12D3F53B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2FC9-93DC-4615-B820-D598414D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421FF-AA10-4CB7-8FBC-37F1623D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76B5B-92A4-4667-8C79-AB487E07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B37-5C2B-44C8-B172-BBA93F9E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5267-12F1-4554-8887-3F205F6B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BDC9-F7E9-4AE7-B778-F20D28FF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663F-FA33-47EA-A118-4682778D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F59F-E99C-4116-B549-2834B9D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6A9D-C898-47CC-8F39-B16F1643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BE01-B100-4492-B0BE-9EA28015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D2D4-1906-4B4C-AEAE-8787E361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8FAF-28C3-4DCD-80A4-124FC216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7B77D-F1BA-44EE-A501-42A0E9C0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6ABF-0FEB-4CB9-A71F-BBBEA354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DB6-6E85-4166-9E1E-A1FC73C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D0FA9-CC99-4DD1-B168-525B665C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3D15-6D48-42B5-8813-02DBF70C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D4EAB-86F0-4D09-B7D5-2723C144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F9A62-532B-4D83-A4C0-990A178D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B2AC-8589-4726-ACA7-037F946A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4E274-2934-4A20-A5C7-47D9444C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50CAA-CD43-4FE4-945E-1BFE29D8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899B-2DF8-49B3-8B4C-FBE8DA63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D810-2FAE-48D7-9858-C466E7A7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54133-14B0-417E-A2BC-9D30D21E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B25-9623-4254-AB65-09D64BDA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FEF79-6152-4190-9F43-BC3921D7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7F246-7D50-4FF2-965A-E142CC7E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D9271-7F3F-4C8E-99AF-5AFABDF8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C111E-517B-44F6-9B73-89785681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B9C75-1BF1-4BBB-90E7-ABF07222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A6210-F2D0-4561-B7BD-8A0A4FFF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E5995-C10B-47A4-B0A9-2B38BFF9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04B29-DC5E-4770-9092-B5A862B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40EF4-17B0-4509-AA66-A091912D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25CBA-8835-4CC2-90F0-037EE2E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601-E6B5-4EFD-BB9A-F86844D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DB65B-2B4A-4038-85A1-132E21CA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8EF08-A75C-408F-9919-EB30DCC1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10247-8930-4D0B-9B74-FDAACB6D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648D2-0A83-434B-B4D3-C47F1A26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9C903-DA5F-40F4-A7E5-CB450422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B13AD-07DE-46CF-AF7E-58E002BA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A9295-E05E-4A20-80D9-96835232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6F13A-811E-4D64-BE17-E557BD34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A4F8B-E584-494C-9B50-0323FFCF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2826-1C83-4D41-94CE-ABF6B9C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F7D-3CEC-4757-89F7-9A358A5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5FAAA-106D-48EC-A8F0-43ACF72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0BAFC-F827-43A9-BC17-BDDB971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E4F44-155B-4C1F-B4E3-22FD8598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D5CC8-4157-410A-A7FB-15E3409B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F40C7-EAAC-4E9C-A259-61741819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F5486-97F9-45B9-BDDE-313292C3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B82C7-7DA0-46D2-81D3-63172EF2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D5664-E0F3-4D39-A5FA-8B55B8D1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EE067-6DF0-4A2A-81BB-834C1045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4FDC3-1198-4E01-8A79-C7DC3ED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EF8-07F5-41D4-9173-9CA55F1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CFB05-5EFF-4FE3-8EFC-E45FE5F0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7608-AC46-4809-B3E9-6FB5920A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F9CBA-3CD4-4DBF-B3AA-58C8F7D6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6F453-1856-4D8F-9C4E-60338B9F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34504-E66E-4AE7-8100-8E3142B1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4ACD-B8E4-4B8B-90DC-6823D865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3156-D3B4-46D4-81D9-3FC75852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4529-AC62-4168-9FCC-7D39F1242F8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0D55-01CF-483D-93A0-DE29A35B908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A737-04AA-439A-8154-FB6B55E57CA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48E2-4628-4FA0-A001-10FA098B610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1F53-184E-4439-BCBE-2C2205064F4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3562-D2B2-416F-8F6C-991E4E00825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332E-B5FA-4F44-91AF-FEEE9C03160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E89D-2054-4F54-B87C-5B6FF9D1720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353880" y="420840"/>
            <a:ext cx="8217000" cy="1852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ыполнили: студентки гр.ФС-251 Воронина Ю, Одулад 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28400"/>
            <a:ext cx="822960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ункции управления имеют специфический характер, особое содержание и могут осуществляться самостоятельно, быть как не связанными между собой, так и неразрывно связанными, более того, они как бы взаимопроникают друг в друга. Иными словами, в системе управления все управленческие функции объединены в единый целостный процес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4786200" y="4429080"/>
            <a:ext cx="2214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сновные функции менеджмента характеризуются полнотой содержания, устойчивостью структуры, системностью и универсальностью использования в разных сферах деятельности. Главная их особенность в том, что каждая основная функция  менеджмента представляет собой отдельный процесс управления по выработке методов активизации и средств воздействия на персонал и его деятельность для достижения общих результатов социально-экономической систем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504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гноз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учное предвидение возможного состояния фирмы, корпорации, экономики, общества в будущем. Прогнозы в бизнесе разрабатываются по сложным социально-экономическим проблемам, как правило, на долгосрочный или среднесрочный период. Чаще всего прогноз используется в стратегическом управлен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5286240" y="4357800"/>
            <a:ext cx="2714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Планирование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представляет собой виды деятельности по формированию средств воздействия, обеспечивающих единое направление усилий всех членов фирмы на достижение общих целей. Планирование как процесс управления включает разработку и реализацию средств воздействия: концепцию, прогноз, программу, план. Каждое из средств воздействия имеет свою специфику и условия использова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онцепц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дея, теоретические и методологические основы ее разработки, обоснование, методы и условия реализации. Любая теоретическая экономическая проблема до ее воплощения в экономике проходит стадию формирования концеп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072040" y="392904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Программа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законченный комплекс заданий, мероприятий, работ, объединенных общей целью, имеющий конкретный конечный результат, требующий привлечения значительных ресурсов, осуществляемый совокупностью взаимодействующих органов, организаций, лиц разных функциональных сфер экономики. Формирование целевых комплексных программ в бизнесе и их реализация играют все возрастающую роль в процессах управления в разных сферах экономики и научных исследованиях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Регулирование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- вид деятельности по поддержанию режимов функционирования социально-экономической системы в сфере действия объективных законов, принципов и обеспечению условий проявления объективных процессов и тенденций. В процессе регулирования вырабатываются средства воздействия и механизмы реализации взаимодействия государственных и рыночных регуляторов. Данная функция адаптирует менеджмент к устанавливаемым государством параметрам, таким, как налоги, процентные ставки, тарифы, валютный курс, и обеспечивает реагирование на изменения макроэкономических параметров: уровня занятости, уровня инфляции, изменения динамики валового внутреннего продукта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4572000" y="4500720"/>
            <a:ext cx="42861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рганизация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представляет собой вид деятельности людей для достижения целей. При реализации данной функции оперируют  категориями: процесс, система, коммуникации, организационно-стабилизационные методы и организационно-распорядительные средства. Организация как функция менеджмента формирует объект, совершенствует его, разрабатывает режимы функционирования, создает механизмы адаптации  в изменениях внешних и внутренних связей в системе управления. Поэтому организация управления - формирование условий устойчивости и гибкости социально-экономической системы на основе комплексного подхода с учетом системных и ситуационных факторов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1"/>
          <a:stretch/>
        </p:blipFill>
        <p:spPr>
          <a:xfrm>
            <a:off x="6072120" y="4524480"/>
            <a:ext cx="2786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Координац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  как основная функция менеджмента представляет собой вид деятельности по согласованию и упорядочению объединенных общей целью и совместной деятельностью людей в производственно-хозяйственных организациях. В организациях, ориентированных на долговременное функционирование, координация рассматривается как дополнение и расширение функции организации. В процессе реализации данной функции осуществляется координация преимущественно внешних связей руководителями высших уровней отраслевого, регионального, муниципального управле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5653080" y="4795920"/>
            <a:ext cx="29289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отивац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связана с процессом побуждения себя и других людей к деятельности через формирование мотивов поведения для достижения личных целей и целей организации. В процессе мотивации предполагается использование определенной последовательности взаимозависимых категорий: потребности людей - интересы людей - мотивы деятельности - действия людей.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500800" y="4857840"/>
            <a:ext cx="27860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12760" y="542880"/>
            <a:ext cx="8540640" cy="292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3786120" y="3571920"/>
            <a:ext cx="44290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имул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основная функция, связанная с процессом активизации деятельности людей и коллективов путем использования стимулов, рычагов и способов формирования интересов и мотивов деятельности. Отсюда следует, что функция стимулирования основывается на процессах мотивации, преобразуя их в стимулы, воздействующие на поведение и деятельность преимущественно коллективов и фир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786280" y="4643280"/>
            <a:ext cx="2829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Гуманизация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отражает  социальный характер менеджмента и роль человеческого фактора как субъекта и объекта менеджмента. Как уже отмечалось, человек в системе менеджмента - не только фактор производства и средство достижения цели, но и цель менеджмента. Поэтому функция гуманизации управленческих отношений и всей системы общественных отношений в условиях переориентации кадров российской экономики на рыночное мышление приобретает особое значени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50004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орпоратизм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это метод хозяйствования, развития экономики и социальных отношений сообщества, совокупность этических и правовых норм поведения индивидуума в сообществе; это договорное сообщество, в котором главным фактором роста благосостояния человека является баланс личных и корпоративных интерес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4143240" y="4357800"/>
            <a:ext cx="3500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Контроль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объединяет виды управленческой деятельности, связанные с формированием информации  о состоянии  и функционировании объекта управления (учет), изучением информации о процессах и результатах деятельности (анализ), работой по диагностике и оценке процессов развития и достижения целей, эффективности стратегий, успехов и просчетов в использовании средств и методов управл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ждая функция менеджмента представляет собой сферу действия  определенного процесса управления, а система управления конкретным объектом или видом деятельности - это совокупность функций, связанных единым управленческим циклом. В этом суть процессного подхода к исследованию функций менеджмента.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сновные функции обладают самостоятельностью и следуют одна за другой пока каждая конкретная не выполнится.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5712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3100" spc="-1" strike="noStrike">
                <a:solidFill>
                  <a:srgbClr val="000000"/>
                </a:solidFill>
                <a:latin typeface="Lucida Sans Unicode"/>
              </a:rPr>
              <a:t>Функция </a:t>
            </a:r>
            <a:r>
              <a:rPr b="0" lang="ru-RU" sz="3100" spc="-1" strike="noStrike">
                <a:solidFill>
                  <a:srgbClr val="000000"/>
                </a:solidFill>
                <a:latin typeface="Lucida Sans Unicode"/>
              </a:rPr>
              <a:t>- широко распространенное слово, имеющее множество значений. Функция  (лат.functio) - это обязанность, круг деятельности, назначение, роль. Данное понятие используется во всех областях знаний и во всех сферах деятельности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857840" y="3857760"/>
            <a:ext cx="3357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Функции занимают особое место в системе менеджмента и играют ключевую роль в ее формировании. В данной работе рассматривается весь комплекс функций менеджмента, критерии их выделения и взаимосвязь между ними. Приводятся основы функционального моделирования систем менеджмента, содержатся рекомендации, как работать с функциями менеджмента и как при помощи функций создать эффективно работающий аппарат управле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3"/>
          <p:cNvSpPr/>
          <p:nvPr/>
        </p:nvSpPr>
        <p:spPr>
          <a:xfrm>
            <a:off x="3357720" y="214200"/>
            <a:ext cx="2714400" cy="785880"/>
          </a:xfrm>
          <a:prstGeom prst="rect">
            <a:avLst/>
          </a:prstGeom>
          <a:solidFill>
            <a:srgbClr val="ffffff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еханизмы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7"/>
          <p:cNvCxnSpPr/>
          <p:nvPr/>
        </p:nvCxnSpPr>
        <p:spPr>
          <a:xfrm flipH="1">
            <a:off x="4787280" y="1000080"/>
            <a:ext cx="1080" cy="5421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386" name="Блок-схема: процесс 11"/>
          <p:cNvSpPr/>
          <p:nvPr/>
        </p:nvSpPr>
        <p:spPr>
          <a:xfrm>
            <a:off x="3857760" y="1571760"/>
            <a:ext cx="1857240" cy="357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Блок-схема: процесс 15"/>
          <p:cNvSpPr/>
          <p:nvPr/>
        </p:nvSpPr>
        <p:spPr>
          <a:xfrm>
            <a:off x="3571920" y="2286000"/>
            <a:ext cx="2428920" cy="30002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ог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ч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28400" y="428400"/>
            <a:ext cx="825804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ункция менеджмента как возможная область формирования управляющего воздействия предполагает осуществление непрерывных взаимосвязанных между собой действий по выработке средств и методов воздействия и их реализации применительно к решению конкретной проблемы. Поэтому функция рассматривается как объективно необходимая область процесса управления, имеющего временную и пространственную определенность и конечную результатив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00040" y="3567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Функции управляющей системы, т.е. менеджмента как такового, определяет всего несколько видов функций. Самый принципиальный подход - подход американской школы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.     Планировани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2.     Организация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3.     Стимулировани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4.     Контрол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ждая функция менеджмента представляет собой сферу действия определенного процесса управления, а система управления конкретным объектом или видом деятельности - это совокупность функций, связанных единым управленческим циклом. В этом суть процессного подхода к исследованию функций менеджмен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3500280" y="4071960"/>
            <a:ext cx="4214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1:52:18Z</dcterms:created>
  <dc:creator>Admin</dc:creator>
  <dc:description/>
  <dc:language>en-US</dc:language>
  <cp:lastModifiedBy>Admin</cp:lastModifiedBy>
  <dcterms:modified xsi:type="dcterms:W3CDTF">2011-11-21T19:35:06Z</dcterms:modified>
  <cp:revision>21</cp:revision>
  <dc:subject/>
  <dc:title>Функции управления</dc:title>
</cp:coreProperties>
</file>