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63E-9529-4F7D-AFC4-A37E8F1A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294-0641-46C5-9463-46297FC8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427-A0D4-4254-AAA8-77C509DC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D68-C5D2-4505-94F9-AF9862F4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018-4403-4FA3-BFB3-F34AA9FC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967-9654-4D80-AA1E-4BED87CB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390-DE79-48C7-AF6D-42F1BC8F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FB6-4DAE-4BE0-B36C-6235D1A2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A07-25C8-4FE7-83FB-D74ACC47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FCD-1D99-4A57-9E34-DF8FA97B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FCF-2C09-456D-B5E8-A535C2EF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03B-499B-45BF-8480-16D5D6DD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5FEF-52B1-4208-BCE9-E8897623E0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276,14,&#1057;&#1086;&#1073;&#1077;&#1088;&#1080; &#1087;&#1086;&#1089;&#1083;&#1086;&#1074;&#1080;&#1094;&#1091;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277,15,&#1057;&#1086;&#1073;&#1077;&#1088;&#1080; &#1087;&#1086;&#1089;&#1083;&#1086;&#1074;&#1080;&#1094;&#1091;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269,16,&#1050;&#1088;&#1086;&#1089;&#1089;&#1074;&#1086;&#1088;&#1076; 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282,23,&#1055;&#1088;&#1086;&#1074;&#1077;&#1088;&#1100; &#1089;&#1077;&#1073;&#1103;" TargetMode="External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9167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рок литературного чтения. </a:t>
            </a:r>
            <a:br>
              <a:rPr sz="3200"/>
            </a:br>
            <a:br>
              <a:rPr sz="4000"/>
            </a:b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Пословица – это народная мудрость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ливанова Елена Анатол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СОШ № 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 Копейс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cc"/>
                </a:solidFill>
                <a:latin typeface="Microsoft Sans Serif"/>
              </a:rPr>
              <a:t>Пословицы о природ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33"/>
                </a:solidFill>
                <a:latin typeface="Arial"/>
              </a:rPr>
              <a:t>Солнечные лучи, как золотые мечи: дорогу себе пробиваю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33"/>
                </a:solidFill>
                <a:latin typeface="Arial"/>
              </a:rPr>
              <a:t>Весна красна цветами, а осень сноп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33"/>
                </a:solidFill>
                <a:latin typeface="Arial"/>
              </a:rPr>
              <a:t>Много снега – много хлеба, много воды – много трав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99"/>
                </a:solidFill>
                <a:latin typeface="Comic Sans MS"/>
              </a:rPr>
              <a:t>Пословицы о храбрости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Герой умирает однажды – трус тысячу раз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то смерти не боится – невелика птица, а кто жизнь полюбил, тот страх загуби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Не всякий, кто в тигровой шкуре, храбры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Monotype Corsiva"/>
              </a:rPr>
              <a:t>Пословицы о знании и учении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Дурака учить – что мертвого лечи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Красна птица перьями, а человек учень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От умного научишься, от глупого разучишь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cc"/>
                </a:solidFill>
                <a:latin typeface="Franklin Gothic Medium Cond"/>
              </a:rPr>
              <a:t>Пословицы о книге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ff"/>
                </a:solidFill>
                <a:latin typeface="Arial"/>
              </a:rPr>
              <a:t>В книге ищут не буквы, а мыс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ff"/>
                </a:solidFill>
                <a:latin typeface="Arial"/>
              </a:rPr>
              <a:t>Книга – мост в мир знани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ff"/>
                </a:solidFill>
                <a:latin typeface="Arial"/>
              </a:rPr>
              <a:t>Книгу читаешь – на крыльях летаеш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3366"/>
                </a:solidFill>
                <a:uFillTx/>
                <a:latin typeface="Franklin Gothic Demi"/>
              </a:rPr>
              <a:t>Собери пословицу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Красна гора скал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1773360"/>
            <a:ext cx="3600360" cy="792000"/>
          </a:xfrm>
          <a:custGeom>
            <a:avLst/>
            <a:gdLst>
              <a:gd name="textAreaLeft" fmla="*/ 128520 w 3600360"/>
              <a:gd name="textAreaRight" fmla="*/ 3471840 w 3600360"/>
              <a:gd name="textAreaTop" fmla="*/ 128520 h 792000"/>
              <a:gd name="textAreaBottom" fmla="*/ 66348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4651" y="3506"/>
                </a:lnTo>
                <a:lnTo>
                  <a:pt x="3506" y="3506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4651" y="18094"/>
                </a:lnTo>
                <a:lnTo>
                  <a:pt x="94651" y="3506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3506" y="18094"/>
                </a:lnTo>
                <a:lnTo>
                  <a:pt x="94651" y="18094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3506" y="3506"/>
                </a:lnTo>
                <a:lnTo>
                  <a:pt x="3506" y="18094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рыбку из пр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270828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спеши де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364500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человек - гол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3366"/>
                </a:solidFill>
                <a:uFillTx/>
                <a:latin typeface="Franklin Gothic Demi"/>
              </a:rPr>
              <a:t>Собери пословицу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Без труда не вытащи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360" y="1773360"/>
            <a:ext cx="3600360" cy="792000"/>
          </a:xfrm>
          <a:custGeom>
            <a:avLst/>
            <a:gdLst>
              <a:gd name="textAreaLeft" fmla="*/ 128520 w 3600360"/>
              <a:gd name="textAreaRight" fmla="*/ 3471840 w 3600360"/>
              <a:gd name="textAreaTop" fmla="*/ 128520 h 792000"/>
              <a:gd name="textAreaBottom" fmla="*/ 66348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4651" y="3506"/>
                </a:lnTo>
                <a:lnTo>
                  <a:pt x="3506" y="3506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4651" y="18094"/>
                </a:lnTo>
                <a:lnTo>
                  <a:pt x="94651" y="3506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3506" y="18094"/>
                </a:lnTo>
                <a:lnTo>
                  <a:pt x="94651" y="18094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3506" y="3506"/>
                </a:lnTo>
                <a:lnTo>
                  <a:pt x="3506" y="18094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рыбку из пр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270828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спеши де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364500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человек - гол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3366"/>
                </a:solidFill>
                <a:uFillTx/>
                <a:latin typeface="Franklin Gothic Demi"/>
              </a:rPr>
              <a:t>Собери пословицу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Не спеши язык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1773360"/>
            <a:ext cx="3600360" cy="792000"/>
          </a:xfrm>
          <a:custGeom>
            <a:avLst/>
            <a:gdLst>
              <a:gd name="textAreaLeft" fmla="*/ 128520 w 3600360"/>
              <a:gd name="textAreaRight" fmla="*/ 3471840 w 3600360"/>
              <a:gd name="textAreaTop" fmla="*/ 128520 h 792000"/>
              <a:gd name="textAreaBottom" fmla="*/ 66348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4651" y="3506"/>
                </a:lnTo>
                <a:lnTo>
                  <a:pt x="3506" y="3506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4651" y="18094"/>
                </a:lnTo>
                <a:lnTo>
                  <a:pt x="94651" y="3506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3506" y="18094"/>
                </a:lnTo>
                <a:lnTo>
                  <a:pt x="94651" y="18094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3506" y="3506"/>
                </a:lnTo>
                <a:lnTo>
                  <a:pt x="3506" y="18094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рыбку из пр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32360" y="270828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спеши де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32360" y="364500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человек - гол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Молодец!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360072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Подумай еще!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508720" y="3860640"/>
            <a:ext cx="3025800" cy="23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Вундеркинд</a:t>
            </a: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51640" y="3789360"/>
            <a:ext cx="2947680" cy="26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e57ff"/>
                </a:solidFill>
                <a:latin typeface="Times New Roman"/>
              </a:rPr>
              <a:t>Пословицы – сокровища русской народной речи и народной мудрост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33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e57ff"/>
                </a:solidFill>
                <a:latin typeface="Arial"/>
              </a:rPr>
              <a:t>Мини-произведения фольклора учат тонким чувствам, дают понятие о ценностях жизни, честности и справедлив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Не верно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5732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Умница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16000" y="2997360"/>
            <a:ext cx="2486160" cy="23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Подумай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73528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0000ff"/>
                </a:solidFill>
                <a:uFillTx/>
                <a:latin typeface="Franklin Gothic Demi Cond"/>
              </a:rPr>
              <a:t>Кроссворд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4365720"/>
            <a:ext cx="4475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горизонтал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Умный не тот, кто много говорит, а тот, кто мног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Всякой матери свое дит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Народное братство дороже всяког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3280" y="1628640"/>
            <a:ext cx="3683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вертик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Нет лучшего дружка, чем родна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При солнышке тепло – при матер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Нет друга – ищи, а найдешь –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Землю красит солнце, а человека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Решил кроссворд, проверь себ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141300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14130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14130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14130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14130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170028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19890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227664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56536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141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3141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3141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314172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3429000"/>
            <a:ext cx="28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2852640"/>
            <a:ext cx="28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565360"/>
            <a:ext cx="28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227664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5600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852640"/>
            <a:ext cx="28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256536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3141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34290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371628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19890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227664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256536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4005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80"/>
                </a:solidFill>
                <a:latin typeface="Arial Narrow"/>
              </a:rPr>
              <a:t>Проверь себя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Умный не тот, кто много говорит, а тот, кто много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знает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Всякой матери свое дитя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мило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Народное братство дороже всякого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богатства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Нет лучшего дружка, чем родная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матушка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и солнышке тепло – при матери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добро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Нет друга – ищи, а найдешь –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береги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Землю красит солнце, а человека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труд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Monotype Corsiva"/>
              </a:rPr>
              <a:t>Крупнейший собиратель фольклора, В.И.Даль так писал о пословице:</a:t>
            </a:r>
            <a:r>
              <a:rPr b="1" lang="en-US" sz="4200" spc="-1" strike="noStrike">
                <a:solidFill>
                  <a:srgbClr val="cc3300"/>
                </a:solidFill>
                <a:latin typeface="Monotype Corsiva"/>
              </a:rPr>
              <a:t> «Свод народной премудрости и суемудрия, это стоны и вздохи, плачи и рыдания, радость и веселье, горе и утешение в лицах; это цвет народного ума, самобытной страсти; это житейская правда, своего рода судебник никем не судимый»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99"/>
                </a:solidFill>
                <a:uFillTx/>
                <a:latin typeface="Ariac"/>
              </a:rPr>
              <a:t>Пословицы</a:t>
            </a:r>
            <a:r>
              <a:rPr b="1" i="1" lang="en-US" sz="3600" spc="-1" strike="noStrike" u="sng">
                <a:solidFill>
                  <a:srgbClr val="ffff99"/>
                </a:solidFill>
                <a:uFillTx/>
                <a:latin typeface="Ariac"/>
              </a:rPr>
              <a:t> </a:t>
            </a:r>
            <a:r>
              <a:rPr b="1" i="1" lang="en-US" sz="3600" spc="-1" strike="noStrike">
                <a:solidFill>
                  <a:srgbClr val="ffff99"/>
                </a:solidFill>
                <a:latin typeface="Ariac"/>
              </a:rPr>
              <a:t> </a:t>
            </a:r>
            <a:r>
              <a:rPr b="1" i="1" lang="en-US" sz="3600" spc="-1" strike="noStrike">
                <a:solidFill>
                  <a:srgbClr val="ff6600"/>
                </a:solidFill>
                <a:latin typeface="Ariac"/>
              </a:rPr>
              <a:t>- краткие, ритмические организованные двухчастные и более изречения, содержащие суждения из области морали, житейской мудрости и т. п.</a:t>
            </a:r>
            <a:br>
              <a:rPr sz="3600"/>
            </a:br>
            <a:r>
              <a:rPr b="1" i="1" lang="en-US" sz="3200" spc="-1" strike="noStrike">
                <a:solidFill>
                  <a:srgbClr val="6699ff"/>
                </a:solidFill>
                <a:latin typeface="Ariac"/>
              </a:rPr>
              <a:t>Волков бояться – в лес не ходить.</a:t>
            </a:r>
            <a:r>
              <a:rPr b="1" i="1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4292640"/>
            <a:ext cx="8351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99"/>
                </a:solidFill>
                <a:uFillTx/>
                <a:latin typeface="Ariac"/>
              </a:rPr>
              <a:t>Пословица</a:t>
            </a:r>
            <a:r>
              <a:rPr b="1" i="1" lang="en-US" sz="3600" spc="-1" strike="noStrike">
                <a:solidFill>
                  <a:srgbClr val="ff9999"/>
                </a:solidFill>
                <a:latin typeface="Ariac"/>
              </a:rPr>
              <a:t> </a:t>
            </a:r>
            <a:r>
              <a:rPr b="1" i="1" lang="en-US" sz="3600" spc="-1" strike="noStrike">
                <a:solidFill>
                  <a:srgbClr val="ff6600"/>
                </a:solidFill>
                <a:latin typeface="Ariac"/>
              </a:rPr>
              <a:t>– это изречение, законченная мысль, выраженная в предложен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ff"/>
                </a:solidFill>
                <a:latin typeface="Ariac"/>
              </a:rPr>
              <a:t>Старый друг лучше новых, дву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Black"/>
              </a:rPr>
              <a:t>Пословицы о Родине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cc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Где кто родится, там и пригодит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cc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За морем веселье, да чужое, а у нас и горе, да сво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cc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Родная сторона – мать, чужая – мачех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ff"/>
                </a:solidFill>
                <a:latin typeface="Castellar"/>
              </a:rPr>
              <a:t>Пословицы о Москве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820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99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Москва – всем городам мат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990000"/>
              </a:buClr>
              <a:buFont typeface="Comic Sans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Москвой – столицей весь народ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  </a:t>
            </a: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гордитс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990000"/>
              </a:buClr>
              <a:buFont typeface="Comic Sans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Кто Москвы не видал, тот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   </a:t>
            </a: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красоты  не вида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Century Schoolbook"/>
              </a:rPr>
              <a:t>Пословицы о человеке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Человек красен ученьем, как птица перь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Какова у него совесть , такова про него и повес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Ребенок что воск: что хочешь, то и сольешь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MS Mincho"/>
              </a:rPr>
              <a:t>Пословицы о труд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Без труда хлеб не родится никогд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Каков рыболов, таков и ул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Терпение и труд все перетру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0000"/>
                </a:solidFill>
                <a:latin typeface="Franklin Gothic Medium"/>
              </a:rPr>
              <a:t>Пословицы о дружбе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Где дружба прочна, там хорошо идут дел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Друзья познаются в бед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Крепкую дружбу и топором не разрубишь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8:30:41Z</dcterms:created>
  <dc:creator>Маша</dc:creator>
  <dc:description/>
  <dc:language>en-US</dc:language>
  <cp:lastModifiedBy>Родители</cp:lastModifiedBy>
  <dcterms:modified xsi:type="dcterms:W3CDTF">2009-01-14T14:13:51Z</dcterms:modified>
  <cp:revision>13</cp:revision>
  <dc:subject/>
  <dc:title>Урок литературного чтения  2 класс.  Пословица – это народная мудрость.</dc:title>
</cp:coreProperties>
</file>