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806-C5F0-4EFF-8450-29260495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903-E168-4848-BB75-E8D724D7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1D0-239B-4B5E-AE54-FAED5C95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30A-0804-4A09-A319-1921E1B0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6A7-DB7E-4794-ADA4-B8BF4C0A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53F-4D50-4AAF-AF6B-D4B1F3FF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7A9-E872-4871-9845-ABD59B7F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138-B8A3-43E8-9F11-7F5AC70C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801-B844-4F1F-B146-DDA7DC2A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726-141C-4550-8E7C-F49E0A3C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63E-442D-41AE-BBEF-E9B828D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483-3FCD-4067-AFE8-03B1FD99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F4FD-0B2C-4BD9-AA40-4D2BF053E5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276,14,&#1057;&#1086;&#1073;&#1077;&#1088;&#1080; &#1087;&#1086;&#1089;&#1083;&#1086;&#1074;&#1080;&#1094;&#1091;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77,15,&#1057;&#1086;&#1073;&#1077;&#1088;&#1080; &#1087;&#1086;&#1089;&#1083;&#1086;&#1074;&#1080;&#1094;&#1091;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269,16,&#1050;&#1088;&#1086;&#1089;&#1089;&#1074;&#1086;&#1088;&#1076; 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82,23,&#1055;&#1088;&#1086;&#1074;&#1077;&#1088;&#1100; &#1089;&#1077;&#1073;&#1103;" TargetMode="External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167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рок литературного чтения. </a:t>
            </a:r>
            <a:br>
              <a:rPr sz="3200"/>
            </a:br>
            <a:br>
              <a:rPr sz="40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Пословица – это народная мудрость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ливанова Елена Анато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СОШ №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 Копейс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cc"/>
                </a:solidFill>
                <a:latin typeface="Microsoft Sans Serif"/>
              </a:rPr>
              <a:t>Пословицы о природ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Солнечные лучи, как золотые мечи: дорогу себе пробиваю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Весна красна цветами, а осень сноп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Много снега – много хлеба, много воды – много трав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Comic Sans MS"/>
              </a:rPr>
              <a:t>Пословицы о храбрости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Герой умирает однажды – трус тысячу раз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то смерти не боится – невелика птица, а кто жизнь полюбил, тот страх загуби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Не всякий, кто в тигровой шкуре, храбр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Monotype Corsiva"/>
              </a:rPr>
              <a:t>Пословицы о знании и учении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Дурака учить – что мертвого лечи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Красна птица перьями, а человек учень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Arial"/>
              </a:rPr>
              <a:t>От умного научишься, от глупого разучишь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cc"/>
                </a:solidFill>
                <a:latin typeface="Franklin Gothic Medium Cond"/>
              </a:rPr>
              <a:t>Пословицы о книге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В книге ищут не буквы, а мыс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Книга – мост в мир зна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Arial"/>
              </a:rPr>
              <a:t>Книгу читаешь – на крыльях летаеш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Красна гора скал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Без труда не вытащи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3366"/>
                </a:solidFill>
                <a:uFillTx/>
                <a:latin typeface="Franklin Gothic Demi"/>
              </a:rPr>
              <a:t>Собери пословицу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Не спеши язы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73360"/>
            <a:ext cx="3600360" cy="792000"/>
          </a:xfrm>
          <a:custGeom>
            <a:avLst/>
            <a:gdLst>
              <a:gd name="textAreaLeft" fmla="*/ 128520 w 3600360"/>
              <a:gd name="textAreaRight" fmla="*/ 3471840 w 3600360"/>
              <a:gd name="textAreaTop" fmla="*/ 128520 h 792000"/>
              <a:gd name="textAreaBottom" fmla="*/ 66348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4651" y="3506"/>
                </a:lnTo>
                <a:lnTo>
                  <a:pt x="3506" y="3506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4651" y="18094"/>
                </a:lnTo>
                <a:lnTo>
                  <a:pt x="94651" y="3506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3506" y="18094"/>
                </a:lnTo>
                <a:lnTo>
                  <a:pt x="94651" y="18094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3506" y="3506"/>
                </a:lnTo>
                <a:lnTo>
                  <a:pt x="3506" y="18094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рыбку из пр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32360" y="270828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спеши д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3645000"/>
            <a:ext cx="3600360" cy="792000"/>
          </a:xfrm>
          <a:custGeom>
            <a:avLst/>
            <a:gdLst>
              <a:gd name="textAreaLeft" fmla="*/ 109440 w 3600360"/>
              <a:gd name="textAreaRight" fmla="*/ 3490920 w 3600360"/>
              <a:gd name="textAreaTop" fmla="*/ 109440 h 792000"/>
              <a:gd name="textAreaBottom" fmla="*/ 682560 h 792000"/>
            </a:gdLst>
            <a:ahLst/>
            <a:rect l="textAreaLeft" t="textAreaTop" r="textAreaRight" b="textAreaBottom"/>
            <a:pathLst>
              <a:path w="98157" h="21600">
                <a:moveTo>
                  <a:pt x="0" y="0"/>
                </a:moveTo>
                <a:lnTo>
                  <a:pt x="98157" y="0"/>
                </a:lnTo>
                <a:lnTo>
                  <a:pt x="98157" y="21600"/>
                </a:lnTo>
                <a:lnTo>
                  <a:pt x="0" y="21600"/>
                </a:lnTo>
                <a:close/>
              </a:path>
              <a:path fill="lightenLess" w="98157" h="21600">
                <a:moveTo>
                  <a:pt x="0" y="0"/>
                </a:moveTo>
                <a:lnTo>
                  <a:pt x="98157" y="0"/>
                </a:lnTo>
                <a:lnTo>
                  <a:pt x="95170" y="2987"/>
                </a:lnTo>
                <a:lnTo>
                  <a:pt x="2987" y="2987"/>
                </a:lnTo>
                <a:close/>
              </a:path>
              <a:path fill="darken" w="98157" h="21600">
                <a:moveTo>
                  <a:pt x="98157" y="0"/>
                </a:moveTo>
                <a:lnTo>
                  <a:pt x="98157" y="21600"/>
                </a:lnTo>
                <a:lnTo>
                  <a:pt x="95170" y="18613"/>
                </a:lnTo>
                <a:lnTo>
                  <a:pt x="95170" y="2987"/>
                </a:lnTo>
                <a:close/>
              </a:path>
              <a:path fill="darkenLess" w="98157" h="21600">
                <a:moveTo>
                  <a:pt x="98157" y="21600"/>
                </a:moveTo>
                <a:lnTo>
                  <a:pt x="0" y="21600"/>
                </a:lnTo>
                <a:lnTo>
                  <a:pt x="2987" y="18613"/>
                </a:lnTo>
                <a:lnTo>
                  <a:pt x="95170" y="18613"/>
                </a:lnTo>
                <a:close/>
              </a:path>
              <a:path fill="lighten" w="98157" h="21600">
                <a:moveTo>
                  <a:pt x="0" y="21600"/>
                </a:moveTo>
                <a:lnTo>
                  <a:pt x="0" y="0"/>
                </a:lnTo>
                <a:lnTo>
                  <a:pt x="2987" y="2987"/>
                </a:lnTo>
                <a:lnTo>
                  <a:pt x="2987" y="18613"/>
                </a:lnTo>
                <a:close/>
              </a:path>
            </a:pathLst>
          </a:custGeom>
          <a:solidFill>
            <a:srgbClr val="006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человек - гол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Молодец!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60072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Подумай еще!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302580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Вундеркинд</a:t>
            </a: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294768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e57ff"/>
                </a:solidFill>
                <a:latin typeface="Times New Roman"/>
              </a:rPr>
              <a:t>Пословицы – сокровища русской народной речи и народной мудро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3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e57ff"/>
                </a:solidFill>
                <a:latin typeface="Arial"/>
              </a:rPr>
              <a:t>Мини-произведения фольклора учат тонким чувствам, дают понятие о ценностях жизни, честности и справедлив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Не верно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573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Умница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2486160" cy="23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Подумай</a:t>
            </a:r>
            <a:r>
              <a:rPr b="0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52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ff"/>
                </a:solidFill>
                <a:uFillTx/>
                <a:latin typeface="Franklin Gothic Demi Cond"/>
              </a:rPr>
              <a:t>Кроссворд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4365720"/>
            <a:ext cx="4475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горизонта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Умный не тот, кто много говорит, а тот, кто мно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сякой матери свое дит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родное братство дороже всяко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3280" y="1628640"/>
            <a:ext cx="3683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Нет лучшего дружка, чем родна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ри солнышке тепло – при матер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ет друга – ищи, а найдешь –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Землю красит солнце, а человек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Решил кроссворд, проверь себ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41300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14130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170028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98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227664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14172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342900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2852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56536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276640"/>
            <a:ext cx="287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5600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8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52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314172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342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371628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19890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227664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256536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4005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0080"/>
                </a:solidFill>
                <a:latin typeface="Arial Narrow"/>
              </a:rPr>
              <a:t>Проверь себя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Умный не тот, кто много говорит, а тот, кто много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знает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сякой матери свое дитя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мило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ародное братство дороже всякого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богатства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ет лучшего дружка, чем родная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матушка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и солнышке тепло – при матери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добро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Нет друга – ищи, а найдешь –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береги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Землю красит солнце, а человека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труд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3300"/>
                </a:solidFill>
                <a:latin typeface="Monotype Corsiva"/>
              </a:rPr>
              <a:t>Крупнейший собиратель фольклора, В.И.Даль так писал о пословице:</a:t>
            </a:r>
            <a:r>
              <a:rPr b="1" lang="en-US" sz="4200" spc="-1" strike="noStrike">
                <a:solidFill>
                  <a:srgbClr val="cc3300"/>
                </a:solidFill>
                <a:latin typeface="Monotype Corsiva"/>
              </a:rPr>
              <a:t> «Свод народной премудрости и суемудрия, это стоны и вздохи, плачи и рыдания, радость и веселье, горе и утешение в лицах; это цвет народного ума, самобытной страсти; это житейская правда, своего рода судебник никем не судимый»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99"/>
                </a:solidFill>
                <a:uFillTx/>
                <a:latin typeface="Ariac"/>
              </a:rPr>
              <a:t>Пословицы</a:t>
            </a:r>
            <a:r>
              <a:rPr b="1" i="1" lang="en-US" sz="3600" spc="-1" strike="noStrike" u="sng">
                <a:solidFill>
                  <a:srgbClr val="ffff99"/>
                </a:solidFill>
                <a:uFillTx/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ff99"/>
                </a:solidFill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Ariac"/>
              </a:rPr>
              <a:t>- краткие, ритмические организованные двухчастные и более изречения, содержащие суждения из области морали, житейской мудрости и т. п.</a:t>
            </a:r>
            <a:br>
              <a:rPr sz="3600"/>
            </a:br>
            <a:r>
              <a:rPr b="1" i="1" lang="en-US" sz="3200" spc="-1" strike="noStrike">
                <a:solidFill>
                  <a:srgbClr val="6699ff"/>
                </a:solidFill>
                <a:latin typeface="Ariac"/>
              </a:rPr>
              <a:t>Волков бояться – в лес не ходить.</a:t>
            </a:r>
            <a:r>
              <a:rPr b="1" i="1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4292640"/>
            <a:ext cx="8351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99"/>
                </a:solidFill>
                <a:uFillTx/>
                <a:latin typeface="Ariac"/>
              </a:rPr>
              <a:t>Пословица</a:t>
            </a:r>
            <a:r>
              <a:rPr b="1" i="1" lang="en-US" sz="3600" spc="-1" strike="noStrike">
                <a:solidFill>
                  <a:srgbClr val="ff9999"/>
                </a:solidFill>
                <a:latin typeface="Ariac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Ariac"/>
              </a:rPr>
              <a:t>– это изречение, законченная мысль, выраженная в предложе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99ff"/>
                </a:solidFill>
                <a:latin typeface="Ariac"/>
              </a:rPr>
              <a:t>Старый друг лучше новых, дву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Black"/>
              </a:rPr>
              <a:t>Пословицы о Родин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Где кто родится, там и пригодитс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За морем веселье, да чужое, а у нас и горе, да сво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cc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Родная сторона – мать, чужая – мачех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ff"/>
                </a:solidFill>
                <a:latin typeface="Castellar"/>
              </a:rPr>
              <a:t>Пословицы о Москв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99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Москва – всем городам м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90000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Москвой – столицей весь народ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гордит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90000"/>
              </a:buClr>
              <a:buFont typeface="Comic Sans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Кто Москвы не видал, тот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   </a:t>
            </a:r>
            <a:r>
              <a:rPr b="1" lang="en-US" sz="4400" spc="-1" strike="noStrike">
                <a:solidFill>
                  <a:srgbClr val="990000"/>
                </a:solidFill>
                <a:latin typeface="Franklin Gothic Medium"/>
              </a:rPr>
              <a:t>красоты  не вида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Century Schoolbook"/>
              </a:rPr>
              <a:t>Пословицы о человек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Человек красен ученьем, как птица перь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Какова у него совесть , такова про него и повест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Ребенок что воск: что хочешь, то и сольешь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MS Mincho"/>
              </a:rPr>
              <a:t>Пословицы о труд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Без труда хлеб не родится никогд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аков рыболов, таков и ул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ерпение и труд все перетру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00"/>
                </a:solidFill>
                <a:latin typeface="Franklin Gothic Medium"/>
              </a:rPr>
              <a:t>Пословицы о дружбе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Где дружба прочна, там хорошо идут дел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Друзья познаются в бед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Крепкую дружбу и топором не разрубиш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30:41Z</dcterms:created>
  <dc:creator>Маша</dc:creator>
  <dc:description/>
  <dc:language>en-US</dc:language>
  <cp:lastModifiedBy>Родители</cp:lastModifiedBy>
  <dcterms:modified xsi:type="dcterms:W3CDTF">2009-01-14T14:13:51Z</dcterms:modified>
  <cp:revision>13</cp:revision>
  <dc:subject/>
  <dc:title>Урок литературного чтения  2 класс.  Пословица – это народная мудрость.</dc:title>
</cp:coreProperties>
</file>