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B86-67AB-4AA5-9C2A-2F3AF914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50B-4F13-4674-80B0-E47800A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528-35D5-4CBF-9016-52813B3C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0F3-37D9-459F-89C3-7D7C87EF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941-4F1D-4F77-8537-2DBE950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AAE-A7DB-4702-9BE6-9CE5286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934-D704-4B53-A1C4-7B21B33A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036-FDDF-4DAF-818F-256F590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FC7-2859-44E2-9CA3-CB993313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90B-027E-4239-892A-96A5CC0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85A-D1CC-4F25-B4EE-76AA24C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EEC-8C95-4179-B873-34398C9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C72-E872-4821-87F4-FA25A9E027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76,14,&#1057;&#1086;&#1073;&#1077;&#1088;&#1080; &#1087;&#1086;&#1089;&#1083;&#1086;&#1074;&#1080;&#1094;&#1091;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77,15,&#1057;&#1086;&#1073;&#1077;&#1088;&#1080; &#1087;&#1086;&#1089;&#1083;&#1086;&#1074;&#1080;&#1094;&#1091;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69,16,&#1050;&#1088;&#1086;&#1089;&#1089;&#1074;&#1086;&#1088;&#1076; 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82,23,&#1055;&#1088;&#1086;&#1074;&#1077;&#1088;&#1100; &#1089;&#1077;&#1073;&#1103;" TargetMode="External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167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ок литературного чтения. </a:t>
            </a:r>
            <a:br>
              <a:rPr sz="3200"/>
            </a:br>
            <a:br>
              <a:rPr sz="40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Пословица – это народная мудрос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ванова Елена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СОШ №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 Копейс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icrosoft Sans Serif"/>
              </a:rPr>
              <a:t>Пословицы о природ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Солнечные лучи, как золотые мечи: дорогу себе пробиваю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Весна красна цветами, а осень сноп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Много снега – много хлеба, много воды – много трав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Comic Sans MS"/>
              </a:rPr>
              <a:t>Пословицы о храброст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Герой умирает однажды – трус тысячу р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то смерти не боится – невелика птица, а кто жизнь полюбил, тот страх загуби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Не всякий, кто в тигровой шкуре, храбр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Пословицы о знании и учении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Дурака учить – что мертвого лечи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Красна птица перьями, а человек учен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От умного научишься, от глупого разучиш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Franklin Gothic Medium Cond"/>
              </a:rPr>
              <a:t>Пословицы о книге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В книге ищут не буквы, а мыс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а – мост в мир зн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у читаешь – на крыльях летаеш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Красна гора скал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з труда не вытащ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е спеши язы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Молодец!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60072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одумай еще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02580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Вундеркинд</a:t>
            </a: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9476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e57ff"/>
                </a:solidFill>
                <a:latin typeface="Times New Roman"/>
              </a:rPr>
              <a:t>Пословицы – сокровища русской народной речи и народной мудр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e57ff"/>
                </a:solidFill>
                <a:latin typeface="Arial"/>
              </a:rPr>
              <a:t>Мини-произведения фольклора учат тонким чувствам, дают понятие о ценностях жизни, честности и справедлив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Не верно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573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Умниц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2486160" cy="23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Подумай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5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ff"/>
                </a:solidFill>
                <a:uFillTx/>
                <a:latin typeface="Franklin Gothic Demi Cond"/>
              </a:rPr>
              <a:t>Кроссворд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4475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горизонта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Умный не тот, кто много говорит, а тот, кто мн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сякой матери свое дит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родное братство дороже всяк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3280" y="1628640"/>
            <a:ext cx="368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Нет лучшего дружка, чем родна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и солнышке тепло – при матер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ет друга – ищи, а найдешь –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Землю красит солнце, а человек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Решил кроссворд, проверь себ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41300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700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141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342900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56536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27664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342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716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4005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80"/>
                </a:solidFill>
                <a:latin typeface="Arial Narrow"/>
              </a:rPr>
              <a:t>Проверь себ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мный не тот, кто много говорит, а тот, кто мн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знает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сякой матери свое дит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ил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ародное братство дороже всяк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огатств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лучшего дружка, чем родна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атушк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 солнышке тепло – при матери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добр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друга – ищи, а найдешь –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ереги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емлю красит солнце, а человека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тру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Monotype Corsiva"/>
              </a:rPr>
              <a:t>Крупнейший собиратель фольклора, В.И.Даль так писал о пословице:</a:t>
            </a:r>
            <a:r>
              <a:rPr b="1" lang="en-US" sz="4200" spc="-1" strike="noStrike">
                <a:solidFill>
                  <a:srgbClr val="cc3300"/>
                </a:solidFill>
                <a:latin typeface="Monotype Corsiva"/>
              </a:rPr>
              <a:t> «Свод народной премудрости и суемудрия, это стоны и вздохи, плачи и рыдания, радость и веселье, горе и утешение в лицах; это цвет народного ума, самобытной страсти; это житейская правда, своего рода судебник никем не судимый»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ы</a:t>
            </a:r>
            <a:r>
              <a:rPr b="1" i="1" lang="en-US" sz="3600" spc="-1" strike="noStrike" u="sng">
                <a:solidFill>
                  <a:srgbClr val="ffff99"/>
                </a:solidFill>
                <a:uFillTx/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- краткие, ритмические организованные двухчастные и более изречения, содержащие суждения из области морали, житейской мудрости и т. п.</a:t>
            </a:r>
            <a:br>
              <a:rPr sz="3600"/>
            </a:b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Волков бояться – в лес не ходить.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4292640"/>
            <a:ext cx="8351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а</a:t>
            </a:r>
            <a:r>
              <a:rPr b="1" i="1" lang="en-US" sz="3600" spc="-1" strike="noStrike">
                <a:solidFill>
                  <a:srgbClr val="ff99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– это изречение, законченная мысль, выраженная в предлож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Старый друг лучше новых, дву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Black"/>
              </a:rPr>
              <a:t>Пословицы о Родин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Где кто родится, там и пригоди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За морем веселье, да чужое, а у нас и горе, да св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Родная сторона – мать, чужая – маче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Castellar"/>
              </a:rPr>
              <a:t>Пословицы о Москв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99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а – всем городам м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ой – столицей весь народ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горди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то Москвы не видал, т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расоты  не вид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Century Schoolbook"/>
              </a:rPr>
              <a:t>Пословицы о человек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Человек красен ученьем, как птица пер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ова у него совесть , такова про него и пов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Ребенок что воск: что хочешь, то и сольеш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MS Mincho"/>
              </a:rPr>
              <a:t>Пословицы о труд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ез труда хлеб не родится никогд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аков рыболов, таков и у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ерпение и труд все перетру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00"/>
                </a:solidFill>
                <a:latin typeface="Franklin Gothic Medium"/>
              </a:rPr>
              <a:t>Пословицы о дружб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Где дружба прочна, там хорошо идут дел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Друзья познаются в бед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Крепкую дружбу и топором не разрубиш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30:41Z</dcterms:created>
  <dc:creator>Маша</dc:creator>
  <dc:description/>
  <dc:language>en-US</dc:language>
  <cp:lastModifiedBy>Родители</cp:lastModifiedBy>
  <dcterms:modified xsi:type="dcterms:W3CDTF">2009-01-14T14:13:51Z</dcterms:modified>
  <cp:revision>13</cp:revision>
  <dc:subject/>
  <dc:title>Урок литературного чтения  2 класс.  Пословица – это народная мудрость.</dc:title>
</cp:coreProperties>
</file>