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8B78-8637-4C91-B5E8-6E797613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6C6-FEA3-44AD-B91F-FD8B1880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BCA-5AC3-4C2E-9F58-0DC32066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1AB-E33D-4629-8994-D4FBA552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7108-3413-48DC-AC53-34BBBC36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FA84-2D3A-497D-9D53-C59BA9D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3843-BED5-4DB5-B6BA-047AEE8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306D-FA17-4F4F-87C8-8EB70D9C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DAE9-0358-46AE-8E1C-08CF1DB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D092-14E8-482A-9614-2D7EC8CC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4E89-7F12-4AFF-8988-D23E4B8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7E5-716F-40E1-9238-7C0A829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5800-F599-4459-A8C0-CDE90817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8EB9-6F2C-4ECC-93F7-89674CD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491E-3AD0-408D-A41E-C2DA7811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4D71-BDE0-4F0D-93CA-39E93FF3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9D9C-86FA-48A0-816F-02BABA76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E76-867B-4DF9-A08C-852B8507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B0A-DA65-4145-982C-F446F304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DFE-CE81-48A1-82BE-4F92C9FB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64B-9FFB-4FE4-BF8F-FE1138A0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2D0-F92F-4507-9339-0A142B2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0F4-58D3-4D6F-B75D-61010F5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6E6-9AB1-43F8-8D61-6BF59D2A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6359-6262-4E1B-A746-CBABA2E064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ff6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ff6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C337-88BB-4159-B697-D3C3B228B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13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общаем дурные но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2124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с ждет глобальное потепле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ьды растают и затопят низменные участки земли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Земная поверхность и нагретый воздух излучают тепло. Этот поток энергии должен уходить в космическое пространство, т.к. воздух прозрачен для теплового излучения. Но водяные пары и углекислый газ задерживают часть уходящего в космос теплового излучения (парниковый эффект)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59280" y="5057640"/>
            <a:ext cx="5113080" cy="1756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 так, солнечная энергия распределяется в атмосфере в результате действия различных тепловых явлений: теплопроводности, конвекции, излучения, испарения, «парникового эффекта»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Горячий  мир  Венеры.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70567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Благодаря  парниковому  эффекту,  на  Венере  стоит  ужасная  жара.  Атмосфера,  представляющая  собой  плотное  одеяло  из  углекислого  газа,  удерживает  тепло,  пришедшее  от  Солнца.  В  результате  скапливается  такое  количество  тепловой  энергии, что  температура  атмосферы  горазда  выше,  чем  в  духовке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«Парниковый эффект»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Цель: смоделировать механизм парникового эффекта и исследовать изменения температуры в разных условия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2484360" y="3716280"/>
          <a:ext cx="5832720" cy="26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716280"/>
                    <a:ext cx="5832720" cy="26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65440" y="2286000"/>
            <a:ext cx="64785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 эксперимента со светл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195640" y="2349000"/>
            <a:ext cx="647856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 эксперимента с темн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664000" y="3911760"/>
          <a:ext cx="648000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3911760"/>
                    <a:ext cx="648000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2268360" y="3840120"/>
          <a:ext cx="640728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840120"/>
                    <a:ext cx="64072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зультаты сравнения температуры в коробках со  светлым и темным грунто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(в координатах «температура-время»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воды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ение «парникового» эффекта наблюдается в случаях, когда коробки закрыты прозрачной крышко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вышение температуры в коробке с темным грунтом происходит быстрее, чем в коробке со светлым грунтом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ожение 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щё в 1827 году французский физик Жозеф Фурье предположил, что атмосфера Земли выполняет функцию своего рода стекла в теплице: воздух пропускает солнечное тепло, не давая ему при этом испарится в космос.     Я считаю, что вопрос рассмотрения парникового эффекта актуален в настоящее время, т. к. если гипотеза об антропогенных факторах глобального потепления подтвердится, уже поздно будет что-либо предпринимать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ругое м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34920" y="2286000"/>
            <a:ext cx="7057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ктор  физико-математических наук  Олег Сорохтин и завкафедрой  МГУ, член-корреспондент Российской академии наук Андрей Копица предполагают,что увеличение концентрации углекислого  газа  не  ведёт  к  потеплению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«…Наши расчеты  показывают, что, даже если через сто лет случится предсказанное экологами увеличение  концентрации углекислого газа в два раза, это никак не повлияет на глобальную температуру.»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гляд в будуще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74072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ем нам это грозит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   Изменение  мирового климата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   Увеличение  осадков в тропиках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   В засушливых районах дожди станут еще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более редкими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   Повышение температуры на Земле может вызвать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днятие уровня моря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 .   Нарушение водосолевого баланса океа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  Изменятся траектории движения циклонов 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антициклонов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47628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можные вых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меньшить потребление ископаемого топли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влекать избыток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воздух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сстановление почвенного и растительного покров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рганизация культурного земледелия, создание лесозащитных полос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8240" y="228600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Я считаю, что сейчас все силы надо бросить на то, чтобы на каждом производстве был разработан замкнутый цикл, то есть чтобы ничего не выбрасывалось ни в воздух, ни в реки, а все перерабатывалось и использовалось.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Государство получит дополнительную продукцию, а люди будут дышать чистым воздухом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ероятно, перспектива парникового эффекта может стать катализатором всемирного осознания срочной необходимости начала действий по защите нашей Земли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620640"/>
            <a:ext cx="82872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268360" y="5157720"/>
            <a:ext cx="61912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идимый свет - пропусти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епловое излучение - не пропуска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ожение 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59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Устойчивая окружающая среда и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епловые явления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 климата и природных процессов зависит от постоянства потоков энергии в окружающей среде и процессов обмена энергией между Землёй и космосом. Наибольшее влияние на климат оказывает энергия солнечного излучения.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5440" y="2276280"/>
            <a:ext cx="64785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положи, что поверхность нагрета солнечным излучением. Часть энергии нагретой поверхности передаётся прилегающим слоям воздуха за счёт теплопроводност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71920" y="5157720"/>
          <a:ext cx="365580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5157720"/>
                    <a:ext cx="36558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987640" y="4149720"/>
            <a:ext cx="5400720" cy="2276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агретый воздух поднимается вверх, образу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вективные поток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635280" y="4076640"/>
            <a:ext cx="4032360" cy="20242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53964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65440" y="2285640"/>
            <a:ext cx="6478560" cy="431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Часть энергии отдаётся поверхностью  в форме невидимого теплового излучения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916360" y="4365720"/>
            <a:ext cx="5616360" cy="1806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3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это случилос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124000" y="2276640"/>
            <a:ext cx="647856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ещё некоторая часть количества теплот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ереносится в воздух вместе с водой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спарённой с поверхности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360" y="4486320"/>
            <a:ext cx="4104000" cy="1822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rcRect l="32818" t="14428" r="33877" b="28856"/>
          <a:stretch/>
        </p:blipFill>
        <p:spPr>
          <a:xfrm>
            <a:off x="611280" y="549360"/>
            <a:ext cx="8287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0:11:26Z</dcterms:created>
  <dc:creator>User</dc:creator>
  <dc:description/>
  <dc:language>en-US</dc:language>
  <cp:lastModifiedBy>Серёжа</cp:lastModifiedBy>
  <dcterms:modified xsi:type="dcterms:W3CDTF">2005-10-21T10:35:22Z</dcterms:modified>
  <cp:revision>5</cp:revision>
  <dc:subject/>
  <dc:title>Сообщаем дурные нов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