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9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8B7-41A8-473A-8189-3EBD275A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04A-D5F9-4CE7-A70D-4E29BA0F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5C1-8D47-491B-8492-DA9BFF2C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A3E-6677-4603-85FC-D91F4C59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8C92-ECDF-4B7B-8AB7-4348872F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CE2F-CCB6-4C06-A300-2167CA5F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FE80-D713-4EA7-93EB-0143AC69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5A15-33EE-44D7-84EB-65744C30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6FFA-C921-4623-8F37-8BD1BC20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F1CE-ED0B-4C11-863E-1611098F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4BA5-3DF3-475A-A0C8-7C86FB66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2A8-0207-4161-9145-A0465F6B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274D-B76A-4D11-B617-A86F8723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3FCC-941A-4F77-8275-F3B9FA36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B96A-0C15-479A-B11D-FA135D31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1536-E90D-4AAC-AA29-6CE19B92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49DE-5D11-4F2A-ADB1-E1382DC8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FCF-A652-4987-9DC0-F3FF7F35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B94-9FFA-43B8-BD65-4DBFDF77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098-4A57-4A18-91DD-DE61BAD6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DF4-3B86-47A4-A09F-F923834A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CE9-DF02-4C84-8E89-D6AC6284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B94-D1F1-41FA-B50D-1A35AF97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A83-886C-42C6-A50C-9FB5E1F4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6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6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9010-EC81-4867-ACBF-E07C6B898D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6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6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F38A-432F-4CA2-A4A4-0E266311A6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56360" cy="13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общаем дурные но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2124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с ждет глобальное потепление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ьды растают и затопят низменные участки земли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654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Земная поверхность и нагретый воздух излучают тепло. Этот поток энергии должен уходить в космическое пространство, т.к. воздух прозрачен для теплового излучения. Но водяные пары и углекислый газ задерживают часть уходящего в космос теплового излучения (парниковый эффект).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059280" y="5057640"/>
            <a:ext cx="5113080" cy="1756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 так, солнечная энергия распределяется в атмосфере в результате действия различных тепловых явлений: теплопроводности, конвекции, излучения, испарения, «парникового эффекта»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Горячий  мир  Венеры.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7056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08240" y="22860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Благодаря  парниковому  эффекту,  на  Венере  стоит  ужасная  жара.  Атмосфера,  представляющая  собой  плотное  одеяло  из  углекислого  газа,  удерживает  тепло,  пришедшее  от  Солнца.  В  результате  скапливается  такое  количество  тепловой  энергии, что  температура  атмосферы  горазда  выше,  чем  в  духовке.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«Парниковый эффект»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Цель: смоделировать механизм парникового эффекта и исследовать изменения температуры в разных условия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2484360" y="3716280"/>
          <a:ext cx="5832720" cy="26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716280"/>
                    <a:ext cx="583272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65440" y="2286000"/>
            <a:ext cx="64785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зультат эксперимента со светлым грунто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(в координатах «температура-время»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195640" y="2349000"/>
            <a:ext cx="647856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зультат эксперимента с темным грунто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(в координатах «температура-время»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664000" y="3911760"/>
          <a:ext cx="648000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4000" y="3911760"/>
                    <a:ext cx="648000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2268360" y="3840120"/>
          <a:ext cx="640728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840120"/>
                    <a:ext cx="640728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665440" y="228564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зультаты сравнения температуры в коробках со  светлым и темным грунто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(в координатах «температура-время»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Явление «парникового» эффекта наблюдается в случаях, когда коробки закрыты прозрачной крышко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вышение температуры в коробке с темным грунтом происходит быстрее, чем в коробке со светлым грунтом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ложение д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08240" y="22860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щё в 1827 году французский физик Жозеф Фурье предположил, что атмосфера Земли выполняет функцию своего рода стекла в теплице: воздух пропускает солнечное тепло, не давая ему при этом испарится в космос.     Я считаю, что вопрос рассмотрения парникового эффекта актуален в настоящее время, т. к. если гипотеза об антропогенных факторах глобального потепления подтвердится, уже поздно будет что-либо предпринимать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ругое м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34920" y="2286000"/>
            <a:ext cx="7057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октор  физико-математических наук  Олег Сорохтин и завкафедрой  МГУ, член-корреспондент Российской академии наук Андрей Копица предполагают,что увеличение концентрации углекислого  газа  не  ведёт  к  потеплению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«…Наши расчеты  показывают, что, даже если через сто лет случится предсказанное экологами увеличение  концентрации углекислого газа в два раза, это никак не повлияет на глобальную температуру.»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згляд в будуще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7407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Чем нам это грозит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   Изменение  мирового климата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   Увеличение  осадков в тропиках.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   В засушливых районах дожди станут еще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более редкими.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   Повышение температуры на Земле может вызвать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днятие уровня моря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 .   Нарушение водосолевого баланса океанов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6.   Изменятся траектории движения циклонов 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нтициклонов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47628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можные вых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меньшить потребление ископаемого топли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влекать избыток 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 Narrow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 воздух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осстановление почвенного и растительного покро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рганизация культурного земледелия, создание лесозащитных полос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08240" y="22860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Я считаю, что сейчас все силы надо бросить на то, чтобы на каждом производстве был разработан замкнутый цикл, то есть чтобы ничего не выбрасывалось ни в воздух, ни в реки, а все перерабатывалось и использовалось.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Государство получит дополнительную продукцию, а люди будут дышать чистым воздухом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ероятно, перспектива парникового эффекта может стать катализатором всемирного осознания срочной необходимости начала действий по защите нашей Земли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620640"/>
            <a:ext cx="82872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268360" y="5157720"/>
            <a:ext cx="61912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идимый свет - пропусти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-2880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епловое излучение - не пропуска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ложение д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5905440" cy="2736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Устойчивая окружающая среда и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епловые явления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 климата и природных процессов зависит от постоянства потоков энергии в окружающей среде и процессов обмена энергией между Землёй и космосом. Наибольшее влияние на климат оказывает энергия солнечного излучения.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5440" y="2276280"/>
            <a:ext cx="647856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едположи, что поверхность нагрета солнечным излучением. Часть энергии нагретой поверхности передаётся прилегающим слоям воздуха за счёт теплопроводност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71920" y="5157720"/>
          <a:ext cx="365580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5157720"/>
                    <a:ext cx="365580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5400720" cy="2276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654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гретый воздух поднимается вверх, образуя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нвективные поток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635280" y="4076640"/>
            <a:ext cx="4032360" cy="2024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rcRect l="32818" t="14428" r="33877" b="28856"/>
          <a:stretch/>
        </p:blipFill>
        <p:spPr>
          <a:xfrm>
            <a:off x="53964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654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Часть энергии отдаётся поверхностью  в форме невидимого теплового излучения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916360" y="4365720"/>
            <a:ext cx="5616360" cy="1806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124000" y="2276640"/>
            <a:ext cx="647856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ещё некоторая часть количества теплоты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ереносится в воздух вместе с водой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спарённой с поверхност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92360" y="4486320"/>
            <a:ext cx="4104000" cy="18223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0:11:26Z</dcterms:created>
  <dc:creator>User</dc:creator>
  <dc:description/>
  <dc:language>en-US</dc:language>
  <cp:lastModifiedBy>Серёжа</cp:lastModifiedBy>
  <dcterms:modified xsi:type="dcterms:W3CDTF">2005-10-21T10:35:22Z</dcterms:modified>
  <cp:revision>5</cp:revision>
  <dc:subject/>
  <dc:title>Сообщаем дурные нов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