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9.jpeg" ContentType="image/jpeg"/>
  <Override PartName="/ppt/media/image1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468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A46B-A178-4360-BF2D-69A417275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1AC8-C2B1-4468-86AA-17147196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1C75-C4DF-47AB-9328-29C404079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6211-5DF0-4CA0-AE87-7CF1C2FFD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0C6A-00A8-432D-88A2-259DCD86C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F590-A231-4D42-8C92-D086C3D9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2CF3-29FD-45D4-9CC2-A1678E62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2653-3464-41D5-8A21-C6E15928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9F16-3A24-415E-B754-1B159A6C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82F2-B837-4CAC-A265-CE02C9A5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EB99-3ED7-4699-9955-1DCEE34A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85DC-C2B1-471C-8BEC-5D3511A2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19E5-8B4F-4C31-8554-4AD7C7B0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2DA4-4BE4-4B44-B703-EF95F3AC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ACEB-4144-4C0A-986C-E73B221D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C0AD-BC6E-42D8-986A-3699B745C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2CB80-9361-4227-A780-349BF0C51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5755-C1AD-407F-9C7D-17EB9855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CB8A-2001-4A5B-A571-94431A96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767C-D1BF-4095-A14D-F8AC172F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729C-8EA4-424A-B917-6EBAA058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D174-76A4-4E8D-B3E2-AEB1557F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74FE-AF49-459A-958F-6881A7CD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A4B4-19CA-48B1-9213-D15FE339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ff6c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5" name="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ff6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52" name="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7FE7-4A52-44B9-BB96-62B084F470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ff6c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119" name="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ff6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166" name="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4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ftr" idx="5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6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DBD9-349B-4F52-AACA-93002AEB03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7056360" cy="13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ообщаем дурные нов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21240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Нас ждет глобальное потепление!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Льды растают и затопят низменные участки земли!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rcRect l="32818" t="14428" r="33877" b="28856"/>
          <a:stretch/>
        </p:blipFill>
        <p:spPr>
          <a:xfrm>
            <a:off x="611280" y="549360"/>
            <a:ext cx="82872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 это случилос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665440" y="2285640"/>
            <a:ext cx="6478560" cy="43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Земная поверхность и нагретый воздух излучают тепло. Этот поток энергии должен уходить в космическое пространство, т.к. воздух прозрачен для теплового излучения. Но водяные пары и углекислый газ задерживают часть уходящего в космос теплового излучения (парниковый эффект).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3059280" y="5057640"/>
            <a:ext cx="5113080" cy="17560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rcRect l="32818" t="14428" r="33877" b="28856"/>
          <a:stretch/>
        </p:blipFill>
        <p:spPr>
          <a:xfrm>
            <a:off x="611280" y="549360"/>
            <a:ext cx="82872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 это случилос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43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И так, солнечная энергия распределяется в атмосфере в результате действия различных тепловых явлений: теплопроводности, конвекции, излучения, испарения, «парникового эффекта»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rcRect l="32818" t="14428" r="33877" b="28856"/>
          <a:stretch/>
        </p:blipFill>
        <p:spPr>
          <a:xfrm>
            <a:off x="611280" y="549360"/>
            <a:ext cx="82872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Горячий  мир  Венеры.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rcRect l="32818" t="14428" r="33877" b="28856"/>
          <a:stretch/>
        </p:blipFill>
        <p:spPr>
          <a:xfrm>
            <a:off x="611280" y="549360"/>
            <a:ext cx="82872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имер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705672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08240" y="2286000"/>
            <a:ext cx="64785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Благодаря  парниковому  эффекту,  на  Венере  стоит  ужасная  жара.  Атмосфера,  представляющая  собой  плотное  одеяло  из  углекислого  газа,  удерживает  тепло,  пришедшее  от  Солнца.  В  результате  скапливается  такое  количество  тепловой  энергии, что  температура  атмосферы  горазда  выше,  чем  в  духовке. 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rcRect l="32818" t="14428" r="33877" b="28856"/>
          <a:stretch/>
        </p:blipFill>
        <p:spPr>
          <a:xfrm>
            <a:off x="611280" y="549360"/>
            <a:ext cx="82872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пы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«Парниковый эффект»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Цель: смоделировать механизм парникового эффекта и исследовать изменения температуры в разных условиях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32818" t="14428" r="33877" b="28856"/>
          <a:stretch/>
        </p:blipFill>
        <p:spPr>
          <a:xfrm>
            <a:off x="611280" y="549360"/>
            <a:ext cx="82872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2484360" y="3716280"/>
          <a:ext cx="5832720" cy="26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3716280"/>
                    <a:ext cx="5832720" cy="26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пы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665440" y="2286000"/>
            <a:ext cx="647856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-24696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езультат эксперимента со светлым грунтом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(в координатах «температура-время»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3"/>
          <a:srcRect l="32818" t="14428" r="33877" b="28856"/>
          <a:stretch/>
        </p:blipFill>
        <p:spPr>
          <a:xfrm>
            <a:off x="611280" y="549360"/>
            <a:ext cx="82872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пы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195640" y="2349000"/>
            <a:ext cx="6478560" cy="122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езультат эксперимента с темным грунтом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(в координатах «температура-время»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2664000" y="3911760"/>
          <a:ext cx="6480000" cy="213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4000" y="3911760"/>
                    <a:ext cx="6480000" cy="21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2" name=""/>
          <p:cNvGraphicFramePr/>
          <p:nvPr/>
        </p:nvGraphicFramePr>
        <p:xfrm>
          <a:off x="2268360" y="3840120"/>
          <a:ext cx="6407280" cy="20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3840120"/>
                    <a:ext cx="6407280" cy="20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пы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665440" y="228564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езультаты сравнения температуры в коробках со  светлым и темным грунтом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(в координатах «температура-время»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пы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ыводы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Явление «парникового» эффекта наблюдается в случаях, когда коробки закрыты прозрачной крышкой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овышение температуры в коробке с темным грунтом происходит быстрее, чем в коробке со светлым грунтом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ложение де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08240" y="2286000"/>
            <a:ext cx="64785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щё в 1827 году французский физик Жозеф Фурье предположил, что атмосфера Земли выполняет функцию своего рода стекла в теплице: воздух пропускает солнечное тепло, не давая ему при этом испарится в космос.     Я считаю, что вопрос рассмотрения парникового эффекта актуален в настоящее время, т. к. если гипотеза об антропогенных факторах глобального потепления подтвердится, уже поздно будет что-либо предпринимать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rcRect l="32818" t="14428" r="33877" b="28856"/>
          <a:stretch/>
        </p:blipFill>
        <p:spPr>
          <a:xfrm>
            <a:off x="611280" y="549360"/>
            <a:ext cx="82872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ругое мн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834920" y="2286000"/>
            <a:ext cx="7057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Доктор  физико-математических наук  Олег Сорохтин и завкафедрой  МГУ, член-корреспондент Российской академии наук Андрей Копица предполагают,что увеличение концентрации углекислого  газа  не  ведёт  к  потеплению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«…Наши расчеты  показывают, что, даже если через сто лет случится предсказанное экологами увеличение  концентрации углекислого газа в два раза, это никак не повлияет на глобальную температуру.»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rcRect l="32818" t="14428" r="33877" b="28856"/>
          <a:stretch/>
        </p:blipFill>
        <p:spPr>
          <a:xfrm>
            <a:off x="611280" y="549360"/>
            <a:ext cx="82872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згляд в будуще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03280" y="1989000"/>
            <a:ext cx="7740720" cy="46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Чем нам это грозит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.    Изменение  мирового климата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2.    Увеличение  осадков в тропиках.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3.    В засушливых районах дожди станут еще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более редкими.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4.    Повышение температуры на Земле может вызвать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однятие уровня моря          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5 .   Нарушение водосолевого баланса океанов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6.   Изменятся траектории движения циклонов и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антициклонов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32818" t="14428" r="33877" b="28856"/>
          <a:stretch/>
        </p:blipFill>
        <p:spPr>
          <a:xfrm>
            <a:off x="611280" y="476280"/>
            <a:ext cx="82872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зможные вых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меньшить потребление ископаемого топлив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Извлекать избыток СО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 Narrow"/>
              </a:rPr>
              <a:t>2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из воздух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Восстановление почвенного и растительного покров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рганизация культурного земледелия, создание лесозащитных полос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rcRect l="32818" t="14428" r="33877" b="28856"/>
          <a:stretch/>
        </p:blipFill>
        <p:spPr>
          <a:xfrm>
            <a:off x="611280" y="549360"/>
            <a:ext cx="82872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208240" y="2286000"/>
            <a:ext cx="64785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Я считаю, что сейчас все силы надо бросить на то, чтобы на каждом производстве был разработан замкнутый цикл, то есть чтобы ничего не выбрасывалось ни в воздух, ни в реки, а все перерабатывалось и использовалось. 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Государство получит дополнительную продукцию, а люди будут дышать чистым воздухом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Вероятно, перспектива парникового эффекта может стать катализатором всемирного осознания срочной необходимости начала действий по защите нашей Земли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rcRect l="32818" t="14428" r="33877" b="28856"/>
          <a:stretch/>
        </p:blipFill>
        <p:spPr>
          <a:xfrm>
            <a:off x="611280" y="620640"/>
            <a:ext cx="828720" cy="10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2268360" y="5157720"/>
            <a:ext cx="6191280" cy="101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идимый свет - пропустить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88000" indent="-2880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Тепловое излучение - не пропускать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ложение де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556000" y="2205000"/>
            <a:ext cx="5905440" cy="27367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rcRect l="32818" t="14428" r="33877" b="28856"/>
          <a:stretch/>
        </p:blipFill>
        <p:spPr>
          <a:xfrm>
            <a:off x="611280" y="549360"/>
            <a:ext cx="82872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 это случилос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43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Устойчивая окружающая среда и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тепловые явления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32818" t="14428" r="33877" b="28856"/>
          <a:stretch/>
        </p:blipFill>
        <p:spPr>
          <a:xfrm>
            <a:off x="611280" y="549360"/>
            <a:ext cx="82872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 это случилос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43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стойчивость климата и природных процессов зависит от постоянства потоков энергии в окружающей среде и процессов обмена энергией между Землёй и космосом. Наибольшее влияние на климат оказывает энергия солнечного излучения. 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rcRect l="32818" t="14428" r="33877" b="28856"/>
          <a:stretch/>
        </p:blipFill>
        <p:spPr>
          <a:xfrm>
            <a:off x="611280" y="549360"/>
            <a:ext cx="82872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 это случилос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65440" y="2276280"/>
            <a:ext cx="6478560" cy="43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редположи, что поверхность нагрета солнечным излучением. Часть энергии нагретой поверхности передаётся прилегающим слоям воздуха за счёт теплопроводности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571920" y="5157720"/>
          <a:ext cx="3655800" cy="14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920" y="5157720"/>
                    <a:ext cx="365580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2987640" y="4149720"/>
            <a:ext cx="5400720" cy="22766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"/>
          <a:srcRect l="32818" t="14428" r="33877" b="28856"/>
          <a:stretch/>
        </p:blipFill>
        <p:spPr>
          <a:xfrm>
            <a:off x="611280" y="549360"/>
            <a:ext cx="82872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 это случилос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665440" y="2285640"/>
            <a:ext cx="6478560" cy="43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Нагретый воздух поднимается вверх, образуя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онвективные потоки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3635280" y="4076640"/>
            <a:ext cx="4032360" cy="20242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rcRect l="32818" t="14428" r="33877" b="28856"/>
          <a:stretch/>
        </p:blipFill>
        <p:spPr>
          <a:xfrm>
            <a:off x="539640" y="549360"/>
            <a:ext cx="82872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 это случилос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665440" y="2285640"/>
            <a:ext cx="6478560" cy="43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Часть энергии отдаётся поверхностью  в форме невидимого теплового излучения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916360" y="4365720"/>
            <a:ext cx="5616360" cy="18064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rcRect l="32818" t="14428" r="33877" b="28856"/>
          <a:stretch/>
        </p:blipFill>
        <p:spPr>
          <a:xfrm>
            <a:off x="611280" y="549360"/>
            <a:ext cx="82872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 это случилос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124000" y="2276640"/>
            <a:ext cx="6478560" cy="43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ещё некоторая часть количества теплоты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ереносится в воздух вместе с водой,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спарённой с поверхности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492360" y="4486320"/>
            <a:ext cx="4104000" cy="18223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rcRect l="32818" t="14428" r="33877" b="28856"/>
          <a:stretch/>
        </p:blipFill>
        <p:spPr>
          <a:xfrm>
            <a:off x="611280" y="549360"/>
            <a:ext cx="828720" cy="1028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10:11:26Z</dcterms:created>
  <dc:creator>User</dc:creator>
  <dc:description/>
  <dc:language>en-US</dc:language>
  <cp:lastModifiedBy>Серёжа</cp:lastModifiedBy>
  <dcterms:modified xsi:type="dcterms:W3CDTF">2005-10-21T10:35:22Z</dcterms:modified>
  <cp:revision>5</cp:revision>
  <dc:subject/>
  <dc:title>Сообщаем дурные нов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