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1AA-B625-4947-9851-03F22045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BA4-571F-4C19-B08A-8F119F79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7EC-02DD-49A3-8CF7-913BAE95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746-7972-4871-AD1D-0ED99CD6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D8A-8FB9-42F3-AE69-0D6284B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963-C92D-4072-A1C4-5BFCFB46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71E-E980-4E42-8561-BCF15D2A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11A-6512-46F2-A39C-DC774602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287-2379-49E3-99AA-E6A3DFAD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D09-6536-40BC-9A7E-303472D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39E-9313-4281-9126-475C323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EB1-3B52-40E8-AE04-48655CF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74C3-AD50-4B15-A90C-E7FB0CF618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il/imgres?imgurl=http://i.cnn.net/cnn/2003/HEALTH/diet.fitness/01/21/portion.sizes/story.fast.food.jpg&amp;imgrefurl=http://www.cnn.com/2003/HEALTH/diet.fitness/01/21/portion.sizes/&amp;h=168&amp;w=220&amp;sz=13&amp;tbnid=geFXC8yZiUMJ:&amp;tbnh=77&amp;tbnw=101&amp;hl=iw&amp;start=2&amp;prev=/images%3Fq%3Dfast%2Bfood%26hl%3Diw%26lr%3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.il/imgres?imgurl=http://www.fabricattic.com/Fast%2520Food.jpg&amp;imgrefurl=http://www.fabricattic.com/food,_drink.htm&amp;h=1148&amp;w=1009&amp;sz=52&amp;tbnid=X8wADv_11-UJ:&amp;tbnh=149&amp;tbnw=131&amp;hl=iw&amp;start=3&amp;prev=/images%3Fq%3Dfast%2Bfood%26hl%3Diw%26lr%3D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260280"/>
            <a:ext cx="6697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:Жиры - Липи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5" descr="Digital-Body-Fat-Calculator-For-Measuring-Body-Fat-Percentage"/>
          <p:cNvPicPr/>
          <p:nvPr/>
        </p:nvPicPr>
        <p:blipFill>
          <a:blip r:embed="rId1"/>
          <a:stretch/>
        </p:blipFill>
        <p:spPr>
          <a:xfrm>
            <a:off x="6443640" y="39337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o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933720"/>
            <a:ext cx="962280" cy="7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ast%2520Foo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342900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мег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 морская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е употребление резко снижает риск заболеваний сердца и сосудов, развития раковых клеток, повышения АД, болезни Альцгеймера, депрессивных состоя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овано: 2 порции морской рыбы в неделю. Всего в балансе суточного приема пищи жиры (ненасыщенные) составляют 20% от общего рац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lpha_linolenic"/>
          <p:cNvPicPr/>
          <p:nvPr/>
        </p:nvPicPr>
        <p:blipFill>
          <a:blip r:embed="rId1"/>
          <a:stretch/>
        </p:blipFill>
        <p:spPr>
          <a:xfrm>
            <a:off x="928800" y="0"/>
            <a:ext cx="219060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ardinesMain"/>
          <p:cNvPicPr/>
          <p:nvPr/>
        </p:nvPicPr>
        <p:blipFill>
          <a:blip r:embed="rId2"/>
          <a:stretch/>
        </p:blipFill>
        <p:spPr>
          <a:xfrm>
            <a:off x="6143760" y="285840"/>
            <a:ext cx="1628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составляющая жиров, поступающая вместе с пищей в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содержат насыщенные жирные кислоты и ненасыщенные (определяются, как жидкие по плотности при комнатной температу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riglyceride"/>
          <p:cNvPicPr/>
          <p:nvPr/>
        </p:nvPicPr>
        <p:blipFill>
          <a:blip r:embed="rId1"/>
          <a:stretch/>
        </p:blipFill>
        <p:spPr>
          <a:xfrm>
            <a:off x="5000760" y="342900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G19_04-06l"/>
          <p:cNvPicPr/>
          <p:nvPr/>
        </p:nvPicPr>
        <p:blipFill>
          <a:blip r:embed="rId2"/>
          <a:stretch/>
        </p:blipFill>
        <p:spPr>
          <a:xfrm>
            <a:off x="928800" y="3714840"/>
            <a:ext cx="3168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rocId21Img1"/>
          <p:cNvPicPr/>
          <p:nvPr/>
        </p:nvPicPr>
        <p:blipFill>
          <a:blip r:embed="rId2"/>
          <a:stretch/>
        </p:blipFill>
        <p:spPr>
          <a:xfrm>
            <a:off x="4929120" y="3500280"/>
            <a:ext cx="3167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ы жира, связанные с белками для переноса триглицеридов и жирных кислот в кров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DL,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poprotein"/>
          <p:cNvPicPr/>
          <p:nvPr/>
        </p:nvPicPr>
        <p:blipFill>
          <a:blip r:embed="rId1"/>
          <a:stretch/>
        </p:blipFill>
        <p:spPr>
          <a:xfrm>
            <a:off x="214200" y="3071880"/>
            <a:ext cx="284328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fbblc"/>
          <p:cNvPicPr/>
          <p:nvPr/>
        </p:nvPicPr>
        <p:blipFill>
          <a:blip r:embed="rId2"/>
          <a:stretch/>
        </p:blipFill>
        <p:spPr>
          <a:xfrm>
            <a:off x="3286080" y="2857680"/>
            <a:ext cx="56386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мую влияет на возникновение болезней сердца, сосудов, гипертонии. Это зависит от генетики, привычек питания, физи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али, что пища, богатая ненасыщенными жирами (авокадо, орехи, оливки, масла растительные), сильно уменьшает риск возникновения вышеперечисленных болез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holesterol_top"/>
          <p:cNvPicPr/>
          <p:nvPr/>
        </p:nvPicPr>
        <p:blipFill>
          <a:blip r:embed="rId1"/>
          <a:stretch/>
        </p:blipFill>
        <p:spPr>
          <a:xfrm>
            <a:off x="3286080" y="3786120"/>
            <a:ext cx="2610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1420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особенность: не растворимы в воде, но растворимы в некоторых органических веществах (бензин, ацето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частвуют в построении клеточной мембраны и дают выборочный доступ для прохождения через неё (фосфолипи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hoslip"/>
          <p:cNvPicPr/>
          <p:nvPr/>
        </p:nvPicPr>
        <p:blipFill>
          <a:blip r:embed="rId1"/>
          <a:stretch/>
        </p:blipFill>
        <p:spPr>
          <a:xfrm>
            <a:off x="1071720" y="3571920"/>
            <a:ext cx="2381040" cy="288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ellmemb2"/>
          <p:cNvPicPr/>
          <p:nvPr/>
        </p:nvPicPr>
        <p:blipFill>
          <a:blip r:embed="rId2"/>
          <a:stretch/>
        </p:blipFill>
        <p:spPr>
          <a:xfrm>
            <a:off x="3857760" y="3857760"/>
            <a:ext cx="4464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снова для производства гормонов (сексуальных), холестерина, витам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пас энергии: способность накапливаться в жировых клетках под кожей, внутренних органах, тканях покрытия. Распределение происходит на генетическ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створяют в себе некоторые необходимые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Термоизоляция, защита от механических воз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at_cell"/>
          <p:cNvPicPr/>
          <p:nvPr/>
        </p:nvPicPr>
        <p:blipFill>
          <a:blip r:embed="rId1"/>
          <a:stretch/>
        </p:blipFill>
        <p:spPr>
          <a:xfrm>
            <a:off x="3500280" y="4286160"/>
            <a:ext cx="1943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в п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ая: соя, орехи, маслины и оливки, масло подсолнечное, оливковое, кунжут, канола, авокадо, кок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ings-veg"/>
          <p:cNvPicPr/>
          <p:nvPr/>
        </p:nvPicPr>
        <p:blipFill>
          <a:blip r:embed="rId1"/>
          <a:stretch/>
        </p:blipFill>
        <p:spPr>
          <a:xfrm>
            <a:off x="2000160" y="3500280"/>
            <a:ext cx="70488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il_veg_grn"/>
          <p:cNvPicPr/>
          <p:nvPr/>
        </p:nvPicPr>
        <p:blipFill>
          <a:blip r:embed="rId2"/>
          <a:stretch/>
        </p:blipFill>
        <p:spPr>
          <a:xfrm>
            <a:off x="4214880" y="292896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ичный желток, сливочное масло, сметана, мясные продукты, мясо птицы, сыры,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igissue3"/>
          <p:cNvPicPr/>
          <p:nvPr/>
        </p:nvPicPr>
        <p:blipFill>
          <a:blip r:embed="rId1"/>
          <a:stretch/>
        </p:blipFill>
        <p:spPr>
          <a:xfrm>
            <a:off x="3143160" y="2428920"/>
            <a:ext cx="278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йкозановые кислоты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cosan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заменимых жирных кислоты – линолевая (омега 6) и линоленовая (омега 3). Организм их не производит и необходимо их поступление из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тих кислот извлекаются арахидоновая кислота (АА), эйкозапент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окозагекс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козановые кислоты производятся из А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спользуются как вещества, противодействующие развитию болезней сердца, мозга и образованию холестериновых бляшек в сосу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овано принимать: 6-10г линолевой кислоты и 1-2г линоленовой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28800" y="214200"/>
            <a:ext cx="7758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агланд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мышечное сокращение, понижение артериального давления, терморегуляция, регуляция выделения желудочного сока, противовоспали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йкотри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образуются в лейкоцит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участие в аллергических реакциях, противовоспалительная, регуляция образования и количества лейкоци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мбоксаны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чают за скорость свертываемости крови и количество тромбоцитов, повышают 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ные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ются по длине молекулярной цепи и насыщ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роению состоят из парных молекул углерода: 2-4 молекулы – короткая, 6-10 молекул средняя, 12-22 молекулы – дли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углерода первая в цепи называется ОМ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atty%20acid"/>
          <p:cNvPicPr/>
          <p:nvPr/>
        </p:nvPicPr>
        <p:blipFill>
          <a:blip r:embed="rId1"/>
          <a:stretch/>
        </p:blipFill>
        <p:spPr>
          <a:xfrm>
            <a:off x="571680" y="4214880"/>
            <a:ext cx="3809880" cy="246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atty_acid_es"/>
          <p:cNvPicPr/>
          <p:nvPr/>
        </p:nvPicPr>
        <p:blipFill>
          <a:blip r:embed="rId2"/>
          <a:stretch/>
        </p:blipFill>
        <p:spPr>
          <a:xfrm>
            <a:off x="4857840" y="428616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7:14:31Z</dcterms:created>
  <dc:creator>sharonk</dc:creator>
  <dc:description/>
  <dc:language>en-US</dc:language>
  <cp:lastModifiedBy>1</cp:lastModifiedBy>
  <dcterms:modified xsi:type="dcterms:W3CDTF">2010-03-03T11:19:07Z</dcterms:modified>
  <cp:revision>32</cp:revision>
  <dc:subject/>
  <dc:title>שקופית 1</dc:title>
</cp:coreProperties>
</file>