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23.gif" ContentType="image/gif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29B-2A6C-4EAE-8DC9-D31DF508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E45A-1CBC-4498-A13A-001C5DF2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81D3-787D-4868-8DF7-8D708B8B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D4B-A66B-4956-B115-CAC4F225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AA41-794C-4615-BB7E-61C28106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9D8-33BA-4857-B36B-38B248D4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64BC-1F55-4B79-93DD-42FE594D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8FDC-10B4-4E10-AB86-392A3DDB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C7A7-6226-4306-AC0F-5DAF11F2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84B-FC19-4EA7-8989-C7626D03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F599-6230-432F-AA0D-D4B0A1A1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C1E-6FF4-4C64-865D-85BA9DC3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56D1-7E2F-4570-AB67-F648FB7549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.il/imgres?imgurl=http://i.cnn.net/cnn/2003/HEALTH/diet.fitness/01/21/portion.sizes/story.fast.food.jpg&amp;imgrefurl=http://www.cnn.com/2003/HEALTH/diet.fitness/01/21/portion.sizes/&amp;h=168&amp;w=220&amp;sz=13&amp;tbnid=geFXC8yZiUMJ:&amp;tbnh=77&amp;tbnw=101&amp;hl=iw&amp;start=2&amp;prev=/images%3Fq%3Dfast%2Bfood%26hl%3Diw%26lr%3D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.il/imgres?imgurl=http://www.fabricattic.com/Fast%2520Food.jpg&amp;imgrefurl=http://www.fabricattic.com/food,_drink.htm&amp;h=1148&amp;w=1009&amp;sz=52&amp;tbnid=X8wADv_11-UJ:&amp;tbnh=149&amp;tbnw=131&amp;hl=iw&amp;start=3&amp;prev=/images%3Fq%3Dfast%2Bfood%26hl%3Diw%26lr%3D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76360" y="260280"/>
            <a:ext cx="66978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:Жиры - Липид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5" descr="Digital-Body-Fat-Calculator-For-Measuring-Body-Fat-Percentage"/>
          <p:cNvPicPr/>
          <p:nvPr/>
        </p:nvPicPr>
        <p:blipFill>
          <a:blip r:embed="rId1"/>
          <a:stretch/>
        </p:blipFill>
        <p:spPr>
          <a:xfrm>
            <a:off x="6443640" y="3933720"/>
            <a:ext cx="1714680" cy="1352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stor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3933720"/>
            <a:ext cx="962280" cy="733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Fast%2520Foo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71640" y="3429000"/>
            <a:ext cx="2592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мега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: морская ры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жедневное употребление резко снижает риск заболеваний сердца и сосудов, развития раковых клеток, повышения АД, болезни Альцгеймера, депрессивных состоя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омендовано: 2 порции морской рыбы в неделю. Всего в балансе суточного приема пищи жиры (ненасыщенные) составляют 20% от общего раци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lpha_linolenic"/>
          <p:cNvPicPr/>
          <p:nvPr/>
        </p:nvPicPr>
        <p:blipFill>
          <a:blip r:embed="rId1"/>
          <a:stretch/>
        </p:blipFill>
        <p:spPr>
          <a:xfrm>
            <a:off x="928800" y="0"/>
            <a:ext cx="2190600" cy="2581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SardinesMain"/>
          <p:cNvPicPr/>
          <p:nvPr/>
        </p:nvPicPr>
        <p:blipFill>
          <a:blip r:embed="rId2"/>
          <a:stretch/>
        </p:blipFill>
        <p:spPr>
          <a:xfrm>
            <a:off x="6143760" y="285840"/>
            <a:ext cx="1628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иглицер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я составляющая жиров, поступающая вместе с пищей в организм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глицериды содержат насыщенные жирные кислоты и ненасыщенные (определяются, как жидкие по плотности при комнатной температур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triglyceride"/>
          <p:cNvPicPr/>
          <p:nvPr/>
        </p:nvPicPr>
        <p:blipFill>
          <a:blip r:embed="rId1"/>
          <a:stretch/>
        </p:blipFill>
        <p:spPr>
          <a:xfrm>
            <a:off x="5000760" y="3429000"/>
            <a:ext cx="3240000" cy="2808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FG19_04-06l"/>
          <p:cNvPicPr/>
          <p:nvPr/>
        </p:nvPicPr>
        <p:blipFill>
          <a:blip r:embed="rId2"/>
          <a:stretch/>
        </p:blipFill>
        <p:spPr>
          <a:xfrm>
            <a:off x="928800" y="3714840"/>
            <a:ext cx="3168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глицериды поглощаются и складируются в жировых и мышечных клетках, как источник энер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полиз – распад триглицеридов на отдельные жирные кислоты, которые в дальнейшем используются, как энергия при поступлении в кровь, или как материал для переноса белками в различные клетки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adipogenesis1"/>
          <p:cNvPicPr/>
          <p:nvPr/>
        </p:nvPicPr>
        <p:blipFill>
          <a:blip r:embed="rId1"/>
          <a:stretch/>
        </p:blipFill>
        <p:spPr>
          <a:xfrm>
            <a:off x="857160" y="3143160"/>
            <a:ext cx="3602160" cy="3384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ProcId21Img1"/>
          <p:cNvPicPr/>
          <p:nvPr/>
        </p:nvPicPr>
        <p:blipFill>
          <a:blip r:embed="rId2"/>
          <a:stretch/>
        </p:blipFill>
        <p:spPr>
          <a:xfrm>
            <a:off x="4929120" y="3500280"/>
            <a:ext cx="31672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попроте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екулы жира, связанные с белками для переноса триглицеридов и жирных кислот в кров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DL,HD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lipoprotein"/>
          <p:cNvPicPr/>
          <p:nvPr/>
        </p:nvPicPr>
        <p:blipFill>
          <a:blip r:embed="rId1"/>
          <a:stretch/>
        </p:blipFill>
        <p:spPr>
          <a:xfrm>
            <a:off x="214200" y="3071880"/>
            <a:ext cx="2843280" cy="28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ffbblc"/>
          <p:cNvPicPr/>
          <p:nvPr/>
        </p:nvPicPr>
        <p:blipFill>
          <a:blip r:embed="rId2"/>
          <a:stretch/>
        </p:blipFill>
        <p:spPr>
          <a:xfrm>
            <a:off x="3286080" y="2857680"/>
            <a:ext cx="563868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лестерин (холестер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 в 1733 году , впервые извлечен из желчных камней в 1769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уется в клетках организма, но больше всего в печени (1500мг в день), и поэтому не необходим, как источник пи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при построении гормонов, образования желчи, является составляющей клеточной мембраны (печени, клеток кров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holesterol-packet"/>
          <p:cNvPicPr/>
          <p:nvPr/>
        </p:nvPicPr>
        <p:blipFill>
          <a:blip r:embed="rId1"/>
          <a:stretch/>
        </p:blipFill>
        <p:spPr>
          <a:xfrm>
            <a:off x="3357720" y="4786200"/>
            <a:ext cx="2400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ая пища – источник холесте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йцо -  56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ко 3% (стакан) – 26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о сливочное (100г) – 26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ыр (кусочек) – 25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яжьи мозги (100г) – 199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ядина (100г) – 12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чень говяжья (100г) – 39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га (кусок) – 7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ичный желток (50г) – 1342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иное мясо (100г) – 60-9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юшиное мясо (100г) – 60-80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ая рекомендация: не более 300мг в су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cholesterol"/>
          <p:cNvPicPr/>
          <p:nvPr/>
        </p:nvPicPr>
        <p:blipFill>
          <a:blip r:embed="rId1"/>
          <a:stretch/>
        </p:blipFill>
        <p:spPr>
          <a:xfrm>
            <a:off x="5429160" y="1571760"/>
            <a:ext cx="25434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езни сердца и сосу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2880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лестерол низкой плотност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прикрепляется к стенкам сосудов, образуя холестериновые бляшки – причину атеросклеро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лестерол высокой плотност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срывает бляшки и удаляет их из организма через желчь и Ж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holesterol_animatie"/>
          <p:cNvPicPr/>
          <p:nvPr/>
        </p:nvPicPr>
        <p:blipFill>
          <a:blip r:embed="rId1"/>
          <a:stretch/>
        </p:blipFill>
        <p:spPr>
          <a:xfrm>
            <a:off x="2428920" y="4286160"/>
            <a:ext cx="1552680" cy="1590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patient's_awarness_image36"/>
          <p:cNvPicPr/>
          <p:nvPr/>
        </p:nvPicPr>
        <p:blipFill>
          <a:blip r:embed="rId2"/>
          <a:stretch/>
        </p:blipFill>
        <p:spPr>
          <a:xfrm>
            <a:off x="5072040" y="3786120"/>
            <a:ext cx="273672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ош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ямую влияет на возникновение болезней сердца, сосудов, гипертонии. Это зависит от генетики, привычек питания, физической 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я показали, что пища, богатая ненасыщенными жирами (авокадо, орехи, оливки, масла растительные), сильно уменьшает риск возникновения вышеперечисленных болез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cholesterol_top"/>
          <p:cNvPicPr/>
          <p:nvPr/>
        </p:nvPicPr>
        <p:blipFill>
          <a:blip r:embed="rId1"/>
          <a:stretch/>
        </p:blipFill>
        <p:spPr>
          <a:xfrm>
            <a:off x="3286080" y="3786120"/>
            <a:ext cx="26100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21420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ая особенность: не растворимы в воде, но растворимы в некоторых органических веществах (бензин, ацето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Участвуют в построении клеточной мембраны и дают выборочный доступ для прохождения через неё (фосфолипид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phoslip"/>
          <p:cNvPicPr/>
          <p:nvPr/>
        </p:nvPicPr>
        <p:blipFill>
          <a:blip r:embed="rId1"/>
          <a:stretch/>
        </p:blipFill>
        <p:spPr>
          <a:xfrm>
            <a:off x="1071720" y="3571920"/>
            <a:ext cx="2381040" cy="2887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ellmemb2"/>
          <p:cNvPicPr/>
          <p:nvPr/>
        </p:nvPicPr>
        <p:blipFill>
          <a:blip r:embed="rId2"/>
          <a:stretch/>
        </p:blipFill>
        <p:spPr>
          <a:xfrm>
            <a:off x="3857760" y="3857760"/>
            <a:ext cx="446400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4256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снова для производства гормонов (сексуальных), холестерина, витами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Запас энергии: способность накапливаться в жировых клетках под кожей, внутренних органах, тканях покрытия. Распределение происходит на генетическом уров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Растворяют в себе некоторые необходимые витам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Термоизоляция, защита от механических воздей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fat_cell"/>
          <p:cNvPicPr/>
          <p:nvPr/>
        </p:nvPicPr>
        <p:blipFill>
          <a:blip r:embed="rId1"/>
          <a:stretch/>
        </p:blipFill>
        <p:spPr>
          <a:xfrm>
            <a:off x="3500280" y="4286160"/>
            <a:ext cx="19432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и в пищ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ительная: соя, орехи, маслины и оливки, масло подсолнечное, оливковое, кунжут, канола, авокадо, кок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kings-veg"/>
          <p:cNvPicPr/>
          <p:nvPr/>
        </p:nvPicPr>
        <p:blipFill>
          <a:blip r:embed="rId1"/>
          <a:stretch/>
        </p:blipFill>
        <p:spPr>
          <a:xfrm>
            <a:off x="2000160" y="3500280"/>
            <a:ext cx="704880" cy="124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oil_veg_grn"/>
          <p:cNvPicPr/>
          <p:nvPr/>
        </p:nvPicPr>
        <p:blipFill>
          <a:blip r:embed="rId2"/>
          <a:stretch/>
        </p:blipFill>
        <p:spPr>
          <a:xfrm>
            <a:off x="4214880" y="2928960"/>
            <a:ext cx="3456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а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ичный желток, сливочное масло, сметана, мясные продукты, мясо птицы, сыры, ры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bigissue3"/>
          <p:cNvPicPr/>
          <p:nvPr/>
        </p:nvPicPr>
        <p:blipFill>
          <a:blip r:embed="rId1"/>
          <a:stretch/>
        </p:blipFill>
        <p:spPr>
          <a:xfrm>
            <a:off x="3143160" y="2428920"/>
            <a:ext cx="2781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йкозановые кислоты 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cosan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заменимых жирных кислоты – линолевая (омега 6) и линоленовая (омега 3). Организм их не производит и необходимо их поступление из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этих кислот извлекаются арахидоновая кислота (АА), эйкозапентаеновая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окозагексаеновая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A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йкозановые кислоты производятся из А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и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используются как вещества, противодействующие развитию болезней сердца, мозга и образованию холестериновых бляшек в сосу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овано принимать: 6-10г линолевой кислоты и 1-2г линоленовой в с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28800" y="214200"/>
            <a:ext cx="7758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стагланди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: мышечное сокращение, понижение артериального давления, терморегуляция, регуляция выделения желудочного сока, противовоспалитель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йкотрие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(образуются в лейкоцита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и: участие в аллергических реакциях, противовоспалительная, регуляция образования и количества лейкоци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омбоксаны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вечают за скорость свертываемости крови и количество тромбоцитов, повышают 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рные кисл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99972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личаются по длине молекулярной цепи и насыщ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троению состоят из парных молекул углерода: 2-4 молекулы – короткая, 6-10 молекул средняя, 12-22 молекулы – дли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екула углерода первая в цепи называется ОМ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atty%20acid"/>
          <p:cNvPicPr/>
          <p:nvPr/>
        </p:nvPicPr>
        <p:blipFill>
          <a:blip r:embed="rId1"/>
          <a:stretch/>
        </p:blipFill>
        <p:spPr>
          <a:xfrm>
            <a:off x="571680" y="4214880"/>
            <a:ext cx="3809880" cy="2467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fatty_acid_es"/>
          <p:cNvPicPr/>
          <p:nvPr/>
        </p:nvPicPr>
        <p:blipFill>
          <a:blip r:embed="rId2"/>
          <a:stretch/>
        </p:blipFill>
        <p:spPr>
          <a:xfrm>
            <a:off x="4857840" y="4286160"/>
            <a:ext cx="3600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дрогенизация жи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558hydrogenation"/>
          <p:cNvPicPr/>
          <p:nvPr/>
        </p:nvPicPr>
        <p:blipFill>
          <a:blip r:embed="rId1"/>
          <a:stretch/>
        </p:blipFill>
        <p:spPr>
          <a:xfrm>
            <a:off x="1258920" y="1844640"/>
            <a:ext cx="68421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7:14:31Z</dcterms:created>
  <dc:creator>sharonk</dc:creator>
  <dc:description/>
  <dc:language>en-US</dc:language>
  <cp:lastModifiedBy>1</cp:lastModifiedBy>
  <dcterms:modified xsi:type="dcterms:W3CDTF">2010-03-03T11:19:07Z</dcterms:modified>
  <cp:revision>32</cp:revision>
  <dc:subject/>
  <dc:title>שקופית 1</dc:title>
</cp:coreProperties>
</file>