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587E-6938-49CE-84E3-859CEFAC6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79F-EDF1-4B7F-86E8-F75ACFD5E9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E397-92B4-49FF-AC45-76E8BEC7C5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B55-6D58-4FE3-A35D-0DF64878B8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C896-DAAC-4BBB-A406-65952573D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E2F0-9228-43C3-A75C-970BE5D8FD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1D8-BEF7-4DDD-A61B-02FAAC39E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CBB-E439-4C87-9715-0C97FE00DE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C77-4246-43C6-89DE-051126012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0877-60E7-4F20-BFD2-459A5DF34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926-BF88-4212-9562-D466B225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F56-8873-4308-9AD0-9D76229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03427-D491-473D-9BFC-8282E02F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CEEDC-985B-4098-A4FE-5A6974C4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E7DD0-F633-47C4-9D1C-F0A0454E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C5E33-769C-4B06-AF96-244549F4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97157-EA78-4FAE-8709-253C199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5253-D82B-4A7D-9F3F-EF8FB5E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9F217-6BD7-48F3-92E8-6918202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52D3A-BCC3-4FA8-A0C9-3FE63AA5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C2570-FAE6-4400-8DC0-E105E022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DEA-04ED-48C4-B889-D83A9471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274-1C39-4F3A-AED1-6F0949A1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856F-8081-4622-BCDF-BBD4CF8A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6D41-2EA2-4B5E-8878-D8960758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3BE1-BB38-4921-ADC2-DEA3C026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8767-BA25-43A6-9BA1-BABE9E92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704A-1C25-444A-8FDB-218685B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818-9AAC-40E3-B7F0-BB8B821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D15F-2DB0-4A32-96E1-6CB22B2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569-C47C-405B-A0B2-695326A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012-9CB6-4D29-B549-DC666986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B084-085E-4C5D-B1DF-CBDD0781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983A-DA62-4076-B07A-7BF5F90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57E8-4C11-43A5-A3F1-0520378A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3753-339C-4BAA-8BFA-3A7A71AD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F0A7-F575-4BF1-BB89-675210B7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14E7-4270-4A25-81DB-97319EF6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9F3F-2084-4C69-A7C7-93C5AEA6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E22C-24E3-400E-B09B-1A117868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3818-9056-4357-B649-F4301FE4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D9F-36A5-496E-893A-4F9475C2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FC34-2542-4614-A13C-5FB356AE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725C-C85B-4339-8518-DC25554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F9C2-5338-4AD5-9592-EB2410EE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EA4E-C82B-4154-B801-2083AEF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C21A-80E6-4A65-B8C4-64216F40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30DF-EA87-4913-AE25-508744CC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B80E-F998-48BA-9CBE-4BEAD33D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F17C-D549-4188-9C7B-FB82A485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E78C8-D7C5-429E-B79D-E8E691E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9453-D66E-48BE-AE48-50CD15D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087-96DA-4EBA-8415-687512B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7E64-0053-433E-8739-7208EC3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E126-EDF1-4160-AA85-0A72B110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15C6-4EB9-43B7-9EB0-9686A9A1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E1B0-5649-4B50-9466-A956D17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2B14B-0B45-4086-B9E9-C8FD62A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33F4-91FA-4E74-ACA9-491140D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B648-76B5-4FD0-94B6-2BBA2E75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6CC9-A93B-48B9-9E5E-5147AD47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AA66-9CE0-4531-93F4-244767E4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7ABA-572B-4043-B6C0-8422DCB5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CAD-C582-4B3D-A010-78D1BF5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968C2-DD50-4504-B69B-683CA90D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42B8-BF2F-4913-8913-66CE01BD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74F1-5A1D-4994-893B-A7B3B7E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FCEB-F6BE-465A-8ACF-408D8C69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5159-52D0-44B3-9ABC-93E80D4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0D6A-838C-4571-B21B-D77F17AE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36FF-E281-41A6-9215-392433C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82F6-CE04-4C74-AD82-C93909B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24724-B0DB-45C0-B471-3218FB02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E7CD-4B69-4541-AB5D-2851FF77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FFA-F872-40EA-850A-DDD5DA2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1904-CBF9-474C-A67B-8BD32D72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38D1-312C-4E30-A66C-73CEBC18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FFA5A-6583-4182-BD2B-D3E5351E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39318-66ED-4AA7-95BC-EB158250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3042-0A64-4241-B457-A15F827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0B31-A382-4E60-8943-8006C5A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CA83-45B0-46B9-848C-8A8438F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D4309-028E-4ED3-9075-5FFFE5A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59B3-DB71-41FA-933A-9B5C6BE4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3452-0487-4B4C-BBFE-72A2FFC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56D-A103-4F98-B917-B72F54A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E6F2-948E-4C3E-B474-DD801D8D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639B-2B1F-4308-8CFF-1A52749F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88A8-BC31-467F-AE0D-05754F7F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6C4AD-C572-4E6F-8D7C-EEB2CAD2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FD2E-DFF4-4147-BBCF-E60634CF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83CDE-0BDB-42D9-BA1F-28720B2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6B58-E782-4BFA-B4F3-A00036B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4BB38-D301-470B-83A1-53F684AA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B303-DDA4-478D-AA07-87928347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DF2EC-3612-4BF1-8624-E5D5ABA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EA6-FE2A-439D-A465-58CF8B4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5EF7-CF5D-4507-BD0C-864F19C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875C8-AAC0-46AB-9FDD-2574AA5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4BE5C-3777-486C-B2CD-A91F74A4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45076-DE2A-4EDD-ADFD-40C25D61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2C14-C04E-4E4E-B236-157E7F52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F41E-6A4A-4E78-B72C-43A713D0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CABB0-0452-455B-B8DF-9C9D253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79BD-A4BD-4088-B9A5-C5C5E04F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8E289-8CB9-431B-A2E4-3890DA03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678A-1E99-43C2-86FA-6998D7DE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1A5-6DE7-4DAC-A810-B00ED8D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E9185-1878-4C4B-8DF2-4D3BD12E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FA875-3740-4E7C-AA4D-168BFE9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94268-CBC0-4D43-9B02-4235656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1F985-FE59-4FAF-9C99-F72C39C5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0D40D-FFF0-4E79-B2ED-72DC2BF4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CE942-3F55-4E54-AC34-A01AFD95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A21D-C9A6-4E9F-B6CC-627A77B4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2BDA3-5F06-499E-A29C-87AE33D5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A69EA-0D3B-4728-B060-43367C8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5F561-A135-476E-B69E-316AEEED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D39B-6FA6-4868-B65A-1BE3683E6621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5E77-53E7-4405-A627-9998BD3BD90F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2C0E-25EB-4F62-BCB8-F7677A5D6673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43B-EC2D-4892-9F35-8FE9393DB87C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F70D-2C80-461F-8AAA-2626264CA490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69E-3F98-43C8-8EE1-C1782A710496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F7F4-1D4F-4C91-907A-CC2FE232DE27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01E-5891-4D26-B885-3B719741CA1E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D06-6E53-47BF-931B-34DBEDD3FE3E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3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686800" cy="1353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G:\инф.jpg"/>
          <p:cNvPicPr/>
          <p:nvPr/>
        </p:nvPicPr>
        <p:blipFill>
          <a:blip r:embed="rId2"/>
          <a:stretch/>
        </p:blipFill>
        <p:spPr>
          <a:xfrm>
            <a:off x="357120" y="364320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4214880" y="22147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се прогрессы реакцион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если  рушится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Конвенция о правах ребенка определяет необходимость доступа детей лишь к той информации, которая направлена на содействие их социальному, духовному и моральному благополучию, здоровому физическому и психическому развитию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Доступ детей к информации регулируют также законы РФ «Об информации, информационных технологиях и о защите информации», «О средствах массовой информации», «Об основных гарантиях прав ребенка в РФ»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86800" cy="1360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b13f9a"/>
                </a:solidFill>
                <a:latin typeface="Franklin Gothic Book"/>
              </a:rPr>
              <a:t>В 2006 году вступила в действие программа «Образование», в соответствии с которой в образовательных учреждениях были созданы компьютерные классы с подключением их к Интернету, что расширило возможности оперативного обращения школьников к современной информаци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686800" cy="1841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Доступное обращение говорить открыто и на всех уровнях, вплоть до Президента РФ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дистанционное обучение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быстрое овладевание нужной информацией при подготовке к урокам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свободное общение в различных сообществах.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Разрыв тесной связи с природной средой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полное погружение из реальной жизни в виртуальную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психика  не успевает перестраиваться и обретать состояние устойчивой адаптированности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человек уподобляется роботоподобному существованию…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49120" y="457200"/>
            <a:ext cx="8742600" cy="927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Телемания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Сетемания («Интернет-зависимость»)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Игромания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патологическая тяга к просмотру различных телепередач, сериалов и т.д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0" name="Picture 3" descr="G:\инф6.jpg"/>
          <p:cNvPicPr/>
          <p:nvPr/>
        </p:nvPicPr>
        <p:blipFill>
          <a:blip r:embed="rId2"/>
          <a:stretch/>
        </p:blipFill>
        <p:spPr>
          <a:xfrm>
            <a:off x="3357720" y="3594240"/>
            <a:ext cx="20714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376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300" spc="-1" strike="noStrike">
                <a:solidFill>
                  <a:srgbClr val="b13f9a"/>
                </a:solidFill>
                <a:latin typeface="Franklin Gothic Book"/>
              </a:rPr>
              <a:t>вид нехимической зависимости, выраженный в патологической тяге пользования сетью Интернет.</a:t>
            </a:r>
            <a:endParaRPr b="0" lang="en-US" sz="33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endParaRPr b="0" lang="en-US" sz="33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3" name="Picture 2" descr="http://nocombats.narod.ru/newim.gif"/>
          <p:cNvPicPr/>
          <p:nvPr/>
        </p:nvPicPr>
        <p:blipFill>
          <a:blip r:embed="rId2"/>
          <a:stretch/>
        </p:blipFill>
        <p:spPr>
          <a:xfrm>
            <a:off x="2857680" y="3500280"/>
            <a:ext cx="34290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патологическая зависимость от различных видов азартных игр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6" name="Picture 2" descr="G:\инф2.jpg"/>
          <p:cNvPicPr/>
          <p:nvPr/>
        </p:nvPicPr>
        <p:blipFill>
          <a:blip r:embed="rId2"/>
          <a:stretch/>
        </p:blipFill>
        <p:spPr>
          <a:xfrm>
            <a:off x="2643120" y="3143160"/>
            <a:ext cx="3970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16680" cy="1359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повышение общего уровня информационной культуры людей;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налаживание эффективного взаимодействия работы школы и родителей в сфере воспитания  и обучения детей;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установка семейного фильтра при выходе в сеть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1:40Z</dcterms:created>
  <dc:creator>ff</dc:creator>
  <dc:description/>
  <dc:language>en-US</dc:language>
  <cp:lastModifiedBy>1</cp:lastModifiedBy>
  <dcterms:modified xsi:type="dcterms:W3CDTF">2014-03-20T16:35:45Z</dcterms:modified>
  <cp:revision>14</cp:revision>
  <dc:subject/>
  <dc:title>Информационная безопасность  наших детей</dc:title>
</cp:coreProperties>
</file>