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EA73-23D0-4AFE-AD9A-5168E74A00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2EF3-9A73-4EF8-ADCB-68A6C4967A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13A5-52C0-464B-A8A6-8ACC0D5677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48FD-2FA7-4470-8B2A-8BA549727A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0868-AFF7-4CEC-B4B8-3B569C53AD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727A-255D-4F5A-AAE5-D7BEA1AD41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0594-41A7-4179-A80F-63B72F40E6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B434-4C57-4652-BA42-CC596DD4ED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DCBF-E898-48F2-82CD-8A9F5A23A9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6CFB-8C6A-4A3B-8589-4BF10DB6F0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BAA-2E8E-4436-AF11-5FF7EDDA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E39-6231-41E0-B4C2-11FCDDB7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FE0B2-18F5-4F6B-9D94-774E17D0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8B1B2-CB4E-4E3C-B88E-A1195A2E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9D3FE-DBB9-45DE-9304-58F33B95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4B51B-6435-48D6-A2E1-980D1023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A45B2-7710-4DBB-87E1-72EC23A8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AEB40-56C8-460F-8E81-1BE1AF19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4BE21-47E7-45B4-9FB0-1315D5C7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98063-CB9F-43E1-AE3D-566D6CD5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88046-1D0F-4A06-AC84-FD723B4A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501-66D2-4C72-97CE-FEA6DDA6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2B5-1029-4B66-8BC8-C751FF6E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F112-14AC-4764-902E-2B4751BD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CC97-400C-4812-8C00-9DFEC273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6ECE-8E91-4592-AE4F-D92A1A2F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CFAC-ACF5-4756-918C-9B851B79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7472-8EA3-4D89-8BD4-A79384D2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06F3-A110-4F25-A253-A8762F1F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F79F-2FC8-4BFF-8B93-71F0A79B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A34-A0DB-4D2F-9546-C62F0D76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6FA3-35E1-46C6-BC72-8731698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3711-A16C-4867-AE00-277663A6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8029-0EFD-4751-996D-EDB8F1C8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4EA0-62D3-4471-BA50-D99B288C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A07E-04CE-44DF-87FD-872C201E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2DC0-7B74-4C26-AD99-447E61EB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6489-4D8A-40A1-A00A-F660D15F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4D1E-C6DA-47AC-80E5-8A5B32C8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B4B9-6311-4B67-AFF2-1325EF85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1025-413C-481A-B674-9D3D81B4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D0A-93DF-4E2F-A5ED-D1D6FD70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B9097-500F-4B29-BFCE-1D8C8CEE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FB5D-64C5-419F-BDB6-585F3F15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C784-BD56-41CC-A9DD-3F6486CB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04A1-55E2-446A-95E4-F6B1459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0FAD4-3C6F-4A25-851B-AADF286A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7F40-79F4-4844-9404-5EE4074E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6FFD-3F3D-40E8-B84B-DDB9772F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7DB4F-3BEA-47EA-A02B-1BFA3BB4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CD20F-2617-487A-B3AB-9145E205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90F18-E022-4848-A850-DC5E6CE3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6B2-949F-4CBB-AAA5-B7D8346B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8640B-A8DF-4335-A924-F31281A3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7127D-9947-4F01-83C6-0D40B6E2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C1C8-6071-452A-8DAF-ACB895FC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708A2-04EB-4481-B593-399D5568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FB560-CBF3-416A-90F1-B7BA409C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321B8-417C-4546-85E8-99DC3EC7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6F03D-07AA-461D-8B04-C6363D31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1BB91-9C25-4551-A5EA-FAB5879D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6C31-A58C-45F3-8817-F99771F6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5231-C893-4F23-9B0C-675F1183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D6E-3FC8-40C3-82B1-5662E720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59D92-B334-4557-976C-B5275AA2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C5C2A-9C20-4944-BF36-34213D52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6C326-B42E-4B2B-9653-827791B3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148CD-1444-4ABA-AD6E-C4A850C8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072DB-B849-452A-9D9A-49A4DFC1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0BD6-7ABB-4E9A-9FE9-9FABC967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5016-3DFD-4458-BCCF-F44EB946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83A2-EAE3-483D-9552-29BB757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C12BA-322E-444F-A374-AF608530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C48E-0224-42C8-8647-492BB9F9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B9F-E9C8-41A0-9145-95E5BE40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BDFE9-4475-4A0B-A988-8F072428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4DDAC-615A-4240-A96B-80C630F7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EF95D-C41C-4DDE-A7F1-0222CFCB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18D98-A9E8-46B5-B61F-E59499FF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8B399-14A1-4C3C-8367-E4155A0A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F6526-44D1-4359-9935-CB5E85D9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48204-D33F-4CAC-8460-5E510575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86BA7-BC7D-4F63-9B78-1D808788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43BD6-0738-4CD3-88A0-26ED5163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60099-7EDE-4092-A805-BF12D23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36A-770C-41B0-8BA1-4ED403B5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95A7-DBEE-4745-B9DA-9DACB2E4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90B9A-437E-4648-8F1F-4D5FE258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84BA2-ED19-4682-8133-A4F3334D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38357-7AD6-464C-9FA2-1DE3CA99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1D413-C696-426B-A644-5301CA5A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06A19-7FDF-42F4-91F8-1BD2AE6B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A3083-F462-4D20-99B5-6FC7EADE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B692E-449D-4284-8203-F87CBFB5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42481-DADB-4F4D-9CB4-BD4AB447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2AA2A-1983-42FB-8518-4DC6CBEC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3CA-31DA-45A1-B3CB-3CB4300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4085-9E0E-424B-9D5A-71A04931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B5D06-C5AA-42FE-BA64-9747A727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92788-183A-4940-9ADC-33E9935F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B1AC7-AD03-412C-B852-9CC2E244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19E6C-97D0-4707-9AE3-D85696FF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B137E-572E-455F-9B20-7ADCBB66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67767-B5A5-4F74-B4C1-59637388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47815-1C52-44C5-8FDD-60301681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96A96-F362-4E71-97F7-B0A93D01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4EAAA-DA28-470E-8C14-7142A29D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D80-A190-44B4-BF46-E4513639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A4F8C-4BED-4321-ABE2-3B0BCA5B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29860-00D6-463A-91D6-ADC76949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B73DC-CBE7-41B2-A9EC-09E8DEBF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75A48-5675-4DE5-88C1-A70B2565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357AE-38CD-4486-AA95-A812C6B7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B0110-5D00-416E-B6BB-F2F371A1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ECFD7-E4FA-4932-8F2C-1556C68E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9B051C-05A8-45B0-A0AA-EFDCE18F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CA868-D705-4D46-898D-29CA73CE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E60E4-32CE-4EF1-8628-D9500DAE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CD3A-A31E-48FE-B7AB-7B48BB783410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74ED-E998-4B8B-B6CC-B3E1EECCA57E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C4B6-4E7E-4C6A-8A1D-97C2686E861A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C4E1-8CB0-4B74-BF11-7C87364C7792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3EDC-CDBD-41BB-8B3A-4F22702F7A9F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948C-36A2-4FE6-860B-3ADB1411D4E3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E54E-7ADC-46BF-8A5E-B17ED509371E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E18E-A164-4E6E-B038-E3FEE843D540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3CB0-1698-4930-9081-9B9B0A73D906}" type="slidenum">
              <a:rPr b="0" lang="ru-RU" sz="1200" spc="-1" strike="noStrike">
                <a:solidFill>
                  <a:srgbClr val="a2355b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3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686800" cy="1353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G:\инф.jpg"/>
          <p:cNvPicPr/>
          <p:nvPr/>
        </p:nvPicPr>
        <p:blipFill>
          <a:blip r:embed="rId2"/>
          <a:stretch/>
        </p:blipFill>
        <p:spPr>
          <a:xfrm>
            <a:off x="357120" y="3643200"/>
            <a:ext cx="3000600" cy="30006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4214880" y="221472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се прогрессы реакционн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если  рушится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Конвенция о правах ребенка определяет необходимость доступа детей лишь к той информации, которая направлена на содействие их социальному, духовному и моральному благополучию, здоровому физическому и психическому развитию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13f9a"/>
                </a:solidFill>
                <a:latin typeface="Franklin Gothic Book"/>
              </a:rPr>
              <a:t>Доступ детей к информации регулируют также законы РФ «Об информации, информационных технологиях и о защите информации», «О средствах массовой информации», «Об основных гарантиях прав ребенка в РФ».</a:t>
            </a:r>
            <a:endParaRPr b="0" lang="en-US" sz="3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85840" y="96840"/>
            <a:ext cx="8686800" cy="13604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b13f9a"/>
                </a:solidFill>
                <a:latin typeface="Franklin Gothic Book"/>
              </a:rPr>
              <a:t>В 2006 году вступила в действие программа «Образование», в соответствии с которой в образовательных учреждениях были созданы компьютерные классы с подключением их к Интернету, что расширило возможности оперативного обращения школьников к современной информации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686800" cy="18414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Доступное обращение говорить открыто и на всех уровнях, вплоть до Президента РФ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дистанционное обучение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быстрое овладевание нужной информацией при подготовке к урокам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свободное общение в различных сообществах.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Разрыв тесной связи с природной средой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полное погружение из реальной жизни в виртуальную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психика  не успевает перестраиваться и обретать состояние устойчивой адаптированности;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b13f9a"/>
                </a:solidFill>
                <a:latin typeface="Franklin Gothic Book"/>
              </a:rPr>
              <a:t>человек уподобляется роботоподобному существованию…</a:t>
            </a:r>
            <a:endParaRPr b="0" lang="en-US" sz="2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49120" y="457200"/>
            <a:ext cx="8742600" cy="927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Телемания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Сетемания («Интернет-зависимость»)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Игромания 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патологическая тяга к просмотру различных телепередач, сериалов и т.д.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0" name="Picture 3" descr="G:\инф6.jpg"/>
          <p:cNvPicPr/>
          <p:nvPr/>
        </p:nvPicPr>
        <p:blipFill>
          <a:blip r:embed="rId2"/>
          <a:stretch/>
        </p:blipFill>
        <p:spPr>
          <a:xfrm>
            <a:off x="3357720" y="3594240"/>
            <a:ext cx="20714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0303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3760"/>
            <a:ext cx="86868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b13f9a"/>
                </a:solidFill>
                <a:latin typeface="Franklin Gothic Book"/>
              </a:rPr>
              <a:t>   </a:t>
            </a:r>
            <a:r>
              <a:rPr b="1" lang="ru-RU" sz="3300" spc="-1" strike="noStrike">
                <a:solidFill>
                  <a:srgbClr val="b13f9a"/>
                </a:solidFill>
                <a:latin typeface="Franklin Gothic Book"/>
              </a:rPr>
              <a:t>вид нехимической зависимости, выраженный в патологической тяге пользования сетью Интернет.</a:t>
            </a:r>
            <a:endParaRPr b="0" lang="en-US" sz="3300" spc="-1" strike="noStrike">
              <a:solidFill>
                <a:srgbClr val="b13f9a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b13f9a"/>
                </a:solidFill>
                <a:latin typeface="Franklin Gothic Book"/>
              </a:rPr>
              <a:t> </a:t>
            </a:r>
            <a:endParaRPr b="0" lang="en-US" sz="33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3" name="Picture 2" descr="http://nocombats.narod.ru/newim.gif"/>
          <p:cNvPicPr/>
          <p:nvPr/>
        </p:nvPicPr>
        <p:blipFill>
          <a:blip r:embed="rId2"/>
          <a:stretch/>
        </p:blipFill>
        <p:spPr>
          <a:xfrm>
            <a:off x="2857680" y="3500280"/>
            <a:ext cx="34290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b13f9a"/>
                </a:solidFill>
                <a:latin typeface="Franklin Gothic Book"/>
              </a:rPr>
              <a:t>патологическая зависимость от различных видов азартных игр.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6" name="Picture 2" descr="G:\инф2.jpg"/>
          <p:cNvPicPr/>
          <p:nvPr/>
        </p:nvPicPr>
        <p:blipFill>
          <a:blip r:embed="rId2"/>
          <a:stretch/>
        </p:blipFill>
        <p:spPr>
          <a:xfrm>
            <a:off x="2643120" y="3143160"/>
            <a:ext cx="39704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16680" cy="1359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повышение общего уровня информационной культуры людей;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29040" indent="-32904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налаживание эффективного взаимодействия работы школы и родителей в сфере воспитания  и обучения детей;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  <a:p>
            <a:pPr marL="329040" indent="-329040">
              <a:spcBef>
                <a:spcPts val="901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13f9a"/>
                </a:solidFill>
                <a:latin typeface="Franklin Gothic Book"/>
              </a:rPr>
              <a:t>установка семейного фильтра при выходе в сеть.</a:t>
            </a:r>
            <a:endParaRPr b="0" lang="en-US" sz="36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1:40Z</dcterms:created>
  <dc:creator>ff</dc:creator>
  <dc:description/>
  <dc:language>en-US</dc:language>
  <cp:lastModifiedBy>1</cp:lastModifiedBy>
  <dcterms:modified xsi:type="dcterms:W3CDTF">2014-03-20T16:35:45Z</dcterms:modified>
  <cp:revision>14</cp:revision>
  <dc:subject/>
  <dc:title>Информационная безопасность  наших детей</dc:title>
</cp:coreProperties>
</file>