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63E-684B-4F04-8754-38EA8C239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F679-2BFE-4D74-8871-958AE72FA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DEC2-0B0E-49D2-8852-108CB08955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816D-C3ED-4CC1-8B4F-6BB253B527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C4A5-837F-4E09-BD3B-57EE418F6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277-6F35-456C-B9A0-69DF5586A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6AC-FD68-4195-98C7-0A003AA6E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ECC-F7F0-409F-8B20-E5DE390AD0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9629-4B3B-4357-ADAF-63FA237A0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BFE6-9936-4AC3-818B-5BB31E0AE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5ED-B076-4394-8A7B-929872B0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2FA-7BE2-4DBB-80D2-708A534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E8CED-38A7-48A8-85E9-10EAB2CF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B47D3-BE62-46B8-8743-D1BC246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3E2FD-3D17-49A3-92C9-A934B3D4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F8AF6-44CE-4AF0-BF75-1487705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E20C5-63F9-4099-A721-AFF891A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573D6-0E30-4F72-8539-FDB5E87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6EB3E-A31B-4B65-B30B-03D09839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F7466-1014-4B5E-82DA-6C4C7BA4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E82FC-0840-4899-8D1A-3271040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E94-A10C-46C4-808C-B7FE5773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5DE-D8AB-468F-A157-BC8EFAA8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5A6-81A9-4CE4-8C38-8E1CFC5B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9509-7CFF-499F-BAB0-C1FE024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DA50-4F37-4FDF-B481-51270C4A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5E0-D794-4DD9-878D-601B2CB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CB9C-161C-4492-A89F-56E84E2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27FD-D82A-4ADC-B434-1A297D7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FF0-03C9-4238-BBA6-3C5C0590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DCD-FACF-4D5E-BF38-A657B79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BB6-F669-4C23-B799-5B24CEB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D6E0-251D-468C-900C-26527C8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FA7-6EE0-42B9-8FDF-CC78276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A3E-E3D3-4AA2-BF98-B3C82878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7B1-C5FC-4DB5-B1FE-D384EAE3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517F-BE64-4F77-93C8-D4E2104C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A12D-4DD6-41F4-A1CB-97DB035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EEC8-C717-4A31-9B78-0417F04F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E429-7820-440F-95FC-37DF5F4C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3D35-976C-4840-8A14-5DDD37C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328-B9A8-4C4D-AEE2-1E75173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D630-37E3-40CF-82C1-08094F2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00C0-6F96-456A-BC20-992052E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031F-8BE7-4779-ADEB-CBE3006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3629-A37F-454C-BFB9-B5A81FC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6341-86DE-478F-8B1F-42E3CA3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41D6-7A3F-4E6D-950E-6DF62E9B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9894-DD61-45B6-8B42-1929209B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BB2A-2FE6-4212-BD04-7F1F5C36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F7EC-6457-435E-9797-A10C5609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5CE2-5A1C-46C8-886E-0A86BA0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808-F437-4E01-B9F4-D19DDC6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16D1-B7E1-4F95-AC3E-7DAC404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B8DE-E5AE-4F4D-A88E-263EC50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CC50-CE65-472C-B756-51DFB954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F33D-091F-49C7-BE90-6E40936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8F86-585E-4FCA-8408-07890E2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D4E0-25B7-4148-824B-4F3AD85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03D7-1640-4150-AD04-4CAD0D3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9740-C080-410C-9329-367CC733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A862-B2CF-4B06-B13F-2A28AF6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8728-5F29-4AF1-A462-199D5BC8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4D0-6445-4CA2-8726-B4B29BC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EB11-B69B-4A6D-BAC1-91B531C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E9B4-D9EB-4C44-AA6C-891C99D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DC03-3BE5-4616-9288-A49FB63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2175-73D1-4D10-A61C-631786F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E567-2C17-485B-9BF9-AAC026CA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9D46-44F2-4278-A3B6-FE8B133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C46F-4E36-44F6-A4B1-E7A110D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37C7-7316-46AA-92F0-98CF9C74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865D8-2F76-43B9-8B21-EF2D4565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E41C-435B-4605-B3B0-4041A4FB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52C-5A85-4757-858C-C77BEAB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2577C-BDC0-49A4-88E0-CA33BA57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099F-7670-4A3A-ADA0-63C72124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A320-DCEF-42D3-97CB-8EE030E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1903-1056-4413-BF89-5904BF8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E035-31F3-4615-9343-FF461AB0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C51DB-FE74-47D2-AC49-4F192DDC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041E-AEE0-435A-9C84-C1009183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5EF2-7560-459F-901B-A6A4878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641A-EC36-4877-A9AA-6BBBC64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E315A-E11B-4EC5-9345-3035004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90-63A1-49BF-9CB4-A103E08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123A-A18C-4802-BFED-438536B3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91138-6393-4975-A5E6-A9564F2A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85539-A092-4FD4-98BD-5ADA6F6F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03949-FC5D-4CFB-B00E-98F81D6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70602-7481-4A10-96C9-FEF43A3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C0E15-83CF-4837-B846-FB6D0F6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3151-19E9-4D9C-A75E-D9BFDDB8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E1D2-E750-4E35-829A-690FE252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FF6A6-F89A-43B5-BF74-D2E2F4B1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16E4-6F9E-4D61-A558-4AA711C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650-5E4F-4299-952E-D25C9D1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3CAE-9E2B-4810-9FB8-90929A5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36D5-0323-4062-B838-FE0776F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A8C5-8EAD-4A4D-A38E-BBE65DF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F01C-80DB-4E17-B9BD-25284DA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B2E2-CE83-4413-A683-6BEEBB84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0AD77-9A1E-4E12-8180-FDCFFB58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F25B-8793-4AB7-B58B-813EA17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9FC14-820E-4279-8487-30B2B98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8EEA-DC24-4C07-B221-02B32388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D8A65-0373-45A0-9719-FFE6CEC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B98-443D-4279-ABE7-D8AFCB0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8E239-DA37-4B8A-B54B-B9C86EE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C3034-74E7-430E-B0B7-E0B03C4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F793C-B674-47C5-A7AF-5C78C541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7506-B8A6-4BDF-81EE-74847035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0A6F-276E-4928-92AE-E04CE75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7DA6-CD8E-483A-BD62-E03CF85E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8F8E-B150-4FB2-9EDA-54BE7278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27ACD-2E47-44AF-BCA2-407144D4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794A5-33E9-4240-A9F2-3B7B80B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82D62-A79E-40B0-9D7A-D7C3991A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226-D24C-4DB9-8785-EBCFB24A1062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CF04-18C0-4C82-9DAB-F1F746EF5947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5B8-56F8-4BAF-ACBB-65B5D8F516FD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BF63-160E-4F24-83DC-ACB94C906067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C92-C5D9-4AAB-8AB0-C8F32C485BDB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F4D-F834-4E63-94B7-D818FBE0251C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8CE-E297-4578-91A5-B1C251012A12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E296-C5FE-4F02-A021-7AE32AF5CD52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295-566E-4E5C-AA0E-2DE4D7372D66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3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G:\инф.jpg"/>
          <p:cNvPicPr/>
          <p:nvPr/>
        </p:nvPicPr>
        <p:blipFill>
          <a:blip r:embed="rId2"/>
          <a:stretch/>
        </p:blipFill>
        <p:spPr>
          <a:xfrm>
            <a:off x="357120" y="364320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4214880" y="22147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се прогрессы реакцион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если  рушится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Конвенция о правах ребенка определяет необходимость доступа детей лишь к той информации, которая направлена на содействие их социальному, духовному и моральному благополучию, здоровому физическому и психическому развитию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Доступ детей к информации регулируют также законы РФ «Об информации, информационных технологиях и о защите информации», «О средствах массовой информации», «Об основных гарантиях прав ребенка в РФ»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86800" cy="1360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В 2006 году вступила в действие программа «Образование», в соответствии с которой в образовательных учреждениях были созданы компьютерные классы с подключением их к Интернету, что расширило возможности оперативного обращения школьников к современной информаци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686800" cy="1841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оступное обращение говорить открыто и на всех уровнях, вплоть до Президента РФ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истанционное обучение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быстрое овладевание нужной информацией при подготовке к урокам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свободное общение в различных сообществах.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Разрыв тесной связи с природной средой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олное погружение из реальной жизни в виртуальную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сихика  не успевает перестраиваться и обретать состояние устойчивой адаптированности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человек уподобляется роботоподобному существованию…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49120" y="457200"/>
            <a:ext cx="8742600" cy="927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Теле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Сетемания («Интернет-зависимость»)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Игро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тяга к просмотру различных телепередач, сериалов и т.д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3" descr="G:\инф6.jpg"/>
          <p:cNvPicPr/>
          <p:nvPr/>
        </p:nvPicPr>
        <p:blipFill>
          <a:blip r:embed="rId2"/>
          <a:stretch/>
        </p:blipFill>
        <p:spPr>
          <a:xfrm>
            <a:off x="3357720" y="3594240"/>
            <a:ext cx="20714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376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вид нехимической зависимости, выраженный в патологической тяге пользования сетью Интернет.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3" name="Picture 2" descr="http://nocombats.narod.ru/newim.gif"/>
          <p:cNvPicPr/>
          <p:nvPr/>
        </p:nvPicPr>
        <p:blipFill>
          <a:blip r:embed="rId2"/>
          <a:stretch/>
        </p:blipFill>
        <p:spPr>
          <a:xfrm>
            <a:off x="2857680" y="3500280"/>
            <a:ext cx="3429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зависимость от различных видов азартных игр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6" name="Picture 2" descr="G:\инф2.jpg"/>
          <p:cNvPicPr/>
          <p:nvPr/>
        </p:nvPicPr>
        <p:blipFill>
          <a:blip r:embed="rId2"/>
          <a:stretch/>
        </p:blipFill>
        <p:spPr>
          <a:xfrm>
            <a:off x="2643120" y="3143160"/>
            <a:ext cx="397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16680" cy="1359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повышение общего уровня информационной культуры люд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налаживание эффективного взаимодействия работы школы и родителей в сфере воспитания  и обучения дет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установка семейного фильтра при выходе в сеть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1:40Z</dcterms:created>
  <dc:creator>ff</dc:creator>
  <dc:description/>
  <dc:language>en-US</dc:language>
  <cp:lastModifiedBy>1</cp:lastModifiedBy>
  <dcterms:modified xsi:type="dcterms:W3CDTF">2014-03-20T16:35:45Z</dcterms:modified>
  <cp:revision>14</cp:revision>
  <dc:subject/>
  <dc:title>Информационная безопасность  наших детей</dc:title>
</cp:coreProperties>
</file>