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png" ContentType="image/png"/>
  <Override PartName="/ppt/media/image8.gif" ContentType="image/gif"/>
  <Override PartName="/ppt/media/%D0%B2%D0%BC%D0%B5%D1%81%D1%82%D0%B5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90C-13C4-4D9B-AE6E-D7AD549E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BC8-E1D7-4519-ABD2-55B998E7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4CC-D7D1-49E8-8C0C-AD273B9B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CF4-6FAC-4B0C-8484-6FCC9547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EEA-3B63-4FBB-8BFB-BE4E3365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A840-8875-4DE5-9456-80D8F1C7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C82-CB15-45A7-9279-1139C6A7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8BB-CE8D-4CE3-909C-5E97DAAA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D76-A8D9-4E3B-BB9A-19A0D18C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7D40-FBAF-4ABD-AA53-48ABB4A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51E-44B7-4256-8EE7-F81A255F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954-AFAD-4DB8-930C-F099F91B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5A04-ECA5-420B-8147-5A0C67A67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slide" Target="slide1.xml"/><Relationship Id="rId14" Type="http://schemas.openxmlformats.org/officeDocument/2006/relationships/audio" Target="../media/&#1074;&#1084;&#1077;&#1089;&#1090;&#1077;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амостоятельная работа 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по обучению грамоте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ец выполнения для самопроверк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238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1. Выдели в тексте отдельные  высказы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упил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озная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ма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н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и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че  выпал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ступила   морозная   зи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ни  стали  короче.  Выпал   снег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. Напиши по одной строчной и заглавной букве, которые ты уже умеешь писать правильно и краси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Алфавит1"/>
          <p:cNvPicPr/>
          <p:nvPr/>
        </p:nvPicPr>
        <p:blipFill>
          <a:blip r:embed="rId1"/>
          <a:stretch/>
        </p:blipFill>
        <p:spPr>
          <a:xfrm>
            <a:off x="611280" y="1711440"/>
            <a:ext cx="7921440" cy="438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0" y="3933720"/>
            <a:ext cx="4032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4653000"/>
            <a:ext cx="34560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4653000"/>
            <a:ext cx="172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300640"/>
            <a:ext cx="172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3. Раздели слова на слоги и поставь ударение в словах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ль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,    до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к,   мо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,   де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,       у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,      мяч,    Ю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|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4. Определите мягкость или твердость согласных в следующих  схем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       А                               У         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                 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11960" y="-360"/>
            <a:ext cx="611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11960" y="-360"/>
            <a:ext cx="611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360" y="1557360"/>
            <a:ext cx="86364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1557360"/>
            <a:ext cx="863280" cy="77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1557360"/>
            <a:ext cx="86364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1557360"/>
            <a:ext cx="863640" cy="77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3213000"/>
            <a:ext cx="86328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3213000"/>
            <a:ext cx="863640" cy="770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213000"/>
            <a:ext cx="863280" cy="7700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cc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Придумай  слово, в котором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 слог;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 согласных  и 2 гласных  зв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с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А У И О Ы Э Е Ё Ю 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Б В Г Д Ж З К Л М Н П Р                          С Т Ф Х Ц Ч Ш 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vin84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71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4"/>
          <p:cNvSpPr txBox="1"/>
          <p:nvPr/>
        </p:nvSpPr>
        <p:spPr>
          <a:xfrm>
            <a:off x="1042920" y="2421000"/>
            <a:ext cx="72741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0" name="Picture 5" descr="12m6"/>
          <p:cNvPicPr/>
          <p:nvPr/>
        </p:nvPicPr>
        <p:blipFill>
          <a:blip r:embed="rId5"/>
          <a:stretch/>
        </p:blipFill>
        <p:spPr>
          <a:xfrm>
            <a:off x="3419640" y="3716280"/>
            <a:ext cx="2952720" cy="2498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6"/>
          <a:stretch/>
        </p:blipFill>
        <p:spPr>
          <a:xfrm>
            <a:off x="7308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b10"/>
          <p:cNvPicPr/>
          <p:nvPr/>
        </p:nvPicPr>
        <p:blipFill>
          <a:blip r:embed="rId7"/>
          <a:stretch/>
        </p:blipFill>
        <p:spPr>
          <a:xfrm rot="20069400">
            <a:off x="5670720" y="2784240"/>
            <a:ext cx="1095120" cy="3840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b10"/>
          <p:cNvPicPr/>
          <p:nvPr/>
        </p:nvPicPr>
        <p:blipFill>
          <a:blip r:embed="rId8"/>
          <a:stretch/>
        </p:blipFill>
        <p:spPr>
          <a:xfrm rot="188400">
            <a:off x="6635880" y="2774520"/>
            <a:ext cx="771480" cy="370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b10"/>
          <p:cNvPicPr/>
          <p:nvPr/>
        </p:nvPicPr>
        <p:blipFill>
          <a:blip r:embed="rId9"/>
          <a:stretch/>
        </p:blipFill>
        <p:spPr>
          <a:xfrm rot="21151200">
            <a:off x="5985000" y="1418760"/>
            <a:ext cx="1355760" cy="4991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b10"/>
          <p:cNvPicPr/>
          <p:nvPr/>
        </p:nvPicPr>
        <p:blipFill>
          <a:blip r:embed="rId10"/>
          <a:stretch/>
        </p:blipFill>
        <p:spPr>
          <a:xfrm rot="20069400">
            <a:off x="1616040" y="3323880"/>
            <a:ext cx="817560" cy="3271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b10"/>
          <p:cNvPicPr/>
          <p:nvPr/>
        </p:nvPicPr>
        <p:blipFill>
          <a:blip r:embed="rId11"/>
          <a:stretch/>
        </p:blipFill>
        <p:spPr>
          <a:xfrm rot="21349200">
            <a:off x="1834920" y="1341360"/>
            <a:ext cx="1390680" cy="5146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b10"/>
          <p:cNvPicPr/>
          <p:nvPr/>
        </p:nvPicPr>
        <p:blipFill>
          <a:blip r:embed="rId12"/>
          <a:stretch/>
        </p:blipFill>
        <p:spPr>
          <a:xfrm rot="924600">
            <a:off x="2646000" y="3502080"/>
            <a:ext cx="70020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3">
            <a:hlinkClick r:id="rId13" action="ppaction://hlinksldjump"/>
          </p:cNvPr>
          <p:cNvSpPr/>
          <p:nvPr/>
        </p:nvSpPr>
        <p:spPr>
          <a:xfrm>
            <a:off x="4356000" y="6093000"/>
            <a:ext cx="574920" cy="504720"/>
          </a:xfrm>
          <a:custGeom>
            <a:avLst/>
            <a:gdLst>
              <a:gd name="textAreaLeft" fmla="*/ 32400 w 574920"/>
              <a:gd name="textAreaRight" fmla="*/ 542520 w 574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02" h="21600">
                <a:moveTo>
                  <a:pt x="0" y="0"/>
                </a:moveTo>
                <a:lnTo>
                  <a:pt x="24602" y="0"/>
                </a:lnTo>
                <a:lnTo>
                  <a:pt x="24602" y="21600"/>
                </a:lnTo>
                <a:lnTo>
                  <a:pt x="0" y="21600"/>
                </a:lnTo>
                <a:close/>
              </a:path>
              <a:path fill="lightenLess" w="24602" h="21600">
                <a:moveTo>
                  <a:pt x="0" y="0"/>
                </a:moveTo>
                <a:lnTo>
                  <a:pt x="24602" y="0"/>
                </a:lnTo>
                <a:lnTo>
                  <a:pt x="23202" y="1400"/>
                </a:lnTo>
                <a:lnTo>
                  <a:pt x="1400" y="1400"/>
                </a:lnTo>
                <a:close/>
              </a:path>
              <a:path fill="darken" w="24602" h="21600">
                <a:moveTo>
                  <a:pt x="24602" y="0"/>
                </a:moveTo>
                <a:lnTo>
                  <a:pt x="24602" y="21600"/>
                </a:lnTo>
                <a:lnTo>
                  <a:pt x="23202" y="20200"/>
                </a:lnTo>
                <a:lnTo>
                  <a:pt x="23202" y="1400"/>
                </a:lnTo>
                <a:close/>
              </a:path>
              <a:path fill="darkenLess" w="24602" h="21600">
                <a:moveTo>
                  <a:pt x="24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02" y="20200"/>
                </a:lnTo>
                <a:close/>
              </a:path>
              <a:path fill="lighten" w="24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02" h="21600">
                <a:moveTo>
                  <a:pt x="12301" y="3837"/>
                </a:moveTo>
                <a:lnTo>
                  <a:pt x="14877" y="6448"/>
                </a:lnTo>
                <a:lnTo>
                  <a:pt x="14877" y="4707"/>
                </a:lnTo>
                <a:lnTo>
                  <a:pt x="16653" y="4707"/>
                </a:lnTo>
                <a:lnTo>
                  <a:pt x="16653" y="8224"/>
                </a:lnTo>
                <a:lnTo>
                  <a:pt x="19264" y="10800"/>
                </a:lnTo>
                <a:lnTo>
                  <a:pt x="17610" y="10800"/>
                </a:lnTo>
                <a:lnTo>
                  <a:pt x="17610" y="17989"/>
                </a:lnTo>
                <a:lnTo>
                  <a:pt x="6992" y="17989"/>
                </a:lnTo>
                <a:lnTo>
                  <a:pt x="6992" y="10800"/>
                </a:lnTo>
                <a:lnTo>
                  <a:pt x="5338" y="10800"/>
                </a:lnTo>
                <a:close/>
              </a:path>
              <a:path fill="darkenLess" w="24602" h="21600">
                <a:moveTo>
                  <a:pt x="14877" y="6448"/>
                </a:moveTo>
                <a:lnTo>
                  <a:pt x="14877" y="4707"/>
                </a:lnTo>
                <a:lnTo>
                  <a:pt x="16653" y="4707"/>
                </a:lnTo>
                <a:lnTo>
                  <a:pt x="16653" y="8224"/>
                </a:lnTo>
                <a:close/>
              </a:path>
              <a:path fill="darkenLess" w="24602" h="21600">
                <a:moveTo>
                  <a:pt x="11378" y="14299"/>
                </a:moveTo>
                <a:lnTo>
                  <a:pt x="13224" y="14299"/>
                </a:lnTo>
                <a:lnTo>
                  <a:pt x="13224" y="17989"/>
                </a:lnTo>
                <a:lnTo>
                  <a:pt x="17610" y="17989"/>
                </a:lnTo>
                <a:lnTo>
                  <a:pt x="17610" y="10800"/>
                </a:lnTo>
                <a:lnTo>
                  <a:pt x="6992" y="10800"/>
                </a:lnTo>
                <a:lnTo>
                  <a:pt x="6992" y="17989"/>
                </a:lnTo>
                <a:lnTo>
                  <a:pt x="11378" y="17989"/>
                </a:lnTo>
                <a:close/>
              </a:path>
            </a:pathLst>
          </a:custGeom>
          <a:gradFill rotWithShape="0">
            <a:gsLst>
              <a:gs pos="0">
                <a:srgbClr val="5e0000"/>
              </a:gs>
              <a:gs pos="50000">
                <a:srgbClr val="cc0000"/>
              </a:gs>
              <a:gs pos="100000">
                <a:srgbClr val="5e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699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0:52:40Z</dcterms:created>
  <dc:creator>Пользователь</dc:creator>
  <dc:description/>
  <dc:language>en-US</dc:language>
  <cp:lastModifiedBy>Пользователь</cp:lastModifiedBy>
  <dcterms:modified xsi:type="dcterms:W3CDTF">2012-01-21T11:42:54Z</dcterms:modified>
  <cp:revision>2</cp:revision>
  <dc:subject/>
  <dc:title>Cамостоятельная работа  по обучению грамоте 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