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png" ContentType="image/png"/>
  <Override PartName="/ppt/media/image8.gif" ContentType="image/gif"/>
  <Override PartName="/ppt/media/%D0%B2%D0%BC%D0%B5%D1%81%D1%82%D0%B5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8B7-D86F-4D8E-B88C-52DDA439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9AA-17C2-4EA1-AF3D-5ADC17FF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C13-2A64-4897-9411-45067D43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E0E-A050-4BBB-9890-A095D5AD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144-4500-4CCF-A9E3-72843A64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3D1-EC36-4E01-823C-7785116D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B66-5E06-4C1E-8EEB-575E7A8C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5B8-AF0E-47B2-890A-AD74499A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E5F-FF2E-49BF-8CB2-A08A0F7C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C0E-69AE-4F1E-A7CF-341C9784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D09-6BB2-4373-9428-F06A0D8F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5E3-425F-4C80-A4DC-2C14411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C768-3D45-4972-A978-1C70E0345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" Target="slide1.xml"/><Relationship Id="rId14" Type="http://schemas.openxmlformats.org/officeDocument/2006/relationships/audio" Target="../media/&#1074;&#1084;&#1077;&#1089;&#1090;&#1077;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амостоятельная работа 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о обучению грамоте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ец выполнения для самопроверк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38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1. Выдели в тексте отдельные  высказы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упил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озная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н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че  выпал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ступила   морозная   зи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ни  стали  короче.  Выпал   снег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Напиши по одной строчной и заглавной букве, которые ты уже умеешь писать правильно и краси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Алфавит1"/>
          <p:cNvPicPr/>
          <p:nvPr/>
        </p:nvPicPr>
        <p:blipFill>
          <a:blip r:embed="rId1"/>
          <a:stretch/>
        </p:blipFill>
        <p:spPr>
          <a:xfrm>
            <a:off x="611280" y="1711440"/>
            <a:ext cx="7921440" cy="438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933720"/>
            <a:ext cx="4032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4653000"/>
            <a:ext cx="34560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4653000"/>
            <a:ext cx="172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300640"/>
            <a:ext cx="172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3. Раздели слова на слоги и поставь ударение в словах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ь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,    до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,   мо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,   де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,       у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,      мяч,    Ю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4. Определите мягкость или твердость согласных в следующих  схем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       А                               У         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                 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11960" y="-360"/>
            <a:ext cx="611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11960" y="-360"/>
            <a:ext cx="611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1557360"/>
            <a:ext cx="86364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1557360"/>
            <a:ext cx="863280" cy="77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1557360"/>
            <a:ext cx="86364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557360"/>
            <a:ext cx="863640" cy="77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3213000"/>
            <a:ext cx="86328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3213000"/>
            <a:ext cx="86364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213000"/>
            <a:ext cx="863280" cy="77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cc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Придумай  слово, в котором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 слог;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 согласных  и 2 гласных  зв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с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А У И О Ы Э Е Ё Ю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Б В Г Д Ж З К Л М Н П Р                          С Т Ф Х Ц Ч Ш 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vin84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71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4"/>
          <p:cNvSpPr txBox="1"/>
          <p:nvPr/>
        </p:nvSpPr>
        <p:spPr>
          <a:xfrm>
            <a:off x="1042920" y="2421000"/>
            <a:ext cx="72741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0" name="Picture 5" descr="12m6"/>
          <p:cNvPicPr/>
          <p:nvPr/>
        </p:nvPicPr>
        <p:blipFill>
          <a:blip r:embed="rId5"/>
          <a:stretch/>
        </p:blipFill>
        <p:spPr>
          <a:xfrm>
            <a:off x="3419640" y="3716280"/>
            <a:ext cx="2952720" cy="2498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6"/>
          <a:stretch/>
        </p:blipFill>
        <p:spPr>
          <a:xfrm>
            <a:off x="7308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b10"/>
          <p:cNvPicPr/>
          <p:nvPr/>
        </p:nvPicPr>
        <p:blipFill>
          <a:blip r:embed="rId7"/>
          <a:stretch/>
        </p:blipFill>
        <p:spPr>
          <a:xfrm rot="20069400">
            <a:off x="5670720" y="2784240"/>
            <a:ext cx="1095120" cy="3840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b10"/>
          <p:cNvPicPr/>
          <p:nvPr/>
        </p:nvPicPr>
        <p:blipFill>
          <a:blip r:embed="rId8"/>
          <a:stretch/>
        </p:blipFill>
        <p:spPr>
          <a:xfrm rot="188400">
            <a:off x="6635880" y="2774520"/>
            <a:ext cx="771480" cy="370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b10"/>
          <p:cNvPicPr/>
          <p:nvPr/>
        </p:nvPicPr>
        <p:blipFill>
          <a:blip r:embed="rId9"/>
          <a:stretch/>
        </p:blipFill>
        <p:spPr>
          <a:xfrm rot="21151200">
            <a:off x="5985000" y="1418760"/>
            <a:ext cx="1355760" cy="4991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b10"/>
          <p:cNvPicPr/>
          <p:nvPr/>
        </p:nvPicPr>
        <p:blipFill>
          <a:blip r:embed="rId10"/>
          <a:stretch/>
        </p:blipFill>
        <p:spPr>
          <a:xfrm rot="20069400">
            <a:off x="1616040" y="3323880"/>
            <a:ext cx="817560" cy="32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b10"/>
          <p:cNvPicPr/>
          <p:nvPr/>
        </p:nvPicPr>
        <p:blipFill>
          <a:blip r:embed="rId11"/>
          <a:stretch/>
        </p:blipFill>
        <p:spPr>
          <a:xfrm rot="21349200">
            <a:off x="1834920" y="1341360"/>
            <a:ext cx="1390680" cy="514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b10"/>
          <p:cNvPicPr/>
          <p:nvPr/>
        </p:nvPicPr>
        <p:blipFill>
          <a:blip r:embed="rId12"/>
          <a:stretch/>
        </p:blipFill>
        <p:spPr>
          <a:xfrm rot="924600">
            <a:off x="2646000" y="3502080"/>
            <a:ext cx="70020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3">
            <a:hlinkClick r:id="rId13" action="ppaction://hlinksldjump"/>
          </p:cNvPr>
          <p:cNvSpPr/>
          <p:nvPr/>
        </p:nvSpPr>
        <p:spPr>
          <a:xfrm>
            <a:off x="4356000" y="6093000"/>
            <a:ext cx="574920" cy="50472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02" h="21600">
                <a:moveTo>
                  <a:pt x="0" y="0"/>
                </a:moveTo>
                <a:lnTo>
                  <a:pt x="24602" y="0"/>
                </a:lnTo>
                <a:lnTo>
                  <a:pt x="24602" y="21600"/>
                </a:lnTo>
                <a:lnTo>
                  <a:pt x="0" y="21600"/>
                </a:lnTo>
                <a:close/>
              </a:path>
              <a:path fill="lightenLess" w="24602" h="21600">
                <a:moveTo>
                  <a:pt x="0" y="0"/>
                </a:moveTo>
                <a:lnTo>
                  <a:pt x="24602" y="0"/>
                </a:lnTo>
                <a:lnTo>
                  <a:pt x="23202" y="1400"/>
                </a:lnTo>
                <a:lnTo>
                  <a:pt x="1400" y="1400"/>
                </a:lnTo>
                <a:close/>
              </a:path>
              <a:path fill="darken" w="24602" h="21600">
                <a:moveTo>
                  <a:pt x="24602" y="0"/>
                </a:moveTo>
                <a:lnTo>
                  <a:pt x="24602" y="21600"/>
                </a:lnTo>
                <a:lnTo>
                  <a:pt x="23202" y="20200"/>
                </a:lnTo>
                <a:lnTo>
                  <a:pt x="23202" y="1400"/>
                </a:lnTo>
                <a:close/>
              </a:path>
              <a:path fill="darkenLess" w="24602" h="21600">
                <a:moveTo>
                  <a:pt x="2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02" y="20200"/>
                </a:lnTo>
                <a:close/>
              </a:path>
              <a:path fill="lighten" w="2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02" h="21600">
                <a:moveTo>
                  <a:pt x="12301" y="3837"/>
                </a:moveTo>
                <a:lnTo>
                  <a:pt x="14877" y="6448"/>
                </a:lnTo>
                <a:lnTo>
                  <a:pt x="14877" y="4707"/>
                </a:lnTo>
                <a:lnTo>
                  <a:pt x="16653" y="4707"/>
                </a:lnTo>
                <a:lnTo>
                  <a:pt x="16653" y="8224"/>
                </a:lnTo>
                <a:lnTo>
                  <a:pt x="19264" y="10800"/>
                </a:lnTo>
                <a:lnTo>
                  <a:pt x="17610" y="10800"/>
                </a:lnTo>
                <a:lnTo>
                  <a:pt x="17610" y="17989"/>
                </a:lnTo>
                <a:lnTo>
                  <a:pt x="6992" y="17989"/>
                </a:lnTo>
                <a:lnTo>
                  <a:pt x="6992" y="10800"/>
                </a:lnTo>
                <a:lnTo>
                  <a:pt x="5338" y="10800"/>
                </a:lnTo>
                <a:close/>
              </a:path>
              <a:path fill="darkenLess" w="24602" h="21600">
                <a:moveTo>
                  <a:pt x="14877" y="6448"/>
                </a:moveTo>
                <a:lnTo>
                  <a:pt x="14877" y="4707"/>
                </a:lnTo>
                <a:lnTo>
                  <a:pt x="16653" y="4707"/>
                </a:lnTo>
                <a:lnTo>
                  <a:pt x="16653" y="8224"/>
                </a:lnTo>
                <a:close/>
              </a:path>
              <a:path fill="darkenLess" w="24602" h="21600">
                <a:moveTo>
                  <a:pt x="11378" y="14299"/>
                </a:moveTo>
                <a:lnTo>
                  <a:pt x="13224" y="14299"/>
                </a:lnTo>
                <a:lnTo>
                  <a:pt x="13224" y="17989"/>
                </a:lnTo>
                <a:lnTo>
                  <a:pt x="17610" y="17989"/>
                </a:lnTo>
                <a:lnTo>
                  <a:pt x="17610" y="10800"/>
                </a:lnTo>
                <a:lnTo>
                  <a:pt x="6992" y="10800"/>
                </a:lnTo>
                <a:lnTo>
                  <a:pt x="6992" y="17989"/>
                </a:lnTo>
                <a:lnTo>
                  <a:pt x="11378" y="17989"/>
                </a:lnTo>
                <a:close/>
              </a:path>
            </a:pathLst>
          </a:custGeom>
          <a:gradFill rotWithShape="0">
            <a:gsLst>
              <a:gs pos="0">
                <a:srgbClr val="5e0000"/>
              </a:gs>
              <a:gs pos="5000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99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0:52:40Z</dcterms:created>
  <dc:creator>Пользователь</dc:creator>
  <dc:description/>
  <dc:language>en-US</dc:language>
  <cp:lastModifiedBy>Пользователь</cp:lastModifiedBy>
  <dcterms:modified xsi:type="dcterms:W3CDTF">2012-01-21T11:42:54Z</dcterms:modified>
  <cp:revision>2</cp:revision>
  <dc:subject/>
  <dc:title>Cамостоятельная работа  по обучению грамоте 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