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png" ContentType="image/png"/>
  <Override PartName="/ppt/media/image8.gif" ContentType="image/gif"/>
  <Override PartName="/ppt/media/%D0%B2%D0%BC%D0%B5%D1%81%D1%82%D0%B5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C1D-9D53-4D45-A313-1631DA85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6EFB-4A83-4E73-BEA6-39B8F324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201-651F-4BDC-AE9E-A55C2CB3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FAB-6618-4B2E-9412-324E1615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3C2-A1F8-4A98-B4CB-9C7A0F4D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72F-DE29-435D-AA31-DF5291D2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6CD-FD70-4FC7-92D2-239864EA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BA1-266B-4A58-8C96-BE427FFB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6F7-22A9-4859-9F9D-F3A3BBB1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B98-7951-4A1A-A110-5C5185D4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F7A-CEE4-4757-BD6D-076FC439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0E2-AFC0-4427-A10D-AF8304FC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82BC-4639-4BB2-8FD2-C64B508EE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" Target="slide1.xml"/><Relationship Id="rId14" Type="http://schemas.openxmlformats.org/officeDocument/2006/relationships/audio" Target="../media/&#1074;&#1084;&#1077;&#1089;&#1090;&#1077;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амостоятельная работа </a:t>
            </a:r>
            <a:br>
              <a:rPr sz="4400"/>
            </a:b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по обучению грамоте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ец выполнения для самопроверки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238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1. Выдели в тексте отдельные  высказы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упил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розная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м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ни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и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оче  выпал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е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ступила   морозная   зи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ни  стали  короче.  Выпал   снег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. Напиши по одной строчной и заглавной букве, которые ты уже умеешь писать правильно и краси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Алфавит1"/>
          <p:cNvPicPr/>
          <p:nvPr/>
        </p:nvPicPr>
        <p:blipFill>
          <a:blip r:embed="rId1"/>
          <a:stretch/>
        </p:blipFill>
        <p:spPr>
          <a:xfrm>
            <a:off x="611280" y="1711440"/>
            <a:ext cx="7921440" cy="438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933720"/>
            <a:ext cx="4032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4653000"/>
            <a:ext cx="345600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4653000"/>
            <a:ext cx="1728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5300640"/>
            <a:ext cx="1728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3. Раздели слова на слоги и поставь ударение в словах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ль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,    до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,   мо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,   де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,       у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,      мяч,    Ю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4. Определите мягкость или твердость согласных в следующих  схем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        А                               У         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                  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11960" y="-360"/>
            <a:ext cx="611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11960" y="-360"/>
            <a:ext cx="611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0360" y="1557360"/>
            <a:ext cx="863640" cy="7700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36000" y="1557360"/>
            <a:ext cx="863280" cy="7700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5640" y="1557360"/>
            <a:ext cx="863640" cy="7700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1557360"/>
            <a:ext cx="863640" cy="7700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3213000"/>
            <a:ext cx="863280" cy="7700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3213000"/>
            <a:ext cx="863640" cy="7700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3213000"/>
            <a:ext cx="863280" cy="7700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cc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Придумай  слово, в котором 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 слог; 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 согласных  и 2 гласных  зв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с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А У И О Ы Э Е Ё Ю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с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Б В Г Д Ж З К Л М Н П Р                          С Т Ф Х Ц Ч Ш 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vin84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5716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4"/>
          <p:cNvSpPr txBox="1"/>
          <p:nvPr/>
        </p:nvSpPr>
        <p:spPr>
          <a:xfrm>
            <a:off x="1042920" y="2421000"/>
            <a:ext cx="727416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443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</a:t>
            </a:r>
            <a:endParaRPr b="1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0" name="Picture 5" descr="12m6"/>
          <p:cNvPicPr/>
          <p:nvPr/>
        </p:nvPicPr>
        <p:blipFill>
          <a:blip r:embed="rId5"/>
          <a:stretch/>
        </p:blipFill>
        <p:spPr>
          <a:xfrm>
            <a:off x="3419640" y="3716280"/>
            <a:ext cx="2952720" cy="2498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6"/>
          <a:stretch/>
        </p:blipFill>
        <p:spPr>
          <a:xfrm>
            <a:off x="730872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b10"/>
          <p:cNvPicPr/>
          <p:nvPr/>
        </p:nvPicPr>
        <p:blipFill>
          <a:blip r:embed="rId7"/>
          <a:stretch/>
        </p:blipFill>
        <p:spPr>
          <a:xfrm rot="20069400">
            <a:off x="5670720" y="2784240"/>
            <a:ext cx="1095120" cy="3840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b10"/>
          <p:cNvPicPr/>
          <p:nvPr/>
        </p:nvPicPr>
        <p:blipFill>
          <a:blip r:embed="rId8"/>
          <a:stretch/>
        </p:blipFill>
        <p:spPr>
          <a:xfrm rot="188400">
            <a:off x="6635880" y="2774520"/>
            <a:ext cx="771480" cy="370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b10"/>
          <p:cNvPicPr/>
          <p:nvPr/>
        </p:nvPicPr>
        <p:blipFill>
          <a:blip r:embed="rId9"/>
          <a:stretch/>
        </p:blipFill>
        <p:spPr>
          <a:xfrm rot="21151200">
            <a:off x="5985000" y="1418760"/>
            <a:ext cx="1355760" cy="4991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b10"/>
          <p:cNvPicPr/>
          <p:nvPr/>
        </p:nvPicPr>
        <p:blipFill>
          <a:blip r:embed="rId10"/>
          <a:stretch/>
        </p:blipFill>
        <p:spPr>
          <a:xfrm rot="20069400">
            <a:off x="1616040" y="3323880"/>
            <a:ext cx="817560" cy="3271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b10"/>
          <p:cNvPicPr/>
          <p:nvPr/>
        </p:nvPicPr>
        <p:blipFill>
          <a:blip r:embed="rId11"/>
          <a:stretch/>
        </p:blipFill>
        <p:spPr>
          <a:xfrm rot="21349200">
            <a:off x="1834920" y="1341360"/>
            <a:ext cx="1390680" cy="514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b10"/>
          <p:cNvPicPr/>
          <p:nvPr/>
        </p:nvPicPr>
        <p:blipFill>
          <a:blip r:embed="rId12"/>
          <a:stretch/>
        </p:blipFill>
        <p:spPr>
          <a:xfrm rot="924600">
            <a:off x="2646000" y="3502080"/>
            <a:ext cx="700200" cy="30240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3">
            <a:hlinkClick r:id="rId13" action="ppaction://hlinksldjump"/>
          </p:cNvPr>
          <p:cNvSpPr/>
          <p:nvPr/>
        </p:nvSpPr>
        <p:spPr>
          <a:xfrm>
            <a:off x="4356000" y="6093000"/>
            <a:ext cx="574920" cy="504720"/>
          </a:xfrm>
          <a:custGeom>
            <a:avLst/>
            <a:gdLst>
              <a:gd name="textAreaLeft" fmla="*/ 32400 w 574920"/>
              <a:gd name="textAreaRight" fmla="*/ 542520 w 574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02" h="21600">
                <a:moveTo>
                  <a:pt x="0" y="0"/>
                </a:moveTo>
                <a:lnTo>
                  <a:pt x="24602" y="0"/>
                </a:lnTo>
                <a:lnTo>
                  <a:pt x="24602" y="21600"/>
                </a:lnTo>
                <a:lnTo>
                  <a:pt x="0" y="21600"/>
                </a:lnTo>
                <a:close/>
              </a:path>
              <a:path fill="lightenLess" w="24602" h="21600">
                <a:moveTo>
                  <a:pt x="0" y="0"/>
                </a:moveTo>
                <a:lnTo>
                  <a:pt x="24602" y="0"/>
                </a:lnTo>
                <a:lnTo>
                  <a:pt x="23202" y="1400"/>
                </a:lnTo>
                <a:lnTo>
                  <a:pt x="1400" y="1400"/>
                </a:lnTo>
                <a:close/>
              </a:path>
              <a:path fill="darken" w="24602" h="21600">
                <a:moveTo>
                  <a:pt x="24602" y="0"/>
                </a:moveTo>
                <a:lnTo>
                  <a:pt x="24602" y="21600"/>
                </a:lnTo>
                <a:lnTo>
                  <a:pt x="23202" y="20200"/>
                </a:lnTo>
                <a:lnTo>
                  <a:pt x="23202" y="1400"/>
                </a:lnTo>
                <a:close/>
              </a:path>
              <a:path fill="darkenLess" w="24602" h="21600">
                <a:moveTo>
                  <a:pt x="24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02" y="20200"/>
                </a:lnTo>
                <a:close/>
              </a:path>
              <a:path fill="lighten" w="24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02" h="21600">
                <a:moveTo>
                  <a:pt x="12301" y="3837"/>
                </a:moveTo>
                <a:lnTo>
                  <a:pt x="14877" y="6448"/>
                </a:lnTo>
                <a:lnTo>
                  <a:pt x="14877" y="4707"/>
                </a:lnTo>
                <a:lnTo>
                  <a:pt x="16653" y="4707"/>
                </a:lnTo>
                <a:lnTo>
                  <a:pt x="16653" y="8224"/>
                </a:lnTo>
                <a:lnTo>
                  <a:pt x="19264" y="10800"/>
                </a:lnTo>
                <a:lnTo>
                  <a:pt x="17610" y="10800"/>
                </a:lnTo>
                <a:lnTo>
                  <a:pt x="17610" y="17989"/>
                </a:lnTo>
                <a:lnTo>
                  <a:pt x="6992" y="17989"/>
                </a:lnTo>
                <a:lnTo>
                  <a:pt x="6992" y="10800"/>
                </a:lnTo>
                <a:lnTo>
                  <a:pt x="5338" y="10800"/>
                </a:lnTo>
                <a:close/>
              </a:path>
              <a:path fill="darkenLess" w="24602" h="21600">
                <a:moveTo>
                  <a:pt x="14877" y="6448"/>
                </a:moveTo>
                <a:lnTo>
                  <a:pt x="14877" y="4707"/>
                </a:lnTo>
                <a:lnTo>
                  <a:pt x="16653" y="4707"/>
                </a:lnTo>
                <a:lnTo>
                  <a:pt x="16653" y="8224"/>
                </a:lnTo>
                <a:close/>
              </a:path>
              <a:path fill="darkenLess" w="24602" h="21600">
                <a:moveTo>
                  <a:pt x="11378" y="14299"/>
                </a:moveTo>
                <a:lnTo>
                  <a:pt x="13224" y="14299"/>
                </a:lnTo>
                <a:lnTo>
                  <a:pt x="13224" y="17989"/>
                </a:lnTo>
                <a:lnTo>
                  <a:pt x="17610" y="17989"/>
                </a:lnTo>
                <a:lnTo>
                  <a:pt x="17610" y="10800"/>
                </a:lnTo>
                <a:lnTo>
                  <a:pt x="6992" y="10800"/>
                </a:lnTo>
                <a:lnTo>
                  <a:pt x="6992" y="17989"/>
                </a:lnTo>
                <a:lnTo>
                  <a:pt x="11378" y="17989"/>
                </a:lnTo>
                <a:close/>
              </a:path>
            </a:pathLst>
          </a:custGeom>
          <a:gradFill rotWithShape="0">
            <a:gsLst>
              <a:gs pos="0">
                <a:srgbClr val="5e0000"/>
              </a:gs>
              <a:gs pos="50000">
                <a:srgbClr val="cc0000"/>
              </a:gs>
              <a:gs pos="100000">
                <a:srgbClr val="5e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6995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0:52:40Z</dcterms:created>
  <dc:creator>Пользователь</dc:creator>
  <dc:description/>
  <dc:language>en-US</dc:language>
  <cp:lastModifiedBy>Пользователь</cp:lastModifiedBy>
  <dcterms:modified xsi:type="dcterms:W3CDTF">2012-01-21T11:42:54Z</dcterms:modified>
  <cp:revision>2</cp:revision>
  <dc:subject/>
  <dc:title>Cамостоятельная работа  по обучению грамоте 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