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77C-FAE5-4649-8682-6D4A44A6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C1E-A18D-4DDB-9DB9-A34DD456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77C-8B49-49D2-9FBC-CFD5C5C7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85C-4A68-42A0-9C61-616E2F9C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E75A-D07D-41DF-8E93-819A63FF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A5EE-DFDA-4D0D-86C5-F43F558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4429-398F-430C-AA0F-B770D5F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AA10-73C4-4F70-82A9-46C3095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4B5D-6737-4E20-83F9-FC8C45D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8DED-1EDD-45EF-8153-4400B9C3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CECC-9808-4D9E-84FD-2837907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637D-9E7F-4AB4-B064-A6D5EA7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D4F6-4348-4303-BF3E-F8F4EEF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4C55-6376-4B20-918C-9100DE61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D4F-C02E-4F16-9E8F-4A8CF79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C3D6-3EB4-4E12-9DDC-559C34CA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10E-FCC5-47D7-9C93-132A6C8E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596-F698-4634-BC6E-80CEEB14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D1E-D993-4385-9867-7BDB8E3F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3CE-2EB8-4E1D-B81A-909AD113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06B-B72A-4335-8840-7922274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791-632A-459A-B45C-51F48085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081-7BBF-4E15-BAFA-CF1878A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5DF-A1D6-4CD2-A996-540C032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03E-66F7-419F-8F5F-0376E2EFD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A7F-24DB-45BD-B9CA-0EF6945102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Его величество –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  </a:t>
            </a:r>
            <a:r>
              <a:rPr b="1" lang="ru-RU" sz="6600" spc="-1" strike="noStrike">
                <a:solidFill>
                  <a:srgbClr val="ffffff"/>
                </a:solidFill>
                <a:latin typeface="comic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J0232133"/>
          <p:cNvPicPr/>
          <p:nvPr/>
        </p:nvPicPr>
        <p:blipFill>
          <a:blip r:embed="rId1"/>
          <a:stretch/>
        </p:blipFill>
        <p:spPr>
          <a:xfrm>
            <a:off x="1258920" y="4076640"/>
            <a:ext cx="206676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0232128"/>
          <p:cNvPicPr/>
          <p:nvPr/>
        </p:nvPicPr>
        <p:blipFill>
          <a:blip r:embed="rId2"/>
          <a:stretch/>
        </p:blipFill>
        <p:spPr>
          <a:xfrm>
            <a:off x="6084720" y="4292640"/>
            <a:ext cx="2057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уйте возможность дополнительных и стимулирующих занятий в школе для того, чтобы снизить учебную нагрузку дома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ультируйтесь с учителями-предметниками, если видите, что ваш ребенок испытывает затруднения с подготовкой домашних заданий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профессии в почете на Руси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йщика и слесаря, водителя такси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ора, строителя, врача, конферансье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что не говорите вы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– Родител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 крат трудней чем все….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нятия в школе могут только     вдолбить в ребенка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. Ка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Главное  назначение домашнего задания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волевых усилий ребенка, ответственности и самосто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навыками учебного труда, выраженное в различных  способах учебной рабо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умения добывать необходимую информацию из различных справочников, пособий, словар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исследовательских умений ученика (сопоставле­ние, сравнение, предположение, построение гипотезы и т. д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J0279242"/>
          <p:cNvPicPr/>
          <p:nvPr/>
        </p:nvPicPr>
        <p:blipFill>
          <a:blip r:embed="rId1"/>
          <a:stretch/>
        </p:blipFill>
        <p:spPr>
          <a:xfrm>
            <a:off x="2268360" y="1700280"/>
            <a:ext cx="46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-2001960" y="3201120"/>
            <a:ext cx="131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Сколько времени в день ты тратишь на приготовление домашних задани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Тебе всегда понятно задание, которое ты выполняешь дома, или ты уточняешь его у кого-нибуд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Ты делаешь домашнее задание самостоятельно или с помощью взрослы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оверяют ли взрослые выполнение тобой домашних зада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сегда ли ты доволен отметкой за домашнее зада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С каким настроением ты выполняешь домашние зад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ты успеваешь записывать домашнее задание на уроке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Если ты не выполнил домашнее задание потому, что не понял его, как поступит учитель, если ты ему это объяснишь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Бывают ли случаи, когда ты просто списываешь задание перед уроком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 своих товарищей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нкета для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4" descr="J0232151"/>
          <p:cNvPicPr/>
          <p:nvPr/>
        </p:nvPicPr>
        <p:blipFill>
          <a:blip r:embed="rId1"/>
          <a:stretch/>
        </p:blipFill>
        <p:spPr>
          <a:xfrm>
            <a:off x="1835280" y="2163600"/>
            <a:ext cx="5113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Изменилось ли отношение вашего ребенка к выполнению домашних заданий в пятом классе по сравнению с начальной школо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Сколько времени в день тратит ваш ребенок на подготовку домашних заданий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Какие предметы требуют больших затрат времени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Всегда ли ваш ребенок понимает, что он должен сделать, выполняя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Приходится ли вам помогать ребенку выполнять домашнее задание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По каким предметам вы помогаете ребенку выполнять домашнее задание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Всегда ли вашему ребенку объективно выставляется оценка за выполненную домашнюю рабо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Всегда ли ваш ребенок знает, что задано по тому или иному предмету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Чем объясняет ваш ребенок, что задание в дневнике не записано?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Всегда ли, по мнению ребенка, учитель аргументирует оценку за домашнее задание?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заметку родителя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вращайте выполнение ребенком домашних заданий в орудие пыток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положительную мотивацию выполнения домашнего задания, его дальнюю перспектив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ощряйте своего ребенка за хорошо выполненное домашнее задание, хвалите его, радуйтесь его результатам, связанным с положительной отмет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йте ребенку в выполнении домашнего задания только в том случае, если он в этом нуждается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ытайтесь выполнять задание за своего ребенка, лучше пусть он вообще домашнее задание не сделает, чем сделаете его вы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уйте у ребенка культуру умственного труда, интересуйтесь, какую дополнительную литературу можно использовать для качественного выполнения домашних заданий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1:40:47Z</dcterms:created>
  <dc:creator>Admin</dc:creator>
  <dc:description/>
  <dc:language>en-US</dc:language>
  <cp:lastModifiedBy>л в</cp:lastModifiedBy>
  <dcterms:modified xsi:type="dcterms:W3CDTF">2011-12-23T15:36:26Z</dcterms:modified>
  <cp:revision>7</cp:revision>
  <dc:subject/>
  <dc:title>Слайд 1</dc:title>
</cp:coreProperties>
</file>