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3B8-4E46-4F89-B40F-F201A16C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238-2887-4B32-AF39-90C03D08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834-CB33-4252-9CB7-D957AD69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62A-ECDD-4172-8D61-91231FE7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3E7-BC17-484B-B973-C5DC6F8D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C610-9AAB-4F10-A942-6CFF7AC6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ECC2-DDFE-4065-AFE3-AB0123A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9C9-21A9-452C-8ED9-BDC9698E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96B-F7B3-4B20-BE15-24C045E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EA88-48B5-4C9D-A9F2-13C9B038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9EE7-3540-430C-B692-B3351D1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AA3-5F9B-4B7D-B8FF-61BC6BAC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302C-29B6-40E6-B3B6-3D7A691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1CBD-BCA8-41BA-BC92-FEC0F38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C04-B934-48E2-B64D-0F1F9EE0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59ED-D036-473B-8E06-BC74148D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6827-B83C-46E9-A7E8-96238297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7E9-C9D6-4BD9-9659-034C909F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8CE-2D09-4475-990B-37886948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7E3-0B5F-4892-8CA8-E7EABF6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C74-7621-44CC-8B5A-38302AE8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77F-8E60-44AF-A563-159E502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805-1650-439C-A8A5-D36E7AED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E31-7A33-4928-B9BB-ADF02EF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8ECD-FE79-4D72-B88F-6B857F15C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3D47-A051-4777-BB99-7231445530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   </a:t>
            </a: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Его величество –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  </a:t>
            </a: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J0232133"/>
          <p:cNvPicPr/>
          <p:nvPr/>
        </p:nvPicPr>
        <p:blipFill>
          <a:blip r:embed="rId1"/>
          <a:stretch/>
        </p:blipFill>
        <p:spPr>
          <a:xfrm>
            <a:off x="1258920" y="4076640"/>
            <a:ext cx="206676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J0232128"/>
          <p:cNvPicPr/>
          <p:nvPr/>
        </p:nvPicPr>
        <p:blipFill>
          <a:blip r:embed="rId2"/>
          <a:stretch/>
        </p:blipFill>
        <p:spPr>
          <a:xfrm>
            <a:off x="6084720" y="4292640"/>
            <a:ext cx="2057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уйте возможность дополнительных и стимулирующих занятий в школе для того, чтобы снизить учебную нагрузку дом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ультируйтесь с учителями-предметниками, если видите, что ваш ребенок испытывает затруднения с подготовкой домашних заданий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профессии в почете на Руси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йщика и слесаря, водителя такси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ора, строителя, врача, конферансье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что не говорите вы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– Родител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 крат трудней чем все….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нятия в школе могут только     вдолбить в ребенка все правила, добытые чужим пониманием, но способность правильно пользоваться ими разовьет только домашний самостоятельный тр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. Ка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Главное  назначение домашнего задания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волевых усилий ребенка, ответственности и самосто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навыками учебного труда, выраженное в различных  способах учебной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умения добывать необходимую информацию из различных справочников, пособий, словар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исследовательских умений ученика (сопоставле­ние, сравнение, предположение, построение гипотезы и т. д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кета для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J0279242"/>
          <p:cNvPicPr/>
          <p:nvPr/>
        </p:nvPicPr>
        <p:blipFill>
          <a:blip r:embed="rId1"/>
          <a:stretch/>
        </p:blipFill>
        <p:spPr>
          <a:xfrm>
            <a:off x="2268360" y="1700280"/>
            <a:ext cx="460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-2001960" y="3201120"/>
            <a:ext cx="131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Сколько времени в день ты тратишь на приготовление домашних задани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На подготовку каких домашних заданий тебе приходится тратить больше времени, чем на все остальны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Тебе всегда понятно задание, которое ты выполняешь дома, или ты уточняешь его у кого-нибудь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Ты делаешь домашнее задание самостоятельно или с помощью взрослых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роверяют ли взрослые выполнение тобой домашних зада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сегда ли ты доволен отметкой за домашнее зада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С каким настроением ты выполняешь домашние зад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Всегда ли ты успеваешь записывать домашнее задание на урок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Если ты не выполнил домашнее задание потому, что не понял его, как поступит учитель, если ты ему это объяснишь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Бывают ли случаи, когда ты просто списываешь задание перед уроком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своих товарищ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кета для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J0232151"/>
          <p:cNvPicPr/>
          <p:nvPr/>
        </p:nvPicPr>
        <p:blipFill>
          <a:blip r:embed="rId1"/>
          <a:stretch/>
        </p:blipFill>
        <p:spPr>
          <a:xfrm>
            <a:off x="1835280" y="2163600"/>
            <a:ext cx="5113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Изменилось ли отношение вашего ребенка к выполнению домашних заданий в пятом классе по сравнению с начальной школой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Сколько времени в день тратит ваш ребенок на подготовку домашних заданий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Какие предметы требуют больших затрат времен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Всегда ли ваш ребенок понимает, что он должен сделать, выполняя домашнее задание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риходится ли вам помогать ребенку выполнять домашнее задание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По каким предметам вы помогаете ребенку выполнять домашнее задание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Всегда ли вашему ребенку объективно выставляется оценка за выполненную домашнюю работу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Всегда ли ваш ребенок знает, что задано по тому или иному предмету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Чем объясняет ваш ребенок, что задание в дневнике не записано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Всегда ли, по мнению ребенка, учитель аргументирует оценку за домашнее задание?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заметку родителя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вращайте выполнение ребенком домашних заданий в орудие пыток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уйте положительную мотивацию выполнения домашнего задания, его дальнюю перспектив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ощряйте своего ребенка за хорошо выполненное домашнее задание, хвалите его, радуйтесь его результатам, связанным с положительной отмет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гайте ребенку в выполнении домашнего задания только в том случае, если он в этом нуждается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ытайтесь выполнять задание за своего ребенка, лучше пусть он вообще домашнее задание не сделает, чем сделаете его вы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уйте у ребенка культуру умственного труда, интересуйтесь, какую дополнительную литературу можно использовать для качественного выполнения домашних заданий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1:40:47Z</dcterms:created>
  <dc:creator>Admin</dc:creator>
  <dc:description/>
  <dc:language>en-US</dc:language>
  <cp:lastModifiedBy>л в</cp:lastModifiedBy>
  <dcterms:modified xsi:type="dcterms:W3CDTF">2011-12-23T15:36:26Z</dcterms:modified>
  <cp:revision>7</cp:revision>
  <dc:subject/>
  <dc:title>Слайд 1</dc:title>
</cp:coreProperties>
</file>