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0D8-DBB3-496E-B0AA-459023A0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A75-5505-4F52-8570-02597125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363-5078-49A0-A0DE-5DDA2A67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F80-46F5-4CA1-8523-725B133D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43DF-A373-458E-ABA6-B2EAE595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1490-BDF3-4F7D-8A50-073903AC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744D-57F3-4BC0-879D-0B052A20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C83C-E436-46A3-935D-2607944F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715E-7BBE-4032-8A45-179FE8C9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3B2A-D6BD-48F7-BB9B-CBA66858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4BBA-139D-4921-831D-39C934D5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2BE-2A1C-4B2F-BE0D-40F4F9D5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645D-283E-44C3-A9B4-A7E5B442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B5FB-8427-4C4F-8AB2-DADA9779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2A92-F474-4C25-A46C-F8BE7CE6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6D58-305D-4DEA-A85C-F2E8266B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40D3-F026-46E4-8B2E-73A923D6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BFE-F8E8-4DF0-A773-E2F0B621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109-23E8-4B9A-9167-31C2FA10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BFD-B279-44BD-8712-7B709BA6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7DD-3918-410E-BE2A-F19000D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ADB-F7D6-4A5C-8F27-C985CA24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F70-E032-4857-A2AB-154FD714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2D9-8300-4BEC-915B-C3C13887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EE1C-70CF-400E-952E-560F14AA4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6ECD-F305-4694-ACCE-A2340EFA85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"/>
              </a:rPr>
              <a:t>   </a:t>
            </a:r>
            <a:r>
              <a:rPr b="1" lang="ru-RU" sz="6600" spc="-1" strike="noStrike">
                <a:solidFill>
                  <a:srgbClr val="ffffff"/>
                </a:solidFill>
                <a:latin typeface="comic"/>
              </a:rPr>
              <a:t>Его величество –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"/>
              </a:rPr>
              <a:t>  </a:t>
            </a:r>
            <a:r>
              <a:rPr b="1" lang="ru-RU" sz="6600" spc="-1" strike="noStrike">
                <a:solidFill>
                  <a:srgbClr val="ffffff"/>
                </a:solidFill>
                <a:latin typeface="comic"/>
              </a:rPr>
              <a:t>Домашнее Зада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J0232133"/>
          <p:cNvPicPr/>
          <p:nvPr/>
        </p:nvPicPr>
        <p:blipFill>
          <a:blip r:embed="rId1"/>
          <a:stretch/>
        </p:blipFill>
        <p:spPr>
          <a:xfrm>
            <a:off x="1258920" y="4076640"/>
            <a:ext cx="2066760" cy="21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J0232128"/>
          <p:cNvPicPr/>
          <p:nvPr/>
        </p:nvPicPr>
        <p:blipFill>
          <a:blip r:embed="rId2"/>
          <a:stretch/>
        </p:blipFill>
        <p:spPr>
          <a:xfrm>
            <a:off x="6084720" y="4292640"/>
            <a:ext cx="20574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уйте возможность дополнительных и стимулирующих занятий в школе для того, чтобы снизить учебную нагрузку дома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сультируйтесь с учителями-предметниками, если видите, что ваш ребенок испытывает затруднения с подготовкой домашних заданий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ные профессии в почете на Руси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йщика и слесаря, водителя такси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ора, строителя, врача, конферансье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что не говорите вы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– Родител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 крат трудней чем все….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нятия в школе могут только     вдолбить в ребенка все правила, добытые чужим пониманием, но способность правильно пользоваться ими разовьет только домашний самостоятельный тру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. Ка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Главное  назначение домашнего задания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ние волевых усилий ребенка, ответственности и самосто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владение навыками учебного труда, выраженное в различных  способах учебной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умения добывать необходимую информацию из различных справочников, пособий, словар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исследовательских умений ученика (сопоставле­ние, сравнение, предположение, построение гипотезы и т. д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нкета для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4" descr="J0279242"/>
          <p:cNvPicPr/>
          <p:nvPr/>
        </p:nvPicPr>
        <p:blipFill>
          <a:blip r:embed="rId1"/>
          <a:stretch/>
        </p:blipFill>
        <p:spPr>
          <a:xfrm>
            <a:off x="2268360" y="1700280"/>
            <a:ext cx="460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-2001960" y="3201120"/>
            <a:ext cx="131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Сколько времени в день ты тратишь на приготовление домашних задани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На подготовку каких домашних заданий тебе приходится тратить больше времени, чем на все остальны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Тебе всегда понятно задание, которое ты выполняешь дома, или ты уточняешь его у кого-нибудь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Ты делаешь домашнее задание самостоятельно или с помощью взрослых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Проверяют ли взрослые выполнение тобой домашних задан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Всегда ли ты доволен отметкой за домашнее зада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С каким настроением ты выполняешь домашние зад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Всегда ли ты успеваешь записывать домашнее задание на уроке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. Если ты не выполнил домашнее задание потому, что не понял его, как поступит учитель, если ты ему это объяснишь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. Бывают ли случаи, когда ты просто списываешь задание перед уроком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своих товарище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нкета для родит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4" descr="J0232151"/>
          <p:cNvPicPr/>
          <p:nvPr/>
        </p:nvPicPr>
        <p:blipFill>
          <a:blip r:embed="rId1"/>
          <a:stretch/>
        </p:blipFill>
        <p:spPr>
          <a:xfrm>
            <a:off x="1835280" y="2163600"/>
            <a:ext cx="5113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Изменилось ли отношение вашего ребенка к выполнению домашних заданий в пятом классе по сравнению с начальной школой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Сколько времени в день тратит ваш ребенок на подготовку домашних заданий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Какие предметы требуют больших затрат времен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Всегда ли ваш ребенок понимает, что он должен сделать, выполняя домашнее задание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Приходится ли вам помогать ребенку выполнять домашнее задание?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По каким предметам вы помогаете ребенку выполнять домашнее задание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Всегда ли вашему ребенку объективно выставляется оценка за выполненную домашнюю работу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Всегда ли ваш ребенок знает, что задано по тому или иному предмету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. Чем объясняет ваш ребенок, что задание в дневнике не записано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. Всегда ли, по мнению ребенка, учитель аргументирует оценку за домашнее задание?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заметку родителям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ревращайте выполнение ребенком домашних заданий в орудие пыток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уйте положительную мотивацию выполнения домашнего задания, его дальнюю перспектив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ощряйте своего ребенка за хорошо выполненное домашнее задание, хвалите его, радуйтесь его результатам, связанным с положительной отметк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могайте ребенку в выполнении домашнего задания только в том случае, если он в этом нуждается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ытайтесь выполнять задание за своего ребенка, лучше пусть он вообще домашнее задание не сделает, чем сделаете его вы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уйте у ребенка культуру умственного труда, интересуйтесь, какую дополнительную литературу можно использовать для качественного выполнения домашних заданий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1:40:47Z</dcterms:created>
  <dc:creator>Admin</dc:creator>
  <dc:description/>
  <dc:language>en-US</dc:language>
  <cp:lastModifiedBy>л в</cp:lastModifiedBy>
  <dcterms:modified xsi:type="dcterms:W3CDTF">2011-12-23T15:36:26Z</dcterms:modified>
  <cp:revision>7</cp:revision>
  <dc:subject/>
  <dc:title>Слайд 1</dc:title>
</cp:coreProperties>
</file>