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67AD-F4CF-48AD-B492-36637135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C753-DE67-4F6A-B1F1-558D6162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B8F7-2633-4DD1-A426-E0346DC8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83DE-3A1C-443F-A66B-FC5E1F07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C26-3F10-417B-9E7B-F5996A35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5A9-19EF-4A05-9BAE-F5892970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6A0-F61E-4A09-B5D8-C6D91D7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592-E38A-461B-8125-156BF8A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B69-E3BF-4A34-85F3-5674C6D9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F8AE-5232-4FD1-9F86-E89D9B8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3975-4065-4736-9FCA-72414B9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0D2B-3CBD-4CBE-A678-7E06BE18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24FC-13B2-4850-8574-87B9C82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7F5C-F0BA-49D5-9AB8-FB2120A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8CD0-FA80-4E30-AD93-4E18FA5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4E9-9B82-4E20-BC3B-C7341965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B92-F9BD-4FA4-B790-9C8EBC1D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AF0F-2916-4FCF-A338-D737167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17B9-2959-49B6-8CDB-1D980A5A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A043-F236-48F1-8323-4AC4783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18A4-F371-45F4-A620-76FC67A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2243-C14A-4E46-9336-6E60B06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CAD2-B3E4-4C7C-B10C-4AF6273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A023-51B5-4FF6-A619-20D0B78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846-1DD0-4ABC-85E8-CB36DB32A6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5807-DBDE-459A-AACC-B6772D5004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тация- источник формирования биологического разнообразия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и  учащиеся гр.2-08 Холопов Илья, Челядин Михаи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месту возникнов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2916000" y="1341360"/>
            <a:ext cx="93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5508720" y="1268280"/>
            <a:ext cx="86364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971640" y="472428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являются только в потом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148360" y="501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наслед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826920" y="1989000"/>
            <a:ext cx="3240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187280" y="2060640"/>
            <a:ext cx="2376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генератив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4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1311120" y="2873520"/>
            <a:ext cx="25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половых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148360" y="301788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219640" y="206064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матическ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знач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1042920" y="1989000"/>
            <a:ext cx="3024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476360" y="20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зные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5508720" y="21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дные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14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3276720" y="429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йтральные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р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3"/>
          <p:cNvSpPr/>
          <p:nvPr/>
        </p:nvSpPr>
        <p:spPr>
          <a:xfrm flipH="1">
            <a:off x="2555640" y="213372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5724360" y="2133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971640" y="443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076720" y="429264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 ред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468360" y="2924280"/>
            <a:ext cx="3024000" cy="115236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900000" y="299736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инан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5148360" y="2781360"/>
            <a:ext cx="2592360" cy="1224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5435640" y="2997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ссивны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3"/>
          <p:cNvSpPr/>
          <p:nvPr/>
        </p:nvSpPr>
        <p:spPr>
          <a:xfrm flipH="1">
            <a:off x="2916000" y="191628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076720" y="177336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71640" y="3645000"/>
            <a:ext cx="237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естественным пут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076720" y="3573360"/>
            <a:ext cx="3527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под действием искусственно созданных мутагенных факто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684360" y="2565360"/>
            <a:ext cx="3024000" cy="1008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042920" y="27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нт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5076720" y="2349360"/>
            <a:ext cx="3456000" cy="115272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364000" y="2637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уциров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характеру изменения гено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1042920" y="1989000"/>
            <a:ext cx="3024360" cy="115272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476360" y="20606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н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чеч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5148360" y="1844640"/>
            <a:ext cx="2592360" cy="9367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5651640" y="20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276720" y="4292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ромос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2916360" y="5300640"/>
            <a:ext cx="4680000" cy="129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1763640" y="5084640"/>
            <a:ext cx="6769080" cy="177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Полиплоидия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125360"/>
            <a:ext cx="6769080" cy="50436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5"/>
          <p:cNvSpPr/>
          <p:nvPr/>
        </p:nvSpPr>
        <p:spPr>
          <a:xfrm>
            <a:off x="5365080" y="2565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 n =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1548720" y="4797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 n =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6"/>
          <p:cNvSpPr/>
          <p:nvPr/>
        </p:nvSpPr>
        <p:spPr>
          <a:xfrm>
            <a:off x="3061440" y="47628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еуплоид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58920" y="1197000"/>
            <a:ext cx="7524720" cy="49910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3780000" y="5229360"/>
            <a:ext cx="1512720" cy="577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050920" y="1557360"/>
            <a:ext cx="5904000" cy="4578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олезнь Дау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Хромосомные    мута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ый порядок  генов в хромос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900000" y="191628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2340000" y="1916280"/>
            <a:ext cx="1368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708360" y="1916280"/>
            <a:ext cx="151128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5219640" y="1916280"/>
            <a:ext cx="144000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659640" y="1916280"/>
            <a:ext cx="143964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6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826920" y="393372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268360" y="314172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3708360" y="3141720"/>
            <a:ext cx="144000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5148360" y="3141720"/>
            <a:ext cx="1439640" cy="2887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6588000" y="3141720"/>
            <a:ext cx="136872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2268360" y="465300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826920" y="465300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6516720" y="3933720"/>
            <a:ext cx="144000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076720" y="3933720"/>
            <a:ext cx="1440000" cy="2890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6659640" y="5445000"/>
            <a:ext cx="143964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2268360" y="544500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5"/>
          <p:cNvSpPr/>
          <p:nvPr/>
        </p:nvSpPr>
        <p:spPr>
          <a:xfrm>
            <a:off x="826920" y="544500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6516720" y="4653000"/>
            <a:ext cx="151128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5"/>
          <p:cNvGrpSpPr/>
          <p:nvPr/>
        </p:nvGrpSpPr>
        <p:grpSpPr>
          <a:xfrm>
            <a:off x="3708360" y="4653000"/>
            <a:ext cx="2806920" cy="288720"/>
            <a:chOff x="3708360" y="4653000"/>
            <a:chExt cx="2806920" cy="288720"/>
          </a:xfrm>
        </p:grpSpPr>
        <p:sp>
          <p:nvSpPr>
            <p:cNvPr id="445" name="Rectangle 9"/>
            <p:cNvSpPr/>
            <p:nvPr/>
          </p:nvSpPr>
          <p:spPr>
            <a:xfrm>
              <a:off x="3708360" y="4653000"/>
              <a:ext cx="1368360" cy="28872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27"/>
            <p:cNvSpPr/>
            <p:nvPr/>
          </p:nvSpPr>
          <p:spPr>
            <a:xfrm>
              <a:off x="5076720" y="4653000"/>
              <a:ext cx="1438560" cy="288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Rectangle 28"/>
          <p:cNvSpPr/>
          <p:nvPr/>
        </p:nvSpPr>
        <p:spPr>
          <a:xfrm>
            <a:off x="826920" y="6165720"/>
            <a:ext cx="144000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"/>
          <p:cNvSpPr/>
          <p:nvPr/>
        </p:nvSpPr>
        <p:spPr>
          <a:xfrm>
            <a:off x="826920" y="3141720"/>
            <a:ext cx="144144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0"/>
          <p:cNvSpPr/>
          <p:nvPr/>
        </p:nvSpPr>
        <p:spPr>
          <a:xfrm>
            <a:off x="6588000" y="616572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1"/>
          <p:cNvSpPr/>
          <p:nvPr/>
        </p:nvSpPr>
        <p:spPr>
          <a:xfrm>
            <a:off x="5148360" y="6165720"/>
            <a:ext cx="143964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2"/>
          <p:cNvSpPr/>
          <p:nvPr/>
        </p:nvSpPr>
        <p:spPr>
          <a:xfrm>
            <a:off x="3708360" y="6165720"/>
            <a:ext cx="1440000" cy="2890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3"/>
          <p:cNvSpPr/>
          <p:nvPr/>
        </p:nvSpPr>
        <p:spPr>
          <a:xfrm>
            <a:off x="2268360" y="6165720"/>
            <a:ext cx="144000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35"/>
          <p:cNvSpPr/>
          <p:nvPr/>
        </p:nvSpPr>
        <p:spPr>
          <a:xfrm>
            <a:off x="3708360" y="5445000"/>
            <a:ext cx="15112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6"/>
          <p:cNvSpPr/>
          <p:nvPr/>
        </p:nvSpPr>
        <p:spPr>
          <a:xfrm>
            <a:off x="5219640" y="5445000"/>
            <a:ext cx="144000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829440" y="227664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ы  нарушения  порядка генов в хромосо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9"/>
          <p:cNvSpPr/>
          <p:nvPr/>
        </p:nvSpPr>
        <p:spPr>
          <a:xfrm>
            <a:off x="958320" y="2658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л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0"/>
          <p:cNvSpPr/>
          <p:nvPr/>
        </p:nvSpPr>
        <p:spPr>
          <a:xfrm>
            <a:off x="75564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пл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826920" y="422100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р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3"/>
          <p:cNvSpPr/>
          <p:nvPr/>
        </p:nvSpPr>
        <p:spPr>
          <a:xfrm>
            <a:off x="756720" y="566100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ло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973080" y="49417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4.81481E-006 L -0.18889 4.81481E-006 E">
                                      <p:cBhvr>
                                        <p:cTn id="39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4798E-006 L -0.25 2.94798E-006 E">
                                      <p:cBhvr>
                                        <p:cTn id="4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15729 -4.44444E-006 E">
                                      <p:cBhvr>
                                        <p:cTn id="41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0.15747 -0.00024 E">
                                      <p:cBhvr>
                                        <p:cTn id="41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0024 L 0.14965 -4.44444E-006 E">
                                      <p:cBhvr>
                                        <p:cTn id="418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66"/>
                </a:solidFill>
                <a:latin typeface="Arial"/>
              </a:rPr>
              <a:t>Мут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067280" y="2276280"/>
            <a:ext cx="46749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утации- роковые ошибки считывания генетической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2324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7220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кое значение для процесса эволюции имеет возникновение мутаций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000" y="3573000"/>
            <a:ext cx="7010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. Все современные формы жизни существующие на Земле образовались в результате мутаций и закрепились в ходе естественного отб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сслед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48392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сни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такое мут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формы мутаций существую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вы причины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е значение имеют мутации для особей и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чи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снять влияние мутагенов на организм челове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х факторов на организ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ины эволюции, изменяемости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ушений развития организмов, наследственных заболеваний,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сти сохранения многообразия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ть граф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700" spc="-1" strike="noStrike">
                <a:solidFill>
                  <a:srgbClr val="ccecff"/>
                </a:solidFill>
                <a:latin typeface="Arial"/>
              </a:rPr>
              <a:t>Виды мутаций</a:t>
            </a:r>
            <a:endParaRPr b="0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может меняться генетический матери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вы последствия этих изменений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178800" y="4626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утац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444040" y="239400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зменчив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556440" y="347328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44160" y="1386000"/>
            <a:ext cx="113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007440" y="593640"/>
            <a:ext cx="33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ромосо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720720"/>
          </a:xfrm>
          <a:prstGeom prst="rect">
            <a:avLst/>
          </a:prstGeom>
          <a:solidFill>
            <a:srgbClr val="ccffcc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3492000" y="1628640"/>
            <a:ext cx="50508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435640" y="1628640"/>
            <a:ext cx="504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909440" y="3429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ифик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9440" y="2421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98036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050920" y="2997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149800" y="285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 flipV="1">
            <a:off x="3203640" y="400536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269800" y="4797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5579640" y="3500280"/>
            <a:ext cx="14436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7093080" y="335772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4358520" y="42926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806160" y="40053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543564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7956720" y="4508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932360" y="551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то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йоз, оплод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382520" y="530064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2916360" y="981000"/>
            <a:ext cx="3456000" cy="647640"/>
          </a:xfrm>
          <a:prstGeom prst="ellipse">
            <a:avLst/>
          </a:prstGeom>
          <a:solidFill>
            <a:srgbClr val="0078f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1979640" y="2637000"/>
            <a:ext cx="2521080" cy="1368360"/>
          </a:xfrm>
          <a:prstGeom prst="rect">
            <a:avLst/>
          </a:prstGeom>
          <a:solidFill>
            <a:srgbClr val="99cc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003640" y="2492280"/>
            <a:ext cx="2448000" cy="865440"/>
          </a:xfrm>
          <a:prstGeom prst="rect">
            <a:avLst/>
          </a:prstGeom>
          <a:solidFill>
            <a:srgbClr val="0078f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1"/>
          <p:cNvSpPr/>
          <p:nvPr/>
        </p:nvSpPr>
        <p:spPr>
          <a:xfrm>
            <a:off x="4284720" y="4292640"/>
            <a:ext cx="2232000" cy="576360"/>
          </a:xfrm>
          <a:prstGeom prst="ellipse">
            <a:avLst/>
          </a:prstGeom>
          <a:solidFill>
            <a:srgbClr val="00ff00">
              <a:alpha val="1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6732720" y="4005360"/>
            <a:ext cx="2087280" cy="50328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ута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51280" y="4797360"/>
            <a:ext cx="244800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ов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5076720" y="155736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564000" y="2276640"/>
            <a:ext cx="3097080" cy="1441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ене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мутаген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357336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0078f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2987640" y="436572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e5e5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059280" y="5229360"/>
            <a:ext cx="2016000" cy="718920"/>
          </a:xfrm>
          <a:prstGeom prst="rightArrow">
            <a:avLst>
              <a:gd name="adj1" fmla="val 50000"/>
              <a:gd name="adj2" fmla="val 70105"/>
            </a:avLst>
          </a:prstGeom>
          <a:solidFill>
            <a:srgbClr val="00ff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5435640" y="3284640"/>
            <a:ext cx="3313080" cy="2952720"/>
            <a:chOff x="5435640" y="3284640"/>
            <a:chExt cx="3313080" cy="2952720"/>
          </a:xfrm>
        </p:grpSpPr>
        <p:sp>
          <p:nvSpPr>
            <p:cNvPr id="160" name="AutoShape 8"/>
            <p:cNvSpPr/>
            <p:nvPr/>
          </p:nvSpPr>
          <p:spPr>
            <a:xfrm>
              <a:off x="5435640" y="3284640"/>
              <a:ext cx="331308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48960" y="3292200"/>
              <a:ext cx="3299400" cy="2944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5461200" y="5543640"/>
              <a:ext cx="3273840" cy="67716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677160"/>
                <a:gd name="textAreaBottom" fmla="*/ 677520 h 67716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5435640" y="3483000"/>
              <a:ext cx="3299400" cy="1414080"/>
            </a:xfrm>
            <a:custGeom>
              <a:avLst/>
              <a:gdLst>
                <a:gd name="textAreaLeft" fmla="*/ 0 w 3299400"/>
                <a:gd name="textAreaRight" fmla="*/ 3299760 w 3299400"/>
                <a:gd name="textAreaTop" fmla="*/ 0 h 1414080"/>
                <a:gd name="textAreaBottom" fmla="*/ 1414080 h 141408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5456880" y="3672720"/>
              <a:ext cx="602280" cy="125460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1254600"/>
                <a:gd name="textAreaBottom" fmla="*/ 1254600 h 12546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5715360" y="3505320"/>
              <a:ext cx="646920" cy="127692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6827400" y="3286080"/>
              <a:ext cx="532800" cy="6382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7530480" y="3287520"/>
              <a:ext cx="532800" cy="60840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6218640" y="3287520"/>
              <a:ext cx="532440" cy="4460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6051240" y="3596400"/>
              <a:ext cx="632160" cy="115632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156320"/>
                <a:gd name="textAreaBottom" fmla="*/ 1156680 h 115632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7102080" y="3322080"/>
              <a:ext cx="523440" cy="584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7805160" y="3292200"/>
              <a:ext cx="523080" cy="5875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6453360" y="3287520"/>
              <a:ext cx="523440" cy="4014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6242760" y="3480120"/>
              <a:ext cx="946080" cy="12114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7264080" y="3287520"/>
              <a:ext cx="778680" cy="59220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592200"/>
                <a:gd name="textAreaBottom" fmla="*/ 592200 h 5922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7965360" y="3292200"/>
              <a:ext cx="739440" cy="55620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556200"/>
                <a:gd name="textAreaBottom" fmla="*/ 556200 h 55620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6401880" y="3284640"/>
              <a:ext cx="452520" cy="402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6490440" y="3953160"/>
              <a:ext cx="150480" cy="738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6726960" y="3965040"/>
              <a:ext cx="676800" cy="714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7404120" y="3535200"/>
              <a:ext cx="397080" cy="1119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8219880" y="3292200"/>
              <a:ext cx="275760" cy="5666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566640"/>
                <a:gd name="textAreaBottom" fmla="*/ 566640 h 56664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7981920" y="3290400"/>
              <a:ext cx="240480" cy="3625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7359120" y="3293640"/>
              <a:ext cx="240480" cy="37260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5489640" y="3292200"/>
              <a:ext cx="247320" cy="13993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399320"/>
                <a:gd name="textAreaBottom" fmla="*/ 1399320 h 13993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7564320" y="4029120"/>
              <a:ext cx="441720" cy="66240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662400"/>
                <a:gd name="textAreaBottom" fmla="*/ 662760 h 6624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741280" y="5470560"/>
              <a:ext cx="2252520" cy="58932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5700240" y="3858840"/>
              <a:ext cx="2363040" cy="2238120"/>
            </a:xfrm>
            <a:custGeom>
              <a:avLst/>
              <a:gdLst>
                <a:gd name="textAreaLeft" fmla="*/ 0 w 2363040"/>
                <a:gd name="textAreaRight" fmla="*/ 2363400 w 236304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7151400" y="3873960"/>
              <a:ext cx="796680" cy="203184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031840"/>
                <a:gd name="textAreaBottom" fmla="*/ 2032200 h 203184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7788960" y="3873960"/>
              <a:ext cx="267840" cy="187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7629840" y="4003920"/>
              <a:ext cx="397080" cy="475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7851240" y="4278240"/>
              <a:ext cx="134280" cy="802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7629840" y="3993120"/>
              <a:ext cx="156240" cy="1461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7898760" y="3992040"/>
              <a:ext cx="92160" cy="132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7674480" y="4114080"/>
              <a:ext cx="65160" cy="565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7936920" y="4114080"/>
              <a:ext cx="36720" cy="475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7957440" y="4105440"/>
              <a:ext cx="69120" cy="163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7550640" y="4078080"/>
              <a:ext cx="127800" cy="196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7556400" y="4178520"/>
              <a:ext cx="100440" cy="1044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7583400" y="4267800"/>
              <a:ext cx="315360" cy="2358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7619040" y="4347000"/>
              <a:ext cx="272880" cy="1627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7922160" y="4318560"/>
              <a:ext cx="82800" cy="143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7923240" y="4331880"/>
              <a:ext cx="64080" cy="122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7405200" y="4139280"/>
              <a:ext cx="656640" cy="555120"/>
            </a:xfrm>
            <a:custGeom>
              <a:avLst/>
              <a:gdLst>
                <a:gd name="textAreaLeft" fmla="*/ 0 w 656640"/>
                <a:gd name="textAreaRight" fmla="*/ 657000 w 65664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6964920" y="4146840"/>
              <a:ext cx="317520" cy="995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6094800" y="4099320"/>
              <a:ext cx="1164960" cy="13608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360800"/>
                <a:gd name="textAreaBottom" fmla="*/ 1360800 h 13608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6169680" y="4308120"/>
              <a:ext cx="137160" cy="235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5972400" y="4381200"/>
              <a:ext cx="261000" cy="36216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65" h="293">
                  <a:moveTo>
                    <a:pt x="108" y="0"/>
                  </a:moveTo>
                  <a:lnTo>
                    <a:pt x="93" y="58"/>
                  </a:lnTo>
                  <a:lnTo>
                    <a:pt x="103" y="162"/>
                  </a:lnTo>
                  <a:lnTo>
                    <a:pt x="77" y="211"/>
                  </a:lnTo>
                  <a:lnTo>
                    <a:pt x="63" y="131"/>
                  </a:lnTo>
                  <a:lnTo>
                    <a:pt x="36" y="175"/>
                  </a:lnTo>
                  <a:lnTo>
                    <a:pt x="51" y="234"/>
                  </a:lnTo>
                  <a:lnTo>
                    <a:pt x="26" y="293"/>
                  </a:lnTo>
                  <a:lnTo>
                    <a:pt x="0" y="227"/>
                  </a:lnTo>
                  <a:lnTo>
                    <a:pt x="5" y="151"/>
                  </a:lnTo>
                  <a:lnTo>
                    <a:pt x="41" y="58"/>
                  </a:lnTo>
                  <a:lnTo>
                    <a:pt x="165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5923440" y="471528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7693560" y="5186880"/>
              <a:ext cx="285480" cy="8982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7763040" y="4246920"/>
              <a:ext cx="86760" cy="108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7791480" y="3890520"/>
              <a:ext cx="128880" cy="38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7686720" y="4096080"/>
              <a:ext cx="52920" cy="39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7685640" y="4106520"/>
              <a:ext cx="16200" cy="9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7926120" y="4099320"/>
              <a:ext cx="33840" cy="370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7952040" y="4099320"/>
              <a:ext cx="12240" cy="237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7236720" y="4500360"/>
              <a:ext cx="681120" cy="9399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7352280" y="4820040"/>
              <a:ext cx="492120" cy="5727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7675920" y="5291640"/>
              <a:ext cx="221400" cy="7873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7219080" y="4812480"/>
              <a:ext cx="281160" cy="10753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075320"/>
                <a:gd name="textAreaBottom" fmla="*/ 1075680 h 107532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7311600" y="5759640"/>
              <a:ext cx="281160" cy="29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6968880" y="4465080"/>
              <a:ext cx="209160" cy="669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6756840" y="4448520"/>
              <a:ext cx="335520" cy="76392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63920"/>
                <a:gd name="textAreaBottom" fmla="*/ 764280 h 76392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6499800" y="4290480"/>
              <a:ext cx="335880" cy="73080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730800"/>
                <a:gd name="textAreaBottom" fmla="*/ 730800 h 730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6195600" y="4455720"/>
              <a:ext cx="287640" cy="76500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6132960" y="5186880"/>
              <a:ext cx="171000" cy="3564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6498360" y="4673880"/>
              <a:ext cx="277200" cy="3996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6759720" y="4860000"/>
              <a:ext cx="186120" cy="3416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6939000" y="4904640"/>
              <a:ext cx="168480" cy="3340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5908320" y="4866120"/>
              <a:ext cx="95040" cy="90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5834880" y="4978080"/>
              <a:ext cx="154800" cy="1609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5725080" y="4933080"/>
              <a:ext cx="74520" cy="159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5678640" y="4820040"/>
              <a:ext cx="81360" cy="198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fffff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6105600" y="5479200"/>
              <a:ext cx="244440" cy="264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6667200" y="5054040"/>
              <a:ext cx="194040" cy="287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87640"/>
                <a:gd name="textAreaBottom" fmla="*/ 287640 h 28764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6577560" y="5241960"/>
              <a:ext cx="368280" cy="465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7416360" y="3938040"/>
              <a:ext cx="43200" cy="1234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451640" y="3897720"/>
              <a:ext cx="96480" cy="113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953120" y="3897720"/>
              <a:ext cx="82800" cy="119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775280" y="4011120"/>
              <a:ext cx="119520" cy="1224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806240" y="4203720"/>
              <a:ext cx="183240" cy="864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7723440" y="4166640"/>
              <a:ext cx="54360" cy="774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7656840" y="4473720"/>
              <a:ext cx="315360" cy="13428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7809120" y="4473720"/>
              <a:ext cx="150480" cy="907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7417440" y="4123080"/>
              <a:ext cx="267840" cy="539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5448960" y="5056920"/>
              <a:ext cx="767880" cy="118008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1180080"/>
                <a:gd name="textAreaBottom" fmla="*/ 1180440 h 118008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5794200" y="4866120"/>
              <a:ext cx="794880" cy="13546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203520" y="4970520"/>
              <a:ext cx="783000" cy="125028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444360" y="4836600"/>
              <a:ext cx="1164960" cy="14004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748560" y="5382720"/>
              <a:ext cx="184680" cy="8546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854640"/>
                <a:gd name="textAreaBottom" fmla="*/ 855000 h 85464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7039440" y="5397480"/>
              <a:ext cx="834840" cy="82332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7874640" y="4985640"/>
              <a:ext cx="489240" cy="12034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5514120" y="4336200"/>
              <a:ext cx="743400" cy="190080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1900800"/>
                <a:gd name="textAreaBottom" fmla="*/ 1901160 h 190080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8072640" y="5470560"/>
              <a:ext cx="543600" cy="7664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941240" y="4339440"/>
              <a:ext cx="232200" cy="35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926120" y="4375440"/>
              <a:ext cx="229680" cy="13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941240" y="4400640"/>
              <a:ext cx="229680" cy="16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629840" y="44110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598160" y="4375440"/>
              <a:ext cx="267840" cy="730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557480" y="4364640"/>
              <a:ext cx="281160" cy="295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 Box 107"/>
          <p:cNvSpPr/>
          <p:nvPr/>
        </p:nvSpPr>
        <p:spPr>
          <a:xfrm>
            <a:off x="6227640" y="220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мут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108"/>
          <p:cNvGrpSpPr/>
          <p:nvPr/>
        </p:nvGrpSpPr>
        <p:grpSpPr>
          <a:xfrm>
            <a:off x="250920" y="333360"/>
            <a:ext cx="3095640" cy="2808360"/>
            <a:chOff x="250920" y="333360"/>
            <a:chExt cx="3095640" cy="2808360"/>
          </a:xfrm>
        </p:grpSpPr>
        <p:sp>
          <p:nvSpPr>
            <p:cNvPr id="261" name="AutoShape 109"/>
            <p:cNvSpPr/>
            <p:nvPr/>
          </p:nvSpPr>
          <p:spPr>
            <a:xfrm>
              <a:off x="250920" y="333360"/>
              <a:ext cx="30956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263520" y="340560"/>
              <a:ext cx="3082680" cy="2800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11"/>
            <p:cNvSpPr/>
            <p:nvPr/>
          </p:nvSpPr>
          <p:spPr>
            <a:xfrm>
              <a:off x="274680" y="2481840"/>
              <a:ext cx="3058920" cy="644040"/>
            </a:xfrm>
            <a:custGeom>
              <a:avLst/>
              <a:gdLst>
                <a:gd name="textAreaLeft" fmla="*/ 0 w 3058920"/>
                <a:gd name="textAreaRight" fmla="*/ 3059280 w 30589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12"/>
            <p:cNvSpPr/>
            <p:nvPr/>
          </p:nvSpPr>
          <p:spPr>
            <a:xfrm>
              <a:off x="250920" y="522000"/>
              <a:ext cx="3082680" cy="1344960"/>
            </a:xfrm>
            <a:custGeom>
              <a:avLst/>
              <a:gdLst>
                <a:gd name="textAreaLeft" fmla="*/ 0 w 3082680"/>
                <a:gd name="textAreaRight" fmla="*/ 3083040 w 308268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13"/>
            <p:cNvSpPr/>
            <p:nvPr/>
          </p:nvSpPr>
          <p:spPr>
            <a:xfrm>
              <a:off x="271080" y="702360"/>
              <a:ext cx="562680" cy="119340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14"/>
            <p:cNvSpPr/>
            <p:nvPr/>
          </p:nvSpPr>
          <p:spPr>
            <a:xfrm>
              <a:off x="512280" y="543240"/>
              <a:ext cx="604440" cy="121464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15"/>
            <p:cNvSpPr/>
            <p:nvPr/>
          </p:nvSpPr>
          <p:spPr>
            <a:xfrm>
              <a:off x="1551600" y="334800"/>
              <a:ext cx="497880" cy="6069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16"/>
            <p:cNvSpPr/>
            <p:nvPr/>
          </p:nvSpPr>
          <p:spPr>
            <a:xfrm>
              <a:off x="2208240" y="336240"/>
              <a:ext cx="497880" cy="5788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17"/>
            <p:cNvSpPr/>
            <p:nvPr/>
          </p:nvSpPr>
          <p:spPr>
            <a:xfrm>
              <a:off x="982440" y="336240"/>
              <a:ext cx="497520" cy="42444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18"/>
            <p:cNvSpPr/>
            <p:nvPr/>
          </p:nvSpPr>
          <p:spPr>
            <a:xfrm>
              <a:off x="826200" y="630000"/>
              <a:ext cx="590760" cy="1099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099800"/>
                <a:gd name="textAreaBottom" fmla="*/ 1100160 h 109980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19"/>
            <p:cNvSpPr/>
            <p:nvPr/>
          </p:nvSpPr>
          <p:spPr>
            <a:xfrm>
              <a:off x="1808280" y="369000"/>
              <a:ext cx="488880" cy="5558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20"/>
            <p:cNvSpPr/>
            <p:nvPr/>
          </p:nvSpPr>
          <p:spPr>
            <a:xfrm>
              <a:off x="2464920" y="340560"/>
              <a:ext cx="488520" cy="55872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21"/>
            <p:cNvSpPr/>
            <p:nvPr/>
          </p:nvSpPr>
          <p:spPr>
            <a:xfrm>
              <a:off x="1202040" y="336240"/>
              <a:ext cx="488880" cy="38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22"/>
            <p:cNvSpPr/>
            <p:nvPr/>
          </p:nvSpPr>
          <p:spPr>
            <a:xfrm>
              <a:off x="1005120" y="519120"/>
              <a:ext cx="883800" cy="115236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23"/>
            <p:cNvSpPr/>
            <p:nvPr/>
          </p:nvSpPr>
          <p:spPr>
            <a:xfrm>
              <a:off x="1959480" y="336240"/>
              <a:ext cx="727560" cy="563400"/>
            </a:xfrm>
            <a:custGeom>
              <a:avLst/>
              <a:gdLst>
                <a:gd name="textAreaLeft" fmla="*/ 0 w 727560"/>
                <a:gd name="textAreaRight" fmla="*/ 727920 w 7275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24"/>
            <p:cNvSpPr/>
            <p:nvPr/>
          </p:nvSpPr>
          <p:spPr>
            <a:xfrm>
              <a:off x="2614680" y="340560"/>
              <a:ext cx="690840" cy="52884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5"/>
            <p:cNvSpPr/>
            <p:nvPr/>
          </p:nvSpPr>
          <p:spPr>
            <a:xfrm>
              <a:off x="1153800" y="333360"/>
              <a:ext cx="422640" cy="3830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26"/>
            <p:cNvSpPr/>
            <p:nvPr/>
          </p:nvSpPr>
          <p:spPr>
            <a:xfrm>
              <a:off x="1236600" y="969120"/>
              <a:ext cx="140760" cy="7023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27"/>
            <p:cNvSpPr/>
            <p:nvPr/>
          </p:nvSpPr>
          <p:spPr>
            <a:xfrm>
              <a:off x="1457640" y="980280"/>
              <a:ext cx="632520" cy="6796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28"/>
            <p:cNvSpPr/>
            <p:nvPr/>
          </p:nvSpPr>
          <p:spPr>
            <a:xfrm>
              <a:off x="2090160" y="571680"/>
              <a:ext cx="370800" cy="1064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29"/>
            <p:cNvSpPr/>
            <p:nvPr/>
          </p:nvSpPr>
          <p:spPr>
            <a:xfrm>
              <a:off x="2852280" y="340560"/>
              <a:ext cx="257760" cy="53892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30"/>
            <p:cNvSpPr/>
            <p:nvPr/>
          </p:nvSpPr>
          <p:spPr>
            <a:xfrm>
              <a:off x="2630160" y="339120"/>
              <a:ext cx="224640" cy="3448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1"/>
            <p:cNvSpPr/>
            <p:nvPr/>
          </p:nvSpPr>
          <p:spPr>
            <a:xfrm>
              <a:off x="2048040" y="342000"/>
              <a:ext cx="224640" cy="354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32"/>
            <p:cNvSpPr/>
            <p:nvPr/>
          </p:nvSpPr>
          <p:spPr>
            <a:xfrm>
              <a:off x="301320" y="340560"/>
              <a:ext cx="231120" cy="1330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330920"/>
                <a:gd name="textAreaBottom" fmla="*/ 1331280 h 13309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33"/>
            <p:cNvSpPr/>
            <p:nvPr/>
          </p:nvSpPr>
          <p:spPr>
            <a:xfrm>
              <a:off x="2239920" y="1041480"/>
              <a:ext cx="412560" cy="6300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34"/>
            <p:cNvSpPr/>
            <p:nvPr/>
          </p:nvSpPr>
          <p:spPr>
            <a:xfrm>
              <a:off x="536400" y="2412360"/>
              <a:ext cx="2104920" cy="56052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35"/>
            <p:cNvSpPr/>
            <p:nvPr/>
          </p:nvSpPr>
          <p:spPr>
            <a:xfrm>
              <a:off x="498240" y="879480"/>
              <a:ext cx="2207880" cy="2128680"/>
            </a:xfrm>
            <a:custGeom>
              <a:avLst/>
              <a:gdLst>
                <a:gd name="textAreaLeft" fmla="*/ 0 w 2207880"/>
                <a:gd name="textAreaRight" fmla="*/ 2208240 w 2207880"/>
                <a:gd name="textAreaTop" fmla="*/ 0 h 2128680"/>
                <a:gd name="textAreaBottom" fmla="*/ 2129040 h 212868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6"/>
            <p:cNvSpPr/>
            <p:nvPr/>
          </p:nvSpPr>
          <p:spPr>
            <a:xfrm>
              <a:off x="1854000" y="893880"/>
              <a:ext cx="744120" cy="193248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1932480"/>
                <a:gd name="textAreaBottom" fmla="*/ 1932840 h 193248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37"/>
            <p:cNvSpPr/>
            <p:nvPr/>
          </p:nvSpPr>
          <p:spPr>
            <a:xfrm>
              <a:off x="2449800" y="893880"/>
              <a:ext cx="250200" cy="1789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8"/>
            <p:cNvSpPr/>
            <p:nvPr/>
          </p:nvSpPr>
          <p:spPr>
            <a:xfrm>
              <a:off x="2301120" y="1017360"/>
              <a:ext cx="370800" cy="452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a54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9"/>
            <p:cNvSpPr/>
            <p:nvPr/>
          </p:nvSpPr>
          <p:spPr>
            <a:xfrm>
              <a:off x="2508120" y="1278360"/>
              <a:ext cx="125280" cy="763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0"/>
            <p:cNvSpPr/>
            <p:nvPr/>
          </p:nvSpPr>
          <p:spPr>
            <a:xfrm>
              <a:off x="2301120" y="1007280"/>
              <a:ext cx="145800" cy="13896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1"/>
            <p:cNvSpPr/>
            <p:nvPr/>
          </p:nvSpPr>
          <p:spPr>
            <a:xfrm>
              <a:off x="2552400" y="1006200"/>
              <a:ext cx="86400" cy="126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42"/>
            <p:cNvSpPr/>
            <p:nvPr/>
          </p:nvSpPr>
          <p:spPr>
            <a:xfrm>
              <a:off x="2342880" y="1122120"/>
              <a:ext cx="60840" cy="54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43"/>
            <p:cNvSpPr/>
            <p:nvPr/>
          </p:nvSpPr>
          <p:spPr>
            <a:xfrm>
              <a:off x="2588040" y="1122120"/>
              <a:ext cx="34560" cy="45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4"/>
            <p:cNvSpPr/>
            <p:nvPr/>
          </p:nvSpPr>
          <p:spPr>
            <a:xfrm>
              <a:off x="2607120" y="1113840"/>
              <a:ext cx="64800" cy="155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45"/>
            <p:cNvSpPr/>
            <p:nvPr/>
          </p:nvSpPr>
          <p:spPr>
            <a:xfrm>
              <a:off x="2227320" y="1088280"/>
              <a:ext cx="119520" cy="187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46"/>
            <p:cNvSpPr/>
            <p:nvPr/>
          </p:nvSpPr>
          <p:spPr>
            <a:xfrm>
              <a:off x="2232360" y="1183320"/>
              <a:ext cx="93600" cy="9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47"/>
            <p:cNvSpPr/>
            <p:nvPr/>
          </p:nvSpPr>
          <p:spPr>
            <a:xfrm>
              <a:off x="2257920" y="1268280"/>
              <a:ext cx="294480" cy="2242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48"/>
            <p:cNvSpPr/>
            <p:nvPr/>
          </p:nvSpPr>
          <p:spPr>
            <a:xfrm>
              <a:off x="2291040" y="1343520"/>
              <a:ext cx="254880" cy="15444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49"/>
            <p:cNvSpPr/>
            <p:nvPr/>
          </p:nvSpPr>
          <p:spPr>
            <a:xfrm>
              <a:off x="2574000" y="1316520"/>
              <a:ext cx="77400" cy="1364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2575440" y="1329480"/>
              <a:ext cx="59760" cy="1162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2091240" y="1146240"/>
              <a:ext cx="613440" cy="52776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1679760" y="1153440"/>
              <a:ext cx="297000" cy="946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866520" y="1108080"/>
              <a:ext cx="1088640" cy="12942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936720" y="1306800"/>
              <a:ext cx="128160" cy="223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752400" y="1376640"/>
              <a:ext cx="159840" cy="3445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6" h="243">
                  <a:moveTo>
                    <a:pt x="126" y="0"/>
                  </a:moveTo>
                  <a:lnTo>
                    <a:pt x="109" y="48"/>
                  </a:lnTo>
                  <a:lnTo>
                    <a:pt x="120" y="134"/>
                  </a:lnTo>
                  <a:lnTo>
                    <a:pt x="90" y="175"/>
                  </a:lnTo>
                  <a:lnTo>
                    <a:pt x="73" y="109"/>
                  </a:lnTo>
                  <a:lnTo>
                    <a:pt x="42" y="145"/>
                  </a:lnTo>
                  <a:lnTo>
                    <a:pt x="60" y="194"/>
                  </a:lnTo>
                  <a:lnTo>
                    <a:pt x="30" y="243"/>
                  </a:lnTo>
                  <a:lnTo>
                    <a:pt x="0" y="188"/>
                  </a:lnTo>
                  <a:lnTo>
                    <a:pt x="6" y="125"/>
                  </a:lnTo>
                  <a:lnTo>
                    <a:pt x="48" y="4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706680" y="1694160"/>
              <a:ext cx="68400" cy="12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57"/>
            <p:cNvSpPr/>
            <p:nvPr/>
          </p:nvSpPr>
          <p:spPr>
            <a:xfrm>
              <a:off x="2360520" y="2142720"/>
              <a:ext cx="266760" cy="8542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58"/>
            <p:cNvSpPr/>
            <p:nvPr/>
          </p:nvSpPr>
          <p:spPr>
            <a:xfrm>
              <a:off x="2425320" y="1248840"/>
              <a:ext cx="81000" cy="1033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d6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59"/>
            <p:cNvSpPr/>
            <p:nvPr/>
          </p:nvSpPr>
          <p:spPr>
            <a:xfrm>
              <a:off x="2452320" y="909360"/>
              <a:ext cx="120600" cy="36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60"/>
            <p:cNvSpPr/>
            <p:nvPr/>
          </p:nvSpPr>
          <p:spPr>
            <a:xfrm>
              <a:off x="2354400" y="110520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61"/>
            <p:cNvSpPr/>
            <p:nvPr/>
          </p:nvSpPr>
          <p:spPr>
            <a:xfrm>
              <a:off x="2353320" y="1115280"/>
              <a:ext cx="15120" cy="8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62"/>
            <p:cNvSpPr/>
            <p:nvPr/>
          </p:nvSpPr>
          <p:spPr>
            <a:xfrm>
              <a:off x="2577960" y="1108080"/>
              <a:ext cx="31680" cy="35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63"/>
            <p:cNvSpPr/>
            <p:nvPr/>
          </p:nvSpPr>
          <p:spPr>
            <a:xfrm>
              <a:off x="2602080" y="1108080"/>
              <a:ext cx="11520" cy="22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64"/>
            <p:cNvSpPr/>
            <p:nvPr/>
          </p:nvSpPr>
          <p:spPr>
            <a:xfrm>
              <a:off x="1933560" y="1489680"/>
              <a:ext cx="636480" cy="8942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65"/>
            <p:cNvSpPr/>
            <p:nvPr/>
          </p:nvSpPr>
          <p:spPr>
            <a:xfrm>
              <a:off x="2041560" y="1793520"/>
              <a:ext cx="459720" cy="5446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66"/>
            <p:cNvSpPr/>
            <p:nvPr/>
          </p:nvSpPr>
          <p:spPr>
            <a:xfrm>
              <a:off x="2344320" y="2242080"/>
              <a:ext cx="207000" cy="7491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67"/>
            <p:cNvSpPr/>
            <p:nvPr/>
          </p:nvSpPr>
          <p:spPr>
            <a:xfrm>
              <a:off x="1917360" y="1786320"/>
              <a:ext cx="262800" cy="10227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68"/>
            <p:cNvSpPr/>
            <p:nvPr/>
          </p:nvSpPr>
          <p:spPr>
            <a:xfrm>
              <a:off x="2003760" y="2687400"/>
              <a:ext cx="262800" cy="282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69"/>
            <p:cNvSpPr/>
            <p:nvPr/>
          </p:nvSpPr>
          <p:spPr>
            <a:xfrm>
              <a:off x="1683720" y="1455840"/>
              <a:ext cx="195480" cy="6368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0"/>
            <p:cNvSpPr/>
            <p:nvPr/>
          </p:nvSpPr>
          <p:spPr>
            <a:xfrm>
              <a:off x="1485360" y="1440360"/>
              <a:ext cx="313560" cy="72648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71"/>
            <p:cNvSpPr/>
            <p:nvPr/>
          </p:nvSpPr>
          <p:spPr>
            <a:xfrm>
              <a:off x="1245240" y="1289880"/>
              <a:ext cx="313920" cy="6948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72"/>
            <p:cNvSpPr/>
            <p:nvPr/>
          </p:nvSpPr>
          <p:spPr>
            <a:xfrm>
              <a:off x="960840" y="1447200"/>
              <a:ext cx="268920" cy="72792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3"/>
            <p:cNvSpPr/>
            <p:nvPr/>
          </p:nvSpPr>
          <p:spPr>
            <a:xfrm>
              <a:off x="902520" y="2142720"/>
              <a:ext cx="159840" cy="33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74"/>
            <p:cNvSpPr/>
            <p:nvPr/>
          </p:nvSpPr>
          <p:spPr>
            <a:xfrm>
              <a:off x="1244160" y="1654560"/>
              <a:ext cx="259200" cy="380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5"/>
            <p:cNvSpPr/>
            <p:nvPr/>
          </p:nvSpPr>
          <p:spPr>
            <a:xfrm>
              <a:off x="1487880" y="1831680"/>
              <a:ext cx="173880" cy="3247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1655640" y="1874160"/>
              <a:ext cx="157320" cy="3178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692640" y="1837800"/>
              <a:ext cx="88920" cy="86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78"/>
            <p:cNvSpPr/>
            <p:nvPr/>
          </p:nvSpPr>
          <p:spPr>
            <a:xfrm>
              <a:off x="624240" y="1944000"/>
              <a:ext cx="144720" cy="153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79"/>
            <p:cNvSpPr/>
            <p:nvPr/>
          </p:nvSpPr>
          <p:spPr>
            <a:xfrm>
              <a:off x="521280" y="1901160"/>
              <a:ext cx="69480" cy="151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80"/>
            <p:cNvSpPr/>
            <p:nvPr/>
          </p:nvSpPr>
          <p:spPr>
            <a:xfrm>
              <a:off x="478080" y="179352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1"/>
            <p:cNvSpPr/>
            <p:nvPr/>
          </p:nvSpPr>
          <p:spPr>
            <a:xfrm>
              <a:off x="876960" y="2420640"/>
              <a:ext cx="228240" cy="251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2"/>
            <p:cNvSpPr/>
            <p:nvPr/>
          </p:nvSpPr>
          <p:spPr>
            <a:xfrm>
              <a:off x="1401480" y="2016360"/>
              <a:ext cx="181440" cy="27360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83"/>
            <p:cNvSpPr/>
            <p:nvPr/>
          </p:nvSpPr>
          <p:spPr>
            <a:xfrm>
              <a:off x="1317960" y="2195280"/>
              <a:ext cx="344160" cy="442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84"/>
            <p:cNvSpPr/>
            <p:nvPr/>
          </p:nvSpPr>
          <p:spPr>
            <a:xfrm>
              <a:off x="2101680" y="955080"/>
              <a:ext cx="40320" cy="117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85"/>
            <p:cNvSpPr/>
            <p:nvPr/>
          </p:nvSpPr>
          <p:spPr>
            <a:xfrm>
              <a:off x="2134440" y="916560"/>
              <a:ext cx="90000" cy="1076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6"/>
            <p:cNvSpPr/>
            <p:nvPr/>
          </p:nvSpPr>
          <p:spPr>
            <a:xfrm>
              <a:off x="2603160" y="916560"/>
              <a:ext cx="77400" cy="1134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7"/>
            <p:cNvSpPr/>
            <p:nvPr/>
          </p:nvSpPr>
          <p:spPr>
            <a:xfrm>
              <a:off x="2436840" y="1024560"/>
              <a:ext cx="111600" cy="1162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8"/>
            <p:cNvSpPr/>
            <p:nvPr/>
          </p:nvSpPr>
          <p:spPr>
            <a:xfrm>
              <a:off x="2466000" y="1207440"/>
              <a:ext cx="171360" cy="8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89"/>
            <p:cNvSpPr/>
            <p:nvPr/>
          </p:nvSpPr>
          <p:spPr>
            <a:xfrm>
              <a:off x="2388600" y="1172160"/>
              <a:ext cx="50760" cy="7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90"/>
            <p:cNvSpPr/>
            <p:nvPr/>
          </p:nvSpPr>
          <p:spPr>
            <a:xfrm>
              <a:off x="2326320" y="1464480"/>
              <a:ext cx="294480" cy="127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91"/>
            <p:cNvSpPr/>
            <p:nvPr/>
          </p:nvSpPr>
          <p:spPr>
            <a:xfrm>
              <a:off x="2468520" y="1464480"/>
              <a:ext cx="140760" cy="864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92"/>
            <p:cNvSpPr/>
            <p:nvPr/>
          </p:nvSpPr>
          <p:spPr>
            <a:xfrm>
              <a:off x="2102760" y="1130760"/>
              <a:ext cx="250200" cy="5133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93"/>
            <p:cNvSpPr/>
            <p:nvPr/>
          </p:nvSpPr>
          <p:spPr>
            <a:xfrm>
              <a:off x="263520" y="2019240"/>
              <a:ext cx="717480" cy="1122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94"/>
            <p:cNvSpPr/>
            <p:nvPr/>
          </p:nvSpPr>
          <p:spPr>
            <a:xfrm>
              <a:off x="586080" y="1837800"/>
              <a:ext cx="742680" cy="128844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288440"/>
                <a:gd name="textAreaBottom" fmla="*/ 1288800 h 128844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95"/>
            <p:cNvSpPr/>
            <p:nvPr/>
          </p:nvSpPr>
          <p:spPr>
            <a:xfrm>
              <a:off x="968400" y="1936800"/>
              <a:ext cx="731520" cy="118908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96"/>
            <p:cNvSpPr/>
            <p:nvPr/>
          </p:nvSpPr>
          <p:spPr>
            <a:xfrm>
              <a:off x="1193400" y="1809360"/>
              <a:ext cx="1088640" cy="13320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97"/>
            <p:cNvSpPr/>
            <p:nvPr/>
          </p:nvSpPr>
          <p:spPr>
            <a:xfrm>
              <a:off x="1477800" y="2328840"/>
              <a:ext cx="172800" cy="812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8"/>
            <p:cNvSpPr/>
            <p:nvPr/>
          </p:nvSpPr>
          <p:spPr>
            <a:xfrm>
              <a:off x="1749600" y="2342880"/>
              <a:ext cx="780120" cy="78300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99"/>
            <p:cNvSpPr/>
            <p:nvPr/>
          </p:nvSpPr>
          <p:spPr>
            <a:xfrm>
              <a:off x="2529720" y="1951200"/>
              <a:ext cx="456840" cy="11448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00"/>
            <p:cNvSpPr/>
            <p:nvPr/>
          </p:nvSpPr>
          <p:spPr>
            <a:xfrm>
              <a:off x="324360" y="1333800"/>
              <a:ext cx="694800" cy="180756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1807560"/>
                <a:gd name="textAreaBottom" fmla="*/ 1807920 h 180756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01"/>
            <p:cNvSpPr/>
            <p:nvPr/>
          </p:nvSpPr>
          <p:spPr>
            <a:xfrm>
              <a:off x="2715120" y="2412360"/>
              <a:ext cx="507960" cy="7290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02"/>
            <p:cNvSpPr/>
            <p:nvPr/>
          </p:nvSpPr>
          <p:spPr>
            <a:xfrm>
              <a:off x="2592000" y="1336680"/>
              <a:ext cx="217080" cy="3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3"/>
            <p:cNvSpPr/>
            <p:nvPr/>
          </p:nvSpPr>
          <p:spPr>
            <a:xfrm>
              <a:off x="2577960" y="1370520"/>
              <a:ext cx="214560" cy="126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4"/>
            <p:cNvSpPr/>
            <p:nvPr/>
          </p:nvSpPr>
          <p:spPr>
            <a:xfrm>
              <a:off x="2592000" y="1394640"/>
              <a:ext cx="214560" cy="151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05"/>
            <p:cNvSpPr/>
            <p:nvPr/>
          </p:nvSpPr>
          <p:spPr>
            <a:xfrm>
              <a:off x="2301120" y="1404720"/>
              <a:ext cx="209160" cy="1148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06"/>
            <p:cNvSpPr/>
            <p:nvPr/>
          </p:nvSpPr>
          <p:spPr>
            <a:xfrm>
              <a:off x="2271600" y="1370520"/>
              <a:ext cx="250200" cy="694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07"/>
            <p:cNvSpPr/>
            <p:nvPr/>
          </p:nvSpPr>
          <p:spPr>
            <a:xfrm>
              <a:off x="2233440" y="1360800"/>
              <a:ext cx="262800" cy="280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войства мутац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зап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учай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направле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следствен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ивидуаль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д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5:55:52Z</dcterms:created>
  <dc:creator>user</dc:creator>
  <dc:description/>
  <dc:language>en-US</dc:language>
  <cp:lastModifiedBy>Коля</cp:lastModifiedBy>
  <dcterms:modified xsi:type="dcterms:W3CDTF">2013-05-19T12:35:58Z</dcterms:modified>
  <cp:revision>41</cp:revision>
  <dc:subject/>
  <dc:title>Слайд 1</dc:title>
</cp:coreProperties>
</file>