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1FC2-A65F-497E-8A91-B1D2E97185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F130-BB53-438A-881A-25083D4FD0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9229-A8AE-447C-AF71-50823BD0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E63-0AC0-4652-9304-A8AEED4C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2AD-58F0-47C3-997B-ED8F1226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A41-0054-4258-8E1B-78733EB2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66B1-EC84-4A8C-9589-DF9E2232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F3A1-9E45-45AC-BF00-DC28B03A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88DE-70AD-4875-8136-B71BADD1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F061-4DF1-4753-A6C3-4E3601D1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37A7-7BBC-4F9D-BAAB-DDEC8B93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B229-35A0-4FEB-ABC9-BACE13CA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D132-E9F8-4E77-B0A4-736E61CE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125-4A51-4D14-941B-7458CE4D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A41E-A139-453F-A7DA-B4C923C5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6B86-E4DE-40A1-A2EF-FCB4B384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260A-4F7B-4D1F-9CFC-5E096C8D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6508-6FC5-4CB3-9805-7144FC58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35F9-6403-45ED-969E-C9BCE511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9EC60-6598-4B58-99D6-165EAFBB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F8E4E-5220-48E4-8609-A5948982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F876-1C85-4821-AE58-940845F2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17095-302B-48C6-B8F6-A3361E14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1813-99B9-4699-AC4F-87FF1900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DB1-6E41-4DEB-8CA8-CBDF7275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160F-0A75-4BA8-B67A-7B5311CF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0A2DE-FFB4-4B45-BE67-80FB62A8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7AB1B-5ED2-4EEE-88F2-345BC7BC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AEADF-E0EB-46CB-B885-34BDA2DA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1B6E-0CE9-414F-B9D2-6A61C4BF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E256D-1DFB-45CF-B748-E84E3D10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D00F8-2E43-415E-B915-9607DF17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71DCA-5C64-4AF9-9C8A-2B90B80E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5C620-F9F6-4501-B438-9884D51F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2CAE1-877A-4176-BBDF-2A8ED7CD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978-820D-4C65-AEBE-6E58068C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A102C-9C61-43B8-88B9-5AB41BCA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E3312-16B8-41A3-BEB1-B04594E7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CFC4C-DC58-4346-8594-5F8CFEA9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73FC3-2887-4991-9AB9-F962A44B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6C335-EDEA-42CE-9833-7D278BCD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DB9A9-E20E-4029-8D31-5A29F8FA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0C9FF-77E4-4B52-8742-2C39A0AE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0BC7A-7B64-457D-9420-F4832C8C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D4F5C-AF27-4E8F-80E1-F5019649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1D3-2C77-4EAE-83B0-E509CCFB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8E7-9809-4810-A985-E7E6F06B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862-6612-48D2-81DC-0374A732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5C7-4740-44EC-B97C-4D92035C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975-80C1-4288-84F2-4A67A760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C00B-4A0F-4D83-9F68-406C4C3EF6D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FB26-181D-4524-9211-2BC9D662A6D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12EE-1726-4676-BF31-1185C9D95AC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04EB-DDAC-4905-9441-FA2EF2798A6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mailbox@provaider.ru%22%3EE-mai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281160" y="1116000"/>
            <a:ext cx="8766000" cy="2157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HTML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HEAD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TITLE&gt;Компьютер&lt;/TITLE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/HEAD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BODY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FONT   COLOR="blue"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H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 ALIGN="center"&gt;Bce о компьютере&lt;/H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/FONT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HR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P  ALIGN="left"&gt;Ha    этом   сайте    вы   сможете    получить   различную   информацию       о   компьютере,    его программном   обеспечении   и    ценах   на    компьютерные комплектующие.&lt;/P&gt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P  ALIGN="right"&gt;Терминологический    словарь    познакомит вас    с    компьютерными    терминами,     а    также вы   сможете  заполнить    анкету.&lt;/P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BODY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/HTML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Левая фигурная скобка 3"/>
          <p:cNvSpPr/>
          <p:nvPr/>
        </p:nvSpPr>
        <p:spPr>
          <a:xfrm>
            <a:off x="214200" y="357120"/>
            <a:ext cx="357480" cy="550080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5500800"/>
              <a:gd name="textAreaBottom" fmla="*/ 5491800 h 550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Левая фигурная скобка 4"/>
          <p:cNvSpPr/>
          <p:nvPr/>
        </p:nvSpPr>
        <p:spPr>
          <a:xfrm>
            <a:off x="714240" y="714240"/>
            <a:ext cx="142920" cy="7146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14600"/>
              <a:gd name="textAreaBottom" fmla="*/ 711000 h 7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Левая фигурная скобка 5"/>
          <p:cNvSpPr/>
          <p:nvPr/>
        </p:nvSpPr>
        <p:spPr>
          <a:xfrm>
            <a:off x="500040" y="1714680"/>
            <a:ext cx="142920" cy="37144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714480"/>
              <a:gd name="textAreaBottom" fmla="*/ 3710880 h 37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"/>
                  <a:pt x="10800" y="69"/>
                </a:cubicBezTo>
                <a:lnTo>
                  <a:pt x="10800" y="10731"/>
                </a:lnTo>
                <a:cubicBezTo>
                  <a:pt x="10800" y="10766"/>
                  <a:pt x="5400" y="10800"/>
                  <a:pt x="0" y="10800"/>
                </a:cubicBezTo>
                <a:cubicBezTo>
                  <a:pt x="5400" y="10800"/>
                  <a:pt x="10800" y="10835"/>
                  <a:pt x="10800" y="10869"/>
                </a:cubicBezTo>
                <a:lnTo>
                  <a:pt x="10800" y="21531"/>
                </a:lnTo>
                <a:cubicBezTo>
                  <a:pt x="10800" y="215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Левая фигурная скобка 6"/>
          <p:cNvSpPr/>
          <p:nvPr/>
        </p:nvSpPr>
        <p:spPr>
          <a:xfrm>
            <a:off x="714240" y="2000160"/>
            <a:ext cx="214560" cy="78588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880"/>
              <a:gd name="textAreaBottom" fmla="*/ 78048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15964"/>
                </a:solidFill>
                <a:latin typeface="Calibri"/>
              </a:rPr>
              <a:t>Вставка изображений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28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-7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ля вставки изображения используется тэг &lt;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MG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&gt; с атрибутом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R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920" indent="-7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920" indent="-7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IMG    SRC="COMP6.gif"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920" indent="-7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920" indent="-7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Прямоугольник 3"/>
          <p:cNvSpPr/>
          <p:nvPr/>
        </p:nvSpPr>
        <p:spPr>
          <a:xfrm>
            <a:off x="214200" y="3429000"/>
            <a:ext cx="87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ясняющий текст выводится с помощью атрибута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LT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значением которого является текст, поясняющий, что должен был бы увидеть пользователь на рисун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&lt;IMG    SRC="COMP6.gif"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LT “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мпьюте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ожить рисунок относительно текста различными способами позволяет атрибут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IGN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MG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, который может принимать пять различных значений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ОР (верх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IDDL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середин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OTTOM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низ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EFT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слева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IGHT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справа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IMG    SRC="COMP6.gif" ALT="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Компьютер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" ALIGN="right"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3495c"/>
                </a:solidFill>
                <a:latin typeface="Calibri"/>
              </a:rPr>
              <a:t>Гиперссылки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42920" y="928800"/>
            <a:ext cx="8786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ервая титульная страница должна предоставлять посетителю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-сайта возможность начать путешествие по сайту. Для этого на титульную страницу должны быть помещены гиперссылки на другие страницы сай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85840" y="142560"/>
            <a:ext cx="857232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Е&gt;</a:t>
            </a:r>
            <a:r>
              <a:rPr b="1" lang="ru-RU" sz="2600" spc="-1" strike="noStrike" u="sng">
                <a:solidFill>
                  <a:srgbClr val="0000ff"/>
                </a:solidFill>
                <a:uFillTx/>
                <a:latin typeface="Constantia"/>
              </a:rPr>
              <a:t>Заголовок страницы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Е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ODY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ODY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 algn="ctr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здать пустые страницы «Программы», «Словарь», «Комплектующие» и «Анкета» и сохранить их в файлах с именами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oftwar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lossary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ardwar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keta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каталоге сай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15964"/>
                </a:solidFill>
                <a:latin typeface="Calibri"/>
              </a:rPr>
              <a:t>Панель навиг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анель навигации будет представлять собой абзац, выровненный по центру, в котором указатели гиперссылок разделены пробелами (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&amp;nbsp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&lt;Р  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ALIGH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center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"&gt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[Программы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]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&amp;nbsp 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[Словарь] 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&amp;nbsp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[Комплектующие] 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&amp;nbsp 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[Анкета]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&lt;/Р&gt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14200" y="714240"/>
            <a:ext cx="878688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P  ALIGN="center"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[&lt;A HREF="software.htm"&gt;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Программы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A&gt;] &amp;nbs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[&lt;A HREF="glossary.htm"&gt;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Словарь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A&gt;] &amp;nbs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[&lt;A HREF="hardware.htm"&gt;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Комплектующие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A&gt;] &amp;nbs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[&lt;A HREF="anketa.htm"&gt;A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нке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a&lt;/A&gt;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/P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Ссылка на электронный адрес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85480" y="1934640"/>
            <a:ext cx="8643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ADDRESS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А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HREF="</a:t>
            </a:r>
            <a:r>
              <a:rPr b="0" lang="en-US" sz="28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mailto:mailbox@provaider.ru"&gt;E-mail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mailbox@provaider.ru 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DDRESS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4617b"/>
                </a:solidFill>
                <a:latin typeface="Calibri"/>
              </a:rPr>
              <a:t>Списки</a:t>
            </a:r>
            <a:r>
              <a:rPr b="1" lang="ru-RU" sz="7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42560" y="1071360"/>
            <a:ext cx="871524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Список располагается внутри контейнера &lt;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L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&gt;&lt;/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L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&gt;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а каждый элемент списка определяется тэгом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I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. С помощью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можно задать тип нумерации: арабские цифры (по умолчанию),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(римские цифры), "а" (строчные буквы) 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.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onstantia"/>
              </a:rPr>
              <a:t>Программное обеспече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OL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LI&gt;Системные   программ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LI&gt;Прикладные   программ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LI&gt;Системы   программир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OL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00040" y="285480"/>
            <a:ext cx="8501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Вложенный ненумерованный список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агается внутри контейнер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, а каждый элемент списка определяется также тэгом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I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. С помощью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можно задать вид маркера списка: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isc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(диск),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quar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  (квадрат)  или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ircl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  (окружност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onstantia"/>
              </a:rPr>
              <a:t>Для прикладных программ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U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quar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 текстовые редактор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  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quar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 графические редактор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  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quar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 электронные таблиц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   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quar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 системы управления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базами данны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U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Web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-сайты и </a:t>
            </a: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Web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-страниц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Web-сайт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состоит из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-страниц, объединенных гиперссылками.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-страницы могут быть интерактивными и могут содержать мультимедийные и динамические объект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42920" y="285480"/>
            <a:ext cx="88581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20" indent="3528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аницу «Словарь» мы представим в виде словаря компьютерных термин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этого используем контейнер списка определений &lt;/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L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&gt;. Внутри него текст оформляется в виде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термина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торый выделяется непарным тэгом &lt;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T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&gt;, и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пределения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торое следует за тэгом &lt;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D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Процесс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 Центральное   устройство компьютера,    производящее обработку   информации   в двоичном   код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Т&gt; Оперативная   памя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 Устройство,   в котором хранятся   программы   и данны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Формы 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13840" y="928800"/>
            <a:ext cx="89298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орма заключается в контейнер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ORM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ORM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Текстовые поля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ются с помощью тэга &lt;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PU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&gt; со значением атрибут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YP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x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". Атрибу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ME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вляется обязательным и служит для идентификации полученной информации. Значением атрибут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ZE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вляется число, задающее длину поля ввода в символ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того чтобы анкета «читалась», необходимо разделить строки с помощью тэга перевода строки &lt;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&gt;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428400"/>
            <a:ext cx="8229600" cy="58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FORM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Пожалуйста, введите ваше имя:    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INPUT    TYPE="text"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AME="name"    SIZE</a:t>
            </a:r>
            <a:r>
              <a:rPr b="1" lang="en-US" sz="2600" spc="-1" strike="noStrike">
                <a:solidFill>
                  <a:srgbClr val="0000ff"/>
                </a:solidFill>
                <a:latin typeface="Royal Times New Roman"/>
              </a:rPr>
              <a:t>=</a:t>
            </a:r>
            <a:r>
              <a:rPr b="1" lang="ru-RU" sz="2600" spc="-1" strike="noStrike">
                <a:solidFill>
                  <a:srgbClr val="0000ff"/>
                </a:solidFill>
                <a:latin typeface="Royal Times New Roman"/>
              </a:rPr>
              <a:t>30</a:t>
            </a:r>
            <a:r>
              <a:rPr b="1" lang="en-US" sz="2600" spc="-1" strike="noStrike">
                <a:solidFill>
                  <a:srgbClr val="0000ff"/>
                </a:solidFill>
                <a:latin typeface="Royal Times New Roman"/>
              </a:rPr>
              <a:t>&gt;</a:t>
            </a:r>
            <a:r>
              <a:rPr b="1" lang="ru-RU" sz="2600" spc="-1" strike="noStrike">
                <a:solidFill>
                  <a:srgbClr val="0000ff"/>
                </a:solidFill>
                <a:latin typeface="Royal Times New Roman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BR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E-mail:    &lt;BR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INPUT    TYPE="text"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AME="e-mail"    SIZE=</a:t>
            </a:r>
            <a:r>
              <a:rPr b="1" lang="ru-RU" sz="2600" spc="-1" strike="noStrike">
                <a:solidFill>
                  <a:srgbClr val="0000ff"/>
                </a:solidFill>
                <a:latin typeface="Royal Times New Roman"/>
              </a:rPr>
              <a:t> 30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BR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FORM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285840"/>
            <a:ext cx="8229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2570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Переключател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257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руппа переключателей («радиокнопок») создается  с помощью 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со значением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adio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 Все элементы в группе должны иметь одинаковые значения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 Например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roup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257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Еще одним обязательным атрибутом является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которому присвоим значения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choolboy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,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uden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и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eache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 Значение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ALU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олжно быть уникальным для каждой «радиокнопки», так как при ее выборе именно они передаются сервер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257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7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Укажите,    к   какой       группе пользователей   вы   себя   относите:    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radio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group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 “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choolboy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учащийся&lt;ВР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radio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group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 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tuden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студент&lt;ВР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radio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group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 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eache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учитель&lt;В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P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Флаж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360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Если из предложенного перечня он нужно выбрать одновременно несколько вариантов, то их  помечают  флажк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360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лажки создаются в тэге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  значением атрибута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heckbox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360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лажки, объединенные в группу, могут иметь одинаковые значения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   Например,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roup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360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Еще одним обязательным атрибутом является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которому присвоим, например, значения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ww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,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ai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и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tp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7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Какие   из   сервисов   Интернета   вы   используете   наиболее  часто: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INPUT    TYPE="checkbox“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NAME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group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"  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VALUE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WWW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"&gt;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WWW&lt;BR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INPUT   TYPE="checkbox" NAME="group"   VALUE= "e-mail"&gt;   e-mail &lt;BR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INPUT TYPE="checkbox“ NAME="group"   VALUE="ftp” &gt; FTP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ля списк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169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ясним, какой из браузеров предпочитает посетитель сайта. Перечень браузеров представим в виде раскрывающегося списка, из которого можно выбрать только один вариант. Для реализации такого списка используется контейнер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LEC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LEC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, в котором каждый элемент списка определяется тэгом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PTION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. Выбираемый по умолчанию элемент задается с помощью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LECTED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5400" indent="169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5400" indent="169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93600" indent="-2728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Какой из браузеров вы предпочитаете?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SELECT   NAME="browsers"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OPTION   SELECTED&gt;    Interne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Explor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nternet Explor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OPTION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etscape Naviga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OPTION&gt; Ope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OPTION&gt; Neo Plan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/SELECT&gt; &lt;BR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Текстовая обла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14200" y="1142640"/>
            <a:ext cx="8715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здается такая область с помощью 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EXTAREA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с обязательными атрибутами: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задающим имя области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OWS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определяющим число строк, и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LS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— число столбцов обла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Какую   еще информацию вы хотели   бы видеть на нашем сайте? 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TEXTAREA   NAME="resume"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ROWS=</a:t>
            </a:r>
            <a:r>
              <a:rPr b="1" lang="en-US" sz="2600" spc="-1" strike="noStrike">
                <a:solidFill>
                  <a:srgbClr val="0000ff"/>
                </a:solidFill>
                <a:latin typeface="Royal Times New Roman"/>
              </a:rPr>
              <a:t>4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    COLS=</a:t>
            </a:r>
            <a:r>
              <a:rPr b="1" lang="ru-RU" sz="2600" spc="-1" strike="noStrike">
                <a:solidFill>
                  <a:srgbClr val="0000ff"/>
                </a:solidFill>
                <a:latin typeface="Royal Times New Roman"/>
              </a:rPr>
              <a:t>30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EXTAREA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3840" y="928800"/>
            <a:ext cx="89298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Создание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-сайтов реализуется с использованием языка разметки гипертекстовых документов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ехнология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состоит в том, что в обычный текстовый документ вставляются управляющие символы (тэги) и в результате мы получаем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-страницу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Отправка данных из фор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14200" y="713880"/>
            <a:ext cx="8715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249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правка введенной в форму информации или очистка полей от уже введенной информации осуществляется с помощью кнопок. Кнопки создаются с помощью 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. Для создания кнопки, которая отправляет информацию, атрибуту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обходимо присвоить значение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ubmi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, а атрибуту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который задает надпись на кнопке, — значение "Отправить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249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ля создания кнопки, которая производит очистку фор­мы, атрибуту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обходимо присвоить значение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se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, а атрибуту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- значение "Очистить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249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INPUT TYPE="submit" VALUE="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Отправить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"&gt; &lt;INPUT TYPE="reset"  VALUE="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Очистить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"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249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3000240"/>
            <a:ext cx="822960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условные обозначения и значения  тэгов (контейнеров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ид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-страницы задается тэгами, которые заключаются в угловые скоб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Тэги могут быть одиночными или парными, для которых обязательно наличие открывающего и закрывающего тегов (такая пара тэгов называется </a:t>
            </a: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контейнером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Закрывающий тэг содержит прямой </a:t>
            </a: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слэш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/) перед обозначени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428400"/>
            <a:ext cx="8229600" cy="58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код страницы помещается внутрь контейнер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головок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страницы заключается в контейнер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звание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страницы содержится в контейнере &lt;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ITL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ITL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HTML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Т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Е&gt;Компьютер&lt;/Т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Е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HTML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Левая фигурная скобка 13"/>
          <p:cNvSpPr/>
          <p:nvPr/>
        </p:nvSpPr>
        <p:spPr>
          <a:xfrm>
            <a:off x="1428840" y="3714840"/>
            <a:ext cx="785880" cy="2214360"/>
          </a:xfrm>
          <a:custGeom>
            <a:avLst/>
            <a:gdLst>
              <a:gd name="textAreaLeft" fmla="*/ 502200 w 785880"/>
              <a:gd name="textAreaRight" fmla="*/ 786240 w 785880"/>
              <a:gd name="textAreaTop" fmla="*/ 20160 h 2214360"/>
              <a:gd name="textAreaBottom" fmla="*/ 21942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0"/>
                  <a:pt x="10800" y="639"/>
                </a:cubicBezTo>
                <a:lnTo>
                  <a:pt x="10800" y="10161"/>
                </a:lnTo>
                <a:cubicBezTo>
                  <a:pt x="10800" y="10481"/>
                  <a:pt x="5400" y="10800"/>
                  <a:pt x="0" y="10800"/>
                </a:cubicBezTo>
                <a:cubicBezTo>
                  <a:pt x="5400" y="10800"/>
                  <a:pt x="10800" y="11120"/>
                  <a:pt x="10800" y="11439"/>
                </a:cubicBezTo>
                <a:lnTo>
                  <a:pt x="10800" y="20961"/>
                </a:lnTo>
                <a:cubicBezTo>
                  <a:pt x="10800" y="2128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Левая фигурная скобка 14"/>
          <p:cNvSpPr/>
          <p:nvPr/>
        </p:nvSpPr>
        <p:spPr>
          <a:xfrm>
            <a:off x="2143080" y="4286160"/>
            <a:ext cx="428760" cy="121464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214640"/>
              <a:gd name="textAreaBottom" fmla="*/ 120348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571320"/>
            <a:ext cx="822960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сновное содержание страницы помещается в контейнер &lt;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ODY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ODY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Е&gt;Компьютер&lt;/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Е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ODY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Все о компьютер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ODY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/HTML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Левая фигурная скобка 3"/>
          <p:cNvSpPr/>
          <p:nvPr/>
        </p:nvSpPr>
        <p:spPr>
          <a:xfrm>
            <a:off x="2857680" y="3714840"/>
            <a:ext cx="214200" cy="107136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1071360"/>
              <a:gd name="textAreaBottom" fmla="*/ 1065960 h 107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571680" y="600084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Сохранить файл под именем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index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htm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 в папке сай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змер шрифта для имеющихся в тексте заголовков задается тэгами от &lt;Н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(самый крупный) до &lt;Н6&gt; (самый мелкий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Н</a:t>
            </a: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Все    о   компьютере&lt;/Н</a:t>
            </a: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ть тип выравнивания заголовка для тэга заголовка позволяет атрибут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равнивание по правой границе окна реализуется с помощью записи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IGN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igh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, а по центру —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IGN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ente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Н</a:t>
            </a: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ALIGN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cente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c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о   компьютере&lt;/Н</a:t>
            </a: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42840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 помощью тэг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ON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и его атрибутов можно задать параметры форматирования шрифта любого фрагмента текста. Атрибут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AC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позволяет задать гарнитуру шрифта (например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AC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ia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), атрибут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IZ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— размер шрифта (например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IZ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), атрибут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LO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— цвет шрифта (например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LO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lu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FONT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COLOR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blue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"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Н</a:t>
            </a:r>
            <a:r>
              <a:rPr b="1" lang="ru-RU" sz="33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 ALIGN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center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"&gt;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Bce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 о компьютере&lt;/Н</a:t>
            </a:r>
            <a:r>
              <a:rPr b="1" lang="ru-RU" sz="33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FONT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головок целесообразно отделить от остального содержания страницы горизонтальной линией с помощью одиночного 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Прямоугольник 3" descr=""/>
          <p:cNvPicPr/>
          <p:nvPr/>
        </p:nvPicPr>
        <p:blipFill>
          <a:blip r:embed="rId1"/>
          <a:stretch/>
        </p:blipFill>
        <p:spPr>
          <a:xfrm>
            <a:off x="208080" y="5224320"/>
            <a:ext cx="87278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зделение текста на абзацы производится с помощью контейнера &lt;Р&gt;&lt;/Р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местим на титульную страницу текст, разбитый на абзацы с различным выравниванием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5:50:25Z</dcterms:created>
  <dc:creator>1</dc:creator>
  <dc:description/>
  <dc:language>en-US</dc:language>
  <cp:lastModifiedBy>1</cp:lastModifiedBy>
  <dcterms:modified xsi:type="dcterms:W3CDTF">2009-05-07T19:13:17Z</dcterms:modified>
  <cp:revision>28</cp:revision>
  <dc:subject/>
  <dc:title>Слайд 1</dc:title>
</cp:coreProperties>
</file>