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78D6-44DA-4699-8F98-AE1A9058C4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8BB0-0A9B-4F05-ABE6-B3A9CB9D2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7EB-6F7C-4EA9-9C1D-08E6B380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18E-6A08-4D51-9227-AE5D05F2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3AE-720E-43B1-A944-0527FA52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214-6E0B-4A76-BE57-19B82429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F860-E9A5-42E9-8761-E93C2597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7171-4DC6-44F8-AF3B-DDAC75E2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03C0-63CE-4CCB-A760-D3734CD2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77A4-2228-44D7-8A30-CFB3E7D4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3FB-4DA0-40FE-BF6F-668C135F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2D99-DB11-4077-8212-8EF524CE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9657-7E09-45BD-8B72-BE9E3272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C4E-8465-40FD-9FA6-F81502B5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2376-C864-4802-B373-0FED41A7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D670-2902-451B-9079-8E8BA30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052D-14C0-4C41-A6EA-04A69498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72FB-1B4E-4A00-A005-A87DCCA5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D149-D8D3-4A99-84BD-AAA98278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6C76-F6BD-498D-ACA7-13264353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9CD8-E319-4E5E-94C8-3059E3F3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267F-733D-4BB4-ACEB-A05A9EBB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ED982-1E81-40AD-BEE1-3DC037F3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185C-4424-4B50-8F5E-975C41DE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A52-FBC5-4656-9ACD-CCBB1487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1A7C-E3CA-490E-BC5E-E311B455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C07A-0528-45C3-B353-8F585270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03F5-A84B-413C-910D-0FA3689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1BBB-6147-4DD4-838F-7F86D024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64FF-7476-47A8-8557-1F9CDCB3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9E4D-A970-4E4F-8270-06938B39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592C-EA64-4CDF-802C-B9B28035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44169-39D5-4160-89CF-1AA63780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1A917-8CCE-48D7-86EA-E5E2C79F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1662-D89E-4304-8007-8A768146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E3B-786F-440D-9D2D-FB2F6DC6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7A681-DB29-4874-95EE-6B75AB55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EA17A-1CA3-42BB-A078-F81EB357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FBC81-6F80-4DFF-BDF6-BEBF8A34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E714C-E457-4027-94A7-A7B55A2A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3480-E0F1-4FC2-992A-2214E5AD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B168-333F-41BE-8899-56E85E8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176E-4769-406A-852B-1AE1C38D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3A47-0B65-4EB8-864E-E6BDB2CC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623A-E033-419C-83C4-41A12BA1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BE4-8BDB-4504-99A1-1B6215E7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18B9-F0AA-4AA4-AFF7-2694A0CA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709-0984-4D15-B326-9B347FC7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2D0-09ED-4642-A81D-003D1055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05B-353C-4DE1-B211-40AA3B42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01BE-6F2D-4D6F-A7BA-77F08D22112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9086-E59A-4F00-B69F-8EBB42299B1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6BE0-6FFC-4FCC-8D6B-EA1EA67AA6D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D256-4386-4DB9-8A7E-5360BBDF63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ailbox@provaider.ru%22%3EE-mai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281160" y="1116000"/>
            <a:ext cx="8766000" cy="2157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TML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EAD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TITLE&gt;Компьютер&lt;/TITLE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HEAD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FONT   COLOR="blue"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ALIGN="center"&gt;Bce о компьютере&lt;/H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FONT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P  ALIGN="left"&gt;Ha    этом   сайте    вы   сможете    получить   различную   информацию       о   компьютере,    его программном   обеспечении   и    ценах   на    компьютерные комплектующие.&lt;/P&gt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P  ALIGN="right"&gt;Терминологический    словарь    познакомит вас    с    компьютерными    терминами,     а    также вы   сможете  заполнить    анкету.&lt;/P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BODY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0668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HTML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Левая фигурная скобка 3"/>
          <p:cNvSpPr/>
          <p:nvPr/>
        </p:nvSpPr>
        <p:spPr>
          <a:xfrm>
            <a:off x="214200" y="357120"/>
            <a:ext cx="357480" cy="550080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5500800"/>
              <a:gd name="textAreaBottom" fmla="*/ 5491800 h 550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"/>
                  <a:pt x="10800" y="117"/>
                </a:cubicBezTo>
                <a:lnTo>
                  <a:pt x="10800" y="10683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9"/>
                  <a:pt x="10800" y="10917"/>
                </a:cubicBezTo>
                <a:lnTo>
                  <a:pt x="10800" y="21483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Левая фигурная скобка 4"/>
          <p:cNvSpPr/>
          <p:nvPr/>
        </p:nvSpPr>
        <p:spPr>
          <a:xfrm>
            <a:off x="714240" y="714240"/>
            <a:ext cx="142920" cy="7146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14600"/>
              <a:gd name="textAreaBottom" fmla="*/ 71100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Левая фигурная скобка 5"/>
          <p:cNvSpPr/>
          <p:nvPr/>
        </p:nvSpPr>
        <p:spPr>
          <a:xfrm>
            <a:off x="500040" y="1714680"/>
            <a:ext cx="142920" cy="37144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714480"/>
              <a:gd name="textAreaBottom" fmla="*/ 371088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5400" y="10800"/>
                  <a:pt x="0" y="10800"/>
                </a:cubicBezTo>
                <a:cubicBezTo>
                  <a:pt x="54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Левая фигурная скобка 6"/>
          <p:cNvSpPr/>
          <p:nvPr/>
        </p:nvSpPr>
        <p:spPr>
          <a:xfrm>
            <a:off x="714240" y="2000160"/>
            <a:ext cx="214560" cy="78588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880"/>
              <a:gd name="textAreaBottom" fmla="*/ 7804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15964"/>
                </a:solidFill>
                <a:latin typeface="Calibri"/>
              </a:rPr>
              <a:t>Вставка изображений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2880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ля вставки изображения используется тэг &lt;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MG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&gt; с атрибутом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R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MG    SRC="COMP6.gif"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920" indent="-7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214200" y="342900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ясняющий текст выводится с помощью атрибута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LT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значением которого является текст, поясняющий, что должен был бы увидеть пользователь на рисун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lt;IMG    SRC="COMP6.gif"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LT “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пьютер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ть рисунок относительно текста различными способами позволяет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G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, который может принимать пять различных значений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ОР (верх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IDDL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середина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OTTOM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из)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EFT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слева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справа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MG    SRC="COMP6.gif" ALT="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омпьютер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" ALIGN="right"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3495c"/>
                </a:solidFill>
                <a:latin typeface="Calibri"/>
              </a:rPr>
              <a:t>Гиперссылки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2920" y="928800"/>
            <a:ext cx="8786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рвая титульная страница должна предоставлять посетителю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сайта возможность начать путешествие по сайту. Для этого на титульную страницу должны быть помещены гиперссылки на другие страницы сай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5840" y="142560"/>
            <a:ext cx="857232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</a:t>
            </a:r>
            <a:r>
              <a:rPr b="1" lang="ru-RU" sz="2600" spc="-1" strike="noStrike" u="sng">
                <a:solidFill>
                  <a:srgbClr val="0000ff"/>
                </a:solidFill>
                <a:uFillTx/>
                <a:latin typeface="Constantia"/>
              </a:rPr>
              <a:t>Заголовок страницы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67840" indent="-250920" algn="ctr"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здать пустые страницы «Программы», «Словарь», «Комплектующие» и «Анкета» и сохранить их в файлах с именам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oftwar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lossary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rdwar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keta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каталоге сай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15964"/>
                </a:solidFill>
                <a:latin typeface="Calibri"/>
              </a:rPr>
              <a:t>Панель навигац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анель навигации будет представлять собой абзац, выровненный по центру, в котором указатели гиперссылок разделены пробелами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&amp;nbs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&lt;Р 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ALIGH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center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"&gt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Программы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]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&amp;nbsp 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Словарь]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&amp;nbsp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Комплектующие]  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&amp;nbsp </a:t>
            </a: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[Анкета]</a:t>
            </a:r>
            <a:r>
              <a:rPr b="1" lang="en-US" sz="32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nstantia"/>
              </a:rPr>
              <a:t>&lt;/Р&gt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14200" y="714240"/>
            <a:ext cx="878688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P  ALIGN="center"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software.htm"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Программы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gt;] &amp;nbs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glossary.htm"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Словарь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gt;] &amp;nbs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hardware.htm"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омплектующие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gt;] &amp;nbs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[&lt;A HREF="anketa.htm"&gt;A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нке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&lt;/A&gt;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/P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Ссылка на электронный адрес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85480" y="193464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ADDRESS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А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  HREF="</a:t>
            </a:r>
            <a:r>
              <a:rPr b="0" lang="en-US" sz="28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mailto:mailbox@provaider.ru"&gt;E-mail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mailbox@provaider.ru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ADDRESS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Списки</a:t>
            </a: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42560" y="1071360"/>
            <a:ext cx="871524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Список располагается внутри контейнера &lt;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L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&gt;&lt;/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L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&gt;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а каждый элемент списка определяется тэгом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С помощью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можно задать тип нумерации: арабские цифры (по умолчанию)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(римские цифры), "а" (строчные буквы) 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.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onstantia"/>
              </a:rPr>
              <a:t>Программное обеспеч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O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LI&gt;Системные   програм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LI&gt;Прикладные   програм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LI&gt;Системы   программир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5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O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0004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Вложенный ненумерованный список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агается внутри контейнер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, а каждый элемент списка определяется также тэгом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С помощью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можно задать вид маркера списка: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isc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(диск)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  (квадрат)  или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irc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  (окружность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ff"/>
                </a:solidFill>
                <a:uFillTx/>
                <a:latin typeface="Constantia"/>
              </a:rPr>
              <a:t>Для прикладных програм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текстовые редакто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  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графические редактор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  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электронные таблиц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I   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quar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 системы управления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базами данны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U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1641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Web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-сайты и </a:t>
            </a: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Web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-страниц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Web-сайт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состоит из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траниц, объединенных гиперссылками.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траницы могут быть интерактивными и могут содержать мультимедийные и динамические объект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42920" y="28548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20" indent="3528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траницу «Словарь» мы представим в виде словаря компьютерных термин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этого используем контейнер списка определений &lt;/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L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&gt;. Внутри него текст оформляется в виде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термина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торый выделяется непарным тэгом &lt;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T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&gt;, 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пределения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торое следует за тэгом &lt;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D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Процесс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 Центральное   устройство компьютера,    производящее обработку   информации   в двоичном   код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&gt; Оперативная   памя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 Устройство,   в котором хранятся   программы   и данны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352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D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Формы 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13840" y="928800"/>
            <a:ext cx="89298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орма заключается в контейнер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Текстовые пол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ются с помощью тэга &lt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&gt; со значением атрибут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YP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x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". Атрибут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M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ется обязательным и служит для идентификации полученной информации. Значением атрибута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ZE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вляется число, задающее длину поля ввода в символа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анкета «читалась», необходимо разделить строки с помощью тэга перевода строки &lt;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&gt;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Пожалуйста, введите ваше имя:   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NPUT    TYPE="text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="name"    SIZE</a:t>
            </a:r>
            <a:r>
              <a:rPr b="1" lang="en-US" sz="2600" spc="-1" strike="noStrike">
                <a:solidFill>
                  <a:srgbClr val="0000ff"/>
                </a:solidFill>
                <a:latin typeface="Royal Times New Roman"/>
              </a:rPr>
              <a:t>=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30</a:t>
            </a:r>
            <a:r>
              <a:rPr b="1" lang="en-US" sz="2600" spc="-1" strike="noStrike">
                <a:solidFill>
                  <a:srgbClr val="0000ff"/>
                </a:solidFill>
                <a:latin typeface="Royal Times New Roman"/>
              </a:rPr>
              <a:t>&gt;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E-mail:    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NPUT    TYPE="text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="e-mail"    SIZE=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 30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26036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FORM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28584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570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ереключател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257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руппа переключателей («радиокнопок») создается  с помощью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со значением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 Все элементы в группе должны иметь одинаковые значения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 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257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ще одним обязательным атрибутом является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ому присвоим значения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choolboy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uden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и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ach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 Значение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лжно быть уникальным для каждой «радиокнопки», так как при ее выборе именно они передаются серве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257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Укажите,    к   какой       группе пользователей   вы   себя   относите:   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 “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choolbo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учащийся&lt;ВР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 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studen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студент&lt;ВР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adio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 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 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eache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учитель&lt;В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P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4617b"/>
                </a:solidFill>
                <a:latin typeface="Calibri"/>
              </a:rPr>
              <a:t>Флажки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сли из предложенного перечня он нужно выбрать одновременно несколько вариантов, то их  помечают  флажк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лажки создаются в тэге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  значением атрибута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eckbox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лажки, объединенные в группу, могут иметь одинаковые значения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   Например,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ou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360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Еще одним обязательным атрибутом является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ому присвоим, например, значения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ww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i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 и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tp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Какие   из   сервисов   Интернета   вы   используете   наиболее  часто: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NPUT    TYPE="checkbox“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NAME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group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"     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VALUE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WWW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"&g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 WWW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NPUT   TYPE="checkbox" NAME="group"   VALUE= "e-mail"&gt;   e-mail 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&lt;INPUT TYPE="checkbox“ NAME="group"   VALUE="ftp” &gt; FTP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7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ля списк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169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ясним, какой из браузеров предпочитает посетитель сайта. Перечень браузеров представим в виде раскрывающегося списка, из которого можно выбрать только один вариант. Для реализации такого списка используется контейнер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, в котором каждый элемент списка определяется тэгом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PTIO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Выбираемый по умолчанию элемент задается с помощью атрибут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LECTED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5400" indent="169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5400" indent="169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93600" indent="-2728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акой из браузеров вы предпочитаете?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4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SELECT   NAME="browsers"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   SELECTED&gt;    Internet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Explor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nternet Explor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Netscape Naviga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&gt; Ope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OPTION&gt; Neo Pla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/SELECT&gt; &lt;BR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993600" indent="-27288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Текстовая обла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4200" y="1142640"/>
            <a:ext cx="8715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здается такая область с помощью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EXTAREA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с обязательными атрибутами: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NAM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задающим имя области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OWS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определяющим число строк, 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LS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— число столбцов обла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Какую   еще информацию вы хотели   бы видеть на нашем сайте?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TEXTAREA   NAME="resume"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ROWS=</a:t>
            </a:r>
            <a:r>
              <a:rPr b="1" lang="en-US" sz="2600" spc="-1" strike="noStrike">
                <a:solidFill>
                  <a:srgbClr val="0000ff"/>
                </a:solidFill>
                <a:latin typeface="Royal Times New Roman"/>
              </a:rPr>
              <a:t>4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    COLS=</a:t>
            </a:r>
            <a:r>
              <a:rPr b="1" lang="ru-RU" sz="2600" spc="-1" strike="noStrike">
                <a:solidFill>
                  <a:srgbClr val="0000ff"/>
                </a:solidFill>
                <a:latin typeface="Royal Times New Roman"/>
              </a:rPr>
              <a:t>30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TEXTAREA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480" indent="81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928800"/>
            <a:ext cx="89298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Создание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айтов реализуется с использованием языка разметки гипертекстовых документов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хнология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состоит в том, что в обычный текстовый документ вставляются управляющие символы (тэги) и в результате мы получаем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страницу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тправка данных из фор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14200" y="713880"/>
            <a:ext cx="8715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правка введенной в форму информации или очистка полей от уже введенной информации осуществляется с помощью кнопок. Кнопки создаются с помощью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PU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. Для создания кнопки, которая отправляет информацию,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обходимо присвоить значение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bmi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а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ый задает надпись на кнопке, — значение "Отправить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создания кнопки, которая производит очистку фор­мы,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обходимо присвоить значение 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se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а атрибуту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- значение "Очистить"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INPUT TYPE="submit" VALUE="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Отправить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"&gt; &lt;INPUT TYPE="reset"  VALUE="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Очистить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120" indent="249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3000240"/>
            <a:ext cx="822960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условные обозначения и значения  тэгов (контейнеров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ид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-страницы задается тэгами, которые заключаются в угловые скобк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Тэги могут быть одиночными или парными, для которых обязательно наличие открывающего и закрывающего тегов (такая пара тэгов называется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онтейнером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Закрывающий тэг содержит прямой </a:t>
            </a: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слэш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(/) перед обозначение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код страницы помещается внутрь контейнер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головок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страницы заключается в контейнер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вание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страницы содержится в контейнере &lt;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IT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&gt;&lt;/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ITL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Е&gt;Компьютер&lt;/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Е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8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Левая фигурная скобка 13"/>
          <p:cNvSpPr/>
          <p:nvPr/>
        </p:nvSpPr>
        <p:spPr>
          <a:xfrm>
            <a:off x="1428840" y="3714840"/>
            <a:ext cx="785880" cy="2214360"/>
          </a:xfrm>
          <a:custGeom>
            <a:avLst/>
            <a:gdLst>
              <a:gd name="textAreaLeft" fmla="*/ 502200 w 785880"/>
              <a:gd name="textAreaRight" fmla="*/ 786240 w 785880"/>
              <a:gd name="textAreaTop" fmla="*/ 20160 h 2214360"/>
              <a:gd name="textAreaBottom" fmla="*/ 21942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0"/>
                  <a:pt x="10800" y="639"/>
                </a:cubicBezTo>
                <a:lnTo>
                  <a:pt x="10800" y="10161"/>
                </a:lnTo>
                <a:cubicBezTo>
                  <a:pt x="10800" y="10481"/>
                  <a:pt x="5400" y="10800"/>
                  <a:pt x="0" y="10800"/>
                </a:cubicBezTo>
                <a:cubicBezTo>
                  <a:pt x="5400" y="10800"/>
                  <a:pt x="10800" y="11120"/>
                  <a:pt x="10800" y="11439"/>
                </a:cubicBezTo>
                <a:lnTo>
                  <a:pt x="10800" y="20961"/>
                </a:lnTo>
                <a:cubicBezTo>
                  <a:pt x="10800" y="2128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Левая фигурная скобка 14"/>
          <p:cNvSpPr/>
          <p:nvPr/>
        </p:nvSpPr>
        <p:spPr>
          <a:xfrm>
            <a:off x="2143080" y="4286160"/>
            <a:ext cx="428760" cy="121464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214640"/>
              <a:gd name="textAreaBottom" fmla="*/ 120348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5400" y="10800"/>
                  <a:pt x="0" y="10800"/>
                </a:cubicBezTo>
                <a:cubicBezTo>
                  <a:pt x="54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сновное содержание страницы помещается в контейнер &lt;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ODY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&gt;&lt;/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ODY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TM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Компьютер&lt;/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I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Т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L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Е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HEAD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Все о компьюте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ODY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Левая фигурная скобка 3"/>
          <p:cNvSpPr/>
          <p:nvPr/>
        </p:nvSpPr>
        <p:spPr>
          <a:xfrm>
            <a:off x="2857680" y="3714840"/>
            <a:ext cx="214200" cy="10713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071360"/>
              <a:gd name="textAreaBottom" fmla="*/ 106596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571680" y="6000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Сохранить файл под именем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index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htm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в папке сай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мер шрифта для имеющихся в тексте заголовков задается тэгами от &lt;Н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 (самый крупный) до &lt;Н6&gt; (самый мелкий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Все    о   компьютере&lt;/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ть тип выравнивания заголовка для тэга заголовка позволяет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равнивание по правой границе окна реализуется с помощью запис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igh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, а по центру —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LIGN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ente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lt;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ALIGN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center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"&gt;</a:t>
            </a:r>
            <a:r>
              <a:rPr b="1" lang="en-US" sz="2600" spc="-1" strike="noStrike">
                <a:solidFill>
                  <a:srgbClr val="0000ff"/>
                </a:solidFill>
                <a:latin typeface="Constantia"/>
              </a:rPr>
              <a:t>Bce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  о   компьютере&lt;/Н</a:t>
            </a: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0" y="42840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помощью тэг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ONT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и его атрибутов можно задать параметры форматирования шрифта любого фрагмента текста.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AC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позволяет задать гарнитуру шрифта (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AC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ial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),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Z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— размер шрифта (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IZ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), атрибут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LO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— цвет шрифта (например,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LO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"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lue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"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ONT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COLOR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blue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"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Н</a:t>
            </a:r>
            <a:r>
              <a:rPr b="1" lang="ru-RU" sz="33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 ALIGN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="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center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"&gt;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Bce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 о компьютере&lt;/Н</a:t>
            </a:r>
            <a:r>
              <a:rPr b="1" lang="ru-RU" sz="3300" spc="-1" strike="noStrike">
                <a:solidFill>
                  <a:srgbClr val="0000ff"/>
                </a:solidFill>
                <a:latin typeface="Constantia"/>
              </a:rPr>
              <a:t>1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lt;/</a:t>
            </a:r>
            <a:r>
              <a:rPr b="1" lang="en-US" sz="2200" spc="-1" strike="noStrike">
                <a:solidFill>
                  <a:srgbClr val="0000ff"/>
                </a:solidFill>
                <a:latin typeface="Constantia"/>
              </a:rPr>
              <a:t>FONT</a:t>
            </a:r>
            <a:r>
              <a:rPr b="1" lang="ru-RU" sz="2200" spc="-1" strike="noStrike">
                <a:solidFill>
                  <a:srgbClr val="0000ff"/>
                </a:solidFill>
                <a:latin typeface="Constantia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головок целесообразно отделить от остального содержания страницы горизонтальной линией с помощью одиночного тэга &lt;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R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208080" y="5224320"/>
            <a:ext cx="87278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деление текста на абзацы производится с помощью контейнера &lt;Р&gt;&lt;/Р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местим на титульную страницу текст, разбитый на абзацы с различным выравниванием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5:50:25Z</dcterms:created>
  <dc:creator>1</dc:creator>
  <dc:description/>
  <dc:language>en-US</dc:language>
  <cp:lastModifiedBy>1</cp:lastModifiedBy>
  <dcterms:modified xsi:type="dcterms:W3CDTF">2009-05-07T19:13:17Z</dcterms:modified>
  <cp:revision>28</cp:revision>
  <dc:subject/>
  <dc:title>Слайд 1</dc:title>
</cp:coreProperties>
</file>