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F059-7A8F-4D73-9C9F-DEB419C245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A7FF-E19C-41C7-BA36-1498F93F10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790-B100-49B2-97C1-FAE7A88B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BD3-EAB6-4ADC-97A5-A91D4BFD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443-2494-4B67-A547-1B138EA6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BAE-9B45-46F9-A7EB-62639405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7131-752F-479B-9447-1D669D7C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7368-F10F-413F-8D3E-FF5C3724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ECE4-8E88-43C8-9A63-4FDF15B0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4AB5-BD8A-4C7C-9EB9-7F74A417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09D8-F965-4A77-A527-BAA82B92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D1E1-2AF4-45AC-9F48-9E458928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58E9-8CE2-4C6F-AF38-BA339745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CE8-C39C-46FD-B277-638E15AF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3BD3-425A-4479-B8AB-C6444B5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2957-0576-4153-959B-8C97546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101D-8ABD-43DB-B36E-B4DFEFB3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2E87-D914-416D-AC3B-80D8C8CC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E8EB-DDCD-4145-9012-9FA4176F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7F5B-8988-4AD0-9339-334D87A0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D74D-37E2-4EAF-BC21-E1A354F4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E741-AED2-4F70-93DA-9C018AE8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2438-091A-4EE7-8DC7-7D343829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2891-9791-45A2-A2F7-D14E4178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9C2-3C30-4068-8C64-B8564749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A82B-6015-460D-A8E8-35E6824A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225A-D9E3-4578-8DF7-8A906E53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29ED-B7FE-44E3-998D-E6E44834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C493-279C-43F7-A480-77C28293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20D4-CD56-439E-87C7-5AD9D14E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3D20E-4AD8-433F-8FBB-F25B2979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7EAA-A240-422F-AF37-B352BFCA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FBAF-0156-43AF-B351-412CDB97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B7659-B55D-4384-84E1-B613F980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1B67-7AA3-44B2-B13D-5B39A6E9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B6A-8E2D-461E-91CF-72180398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6CE4-77D9-417B-853A-EDC9AA4F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865F-A949-45D7-8EB8-C0F268B1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5065-6637-4FCC-BEF7-F42982BE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A803-3E96-483D-96B6-9600FAD6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6F88-D4FF-4875-9379-4D5B87D1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A0E5-F62C-4C04-AEA6-F27BC408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103D-0B4B-460A-A225-0CF0BB51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F388E-81FE-480D-8C49-6BF8832D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98E93-DB42-4AD6-9987-BB09CCE7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6EC-CA06-40FE-8F72-712A2E97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D0A-D520-4A2E-82D1-D4FEA54C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F00-55E4-4632-9828-C03F3C5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7EB-8AD5-423E-A296-6A5B935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A3B-55F1-40E5-BC8F-87DC917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AEFA-8C9F-4B86-B9F7-382D9E4951F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7522-07BF-4AE7-A611-4C2F89E6D3B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95C6-92D1-4198-85B6-E217EAEE4BC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9C5A-5159-45B4-83B5-53E26BA97CA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ailbox@provaider.ru%22%3EE-mai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81160" y="1116000"/>
            <a:ext cx="8766000" cy="2157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TITLE&gt;Компьютер&lt;/TITLE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FONT   COLOR="blue"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ALIGN="center"&gt;Bce о компьютере&lt;/H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P  ALIGN="left"&gt;Ha    этом   сайте    вы   сможете    получить   различную   информацию       о   компьютере,    его программном   обеспечении   и    ценах   на    компьютерные комплектующие.&lt;/P&gt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P  ALIGN="right"&gt;Терминологический    словарь    познакомит вас    с    компьютерными    терминами,     а    также вы   сможете  заполнить    анкету.&lt;/P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Левая фигурная скобка 3"/>
          <p:cNvSpPr/>
          <p:nvPr/>
        </p:nvSpPr>
        <p:spPr>
          <a:xfrm>
            <a:off x="214200" y="357120"/>
            <a:ext cx="357480" cy="550080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5500800"/>
              <a:gd name="textAreaBottom" fmla="*/ 5491800 h 550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Левая фигурная скобка 4"/>
          <p:cNvSpPr/>
          <p:nvPr/>
        </p:nvSpPr>
        <p:spPr>
          <a:xfrm>
            <a:off x="714240" y="714240"/>
            <a:ext cx="142920" cy="7146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14600"/>
              <a:gd name="textAreaBottom" fmla="*/ 71100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Левая фигурная скобка 5"/>
          <p:cNvSpPr/>
          <p:nvPr/>
        </p:nvSpPr>
        <p:spPr>
          <a:xfrm>
            <a:off x="500040" y="1714680"/>
            <a:ext cx="142920" cy="37144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714480"/>
              <a:gd name="textAreaBottom" fmla="*/ 371088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5400" y="10800"/>
                  <a:pt x="0" y="10800"/>
                </a:cubicBezTo>
                <a:cubicBezTo>
                  <a:pt x="54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Левая фигурная скобка 6"/>
          <p:cNvSpPr/>
          <p:nvPr/>
        </p:nvSpPr>
        <p:spPr>
          <a:xfrm>
            <a:off x="714240" y="2000160"/>
            <a:ext cx="214560" cy="78588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880"/>
              <a:gd name="textAreaBottom" fmla="*/ 7804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15964"/>
                </a:solidFill>
                <a:latin typeface="Calibri"/>
              </a:rPr>
              <a:t>Вставка изображений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28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ля вставки изображения используется тэг &lt;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MG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&gt; с атрибутом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R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MG    SRC="COMP6.gif"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214200" y="342900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ясняющий текст выводится с помощью атрибута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LT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значением которого является текст, поясняющий, что должен был бы увидеть пользователь на рисун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lt;IMG    SRC="COMP6.gif"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LT “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ьюте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ть рисунок относительно текста различными способами позволяет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G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, который может принимать пять различных значений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ОР (верх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DDL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середин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OTTOM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из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EFT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слева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справа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MG    SRC="COMP6.gif" ALT="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омпьютер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" ALIGN="right"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3495c"/>
                </a:solidFill>
                <a:latin typeface="Calibri"/>
              </a:rPr>
              <a:t>Гиперссылки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2920" y="928800"/>
            <a:ext cx="8786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рвая титульная страница должна предоставлять посетителю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сайта возможность начать путешествие по сайту. Для этого на титульную страницу должны быть помещены гиперссылки на другие страницы сай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840" y="142560"/>
            <a:ext cx="857232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</a:t>
            </a:r>
            <a:r>
              <a:rPr b="1" lang="ru-RU" sz="2600" spc="-1" strike="noStrike" u="sng">
                <a:solidFill>
                  <a:srgbClr val="0000ff"/>
                </a:solidFill>
                <a:uFillTx/>
                <a:latin typeface="Constantia"/>
              </a:rPr>
              <a:t>Заголовок страницы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 algn="ctr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здать пустые страницы «Программы», «Словарь», «Комплектующие» и «Анкета» и сохранить их в файлах с именам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oftwar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lossary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rdwar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keta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каталоге сай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15964"/>
                </a:solidFill>
                <a:latin typeface="Calibri"/>
              </a:rPr>
              <a:t>Панель навиг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нель навигации будет представлять собой абзац, выровненный по центру, в котором указатели гиперссылок разделены пробелами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&amp;nbs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&lt;Р 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ALIGH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enter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Программы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]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&amp;nbsp 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Словарь]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&amp;nbs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Комплектующие]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&amp;nbsp 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Анкета]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&lt;/Р&gt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14200" y="714240"/>
            <a:ext cx="878688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P  ALIGN="center"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software.htm"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Программы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gt;] &amp;nbs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glossary.htm"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Словарь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gt;] &amp;nbs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hardware.htm"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омплектующие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gt;] &amp;nbs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anketa.htm"&gt;A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нке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lt;/A&gt;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/P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Ссылка на электронный адрес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85480" y="193464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ADDRESS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А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HREF="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mailto:mailbox@provaider.ru"&gt;E-mail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mailbox@provaider.ru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DDRESS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Списки</a:t>
            </a: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42560" y="1071360"/>
            <a:ext cx="871524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Список располагается внутри контейнера &lt;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L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&gt;&lt;/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L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&gt;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а каждый элемент списка определяется тэгом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С помощью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можно задать тип нумерации: арабские цифры (по умолчанию)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(римские цифры), "а" (строчные буквы) 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.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onstantia"/>
              </a:rPr>
              <a:t>Программное обеспеч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O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LI&gt;Системные   програм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LI&gt;Прикладные   програм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LI&gt;Системы   программир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O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004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Вложенный ненумерованный список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агается внутри контейнер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, а каждый элемент списка определяется также тэгом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С помощью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можно задать вид маркера списка: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isc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(диск)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  (квадрат)  или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irc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  (окружност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onstantia"/>
              </a:rPr>
              <a:t>Для прикладных програм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текстовые редакто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  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графические редакто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  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электронные таблиц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   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системы управления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базами дан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Web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-сайты и 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Web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-страниц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Web-сайт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состоит из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траниц, объединенных гиперссылками.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траницы могут быть интерактивными и могут содержать мультимедийные и динамические объект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42920" y="28548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3528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аницу «Словарь» мы представим в виде словаря компьютерных термин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этого используем контейнер списка определений &lt;/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L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&gt;. Внутри него текст оформляется в виде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термина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торый выделяется непарным тэгом &lt;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T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&gt;, 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пределения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торое следует за тэгом &lt;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D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Процесс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 Центральное   устройство компьютера,    производящее обработку   информации   в двоичном   код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&gt; Оперативная   памя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 Устройство,   в котором хранятся   программы   и данны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Формы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3840" y="928800"/>
            <a:ext cx="89298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а заключается в контейнер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Текстовые пол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ются с помощью тэга &lt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&gt; со значением атрибут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YP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x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". Атрибу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M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ется обязательным и служит для идентификации полученной информации. Значением атрибут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Z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ется число, задающее длину поля ввода в символ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анкета «читалась», необходимо разделить строки с помощью тэга перевода строки &lt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&gt;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Пожалуйста, введите ваше имя:   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NPUT    TYPE="text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="name"    SIZE</a:t>
            </a:r>
            <a:r>
              <a:rPr b="1" lang="en-US" sz="2600" spc="-1" strike="noStrike">
                <a:solidFill>
                  <a:srgbClr val="0000ff"/>
                </a:solidFill>
                <a:latin typeface="Royal Times New Roman"/>
              </a:rPr>
              <a:t>=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30</a:t>
            </a:r>
            <a:r>
              <a:rPr b="1" lang="en-US" sz="2600" spc="-1" strike="noStrike">
                <a:solidFill>
                  <a:srgbClr val="0000ff"/>
                </a:solidFill>
                <a:latin typeface="Royal Times New Roman"/>
              </a:rPr>
              <a:t>&gt;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E-mail:    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NPUT    TYPE="text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="e-mail"    SIZE=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 30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28584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570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ереключател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257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руппа переключателей («радиокнопок») создается  с помощью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со значением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 Все элементы в группе должны иметь одинаковые значения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 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257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ще одним обязательным атрибутом является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ому присвоим значения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choolboy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uden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и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ach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 Значение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лжно быть уникальным для каждой «радиокнопки», так как при ее выборе именно они передаются серве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257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Укажите,    к   какой       группе пользователей   вы   себя   относите:   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 “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choolbo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учащийся&lt;ВР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 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tuden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студент&lt;ВР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 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eache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учитель&lt;В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Флаж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сли из предложенного перечня он нужно выбрать одновременно несколько вариантов, то их  помечают  флажк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лажки создаются в тэге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  значением атрибута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eckbox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лажки, объединенные в группу, могут иметь одинаковые значения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   Например,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ще одним обязательным атрибутом является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ому присвоим, например, значения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ww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i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и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t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Какие   из   сервисов   Интернета   вы   используете   наиболее  часто: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NPUT    TYPE="checkbox“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"  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WWW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"&g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WWW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NPUT   TYPE="checkbox" NAME="group"   VALUE= "e-mail"&gt;   e-mail 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NPUT TYPE="checkbox“ NAME="group"   VALUE="ftp” &gt; FTP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ля спис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169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ясним, какой из браузеров предпочитает посетитель сайта. Перечень браузеров представим в виде раскрывающегося списка, из которого можно выбрать только один вариант. Для реализации такого списка используется контейнер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, в котором каждый элемент списка определяется тэгом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Выбираемый по умолчанию элемент задается с помощью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ED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5400" indent="169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5400" indent="169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93600" indent="-2728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акой из браузеров вы предпочитаете?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SELECT   NAME="browsers"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   SELECTED&gt;    Interne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Explor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ternet Explor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etscape Naviga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&gt; Ope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&gt; Neo Pla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/SELECT&gt; 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Текстовая обла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4200" y="1142640"/>
            <a:ext cx="8715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здается такая область с помощью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XTAREA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с обязательными атрибутами: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задающим имя области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OWS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определяющим число строк, 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LS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— число столбцов обла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акую   еще информацию вы хотели   бы видеть на нашем сайте?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TEXTAREA   NAME="resume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OWS=</a:t>
            </a:r>
            <a:r>
              <a:rPr b="1" lang="en-US" sz="2600" spc="-1" strike="noStrike">
                <a:solidFill>
                  <a:srgbClr val="0000ff"/>
                </a:solidFill>
                <a:latin typeface="Royal Times New Roman"/>
              </a:rPr>
              <a:t>4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    COLS=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30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EXTAREA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928800"/>
            <a:ext cx="89298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оздание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айтов реализуется с использованием языка разметки гипертекстовых документов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хнология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состоит в том, что в обычный текстовый документ вставляются управляющие символы (тэги) и в результате мы получаем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траницу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тправка данных из фор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14200" y="71388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правка введенной в форму информации или очистка полей от уже введенной информации осуществляется с помощью кнопок. Кнопки создаются с помощью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Для создания кнопки, которая отправляет информацию,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обходимо присвоить значение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bmi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а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ый задает надпись на кнопке, — значение "Отправить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создания кнопки, которая производит очистку фор­мы,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обходимо присвоить значение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se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а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- значение "Очистить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NPUT TYPE="submit" VALUE="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Отправить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"&gt; &lt;INPUT TYPE="reset"  VALUE="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Очистить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3000240"/>
            <a:ext cx="822960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условные обозначения и значения  тэгов (контейнеров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ид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-страницы задается тэгами, которые заключаются в угловые скоб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эги могут быть одиночными или парными, для которых обязательно наличие открывающего и закрывающего тегов (такая пара тэгов называется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онтейнером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акрывающий тэг содержит прямой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слэш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/) перед обозначени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код страницы помещается внутрь контейнер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головок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страницы заключается в контейнер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вание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страницы содержится в контейнере &lt;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IT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IT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Е&gt;Компьютер&lt;/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Е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Левая фигурная скобка 13"/>
          <p:cNvSpPr/>
          <p:nvPr/>
        </p:nvSpPr>
        <p:spPr>
          <a:xfrm>
            <a:off x="1428840" y="3714840"/>
            <a:ext cx="785880" cy="2214360"/>
          </a:xfrm>
          <a:custGeom>
            <a:avLst/>
            <a:gdLst>
              <a:gd name="textAreaLeft" fmla="*/ 502200 w 785880"/>
              <a:gd name="textAreaRight" fmla="*/ 786240 w 785880"/>
              <a:gd name="textAreaTop" fmla="*/ 20160 h 2214360"/>
              <a:gd name="textAreaBottom" fmla="*/ 21942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0"/>
                  <a:pt x="10800" y="639"/>
                </a:cubicBezTo>
                <a:lnTo>
                  <a:pt x="10800" y="10161"/>
                </a:lnTo>
                <a:cubicBezTo>
                  <a:pt x="10800" y="10481"/>
                  <a:pt x="5400" y="10800"/>
                  <a:pt x="0" y="10800"/>
                </a:cubicBezTo>
                <a:cubicBezTo>
                  <a:pt x="5400" y="10800"/>
                  <a:pt x="10800" y="11120"/>
                  <a:pt x="10800" y="11439"/>
                </a:cubicBezTo>
                <a:lnTo>
                  <a:pt x="10800" y="20961"/>
                </a:lnTo>
                <a:cubicBezTo>
                  <a:pt x="10800" y="2128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Левая фигурная скобка 14"/>
          <p:cNvSpPr/>
          <p:nvPr/>
        </p:nvSpPr>
        <p:spPr>
          <a:xfrm>
            <a:off x="2143080" y="4286160"/>
            <a:ext cx="428760" cy="121464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214640"/>
              <a:gd name="textAreaBottom" fmla="*/ 120348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сновное содержание страницы помещается в контейнер &lt;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ODY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ODY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Компьютер&lt;/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Все о компьюте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Левая фигурная скобка 3"/>
          <p:cNvSpPr/>
          <p:nvPr/>
        </p:nvSpPr>
        <p:spPr>
          <a:xfrm>
            <a:off x="2857680" y="3714840"/>
            <a:ext cx="214200" cy="10713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071360"/>
              <a:gd name="textAreaBottom" fmla="*/ 106596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571680" y="6000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охранить файл под именем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index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htm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в папке сай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мер шрифта для имеющихся в тексте заголовков задается тэгами от &lt;Н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(самый крупный) до &lt;Н6&gt; (самый мелкий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Все    о   компьютере&lt;/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ть тип выравнивания заголовка для тэга заголовка позволяет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равнивание по правой границе окна реализуется с помощью запис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а по центру —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ent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LIGN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cente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c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о   компьютере&lt;/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42840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помощью тэг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N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и его атрибутов можно задать параметры форматирования шрифта любого фрагмента текста.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AC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позволяет задать гарнитуру шрифта (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AC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ia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),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Z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— размер шрифта (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Z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,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LO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— цвет шрифта (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LO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ONT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blue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"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Н</a:t>
            </a:r>
            <a:r>
              <a:rPr b="1" lang="ru-RU" sz="33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ALIGN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center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"&gt;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Bce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о компьютере&lt;/Н</a:t>
            </a:r>
            <a:r>
              <a:rPr b="1" lang="ru-RU" sz="33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ONT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головок целесообразно отделить от остального содержания страницы горизонтальной линией с помощью одиночного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5224320"/>
            <a:ext cx="87278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деление текста на абзацы производится с помощью контейнера &lt;Р&gt;&lt;/Р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местим на титульную страницу текст, разбитый на абзацы с различным выравнивание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50:25Z</dcterms:created>
  <dc:creator>1</dc:creator>
  <dc:description/>
  <dc:language>en-US</dc:language>
  <cp:lastModifiedBy>1</cp:lastModifiedBy>
  <dcterms:modified xsi:type="dcterms:W3CDTF">2009-05-07T19:13:17Z</dcterms:modified>
  <cp:revision>28</cp:revision>
  <dc:subject/>
  <dc:title>Слайд 1</dc:title>
</cp:coreProperties>
</file>