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CC13-2D54-41FF-9535-6CAE4318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6C5-4A99-4C94-9BF8-9DDF1B73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14A-E10C-429E-BB18-DD068D00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EAFE-FD95-4F84-AEF1-E110E289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8149-C8B0-4B16-BFF6-24D34CFE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C8D7-F472-411D-BAF2-E88B7DC6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E626-7FC1-40B2-917A-92E92667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668D-2E83-4213-91C6-958D10F7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10A2-4335-4BB4-BD25-71169EE6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3779-06E1-4893-B87C-3E7C7817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EEBA-68F4-4905-B6D2-22514A8F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383B-CDFF-49CC-9488-23C8C354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4B21-9247-4B97-A74A-77222473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4360-72E1-430B-9999-8A9B6D0A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D905-E36F-4946-90BF-DB8A2157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1B76-5EBA-46AF-9069-A254029C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7F9C-EC93-4B78-AE66-E8D262E3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D7A0B-7B8C-45D9-921C-F7647AE7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EE386-9376-43BE-834F-B3E5FAC1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F807E-532E-429D-A114-5FACD92F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B84EE-2C6E-41D1-A1BF-F1D30C04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F9A54-B39C-4F27-83DF-1BB848CF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8FB-2060-4689-B370-9A60613C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61981-C95D-40BA-99C7-6A65AFE1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EE2B2-5DCE-4824-94B6-F2619A10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E8AE6-ED62-40E2-BCEA-35D2E9A6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66D71-61A7-49FF-81FE-B4C82B8E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3E381-B8EF-47F5-8D08-BC8DF460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81CF8-3DF3-4CF6-9A72-512AE668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0346C-893E-4C6D-BAA4-83C71027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42FD5-8554-498B-85CE-15166867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061EA-D0DE-4F9B-9D96-356438B6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FF089-D205-430B-8CEA-C62713E2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1DBA-0181-4D80-BF3B-1540D8CF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28C81-FDC1-486B-80B7-7BC53007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9ABA9-EBA9-4CD4-A49F-CEDA7108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EDD14-6252-441A-A75D-6BB3225D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AE36B-11C2-4736-94AD-2AACC57C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34407-0B1C-42E1-865A-838DCAC5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49C0C-E1A6-49A3-A35C-9593E4E9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8D4D3-288E-4DE8-89A3-56E23D22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3A12C-7A5C-4CDA-984A-769102AB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BBA5F-56E9-42C4-BAC3-28CAF59E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278FE-A17F-43F5-9D7E-BEC50DED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551B-F220-4A94-98F6-C6613865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E6764-7ED1-4AD3-8ED6-1377922B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9A3BB-D4C4-46FE-BBD6-0DE78B1B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90BF6-02F8-4A68-8121-61C897D5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66DA9-2414-451B-9712-CB7C5E70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E1D48-58D1-468B-A3B4-8DAACCB0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F2AA1-3D08-4EE0-AC5E-40E63C8A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6F787-81C8-49FE-BF2E-9873BC17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EF5FB-FACC-4C86-B838-CB3DE140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F30C4-FD2F-480C-925B-87B98CB4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78C77-906C-4730-8FA5-EE32C10A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63B-92C8-43DC-B24A-CD1ACE0F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8B06D-E6ED-4C1F-BCD4-53985F1E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18AE4-82FC-4A3C-8FE3-230F30E1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CB661-74C3-44BB-8AFD-35373A6B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AB98A-DF77-45E8-B912-67A49266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F8295-9103-4F5D-86FC-05571448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09A5A-D8DC-4A95-B279-D048CB90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B1DC3-4ADB-4659-B52F-F2E527B8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7F465-6BDD-4824-9BBA-BEC23C0C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3A6C5-D351-42DC-953F-A0828C3B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88804-D0B3-43F1-9B32-EC84449D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9B0E-60CA-4F2F-A129-164B7445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44E32-ECC6-4B24-AA10-9A574ED6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E99C4-E457-43C7-849C-34FA68AA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DB94B-A4E8-4C8A-9307-EDB0A636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1DD21-611D-49A9-8E5E-BD5036DF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8BE7D-F545-4086-947E-F2B0062A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62356-9279-437E-9764-52DA07D4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4AF8A-3233-4B04-B906-8DFCF671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D60F7-AC19-4DB6-8293-4D7ADC01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77940-0B69-4CEC-B01F-A2D56D52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66C7A-9048-4610-AF17-6E480231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C423-3915-4D90-8804-56403C4B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A4C33-A635-4A27-9F19-BE68D5A6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8E395-63A0-49DF-AA39-F0D48280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8D958-2252-4D23-B94B-C24D6EA7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81FEB-9CA8-4334-A4B1-A8E3BFFC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3E3F8-C4B7-4512-98DD-5FE8A2E0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32AE1-79EF-4525-ABF4-AC770888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7C1E5-1940-4D95-BB79-FA8E180F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CFFDF-CA09-4D62-8680-8707C605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0A5B9-A7E0-4315-A8A0-AC087907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0A5F1-7CF2-4C5B-B3D5-C5307B5E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2B3A-072B-48B0-B93D-DE9EF09B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C43DD-E4B8-41BA-956D-38F7C4AC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C7275-7DF7-4DCB-A361-4AD858CF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BD748-9D00-40E1-B19C-0EBF1202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A89F9-22A3-45D7-949F-87CBD629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B485B-1E32-42A9-BA94-2FD704F4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917A1-596B-47E9-9816-29E036B3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238A8-BB34-4209-B680-D5643D86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6E4D-5736-4AEA-B94A-5E417BA3D8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1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A45B-367C-4461-A218-954A52568AF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978C-E37C-46E3-BCC2-F9D54AEA48C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5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8C59-8C64-4996-B4D0-D82F3F2122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0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0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0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0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0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10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2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1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2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46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7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8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9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0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1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2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3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5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2C48-425B-446A-8C49-CF00316C33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9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1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1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3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7776-D452-4AE8-AD42-CE4B228E4EB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7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702F-FC47-41FD-B99E-7F8BE7F94F2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55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6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7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8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9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FE90-7E92-4ED8-8496-B5244A4329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доровье сберегающие технологии  на уроках физик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полнила: Доронина Е.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физик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У СОШ №2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ребования к уроку с позиции здоровьесбережен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бстановка и гигиенические условия в кабинет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оличество видов учебной деятельности (норма 4-7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оличество видов преподавания (норма не менее 3-х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Чередование видов преподавания (норма6 не позже через 10-15 минут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есто и длительность применения ТСО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Чередование позы учащихс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личие, место, содержание и продолжительность оздоровительных моментов на уроке(норма: по 1 минуте из 3-х легких упражнений с 3-4 повторениями каждого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личие в содержательной части урока вопросов, связанных со здоровьем и ЗОЖ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личие мотивации 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сихологический климат на урок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спользование эмоциональных разрядок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емп окончания урока 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именение здоровьесберегающих технологий на уроках физи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изика- не тот предмет, где изучается комплекс физических упражнений, способствующих здоров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 и уроки  физики могут воспитывать в ребенке сознание великой ценности здоровь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подавание предмета позволяет органично вписывать принципы здоровьесбережения в темы уроков, в различные задания как  на уроках, так и во время подготовки домашнего зад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Учитель физики применяет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орные конспекты или СЛ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монстрационный экспереме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ронтальный лабораторный экспериме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ение задач практической направленности, в том числе и связанные со здоровьесбережени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гровые момен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изкультминут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уди и видеоаппаратуру для демонстрации интересных материал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пользование творческих работ учащихся и т.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 это не только повышает активность учащихся, но еще позволяют менять виды деятельности на уроке, что способствует снижению утомляемости, а значит и сбережению здоровья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Организация учебной деятельности на уроках физики: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Благоприятный настрой на уро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Соблюдение гигиенических требова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Построение урока с учетом динамичности уча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Строгая дозировка време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Нормирование домашнего здоровь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На всех этапах урока необходимо использовать элементы здоровьесбереж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римерная схема урока физик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457200" y="1295280"/>
          <a:ext cx="8229600" cy="5548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7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Оргмомент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Актуализация знаний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Изучение нового материал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Закрепление материал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Упражнения психологического характер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Письменная работа, упражнение на тренажере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Режим смены динамических поз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Физкультминутки, элементы игры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3-4 мин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5-7 мин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5-7 мин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ahoma"/>
                        </a:rPr>
                        <a:t>5-7 мин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поминал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ссу мы легко найдем , умножим плотность на объ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слово «БАЦ» запомнишь, формулу объема вспомниш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=b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лезь в воду глубок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воде давленье вели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давит сверху РО-ЖЕ-А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друг концы свои отдаш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Физкульминутки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упражнение для глаз: движение глазами вверх-вниз, вправо-влево, вращение, закрыть глаза и представить поочередно цвета радуги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Потягивание за мочки уха, потерание мочек ух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Упражнения для рук: поглаживание ладоней, сгибание-разгибание пальцев, «ножницы» прямыми руками, вращение плечами назад-вперед, руки в стороны сгибаем-разгибаем локти, вращение кистей рук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Упражнение для шеи: вправо-влево, вперед-назад, круговые вращения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г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с мяч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личина – едини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в с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рый гл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берите лишнее сло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аги – терми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абое зве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ч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Учителя в школ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жны особое внимание уделять одной из задач модернизации образования: сохранения и укрепления здоровья детей, используя на своих уроках элементы здоровьесберегающих технологи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Глава 1. Здоровье сберегающие технологии в школ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 Глава 2. Здоровье сберегающие технологии на уроке физи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 Заключ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блема здоровья сейчас у всех на слух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нцепция модернизации российского образования на период до 2010 года впервые декларирует приоритет сохранения здоровья учащихся в процессе обучения и активизирует поиск решений на сохранение и укрепление здоровья дете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ЧЕМУ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Медики констатируют существенное ухудшение здоровья детей в нашей стране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изически здоровыми рождаются не более 14% дет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5-30% детей приходящих в 1-й класс имеют отклонения в здоровь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0% учащихся теряют здоровье в начальной школ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60% школьников имеют хронические заболев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лько 5% выпускников школ являются практически здоровым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Факторы, влияющие на здоровье школьников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1 групп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это факторы, не поддающиеся нашему управлению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экология, традиции ЗОЖ в семье, медицинская помощь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2 групп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управляемые фактор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которые подразумевают использование здоровьесберегающих и здоровьеформирующих технолог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 школе необходимо использовать следующие технологии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Здоровьесберегающие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Технология обучения здоровью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Воспитание культуры здоровь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Физкультурно-оздоровительные технолог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Медико-гигиенические технолог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Экологические здоровьесберегающие технолог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Verdana"/>
              </a:rPr>
              <a:t>7.Технология обеспечения безопасности жизнедеятель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Любая школа должна работать над программой по внедрению здоровьесберегающих технологий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Цел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: обеспечить школьнику возможность сохранения здоровья во время обучения в школе, сформировать у него знания, умения. Навыки по здоровому образу жизни, научить использовать полученные знания в повседневной жиз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адачи 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 Организация работы с наибольшим эффектом для сохранения и укрепления здоров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 Создание условий ощущения у детей радости в процессе обучения, воспитание культуры здоровь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 Развитие творческих способносте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 Мотивация на здоровый образ жизн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 Научить детей использовать полученные знания в повседневной жизн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инцип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растные особенности познавательной деятель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учение на оптимальном уровне сложнос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ариативность методов и форм обуч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птимальное сочетание двигательных и статистических нагрузо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здание эмоционально благоприятной атмосфе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1-27T23:11:4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