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81C-9882-4499-8290-D5093DE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D2C-5E26-40C4-A6F6-74F4D262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5C9-2304-4335-ADFB-96999F1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BF2-116A-4BEB-9CBD-791B3FF4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D95-6307-4C8A-9596-52A2F5C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C64-28E6-4E38-952E-8D8121E5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156-8F24-420D-BD3B-F280E48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6968-73C1-4C76-87CE-5B86F8D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06E9-6AE8-4A16-8B40-1806BF3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6EF-3624-4143-8A04-FCA3771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2B3-42A6-484D-BBE0-7DE2734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1FC-2283-46D0-AE9E-4B70F0CF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5D6-1EA2-4347-9103-07B2DE9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D3E-5B98-4D64-B2AB-EAC7A4C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5AD-206F-44C0-B0B8-B7A8DC9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5C2-5D38-4C11-8770-858A3990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1C09-70C6-4DCA-B50E-EFEFC6B6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53FB-3904-4019-B3EB-6C10644F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6C75-E726-4767-8D88-525866B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ED06-957A-43DD-ADA1-34B9E6A5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9974-2A17-4CF6-AB74-E035493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0ECD-2E5C-42D2-872D-9C6378D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A8D-2DBA-49E1-9908-0F7A3791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1513-8CBA-42C4-A9A9-66C0D17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743E-3DBF-4670-ADC6-DED21EC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1CE0-ED0E-47C9-8276-7A0F483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1B6E-D7C6-4DE8-80FA-FD18DE3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CF5C-22D7-4A54-B3B5-A3DD7B3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DC84-459B-41D8-853F-03B6116B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C773-3863-4705-9F2D-777C0FB2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DE8A-F0A1-432D-8B65-20F91B3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423C-2F35-4D72-B62E-FA76723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587F-41A1-4530-B64F-5B304E9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DD4-1CE7-45FA-A471-E98B73C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6E94-789E-4D24-B406-1940859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ED80-C7F1-444E-8537-79B4C16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9C01-74E5-41C3-999A-F5B51F5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B878-4834-43EB-9D67-AA6708A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81D4-B9D1-40D2-AF73-4E9CEC0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9364-241C-4393-92D3-041225F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2D35-5F99-4D64-A8AD-1DC9B98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C73B-0ABC-4EBF-B576-3C01023B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C97A-6BBD-48CF-9F5C-C0EED86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B117-6C96-4BDC-A63F-085AC0A3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A5D-A2EC-4F69-893F-D2D9ECF9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009F2-DD23-4A16-9A8A-F680A7D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621F-811A-44BC-9003-CBCE51E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122D-5BF1-4C98-A2C6-F0DD6CB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C2DB-C55F-4E29-B7C0-6AD2CCB3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D81D-63FA-4B2B-B943-45BB1D5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409B-0807-41E2-B948-B59FEF2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92E5A-B882-480F-95E8-F2CFCE4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91FA-722C-4DA3-9FDB-5C9F070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C3E6-5361-40BD-A6DB-E04A313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2B56-7E67-4D36-8434-48CF30BB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379-8DDC-4183-AA81-B9762167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22D8-9517-4047-945F-B5EF81CC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192C9-D591-4184-88D6-D74C1023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9CE0-079E-431A-86FA-721E62C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75FF-C63D-4820-95BC-8EBC041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EE70B-D953-4C14-8AF3-2303DD28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AA44-50B5-4BF6-B30A-901BCFBD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91A9-E0E1-477F-93C1-93D7CC6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0A65-A65E-48E2-8552-3216C32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C9EF-66D4-46C8-9B8A-ABD424E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9A88-063E-47F2-B3A4-703EFF8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187-13DA-44B9-BFE8-8DB22C2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B80F-2801-4BB0-BD8B-850AE7F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97FC-60CE-4027-8990-9B2F0089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0A5B-87EE-4180-9F18-A846B7C1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4F8E-3591-4371-8005-B07BF583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A41A-CF47-4673-9052-9402B89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33BE-B98D-4C52-BA56-0B95741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3D12-60F8-4CF0-9ABB-B5C5F24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28D1-A734-4990-A2F8-5ABF7472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3720-1D8E-4AB3-8611-2A32C8C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2CDD7-DB70-40B2-A5D6-69ABDA0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B45-3980-49EF-A426-ABD4E72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033E-5AFD-45CB-8D7E-7745AAC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6F68-B248-41D6-940E-BBD82DD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4345-B39A-409E-87D3-E8D353F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E4DC-9407-41C4-AB90-2885A26E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5B76-86B6-47FB-98A8-082D95BF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598C1-0633-408C-A0F8-706C999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2845-0F88-4118-A643-6BF8A916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DB12F-72D4-48E5-88AC-ECE544C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5BDE-6491-499A-8374-89A36F8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F19A-EE2C-46CF-AA31-0300280E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F37-E083-4E80-80AA-C468A9E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0290-9910-4086-A4A9-6A6FE4A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6C33-DEE8-43A7-AE14-872B304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0557-BEC3-4E8F-82DC-49AF72D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A790F-FD55-4B72-A07B-10A60AB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B694-AC5A-432B-838C-1602EC67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C499E-2E89-400E-83DF-7E606A8C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74971-DF38-4C0B-B7C0-4AA500CE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55C-D2EE-41EF-8E36-413FA71AE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AF47-CBA4-49B2-9106-10C5107738A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69D-0F0E-4156-AD48-5128BBFF051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556-76B7-4686-AC32-0E8019748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3498-C607-4A3E-8BD5-4C5C4B3CFD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9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463F-4BD9-43F3-9B65-559A37200A5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930-6B71-4836-B5FC-FEEB7DA4DA1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492-AE18-4E9C-8AC1-1FBF025FC8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доровье сберегающие технологии  на уроках физ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а: Доронина Е.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ребования к уроку с позиции здоровьесбереж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становка и гигиенические условия в кабинет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учебной деятельности (норма 4-7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преподавания (норма не менее 3-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видов преподавания (норма6 не позже через 10-15 минут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сто и длительность применения ТС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позы учащих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в содержательной части урока вопросов, связанных со здоровьем и ЗОЖ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мотивации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сихологический климат на уро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ование эмоциональных разрядок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мп окончания урок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именение здоровьесберегающих технологий на уроках физ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ка- не тот предмет, где изучается комплекс физических упражнений, способствующих здоров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и 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ние предмета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читель физики применя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орные конспекты или СЛ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онстрационный экспере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онтальный лабораторный экспери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задач практической направленности, в том числе и связанные со здоровьесбереж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овые момен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культмину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уди и видеоаппаратуру для демонстрации интересных матери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творческих работ учащихся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рганизация учебной деятельности на уроках физики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имерная схема урока физи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295280"/>
          <a:ext cx="8229600" cy="5548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Оргмомент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Актуализация знани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Изучение нового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Закрепление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Упражнения психологического характе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Письменная работа, упражнение на тренажере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Режим смены динамических поз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Физкультминутки, элементы игр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3-4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помина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у мы легко найдем , умножим плотность на объ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лово «БАЦ» запомнишь, формулу объема вспомниш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=b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лезь в воду глубо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воде давленье вели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авит сверху РО-ЖЕ-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друг концы свои отд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Физкульминутк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тягивание за мочки уха, поте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с мяч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чина – еди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в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й гл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рите лишне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ги – терм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бое зв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ителя в шк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ы особое внимание уделять одной из задач модернизации образования: сохранения и укрепления здоровья детей, используя на своих уроках элементы здоровьесберегающих технолог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Глава 1. Здоровье сберегающие технологии в шко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Глава 2. Здоровье сберегающие технологии на уроке физ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За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а здоровья сейчас у всех на слух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цепция модернизации российского образования на период до 2010 года впервые декларирует приоритет сохранения здоровья учащихся в процессе обучения и активизирует поиск решений на сохранение и укрепление здоровья де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Медики констатируют существенное ухудшение здоровья детей в нашей стран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зически здоровыми рождаются не более 14% де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5-30% детей приходящих в 1-й класс имеют отклонения в здор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0% учащихся теряют здоровье в начальной школ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0% школьников имеют хронические заболе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5% выпускников школ являются практически здоровы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кторы, влияющие на здоровье школьников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это факторы, не поддающиеся нашему управлению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экология, традиции ЗОЖ в семье, медицинская помощь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управляемые фактор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которые подразумевают использование здоровьесберегающих и здоровьеформирующих технолог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 школе необходимо использовать следующие технологи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доровьесберегающ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хнология обучения здоровь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оспитание культуры здоровь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Физкультурно-оздоровительны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едико-гигиеническ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кологические здоровьесберегающ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7.Технология обеспечения безопасности жизне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юбая школа должна работать над программой по внедрению здоровьесберегающих технологий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обеспечить школьнику возможность сохранения здоровья во время обучения в школе, сформировать у него знания, умения. Навыки по здоровому образу жизни, 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Организация работы с наибольшим эффектом для сохранения и укрепления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Создание условий ощущения у детей радости в процессе обучения, воспитание культуры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Развитие творческих способност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Мотивация на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Научить детей использовать полученные знания в повседневной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растные особенности познавательной деяте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учение на оптимальном уровне сл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риативность методов и форм обу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тимальное сочетание двигательных и статистических нагруз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ние эмоционально благоприятной атмосф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11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