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8C6-2EA6-40D2-B08D-40B39D03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7425-D127-4134-8BEF-72992201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175F-15E8-49BE-8A63-21727CBD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D2D3-C079-4D67-8C59-7C252A13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CB0C-6DC7-4FAD-8F7D-C05EA5AF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61F0-9C05-45A4-A68F-EB6B2997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6495-C906-4D75-A558-5FF4DDCC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6466-1CD0-4633-8B00-B86C656F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EBAC-8047-4DB7-A37B-032F83A7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33E3-9253-4D68-8DB6-0E5777E1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6883-6DFC-486A-BC69-B5DE24DB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7132-9D4A-4B55-8B3F-C90E842E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74DB-2C2B-473C-8F9C-829FF3F2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D0B3-D02C-4472-9DDD-F757E6F9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C2D0-B638-447F-970B-18EB2F75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AA8F-D2C4-45BD-B400-21CE5443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40D7-81D2-4ED1-B3F6-5E81E40A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B9314-F9DB-4166-8180-E3A154C3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B7BCE-3100-449D-8641-A895087C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AE7FB-ADE7-4BC1-BDCF-FDB0D8FD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5EF05-D158-4633-B8FF-D40634BA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BD336-1144-4630-BA05-C3D8DAF1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B550-D397-49C8-85E4-C7711988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83FF9-8F3B-4064-8B9F-42D8F726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66AED-3842-4B5D-8E75-AD81D672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527DA-4E3A-4BDD-A4EB-4E4FADDA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2E004-BC7F-464C-9128-CC889CAD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3CEB8-95D2-49F2-AF7C-173361CF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7F069-3D6E-44DB-B0B4-F478444EB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21DA8-C29A-4FD6-BCE9-94AA9ABC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28E0E-ADEC-476A-BE51-8FEBFE00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A58DB-AD49-41CF-98CE-847F61BA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44CCE-FD26-4949-9A4F-1A324486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9B77-0712-430D-838C-E061548F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EB973-ECAD-4D95-A956-2D4974AA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9454F-70D7-4ED6-B22F-64BED487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27161-FB7D-460C-AB6D-E9A848CE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17A21-8E61-4CF4-AA0F-3FC970CE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26D0A-87C5-475A-96D0-6FC2CFD1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16790-1A74-4A2B-AABA-E305FC9D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4C81A-AEA4-4D4D-AABD-7479CF57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1ADA1-182C-46A9-9FE5-2B71CD0D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CDCBA-4859-403A-B93F-2C779B67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E974C-3B60-4702-8E07-2D004DE7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BA1A-D0B6-4B2D-B55F-7913656B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B6CF8-F7B1-4C49-8E4B-B394E7F2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256A0-0DD4-4026-85D1-EA592929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852B2-369F-4F9D-9E9A-A549AF73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C6B62-AC98-4274-A581-30015103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9630A-28D1-4374-A549-F199D277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05DE6-F25E-404B-A1C6-C445E09D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AADCE-3363-435D-93B3-750DA33C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082C4-5140-4031-94B2-91604DD0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52262-4162-4CC5-8955-81155D05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B96AB-18BC-4756-A70A-97D52D20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1900-CE2D-476C-BDA0-7A08309E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08C08-2DAD-4AF6-ADE8-907FAC19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3F666-5FD3-4858-8744-159B93E7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492C3-2360-4FEB-81D5-74DB6B79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7B8EF-45DA-462E-B730-6872BFC1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19A5E-7A5E-439A-B54E-4DA78423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72202-F239-41A9-AACC-C36DF0C8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4AE69-F21A-49BA-8B45-A269EB82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4E060-370D-4537-9CF3-941AFC46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6325E-D6D3-4163-B679-AD0C867A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B17AB-55FB-4EFB-B261-C0D59F17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B1B1-A6E1-430A-BA84-813E8F88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406A5-873C-40D3-A5BD-0F8D048E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90056-0270-4F80-8F5E-7EC7E8CB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2E58A-876F-4E40-BB24-66FCF007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DE6AD-9F75-4913-9363-C9B3723F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86CF4-3EDB-4F4C-BFD6-D9BB9082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86E8D-CD06-49C7-99C4-1D6325B6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B826A-3A60-41C6-B24C-B979CD7A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E60A4-29A4-411E-97A1-FAEC9EDD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6A927-70C0-408C-AEAD-4D25DA82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55005-3914-43B5-97DF-6012B101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FC89-C2D3-4AF6-96F6-B7F723A5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7DF76-15D5-4EBE-8127-5F1C53DB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EF2F9-88DD-489E-83C6-9C0ADF2F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5FF10-D1E4-46C4-AB12-AC7C12C2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46EDD-85FE-41B5-B2D0-46216D32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91480-8B27-4B05-B4A7-CEBCCE15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CF38E-5E85-45AC-A892-2ACD07CA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2BFCA-028E-49EA-AC0B-3F26E750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ED75D-2E07-48F5-973F-BA682F8D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FF486-0628-4AC9-BAC9-58926173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B1363-09BF-452A-BB88-5E58972D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6B32-4A92-4B91-AC4D-474F3269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B07C5-0594-4204-9052-D10AFBB2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FE081-338E-406E-80AD-140B901A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E9861-FD10-4E20-890F-CCA86C96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71B5E-8B10-4E50-9615-F9FCF68B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873E5-CCF6-4D20-9DB6-CB434CBE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1A676-E4FA-4441-9C5F-E53D7D3F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8A0CF-9F81-4081-82EF-22449722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8307-1E38-4793-84B1-7EB88A3F4DB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97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4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5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10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8BF4-5FF5-4727-BC4A-389E3E31E95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A33C-0FD2-4EF3-B912-AAE633FDE9B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53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4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5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6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7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8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9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0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2F8A-0B9C-4EEF-8B25-04B8725E3E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03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4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5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06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07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08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09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10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2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18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26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27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4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9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0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1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2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3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46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7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8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9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0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1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2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3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4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5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6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2B72-D271-4E17-A00E-01B581E9864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99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0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1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2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3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4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5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6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7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1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12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2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9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1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6D2B-5993-444C-9F9A-087DF953122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7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4473-D87C-44A9-99F0-994AEF180EB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55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6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7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8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9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E8D9-6DE3-48BE-9256-D5BAF6F1104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Здоровье сберегающие технологии  на уроках физик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полнила: Доронина Е.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ь физик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У СОШ №2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Требования к уроку с позиции здоровьесбережен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бстановка и гигиенические условия в кабинет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оличество видов учебной деятельности (норма 4-7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оличество видов преподавания (норма не менее 3-х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Чередование видов преподавания (норма6 не позже через 10-15 минут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Место и длительность применения ТСО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Чередование позы учащихс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аличие, место, содержание и продолжительность оздоровительных моментов на уроке(норма: по 1 минуте из 3-х легких упражнений с 3-4 повторениями каждого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аличие в содержательной части урока вопросов, связанных со здоровьем и ЗОЖ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аличие мотивации 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сихологический климат на урок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спользование эмоциональных разрядок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емп окончания урока 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именение здоровьесберегающих технологий на уроках физик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изика- не тот предмет, где изучается комплекс физических упражнений, способствующих здоровь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 и уроки  физики могут воспитывать в ребенке сознание великой ценности здоровь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подавание предмета позволяет органично вписывать принципы здоровьесбережения в темы уроков, в различные задания как  на уроках, так и во время подготовки домашнего зад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Учитель физики применяе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орные конспекты или СЛ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монстрационный эксперемен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ронтальный лабораторный эксперимен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ение задач практической направленности, в том числе и связанные со здоровьесбережение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гровые момен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изкультминут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уди и видеоаппаратуру для демонстрации интересных материал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пользование творческих работ учащихся и т.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е это не только повышает активность учащихся, но еще позволяют менять виды деятельности на уроке, что способствует снижению утомляемости, а значит и сбережению здоровья учащих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Организация учебной деятельности на уроках физики: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Благоприятный настрой на уро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Соблюдение гигиенических требова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Построение урока с учетом динамичности учащих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Строгая дозировка време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Нормирование домашнего здоровь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На всех этапах урока необходимо использовать элементы здоровьесбереж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имерная схема урока физик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457200" y="1295280"/>
          <a:ext cx="8229600" cy="55483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79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Оргмомент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Актуализация знаний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Изучение нового материала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Закрепление материала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51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Упражнения психологического характера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Письменная работа, упражнение на тренажере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Режим смены динамических поз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Физкультминутки, элементы игры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3-4 мин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5-7 мин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5-7 мин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5-7 мин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поминал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ссу мы легко найдем , умножим плотность на объ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слово «БАЦ» запомнишь, формулу объема вспомниш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=b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лезь в воду глубок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воде давленье вели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давит сверху РО-ЖЕ-А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вдруг концы свои отдаш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Физкульминутки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упражнение для глаз: движение глазами вверх-вниз, вправо-влево, вращение, закрыть глаза и представить поочередно цвета радуги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Потягивание за мочки уха, потерание мочек уха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Упражнения для рук: поглаживание ладоней, сгибание-разгибание пальцев, «ножницы» прямыми руками, вращение плечами назад-вперед, руки в стороны сгибаем-разгибаем локти, вращение кистей рук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Упражнение для шеи: вправо-влево, вперед-назад, круговые вращения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г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с мяч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личина – едини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в сл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рый гла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берите лишнее сло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аги – терми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абое зве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ч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Учителя в школ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жны особое внимание уделять одной из задач модернизации образования: сохранения и укрепления здоровья детей, используя на своих уроках элементы здоровьесберегающих технологи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веден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 Глава 1. Здоровье сберегающие технологии в школ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. Глава 2. Здоровье сберегающие технологии на уроке физи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 Заключен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блема здоровья сейчас у всех на слух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нцепция модернизации российского образования на период до 2010 года впервые декларирует приоритет сохранения здоровья учащихся в процессе обучения и активизирует поиск решений на сохранение и укрепление здоровья детей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ЧЕМУ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Медики констатируют существенное ухудшение здоровья детей в нашей стране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Физически здоровыми рождаются не более 14% дете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5-30% детей приходящих в 1-й класс имеют отклонения в здоровь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0% учащихся теряют здоровье в начальной школ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60% школьников имеют хронические заболева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лько 5% выпускников школ являются практически здоровым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Факторы, влияющие на здоровье школьников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1 групп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– это факторы, не поддающиеся нашему управлению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экология, традиции ЗОЖ в семье, медицинская помощь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2 групп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управляемые факторы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которые подразумевают использование здоровьесберегающих и здоровьеформирующих технолог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 школе необходимо использовать следующие технологии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Здоровьесберегающие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Технология обучения здоровью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Воспитание культуры здоровь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Физкультурно-оздоровительные технолог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Медико-гигиенические технолог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6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Экологические здоровьесберегающие технолог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7.Технология обеспечения безопасности жизнедеятельно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Любая школа должна работать над программой по внедрению здоровьесберегающих технологий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Цель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: обеспечить школьнику возможность сохранения здоровья во время обучения в школе, сформировать у него знания, умения. Навыки по здоровому образу жизни, научить использовать полученные знания в повседневной жизн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Задачи 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 Организация работы с наибольшим эффектом для сохранения и укрепления здоров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 Создание условий ощущения у детей радости в процессе обучения, воспитание культуры здоров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 Развитие творческих способносте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 Мотивация на здоровый образ жизн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. Научить детей использовать полученные знания в повседневной жизн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инцип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растные особенности познавательной деятельнос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учение на оптимальном уровне сложнос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ариативность методов и форм обуч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птимальное сочетание двигательных и статистических нагрузо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здание эмоционально благоприятной атмосфер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1-27T23:11:4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