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936-B2DD-4B99-AC1F-C945965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436-C88D-40B8-8B96-FF7C6694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68F-0182-4871-B12D-F6526969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69F-5C89-4382-BD0B-475EB575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F27-1578-4C18-AAF3-E6C5560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C25-3501-470E-AECD-6844D8CF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3B7-50E9-451C-BBFF-15DCA51C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E02-6042-4126-A294-E6A040E2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2DA0-8267-4059-B262-8546DC9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C9D-135C-4834-AC34-7596BC5E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125-0061-4C10-91FF-B8ABE2B0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F94-D618-48F0-B017-CBAEE467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E461-3480-4E9C-B55C-E5F3C018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184464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Bookman Old Style"/>
              </a:rPr>
              <a:t>«Заколдованное место»     Н.В.Гог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335772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Неснова Тамар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Bookman Old Style"/>
              </a:rPr>
              <a:t>ГБОУ гимназия №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 rot="10800000">
            <a:off x="2268000" y="566064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286000" y="3478320"/>
            <a:ext cx="408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6880" y="1700280"/>
            <a:ext cx="3021120" cy="383364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900000" y="1628640"/>
            <a:ext cx="395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«Ещё не было у нас автора с такою весёлою весёлостью, у нас на севере она великая редкость. Яновский — человек с решительным талантом. Слог его жив, оригинален, исполнен красок и часто вкуса. Во многих местах в нём виден наблюдател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Е.А.Бараты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0680" y="2349360"/>
            <a:ext cx="300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60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54480" y="1846440"/>
            <a:ext cx="2946600" cy="3886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1773360"/>
            <a:ext cx="388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„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Гогол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так мило прикинувшийс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асичнико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принадлежит к числу необыкновенных талантов. Кому не известны его Вечера на хуторе близ Диканьки? Сколько в них остроумия, веселости, поэзии и народности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.Г.Бе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33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Какие произведения вошли в   «Вечера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90680" y="2133720"/>
            <a:ext cx="91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773360"/>
            <a:ext cx="403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рочинская ярм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чер накануне Иван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йская ночь,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топлен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павшая гра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очь перед Рожде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ашная м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ван Федорович Шпоньк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го тет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мысл названия «Вечеро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341360"/>
            <a:ext cx="7129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Вече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– время отдохновения, располагающего к задумчивости, мечтательности; время таинственного, чудесного, иррациона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Хутор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 - так, в противоположность деревне, называется отдельная усадьба, которая расположена на обособленном участке земли, состоящем в пользовании данного хозяин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иканька –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что удаленное от центра, от «света», сохранившее самобытность, далекое от цивилизации. Но в то же время Диканька – и нечто невероятное, «дикие речи, вздор, враки, пустяки» (значение слова «дичь» в словаре Даля), и не только пустяки, но и невероятно страшное, пуга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10476" t="13483" r="43997" b="22021"/>
          <a:stretch/>
        </p:blipFill>
        <p:spPr>
          <a:xfrm>
            <a:off x="4427640" y="1989000"/>
            <a:ext cx="2392200" cy="343692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52378" t="13483" r="8799" b="22021"/>
          <a:stretch/>
        </p:blipFill>
        <p:spPr>
          <a:xfrm>
            <a:off x="6443640" y="1989000"/>
            <a:ext cx="2041560" cy="3435480"/>
          </a:xfrm>
          <a:prstGeom prst="rect">
            <a:avLst/>
          </a:prstGeom>
          <a:ln w="31680">
            <a:solidFill>
              <a:srgbClr val="339966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042920" y="40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413000"/>
            <a:ext cx="36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асечник Рудый Паньк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ымышленный «изд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«Вечеров...»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ъясняет читателям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атериал для книги он получил  от разных рассказч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удый Панько - не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севдоним; в его имени  была скрытая отсылка к реальному автору: писатель был рыжеватым, а будь он простым крестьянином, звали бы его по местному  обычаю не по отцу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деду – Паньком (дед Гоголя –  Панас, Афанасий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6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ссказчики в «Вече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95640" y="1413000"/>
            <a:ext cx="4321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 один из гостей... Бывало, поставит перед собою палец и, глядя на конец его, пойдет рассказывать - вычурно да хитро, как в печатных книжках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т, например, знаете ли вы дьяка диканьской церкви? Эх, голова! Что за истории умел он отпускать!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д мой (царство ему небесное!) умел чудно рассказывать. Бывало, поведет речь - целый день не подвинулся бы с места и все бы слуш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628640"/>
            <a:ext cx="302436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анич в гороховом кафтане Макар Наза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ьяк диканьской церкви Фома Григо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Дед Фомы Григорьевича  Макс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Жанр рассказов Фомы Григорьеви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1341360"/>
            <a:ext cx="360036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Бы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е Григорьевичу принадлежат в цикле 3 повести: «Вечер накануне Ивана Купала», «Пропавшая грамота», «Заколдованное мес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х связь друг с другом, и прежде всего их жанровое единство, отмечены общим для них     подзаголовком – «Быль, рассказанная дьячком ***ской церкв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1700280"/>
            <a:ext cx="38876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ределению В.Я. Проппа, «были», или «былички», «бывальщины», - «это рассказы, отражающие народную демонологи, страшные, но название их говорит о том, что в них вер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ылички рассказывают о пережитом самим рассказчиком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ма Григорьевич ссылается на авторитет деда: «Но главное в рассказах деда было то, что в жизнь свою он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когда не лгал, и что, бывало, ни скажет, то именно так и бы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89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   литературных произведе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84360" y="1536840"/>
            <a:ext cx="2664000" cy="1933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2685960" cy="1901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411280" y="400536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0" t="1979" r="0" b="1979"/>
          <a:stretch/>
        </p:blipFill>
        <p:spPr>
          <a:xfrm>
            <a:off x="5724360" y="4049640"/>
            <a:ext cx="2808360" cy="2116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4360" y="1844640"/>
            <a:ext cx="165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тров Бу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пя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асав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ип в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инк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лень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вет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40464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 в «Вечерах на хуторе близ Дикань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3384720" cy="2122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59280" y="1773360"/>
            <a:ext cx="3456000" cy="2165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4574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859280" y="4149720"/>
            <a:ext cx="345600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050920" y="1176480"/>
            <a:ext cx="5113440" cy="3132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40000" y="4508640"/>
            <a:ext cx="456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сновные мотивы повести: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иски заговоренного клада;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олдованное 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6028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«Заколдованное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13200" y="1773360"/>
            <a:ext cx="3113280" cy="37414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900000" y="1844640"/>
            <a:ext cx="374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  (1809 – 1852) —  прозаик и драматург, классик рус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Автор поэмы «Мерт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уши», пьесы  «Ревизор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орников повестей «Вечера на хуторе близ  Диканьки», «Миргород», «Петербургские пове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762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Николай Васильевич Г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404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оедините слово с его знач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1700280"/>
            <a:ext cx="216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1484280"/>
            <a:ext cx="4174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алороссияне, едущие за сол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и рыбою, обыкновенно в Кр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есто, засеянное арбузам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ды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ашм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л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Древней Руси: мест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область, подчиненная од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линяный кув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береговые лиственные ле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заливаемые в половодье 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труб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амб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украинский 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333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о словарем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Проверьте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1844640"/>
            <a:ext cx="6889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аштан – место, засеянное арбузами и ды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олость – в Древней Руси: местность,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дчиненная одной в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вун – арбу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мора – амб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ухоль – глиняный кув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вада – на Украине и на юге России: берег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ственные леса, заливаемые в половодье 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юлька – тр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пилка – украинский народный дух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узыкальный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ибуля – лу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ревики – башм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умаки – малороссияне, едущие за солью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ыбою, обыкновенно в К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8320" y="1770120"/>
            <a:ext cx="3825720" cy="3963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5564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205000"/>
            <a:ext cx="374508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 каким приметам  узнаем, что история случилась в прошл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Чем запомнился рассказчику де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500720" y="2421000"/>
            <a:ext cx="3960720" cy="3084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404640"/>
            <a:ext cx="45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916280"/>
            <a:ext cx="3816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попал в заколдованное место и каким образом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колько раз дед оказывался в заколдованном ме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овы особенности заколдованного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0" r="0" b="5663"/>
          <a:stretch/>
        </p:blipFill>
        <p:spPr>
          <a:xfrm>
            <a:off x="5219640" y="1700280"/>
            <a:ext cx="3024360" cy="4103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26920" y="189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собенности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71640" y="1413000"/>
            <a:ext cx="4176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аколдованное место – место, где пересекаются волшебный и обыденный ми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казочный мир притворяется знакомым, но  пространство в нем искажается. В обычном месте возникают вдруг провалы, бездны и г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десь происходят странные явления, слышатся стр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сутствуют месяц и звезды, царит мра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чник света –  свеча на моги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0" t="0" r="8216" b="0"/>
          <a:stretch/>
        </p:blipFill>
        <p:spPr>
          <a:xfrm>
            <a:off x="4500720" y="1557360"/>
            <a:ext cx="3832200" cy="4321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абота с текстом по вопро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628640"/>
            <a:ext cx="381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чему дед стремится попасть в заколдованное место? Что с ним там происходи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акие существа встретились деду в заколдованн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rcRect l="0" t="0" r="0" b="3024"/>
          <a:stretch/>
        </p:blipFill>
        <p:spPr>
          <a:xfrm>
            <a:off x="5462640" y="1413000"/>
            <a:ext cx="2408040" cy="4752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24000" y="333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1413000"/>
            <a:ext cx="453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Медведь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— родной бр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лешему. Его иногда и называют  лешим или лесным че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екоторые лесные духи 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блик медведя. В  христиан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символике олицетворяет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дьявольские си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тичий нос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фантастическое сущ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ридуманное Гоголем: птич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нос без тела. Символика п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ногообразна, некоторые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осредниками между ми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мертвых и жи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4140360" cy="316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333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Существа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1268280"/>
            <a:ext cx="38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Баранья голова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фольклоре нечто пуст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икчемное. Имеет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тношение к демонологии: один из демонов  изображался с тремя головами, одна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торых была баран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Харя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урное, отвратительное лицо, рожа, тварь.  Маска, личина и самый  окрутник, наряженный, переряжен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якая харя (Хавронья) сама себя хвали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33336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Художественные средства, создающие образ заколдованного м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349360"/>
            <a:ext cx="309564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иперб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Эп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374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ногами круча без дна, ноздри – хоть по ведру воды влей в кажд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ос – как мех в кузнице, губы…как две колоды, дыня… словно зм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ый камень, красные очи, мерзостная р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140360" y="1844640"/>
            <a:ext cx="4330440" cy="352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1159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еще в повести называется заколдованное мест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2060640"/>
            <a:ext cx="32400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клят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Дьявольское м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338640" cy="432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341360"/>
            <a:ext cx="403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Отец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писателя Василий Афанасьевич Гоголь-Яновский (1777 – 1825), служил при Малороссийском почтамте. В 1805 году уволился с чином коллежского асессора и жен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Василий Афанасьевич был разносторонне одаренным человеком: талантливым рассказчиком и писателем – автором остроумных комедий, постановщиком пьес и ак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60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3298" t="2919" r="3298" b="2919"/>
          <a:stretch/>
        </p:blipFill>
        <p:spPr>
          <a:xfrm>
            <a:off x="5108400" y="1731960"/>
            <a:ext cx="3117960" cy="42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39640" y="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Как закончилось приклю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д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1125360"/>
            <a:ext cx="388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Посмотрите-ка, посмотрите сюда, что я вам принес!» - сказал дед и открыл котел. Что ж бы, вы думали, такое там было? …золото? вот то-то, что не золото: сор, дрязг... стыдно сказать, что та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 заколдованном месте никогда не было ничего доброго. Засеют как следует, а взойдет такое, что и разобрать нельзя: арбуз — не арбуз, тыква — не тыква, огурец — не огурец... чорт знает, что так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0" t="0" r="4725" b="0"/>
          <a:stretch/>
        </p:blipFill>
        <p:spPr>
          <a:xfrm>
            <a:off x="4211640" y="1844640"/>
            <a:ext cx="4184640" cy="3230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9236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Итог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1341360"/>
            <a:ext cx="352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Клад, подкинутый нечистой силой, призрачен: он обращается в сор и не приносит человеку счастья. Жажда обогащения, губительная страсть к деньгам  воплощены Гоголем в сказочных образ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41720" y="1628640"/>
            <a:ext cx="3449880" cy="4464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87280" y="260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Родители пис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628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М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,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сяровская (1791 – 1868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исходила из помещичь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мьи. По преданию, 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а первой красавицей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тавщ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семье, помимо Никол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ыло ещё пятеро дет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«Марья Ивановна жен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обыкновенная… Она в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полнена самоотверж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 тихой любви к сво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ям…» - писал С.Т.Акс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776760" cy="21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3887640" cy="15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189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ом, в котором проживала семья Гоголей в Василье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484280"/>
            <a:ext cx="388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ство писателя прошло в Васильевке, имении родителей. «Дом небольшой, но поместительный, обширный и живописный сад и пруд…» - так описывали современники обстановку усадьбы, которая стала центром общественности всего околотка. Впоследствии  впечатления жизни в Васильевке – ярмарки, забавы молодежи, страшные рассказы деревенских балагуров - легли в основу  повестей  Гог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27640" y="1565280"/>
            <a:ext cx="3960720" cy="224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3355" r="0" b="0"/>
          <a:stretch/>
        </p:blipFill>
        <p:spPr>
          <a:xfrm>
            <a:off x="4427640" y="3936960"/>
            <a:ext cx="3959280" cy="2158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Нежинская гимн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557360"/>
            <a:ext cx="352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Гоголь учился в Гимн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ысших наук в Нежин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821   по 1828 год. Писатель обладал прекрасной памятью, делал успехи  в рисовании и русской словесности. Гимназисты затеяли свой рукописный журнал, в котором Гоголь много писал в стих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В Нежине развилась  любовь к театру, где Гоголь с успехом  исполнял ро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комических стар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87960" y="1600200"/>
            <a:ext cx="29574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Гоголь в Петербур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700280"/>
            <a:ext cx="417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 декабре 1828 года Гоголь переехал в Санкт-Петербург. Здесь впервые ждало его жестокое разочарование: в актёры не приняли; служба оказалась скучно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ссодержательной. Тем сильнее привлекало его литературное поприщ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знакомится с Жуковским и Пушкиным. В журналах печатают его первые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881440" cy="4210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40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Вечера на хуторе близ Дикан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484280"/>
            <a:ext cx="367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ботать над «Вечерам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голь начал еще в 1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оду. В письмах домой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осил свою мать 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ему «о поверьях, обы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малороссиан, сказ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аньях», описать наряд сельского дьяч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вадебный обря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я работа улож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три года и была закончена в 1832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rcRect l="27756" t="0" r="27756" b="11811"/>
          <a:stretch/>
        </p:blipFill>
        <p:spPr>
          <a:xfrm>
            <a:off x="4859280" y="1557360"/>
            <a:ext cx="28796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192480" cy="3814920"/>
          </a:xfrm>
          <a:prstGeom prst="rect">
            <a:avLst/>
          </a:prstGeom>
          <a:ln w="25560">
            <a:solidFill>
              <a:srgbClr val="9966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900000" y="1700280"/>
            <a:ext cx="360072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ейчас прочёл «Вечера близ Диканьки». Они изумили меня.       Вот настоящая весёлость, искренняя, непринуждён- ная, без жеманства, без чопорности. А местами какая поэзия!.. Всё это так необыкновенно в нашей нынешней литературе, что я доселе не образумился…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476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Отзывы о первой книге Гог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0:17Z</dcterms:created>
  <dc:creator>Тома</dc:creator>
  <dc:description/>
  <dc:language>en-US</dc:language>
  <cp:lastModifiedBy>Тома</cp:lastModifiedBy>
  <dcterms:modified xsi:type="dcterms:W3CDTF">2014-01-06T21:06:33Z</dcterms:modified>
  <cp:revision>81</cp:revision>
  <dc:subject/>
  <dc:title>Заколдованное место</dc:title>
</cp:coreProperties>
</file>