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37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29.jpeg" ContentType="image/jpeg"/>
  <Override PartName="/ppt/media/image3.wmf" ContentType="image/x-wmf"/>
  <Override PartName="/ppt/media/image15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BE51-B744-4C66-9098-BDDA88A12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D4C6-CCDF-4A96-B803-AA3CD25BD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30C1-4808-4F09-BD88-CA0AEFEEC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2C1A-AD8F-4A73-AE64-EA0BC9D80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B9BD6-D32A-4DA7-96C4-87879EB69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8250A-F42D-43A9-BE46-0C9BA7641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40433-A499-4E6C-984E-2C7C5367E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0E069-DCA6-4054-B8CE-D5E84DB0C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B5F74-65DB-4B94-ABB1-814F739C2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21F8C-BB3D-447A-BEEC-75430C23F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B3811-2837-4CC6-9696-52A7DC88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B17B-8563-4397-B07A-C3E4C3063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B6E19-320A-4DCA-99BE-B0383199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7F910-2C16-4482-9E48-570EAB3A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D252D-E7E8-4FBA-91C5-65520D9CB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CE942-BDF1-4F69-8648-3B39FF46A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149C0-46EE-4786-8FD3-40A70B690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2781-E999-437A-8943-7BF5F4AB2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9B69-86E6-4863-9B2D-189FB34A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A257-5891-4E86-BE37-E4FE520A4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0866-829C-4EC2-8745-A931B9420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54E3-4EB6-4FD7-A7B5-5D9BA5C7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19F8-5E4A-439F-99C0-80CE2094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ECB7-492B-4523-8593-B68F9E56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9151C-575F-4232-AF71-2938B6DD27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1A0C3-28CB-482E-B9BD-61BA18B84B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image" Target="../media/image28.jpeg"/><Relationship Id="rId10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79440" y="301680"/>
            <a:ext cx="8105760" cy="178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cccc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ши увлечения</a:t>
            </a:r>
            <a:endParaRPr b="0" lang="en-US" sz="1800" spc="1" strike="noStrike">
              <a:ln w="19080">
                <a:solidFill>
                  <a:srgbClr val="33cccc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489040" y="2027160"/>
            <a:ext cx="4003920" cy="3022560"/>
          </a:xfrm>
          <a:prstGeom prst="rect">
            <a:avLst/>
          </a:prstGeom>
          <a:ln w="76320">
            <a:solidFill>
              <a:srgbClr val="3366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2" name=""/>
          <p:cNvSpPr txBox="1"/>
          <p:nvPr/>
        </p:nvSpPr>
        <p:spPr>
          <a:xfrm>
            <a:off x="739800" y="5413320"/>
            <a:ext cx="7762680" cy="104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втотуриз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"/>
          <p:cNvSpPr/>
          <p:nvPr/>
        </p:nvSpPr>
        <p:spPr>
          <a:xfrm rot="441000">
            <a:off x="8488080" y="623880"/>
            <a:ext cx="49212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66ff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17000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508720" y="1476360"/>
            <a:ext cx="3200400" cy="257184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8400" y="132840"/>
            <a:ext cx="883764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Путешествовать можно в любую погоду. Ремни пристегнули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831960" y="1281240"/>
            <a:ext cx="4511520" cy="2955960"/>
          </a:xfrm>
          <a:prstGeom prst="rect">
            <a:avLst/>
          </a:prstGeom>
          <a:ln w="38160">
            <a:solidFill>
              <a:srgbClr val="feec94"/>
            </a:solidFill>
            <a:miter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165240" y="3211560"/>
            <a:ext cx="3838320" cy="34750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4673520" y="3724200"/>
            <a:ext cx="3745080" cy="2938680"/>
          </a:xfrm>
          <a:prstGeom prst="rect">
            <a:avLst/>
          </a:prstGeom>
          <a:ln w="38160">
            <a:solidFill>
              <a:srgbClr val="feec94"/>
            </a:solidFill>
            <a:miter/>
          </a:ln>
        </p:spPr>
      </p:pic>
    </p:spTree>
  </p:cSld>
  <p:transition spd="med" advTm="15000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673200" y="1852560"/>
            <a:ext cx="8043840" cy="22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33cccc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одолжение следует...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33cccc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15000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bb5f03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Пора в путь – дорогу…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46040" y="4305240"/>
            <a:ext cx="8229600" cy="2013120"/>
          </a:xfrm>
          <a:prstGeom prst="rect">
            <a:avLst/>
          </a:prstGeom>
          <a:noFill/>
          <a:ln w="9360">
            <a:solidFill>
              <a:srgbClr val="feec94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Один – два раза в месяц, а иногда чаще мы отправляемся всей семьей знакомиться с достопримечательностями области. Это очень доступно, если есть личный автомобил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58880" y="1555920"/>
            <a:ext cx="2754360" cy="23112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078520" y="1568520"/>
            <a:ext cx="3111480" cy="2371680"/>
          </a:xfrm>
          <a:prstGeom prst="rect">
            <a:avLst/>
          </a:prstGeom>
          <a:ln w="28440">
            <a:solidFill>
              <a:srgbClr val="feec94"/>
            </a:solidFill>
            <a:miter/>
          </a:ln>
        </p:spPr>
      </p:pic>
    </p:spTree>
  </p:cSld>
  <p:transition spd="med" advTm="15000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Куда ехать?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4271760"/>
            <a:ext cx="8229600" cy="2189160"/>
          </a:xfrm>
          <a:prstGeom prst="rect">
            <a:avLst/>
          </a:prstGeom>
          <a:noFill/>
          <a:ln w="9360">
            <a:solidFill>
              <a:srgbClr val="feec94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Приятно ехать по хорошей дороге. А чтобы не заблудиться – следи за указателями… Хорошо, что на них не текст, как в русских сказках, где «налево пойдешь…», а то путешествие было бы бесконечным и утомительны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130400" y="1600200"/>
            <a:ext cx="2636640" cy="2241720"/>
          </a:xfrm>
          <a:prstGeom prst="rect">
            <a:avLst/>
          </a:prstGeom>
          <a:ln w="9360">
            <a:solidFill>
              <a:srgbClr val="feec94"/>
            </a:solidFill>
            <a:miter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354640" y="1590840"/>
            <a:ext cx="2725560" cy="2239920"/>
          </a:xfrm>
          <a:prstGeom prst="rect">
            <a:avLst/>
          </a:prstGeom>
          <a:ln w="9360">
            <a:solidFill>
              <a:srgbClr val="feec94"/>
            </a:solidFill>
            <a:miter/>
          </a:ln>
        </p:spPr>
      </p:pic>
    </p:spTree>
  </p:cSld>
  <p:transition spd="med" advTm="15000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80720" y="277560"/>
            <a:ext cx="882468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Хотите в сказку, тогда – в Суздаль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4227120"/>
            <a:ext cx="8229600" cy="2189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 январе 2009 года мы побывали в древнем Суздале. Зимний город великолепен! Церкви, соборы, торговые ряды, кони, множество народа… Красота манит и завораживает… Уезжаем домой, но надеемся вернуться сюда ещ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157560" y="1568520"/>
            <a:ext cx="2768400" cy="2460600"/>
          </a:xfrm>
          <a:prstGeom prst="rect">
            <a:avLst/>
          </a:prstGeom>
          <a:ln w="9360">
            <a:solidFill>
              <a:srgbClr val="feec94"/>
            </a:solidFill>
            <a:miter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708520" y="1197000"/>
            <a:ext cx="2901960" cy="2425680"/>
          </a:xfrm>
          <a:prstGeom prst="rect">
            <a:avLst/>
          </a:prstGeom>
          <a:ln w="9360">
            <a:solidFill>
              <a:srgbClr val="feec94"/>
            </a:solidFill>
            <a:miter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404640" y="1190520"/>
            <a:ext cx="2911680" cy="2416320"/>
          </a:xfrm>
          <a:prstGeom prst="rect">
            <a:avLst/>
          </a:prstGeom>
          <a:ln w="9360">
            <a:solidFill>
              <a:srgbClr val="feec94"/>
            </a:solidFill>
            <a:miter/>
          </a:ln>
        </p:spPr>
      </p:pic>
    </p:spTree>
  </p:cSld>
  <p:transition spd="med" advTm="15000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3500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Monotype Corsiva"/>
              </a:rPr>
              <a:t>Чем  не  море ?</a:t>
            </a:r>
            <a:endParaRPr b="1" lang="en-US" sz="8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ет, это не море. Это всего лишь водохранилище в городе Заволжье Нижегородской области. Мы любовались им, проезжая по дамбе, по пути в г.Советск Кировской области в августе 2009 год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991040" y="1644480"/>
            <a:ext cx="2737080" cy="2438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5684760" y="3745080"/>
            <a:ext cx="3189240" cy="2638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 advTm="15000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Monotype Corsiva"/>
              </a:rPr>
              <a:t>Вот это мост!</a:t>
            </a:r>
            <a:endParaRPr b="1" lang="en-US" sz="6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91760"/>
            <a:ext cx="3808440" cy="4870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 октябре 2009 года переезжали Оку (по дороге в Мордовию) уже по новому мосту. Такого сооружения мы еще не видели. Спасибо строителям, теперь можно добраться на родину папы быстрее и в любое время года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583320" y="3263760"/>
            <a:ext cx="2560680" cy="2460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492800" y="4186080"/>
            <a:ext cx="2771640" cy="2516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479840" y="1577880"/>
            <a:ext cx="2857680" cy="2162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 advTm="15000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874960" y="2698920"/>
            <a:ext cx="3740040" cy="3420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6520" y="155520"/>
            <a:ext cx="87487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Monotype Corsiva"/>
              </a:rPr>
              <a:t>Зачем ехать на юг, если рядом такая </a:t>
            </a:r>
            <a:br>
              <a:rPr sz="5400"/>
            </a:br>
            <a:r>
              <a:rPr b="1" lang="en-US" sz="5400" spc="-1" strike="noStrike">
                <a:solidFill>
                  <a:srgbClr val="feec94"/>
                </a:solidFill>
                <a:latin typeface="Monotype Corsiva"/>
              </a:rPr>
              <a:t>красота!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768240" y="1512720"/>
            <a:ext cx="2592360" cy="2030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6070680" y="1512720"/>
            <a:ext cx="2538360" cy="2217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181080" y="4240080"/>
            <a:ext cx="3001680" cy="2484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6440400" y="4683240"/>
            <a:ext cx="2703600" cy="2174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 advTm="15000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257640" y="844560"/>
            <a:ext cx="2593800" cy="20080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2762280" y="2441520"/>
            <a:ext cx="3540240" cy="22827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0720" y="155160"/>
            <a:ext cx="8793000" cy="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Хорошо летом в палатке на берегу реки…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3381480" y="4629240"/>
            <a:ext cx="2374920" cy="20080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6431040" y="1068480"/>
            <a:ext cx="2573280" cy="18334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6585120" y="2908440"/>
            <a:ext cx="2395440" cy="18666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6208560" y="4673520"/>
            <a:ext cx="2638440" cy="21844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60" name="" descr=""/>
          <p:cNvPicPr/>
          <p:nvPr/>
        </p:nvPicPr>
        <p:blipFill>
          <a:blip r:embed="rId7"/>
          <a:stretch/>
        </p:blipFill>
        <p:spPr>
          <a:xfrm>
            <a:off x="141120" y="966960"/>
            <a:ext cx="2560680" cy="18874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61" name="" descr=""/>
          <p:cNvPicPr/>
          <p:nvPr/>
        </p:nvPicPr>
        <p:blipFill>
          <a:blip r:embed="rId8"/>
          <a:stretch/>
        </p:blipFill>
        <p:spPr>
          <a:xfrm>
            <a:off x="160200" y="2843280"/>
            <a:ext cx="2308320" cy="18748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62" name="" descr=""/>
          <p:cNvPicPr/>
          <p:nvPr/>
        </p:nvPicPr>
        <p:blipFill>
          <a:blip r:embed="rId9"/>
          <a:stretch/>
        </p:blipFill>
        <p:spPr>
          <a:xfrm>
            <a:off x="415800" y="4680000"/>
            <a:ext cx="2616480" cy="21780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p:transition spd="med" advTm="15000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сень в усадьбе Танеевых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04840" y="1590840"/>
            <a:ext cx="2879640" cy="2404800"/>
          </a:xfrm>
          <a:prstGeom prst="rect">
            <a:avLst/>
          </a:prstGeom>
          <a:ln w="28440">
            <a:solidFill>
              <a:srgbClr val="feec94"/>
            </a:solidFill>
            <a:miter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629320" y="1592280"/>
            <a:ext cx="2317680" cy="1941480"/>
          </a:xfrm>
          <a:prstGeom prst="rect">
            <a:avLst/>
          </a:prstGeom>
          <a:ln w="28440">
            <a:solidFill>
              <a:srgbClr val="feec94"/>
            </a:solidFill>
            <a:miter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2744640" y="2389320"/>
            <a:ext cx="3187800" cy="24825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5183280" y="4013280"/>
            <a:ext cx="3541680" cy="2679480"/>
          </a:xfrm>
          <a:prstGeom prst="rect">
            <a:avLst/>
          </a:prstGeom>
          <a:ln w="28440">
            <a:solidFill>
              <a:srgbClr val="feec94"/>
            </a:solidFill>
            <a:miter/>
          </a:ln>
        </p:spPr>
      </p:pic>
      <p:pic>
        <p:nvPicPr>
          <p:cNvPr id="168" name="" descr=""/>
          <p:cNvPicPr/>
          <p:nvPr/>
        </p:nvPicPr>
        <p:blipFill>
          <a:blip r:embed="rId5"/>
          <a:stretch/>
        </p:blipFill>
        <p:spPr>
          <a:xfrm>
            <a:off x="646200" y="4527720"/>
            <a:ext cx="2647800" cy="2008080"/>
          </a:xfrm>
          <a:prstGeom prst="rect">
            <a:avLst/>
          </a:prstGeom>
          <a:ln w="28440">
            <a:solidFill>
              <a:srgbClr val="feec94"/>
            </a:solidFill>
            <a:miter/>
          </a:ln>
        </p:spPr>
      </p:pic>
    </p:spTree>
  </p:cSld>
  <p:transition spd="med" advTm="15000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7T17:07:24Z</dcterms:created>
  <dc:creator>User</dc:creator>
  <dc:description/>
  <dc:language>en-US</dc:language>
  <cp:lastModifiedBy>User</cp:lastModifiedBy>
  <dcterms:modified xsi:type="dcterms:W3CDTF">2009-11-27T22:59:36Z</dcterms:modified>
  <cp:revision>4</cp:revision>
  <dc:subject/>
  <dc:title>Слайд 1</dc:title>
</cp:coreProperties>
</file>