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662-4CE3-4309-AF1B-1427585B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B83-8177-4A4B-8D9A-DEAC15B4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EF4-BD96-49C2-B507-0CF759CD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B8F6-836C-4DCF-9139-B0CDD9ED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A210-54A1-437F-849F-9399F173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68AE-D194-4938-B7A0-E6FCA757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09A1-DD5E-4504-B586-2786AF85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0627-4654-451D-B8D1-1A480F50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68C3-DC54-41F6-BDF4-7156E061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917B-7862-4215-A9C5-814D4F06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4210-E99F-415B-B645-6C721165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D2A-D948-49ED-A89A-FD8A3A36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953B-B990-49D8-9E47-999020E3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453F-7FF2-4851-8B32-6AD69EB0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DAF9-45E2-4FC1-919A-055938DC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C1BC-A71E-4936-8916-1DC4BFA3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9827-C25C-47AA-9DD1-A35499F8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9035-DC92-404C-9203-9A7BA40F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90A-0094-49E4-A5D3-D87976FC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DF9-F30F-44DE-AE54-CC7E3261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145-5D95-48AB-B719-C0E17BD0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3244-24ED-4594-9DE3-3AE9AE0F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040-5107-4CCB-A0E6-94AD74D7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63B-594D-4D63-B994-AA13C6F6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8E71-D79F-410C-B694-5F0F34D77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7F9D-AE72-4E13-A632-D30C3BB18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79440" y="301680"/>
            <a:ext cx="8105760" cy="17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ши увлечения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89040" y="2027160"/>
            <a:ext cx="4003920" cy="3022560"/>
          </a:xfrm>
          <a:prstGeom prst="rect">
            <a:avLst/>
          </a:prstGeom>
          <a:ln w="7632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2" name=""/>
          <p:cNvSpPr txBox="1"/>
          <p:nvPr/>
        </p:nvSpPr>
        <p:spPr>
          <a:xfrm>
            <a:off x="739800" y="5413320"/>
            <a:ext cx="776268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туриз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 rot="441000">
            <a:off x="8488080" y="623880"/>
            <a:ext cx="4921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508720" y="1476360"/>
            <a:ext cx="3200400" cy="25718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8400" y="132840"/>
            <a:ext cx="883764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утешествовать можно в любую погоду. Ремни пристегнули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831960" y="1281240"/>
            <a:ext cx="4511520" cy="2955960"/>
          </a:xfrm>
          <a:prstGeom prst="rect">
            <a:avLst/>
          </a:prstGeom>
          <a:ln w="38160">
            <a:solidFill>
              <a:srgbClr val="feec94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65240" y="3211560"/>
            <a:ext cx="3838320" cy="3475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673520" y="3724200"/>
            <a:ext cx="3745080" cy="2938680"/>
          </a:xfrm>
          <a:prstGeom prst="rect">
            <a:avLst/>
          </a:prstGeom>
          <a:ln w="38160">
            <a:solidFill>
              <a:srgbClr val="feec94"/>
            </a:solidFill>
            <a:miter/>
          </a:ln>
        </p:spPr>
      </p:pic>
    </p:spTree>
  </p:cSld>
  <p:transition spd="med" advTm="15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73200" y="1852560"/>
            <a:ext cx="804384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должение следует...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5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b5f0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Пора в путь – дорогу…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6040" y="4305240"/>
            <a:ext cx="8229600" cy="2013120"/>
          </a:xfrm>
          <a:prstGeom prst="rect">
            <a:avLst/>
          </a:prstGeom>
          <a:noFill/>
          <a:ln w="9360">
            <a:solidFill>
              <a:srgbClr val="feec9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Один – два раза в месяц, а иногда чаще мы отправляемся всей семьей знакомиться с достопримечательностями области. Это очень доступно, если есть личный автомоби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58880" y="1555920"/>
            <a:ext cx="2754360" cy="2311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78520" y="1568520"/>
            <a:ext cx="3111480" cy="2371680"/>
          </a:xfrm>
          <a:prstGeom prst="rect">
            <a:avLst/>
          </a:prstGeom>
          <a:ln w="28440">
            <a:solidFill>
              <a:srgbClr val="feec94"/>
            </a:solidFill>
            <a:miter/>
          </a:ln>
        </p:spPr>
      </p:pic>
    </p:spTree>
  </p:cSld>
  <p:transition spd="med" advTm="15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Куда ехать?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4271760"/>
            <a:ext cx="8229600" cy="2189160"/>
          </a:xfrm>
          <a:prstGeom prst="rect">
            <a:avLst/>
          </a:prstGeom>
          <a:noFill/>
          <a:ln w="9360">
            <a:solidFill>
              <a:srgbClr val="feec9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Приятно ехать по хорошей дороге. А чтобы не заблудиться – следи за указателями… Хорошо, что на них не текст, как в русских сказках, где «налево пойдешь…», а то путешествие было бы бесконечным и утомитель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30400" y="1600200"/>
            <a:ext cx="2636640" cy="2241720"/>
          </a:xfrm>
          <a:prstGeom prst="rect">
            <a:avLst/>
          </a:prstGeom>
          <a:ln w="9360">
            <a:solidFill>
              <a:srgbClr val="feec94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54640" y="1590840"/>
            <a:ext cx="2725560" cy="2239920"/>
          </a:xfrm>
          <a:prstGeom prst="rect">
            <a:avLst/>
          </a:prstGeom>
          <a:ln w="9360">
            <a:solidFill>
              <a:srgbClr val="feec94"/>
            </a:solidFill>
            <a:miter/>
          </a:ln>
        </p:spPr>
      </p:pic>
    </p:spTree>
  </p:cSld>
  <p:transition spd="med" advTm="15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0720" y="277560"/>
            <a:ext cx="882468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Хотите в сказку, тогда – в Суздаль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227120"/>
            <a:ext cx="8229600" cy="2189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январе 2009 года мы побывали в древнем Суздале. Зимний город великолепен! Церкви, соборы, торговые ряды, кони, множество народа… Красота манит и завораживает… Уезжаем домой, но надеемся вернуться сюда ещ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157560" y="1568520"/>
            <a:ext cx="2768400" cy="2460600"/>
          </a:xfrm>
          <a:prstGeom prst="rect">
            <a:avLst/>
          </a:prstGeom>
          <a:ln w="9360">
            <a:solidFill>
              <a:srgbClr val="feec94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708520" y="1197000"/>
            <a:ext cx="2901960" cy="2425680"/>
          </a:xfrm>
          <a:prstGeom prst="rect">
            <a:avLst/>
          </a:prstGeom>
          <a:ln w="9360">
            <a:solidFill>
              <a:srgbClr val="feec94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04640" y="1190520"/>
            <a:ext cx="2911680" cy="2416320"/>
          </a:xfrm>
          <a:prstGeom prst="rect">
            <a:avLst/>
          </a:prstGeom>
          <a:ln w="9360">
            <a:solidFill>
              <a:srgbClr val="feec94"/>
            </a:solidFill>
            <a:miter/>
          </a:ln>
        </p:spPr>
      </p:pic>
    </p:spTree>
  </p:cSld>
  <p:transition spd="med" advTm="15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50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Monotype Corsiva"/>
              </a:rPr>
              <a:t>Чем  не  море ?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т, это не море. Это всего лишь водохранилище в городе Заволжье Нижегородской области. Мы любовались им, проезжая по дамбе, по пути в г.Советск Кировской области в августе 2009 год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991040" y="1644480"/>
            <a:ext cx="2737080" cy="243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684760" y="3745080"/>
            <a:ext cx="3189240" cy="2638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 advTm="15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Вот это мост!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91760"/>
            <a:ext cx="3808440" cy="4870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октябре 2009 года переезжали Оку (по дороге в Мордовию) уже по новому мосту. Такого сооружения мы еще не видели. Спасибо строителям, теперь можно добраться на родину папы быстрее и в любое время года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583320" y="3263760"/>
            <a:ext cx="2560680" cy="246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92800" y="4186080"/>
            <a:ext cx="2771640" cy="251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479840" y="1577880"/>
            <a:ext cx="2857680" cy="2162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 advTm="15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74960" y="2698920"/>
            <a:ext cx="3740040" cy="342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520" y="155520"/>
            <a:ext cx="87487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Monotype Corsiva"/>
              </a:rPr>
              <a:t>Зачем ехать на юг, если рядом такая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Monotype Corsiva"/>
              </a:rPr>
              <a:t>красота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68240" y="1512720"/>
            <a:ext cx="2592360" cy="2030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070680" y="1512720"/>
            <a:ext cx="2538360" cy="221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81080" y="4240080"/>
            <a:ext cx="3001680" cy="248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6440400" y="4683240"/>
            <a:ext cx="2703600" cy="2174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 advTm="15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57640" y="844560"/>
            <a:ext cx="2593800" cy="200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762280" y="2441520"/>
            <a:ext cx="3540240" cy="22827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0720" y="155160"/>
            <a:ext cx="87930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Хорошо летом в палатке на берегу реки…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381480" y="4629240"/>
            <a:ext cx="2374920" cy="200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431040" y="1068480"/>
            <a:ext cx="2573280" cy="1833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585120" y="2908440"/>
            <a:ext cx="2395440" cy="1866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208560" y="4673520"/>
            <a:ext cx="2638440" cy="2184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141120" y="966960"/>
            <a:ext cx="2560680" cy="1887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160200" y="2843280"/>
            <a:ext cx="2308320" cy="1874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415800" y="4680000"/>
            <a:ext cx="2616480" cy="2178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 advTm="15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сень в усадьбе Танеевых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4840" y="1590840"/>
            <a:ext cx="2879640" cy="2404800"/>
          </a:xfrm>
          <a:prstGeom prst="rect">
            <a:avLst/>
          </a:prstGeom>
          <a:ln w="28440">
            <a:solidFill>
              <a:srgbClr val="feec94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29320" y="1592280"/>
            <a:ext cx="2317680" cy="1941480"/>
          </a:xfrm>
          <a:prstGeom prst="rect">
            <a:avLst/>
          </a:prstGeom>
          <a:ln w="28440">
            <a:solidFill>
              <a:srgbClr val="feec94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744640" y="2389320"/>
            <a:ext cx="3187800" cy="24825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5183280" y="4013280"/>
            <a:ext cx="3541680" cy="2679480"/>
          </a:xfrm>
          <a:prstGeom prst="rect">
            <a:avLst/>
          </a:prstGeom>
          <a:ln w="28440">
            <a:solidFill>
              <a:srgbClr val="feec94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646200" y="4527720"/>
            <a:ext cx="2647800" cy="2008080"/>
          </a:xfrm>
          <a:prstGeom prst="rect">
            <a:avLst/>
          </a:prstGeom>
          <a:ln w="28440">
            <a:solidFill>
              <a:srgbClr val="feec94"/>
            </a:solidFill>
            <a:miter/>
          </a:ln>
        </p:spPr>
      </p:pic>
    </p:spTree>
  </p:cSld>
  <p:transition spd="med" advTm="15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7:07:24Z</dcterms:created>
  <dc:creator>User</dc:creator>
  <dc:description/>
  <dc:language>en-US</dc:language>
  <cp:lastModifiedBy>User</cp:lastModifiedBy>
  <dcterms:modified xsi:type="dcterms:W3CDTF">2009-11-27T22:59:36Z</dcterms:modified>
  <cp:revision>4</cp:revision>
  <dc:subject/>
  <dc:title>Слайд 1</dc:title>
</cp:coreProperties>
</file>