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76C-3938-44EB-A6EA-A69F2902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200-2C03-4EB6-8F14-AFE7CA8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3DC-93AA-4B0F-A15A-6A7B21B7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E99-326B-4ADF-A02C-FE8F0201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D3E5-D836-4B3A-A41B-1E232F1B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6FC0-EBB1-4A13-A2BD-EEE05CC7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9C42-3926-44D2-BD53-B4DF298D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C440-86CC-4963-8866-0CB9B86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1EE0-A52C-425E-87A5-6F881026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AE11-6BD9-4F46-981D-8E1B0B66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5EE-CBD1-44E9-999A-E0FD59D7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00D-D76D-4EC8-AD6D-56E494D9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617-E0E5-4CEA-A9FB-F2010FF4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FC5-F4F1-4D9A-A6DA-85871768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56C-E894-45B9-B9C7-E59FC6B6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48C-97B9-482C-82D4-6A466038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AC81-4BA6-43D9-B3B6-C9902904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254-82F8-4BBF-AEAC-62FF3B9E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2F6-E04D-46C1-908A-7C7E531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690-9416-414A-AE89-4E86A55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558-E0DC-437C-A796-EF8FFC1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99E-EC4A-460B-84FF-C802786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CBC-ED8A-413E-8845-6845F895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3D5-7D6F-4F52-BD05-E58A2A0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4B5-D24F-423E-8973-6726014F6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FFB-A71D-4E22-8C6E-BAA851C3E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79440" y="301680"/>
            <a:ext cx="8105760" cy="17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увлечения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89040" y="2027160"/>
            <a:ext cx="4003920" cy="3022560"/>
          </a:xfrm>
          <a:prstGeom prst="rect">
            <a:avLst/>
          </a:prstGeom>
          <a:ln w="7632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2" name=""/>
          <p:cNvSpPr txBox="1"/>
          <p:nvPr/>
        </p:nvSpPr>
        <p:spPr>
          <a:xfrm>
            <a:off x="739800" y="5413320"/>
            <a:ext cx="77626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тур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 rot="441000">
            <a:off x="8488080" y="623880"/>
            <a:ext cx="4921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7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508720" y="1476360"/>
            <a:ext cx="3200400" cy="25718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8400" y="132840"/>
            <a:ext cx="883764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утешествовать можно в любую погоду. Ремни пристегнул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31960" y="1281240"/>
            <a:ext cx="4511520" cy="295596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65240" y="3211560"/>
            <a:ext cx="3838320" cy="3475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673520" y="3724200"/>
            <a:ext cx="3745080" cy="2938680"/>
          </a:xfrm>
          <a:prstGeom prst="rect">
            <a:avLst/>
          </a:prstGeom>
          <a:ln w="381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73200" y="1852560"/>
            <a:ext cx="804384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должение следует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b5f0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Пора в путь – дорогу…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6040" y="4305240"/>
            <a:ext cx="8229600" cy="201312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Один – два раза в месяц, а иногда чаще мы отправляемся всей семьей знакомиться с достопримечательностями области. Это очень доступно, если есть личный автомоби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58880" y="1555920"/>
            <a:ext cx="2754360" cy="2311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78520" y="1568520"/>
            <a:ext cx="3111480" cy="23716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Куда ехать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4271760"/>
            <a:ext cx="8229600" cy="2189160"/>
          </a:xfrm>
          <a:prstGeom prst="rect">
            <a:avLst/>
          </a:prstGeom>
          <a:noFill/>
          <a:ln w="9360">
            <a:solidFill>
              <a:srgbClr val="feec9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иятно ехать по хорошей дороге. А чтобы не заблудиться – следи за указателями… Хорошо, что на них не текст, как в русских сказках, где «налево пойдешь…», а то путешествие было бы бесконечным и утомитель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30400" y="1600200"/>
            <a:ext cx="2636640" cy="22417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54640" y="1590840"/>
            <a:ext cx="2725560" cy="22399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720" y="277560"/>
            <a:ext cx="88246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Хотите в сказку, тогда – в Суздал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189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январе 2009 года мы побывали в древнем Суздале. Зимний город великолепен! Церкви, соборы, торговые ряды, кони, множество народа… Красота манит и завораживает… Уезжаем домой, но надеемся вернуться сюда ещ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57560" y="1568520"/>
            <a:ext cx="2768400" cy="246060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708520" y="1197000"/>
            <a:ext cx="2901960" cy="242568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04640" y="1190520"/>
            <a:ext cx="2911680" cy="2416320"/>
          </a:xfrm>
          <a:prstGeom prst="rect">
            <a:avLst/>
          </a:prstGeom>
          <a:ln w="936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50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Monotype Corsiva"/>
              </a:rPr>
              <a:t>Чем  не  море ?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т, это не море. Это всего лишь водохранилище в городе Заволжье Нижегородской области. Мы любовались им, проезжая по дамбе, по пути в г.Советск Кировской области в августе 2009 г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91040" y="1644480"/>
            <a:ext cx="2737080" cy="243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84760" y="3745080"/>
            <a:ext cx="3189240" cy="263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Вот это мост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91760"/>
            <a:ext cx="3808440" cy="487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октябре 2009 года переезжали Оку (по дороге в Мордовию) уже по новому мосту. Такого сооружения мы еще не видели. Спасибо строителям, теперь можно добраться на родину папы быстрее и в любое время года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83320" y="3263760"/>
            <a:ext cx="2560680" cy="2460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92800" y="4186080"/>
            <a:ext cx="2771640" cy="25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479840" y="1577880"/>
            <a:ext cx="2857680" cy="2162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74960" y="2698920"/>
            <a:ext cx="3740040" cy="342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520" y="155520"/>
            <a:ext cx="8748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Зачем ехать на юг, если рядом такая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красота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8240" y="1512720"/>
            <a:ext cx="2592360" cy="2030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70680" y="1512720"/>
            <a:ext cx="2538360" cy="2217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81080" y="4240080"/>
            <a:ext cx="3001680" cy="24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6440400" y="4683240"/>
            <a:ext cx="2703600" cy="217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57640" y="844560"/>
            <a:ext cx="259380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62280" y="2441520"/>
            <a:ext cx="3540240" cy="22827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0720" y="155160"/>
            <a:ext cx="87930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Хорошо летом в палатке на берегу реки…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381480" y="4629240"/>
            <a:ext cx="2374920" cy="200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431040" y="1068480"/>
            <a:ext cx="2573280" cy="1833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6585120" y="2908440"/>
            <a:ext cx="2395440" cy="1866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208560" y="4673520"/>
            <a:ext cx="2638440" cy="2184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41120" y="966960"/>
            <a:ext cx="2560680" cy="1887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160200" y="2843280"/>
            <a:ext cx="2308320" cy="1874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15800" y="4680000"/>
            <a:ext cx="2616480" cy="217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сень в усадьбе Танеевых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4840" y="1590840"/>
            <a:ext cx="2879640" cy="240480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29320" y="1592280"/>
            <a:ext cx="2317680" cy="1941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744640" y="2389320"/>
            <a:ext cx="3187800" cy="24825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5183280" y="4013280"/>
            <a:ext cx="3541680" cy="26794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646200" y="4527720"/>
            <a:ext cx="2647800" cy="2008080"/>
          </a:xfrm>
          <a:prstGeom prst="rect">
            <a:avLst/>
          </a:prstGeom>
          <a:ln w="28440">
            <a:solidFill>
              <a:srgbClr val="feec94"/>
            </a:solidFill>
            <a:miter/>
          </a:ln>
        </p:spPr>
      </p:pic>
    </p:spTree>
  </p:cSld>
  <p:transition spd="med"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7:07:24Z</dcterms:created>
  <dc:creator>User</dc:creator>
  <dc:description/>
  <dc:language>en-US</dc:language>
  <cp:lastModifiedBy>User</cp:lastModifiedBy>
  <dcterms:modified xsi:type="dcterms:W3CDTF">2009-11-27T22:59:36Z</dcterms:modified>
  <cp:revision>4</cp:revision>
  <dc:subject/>
  <dc:title>Слайд 1</dc:title>
</cp:coreProperties>
</file>