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B34-DF9A-4F2E-8514-8547A15E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D4B-3614-4C6E-88D7-B114964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D69-313C-4A4A-BD1C-F90146B5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9A1-072D-4A9E-A842-1DCF915C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925-F013-4F5B-8722-A5D39013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5D2-9048-486C-BB0D-28C05171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A89-9982-4060-A05C-56E775A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F43-653F-41C0-97C8-1BE4B12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C89-1579-4D15-A933-2A887717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160-C9A8-41F8-8A9E-B57205A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DAA-3137-4081-9818-C428E56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088-F946-4267-A17D-5B31F50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D055-F791-4EE1-9D0F-125C8B3C4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ndara"/>
              </a:rPr>
              <a:t>Особенности делового этикета в Япон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Три ключевых запрета японской деловой э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692360" y="2128680"/>
            <a:ext cx="69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НЕЛЬЗЯ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приходить на встречу без визитных карточ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692360" y="3643200"/>
            <a:ext cx="691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НЕЛЬЗЯ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приходить без материалов о своей компании и своем предлож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692360" y="5157720"/>
            <a:ext cx="69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НЕЛЬЗЯ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тклоняться от протокола в одежде и внешнем ви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"/>
          <p:cNvPicPr/>
          <p:nvPr/>
        </p:nvPicPr>
        <p:blipFill>
          <a:blip r:embed="rId1"/>
          <a:stretch/>
        </p:blipFill>
        <p:spPr>
          <a:xfrm>
            <a:off x="406440" y="1922400"/>
            <a:ext cx="1285920" cy="1284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2"/>
          <a:stretch/>
        </p:blipFill>
        <p:spPr>
          <a:xfrm>
            <a:off x="414360" y="3435480"/>
            <a:ext cx="1284120" cy="1284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"/>
          <p:cNvPicPr/>
          <p:nvPr/>
        </p:nvPicPr>
        <p:blipFill>
          <a:blip r:embed="rId3"/>
          <a:stretch/>
        </p:blipFill>
        <p:spPr>
          <a:xfrm>
            <a:off x="414360" y="5052960"/>
            <a:ext cx="1284120" cy="1284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1284120" cy="1285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5"/>
          <a:stretch/>
        </p:blipFill>
        <p:spPr>
          <a:xfrm>
            <a:off x="395280" y="3440160"/>
            <a:ext cx="1284120" cy="1284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"/>
          <p:cNvPicPr/>
          <p:nvPr/>
        </p:nvPicPr>
        <p:blipFill>
          <a:blip r:embed="rId6"/>
          <a:stretch/>
        </p:blipFill>
        <p:spPr>
          <a:xfrm>
            <a:off x="406440" y="5084640"/>
            <a:ext cx="128592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200"/>
            <a:ext cx="8229600" cy="10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0000"/>
                </a:solidFill>
                <a:latin typeface="Candara"/>
              </a:rPr>
              <a:t>Форма приветств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50414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Неуместными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 являются похлопывание по плечу и широкие объятия, потому что японская культура не предполагает непосредственного контак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6308640" y="1386000"/>
            <a:ext cx="1576440" cy="1438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024360" cy="2011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468360" y="1425600"/>
            <a:ext cx="5975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Традиционной формой приветствия является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поклон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, причем, чем он ниже, тем большее уважение выказыв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3565440" y="2913120"/>
            <a:ext cx="5508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 сейчас при контакте с иностранными коллегами всё большее распространение получает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общепринятое рукопожатие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Установление деловых связей по телефону - неэффектив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Контакты с большинством японских фирм требуют переводчи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Проведение переговоров японцы рассматривают как обязывающий шаг и не склонны идти на него, не получив о партнере и его предложениях исчерпывающей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В японских фирмах действует весьма сложная процедура принятия решений, что замедляет получение ответа на запрос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Японские предприниматели отличаются пристрастием к личным беседам и отсутствием склонности к обсуждению сколько‑нибудь важных вопросов путем переписки или по телефон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Механизм знакомства через посредни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700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Лицо, выполняющее функции посредника, в общих чертах изложит японской стороне суть ваших предложений, расскажет о том, чем занимается ваше предприят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2989440" y="3213000"/>
            <a:ext cx="2906640" cy="21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Прямоугольник 4"/>
          <p:cNvSpPr/>
          <p:nvPr/>
        </p:nvSpPr>
        <p:spPr>
          <a:xfrm>
            <a:off x="324000" y="486900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роли посредника могут выступать знакомые вам японские бизнесмены, либо аккредитованные в Японии представители организаций вашей стра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Информационный буклет о компании – обязательная составляющая первой деловой встре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атериалы должны включать следующую информацию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рофиль фирм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сновные данные о компан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точное назван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дрес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фамилии главных должностных лиц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ссортимент выпускаемой продукци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сновные вехи развития комп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иография главы фирм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текстовые и графические материалы о продукции, технологиях и услугах, предлагаемых фирм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полнительная информация об отличительных особенностях продукции, по сравнению с продукцией конкур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100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Значимость визитной карточ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2708280"/>
            <a:ext cx="5616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ни играют роль своеобразных "удостоверений личности", в которых помимо имени, фамилии и занимаемой должности указывается самое главное для японца - принадлежность к какой-либо фирме или организации, что в конечном счете определяет его положение в обществ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5673600" y="2565360"/>
            <a:ext cx="3154320" cy="36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Прямоугольник 4"/>
          <p:cNvSpPr/>
          <p:nvPr/>
        </p:nvSpPr>
        <p:spPr>
          <a:xfrm>
            <a:off x="395280" y="981000"/>
            <a:ext cx="8337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Любое знакомство с представителями японского бизнеса начинается с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обязательного обмена визитными карточками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Пунктуальность и точ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7440" y="1125360"/>
            <a:ext cx="85122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очность на переговорах – будь то во времени их начала и окончания, или в выполнении обещаний, взятых на себя обязательств – одна из важнейших черт японского стиля ведения перегов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871800" y="4089240"/>
            <a:ext cx="5291280" cy="2768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307800" y="3933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Договорившись о встрече, японец непременно в срок, вплоть до минуты, появится на мес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Медленный темп переговоров и значимость терп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Переговоры начинаются с обсуждения вопросов, не имеющих никакого отношения к предмету встречи, и лишь через некоторое время японская сторона переходит к официальной теме встречи. Чем серьезнее выдвинутые на повестку дня предложения, тем больше внимания уделяется малозначащим детал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Терпение в Японии считается одной из основных добродетелей, в том числе и в бизнес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3780000" y="4230720"/>
            <a:ext cx="15778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«Да» по-японс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Японское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«хай», 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обычно переводимое как «да», в ходе беседы употребляется довольно часто, но в смысле «так‑так», «да‑да», то есть скорее для подтверждения того, что вас продолжают слуша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Кроме того, частое кивание головой в процессе разговора в Японии скорее означает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"я вас внимательно слушаю"</a:t>
            </a:r>
            <a:r>
              <a:rPr b="1" lang="ru-RU" sz="2700" spc="-1" strike="noStrike">
                <a:solidFill>
                  <a:srgbClr val="a20000"/>
                </a:solidFill>
                <a:latin typeface="Candara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чем "я согласен с вами"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Японцы традиционно стремятся не вступать в открытое противоречие с собеседником и огорчать его, а потому избегают прямых ответов "нет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8080" y="115920"/>
            <a:ext cx="8785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енности принятия реш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7640" y="1196640"/>
            <a:ext cx="878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Решения обычно представляют собой не результат чьей‑то личной инициативы, а </a:t>
            </a:r>
            <a:r>
              <a:rPr b="1" lang="ru-RU" sz="3000" spc="-1" strike="noStrike">
                <a:solidFill>
                  <a:srgbClr val="a20000"/>
                </a:solidFill>
                <a:latin typeface="Candara"/>
              </a:rPr>
              <a:t>итог согласования мнений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 всех заинтересованных лиц – как бы общий знаменатель, найденный на основе взаимных уступо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4691160" y="3429000"/>
            <a:ext cx="3981240" cy="24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Прямоугольник 4"/>
          <p:cNvSpPr/>
          <p:nvPr/>
        </p:nvSpPr>
        <p:spPr>
          <a:xfrm>
            <a:off x="250920" y="3211560"/>
            <a:ext cx="424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ри этом по нормам японской деловой этики главной добродетелью обладает не тот, кто твердо стоит на своем (пусть даже будучи правым), а тот, кто проявляет готовность к компромиссу ради общего согла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Автоматическая вежлив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91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Японцы вежливы всегда, даже если они не подразумевают быть вежливыми. Это обосновано особенностями языка, а также традициями культур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Неофициальные встре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понцы уделяют много внимания развитию личных отношений с партнерами. Во время неофициальных встреч они стремятся по возможности подробнее обсудить пробл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огда вас угощают спиртным, следует поднять свой бокал, а затем тут же перехватить у японца бутылку и наполнить его бока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ельзя </a:t>
            </a: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демонстративно отказываться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от предлагаемой пищи. Отказ может быть основан только на медицинских противопоказ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Паузы и молч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Не стоит пытаться заполнить возникшие паузы самостоятельн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Для японцев такая ситуация нормальна, обычно после взаимного молчания беседа становится более плодотворн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Также не рекомендуется открыто проявлять свои чувства. Терпение и стремление к установлению взаимопонимания даст гораздо лучшие результаты, нежели конфронтационный стил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Помнить о партнере и напоминать ему о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777080" cy="6610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20959800">
            <a:off x="1814040" y="1798560"/>
            <a:ext cx="53388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В число хороших поводов для поддержания и возобновления контактов входя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направление партнеру короткого благодарственного письма после проведения переговор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отправка новых информационных или рекламных брошюр, печатных материалов вашей компани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сылка вырезок из газет с заметками, касающимися предмета ваших взаимных интерес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здравления с праздни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Пода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227628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Получивший подарок, по японским этическим воззрениям, обязан ответить тем же; поэтому слишком дорогой подарок может поставить японца в затруднительное полож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Не рекомендуется распаковывать и рассматривать полученный подарок в присутствии дар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5535720" y="0"/>
            <a:ext cx="36208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Посещение рестора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Посещение ресторана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не означает 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празднование прогресса в переговорах или подписания контракта. Ресторан - это место, где деловые контакты продолжаются в дружеской атмосфере, но зачастую в не менее интенсивном темп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Если японский партнер приглашает вас в ресторан, это важный сигнал того, что ваше предложение интересно, и японцы готовы к продолжению сотрудничества с вами. Соответственно, приглашение на ужин следует расценивать как знак большего доверия, чем просто на ланч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енности японской кух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36880" y="1341360"/>
            <a:ext cx="706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Палочки.</a:t>
            </a: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Японцу будет очень приятно, если партнер умеет есть палочками, но они также с пониманием отнесутся к тому, что вы не умеете их использова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Еда.</a:t>
            </a: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ырая рыба, полуживые улитки и некоторые специфические блюда воспринимаются далеко не всеми иностранцами. Однако это очень дорогие кушанья и не попробовать их означает обидеть хозяе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Спиртные напитки.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Как правило, сначала пьют пиво, потом сакэ, затем виски. Японцы и пьют немало, и быстро пьянеют. Но нормой поведения это не является - если партнер возьмет лишнего, это будет замечено и учтено при дальнейшем ведении де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1942920" cy="1290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2"/>
          <a:stretch/>
        </p:blipFill>
        <p:spPr>
          <a:xfrm rot="20970000">
            <a:off x="367920" y="2852280"/>
            <a:ext cx="1628640" cy="1630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3"/>
          <a:stretch/>
        </p:blipFill>
        <p:spPr>
          <a:xfrm>
            <a:off x="573120" y="4795920"/>
            <a:ext cx="1219320" cy="1744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"/>
          <p:cNvPicPr/>
          <p:nvPr/>
        </p:nvPicPr>
        <p:blipFill>
          <a:blip r:embed="rId4"/>
          <a:srcRect l="0" t="0" r="67002" b="0"/>
          <a:stretch/>
        </p:blipFill>
        <p:spPr>
          <a:xfrm>
            <a:off x="368280" y="4927680"/>
            <a:ext cx="622440" cy="1481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"/>
          <p:cNvPicPr/>
          <p:nvPr/>
        </p:nvPicPr>
        <p:blipFill>
          <a:blip r:embed="rId5"/>
          <a:srcRect l="23380" t="0" r="23622" b="0"/>
          <a:stretch/>
        </p:blipFill>
        <p:spPr>
          <a:xfrm>
            <a:off x="1407960" y="4627440"/>
            <a:ext cx="628920" cy="16956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ая соединительная линия 10"/>
          <p:cNvSpPr/>
          <p:nvPr/>
        </p:nvSpPr>
        <p:spPr>
          <a:xfrm>
            <a:off x="2050920" y="1413000"/>
            <a:ext cx="0" cy="5127480"/>
          </a:xfrm>
          <a:prstGeom prst="line">
            <a:avLst/>
          </a:prstGeom>
          <a:ln w="5724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День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Деньги можно использовать, но нельзя показыва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Учитывая то, что чеки и кредитные карты в Японии все еще не слишком популярны, во  большинстве случаев приходится расплачиваться наличными. При этом важно сделать это незамет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Долги в Японии принято отдавать лично в руки, желательно в конверте. Мятые и порванные купюры передавать нельзя, сначала стоит сходить в банк и поменять купюры на новы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32000" y="2060640"/>
            <a:ext cx="5554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Если деньги выступают в качестве подарка, его нужно дарить тайком – это достойнее, чем показывать свою щедр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-25560" y="1557360"/>
            <a:ext cx="3535560" cy="530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День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51280" y="1557360"/>
            <a:ext cx="4897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«сумимасэн</a:t>
            </a: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»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- японский вариант слова «простите», является одним из самых употребляемых слов в язы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7920" y="1413000"/>
            <a:ext cx="4083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ая почтительность по отношению к клиен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2920" y="342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осетителя никогда не станут подгонять, торопить. Даже если вы зашли перед самым закрытием заведения, хозяин любезно предложит вам выбирать покупку столько времени, сколько вам потребуется, и сколько бы вы ни бродили среди полок, вам будут учтиво кланяться и просить прийти сно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1628640"/>
            <a:ext cx="85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дно и тоже слово в японском языке обозначает и </a:t>
            </a: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«клиента»,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«гостя».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объясняется особым почтением и уважением, которое японцы выказывают своим посетител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06360" y="5373720"/>
            <a:ext cx="84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онтроль качества в Японии невероятно тщателен и направлен на полное удовлетворение потребностей кли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Особый подход к пониманию конкурен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365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ля японца конкуренция заключается вовсе не в том, чтобы зарабатывать больше, а чтобы </a:t>
            </a: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служить лучше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498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енности японского делов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Неизменная уклончив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Менеджеры не отдают приказов, не формулируют задачи, а лишь делают намек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одчеркнутая вежлив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Строгая нормативность ответов подчиненных на замечания менеджеров (указание — усвоение — подчинение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Отсутствие в разговоре конструкций косвенной речи (все личные разговоры конфиденциальны и их содержание невежливо передавать третьим лицам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640" y="115560"/>
            <a:ext cx="8435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Идея «групповой солидарно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191040" cy="371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"/>
          <p:cNvSpPr txBox="1"/>
          <p:nvPr/>
        </p:nvSpPr>
        <p:spPr>
          <a:xfrm>
            <a:off x="539640" y="1125000"/>
            <a:ext cx="460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ля японцев характерно подавление своих индивидуальных порывов, сдерживание амбиций, свои сильные качества они стараются не выставлять на показ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Узы взаимной зависимости в Японии – основа человеческих взаимоотноше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ервое впечатление о человеке японцы формируют на основе его принадлежности к той или иной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24000" y="5229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20000"/>
                </a:solidFill>
                <a:latin typeface="Candara"/>
              </a:rPr>
              <a:t>«Найди группу, к которой бы ты принадлежал, будь верен ей и полагайся на нее. В одиночку же ты не найдешь своего места в жизни, затеряешься в ее хитросплетениях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20000"/>
                </a:solidFill>
                <a:latin typeface="Candara"/>
              </a:rPr>
              <a:t>Японская народная мудр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19:15Z</dcterms:created>
  <dc:creator>Amnesia</dc:creator>
  <dc:description/>
  <dc:language>en-US</dc:language>
  <cp:lastModifiedBy>Amnesia</cp:lastModifiedBy>
  <dcterms:modified xsi:type="dcterms:W3CDTF">2011-12-06T13:13:10Z</dcterms:modified>
  <cp:revision>24</cp:revision>
  <dc:subject/>
  <dc:title>Презентация PowerPoint</dc:title>
</cp:coreProperties>
</file>