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9767-F1F6-4F17-A448-44CF0D569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5845-79E2-4F12-BB0B-21C588045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F6F4C-DD39-430B-9DEF-D35044B7D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DCF0-598D-4476-AAE4-0829F8BAE2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7DED-5EFD-4637-8226-FABB329D03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21D3-1419-4360-8575-2641B60AB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A767-2CE8-4AC5-A687-DA5CF3D8F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F309-3733-4549-B439-B56AAF538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BAFC-4DCC-48F7-BAFE-43CACEAEC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0721-FCFB-4CCE-BE45-B969856B5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D141-D03D-4C4E-B806-B2920647F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EB97-9195-4204-8EFE-46FBB99D3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B3D88-0247-4549-9D86-A2DCF80225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00000" y="473040"/>
            <a:ext cx="7559640" cy="51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ОУ  СОШ 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г. Калининг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Восточно-Прусская операция 1945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РЕЗЕНТАЦИЯ К УР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алининград 2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г.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324000" y="260280"/>
            <a:ext cx="8207280" cy="6046920"/>
            <a:chOff x="324000" y="260280"/>
            <a:chExt cx="8207280" cy="604692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rcRect l="5551" t="-11" r="0" b="49757"/>
            <a:stretch/>
          </p:blipFill>
          <p:spPr>
            <a:xfrm>
              <a:off x="324000" y="260280"/>
              <a:ext cx="8207280" cy="60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24000" y="260280"/>
              <a:ext cx="8207280" cy="60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924360" y="4076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27640" y="4221000"/>
            <a:ext cx="324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вый этап 13.01.1945 – 30.01.1945. Захват значительной части Восточной- Пруссии, расчленение войск противника на три группиров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95640" y="479736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торой этап      10.02.-29.03.1945 г. уничтожение хейльсбергской  группир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40000" y="42210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етий этап  6.04.-9.04.1945 г. штурм Кёнигсбе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00" y="3789360"/>
            <a:ext cx="26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етвёртый этап    13.04 -25.04.1945 г. уничтожение земландской группир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46404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1268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3.01.1945 – 30.01.19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2060640"/>
            <a:ext cx="6985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й белорусский фронт средний темп продвижения 9 км. в су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й белорусский фронт средний темп продвижения  12 км. в су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378936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3716280"/>
            <a:ext cx="7561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Большая часть территории Восточной Пруссии очищена от     немецких вой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точно - Прусская группировка расчленена на три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мецкие войска потеряли : 52 000 солдат и офицеров, 4 300 орудий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47640" y="551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69 та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7200" y="42876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Как можно оценить скорость продвижения советских войск по территории Восточной Прусс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8640720" cy="5821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20720" y="6300720"/>
            <a:ext cx="75596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и на территории Восточной _Пру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2041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981000"/>
            <a:ext cx="822960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Восточно-Прусская операция по расходу боеприпасов вообще не имела себе равных среди всех операций в истории войн. Два фронта получил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3.3 млн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снарядов и мин.»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.М. Василевский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3429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ая из операций Первой мировой войны была одной из наиболее затратной по количеству израсходованных боеприпас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4292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 три с половиной месяца французы израсходовали 14.5 млн. снаря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5373720"/>
            <a:ext cx="8425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о время артиллерийской подготовки войска 1-го и 2-го Белорусских фронтов израсходовали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50%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общего количества боеприпасов имевшихся к началу оп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68360" y="35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торо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765000"/>
            <a:ext cx="8229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0.02.-29.03.1945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508640"/>
            <a:ext cx="763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Уничтожение Хейльсбергской группир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мецкие войска потеряли 280 000 солдат и офицеров,  5 600 оруд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19280" y="292428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32000" y="5661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0 тан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1341360"/>
            <a:ext cx="6696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Укреплённый район насчитывал окол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ронительных соору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есуточный темп продвиж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– 2 к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ап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02-21.02. 1945 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–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.02-12.03.194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тий –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03-29.03. 194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2660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етий Эт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981000"/>
            <a:ext cx="8229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– 9  04.194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1844640"/>
            <a:ext cx="770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18446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ообщения, доклады, презентации учащихся на тему «Оборонительные сооружения Кёнигсбер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2637000"/>
            <a:ext cx="64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0360" y="2519280"/>
            <a:ext cx="6912000" cy="28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которые  из причин успеха Советкой Армии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тика штурмовых групп, имеющих в своём составе артиллерийские оруд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авляющие превосходство в воздухе. Всего совершено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9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амолёто – вылетов, и из них 8 апрел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7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В первый день операции « Оверлод» авиация союзников совершила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4 627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самолёто - выл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-1666800" y="-1523880"/>
            <a:ext cx="12477600" cy="990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88192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95280" y="44964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вастополь и Кёнигсбер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06440" y="1327320"/>
            <a:ext cx="8206920" cy="5300280"/>
            <a:chOff x="406440" y="1327320"/>
            <a:chExt cx="8206920" cy="5300280"/>
          </a:xfrm>
        </p:grpSpPr>
        <p:sp>
          <p:nvSpPr>
            <p:cNvPr id="201" name=""/>
            <p:cNvSpPr/>
            <p:nvPr/>
          </p:nvSpPr>
          <p:spPr>
            <a:xfrm>
              <a:off x="406440" y="1327320"/>
              <a:ext cx="251856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25000" y="1327320"/>
              <a:ext cx="266328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евастоп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88280" y="1327320"/>
              <a:ext cx="302328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ёнигсбер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6440" y="1844280"/>
              <a:ext cx="25185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лительность артиллерийской подготов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25000" y="1844280"/>
              <a:ext cx="26632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5 дне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88280" y="1844280"/>
              <a:ext cx="30232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 дн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6440" y="2667960"/>
              <a:ext cx="25185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лотность оруди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25000" y="2667960"/>
              <a:ext cx="2663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4 -110 на км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88280" y="2667960"/>
              <a:ext cx="3023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50-205 на км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6440" y="3243960"/>
              <a:ext cx="1079280" cy="24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оотношение си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85720" y="3243960"/>
              <a:ext cx="14392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Живая си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25000" y="3243960"/>
              <a:ext cx="14299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06000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54920" y="3243960"/>
              <a:ext cx="1233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167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8280" y="3243960"/>
              <a:ext cx="12250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4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13720" y="3243960"/>
              <a:ext cx="17978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130 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85720" y="3884040"/>
              <a:ext cx="143928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рудия и миномё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25000" y="3884040"/>
              <a:ext cx="142992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6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54920" y="3884040"/>
              <a:ext cx="123336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20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88280" y="3884040"/>
              <a:ext cx="122508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13720" y="3884040"/>
              <a:ext cx="179784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4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85720" y="4523400"/>
              <a:ext cx="143928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анки 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А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25000" y="4523400"/>
              <a:ext cx="142992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54920" y="4523400"/>
              <a:ext cx="123336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45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88280" y="4523400"/>
              <a:ext cx="122508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13720" y="4523400"/>
              <a:ext cx="179784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10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85720" y="5218560"/>
              <a:ext cx="1439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амолё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25000" y="5218560"/>
              <a:ext cx="1429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54920" y="5218560"/>
              <a:ext cx="12333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6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88280" y="5218560"/>
              <a:ext cx="12250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13720" y="5218560"/>
              <a:ext cx="179784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1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6440" y="5731200"/>
              <a:ext cx="2518560" cy="89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лительность штур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25000" y="5731200"/>
              <a:ext cx="2663280" cy="89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20 д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88280" y="5731200"/>
              <a:ext cx="3023280" cy="89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 д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85720" y="3243960"/>
              <a:ext cx="1080" cy="248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25000" y="1327320"/>
              <a:ext cx="1440" cy="529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54920" y="3243960"/>
              <a:ext cx="1440" cy="248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88280" y="1327320"/>
              <a:ext cx="1080" cy="529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13720" y="3243960"/>
              <a:ext cx="1080" cy="248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6440" y="1844280"/>
              <a:ext cx="820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6440" y="2667960"/>
              <a:ext cx="8205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6440" y="3243960"/>
              <a:ext cx="820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85720" y="3884040"/>
              <a:ext cx="7125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85720" y="4523400"/>
              <a:ext cx="7125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85720" y="5218560"/>
              <a:ext cx="712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6440" y="5731200"/>
              <a:ext cx="8205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6440" y="1327320"/>
              <a:ext cx="1080" cy="52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11920" y="1327320"/>
              <a:ext cx="1440" cy="52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6440" y="1327320"/>
              <a:ext cx="82054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6440" y="6626520"/>
              <a:ext cx="82054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941720" y="44942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3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46404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твёрт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1600200"/>
            <a:ext cx="83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етвёртый этап    13.04 -25.04.1945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403280" y="2421000"/>
            <a:ext cx="6840360" cy="2963520"/>
            <a:chOff x="1403280" y="2421000"/>
            <a:chExt cx="6840360" cy="2963520"/>
          </a:xfrm>
        </p:grpSpPr>
        <p:sp>
          <p:nvSpPr>
            <p:cNvPr id="254" name=""/>
            <p:cNvSpPr/>
            <p:nvPr/>
          </p:nvSpPr>
          <p:spPr>
            <a:xfrm>
              <a:off x="1403280" y="2421000"/>
              <a:ext cx="379296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илы и средства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96240" y="2421000"/>
              <a:ext cx="148104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ССС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77280" y="2421000"/>
              <a:ext cx="15649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Герм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3161880"/>
              <a:ext cx="379296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Личный состав ( тыс.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96240" y="3161880"/>
              <a:ext cx="148104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77280" y="3161880"/>
              <a:ext cx="156492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03280" y="3901320"/>
              <a:ext cx="3792960" cy="7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рудия и миномё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96240" y="3901320"/>
              <a:ext cx="1481040" cy="7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5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77280" y="3901320"/>
              <a:ext cx="1564920" cy="7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03280" y="4644000"/>
              <a:ext cx="379296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анки и СА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96240" y="4644000"/>
              <a:ext cx="148104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3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77280" y="4644000"/>
              <a:ext cx="156492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96240" y="2421000"/>
              <a:ext cx="1440" cy="29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77280" y="2421000"/>
              <a:ext cx="1080" cy="29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03280" y="3161880"/>
              <a:ext cx="6839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03280" y="3901320"/>
              <a:ext cx="6839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44000"/>
              <a:ext cx="6839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03280" y="2421000"/>
              <a:ext cx="1440" cy="296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42560" y="2421000"/>
              <a:ext cx="1080" cy="296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03280" y="2421000"/>
              <a:ext cx="68392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03280" y="5383440"/>
              <a:ext cx="68392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020000" y="4653000"/>
            <a:ext cx="1079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79640" y="5580000"/>
            <a:ext cx="720072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 мая 1945 года 22 000 солдат и офицеров вермахта закрепившиеся на косе Фрише-Нерунг капитулирова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21492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осточно-Прусская опер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9640" y="360360"/>
            <a:ext cx="8101080" cy="25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тоги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Уничтожение Восточно-Пруской группировки значительно ослабило силы вермах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Потеря Восточной Пруссии значительно ухудшила  оперативно - стратегическое положение вермахта на Советско-германском фро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6040" y="1239840"/>
            <a:ext cx="666540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Каким способом можно определите общие поте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германской арм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ии в ходе опер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4080" y="3308400"/>
            <a:ext cx="735120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В чем заключало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ухудшение оперативно-стратегшического положения?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80000" y="251928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00360" y="12603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00040" y="16272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Потери Советской Армии в период Восточно-Прусской операц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4240" y="2500200"/>
            <a:ext cx="8229600" cy="26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Безвозвратные   -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26 464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анитарные -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58 3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сего  -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84 7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редесуточные -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677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60360" y="360360"/>
            <a:ext cx="8640720" cy="97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исок 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АлленУ.Э.Д., МуратовП.П. Русские компании германского  вермахта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41 -1945., М. 200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Баграмян И.Х. Так шли мы к победе.- М., 19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Василевский А.М. Дело всей жизни. М., 1988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Всероссийская Книга памяти, 1941-1945: Обзорный том.- М.,199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Курт фон Типельскирх История Второй Мировой войны.- СПб., 19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Очерки истории Восточной Пруссии.- Калининград, 2004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История Второй мировой войны 1939-1945 г. М., 1986. Т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Штурм Кёнигсберга. - Калининград,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Шефоф Н.А. Битвы России.-М.,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тернет ресу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/weltrig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46404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7240" y="1801800"/>
            <a:ext cx="777240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ые бои на территории Восточной Прусс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ая обстановка на Восточном фронте к январю 194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отношение сил и планы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а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ческие персонал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тог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595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ые бои на территории Восточной Пру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 октября 1944 года перешёл в наступление 3-й Белорусский фронт. Цель – разгромить тильзитско-инстенбургскую группиров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314172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овладеть районом Кёнигсбер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3789360"/>
            <a:ext cx="7561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ежду Неманом и Августовым русские бросили в наступление  пять армий, имевших в общей сложности  около 40 дивизий и большое количество танковых соединений . Они оставили на поле боя около 1000 уничтоженных танков и свыше и 300 оруд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. Типпельски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indefinite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909800" y="620640"/>
            <a:ext cx="5110200" cy="6235920"/>
            <a:chOff x="1909800" y="620640"/>
            <a:chExt cx="5110200" cy="6235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909800" y="620640"/>
              <a:ext cx="5110200" cy="623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909800" y="620640"/>
              <a:ext cx="5110200" cy="62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900000" y="119880"/>
            <a:ext cx="75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ожение и силы сторон к январю 1945 г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93080" y="1052640"/>
            <a:ext cx="15858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С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,7 млн.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,1 тыс. та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7,3 тыс. орудий и миномё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,7 тыс. самолётов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1268280"/>
            <a:ext cx="17305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7 млн.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1 тыс. та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6,2 тыс. оруд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,1 тыс. самолё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и и планы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2749680"/>
          <a:ext cx="4038480" cy="22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9680"/>
                    <a:ext cx="403848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3"/>
          <a:srcRect l="53" t="0" r="0" b="12857"/>
          <a:stretch/>
        </p:blipFill>
        <p:spPr>
          <a:xfrm>
            <a:off x="539640" y="1052640"/>
            <a:ext cx="4103640" cy="5101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1125360"/>
            <a:ext cx="40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114444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1125360"/>
            <a:ext cx="395928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Восточная Пруссия крупный военно-промышленный район, основная продовольственная база Германии. Восточная Пруссия  место базирования ВМФ, связующее звено с Курляндской группировкой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Германское команд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Остановить продвижение советских войск, сковать их на длительн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При успешном решении оборонительной задачи нанеси удар во фланг и тыл центральной группе советских войск действовавших на берлинском направл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1268280"/>
            <a:ext cx="403200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осточно-Прусская группировка не позволяла использовать армии 2-го Белорусского фронта на Берлинском направлении, угрожала флангам наступающих  советских вой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-Отсечь Восточно-Прусскую группировку от Герм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рижать немецкие войска к морю, расчленить их, уничтожить по частям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12636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ли и планы стор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8534" t="-11" r="0" b="31190"/>
          <a:stretch/>
        </p:blipFill>
        <p:spPr>
          <a:xfrm>
            <a:off x="755640" y="692280"/>
            <a:ext cx="5184720" cy="5832360"/>
          </a:xfrm>
          <a:prstGeom prst="rect">
            <a:avLst/>
          </a:prstGeom>
          <a:ln w="0">
            <a:noFill/>
          </a:ln>
        </p:spPr>
      </p:pic>
      <p:cxnSp>
        <p:nvCxnSpPr>
          <p:cNvPr id="70" name=""/>
          <p:cNvCxnSpPr/>
          <p:nvPr/>
        </p:nvCxnSpPr>
        <p:spPr>
          <a:xfrm>
            <a:off x="3347640" y="6524640"/>
            <a:ext cx="2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 rot="18180000">
            <a:off x="2827080" y="5824080"/>
            <a:ext cx="236520" cy="636480"/>
          </a:xfrm>
          <a:prstGeom prst="upArrow">
            <a:avLst>
              <a:gd name="adj1" fmla="val 50000"/>
              <a:gd name="adj2" fmla="val 6727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0040000">
            <a:off x="3135240" y="5477040"/>
            <a:ext cx="255600" cy="927000"/>
          </a:xfrm>
          <a:prstGeom prst="upArrow">
            <a:avLst>
              <a:gd name="adj1" fmla="val 50000"/>
              <a:gd name="adj2" fmla="val 90669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700000">
            <a:off x="3385800" y="5148000"/>
            <a:ext cx="244440" cy="1147680"/>
          </a:xfrm>
          <a:prstGeom prst="upArrow">
            <a:avLst>
              <a:gd name="adj1" fmla="val 50000"/>
              <a:gd name="adj2" fmla="val 117378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67280" y="3500280"/>
            <a:ext cx="1439640" cy="216000"/>
          </a:xfrm>
          <a:prstGeom prst="leftArrow">
            <a:avLst>
              <a:gd name="adj1" fmla="val 50000"/>
              <a:gd name="adj2" fmla="val 16662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420000">
            <a:off x="4070160" y="4074840"/>
            <a:ext cx="1441440" cy="215640"/>
          </a:xfrm>
          <a:prstGeom prst="leftArrow">
            <a:avLst>
              <a:gd name="adj1" fmla="val 50000"/>
              <a:gd name="adj2" fmla="val 167112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48360" y="371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-я армия. Генерал от кавалерии  П.К. Ренненкамп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551664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-я армия. Генерал от кавалерии А.В. Самс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9640" y="4834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отношение сил к началу Восточно-Прусской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11280" y="1844640"/>
            <a:ext cx="7848000" cy="1828440"/>
            <a:chOff x="611280" y="1844640"/>
            <a:chExt cx="7848000" cy="1828440"/>
          </a:xfrm>
        </p:grpSpPr>
        <p:sp>
          <p:nvSpPr>
            <p:cNvPr id="80" name=""/>
            <p:cNvSpPr/>
            <p:nvPr/>
          </p:nvSpPr>
          <p:spPr>
            <a:xfrm>
              <a:off x="611280" y="1844640"/>
              <a:ext cx="3312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илы и средства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23280" y="1844640"/>
              <a:ext cx="1294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СС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18560" y="1844640"/>
              <a:ext cx="1368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ерм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86560" y="1844640"/>
              <a:ext cx="1870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оотнош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1280" y="2209320"/>
              <a:ext cx="331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Личный состав ( тыс.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23280" y="2209320"/>
              <a:ext cx="129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66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18560" y="2209320"/>
              <a:ext cx="1368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86560" y="2209320"/>
              <a:ext cx="1870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,1 :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11280" y="2575800"/>
              <a:ext cx="3312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рудия и миномё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23280" y="2575800"/>
              <a:ext cx="1294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5 42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18560" y="2575800"/>
              <a:ext cx="1368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86560" y="2575800"/>
              <a:ext cx="1870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,1 :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1280" y="2940480"/>
              <a:ext cx="331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анки и СА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23280" y="2940480"/>
              <a:ext cx="129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 85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18560" y="2940480"/>
              <a:ext cx="1368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86560" y="2940480"/>
              <a:ext cx="1870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,5 : 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1280" y="3306960"/>
              <a:ext cx="3312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Боевые самолё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23280" y="3306960"/>
              <a:ext cx="1294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9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18560" y="3306960"/>
              <a:ext cx="1368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86560" y="3306960"/>
              <a:ext cx="1870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23280" y="1844640"/>
              <a:ext cx="1080" cy="18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18560" y="1844640"/>
              <a:ext cx="1440" cy="18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86560" y="1844640"/>
              <a:ext cx="1440" cy="18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1280" y="2209320"/>
              <a:ext cx="7846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1280" y="2575800"/>
              <a:ext cx="7846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1280" y="2940480"/>
              <a:ext cx="7846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1280" y="3306960"/>
              <a:ext cx="7846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1280" y="1844640"/>
              <a:ext cx="1080" cy="182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57840" y="1844640"/>
              <a:ext cx="1440" cy="182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1280" y="1844640"/>
              <a:ext cx="7846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1280" y="3671640"/>
              <a:ext cx="7846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11280" y="3860640"/>
            <a:ext cx="7848000" cy="1798560"/>
            <a:chOff x="611280" y="3860640"/>
            <a:chExt cx="7848000" cy="1798560"/>
          </a:xfrm>
        </p:grpSpPr>
        <p:sp>
          <p:nvSpPr>
            <p:cNvPr id="112" name=""/>
            <p:cNvSpPr/>
            <p:nvPr/>
          </p:nvSpPr>
          <p:spPr>
            <a:xfrm>
              <a:off x="611280" y="3860640"/>
              <a:ext cx="78465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ерлинская операция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1280" y="4195440"/>
              <a:ext cx="331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Личный состав ( тыс.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23280" y="4195440"/>
              <a:ext cx="1294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 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18560" y="4195440"/>
              <a:ext cx="1368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 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86560" y="4195440"/>
              <a:ext cx="1870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,5 :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1280" y="4561920"/>
              <a:ext cx="3312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рудия и миномё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23280" y="4561920"/>
              <a:ext cx="1294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1 6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18560" y="4561920"/>
              <a:ext cx="1368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 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86560" y="4561920"/>
              <a:ext cx="1870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,0 :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1280" y="4926600"/>
              <a:ext cx="3312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анки и СА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23280" y="4926600"/>
              <a:ext cx="1294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 2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18560" y="4926600"/>
              <a:ext cx="1368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 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586560" y="4926600"/>
              <a:ext cx="1870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,1 :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1280" y="5291280"/>
              <a:ext cx="331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Боевые самолё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23280" y="5291280"/>
              <a:ext cx="1294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 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18560" y="5291280"/>
              <a:ext cx="1368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 3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86560" y="5291280"/>
              <a:ext cx="1870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,3 :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23280" y="4195440"/>
              <a:ext cx="1080" cy="36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23280" y="4561920"/>
              <a:ext cx="1080" cy="72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23280" y="5291280"/>
              <a:ext cx="1080" cy="36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18560" y="4195440"/>
              <a:ext cx="1440" cy="146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86560" y="4195440"/>
              <a:ext cx="1440" cy="146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1280" y="4195440"/>
              <a:ext cx="7846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1280" y="4561920"/>
              <a:ext cx="7846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1280" y="4926600"/>
              <a:ext cx="7846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1280" y="5291280"/>
              <a:ext cx="7846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1280" y="3860640"/>
              <a:ext cx="1080" cy="179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57840" y="3860640"/>
              <a:ext cx="1440" cy="179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1280" y="3860640"/>
              <a:ext cx="7846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1280" y="5658120"/>
              <a:ext cx="7846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39640" y="57340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59500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анализировать приведённые  данные , определить соотношение с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88000" y="3284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,0 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611280" y="620640"/>
            <a:ext cx="4535280" cy="5759640"/>
            <a:chOff x="611280" y="620640"/>
            <a:chExt cx="4535280" cy="575964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rcRect l="56" t="-11" r="0" b="12856"/>
            <a:stretch/>
          </p:blipFill>
          <p:spPr>
            <a:xfrm>
              <a:off x="611280" y="620640"/>
              <a:ext cx="4535280" cy="57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11280" y="620640"/>
              <a:ext cx="4535280" cy="57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040360" y="185724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нерал армии И.Х .Баграм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67280" y="42148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нерал Армии И.Д. Чернях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71920" y="578628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аршал Советского Сою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.К. Рокосов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7030a0"/>
                </a:solidFill>
                <a:latin typeface="Arial"/>
              </a:rPr>
              <a:t>Доклады и сообщения о полководцах - участниках Восточно-Прусской 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143840" y="2143080"/>
            <a:ext cx="1357200" cy="2071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929280" y="214200"/>
            <a:ext cx="1484640" cy="1638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7072200" y="464328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..</cp:lastModifiedBy>
  <dcterms:modified xsi:type="dcterms:W3CDTF">2008-01-13T05:57:03Z</dcterms:modified>
  <cp:revision>1</cp:revision>
  <dc:subject/>
  <dc:title>Слайд 1</dc:title>
</cp:coreProperties>
</file>