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6.jpeg" ContentType="image/jpeg"/>
  <Override PartName="/ppt/media/image55.jpeg" ContentType="image/jpeg"/>
  <Override PartName="/ppt/media/image52.jpeg" ContentType="image/jpeg"/>
  <Override PartName="/ppt/media/image50.jpeg" ContentType="image/jpeg"/>
  <Override PartName="/ppt/media/image49.jpeg" ContentType="image/jpeg"/>
  <Override PartName="/ppt/media/image48.gif" ContentType="image/gif"/>
  <Override PartName="/ppt/media/image53.jpeg" ContentType="image/jpeg"/>
  <Override PartName="/ppt/media/image20.gif" ContentType="image/gif"/>
  <Override PartName="/ppt/media/image47.gif" ContentType="image/gif"/>
  <Override PartName="/ppt/media/image46.jpeg" ContentType="image/jpeg"/>
  <Override PartName="/ppt/media/image25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66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21.jpeg" ContentType="image/jpeg"/>
  <Override PartName="/ppt/media/image23.jpeg" ContentType="image/jpeg"/>
  <Override PartName="/ppt/media/image59.wmf" ContentType="image/x-wmf"/>
  <Override PartName="/ppt/media/image26.gif" ContentType="image/gif"/>
  <Override PartName="/ppt/media/image32.jpeg" ContentType="image/jpeg"/>
  <Override PartName="/ppt/media/image70.jpeg" ContentType="image/jpeg"/>
  <Override PartName="/ppt/media/image43.jpeg" ContentType="image/jpeg"/>
  <Override PartName="/ppt/media/image68.jpeg" ContentType="image/jpeg"/>
  <Override PartName="/ppt/media/image69.jpeg" ContentType="image/jpeg"/>
  <Override PartName="/ppt/media/image29.gif" ContentType="image/gif"/>
  <Override PartName="/ppt/media/image1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63.gif" ContentType="image/gif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1.jpeg" ContentType="image/jpeg"/>
  <Override PartName="/ppt/media/image4.jpeg" ContentType="image/jpeg"/>
  <Override PartName="/ppt/media/image27.png" ContentType="image/png"/>
  <Override PartName="/ppt/media/image33.jpeg" ContentType="image/jpeg"/>
  <Override PartName="/ppt/media/image18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67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54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6.jpeg" ContentType="image/jpeg"/>
  <Override PartName="/ppt/media/image57.png" ContentType="image/png"/>
  <Override PartName="/ppt/media/image37.png" ContentType="image/png"/>
  <Override PartName="/ppt/media/image42.jpeg" ContentType="image/jpeg"/>
  <Override PartName="/ppt/media/image60.wmf" ContentType="image/x-wmf"/>
  <Override PartName="/ppt/media/image44.jpeg" ContentType="image/jpeg"/>
  <Override PartName="/ppt/media/image4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2A0-36DD-42D0-9FAA-F5BBF07A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041-0383-43A2-83FA-4F5B1C4D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B8B-80E2-4579-B38C-4BC55699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82F-E39B-40BA-B6E9-13F53BEE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8B4-2C85-49DF-99FF-17D724BE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6EA-DAA5-4CD6-BBA1-5D86D2A2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7BC-9D3F-4B8D-B1A7-CCE4C2B5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FC0-2944-41B7-965D-B3848551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60A-7BBB-4452-BE6F-F759FE8C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50E-6004-4CAC-92B1-E4AD2D73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64F-8BED-4F8D-8F68-7CE72E1A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D8C-4DBA-443A-A1A5-6BC97EF8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A146-B0CD-4E60-B171-DA6CF7621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gif"/><Relationship Id="rId3" Type="http://schemas.openxmlformats.org/officeDocument/2006/relationships/image" Target="../media/image63.gif"/><Relationship Id="rId4" Type="http://schemas.openxmlformats.org/officeDocument/2006/relationships/image" Target="../media/image63.gif"/><Relationship Id="rId5" Type="http://schemas.openxmlformats.org/officeDocument/2006/relationships/image" Target="../media/image63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image" Target="../media/image63.gif"/><Relationship Id="rId3" Type="http://schemas.openxmlformats.org/officeDocument/2006/relationships/image" Target="../media/image63.gif"/><Relationship Id="rId4" Type="http://schemas.openxmlformats.org/officeDocument/2006/relationships/image" Target="../media/image63.gif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gi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image" Target="../media/image4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11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692280"/>
            <a:ext cx="7991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Горькая правда</a:t>
            </a:r>
            <a:endParaRPr b="0" lang="en-US" sz="1800" spc="1" strike="noStrike">
              <a:ln w="38160">
                <a:solidFill>
                  <a:srgbClr val="cc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58920" y="3141720"/>
            <a:ext cx="101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о</a:t>
            </a:r>
            <a:endParaRPr b="0" lang="en-US" sz="1800" spc="1" strike="noStrike">
              <a:ln w="38160">
                <a:solidFill>
                  <a:srgbClr val="cc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3" name="WordArt 7"/>
          <p:cNvSpPr txBox="1"/>
          <p:nvPr/>
        </p:nvSpPr>
        <p:spPr>
          <a:xfrm rot="20740800">
            <a:off x="323640" y="3645000"/>
            <a:ext cx="864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горьком пиве</a:t>
            </a:r>
            <a:endParaRPr b="0" lang="en-US" sz="1800" spc="1" strike="noStrike">
              <a:ln w="38160">
                <a:solidFill>
                  <a:srgbClr val="cc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6"/>
          <p:cNvSpPr/>
          <p:nvPr/>
        </p:nvSpPr>
        <p:spPr>
          <a:xfrm>
            <a:off x="324000" y="333360"/>
            <a:ext cx="8424720" cy="1440000"/>
          </a:xfrm>
          <a:prstGeom prst="foldedCorner">
            <a:avLst>
              <a:gd name="adj" fmla="val 24893"/>
            </a:avLst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становлено,  что,  выпив  две  кружки пива,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лучает столько же алкоголя, как если бы он вып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00 г 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кружка в руках"/>
          <p:cNvPicPr/>
          <p:nvPr/>
        </p:nvPicPr>
        <p:blipFill>
          <a:blip r:embed="rId1"/>
          <a:stretch/>
        </p:blipFill>
        <p:spPr>
          <a:xfrm>
            <a:off x="900000" y="2060640"/>
            <a:ext cx="3527640" cy="264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кружка в руках"/>
          <p:cNvPicPr/>
          <p:nvPr/>
        </p:nvPicPr>
        <p:blipFill>
          <a:blip r:embed="rId2"/>
          <a:stretch/>
        </p:blipFill>
        <p:spPr>
          <a:xfrm>
            <a:off x="4643280" y="2060640"/>
            <a:ext cx="3529080" cy="26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stakan"/>
          <p:cNvPicPr/>
          <p:nvPr/>
        </p:nvPicPr>
        <p:blipFill>
          <a:blip r:embed="rId3"/>
          <a:stretch/>
        </p:blipFill>
        <p:spPr>
          <a:xfrm>
            <a:off x="3635280" y="2349360"/>
            <a:ext cx="1425600" cy="223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пиво"/>
          <p:cNvPicPr/>
          <p:nvPr/>
        </p:nvPicPr>
        <p:blipFill>
          <a:blip r:embed="rId4"/>
          <a:stretch/>
        </p:blipFill>
        <p:spPr>
          <a:xfrm>
            <a:off x="709308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>
            <a:off x="250920" y="260280"/>
            <a:ext cx="8785080" cy="1728720"/>
          </a:xfrm>
          <a:prstGeom prst="foldedCorner">
            <a:avLst>
              <a:gd name="adj" fmla="val 30000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се серьезные исследования алкоголизма показ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что  это  заболевание имеет наследственный характ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ти    пьющих    родителей    часто   сами    станов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лкоголиками.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дедушка и внук"/>
          <p:cNvPicPr/>
          <p:nvPr/>
        </p:nvPicPr>
        <p:blipFill>
          <a:blip r:embed="rId1"/>
          <a:stretch/>
        </p:blipFill>
        <p:spPr>
          <a:xfrm>
            <a:off x="179280" y="2421000"/>
            <a:ext cx="3024360" cy="1827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7" name="Picture 6" descr="дите и пиво"/>
          <p:cNvPicPr/>
          <p:nvPr/>
        </p:nvPicPr>
        <p:blipFill>
          <a:blip r:embed="rId2"/>
          <a:stretch/>
        </p:blipFill>
        <p:spPr>
          <a:xfrm>
            <a:off x="6588000" y="2349360"/>
            <a:ext cx="2229120" cy="2229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8" name="Picture 7" descr="ребенок к пиву"/>
          <p:cNvPicPr/>
          <p:nvPr/>
        </p:nvPicPr>
        <p:blipFill>
          <a:blip r:embed="rId3"/>
          <a:stretch/>
        </p:blipFill>
        <p:spPr>
          <a:xfrm>
            <a:off x="3492360" y="2421000"/>
            <a:ext cx="2737080" cy="3591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9" name="Picture 8" descr="девочка пьет пиво 5"/>
          <p:cNvPicPr/>
          <p:nvPr/>
        </p:nvPicPr>
        <p:blipFill>
          <a:blip r:embed="rId4"/>
          <a:stretch/>
        </p:blipFill>
        <p:spPr>
          <a:xfrm>
            <a:off x="684360" y="4437000"/>
            <a:ext cx="1603080" cy="12128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10" name="Picture 9" descr="3"/>
          <p:cNvPicPr/>
          <p:nvPr/>
        </p:nvPicPr>
        <p:blipFill>
          <a:blip r:embed="rId5"/>
          <a:stretch/>
        </p:blipFill>
        <p:spPr>
          <a:xfrm>
            <a:off x="6877080" y="5084640"/>
            <a:ext cx="1584360" cy="12668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900000" y="404640"/>
            <a:ext cx="7201080" cy="914400"/>
          </a:xfrm>
          <a:prstGeom prst="foldedCorner">
            <a:avLst>
              <a:gd name="adj" fmla="val 15828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 Black"/>
              </a:rPr>
              <a:t>В чём же опасность т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 Black"/>
              </a:rPr>
              <a:t>что дети рано начинают пить пиво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ребенок и пиво"/>
          <p:cNvPicPr/>
          <p:nvPr/>
        </p:nvPicPr>
        <p:blipFill>
          <a:blip r:embed="rId1"/>
          <a:stretch/>
        </p:blipFill>
        <p:spPr>
          <a:xfrm>
            <a:off x="395280" y="1989000"/>
            <a:ext cx="3095640" cy="24768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13" name="Rectangle 6"/>
          <p:cNvSpPr/>
          <p:nvPr/>
        </p:nvSpPr>
        <p:spPr>
          <a:xfrm>
            <a:off x="3851280" y="1844640"/>
            <a:ext cx="4321080" cy="266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ежде  всего  в том, что у ребё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первые   пробующего    подоб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ядовитую    гадость,   ест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вотная реакция на яд не возник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  в том случае, когда он впер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обует   водку   или   самог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иво  прокладывает  дорогу к в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одке,  сигаретам   и   наркот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вредные привычки"/>
          <p:cNvPicPr/>
          <p:nvPr/>
        </p:nvPicPr>
        <p:blipFill>
          <a:blip r:embed="rId2"/>
          <a:stretch/>
        </p:blipFill>
        <p:spPr>
          <a:xfrm>
            <a:off x="6012000" y="5229360"/>
            <a:ext cx="1933560" cy="144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AutoShape 10"/>
          <p:cNvSpPr/>
          <p:nvPr/>
        </p:nvSpPr>
        <p:spPr>
          <a:xfrm rot="5400000">
            <a:off x="2914920" y="3788640"/>
            <a:ext cx="1800360" cy="3529080"/>
          </a:xfrm>
          <a:custGeom>
            <a:avLst/>
            <a:gdLst>
              <a:gd name="textAreaLeft" fmla="*/ 0 w 1800360"/>
              <a:gd name="textAreaRight" fmla="*/ 1498680 w 1800360"/>
              <a:gd name="textAreaTop" fmla="*/ 3182400 h 3529080"/>
              <a:gd name="textAreaBottom" fmla="*/ 3529440 h 3529080"/>
            </a:gdLst>
            <a:ahLst/>
            <a:rect l="textAreaLeft" t="textAreaTop" r="textAreaRight" b="textAreaBottom"/>
            <a:pathLst>
              <a:path w="21600" h="21600">
                <a:moveTo>
                  <a:pt x="17097" y="0"/>
                </a:moveTo>
                <a:lnTo>
                  <a:pt x="12593" y="10085"/>
                </a:lnTo>
                <a:lnTo>
                  <a:pt x="16213" y="10085"/>
                </a:lnTo>
                <a:lnTo>
                  <a:pt x="16213" y="19477"/>
                </a:lnTo>
                <a:lnTo>
                  <a:pt x="0" y="19477"/>
                </a:lnTo>
                <a:lnTo>
                  <a:pt x="0" y="21600"/>
                </a:lnTo>
                <a:lnTo>
                  <a:pt x="17980" y="21600"/>
                </a:lnTo>
                <a:lnTo>
                  <a:pt x="17980" y="10085"/>
                </a:lnTo>
                <a:lnTo>
                  <a:pt x="21600" y="100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плакат"/>
          <p:cNvPicPr/>
          <p:nvPr/>
        </p:nvPicPr>
        <p:blipFill>
          <a:blip r:embed="rId1"/>
          <a:stretch/>
        </p:blipFill>
        <p:spPr>
          <a:xfrm>
            <a:off x="2484360" y="260280"/>
            <a:ext cx="4321080" cy="5545080"/>
          </a:xfrm>
          <a:prstGeom prst="rect">
            <a:avLst/>
          </a:prstGeom>
          <a:ln w="0">
            <a:noFill/>
          </a:ln>
        </p:spPr>
      </p:pic>
      <p:sp>
        <p:nvSpPr>
          <p:cNvPr id="117" name="Oval 6"/>
          <p:cNvSpPr/>
          <p:nvPr/>
        </p:nvSpPr>
        <p:spPr>
          <a:xfrm>
            <a:off x="324000" y="404640"/>
            <a:ext cx="1850760" cy="18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7020000" y="476280"/>
            <a:ext cx="1851120" cy="187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sm4"/>
          <p:cNvPicPr/>
          <p:nvPr/>
        </p:nvPicPr>
        <p:blipFill>
          <a:blip r:embed="rId4"/>
          <a:stretch/>
        </p:blipFill>
        <p:spPr>
          <a:xfrm>
            <a:off x="900000" y="2492280"/>
            <a:ext cx="608040" cy="69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m3"/>
          <p:cNvPicPr/>
          <p:nvPr/>
        </p:nvPicPr>
        <p:blipFill>
          <a:blip r:embed="rId5"/>
          <a:stretch/>
        </p:blipFill>
        <p:spPr>
          <a:xfrm>
            <a:off x="7667640" y="2492280"/>
            <a:ext cx="609480" cy="692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2050920" y="5805360"/>
            <a:ext cx="518508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2195640" y="6021360"/>
            <a:ext cx="4824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Задумайтесь 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23" name="Picture 18" descr="страх онкологии"/>
          <p:cNvPicPr/>
          <p:nvPr/>
        </p:nvPicPr>
        <p:blipFill>
          <a:blip r:embed="rId6"/>
          <a:stretch/>
        </p:blipFill>
        <p:spPr>
          <a:xfrm>
            <a:off x="2700360" y="1197000"/>
            <a:ext cx="37400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826920" y="549360"/>
            <a:ext cx="7488360" cy="1512720"/>
          </a:xfrm>
          <a:prstGeom prst="foldedCorner">
            <a:avLst>
              <a:gd name="adj" fmla="val 25736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сследования   чешских  и  словацких  учёных  пока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что  кружка  пива,  выпитая  водителем  перед   выезд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величивает  количество  аварий  в  7 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светофор"/>
          <p:cNvPicPr/>
          <p:nvPr/>
        </p:nvPicPr>
        <p:blipFill>
          <a:blip r:embed="rId1"/>
          <a:stretch/>
        </p:blipFill>
        <p:spPr>
          <a:xfrm>
            <a:off x="3059280" y="2276640"/>
            <a:ext cx="3192120" cy="4416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26" name="Picture 7" descr="ааавв"/>
          <p:cNvPicPr/>
          <p:nvPr/>
        </p:nvPicPr>
        <p:blipFill>
          <a:blip r:embed="rId2"/>
          <a:stretch/>
        </p:blipFill>
        <p:spPr>
          <a:xfrm>
            <a:off x="6877080" y="5157720"/>
            <a:ext cx="1871640" cy="14972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27" name="Picture 8" descr="7"/>
          <p:cNvPicPr/>
          <p:nvPr/>
        </p:nvPicPr>
        <p:blipFill>
          <a:blip r:embed="rId3"/>
          <a:stretch/>
        </p:blipFill>
        <p:spPr>
          <a:xfrm>
            <a:off x="250920" y="3005280"/>
            <a:ext cx="2160360" cy="16207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пиво"/>
          <p:cNvPicPr/>
          <p:nvPr/>
        </p:nvPicPr>
        <p:blipFill>
          <a:blip r:embed="rId1"/>
          <a:stretch/>
        </p:blipFill>
        <p:spPr>
          <a:xfrm>
            <a:off x="709308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Rectangle 4"/>
          <p:cNvSpPr/>
          <p:nvPr/>
        </p:nvSpPr>
        <p:spPr>
          <a:xfrm>
            <a:off x="1835280" y="343800"/>
            <a:ext cx="73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Первый пострадавший - желудо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желудок"/>
          <p:cNvPicPr/>
          <p:nvPr/>
        </p:nvPicPr>
        <p:blipFill>
          <a:blip r:embed="rId2"/>
          <a:stretch/>
        </p:blipFill>
        <p:spPr>
          <a:xfrm>
            <a:off x="250920" y="189000"/>
            <a:ext cx="1360440" cy="165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31" name="Rectangle 6"/>
          <p:cNvSpPr/>
          <p:nvPr/>
        </p:nvSpPr>
        <p:spPr>
          <a:xfrm>
            <a:off x="611280" y="2060640"/>
            <a:ext cx="8136000" cy="302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иво  очень  агрессивно  раздражает и отравляет слизист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роме того, при регулярном приеме пенного напитка желез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сположенные    в   стенках   желудка   и   вырабатыв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елудочный   сок,   сначала  выделяют   много слизи, а за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атрофир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ищеварение становится неполноценным, еда заста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ли   непереваренная   поступает   в  кише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зультат — проблемы со стулом и гастрит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пиво"/>
          <p:cNvPicPr/>
          <p:nvPr/>
        </p:nvPicPr>
        <p:blipFill>
          <a:blip r:embed="rId1"/>
          <a:stretch/>
        </p:blipFill>
        <p:spPr>
          <a:xfrm>
            <a:off x="7380360" y="5373720"/>
            <a:ext cx="1324080" cy="134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Rectangle 4"/>
          <p:cNvSpPr/>
          <p:nvPr/>
        </p:nvSpPr>
        <p:spPr>
          <a:xfrm>
            <a:off x="3233520" y="404280"/>
            <a:ext cx="543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Удар по печен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печень"/>
          <p:cNvPicPr/>
          <p:nvPr/>
        </p:nvPicPr>
        <p:blipFill>
          <a:blip r:embed="rId2"/>
          <a:stretch/>
        </p:blipFill>
        <p:spPr>
          <a:xfrm>
            <a:off x="539640" y="260280"/>
            <a:ext cx="2376720" cy="18003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35" name="Rectangle 6"/>
          <p:cNvSpPr/>
          <p:nvPr/>
        </p:nvSpPr>
        <p:spPr>
          <a:xfrm>
            <a:off x="395280" y="2276640"/>
            <a:ext cx="8424720" cy="302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Алкоголь является главным врагом печени, основная  фу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оторой — очищение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лоупотребление  хмельным  напитком  может  способ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звитию    воспалительных   процессов   и   даже   довести  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епатита.      Причем   хронический   пивной   гепатит    способ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отекать  в  скрытой форме, без ярко выраженных симпто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Если   вовремя   не    остановиться,   на  пиве можно заработ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даже   цирроз   печен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пиво"/>
          <p:cNvPicPr/>
          <p:nvPr/>
        </p:nvPicPr>
        <p:blipFill>
          <a:blip r:embed="rId1"/>
          <a:stretch/>
        </p:blipFill>
        <p:spPr>
          <a:xfrm>
            <a:off x="7236000" y="5300640"/>
            <a:ext cx="1365120" cy="138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Rectangle 3"/>
          <p:cNvSpPr/>
          <p:nvPr/>
        </p:nvSpPr>
        <p:spPr>
          <a:xfrm>
            <a:off x="2845440" y="404640"/>
            <a:ext cx="55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Black"/>
              </a:rPr>
              <a:t>Почки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 Black"/>
              </a:rPr>
              <a:t>санитары орган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почки"/>
          <p:cNvPicPr/>
          <p:nvPr/>
        </p:nvPicPr>
        <p:blipFill>
          <a:blip r:embed="rId2"/>
          <a:srcRect l="8172" t="23518" r="8069" b="19402"/>
          <a:stretch/>
        </p:blipFill>
        <p:spPr>
          <a:xfrm>
            <a:off x="539640" y="260280"/>
            <a:ext cx="1728720" cy="14320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39" name="Rectangle 5"/>
          <p:cNvSpPr/>
          <p:nvPr/>
        </p:nvSpPr>
        <p:spPr>
          <a:xfrm>
            <a:off x="250920" y="1916280"/>
            <a:ext cx="8569080" cy="295272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лавная задача почек — поддержание постоянства  внутрен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реды    организма.      Они    участвуют   в     регуляции    вод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электролитного   баланса   и     кислотно - щелочного     соста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иво    нарушает    эти    естественные    процессы,   потому 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ставляет   почки   работать    с    утроенной    силой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бладая   мощным   мочегонным   эффектом,   пиво  вым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    организма    важные    «стройматериалы» - микро- и  мак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элементы,   особенно    калий,     магний    и    витамин С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пиво"/>
          <p:cNvPicPr/>
          <p:nvPr/>
        </p:nvPicPr>
        <p:blipFill>
          <a:blip r:embed="rId1"/>
          <a:stretch/>
        </p:blipFill>
        <p:spPr>
          <a:xfrm>
            <a:off x="7308720" y="5300640"/>
            <a:ext cx="1447920" cy="1467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1" name="Rectangle 3"/>
          <p:cNvSpPr/>
          <p:nvPr/>
        </p:nvSpPr>
        <p:spPr>
          <a:xfrm>
            <a:off x="2442240" y="259920"/>
            <a:ext cx="54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«Бычье сердц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сердце"/>
          <p:cNvPicPr/>
          <p:nvPr/>
        </p:nvPicPr>
        <p:blipFill>
          <a:blip r:embed="rId2"/>
          <a:stretch/>
        </p:blipFill>
        <p:spPr>
          <a:xfrm>
            <a:off x="684360" y="189000"/>
            <a:ext cx="1174680" cy="12682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9280" y="1700280"/>
            <a:ext cx="8640720" cy="345744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Пиво всасывается  очень быстро,  поэтому  крове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сосуды   моментально  переполняются.      Если 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пьет     пиво   часто    и   много,    то    у   него    возник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варикозное   расширение  вен   и  сердце увелич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Рентгенологи      называют    это    явление     синдр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«пивного сердца»,   «бычьего сердц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Главный орган, вынужденный каждый день перекачи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излишнее   количество  жидкости,  становится   дрябл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снаружи   зарастает   жиром.        Учащаются   серде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сокращения,   возникает  аритмия, повышается давле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врачи"/>
          <p:cNvPicPr/>
          <p:nvPr/>
        </p:nvPicPr>
        <p:blipFill>
          <a:blip r:embed="rId1"/>
          <a:stretch/>
        </p:blipFill>
        <p:spPr>
          <a:xfrm>
            <a:off x="324000" y="333360"/>
            <a:ext cx="2058840" cy="20588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45" name="WordArt 8"/>
          <p:cNvSpPr txBox="1"/>
          <p:nvPr/>
        </p:nvSpPr>
        <p:spPr>
          <a:xfrm>
            <a:off x="2627280" y="404640"/>
            <a:ext cx="60102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От пива нарушается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гормональный баланс.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pic>
        <p:nvPicPr>
          <p:cNvPr id="146" name="Picture 9" descr="пиво из злаков"/>
          <p:cNvPicPr/>
          <p:nvPr/>
        </p:nvPicPr>
        <p:blipFill>
          <a:blip r:embed="rId2"/>
          <a:stretch/>
        </p:blipFill>
        <p:spPr>
          <a:xfrm>
            <a:off x="1403280" y="2565360"/>
            <a:ext cx="63500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реклама"/>
          <p:cNvPicPr/>
          <p:nvPr/>
        </p:nvPicPr>
        <p:blipFill>
          <a:blip r:embed="rId1"/>
          <a:stretch/>
        </p:blipFill>
        <p:spPr>
          <a:xfrm>
            <a:off x="1187280" y="1773360"/>
            <a:ext cx="6840720" cy="4698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4643280" y="2276640"/>
            <a:ext cx="2808360" cy="345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643280" y="2276640"/>
            <a:ext cx="2808360" cy="34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4643280" y="2276640"/>
            <a:ext cx="2808360" cy="3457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179280" y="189000"/>
            <a:ext cx="8713800" cy="120168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"Не СПИД, не туберкулез погубят Россию, а пи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алкоголизм среди юного поколения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Главный санитарный врач РФ Геннадий Онищ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10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3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пиво"/>
          <p:cNvPicPr/>
          <p:nvPr/>
        </p:nvPicPr>
        <p:blipFill>
          <a:blip r:embed="rId1"/>
          <a:stretch/>
        </p:blipFill>
        <p:spPr>
          <a:xfrm>
            <a:off x="752472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Text Box 3"/>
          <p:cNvSpPr/>
          <p:nvPr/>
        </p:nvSpPr>
        <p:spPr>
          <a:xfrm>
            <a:off x="250920" y="23652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Чем отлич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мужчина от женщины в плане гормо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J0345387"/>
          <p:cNvPicPr/>
          <p:nvPr/>
        </p:nvPicPr>
        <p:blipFill>
          <a:blip r:embed="rId2"/>
          <a:stretch/>
        </p:blipFill>
        <p:spPr>
          <a:xfrm>
            <a:off x="468360" y="1628640"/>
            <a:ext cx="1359000" cy="136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J0345388"/>
          <p:cNvPicPr/>
          <p:nvPr/>
        </p:nvPicPr>
        <p:blipFill>
          <a:blip r:embed="rId3"/>
          <a:stretch/>
        </p:blipFill>
        <p:spPr>
          <a:xfrm>
            <a:off x="468360" y="3284640"/>
            <a:ext cx="1430280" cy="14396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6"/>
          <p:cNvSpPr/>
          <p:nvPr/>
        </p:nvSpPr>
        <p:spPr>
          <a:xfrm>
            <a:off x="1979640" y="1916280"/>
            <a:ext cx="1224000" cy="70164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75320 h 701640"/>
              <a:gd name="textAreaBottom" fmla="*/ 526320 h 70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79640" y="3645000"/>
            <a:ext cx="1297080" cy="70164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175320 h 701640"/>
              <a:gd name="textAreaBottom" fmla="*/ 526320 h 70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708360" y="1916280"/>
            <a:ext cx="4392720" cy="720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ови содержится основной муж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й гормон —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тостер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708360" y="3573360"/>
            <a:ext cx="4464000" cy="7923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ови содержится основной ж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й гормон -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гестер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1979640" y="5229360"/>
            <a:ext cx="5111640" cy="143964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мимо алкогольного яда, из хм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пиво выделяются гормоны, о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хожие на женский половой горм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«прогестерон»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пиво"/>
          <p:cNvPicPr/>
          <p:nvPr/>
        </p:nvPicPr>
        <p:blipFill>
          <a:blip r:embed="rId4"/>
          <a:stretch/>
        </p:blipFill>
        <p:spPr>
          <a:xfrm>
            <a:off x="179280" y="5157720"/>
            <a:ext cx="1490760" cy="150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7" name="Rectangle 13"/>
          <p:cNvSpPr/>
          <p:nvPr/>
        </p:nvSpPr>
        <p:spPr>
          <a:xfrm>
            <a:off x="3492360" y="1916280"/>
            <a:ext cx="5040360" cy="266508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ловые      гормоны      регулир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формирование и функцио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ловых      органов,       проя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торичных    половых  признаков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которые     стороны      по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человека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менно    действие эт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еществ        определяет       от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ужчины   от   женщин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172520" y="-720"/>
            <a:ext cx="68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Что дает пиво мужчине?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95280" y="6195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ужчина,   потребляя пиво, в  существенной степени замещает в собственном организме  мужской гормон на же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39120" y="1267200"/>
            <a:ext cx="887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ньше мужской гормон давал  ему активность, волевые кач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тремление к победе, желание лидировать, а  теперь мы получа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безвольное, апатичное существо промежуточного рода, способ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лишь лежать на диване и  смотреть в телевизор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57560" y="3643920"/>
            <a:ext cx="849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Фигура    у     мужчины    тоже    меняется  –  расширяется       т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ир  откладывается  по  женскому   типу   –   на   бедрах. Мыш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ивота  слабеют,    и    появляется    "пивной живот".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живот"/>
          <p:cNvPicPr/>
          <p:nvPr/>
        </p:nvPicPr>
        <p:blipFill>
          <a:blip r:embed="rId1"/>
          <a:stretch/>
        </p:blipFill>
        <p:spPr>
          <a:xfrm>
            <a:off x="3419640" y="4724280"/>
            <a:ext cx="2592360" cy="19447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63" name="Rectangle 9"/>
          <p:cNvSpPr/>
          <p:nvPr/>
        </p:nvSpPr>
        <p:spPr>
          <a:xfrm>
            <a:off x="468360" y="2597760"/>
            <a:ext cx="84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     мужчин      употребление      пива     снижает      влечение     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отивоположному       полу    и   способно   вызывать   поло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лечение к другим мужчин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ьгнек"/>
          <p:cNvPicPr/>
          <p:nvPr/>
        </p:nvPicPr>
        <p:blipFill>
          <a:blip r:embed="rId2"/>
          <a:stretch/>
        </p:blipFill>
        <p:spPr>
          <a:xfrm>
            <a:off x="179280" y="692280"/>
            <a:ext cx="276480" cy="49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ьгнек"/>
          <p:cNvPicPr/>
          <p:nvPr/>
        </p:nvPicPr>
        <p:blipFill>
          <a:blip r:embed="rId3"/>
          <a:stretch/>
        </p:blipFill>
        <p:spPr>
          <a:xfrm>
            <a:off x="179280" y="170028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ьгнек"/>
          <p:cNvPicPr/>
          <p:nvPr/>
        </p:nvPicPr>
        <p:blipFill>
          <a:blip r:embed="rId4"/>
          <a:stretch/>
        </p:blipFill>
        <p:spPr>
          <a:xfrm>
            <a:off x="179280" y="285264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ьгнек"/>
          <p:cNvPicPr/>
          <p:nvPr/>
        </p:nvPicPr>
        <p:blipFill>
          <a:blip r:embed="rId5"/>
          <a:stretch/>
        </p:blipFill>
        <p:spPr>
          <a:xfrm>
            <a:off x="179280" y="3933720"/>
            <a:ext cx="2764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673920" y="2707200"/>
            <a:ext cx="832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  женщин,   употребляющих    пиво,   возрастает   вероя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болевания   раком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257120" y="189000"/>
            <a:ext cx="69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Что дает пиво женщи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ьгнек"/>
          <p:cNvPicPr/>
          <p:nvPr/>
        </p:nvPicPr>
        <p:blipFill>
          <a:blip r:embed="rId1"/>
          <a:stretch/>
        </p:blipFill>
        <p:spPr>
          <a:xfrm>
            <a:off x="179280" y="278136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ьгнек"/>
          <p:cNvPicPr/>
          <p:nvPr/>
        </p:nvPicPr>
        <p:blipFill>
          <a:blip r:embed="rId2"/>
          <a:stretch/>
        </p:blipFill>
        <p:spPr>
          <a:xfrm>
            <a:off x="179280" y="206064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ьгнек"/>
          <p:cNvPicPr/>
          <p:nvPr/>
        </p:nvPicPr>
        <p:blipFill>
          <a:blip r:embed="rId3"/>
          <a:stretch/>
        </p:blipFill>
        <p:spPr>
          <a:xfrm>
            <a:off x="179280" y="1052640"/>
            <a:ext cx="276480" cy="495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ьгнек"/>
          <p:cNvPicPr/>
          <p:nvPr/>
        </p:nvPicPr>
        <p:blipFill>
          <a:blip r:embed="rId4"/>
          <a:stretch/>
        </p:blipFill>
        <p:spPr>
          <a:xfrm>
            <a:off x="179280" y="3645000"/>
            <a:ext cx="276480" cy="495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600120" y="1915200"/>
            <a:ext cx="855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 пьющих  пиво женщин становится грубым голос и появля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так называемые «пивные усы»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39640" y="906840"/>
            <a:ext cx="842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оисходит   процесс   гормонизации   организма   в   стор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аскулинизации  -  появления    у    особей     женского   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ужских    вторичных    половых    признаков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72480" y="349956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Если   пиво   пьёт   кормящая   мать,  то   у   ребёнка возмо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эпилептические судороги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мускул"/>
          <p:cNvPicPr/>
          <p:nvPr/>
        </p:nvPicPr>
        <p:blipFill>
          <a:blip r:embed="rId5"/>
          <a:stretch/>
        </p:blipFill>
        <p:spPr>
          <a:xfrm>
            <a:off x="6300720" y="3860640"/>
            <a:ext cx="1863720" cy="2802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жжжжж"/>
          <p:cNvPicPr/>
          <p:nvPr/>
        </p:nvPicPr>
        <p:blipFill>
          <a:blip r:embed="rId6"/>
          <a:stretch/>
        </p:blipFill>
        <p:spPr>
          <a:xfrm>
            <a:off x="4859280" y="5373720"/>
            <a:ext cx="1049400" cy="12859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6"/>
          <p:cNvSpPr/>
          <p:nvPr/>
        </p:nvSpPr>
        <p:spPr>
          <a:xfrm>
            <a:off x="395280" y="5445000"/>
            <a:ext cx="3889440" cy="122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се  это  ставит  под  вопр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игодность такой женщ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ля     продолжения      род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7" descr="000044"/>
          <p:cNvPicPr/>
          <p:nvPr/>
        </p:nvPicPr>
        <p:blipFill>
          <a:blip r:embed="rId7"/>
          <a:stretch/>
        </p:blipFill>
        <p:spPr>
          <a:xfrm>
            <a:off x="1835280" y="4149720"/>
            <a:ext cx="109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611280" y="189000"/>
            <a:ext cx="7920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c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Итак, чем опасно пиво !?</a:t>
            </a:r>
            <a:endParaRPr b="0" lang="en-US" sz="1800" spc="1" strike="noStrike">
              <a:ln w="25560">
                <a:solidFill>
                  <a:srgbClr val="cc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24000" y="1773360"/>
            <a:ext cx="64764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324000" y="2637000"/>
            <a:ext cx="72072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250920" y="3429000"/>
            <a:ext cx="79200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250920" y="4149720"/>
            <a:ext cx="79200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250920" y="4941720"/>
            <a:ext cx="792000" cy="48600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324000" y="5734080"/>
            <a:ext cx="71892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547640" y="2565360"/>
            <a:ext cx="6912000" cy="6476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Является наркоти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ызывает пивной алкогол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1547640" y="3357720"/>
            <a:ext cx="6912000" cy="576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овокатор аг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1547640" y="4149720"/>
            <a:ext cx="6912000" cy="57636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рушительно действует на внутренние орг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1547640" y="4941720"/>
            <a:ext cx="6912000" cy="648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лияет на наследственность и репроду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функции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1547640" y="5734080"/>
            <a:ext cx="6912000" cy="57636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вышает риск рака у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8"/>
          <p:cNvSpPr/>
          <p:nvPr/>
        </p:nvSpPr>
        <p:spPr>
          <a:xfrm>
            <a:off x="1547640" y="1773360"/>
            <a:ext cx="6912000" cy="576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бивает сердце и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0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9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ииии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21607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7"/>
          <p:cNvSpPr/>
          <p:nvPr/>
        </p:nvSpPr>
        <p:spPr>
          <a:xfrm>
            <a:off x="1332000" y="620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«От пива делаются ленив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     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глупыми и бессильным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778480" y="170028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вый рейхсканцлер Германии Бис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я напился"/>
          <p:cNvPicPr/>
          <p:nvPr/>
        </p:nvPicPr>
        <p:blipFill>
          <a:blip r:embed="rId2"/>
          <a:stretch/>
        </p:blipFill>
        <p:spPr>
          <a:xfrm>
            <a:off x="324000" y="2565360"/>
            <a:ext cx="3097080" cy="41292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8" name="Picture 10" descr="хмельной взгляд"/>
          <p:cNvPicPr/>
          <p:nvPr/>
        </p:nvPicPr>
        <p:blipFill>
          <a:blip r:embed="rId3"/>
          <a:stretch/>
        </p:blipFill>
        <p:spPr>
          <a:xfrm>
            <a:off x="3780000" y="3213000"/>
            <a:ext cx="2124000" cy="13827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9" name="Picture 11" descr="два пива и девушка"/>
          <p:cNvPicPr/>
          <p:nvPr/>
        </p:nvPicPr>
        <p:blipFill>
          <a:blip r:embed="rId4"/>
          <a:stretch/>
        </p:blipFill>
        <p:spPr>
          <a:xfrm>
            <a:off x="6419880" y="2565360"/>
            <a:ext cx="2477880" cy="4103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4"/>
          <p:cNvSpPr/>
          <p:nvPr/>
        </p:nvSpPr>
        <p:spPr>
          <a:xfrm>
            <a:off x="1116000" y="189000"/>
            <a:ext cx="7056360" cy="2158920"/>
          </a:xfrm>
          <a:prstGeom prst="downArrowCallout">
            <a:avLst>
              <a:gd name="adj1" fmla="val 61562"/>
              <a:gd name="adj2" fmla="val 147610"/>
              <a:gd name="adj3" fmla="val 18514"/>
              <a:gd name="adj4" fmla="val 66667"/>
            </a:avLst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Так    что     пора    освободится    россиян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от  иллюзий  и  вспомнить  наст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столетней давности цар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генерала А. Нечволод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116000" y="2421000"/>
            <a:ext cx="7128000" cy="914400"/>
          </a:xfrm>
          <a:prstGeom prst="rect">
            <a:avLst/>
          </a:prstGeom>
          <a:solidFill>
            <a:srgbClr val="ffcccc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« Путь России от разорения к достатку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это путь трезвой России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ЗОЖ"/>
          <p:cNvPicPr/>
          <p:nvPr/>
        </p:nvPicPr>
        <p:blipFill>
          <a:blip r:embed="rId1"/>
          <a:stretch/>
        </p:blipFill>
        <p:spPr>
          <a:xfrm>
            <a:off x="2411280" y="3573360"/>
            <a:ext cx="4475160" cy="30798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9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гитлер"/>
          <p:cNvPicPr/>
          <p:nvPr/>
        </p:nvPicPr>
        <p:blipFill>
          <a:blip r:embed="rId1"/>
          <a:stretch/>
        </p:blipFill>
        <p:spPr>
          <a:xfrm>
            <a:off x="6084720" y="549360"/>
            <a:ext cx="2808360" cy="2112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179280" y="476280"/>
            <a:ext cx="5905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тлер  в  1942  году сформулировал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купационной   политики    на    завоев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чной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своей краткой директиве он написал вс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предлож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обходимо свести славян до языка жестов. Никакой   гигиены,   никаких   приви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лько  водка  и  табак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12"/>
          <p:cNvPicPr/>
          <p:nvPr/>
        </p:nvPicPr>
        <p:blipFill>
          <a:blip r:embed="rId2"/>
          <a:stretch/>
        </p:blipFill>
        <p:spPr>
          <a:xfrm>
            <a:off x="179280" y="4222800"/>
            <a:ext cx="2376720" cy="236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AutoShape 10"/>
          <p:cNvSpPr/>
          <p:nvPr/>
        </p:nvSpPr>
        <p:spPr>
          <a:xfrm rot="5400000">
            <a:off x="3892680" y="3243960"/>
            <a:ext cx="936720" cy="731880"/>
          </a:xfrm>
          <a:custGeom>
            <a:avLst/>
            <a:gdLst>
              <a:gd name="textAreaLeft" fmla="*/ 117000 w 936720"/>
              <a:gd name="textAreaRight" fmla="*/ 819720 w 936720"/>
              <a:gd name="textAreaTop" fmla="*/ 182880 h 731880"/>
              <a:gd name="textAreaBottom" fmla="*/ 5490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 rot="5400000">
            <a:off x="939960" y="3170880"/>
            <a:ext cx="936720" cy="731880"/>
          </a:xfrm>
          <a:custGeom>
            <a:avLst/>
            <a:gdLst>
              <a:gd name="textAreaLeft" fmla="*/ 117000 w 936720"/>
              <a:gd name="textAreaRight" fmla="*/ 819720 w 936720"/>
              <a:gd name="textAreaTop" fmla="*/ 182880 h 731880"/>
              <a:gd name="textAreaBottom" fmla="*/ 5490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gp_22"/>
          <p:cNvPicPr/>
          <p:nvPr/>
        </p:nvPicPr>
        <p:blipFill>
          <a:blip r:embed="rId3"/>
          <a:stretch/>
        </p:blipFill>
        <p:spPr>
          <a:xfrm>
            <a:off x="3348000" y="4221000"/>
            <a:ext cx="2079720" cy="2347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Picture 13" descr="пиво"/>
          <p:cNvPicPr/>
          <p:nvPr/>
        </p:nvPicPr>
        <p:blipFill>
          <a:blip r:embed="rId4"/>
          <a:stretch/>
        </p:blipFill>
        <p:spPr>
          <a:xfrm>
            <a:off x="738036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0" y="1627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стойчивая, если не сказать агрессивная, реклама пива уже  сделала   его   национальным   напитком   в   Росс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2771640" y="404640"/>
            <a:ext cx="4897440" cy="1008360"/>
          </a:xfrm>
          <a:prstGeom prst="foldedCorner">
            <a:avLst>
              <a:gd name="adj" fmla="val 14342"/>
            </a:avLst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ПИВНОЙ АЛКОГ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СТАНОВИТСЯ РЕА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пиво"/>
          <p:cNvPicPr/>
          <p:nvPr/>
        </p:nvPicPr>
        <p:blipFill>
          <a:blip r:embed="rId1"/>
          <a:stretch/>
        </p:blipFill>
        <p:spPr>
          <a:xfrm>
            <a:off x="1476360" y="404640"/>
            <a:ext cx="995400" cy="1008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65" name="Rectangle 9"/>
          <p:cNvSpPr/>
          <p:nvPr/>
        </p:nvSpPr>
        <p:spPr>
          <a:xfrm>
            <a:off x="3743280" y="2637000"/>
            <a:ext cx="5400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егодня   пиво  у  многих,  особенно у молодежи, - непременный     атрибут    повседневной   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Его  пьют  дома  и  на  работе,   в  одиночестве 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компании... Пьют из пластиковых и стеклянных бутылок,   жестяных   банок,   огромных     кружек.   Пьют мужчины и  женщины,   старые  и молодые...    Пиво  стало  своеобразным символом, атрибутом уверенности,  успеш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тттттт"/>
          <p:cNvPicPr/>
          <p:nvPr/>
        </p:nvPicPr>
        <p:blipFill>
          <a:blip r:embed="rId2"/>
          <a:stretch/>
        </p:blipFill>
        <p:spPr>
          <a:xfrm>
            <a:off x="179280" y="2708280"/>
            <a:ext cx="3456000" cy="3456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5"/>
          <p:cNvSpPr txBox="1"/>
          <p:nvPr/>
        </p:nvSpPr>
        <p:spPr>
          <a:xfrm>
            <a:off x="755640" y="18900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660033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Что такое пиво ?</a:t>
            </a:r>
            <a:endParaRPr b="1" lang="en-US" sz="1800" spc="1" strike="noStrike">
              <a:ln w="31680">
                <a:solidFill>
                  <a:srgbClr val="660033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pic>
        <p:nvPicPr>
          <p:cNvPr id="68" name="Picture 6" descr="ккккк"/>
          <p:cNvPicPr/>
          <p:nvPr/>
        </p:nvPicPr>
        <p:blipFill>
          <a:blip r:embed="rId1"/>
          <a:stretch/>
        </p:blipFill>
        <p:spPr>
          <a:xfrm>
            <a:off x="5940360" y="4292640"/>
            <a:ext cx="2857680" cy="235260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69" name="Picture 7" descr="8"/>
          <p:cNvPicPr/>
          <p:nvPr/>
        </p:nvPicPr>
        <p:blipFill>
          <a:blip r:embed="rId2"/>
          <a:stretch/>
        </p:blipFill>
        <p:spPr>
          <a:xfrm>
            <a:off x="324000" y="1844640"/>
            <a:ext cx="1584000" cy="15843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70" name="Rectangle 8"/>
          <p:cNvSpPr/>
          <p:nvPr/>
        </p:nvSpPr>
        <p:spPr>
          <a:xfrm>
            <a:off x="2041200" y="1819440"/>
            <a:ext cx="721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иво  -  это   алкогольный  напиток,   приготовляем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з  зернового  сырья (в основном из переработа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ячменя - солода), а также хмеля, которые сбражи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пециальными расами пивных дрож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-360" y="3714840"/>
            <a:ext cx="66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пиве содержится от 2,8 до 12% алког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зависимости от сортности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trianqle"/>
          <p:cNvPicPr/>
          <p:nvPr/>
        </p:nvPicPr>
        <p:blipFill>
          <a:blip r:embed="rId3"/>
          <a:stretch/>
        </p:blipFill>
        <p:spPr>
          <a:xfrm>
            <a:off x="1763640" y="4581360"/>
            <a:ext cx="8654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1403280" y="404640"/>
            <a:ext cx="6193080" cy="2953080"/>
          </a:xfrm>
          <a:prstGeom prst="rect">
            <a:avLst/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оться   с   влечением   к  пиву сложнее,  чем  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ечением   к  водке.  Это  влечение бывает оч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йливым и с трудом отпус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долго хочется больному еще разок ощут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 глубокое седативно-релаксирующее действ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 покой,  вдохнуть этот аромат, почувств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вк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 итоге пивной алкоголизм - это тяжелый, тру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ддающийся    лечению   вариант    алкого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компания"/>
          <p:cNvPicPr/>
          <p:nvPr/>
        </p:nvPicPr>
        <p:blipFill>
          <a:blip r:embed="rId1"/>
          <a:stretch/>
        </p:blipFill>
        <p:spPr>
          <a:xfrm>
            <a:off x="3348000" y="4149720"/>
            <a:ext cx="2664000" cy="19987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75" name="Picture 8" descr="молодежь и пиво"/>
          <p:cNvPicPr/>
          <p:nvPr/>
        </p:nvPicPr>
        <p:blipFill>
          <a:blip r:embed="rId2"/>
          <a:stretch/>
        </p:blipFill>
        <p:spPr>
          <a:xfrm>
            <a:off x="6156360" y="3645000"/>
            <a:ext cx="2568600" cy="30193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76" name="Picture 11" descr="юююююююю"/>
          <p:cNvPicPr/>
          <p:nvPr/>
        </p:nvPicPr>
        <p:blipFill>
          <a:blip r:embed="rId3"/>
          <a:stretch/>
        </p:blipFill>
        <p:spPr>
          <a:xfrm>
            <a:off x="496800" y="3573360"/>
            <a:ext cx="2678040" cy="309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684360" y="549360"/>
            <a:ext cx="7993080" cy="914400"/>
          </a:xfrm>
          <a:prstGeom prst="foldedCorner">
            <a:avLst>
              <a:gd name="adj" fmla="val 21606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 Black"/>
              </a:rPr>
              <a:t>Реклама пива умалчивает о в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бутылки пива"/>
          <p:cNvPicPr/>
          <p:nvPr/>
        </p:nvPicPr>
        <p:blipFill>
          <a:blip r:embed="rId1"/>
          <a:stretch/>
        </p:blipFill>
        <p:spPr>
          <a:xfrm>
            <a:off x="1258920" y="1628640"/>
            <a:ext cx="6408720" cy="480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п"/>
          <p:cNvPicPr/>
          <p:nvPr/>
        </p:nvPicPr>
        <p:blipFill>
          <a:blip r:embed="rId2"/>
          <a:stretch/>
        </p:blipFill>
        <p:spPr>
          <a:xfrm>
            <a:off x="6084720" y="3500280"/>
            <a:ext cx="2708280" cy="3168720"/>
          </a:xfrm>
          <a:prstGeom prst="rect">
            <a:avLst/>
          </a:prstGeom>
          <a:ln w="0">
            <a:noFill/>
          </a:ln>
        </p:spPr>
      </p:pic>
      <p:sp>
        <p:nvSpPr>
          <p:cNvPr id="80" name="WordArt 8"/>
          <p:cNvSpPr txBox="1"/>
          <p:nvPr/>
        </p:nvSpPr>
        <p:spPr>
          <a:xfrm>
            <a:off x="0" y="2060640"/>
            <a:ext cx="86691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99"/>
                </a:solidFill>
                <a:latin typeface="Arial Black"/>
              </a:rPr>
              <a:t>Несколько причин,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66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99"/>
                </a:solidFill>
                <a:latin typeface="Arial Black"/>
              </a:rPr>
              <a:t> </a:t>
            </a: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99"/>
                </a:solidFill>
                <a:latin typeface="Arial Black"/>
              </a:rPr>
              <a:t>по которым нельзя пить пиво !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6699"/>
              </a:solidFill>
              <a:latin typeface="Arial Black"/>
              <a:ea typeface="Arial Black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924360" y="5734080"/>
            <a:ext cx="990720" cy="976320"/>
          </a:xfrm>
          <a:prstGeom prst="downArrow">
            <a:avLst>
              <a:gd name="adj1" fmla="val 54167"/>
              <a:gd name="adj2" fmla="val 4618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6" descr="24"/>
          <p:cNvPicPr/>
          <p:nvPr/>
        </p:nvPicPr>
        <p:blipFill>
          <a:blip r:embed="rId3"/>
          <a:stretch/>
        </p:blipFill>
        <p:spPr>
          <a:xfrm rot="5400000">
            <a:off x="3948120" y="585324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untitled"/>
          <p:cNvPicPr/>
          <p:nvPr/>
        </p:nvPicPr>
        <p:blipFill>
          <a:blip r:embed="rId1"/>
          <a:stretch/>
        </p:blipFill>
        <p:spPr>
          <a:xfrm>
            <a:off x="324000" y="1916280"/>
            <a:ext cx="4768560" cy="358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beer"/>
          <p:cNvPicPr/>
          <p:nvPr/>
        </p:nvPicPr>
        <p:blipFill>
          <a:blip r:embed="rId2"/>
          <a:stretch/>
        </p:blipFill>
        <p:spPr>
          <a:xfrm>
            <a:off x="2987640" y="3068640"/>
            <a:ext cx="2664000" cy="27352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/>
          <p:cNvSpPr/>
          <p:nvPr/>
        </p:nvSpPr>
        <p:spPr>
          <a:xfrm rot="11496000">
            <a:off x="1258920" y="1844280"/>
            <a:ext cx="2687760" cy="1238400"/>
          </a:xfrm>
          <a:custGeom>
            <a:avLst/>
            <a:gdLst>
              <a:gd name="textAreaLeft" fmla="*/ 548280 w 2687760"/>
              <a:gd name="textAreaRight" fmla="*/ 1870560 w 2687760"/>
              <a:gd name="textAreaTop" fmla="*/ 165600 h 1238400"/>
              <a:gd name="textAreaBottom" fmla="*/ 1072800 h 12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13" hR="21600" stAng="10800000" swAng="-5400000"/>
                <a:lnTo>
                  <a:pt x="10627" y="21600"/>
                </a:lnTo>
                <a:arcTo wR="8813" hR="21600" stAng="5400000" swAng="-2945400"/>
                <a:lnTo>
                  <a:pt x="21096" y="7200"/>
                </a:lnTo>
                <a:lnTo>
                  <a:pt x="18533" y="0"/>
                </a:lnTo>
                <a:lnTo>
                  <a:pt x="14962" y="7200"/>
                </a:lnTo>
                <a:lnTo>
                  <a:pt x="17122" y="7200"/>
                </a:lnTo>
                <a:arcTo wR="8813" hR="21600" stAng="2454600" swAng="2800362"/>
                <a:lnTo>
                  <a:pt x="9720" y="21485"/>
                </a:lnTo>
                <a:arcTo wR="8813" hR="21600" stAng="5545038" swAng="5254962"/>
                <a:close/>
              </a:path>
              <a:path fill="darkenLess" w="21600" h="21600">
                <a:moveTo>
                  <a:pt x="0" y="0"/>
                </a:moveTo>
                <a:arcTo wR="8813" hR="21600" stAng="10800000" swAng="-5400000"/>
                <a:lnTo>
                  <a:pt x="10627" y="21600"/>
                </a:lnTo>
                <a:arcTo wR="8813" hR="21600" stAng="5400000" swAng="145038"/>
                <a:lnTo>
                  <a:pt x="9720" y="21485"/>
                </a:lnTo>
                <a:arcTo wR="8813" hR="21600" stAng="5545038" swAng="5254962"/>
                <a:close/>
              </a:path>
            </a:pathLst>
          </a:cu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8"/>
          <p:cNvSpPr/>
          <p:nvPr/>
        </p:nvSpPr>
        <p:spPr>
          <a:xfrm>
            <a:off x="6012000" y="1341360"/>
            <a:ext cx="2950920" cy="2449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 rot="630600">
            <a:off x="3059280" y="1628640"/>
            <a:ext cx="2808000" cy="486000"/>
          </a:xfrm>
          <a:custGeom>
            <a:avLst/>
            <a:gdLst>
              <a:gd name="textAreaLeft" fmla="*/ 438480 w 2808000"/>
              <a:gd name="textAreaRight" fmla="*/ 2457000 w 28080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313520" y="6021360"/>
            <a:ext cx="483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"/>
              </a:rPr>
              <a:t>Пересчитайте, сколько нерв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"/>
              </a:rPr>
              <a:t>клеток погибнет от одного стакана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108000" y="189000"/>
            <a:ext cx="5905440" cy="9144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мериканские ученые подсчитали,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что от 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итра выпитого пива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гибают 6500 нейр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6300720" y="189000"/>
            <a:ext cx="2448000" cy="9144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звозв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arr30"/>
          <p:cNvPicPr/>
          <p:nvPr/>
        </p:nvPicPr>
        <p:blipFill>
          <a:blip r:embed="rId4"/>
          <a:stretch/>
        </p:blipFill>
        <p:spPr>
          <a:xfrm>
            <a:off x="255600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79280" y="1330560"/>
            <a:ext cx="583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тоит наивно предполагать, что данное утверждение - преувеличение:  по данным Международная        академия     трезвости, которые       основаны      на     многолетних исследованиях западных и русских учёных и документах ВООЗ,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иво является первым вагоном   того      наркотического      поезда, который     норовит     умчать      беспечных граждан     в     страну   грёз и зависимостей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79280" y="333360"/>
            <a:ext cx="8856720" cy="91440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Пиво — самый лёгкий путь к наркоман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940360" y="1628640"/>
            <a:ext cx="2987640" cy="2376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поезд"/>
          <p:cNvPicPr/>
          <p:nvPr/>
        </p:nvPicPr>
        <p:blipFill>
          <a:blip r:embed="rId2"/>
          <a:stretch/>
        </p:blipFill>
        <p:spPr>
          <a:xfrm>
            <a:off x="4859280" y="4581360"/>
            <a:ext cx="3745080" cy="1947960"/>
          </a:xfrm>
          <a:prstGeom prst="rect">
            <a:avLst/>
          </a:prstGeom>
          <a:ln w="0">
            <a:noFill/>
          </a:ln>
        </p:spPr>
      </p:pic>
      <p:sp>
        <p:nvSpPr>
          <p:cNvPr id="96" name="Oval 10"/>
          <p:cNvSpPr/>
          <p:nvPr/>
        </p:nvSpPr>
        <p:spPr>
          <a:xfrm>
            <a:off x="3564000" y="5013360"/>
            <a:ext cx="2232000" cy="1366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пив"/>
          <p:cNvPicPr/>
          <p:nvPr/>
        </p:nvPicPr>
        <p:blipFill>
          <a:blip r:embed="rId4"/>
          <a:stretch/>
        </p:blipFill>
        <p:spPr>
          <a:xfrm>
            <a:off x="6084720" y="5300640"/>
            <a:ext cx="792360" cy="384120"/>
          </a:xfrm>
          <a:prstGeom prst="rect">
            <a:avLst/>
          </a:prstGeom>
          <a:ln w="0">
            <a:noFill/>
          </a:ln>
        </p:spPr>
      </p:pic>
      <p:sp>
        <p:nvSpPr>
          <p:cNvPr id="98" name="Oval 12"/>
          <p:cNvSpPr/>
          <p:nvPr/>
        </p:nvSpPr>
        <p:spPr>
          <a:xfrm>
            <a:off x="1763640" y="5084640"/>
            <a:ext cx="2305080" cy="1295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179280" y="5084640"/>
            <a:ext cx="2305080" cy="1295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8:58:53Z</dcterms:created>
  <dc:creator>Namikk</dc:creator>
  <dc:description/>
  <dc:language>en-US</dc:language>
  <cp:lastModifiedBy>Admin</cp:lastModifiedBy>
  <dcterms:modified xsi:type="dcterms:W3CDTF">2010-12-01T19:26:40Z</dcterms:modified>
  <cp:revision>19</cp:revision>
  <dc:subject/>
  <dc:title>Слайд 1</dc:title>
</cp:coreProperties>
</file>