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09AC-DC5E-475A-BD9D-188545AF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455C-85C6-4609-8EA4-41BCFDEC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0A65-64D0-4110-9073-0E95315D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E9DF-6A5D-4922-B027-719A4F44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2FE4-7185-4694-B616-E758AE79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12C6-5EF8-4E2F-A3EF-3334FA27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FC54-616C-4700-9FED-FDA9C27F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582B-4A16-4AFE-AA82-235B1A27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48E5-C41B-4EB2-8156-A7FAA8A8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FCCB-FBE3-4A87-B97C-0C6092E3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76B6-B2E1-4E4A-8CD8-8401D6DB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D01-280B-4292-8910-9316EAA6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6487-5767-4360-99B0-A01E6313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93E4-1E09-459D-AC86-D6868399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63ED-67EB-46AE-8D00-ADBADF39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7500-E56E-4B40-A765-74DFBCB9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2F5B-237F-43A3-A29C-972C01A8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5238-21FF-41D6-89AA-F289649C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BB96-1375-4AD2-8786-EAC4118B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CC1D-D559-4B30-90FA-05BF93E5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4C5B-71D8-4615-A0BE-75D28891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291F-2435-4CAE-B20E-5C500415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090E-1F60-448F-BDE5-6E2A4F30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F83-4E34-449A-9E16-E09F7070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9F00-40CB-4E0F-964A-99D6EA3C03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4475-0403-4529-B315-32D8F97F0C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84360" y="404640"/>
            <a:ext cx="77752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CAVE PAIN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42920" y="3143160"/>
            <a:ext cx="676908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EUROPE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4360" y="476280"/>
            <a:ext cx="806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FRANC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2060640"/>
            <a:ext cx="193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caux is the setting of a complex of caves in southwestern France famous for its Paleolithic cave painti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9640" y="450864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132000" y="2205000"/>
            <a:ext cx="2592360" cy="1871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724360" y="4005360"/>
            <a:ext cx="3009960" cy="1973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796000" y="2205000"/>
            <a:ext cx="30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ave contains nearly 2,000 figures, which can be grouped into three main categories — animals, human figures and abstract sig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4724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ost famous section of the cave is The Great Hall of the Bull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39640" y="549360"/>
            <a:ext cx="8136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Font de Gaum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029040" cy="4033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51280" y="2060640"/>
            <a:ext cx="239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nt de Gaume is a cave in southwestern France near Les Eyzies. The cave houses a collection of prehistoric polychrome cave paintings, and is a popular site for touris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5013360"/>
            <a:ext cx="473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historic people living in the Dordogne Valley first settled in the mouth of Font de Gaume around 25,000 B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300720" y="2276640"/>
            <a:ext cx="23749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476280"/>
            <a:ext cx="7921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AI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2060640"/>
            <a:ext cx="2108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tamira (Spanish for 'high view') is a cave in Spain famous for its Upper Paleolithic cave paintings featuring drawings and polychrome rock paintings of wild mammals and human hand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27280" y="3438360"/>
            <a:ext cx="3313080" cy="2267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867280" y="2060640"/>
            <a:ext cx="2629080" cy="1670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12000" y="3933720"/>
            <a:ext cx="254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bison from the Altamira cave ceiling, one of the most famous paintings from the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2133720"/>
            <a:ext cx="282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ave is 296 meters long, and consists of a series of twisting passages and chamb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9640" y="549360"/>
            <a:ext cx="81360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ueva de La Pasieg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2133720"/>
            <a:ext cx="76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eva de La Pasiega, or Cave of La Pasiega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one of the most important monuments of Paleolithic art in Cantabri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3809880" cy="1971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067280" y="4624560"/>
            <a:ext cx="2303280" cy="2233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56360" y="2781360"/>
            <a:ext cx="2282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representations of equines (horses), cervids (deer, male and female) and bovines (cattle). There are also many abstract symbols (ideomorph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9:25:43Z</dcterms:created>
  <dc:creator>Customer</dc:creator>
  <dc:description/>
  <dc:language>en-US</dc:language>
  <cp:lastModifiedBy>Customer</cp:lastModifiedBy>
  <dcterms:modified xsi:type="dcterms:W3CDTF">2010-02-10T20:23:50Z</dcterms:modified>
  <cp:revision>2</cp:revision>
  <dc:subject/>
  <dc:title>Слайд 1</dc:title>
</cp:coreProperties>
</file>