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D9B-7E0A-42AC-A34C-70FD8052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91D-1CA5-49FE-9A05-E6B68AA9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760-E607-4EE1-9202-799D4039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150-7691-4CCA-BF32-3D571596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D97F-2FA1-4E7E-B664-1E0AF5C2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37BB-B11C-463C-804D-8706A225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8F77-9FF9-4947-B4B2-9229E68B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ABA8-294B-4791-8503-DDF7F99C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A257-2CAB-400A-A3BA-EA791406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87BC-8092-48C8-B2DF-53140B3E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D67D-49D2-406F-995C-E837157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877-3035-4735-911A-368F84C9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40FE-CBB1-4EC9-8175-20978DA8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7010-F3BF-4C8A-8860-64DF61E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7F65-0FE6-4375-A19B-298E3090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C817-C4C0-40C7-9529-53AAA3D6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7181-2EA6-423D-BA47-A2A5965A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08F-3986-48BD-B3B4-A9936EDE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A3B-F986-4811-B78D-E0450892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1A0-2889-4D22-BF11-8CAA1A8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641-36DE-4287-A22C-7003AE11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FF1-6F54-496F-BF74-FBC85AC0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B06-ADCF-4735-AFC1-84AA62A5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DC6-7D9E-408F-8CD6-534B183E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0A2A-B340-423D-AEAE-B6B8AACF6B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7B90-B5B4-4D3A-B3F9-85E8E00C18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4360" y="404640"/>
            <a:ext cx="7775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AVE PAIN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3143160"/>
            <a:ext cx="6769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EUROPE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4360" y="476280"/>
            <a:ext cx="80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RANC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2060640"/>
            <a:ext cx="193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caux is the setting of a complex of caves in southwestern France famous for its Paleolithic cave paint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24360" y="4005360"/>
            <a:ext cx="3009960" cy="1973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6000" y="2205000"/>
            <a:ext cx="30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ve contains nearly 2,000 figures, which can be grouped into three main categories — animals, human figures and abstract sig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4724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st famous section of the cave is The Great Hall of the Bull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39640" y="549360"/>
            <a:ext cx="8136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ont de Gaum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029040" cy="403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51280" y="2060640"/>
            <a:ext cx="239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nt de Gaume is a cave in southwestern France near Les Eyzies. The cave houses a collection of prehistoric polychrome cave paintings, and is a popular site for touri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5013360"/>
            <a:ext cx="473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historic people living in the Dordogne Valley first settled in the mouth of Font de Gaume around 25,000 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00720" y="2276640"/>
            <a:ext cx="23749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476280"/>
            <a:ext cx="7921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AI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060640"/>
            <a:ext cx="2108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amira (Spanish for 'high view') is a cave in Spain famous for its Upper Paleolithic cave paintings featuring drawings and polychrome rock paintings of wild mammals and human ha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3438360"/>
            <a:ext cx="3313080" cy="2267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629080" cy="167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2000" y="3933720"/>
            <a:ext cx="254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ison from the Altamira cave ceiling, one of the most famous paintings from t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213372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ve is 296 meters long, and consists of a series of twisting passages and cha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640" y="549360"/>
            <a:ext cx="8136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ueva de La Pasieg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133720"/>
            <a:ext cx="76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eva de La Pasiega, or Cave of La Pasieg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one of the most important monuments of Paleolithic art in Cantab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809880" cy="1971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67280" y="4624560"/>
            <a:ext cx="2303280" cy="223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56360" y="2781360"/>
            <a:ext cx="228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representations of equines (horses), cervids (deer, male and female) and bovines (cattle). There are also many abstract symbols (ideomorph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9:25:43Z</dcterms:created>
  <dc:creator>Customer</dc:creator>
  <dc:description/>
  <dc:language>en-US</dc:language>
  <cp:lastModifiedBy>Customer</cp:lastModifiedBy>
  <dcterms:modified xsi:type="dcterms:W3CDTF">2010-02-10T20:23:50Z</dcterms:modified>
  <cp:revision>2</cp:revision>
  <dc:subject/>
  <dc:title>Слайд 1</dc:title>
</cp:coreProperties>
</file>