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F1A-CB33-41B4-BDCC-82AB5B91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D60-FF69-417C-B814-069F2E15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86D-9161-4C52-9637-8E84CC3D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9AE-FFA6-4914-8696-EA52EC6F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058F-3C8F-44C7-A3E6-246CE2F1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A28-5701-451F-BBFD-8250884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1388-FDCB-4566-98CE-8CB9A4A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542C-E3AA-4A8C-B56E-66B8AAE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82F-D343-4B28-B66B-F2108222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A517-CBFB-404F-ADCD-8FB1F1CA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436F-02B2-4830-A862-4A27A28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0A2-EECE-4CB4-A318-012DB9E1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E0B-7D6B-4B33-B4F7-46E637C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7401-D68B-4695-8E81-CC7757B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BAC-539E-491A-8715-89E9624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BFE4-FD83-49CB-A02E-E388CC7C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D17-9854-4D34-B96B-0490B760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66E-1C2D-41DC-A78F-94CA40E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221-6045-446A-B872-22BED06D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286-C932-409B-8798-BB93D2B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360-EA33-4061-95C7-6C43D525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38F-3C88-4C0D-B5C2-C7CC0ED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578-0B94-45FA-B98A-EFA2A2D0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871-3988-433B-9AFF-83A4BCA2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EDB1-BE7E-4B2F-B36F-122F6DEE17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BE2-CFD2-47B3-AAE4-9EB1BA48C6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404640"/>
            <a:ext cx="7775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AVE PAI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42920" y="3143160"/>
            <a:ext cx="6769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EUROPE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360" y="476280"/>
            <a:ext cx="806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ANC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060640"/>
            <a:ext cx="193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caux is the setting of a complex of caves in southwestern France famous for its Paleolithic cave pain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32000" y="220500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197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796000" y="220500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contains nearly 2,000 figures, which can be grouped into three main categories — animals, human figures and abstract sig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4724280"/>
            <a:ext cx="31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st famous section of the cave is The Great Hall of the Bull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39640" y="549360"/>
            <a:ext cx="8136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ont de Gaum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029040" cy="4033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51280" y="2060640"/>
            <a:ext cx="239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nt de Gaume is a cave in southwestern France near Les Eyzies. The cave houses a collection of prehistoric polychrome cave paintings, and is a popular site for touris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5013360"/>
            <a:ext cx="473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historic people living in the Dordogne Valley first settled in the mouth of Font de Gaume around 25,000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2276640"/>
            <a:ext cx="23749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476280"/>
            <a:ext cx="7921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AIN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060640"/>
            <a:ext cx="2108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mira (Spanish for 'high view') is a cave in Spain famous for its Upper Paleolithic cave paintings featuring drawings and polychrome rock paintings of wild mammals and human h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3438360"/>
            <a:ext cx="3313080" cy="2267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629080" cy="1670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2000" y="3933720"/>
            <a:ext cx="254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son from the Altamira cave ceiling, one of the most famous paintings from t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213372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ve is 296 meters long, and consists of a series of twisting passages and chamb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549360"/>
            <a:ext cx="8136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ueva de La Pasieg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133720"/>
            <a:ext cx="76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eva de La Pasiega, or Cave of La Pasieg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one of the most important monuments of Paleolithic art in Cantab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809880" cy="19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067280" y="4624560"/>
            <a:ext cx="2303280" cy="2233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56360" y="2781360"/>
            <a:ext cx="2282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representations of equines (horses), cervids (deer, male and female) and bovines (cattle). There are also many abstract symbols (ideomorph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9:25:43Z</dcterms:created>
  <dc:creator>Customer</dc:creator>
  <dc:description/>
  <dc:language>en-US</dc:language>
  <cp:lastModifiedBy>Customer</cp:lastModifiedBy>
  <dcterms:modified xsi:type="dcterms:W3CDTF">2010-02-10T20:23:50Z</dcterms:modified>
  <cp:revision>2</cp:revision>
  <dc:subject/>
  <dc:title>Слайд 1</dc:title>
</cp:coreProperties>
</file>