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556-FD12-447E-9D70-C4302552C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AB7-E1F5-4BFF-A7AC-80A5221B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52C-424D-4751-A113-8811E246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A00-CDC0-4BAB-B4E5-9D2F7CDA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946-7E6B-44ED-98FB-EC40500D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A8DB-16C0-47CF-9E34-E0EB5EBA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112-F0D9-4B43-BC91-410E364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14B5-3BB3-45E2-8C74-75127840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9FA0-0712-4BDA-AAEF-84B6BA64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E41-4202-4EF2-8A5A-F31061F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5259-3037-4D71-84DC-CFC166A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6FD-C14D-4ECC-989D-FDEDE5D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2C7D-F2FA-4F29-B65A-AEFA594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6907-5CE6-4E70-BDD6-38BC125D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41B-3E22-406E-AE3F-26CD0099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CD0E-DE40-4A3D-8DF1-8DB805ED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A725-9C93-4CAC-84C6-F345B092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E5F-C4FA-41C3-83A4-DA0B873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10B-8400-47D0-8DCA-743E599C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F26-27A3-48D9-84CA-245C49BD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DBA-ED60-42F9-B023-E7E03D3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AD1-504D-4F9F-8E2E-EE49325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56F-60DD-4996-ABFD-61C616B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A5B-F01D-45C6-9FAA-75FD76F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F5AE-6117-413B-A60B-2C3971191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1B0-AAFF-4A72-9DE2-1C4636161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Обрядовый фольклор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Выполнил: Носенко Иль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ученик 8б класс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МОУ «Гимназия № 69 им.Чередова И.М.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олькл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folklor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 — народное творчество; вид коллективной словесной деятельности, которая осуществляется преимущественно в устной форме. Фольклор делится на две группы: обрядовый и необрядо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ипология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 обрядовому фольклору относя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лендарный фольклор (колядки, масленичные песни, веснянки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мейный фольклор (семейные рассказы, колыбельные, свадебные песни, причитания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кказиональный (заговоры, заклички, считалки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обрядовый фольклор делится на четыре групп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ная дра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з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з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льклор речевых ситуац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став обрядового фолькло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ставляли словесно-музыкальные, драматические, игровые, хореографические жанры, которые входили в состав традиционных народных обрядов. В жизни народа обряды занимали важное место. Они складывались из века в век, постепенно накапливая разнообразный опыт многих поколений. Обряды имели ритуально-магическое значение, содержали правила поведения человека в быту и труде. Их принято делить на трудовые (земледельческие) и семейные. Русские обряды генетически связаны с обрядами других славянских народов и имеют типологическую аналогию с обрядами многих народов мира.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рядовая поэз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ая поэзия взаимодействовала с народными обрядами, содержала элементы драматической игры. Она имела ритуально-магическое значение, а также выполняла психологические и эстетические функции.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ый фольклор синкретичен по своей сути, поэтому его целесообразно рассматривать в составе соответствующих обря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в обрядовой поэз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говор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с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чит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ждый вид представлен группой жан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имущественно важны песни — древнейший пласт музыкально-поэтического фольклора. Во многих обрядах они занимали ведущее место, сочетая магическую, утилитарно-практическую и художественную функции. Песни исполнялись хором. Ритуальные песни отражали собственно обряд, способствовали его формированию и реализаци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клинательные песн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были магическим обращением к силам природы с целью получить благополучие в хозяйстве и семье.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личальных песн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поэтически идеализировались, прославлялись участники ритуала: реальные люди или мифологические образы (Коляда, Масленица и др.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тивоположны величальным бы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орильн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торые высмеивали участников ритуала, нередко в гротескной форме; их содержание было юмористическим или сатирическим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гровые песн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сполнялись во время различных молодежных игр; в них описывались и сопровождались имитацией полевые работы, разыгрывались семейные сцены (например, сватовство)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сни лирически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— наиболее позднее явление в обряде. Их главное назначение — определять мысли, чувства и настроения. Благодаря лирическим песням создавался определенный эмоциональный колорит, утверждалась традиционная эти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819520"/>
            <a:ext cx="81532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4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1-09-14T14:55:2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