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F0B-5D57-4444-BF81-9E91999B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7A3-CCBC-468C-9E51-FEFD5940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41D-C860-4DFF-80A6-FC0DEEF8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AC7-30FE-4363-AA2E-66B01AB3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412-BFF2-4519-845F-BAEEA8F9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E4B5-EA7B-4E95-8D32-5AE4FA4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5C53-6184-45E6-A53F-F5DDC2AE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98A5-0CAC-440F-8B5B-AB166119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D314-C85C-41A4-A4FF-9A90FEC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4A9D-C68F-49E5-B6C3-D3023E17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6D08-C3C1-4763-95C8-C22E541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5CF-9A3A-4D51-8E5D-C7FAD33B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31CC-BE0A-449E-8A6D-5C1D255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B297-AD95-47C7-8935-2CBA20B6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4D8-4E56-427A-948A-ECEBA63D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4C37-E803-4B5E-AE41-B531FBDB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036E-0FF4-4771-8FBE-DD5966E7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4AE-63F6-4C3E-BDD1-97461251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008-C400-4CC8-B988-7838056C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2A4-5C96-4D16-9ECE-910C00B5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E52-2E38-4445-B98A-1790A8A8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81B-3499-4B71-A62B-4C2B7E3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AC4-CB3C-42AC-89DA-ADA5C29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860-5CA4-4668-902D-BFF4843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5588-569E-4EDD-A33C-9ECE89228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E1B2-C2F9-473A-9C3E-2FB59FAB4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Обрядовый фольклор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ыполнил: Носенко Иль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ученик 8б класс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МОУ «Гимназия № 69 им.Чередова И.М.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преде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лькл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 (англ.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folklor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— народное творчество; вид коллективной словесной деятельности, которая осуществляется преимущественно в устной форме. Фольклор делится на две группы: обрядовый и необрядо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ипология фолькло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обрядовому фольклору относя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лендарный фольклор (колядки, масленичные песни, веснянки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ейный фольклор (семейные рассказы, колыбельные, свадебные песни, причитания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кказиональный (заговоры, заклички, считалк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рядовый фольклор делится на четыре групп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льклорная дра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эз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з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льклор речевых ситуа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став обрядового фолькло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рядовый фолькло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составляли словесно-музыкальные, драматические, игровые, хореографические жанры, которые входили в состав традиционных народных обрядов. В жизни народа обряды занимали важное место. Они складывались из века в век, постепенно накапливая разнообразный опыт многих поколений. Обряды имели ритуально-магическое значение, содержали правила поведения человека в быту и труде. Их принято делить на трудовые (земледельческие) и семейные. Русские обряды генетически связаны с обрядами других славянских народов и имеют типологическую аналогию с обрядами многих народов мира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рядовая поэз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ая поэзия взаимодействовала с народными обрядами, содержала элементы драматической игры. Она имела ритуально-магическое значение, а также выполняла психологические и эстетические функции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ый фольклор синкретичен по своей сути, поэтому его целесообразно рассматривать в составе соответствующих обря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в обрядовой поэз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говоры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с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чит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ждый вид представлен группой жан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имущественно важны песни — древнейший пласт музыкально-поэтического фольклора. Во многих обрядах они занимали ведущее место, сочетая магическую, утилитарно-практическую и художественную функции. Песни исполнялись хором. Ритуальные песни отражали собственно обряд, способствовали его формированию и реализации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клинательные песн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ыли магическим обращением к силам природы с целью получить благополучие в хозяйстве и семье.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личальных песн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поэтически идеализировались, прославлялись участники ритуала: реальные люди или мифологические образы (Коляда, Масленица и др.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тивоположны величальным был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орильные пес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торые высмеивали участников ритуала, нередко в гротескной форме; их содержание было юмористическим или сатирическим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гровые пес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сполнялись во время различных молодежных игр; в них описывались и сопровождались имитацией полевые работы, разыгрывались семейные сцены (например, сватовство)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сни лирическ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— наиболее позднее явление в обряде. Их главное назначение — определять мысли, чувства и настроения. Благодаря лирическим песням создавался определенный эмоциональный колорит, утверждалась традиционная эти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819520"/>
            <a:ext cx="815328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24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1-09-14T14:55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