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E69-B474-4215-9CD2-C36AD860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4DF-F238-433C-89BB-3DFFD59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9D4-F71C-47D5-B867-4E0FABBF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F43-B234-47CE-98FC-41382F3B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8AAC-719E-4142-B88E-E8D6849B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A3A-2396-47A4-9722-4ED218D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C461-390F-4FB7-B089-A771C99F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A67-37AE-44AE-BD53-8F26F98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D5A-AA59-413A-9AC1-1EF00490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8CF-4851-4C34-969E-47C85E85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8BB0-3A13-4BEF-AD31-6CC269C5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B42-D6B0-479C-947E-BAC2A255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D15-7357-4146-8FFA-AEE68DF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9B3B-7EDC-4AC6-B533-48B4600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6E4A-E0F3-4044-B9D2-9037DBAA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1A9-4121-4B04-A52D-0A5340FE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CC7-247B-4E91-98E5-D16B17AB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985-3530-4C3E-9940-6E8C13E0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3D2-5FA0-4A1C-A42F-AD4FCD17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00C-C11B-44F6-A2EE-4AB0C200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3BD-6B75-446C-90AF-D79709C4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C63-2A41-4D1E-AD46-0FAC1CF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360-0092-4624-BE76-EB15A89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540-634B-4DCE-AD4D-A1BC1CE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B7A-BAEB-47C1-8893-CB6CA04F9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E935-404A-45D0-95FE-18022954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брядовый фольклор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ыполнил: Носенко Иль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ученик 8б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ОУ «Гимназия № 69 им.Чередова И.М.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лькл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folklo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— народное творчество; вид коллективной словесной деятельности, которая осуществляется преимущественно в устной форме. Фольклор делится на две группы: обрядовый и необрядо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пология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обрядовому фольклору относя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ендарный фольклор (колядки, масленичные песни, веснянк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йный фольклор (семейные рассказы, колыбельные, свадебные песни, причитания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казиональный (заговоры, заклички, считал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рядовый фольклор делится на четыре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ная дра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з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з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 речевых ситуа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 обрядового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ставляли словесно-музыкальные, драматические, игровые, хореографические жанры, которые входили в состав традиционных народных обрядов. В жизни народа обряды занимали важное место. Они складывались из века в век, постепенно накапливая разнообразный опыт многих поколений. Обряды имели ритуально-магическое значение, содержали правила поведения человека в быту и труде. Их принято делить на трудовые (земледельческие) и семейные. Русские обряды генетически связаны с обрядами других славянских народов и имеют типологическую аналогию с обрядами многих народов мира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рядовая 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ая поэзия взаимодействовала с народными обрядами, содержала элементы драматической игры. Она имела ритуально-магическое значение, а также выполняла психологические и эстетические функци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 синкретичен по своей сути, поэтому его целесообразно рассматривать в составе соответствующих обря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в обрядовой поэз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вор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с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чит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ждый вид представлен группой жан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имущественно важны песни — древнейший пласт музыкально-поэтического фольклора. Во многих обрядах они занимали ведущее место, сочетая магическую, утилитарно-практическую и художественную функции. Песни исполнялись хором. Ритуальные песни отражали собственно обряд, способствовали его формированию и реализаци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клинательные песн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и магическим обращением к силам природы с целью получить благополучие в хозяйстве и семье.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личальных песн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поэтически идеализировались, прославлялись участники ритуала: реальные люди или мифологические образы (Коляда, Масленица и др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тивоположны величальным бы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орильн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торые высмеивали участников ритуала, нередко в гротескной форме; их содержание было юмористическим или сатирическим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ов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сполнялись во время различных молодежных игр; в них описывались и сопровождались имитацией полевые работы, разыгрывались семейные сцены (например, сватовство)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сни лирическ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— наиболее позднее явление в обряде. Их главное назначение — определять мысли, чувства и настроения. Благодаря лирическим песням создавался определенный эмоциональный колорит, утверждалась традиционная эти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819520"/>
            <a:ext cx="81532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4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1-09-14T14:55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