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9.png" ContentType="image/png"/>
  <Override PartName="/ppt/media/image5.gif" ContentType="image/gif"/>
  <Override PartName="/ppt/media/image14.jpeg" ContentType="image/jpeg"/>
  <Override PartName="/ppt/media/image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D85C-CE49-46F3-B0F2-026D1B2F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AB47-86F6-4B75-8982-98C81C9C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2194-A17D-477C-9333-8371EA3A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1053-DEE1-40D1-89FD-9A57898C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0C14-F530-4C68-A42E-2A777AB8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987D-4393-42CF-AAE4-C22C2BAA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5A54-B084-4F5B-994F-417C4D81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3D8B-E692-4FA2-BEB1-1148801C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111B-CB6E-4330-9A3A-D7D1E7BE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0A88-884F-468A-8C13-DF39D89C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94DE-24CA-4514-8B3D-309A7D22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E9CB-4F20-40E1-82A9-1256D54E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3E36-197D-4ABF-BD5F-EFE5EA48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1D27-FB33-4257-B2D9-EE2FD299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5787-E9FF-40DD-A951-ABC87D03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67D9-628B-42EE-859B-2D026ED4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57A7-9C68-45F9-9E63-6C1B01B9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136B-5897-4BBC-B718-C32DF3CB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1A00-6A56-421B-8E1E-2149E5F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A093-16B8-45F3-BFEE-E25BE8C3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E408-8BD9-446D-A471-CB5E0180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BC52-FFB5-4AF4-A944-287AF525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99B9-DCB5-4EE7-8EA3-94A4EF3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A756-889E-4F7F-892C-FEA580E2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939E-8F5E-4916-8E7D-50AFD3198D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45A5-DACE-4AC3-8920-F0B2FF42B0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7.jpeg"/><Relationship Id="rId4" Type="http://schemas.openxmlformats.org/officeDocument/2006/relationships/slide" Target="slide7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7;&#1077;&#1084;&#1089;&#1082;&#1086;&#1077;_&#1091;&#1095;&#1080;&#1083;&#1080;&#1097;&#1077;&amp;action=edit&amp;redlink=1" TargetMode="External"/><Relationship Id="rId2" Type="http://schemas.openxmlformats.org/officeDocument/2006/relationships/hyperlink" Target="http://ru.wikipedia.org/w/index.php?title=&#1052;&#1086;&#1088;&#1076;&#1091;&#1093;&#1072;&#1081;-&#1041;&#1086;&#1083;&#1090;&#1086;&#1074;&#1089;&#1082;&#1086;&#1081;,_&#1044;&#1084;&#1080;&#1090;&#1088;&#1080;&#1081;_&#1055;&#1077;&#1090;&#1088;&#1086;&#1074;&#1080;&#1095;&amp;action=edit&amp;redlink=1" TargetMode="External"/><Relationship Id="rId3" Type="http://schemas.openxmlformats.org/officeDocument/2006/relationships/hyperlink" Target="http://ru.wikipedia.org/wiki/1889_&#1075;&#1086;&#1076;" TargetMode="External"/><Relationship Id="rId4" Type="http://schemas.openxmlformats.org/officeDocument/2006/relationships/hyperlink" Target="http://ru.wikipedia.org/wiki/&#1057;&#1072;&#1085;&#1082;&#1090;-&#1055;&#1077;&#1090;&#1077;&#1088;&#1073;&#1091;&#1088;&#1075;" TargetMode="External"/><Relationship Id="rId5" Type="http://schemas.openxmlformats.org/officeDocument/2006/relationships/hyperlink" Target="http://ru.wikipedia.org/wiki/&#1051;&#1072;&#1082;&#1077;&#1081;" TargetMode="External"/><Relationship Id="rId6" Type="http://schemas.openxmlformats.org/officeDocument/2006/relationships/hyperlink" Target="http://ru.wikipedia.org/wiki/1895" TargetMode="External"/><Relationship Id="rId7" Type="http://schemas.openxmlformats.org/officeDocument/2006/relationships/hyperlink" Target="http://ru.wikipedia.org/wiki/&#1060;&#1086;&#1088;&#1084;&#1091;&#1083;&#1072;" TargetMode="External"/><Relationship Id="rId8" Type="http://schemas.openxmlformats.org/officeDocument/2006/relationships/hyperlink" Target="http://ru.wikipedia.org/wiki/1899_&#1075;&#1086;&#1076;" TargetMode="External"/><Relationship Id="rId9" Type="http://schemas.openxmlformats.org/officeDocument/2006/relationships/hyperlink" Target="http://ru.wikipedia.org/wiki/&#1058;&#1080;&#1092;&#1083;&#1080;&#1089;" TargetMode="External"/><Relationship Id="rId10" Type="http://schemas.openxmlformats.org/officeDocument/2006/relationships/hyperlink" Target="http://ru.wikipedia.org/wiki/1901_&#1075;&#1086;&#1076;" TargetMode="External"/><Relationship Id="rId11" Type="http://schemas.openxmlformats.org/officeDocument/2006/relationships/hyperlink" Target="http://ru.wikipedia.org/wiki/&#1058;&#1072;&#1083;&#1083;&#1080;&#1085;" TargetMode="External"/><Relationship Id="rId12" Type="http://schemas.openxmlformats.org/officeDocument/2006/relationships/hyperlink" Target="http://ru.wikipedia.org/wiki/&#1058;&#1072;&#1083;&#1083;&#1080;&#1085;&#1089;&#1082;&#1080;&#1081;_&#1079;&#1072;&#1074;&#1086;&#1076;_&#171;&#1042;&#1086;&#1083;&#1100;&#1090;&#1072;&#187;" TargetMode="External"/><Relationship Id="rId13" Type="http://schemas.openxmlformats.org/officeDocument/2006/relationships/hyperlink" Target="http://ru.wikipedia.org/wiki/&#1050;&#1088;&#1077;&#1089;&#1090;&#1099;" TargetMode="External"/><Relationship Id="rId14" Type="http://schemas.openxmlformats.org/officeDocument/2006/relationships/hyperlink" Target="http://ru.wikipedia.org/wiki/1906_&#1075;&#1086;&#1076;" TargetMode="External"/><Relationship Id="rId15" Type="http://schemas.openxmlformats.org/officeDocument/2006/relationships/hyperlink" Target="http://ru.wikipedia.org/wiki/1882" TargetMode="External"/><Relationship Id="rId16" Type="http://schemas.openxmlformats.org/officeDocument/2006/relationships/hyperlink" Target="http://ru.wikipedia.org/wiki/1960" TargetMode="External"/><Relationship Id="rId17" Type="http://schemas.openxmlformats.org/officeDocument/2006/relationships/hyperlink" Target="http://ru.wikipedia.org/wiki/&#1069;&#1089;&#1090;&#1086;&#1085;&#1094;&#1099;" TargetMode="External"/><Relationship Id="rId18" Type="http://schemas.openxmlformats.org/officeDocument/2006/relationships/hyperlink" Target="http://ru.wikipedia.org/wiki/&#1056;&#1077;&#1074;&#1086;&#1083;&#1102;&#1094;&#1080;&#1103;_1905_&#1075;&#1086;&#1076;&#1072;" TargetMode="External"/><Relationship Id="rId19" Type="http://schemas.openxmlformats.org/officeDocument/2006/relationships/hyperlink" Target="http://ru.wikipedia.org/wiki/&#1050;&#1086;&#1086;&#1087;&#1090;&#1072;&#1094;&#1080;&#1103;" TargetMode="External"/><Relationship Id="rId20" Type="http://schemas.openxmlformats.org/officeDocument/2006/relationships/hyperlink" Target="http://ru.wikipedia.org/wiki/1916_&#1075;&#1086;&#1076;" TargetMode="External"/><Relationship Id="rId21" Type="http://schemas.openxmlformats.org/officeDocument/2006/relationships/hyperlink" Target="http://ru.wikipedia.org/wiki/&#1042;&#1086;&#1089;&#1090;&#1086;&#1095;&#1085;&#1072;&#1103;_&#1057;&#1080;&#1073;&#1080;&#1088;&#1100;" TargetMode="External"/><Relationship Id="rId22" Type="http://schemas.openxmlformats.org/officeDocument/2006/relationships/hyperlink" Target="http://ru.wikipedia.org/wiki/&#1055;&#1077;&#1090;&#1088;&#1086;&#1075;&#1088;&#1072;&#1076;" TargetMode="External"/><Relationship Id="rId23" Type="http://schemas.openxmlformats.org/officeDocument/2006/relationships/hyperlink" Target="http://ru.wikipedia.org/wiki/&#1060;&#1077;&#1074;&#1088;&#1072;&#1083;&#1100;&#1089;&#1082;&#1072;&#1103;_&#1088;&#1077;&#1074;&#1086;&#1083;&#1102;&#1094;&#1080;&#1103;" TargetMode="External"/><Relationship Id="rId24" Type="http://schemas.openxmlformats.org/officeDocument/2006/relationships/hyperlink" Target="http://ru.wikipedia.org/wiki/&#1060;&#1080;&#1085;&#1083;&#1103;&#1085;&#1076;&#1089;&#1082;&#1080;&#1081;_&#1074;&#1086;&#1082;&#1079;&#1072;&#1083;" TargetMode="External"/><Relationship Id="rId25" Type="http://schemas.openxmlformats.org/officeDocument/2006/relationships/hyperlink" Target="http://ru.wikipedia.org/wiki/&#1054;&#1082;&#1090;&#1103;&#1073;&#1088;&#1100;&#1089;&#1082;&#1072;&#1103;_&#1088;&#1077;&#1074;&#1086;&#1083;&#1102;&#1094;&#1080;&#1103;" TargetMode="External"/><Relationship Id="rId26" Type="http://schemas.openxmlformats.org/officeDocument/2006/relationships/hyperlink" Target="http://ru.wikipedia.org/wiki/&#1057;&#1074;&#1077;&#1088;&#1076;&#1083;&#1086;&#1074;,_&#1071;&#1082;&#1086;&#1074;_&#1052;&#1080;&#1093;&#1072;&#1081;&#1083;&#1086;&#1074;&#1080;&#1095;" TargetMode="External"/><Relationship Id="rId27" Type="http://schemas.openxmlformats.org/officeDocument/2006/relationships/hyperlink" Target="http://ru.wikipedia.org/wiki/1919_&#1075;&#1086;&#1076;" TargetMode="External"/><Relationship Id="rId28" Type="http://schemas.openxmlformats.org/officeDocument/2006/relationships/hyperlink" Target="http://ru.wikipedia.org/wiki/&#1042;&#1062;&#1048;&#1050;" TargetMode="External"/><Relationship Id="rId29" Type="http://schemas.openxmlformats.org/officeDocument/2006/relationships/hyperlink" Target="http://ru.wikipedia.org/wiki/&#1051;&#1077;&#1085;&#1080;&#1085;,_&#1042;&#1083;&#1072;&#1076;&#1080;&#1084;&#1080;&#1088;_&#1048;&#1083;&#1100;&#1080;&#1095;" TargetMode="External"/><Relationship Id="rId30" Type="http://schemas.openxmlformats.org/officeDocument/2006/relationships/hyperlink" Target="http://ru.wikipedia.org/wiki/&#1058;&#1074;&#1077;&#1088;&#1089;&#1082;&#1072;&#1103;_&#1075;&#1091;&#1073;&#1077;&#1088;&#1085;&#1080;&#1103;" TargetMode="External"/><Relationship Id="rId31" Type="http://schemas.openxmlformats.org/officeDocument/2006/relationships/hyperlink" Target="http://ru.wikipedia.org/wiki/&#1057;&#1098;&#1077;&#1079;&#1076;&#1099;_&#1057;&#1086;&#1074;&#1077;&#1090;&#1086;&#1074;" TargetMode="External"/><Relationship Id="rId32" Type="http://schemas.openxmlformats.org/officeDocument/2006/relationships/hyperlink" Target="http://ru.wikipedia.org/wiki/&#1062;&#1050;_&#1042;&#1050;&#1055;(&#1073;)" TargetMode="External"/><Relationship Id="rId33" Type="http://schemas.openxmlformats.org/officeDocument/2006/relationships/hyperlink" Target="http://ru.wikipedia.org/wiki/1925_&#1075;&#1086;&#1076;" TargetMode="External"/><Relationship Id="rId34" Type="http://schemas.openxmlformats.org/officeDocument/2006/relationships/hyperlink" Target="http://ru.wikipedia.org/wiki/1931_&#1075;&#1086;&#1076;" TargetMode="External"/><Relationship Id="rId35" Type="http://schemas.openxmlformats.org/officeDocument/2006/relationships/hyperlink" Target="http://ru.wikipedia.org/wiki/&#1058;&#1074;&#1077;&#1088;&#1100;" TargetMode="External"/><Relationship Id="rId36" Type="http://schemas.openxmlformats.org/officeDocument/2006/relationships/hyperlink" Target="http://ru.wikipedia.org/wiki/&#1042;&#1080;&#1082;&#1080;&#1087;&#1077;&#1076;&#1080;&#1103;:&#1057;&#1089;&#1099;&#1083;&#1082;&#1080;_&#1085;&#1072;_&#1080;&#1089;&#1090;&#1086;&#1095;&#1085;&#1080;&#1082;&#1080;" TargetMode="External"/><Relationship Id="rId37" Type="http://schemas.openxmlformats.org/officeDocument/2006/relationships/hyperlink" Target="http://ru.wikipedia.org/wiki/1937_&#1075;&#1086;&#1076;" TargetMode="External"/><Relationship Id="rId38" Type="http://schemas.openxmlformats.org/officeDocument/2006/relationships/hyperlink" Target="http://ru.wikipedia.org/wiki/&#1044;&#1077;-&#1102;&#1088;&#1077;" TargetMode="External"/><Relationship Id="rId39" Type="http://schemas.openxmlformats.org/officeDocument/2006/relationships/hyperlink" Target="http://ru.wikipedia.org/wiki/1938_&#1075;&#1086;&#1076;" TargetMode="External"/><Relationship Id="rId40" Type="http://schemas.openxmlformats.org/officeDocument/2006/relationships/hyperlink" Target="http://ru.wikipedia.org/wiki/&#1053;&#1077;&#1082;&#1088;&#1086;&#1087;&#1086;&#1083;&#1100;_&#1091;_&#1050;&#1088;&#1077;&#1084;&#1083;&#1105;&#1074;&#1089;&#1082;&#1086;&#1081;_&#1089;&#1090;&#1077;&#1085;&#1099;" TargetMode="External"/><Relationship Id="rId41" Type="http://schemas.openxmlformats.org/officeDocument/2006/relationships/image" Target="../media/image11.jpeg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7" descr="Рисунок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403280" y="450828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Презентация выполнена Талановой Мариной, ученицей 8Б</a:t>
            </a:r>
            <a:r>
              <a:rPr b="1" lang="ru-RU" sz="20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класса МОУ «СОШ р.п. Духовницкое Духовницкого района Саратовской обла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Руководитель: Таланова Наталья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Духовницкое,2010 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WordArt 6"/>
          <p:cNvSpPr txBox="1"/>
          <p:nvPr/>
        </p:nvSpPr>
        <p:spPr>
          <a:xfrm>
            <a:off x="1042920" y="1844640"/>
            <a:ext cx="6913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атематика в жизн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тавить перед собой определенные задачи и решать их с помощью математики – например, хотим выучить 900 иностранных слов за три месяца. Тут нам понадобиться таблица умножения: умножаем 3 месяца на 30 дней, затем делим 900 слов на 90 дней, получается, что всего лишь 10 слов нужно учить каждый ден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ходить в банк – чтобы положить деньги, нужно рассчитать проценты прибыли, которые мы получим, и насколько это будет выгодно; если хотим поменять рубли на валюту, опять же нужен расчет: что выгоднее – доллары или евр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принимать лекарства – рассчитываем дозу, количество приемов и сколько дней приним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" descr="GRAZECAI35L2ACAK10V5BCAE60NUNCANNP264CAJG7PP9CA1VWYVGCA8AQ0Z9CAI3A1TUCASTXAYCCAPPLDENCAI0B75MCA6NIAK6CA7TA7Q9CA6QT1RYCAWIGNNDCASYGF6SCAFIM2B4CA2SVG4HCAORIEWV"/>
          <p:cNvPicPr/>
          <p:nvPr/>
        </p:nvPicPr>
        <p:blipFill>
          <a:blip r:embed="rId4"/>
          <a:stretch/>
        </p:blipFill>
        <p:spPr>
          <a:xfrm>
            <a:off x="179280" y="378936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V200XCAM321A9CAVLWVS8CA2U1E5WCAZ9NJT5CAVGVGCSCAQJFGTXCATO24M2CAPR8WSCCASR9AW5CAEN8G91CAP5OS2XCAWX7K7NCA7RGJKWCA7F2NPTCA8ZKJF5CA55RDN5CASAJBEFCAPXUVYLCAL32P0R"/>
          <p:cNvPicPr/>
          <p:nvPr/>
        </p:nvPicPr>
        <p:blipFill>
          <a:blip r:embed="rId5"/>
          <a:stretch/>
        </p:blipFill>
        <p:spPr>
          <a:xfrm>
            <a:off x="5435640" y="3789360"/>
            <a:ext cx="352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395280" y="260280"/>
            <a:ext cx="468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Без математики, также, не было радио, телевидения, кино, телефона, компьютера и тысячи других вещей, составляющих нашу цивилизацию. Без элементарных знаний по математике и умения выполнять свою работу аккуратно и расчетливо, невозможно успешно учиться по большинству  предметов, таких как физика, химия, астрономия, информатика и другие. Математика учит быстро понимать необходимый материал. Она, конечно, непростая наука для изучения, поэтому относиться к ней надо серьезно, чтобы воспитать в себе такие качества, как трудолюбие, упорство, терпение, умение преодолевать с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5" descr="UQBDUCAFNK59UCAG5JMN3CANXJ54JCAAJPGDRCA5LAMGWCA65CHFVCAA0PJCVCA440X3HCAWGDT0ACARPD40BCAVD0AG2CASMVSNDCAZ3W8WFCAQFZ6XDCACJK9BMCA8WIARMCA84KTKJCA3C65P1CA1T1IHN"/>
          <p:cNvPicPr/>
          <p:nvPr/>
        </p:nvPicPr>
        <p:blipFill>
          <a:blip r:embed="rId1"/>
          <a:stretch/>
        </p:blipFill>
        <p:spPr>
          <a:xfrm>
            <a:off x="5076720" y="476280"/>
            <a:ext cx="3780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Рисунок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4"/>
          <p:cNvSpPr/>
          <p:nvPr/>
        </p:nvSpPr>
        <p:spPr>
          <a:xfrm flipV="1" rot="10800000">
            <a:off x="895320" y="1843920"/>
            <a:ext cx="72057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Palatino Linotype"/>
              </a:rPr>
              <a:t>Занятия математикой развивают личность и такие качества как целеустремленность, активность, самостоятельность. То есть, использование математики является жизненно необходимой частью мира, в котором мы жив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Palatino Linotype"/>
              </a:rPr>
              <a:t>“</a:t>
            </a:r>
            <a:r>
              <a:rPr b="0" lang="ru-RU" sz="2400" spc="-1" strike="noStrike">
                <a:solidFill>
                  <a:srgbClr val="111111"/>
                </a:solidFill>
                <a:latin typeface="Palatino Linotype"/>
              </a:rPr>
              <a:t>Если мы действительно знаем что-то, то мы знаем это благодаря изучению математики”, - сказал П. Гассенди. И мы должны это помни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Чтоб водить корабли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Чтобы в небо взлететь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Надо многое знать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И при этом ,  и при этом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Вы заметьте-ка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Очень важная нау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-те-ма-ти-ка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Почему кораб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Не садятся на мель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А по курсу иду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Сквозь туман и метель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Потому что,  потому чт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Вы заметьте-ка 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Капитанам помога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-те-ма-ти-ка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Чтоб врачом,  моря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Или лётчиком ст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Надо прежде вс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тематику зна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И на свете нет професс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Вы заметьте-к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Где бы вам не пригодилас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Palatino Linotype"/>
              </a:rPr>
              <a:t>Математика! 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WordArt 4"/>
          <p:cNvSpPr txBox="1"/>
          <p:nvPr/>
        </p:nvSpPr>
        <p:spPr>
          <a:xfrm>
            <a:off x="2705040" y="260280"/>
            <a:ext cx="3733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имн математик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6" name="Picture 5" descr="i[10]"/>
          <p:cNvPicPr/>
          <p:nvPr/>
        </p:nvPicPr>
        <p:blipFill>
          <a:blip r:embed="rId1"/>
          <a:stretch/>
        </p:blipFill>
        <p:spPr>
          <a:xfrm rot="469200">
            <a:off x="5363640" y="1628640"/>
            <a:ext cx="3384720" cy="26528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i[5]"/>
          <p:cNvPicPr/>
          <p:nvPr/>
        </p:nvPicPr>
        <p:blipFill>
          <a:blip r:embed="rId2"/>
          <a:stretch/>
        </p:blipFill>
        <p:spPr>
          <a:xfrm rot="21084600">
            <a:off x="2700360" y="234936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i[3]"/>
          <p:cNvPicPr/>
          <p:nvPr/>
        </p:nvPicPr>
        <p:blipFill>
          <a:blip r:embed="rId3"/>
          <a:stretch/>
        </p:blipFill>
        <p:spPr>
          <a:xfrm rot="1099800">
            <a:off x="5364000" y="3860280"/>
            <a:ext cx="30276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1" dur="2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5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1" dur="500"/>
                                        <p:tgtEl>
                                          <p:spTgt spid="5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5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9" dur="2000"/>
                                        <p:tgtEl>
                                          <p:spTgt spid="5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5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5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55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55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5"/>
          <p:cNvSpPr txBox="1"/>
          <p:nvPr/>
        </p:nvSpPr>
        <p:spPr>
          <a:xfrm>
            <a:off x="900000" y="836640"/>
            <a:ext cx="755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бята, учите математику, занимайтес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ой, она не подведет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0" name="Picture 6" descr="Рисунок12"/>
          <p:cNvPicPr/>
          <p:nvPr/>
        </p:nvPicPr>
        <p:blipFill>
          <a:blip r:embed="rId1"/>
          <a:stretch/>
        </p:blipFill>
        <p:spPr>
          <a:xfrm>
            <a:off x="2771640" y="4221000"/>
            <a:ext cx="3529080" cy="2159280"/>
          </a:xfrm>
          <a:prstGeom prst="rect">
            <a:avLst/>
          </a:prstGeom>
          <a:ln w="0">
            <a:noFill/>
          </a:ln>
        </p:spPr>
      </p:pic>
      <p:pic>
        <p:nvPicPr>
          <p:cNvPr id="561" name="11_-_Математика[mp3lemon.net].mp3" descr=""/>
          <p:cNvPicPr/>
          <p:nvPr/>
        </p:nvPicPr>
        <p:blipFill>
          <a:blip r:embed="rId2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182758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Нагибин Ф.Ф., Канин Е.С. Математическая шкатулка: Пособие для учащихся 4-8 кл. сред.шк. – 5-е изд. – М.: Просвещение, 1988. – 16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Савин А.П. Энциклопедический словарь юного математика. – М.: Педагогика, 1985. – 352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http://www.kollegi.kz/publ/matematika_v_nashej_zhizni/39-1-0-16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9999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99cc"/>
                </a:solidFill>
                <a:latin typeface="Palatino Linotype"/>
              </a:rPr>
              <a:t>http://images.yandex.ru/yandsearch?text=%D0%BA%D0%B0%D1%80%D1%82%D0%B8%D0%BD%D0%BA%D0%B8%20%D0%BB%D0%B5%D0%BA%D0%B0%D1%80%D1%81%D1%82%D0%B2%D0%B0&amp;stype=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http://www.univer.omsk.su/omsk/Edu/Math/ggauss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WordArt 4"/>
          <p:cNvSpPr txBox="1"/>
          <p:nvPr/>
        </p:nvSpPr>
        <p:spPr>
          <a:xfrm>
            <a:off x="1835280" y="476280"/>
            <a:ext cx="57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спользованная литератур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5" name="Picture 5" descr="Рисунок9"/>
          <p:cNvPicPr/>
          <p:nvPr/>
        </p:nvPicPr>
        <p:blipFill>
          <a:blip r:embed="rId1"/>
          <a:stretch/>
        </p:blipFill>
        <p:spPr>
          <a:xfrm>
            <a:off x="3419640" y="4365720"/>
            <a:ext cx="21160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ff0066"/>
              </a:solidFill>
              <a:latin typeface="Bookman Old Sty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О, математика, земна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Гордись, прекрасная соб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Ты всем наукам мать род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cc"/>
                </a:solidFill>
                <a:latin typeface="Palatino Linotype"/>
              </a:rPr>
              <a:t>И дорожат они тобо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4" descr="Рисунок1"/>
          <p:cNvPicPr/>
          <p:nvPr/>
        </p:nvPicPr>
        <p:blipFill>
          <a:blip r:embed="rId1"/>
          <a:stretch/>
        </p:blipFill>
        <p:spPr>
          <a:xfrm>
            <a:off x="684360" y="1268280"/>
            <a:ext cx="2303280" cy="1656000"/>
          </a:xfrm>
          <a:prstGeom prst="rect">
            <a:avLst/>
          </a:prstGeom>
          <a:ln w="0">
            <a:noFill/>
          </a:ln>
        </p:spPr>
      </p:pic>
      <p:sp>
        <p:nvSpPr>
          <p:cNvPr id="520" name="WordArt 5"/>
          <p:cNvSpPr txBox="1"/>
          <p:nvPr/>
        </p:nvSpPr>
        <p:spPr>
          <a:xfrm>
            <a:off x="3203640" y="189000"/>
            <a:ext cx="5256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пиграф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 rot="20997600">
            <a:off x="473040" y="1455480"/>
            <a:ext cx="43308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cc"/>
                </a:solidFill>
                <a:latin typeface="comic"/>
              </a:rPr>
              <a:t>Приветствую всех, кто любит математику, кто учит математике, кто занимается и увлекается математико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9" descr="Рисунок8"/>
          <p:cNvPicPr/>
          <p:nvPr/>
        </p:nvPicPr>
        <p:blipFill>
          <a:blip r:embed="rId1"/>
          <a:stretch/>
        </p:blipFill>
        <p:spPr>
          <a:xfrm>
            <a:off x="4643280" y="1484280"/>
            <a:ext cx="4105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Bookman Old Style"/>
              </a:rPr>
              <a:t>Математи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6202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Математика – одна из древнейших наук. Дать определение математике совсем не просто, его содержание будет очень сильно меняться в зависимости от уровня математического образования человека. Но с 1 класса нам всем известны слова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Garamond"/>
                <a:hlinkClick r:id="rId1" action="ppaction://hlinksldjump"/>
              </a:rPr>
              <a:t>Гаусса:</a:t>
            </a: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 «Математика – царица всех наук. Математика – гимнастика для ум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Еще в 1941 году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Garamond"/>
                <a:hlinkClick r:id="rId2" action="ppaction://hlinksldjump"/>
              </a:rPr>
              <a:t>М.И. Калинин </a:t>
            </a:r>
            <a:r>
              <a:rPr b="1" i="1" lang="ru-RU" sz="2000" spc="-1" strike="noStrike">
                <a:solidFill>
                  <a:srgbClr val="ff99cc"/>
                </a:solidFill>
                <a:latin typeface="Garamond"/>
              </a:rPr>
              <a:t>говорил ученикам: «Какую бы науку вы ни изучали, в какой бы вуз ни поступали, в какой бы области ни работали, если вы хотите оставить там какой – нибудь след, то для этого везде необходимо знание математики…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4" descr="Рисунок6"/>
          <p:cNvPicPr/>
          <p:nvPr/>
        </p:nvPicPr>
        <p:blipFill>
          <a:blip r:embed="rId3"/>
          <a:stretch/>
        </p:blipFill>
        <p:spPr>
          <a:xfrm>
            <a:off x="250920" y="189000"/>
            <a:ext cx="2736720" cy="1628640"/>
          </a:xfrm>
          <a:prstGeom prst="rect">
            <a:avLst/>
          </a:prstGeom>
          <a:ln w="0">
            <a:noFill/>
          </a:ln>
        </p:spPr>
      </p:pic>
      <p:sp>
        <p:nvSpPr>
          <p:cNvPr id="526" name="AutoShape 6">
            <a:hlinkClick r:id="rId4" action="ppaction://hlinksldjump"/>
          </p:cNvPr>
          <p:cNvSpPr/>
          <p:nvPr/>
        </p:nvSpPr>
        <p:spPr>
          <a:xfrm>
            <a:off x="75564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GHPBVCAMF1GAYCAC67S6OCAOR8YJTCAXOBML3CAC2MDD1CA4FMWLSCAGZNTXMCALV18RYCAX1K02KCAJNMQ0VCA76VIFICA1RBR7UCAJFY3OTCAYAZ956CA3YBFTVCAPNSHE2CAW5M7HDCA0KLDH3CAG0IUQT"/>
          <p:cNvPicPr/>
          <p:nvPr/>
        </p:nvPicPr>
        <p:blipFill>
          <a:blip r:embed="rId5"/>
          <a:stretch/>
        </p:blipFill>
        <p:spPr>
          <a:xfrm>
            <a:off x="6084720" y="4869000"/>
            <a:ext cx="284328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Прямоугольник 2" descr=""/>
          <p:cNvPicPr/>
          <p:nvPr/>
        </p:nvPicPr>
        <p:blipFill>
          <a:blip r:embed="rId1"/>
          <a:stretch/>
        </p:blipFill>
        <p:spPr>
          <a:xfrm>
            <a:off x="853920" y="92160"/>
            <a:ext cx="7796520" cy="7729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1"/>
          <p:cNvSpPr/>
          <p:nvPr/>
        </p:nvSpPr>
        <p:spPr>
          <a:xfrm>
            <a:off x="5000760" y="1217160"/>
            <a:ext cx="36432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99cc"/>
                </a:solidFill>
                <a:latin typeface="Arial"/>
                <a:ea typeface="Calibri"/>
              </a:rPr>
              <a:t>Карл Фридрих (30.4.1777, Брауншвейг, — 23.2.1855, Гёттинген), немецкий математик, внёсший фундаментальный вклад также в астрономию и геодезию. Родился в семье водопроводчика. С 1795 по 1798 учился в Гёттингенском университете. В 1799 получил доцентуру в Брауншвейге, в 1807 — кафедру математики и астрономии в Гёттингенском университете, с которой была также связана должность директора Гёттингенской астрономической обсерватории. На этом посту Г. оставался до конца жизни. Отличительными чертами творчества Г. являются глубокая органическая связь в его исследованиях между теоретической и прикладной математикой, необычайная широта проблематики. Работы Г. оказали большое влияние на развитие высшей алгебры, теории чисел, дифференциальной геометрии, теории притяжения, классической теории электричества и магнетизма, геодезии, целых отраслей теоретической астроно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Рисунок 2" descr="ГАУСС Карл Фридрих (Gauss Carl Friderich)"/>
          <p:cNvPicPr/>
          <p:nvPr/>
        </p:nvPicPr>
        <p:blipFill>
          <a:blip r:embed="rId2"/>
          <a:stretch/>
        </p:blipFill>
        <p:spPr>
          <a:xfrm>
            <a:off x="857160" y="1928880"/>
            <a:ext cx="3000600" cy="3290760"/>
          </a:xfrm>
          <a:prstGeom prst="rect">
            <a:avLst/>
          </a:prstGeom>
          <a:ln w="0">
            <a:noFill/>
          </a:ln>
        </p:spPr>
      </p:pic>
      <p:sp>
        <p:nvSpPr>
          <p:cNvPr id="531" name="Управляющая кнопка: назад 6">
            <a:hlinkClick r:id="rId3" action="ppaction://hlinksldjump"/>
          </p:cNvPr>
          <p:cNvSpPr/>
          <p:nvPr/>
        </p:nvSpPr>
        <p:spPr>
          <a:xfrm>
            <a:off x="500040" y="6215040"/>
            <a:ext cx="714240" cy="357120"/>
          </a:xfrm>
          <a:custGeom>
            <a:avLst/>
            <a:gdLst>
              <a:gd name="textAreaLeft" fmla="*/ 23040 w 714240"/>
              <a:gd name="textAreaRight" fmla="*/ 691200 w 7142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 Rounded MT Bold"/>
              </a:rPr>
              <a:t>М.И. Калини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5699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Михаил Калинин родился в деревне Верхняя Троица Корчевского уезда Тверской губернии, в крестьянской семье. Юный Михаил Калинин закончил начальное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"/>
              </a:rPr>
              <a:t>земское училищ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после чего поступил в услужение к соседу-помещику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"/>
              </a:rPr>
              <a:t>Д. П. Мордухай-Болтовском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"/>
              </a:rPr>
              <a:t>1889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был увезён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4"/>
              </a:rPr>
              <a:t>Санкт-Петербург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работал у него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5"/>
              </a:rPr>
              <a:t>лакеем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что позволило ему прочитать много книг из хозяйской библиотеки.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6"/>
              </a:rPr>
              <a:t>1895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он поступает на работу токарем на машиностроительном заводе и участвует в нелегальных кружках. Детство и юность М. И. Калинина описаны в книге Марии Прилежаевой «С берегов Медведицы»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Последующий канон большевистской биографии «днём слесарь, вечером подпольщик» списан явно с Калинина: на ближайшие 20 лет это становится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7"/>
              </a:rPr>
              <a:t>формулой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его жизн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8"/>
              </a:rPr>
              <a:t>1899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месте с другими членами организованного им марксистского кружка был арестован и после 10-месячного тюремного заключения выслан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9"/>
              </a:rPr>
              <a:t>Тифлис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Там он продолжал революционную борьбу в составе центральной группы тифлисской социал-демократической организации, за что был вновь арестован и в марте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0"/>
              </a:rPr>
              <a:t>1901 год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ыслан в Ревель (ныне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1"/>
              </a:rPr>
              <a:t>Таллин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), где работал слесарем на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2"/>
              </a:rPr>
              <a:t>заводе «Вольта»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и организовал подпольную типографию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январе 1903 года Михаил Калинин арестован и отправлен в петербургскую тюрьму «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3"/>
              </a:rPr>
              <a:t>Кресты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». В июле 1903 года снова выслан в Ревель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4"/>
              </a:rPr>
              <a:t>1906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женился на Екатерине Ивановне Лорберг (Калининой) (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5"/>
              </a:rPr>
              <a:t>1882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—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6"/>
              </a:rPr>
              <a:t>1960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), ткачихе из Ревеля,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7"/>
              </a:rPr>
              <a:t>эстонк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по национальност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Участвовал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8"/>
              </a:rPr>
              <a:t>революции 1905 год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На 6-й конференции РСДРП (1912) стал кандидатом для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19"/>
              </a:rPr>
              <a:t>кооптаци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 ЦК РСДРП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0"/>
              </a:rPr>
              <a:t>1916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арестован и приговорён к ссылке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1"/>
              </a:rPr>
              <a:t>Восточную Сибирь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но бежал из-под ареста и, перейдя на нелегальное положение, продолжал партийную работу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2"/>
              </a:rPr>
              <a:t>Петроград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3"/>
              </a:rPr>
              <a:t>Февральскую революцию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был одним из руководителей разоружения охраны и захвата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4"/>
              </a:rPr>
              <a:t>Финляндского вокзал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Калинин принимал непосредственное участие в подготовке и проведени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5"/>
              </a:rPr>
              <a:t>Октябрьской революци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После победы Октябрьской революции возглавил Комиссариат городских хозяйств Союза коммун Северной области и Петроградской трудовой коммуны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После смерт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6"/>
              </a:rPr>
              <a:t>Я. М. Свердлов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7"/>
              </a:rPr>
              <a:t>1919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избран председателем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8"/>
              </a:rPr>
              <a:t>ВЦИК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29"/>
              </a:rPr>
              <a:t>Ленин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рекомендуя Калинина на этот пост, говорил: «Это товарищ, за которым около двадцати лет партийной работы; сам он — крестьянин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0"/>
              </a:rPr>
              <a:t>Тверской губерни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, имеющий тесную связь с крестьянским хозяйством… Петроградские рабочие сумели убедиться, что он обладает умением подходить к широким слоям трудящихся масс…»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Калинин избирался председателем президиумов всех восьм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1"/>
              </a:rPr>
              <a:t>Съездов Советов СССР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Калинин принял активное участие в преодолении последствий голода в Поволжье 1921—1922 гг. Он лично посещал пострадавшие регионы, и Самарская областная клиническая больница до сих пор носит его им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1926—1946 гг. член Политбюро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2"/>
              </a:rPr>
              <a:t>ЦК ВКП(б)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3"/>
              </a:rPr>
              <a:t>1925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Калинин высказался резко против того, чтобы один из уездов назвали его именем, полагая, что оценка политических деятелей по праву принадлежит потомкам. Но уже 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4"/>
              </a:rPr>
              <a:t>1931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он сам подписал постановление о переименовании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5"/>
              </a:rPr>
              <a:t>Твери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в город Калинин. Один из организаторов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6"/>
              </a:rPr>
              <a:t>[источник не указан 401 день]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раскулачив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С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7"/>
              </a:rPr>
              <a:t>1937 года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Калинин — председатель Президиума Верховного Совета СССР,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8"/>
              </a:rPr>
              <a:t>де-юре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первое лицо страны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39"/>
              </a:rPr>
              <a:t>1938 году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 была арестована его жена. Она была помилована и освобождена в июне 1945 года, за год до смерти «всесоюзного старосты». Калинин был одним из немногих видных старых большевиков, которые не были репрессированы ни в 1930-е, ни позж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В 1940 году голосовал за расстрел пленных поляков на террритории СССР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Похоронен на Красной площади в Москве у </a:t>
            </a:r>
            <a:r>
              <a:rPr b="0" lang="ru-RU" sz="900" spc="-1" strike="noStrike" u="sng">
                <a:solidFill>
                  <a:srgbClr val="9999ff"/>
                </a:solidFill>
                <a:uFillTx/>
                <a:latin typeface="Garamond"/>
                <a:hlinkClick r:id="rId40"/>
              </a:rPr>
              <a:t>Кремлевской стены</a:t>
            </a:r>
            <a:r>
              <a:rPr b="1" i="1" lang="ru-RU" sz="900" spc="-1" strike="noStrike">
                <a:solidFill>
                  <a:srgbClr val="ff99cc"/>
                </a:solidFill>
                <a:latin typeface="Garamond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4">
            <a:hlinkClick r:id="" action="ppaction://hlinkshowjump?jump=previousslide"/>
          </p:cNvPr>
          <p:cNvSpPr/>
          <p:nvPr/>
        </p:nvSpPr>
        <p:spPr>
          <a:xfrm>
            <a:off x="7093080" y="6308640"/>
            <a:ext cx="503280" cy="28908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85" h="21600">
                <a:moveTo>
                  <a:pt x="0" y="0"/>
                </a:moveTo>
                <a:lnTo>
                  <a:pt x="37585" y="0"/>
                </a:lnTo>
                <a:lnTo>
                  <a:pt x="37585" y="21600"/>
                </a:lnTo>
                <a:lnTo>
                  <a:pt x="0" y="21600"/>
                </a:lnTo>
                <a:close/>
              </a:path>
              <a:path fill="lightenLess" w="37585" h="21600">
                <a:moveTo>
                  <a:pt x="0" y="0"/>
                </a:moveTo>
                <a:lnTo>
                  <a:pt x="37585" y="0"/>
                </a:lnTo>
                <a:lnTo>
                  <a:pt x="36185" y="1400"/>
                </a:lnTo>
                <a:lnTo>
                  <a:pt x="1400" y="1400"/>
                </a:lnTo>
                <a:close/>
              </a:path>
              <a:path fill="darken" w="37585" h="21600">
                <a:moveTo>
                  <a:pt x="37585" y="0"/>
                </a:moveTo>
                <a:lnTo>
                  <a:pt x="37585" y="21600"/>
                </a:lnTo>
                <a:lnTo>
                  <a:pt x="36185" y="20200"/>
                </a:lnTo>
                <a:lnTo>
                  <a:pt x="36185" y="1400"/>
                </a:lnTo>
                <a:close/>
              </a:path>
              <a:path fill="darkenLess" w="37585" h="21600">
                <a:moveTo>
                  <a:pt x="3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85" y="20200"/>
                </a:lnTo>
                <a:close/>
              </a:path>
              <a:path fill="lighten" w="3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85" h="21600">
                <a:moveTo>
                  <a:pt x="11786" y="10800"/>
                </a:moveTo>
                <a:lnTo>
                  <a:pt x="25799" y="3794"/>
                </a:lnTo>
                <a:lnTo>
                  <a:pt x="25799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utoShape 5"/>
          <p:cNvSpPr/>
          <p:nvPr/>
        </p:nvSpPr>
        <p:spPr>
          <a:xfrm>
            <a:off x="7812000" y="630864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19" h="21600">
                <a:moveTo>
                  <a:pt x="11853" y="3794"/>
                </a:moveTo>
                <a:lnTo>
                  <a:pt x="25866" y="10800"/>
                </a:lnTo>
                <a:lnTo>
                  <a:pt x="11853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6" descr="200px-Kalinin[1]"/>
          <p:cNvPicPr/>
          <p:nvPr/>
        </p:nvPicPr>
        <p:blipFill>
          <a:blip r:embed="rId41"/>
          <a:stretch/>
        </p:blipFill>
        <p:spPr>
          <a:xfrm>
            <a:off x="6227640" y="1773360"/>
            <a:ext cx="25401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4643280" y="907920"/>
            <a:ext cx="403236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В нашей стране математическому образованию уделяется большое внимание. В средней школе математику изучают с 1-го по 11-й классы, уроков за это время проводится много. Она является профилирующим предметом во многих ВУЗах стра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Безусловно, математика, нужна любому человеку, который хочет чего – то добиться в жизни. Без знания математики вся современная жизнь была бы невозмож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8" descr="4HWYJCAILQHFHCAYUE9HFCA8W3Q7NCA8VC0VBCAXOV1EZCAN4F5QQCAF8XXB5CADV97CNCAASD487CAHRIND8CA6QA27NCA04FOUICA5Y2MKLCATFPW35CAJ3TRSCCAXTBV6FCA813GAFCA2BPLABCASIGXUD"/>
          <p:cNvPicPr/>
          <p:nvPr/>
        </p:nvPicPr>
        <p:blipFill>
          <a:blip r:embed="rId1"/>
          <a:stretch/>
        </p:blipFill>
        <p:spPr>
          <a:xfrm>
            <a:off x="457200" y="836640"/>
            <a:ext cx="4038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Без математики нельз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строить дом – строители должны измерять, счит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делать ремонт – нужно рассчитать, сколько купить материалов: краски, обоев, плитки, клея, цемента и т.д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cc"/>
                </a:solidFill>
                <a:latin typeface="Palatino Linotype"/>
              </a:rPr>
              <a:t>скроить одежду и обувь – ведь от  точности измерений будет зависеть конечный результа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7" descr="BCam01"/>
          <p:cNvPicPr/>
          <p:nvPr/>
        </p:nvPicPr>
        <p:blipFill>
          <a:blip r:embed="rId4"/>
          <a:stretch/>
        </p:blipFill>
        <p:spPr>
          <a:xfrm>
            <a:off x="539640" y="2637000"/>
            <a:ext cx="2952720" cy="2160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JV72YCA50APQRCATDOCOUCA03Z1G1CAQRX727CAD3IY3ICAQSQ967CAVQ1ZXUCA77V8IUCAYBPNNCCA52UKFWCAF1W5DUCAF2C0BLCA7Z5TACCACINZXVCAT4NK03CANGUJANCAV1OA83CAUDNPCPCAPYIWZA"/>
          <p:cNvPicPr/>
          <p:nvPr/>
        </p:nvPicPr>
        <p:blipFill>
          <a:blip r:embed="rId5"/>
          <a:stretch/>
        </p:blipFill>
        <p:spPr>
          <a:xfrm>
            <a:off x="2987640" y="3500280"/>
            <a:ext cx="2664000" cy="2303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3FOGPCAXMWTG1CAG2AF8GCAUPNTVWCA26CCF5CA059T6OCARO9VHKCAS5KB2CCA5LZZGZCA95PGAXCAKB592JCAYC3JUTCAPYRP7BCADPQUTBCASX53DNCALDIURNCAGUUR13CALUQK1UCAYMDCW4CAODGFQ4"/>
          <p:cNvPicPr/>
          <p:nvPr/>
        </p:nvPicPr>
        <p:blipFill>
          <a:blip r:embed="rId6"/>
          <a:stretch/>
        </p:blipFill>
        <p:spPr>
          <a:xfrm>
            <a:off x="5076720" y="2637000"/>
            <a:ext cx="2951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4"/>
          <p:cNvSpPr/>
          <p:nvPr/>
        </p:nvSpPr>
        <p:spPr>
          <a:xfrm>
            <a:off x="395280" y="476280"/>
            <a:ext cx="525636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планировать бюджет семь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оплачивать сч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идеть на диете – нужно высчитывать калорийность продук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пользоваться электроприборами – не зная цифр, мы не сможем         правильно задать параметры их рабо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cc"/>
                </a:solidFill>
                <a:latin typeface="Palatino Linotype"/>
              </a:rPr>
              <a:t>съездить в путешествие – решаем для себя задачу с данными: скорость, время, расстоя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MSD7XCA4YOU4FCAVNRUKBCATACS1TCASHBOSSCAXVEPDCCAZK127TCACUV7KJCAVSY4YPCAGVTNQ7CADJVIB9CATU3J2GCAUR68VSCAED9NBGCAXWD65VCASVTRZTCA9WCVP0CAF81AGACAU920VQCAHGGCL3"/>
          <p:cNvPicPr/>
          <p:nvPr/>
        </p:nvPicPr>
        <p:blipFill>
          <a:blip r:embed="rId1"/>
          <a:stretch/>
        </p:blipFill>
        <p:spPr>
          <a:xfrm>
            <a:off x="5580000" y="404640"/>
            <a:ext cx="3564000" cy="2808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858XACAT7BUPQCAPG6L2ICARSBR5BCABDUVESCAB33KPBCANV4K41CA56325MCA8F06XACAFBA2IOCA77LLBHCAMV6VBJCAF8PRB8CA1BWI27CAV3QKOUCA1BJVKBCAEW95LTCADCLT7FCAP53PVJCAQZPXOH"/>
          <p:cNvPicPr/>
          <p:nvPr/>
        </p:nvPicPr>
        <p:blipFill>
          <a:blip r:embed="rId2"/>
          <a:stretch/>
        </p:blipFill>
        <p:spPr>
          <a:xfrm>
            <a:off x="4932360" y="3716280"/>
            <a:ext cx="3168720" cy="2665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CWNHCAUJ2PMUCAYQLEKJCATZRY3KCADAK4K7CACCKASUCAM6FFJQCANYGWNWCA0UB0EFCATWRKWVCAL3KMAECAHE62WXCA0VIZXYCAAD1L1PCA7ZXSH2CA8ADLXLCAKNATRKCAJR12J2CAEGJJ2VCAW6CJJ1"/>
          <p:cNvPicPr/>
          <p:nvPr/>
        </p:nvPicPr>
        <p:blipFill>
          <a:blip r:embed="rId3"/>
          <a:stretch/>
        </p:blipFill>
        <p:spPr>
          <a:xfrm>
            <a:off x="179280" y="378936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36:57Z</dcterms:created>
  <dc:creator>Оксанка</dc:creator>
  <dc:description/>
  <dc:language>en-US</dc:language>
  <cp:lastModifiedBy>Admin</cp:lastModifiedBy>
  <dcterms:modified xsi:type="dcterms:W3CDTF">2010-09-14T09:19:11Z</dcterms:modified>
  <cp:revision>11</cp:revision>
  <dc:subject/>
  <dc:title>Слайд 1</dc:title>
</cp:coreProperties>
</file>