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920B-D705-40A6-B0A9-0FBD0376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746F-999B-445E-923A-851CAE0A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CABD-91CB-42D0-B72D-B1BD8DAA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0ADC-E111-4971-BAF7-1E25A197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D6B5-D454-4563-9035-AEAD41E9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A0DC-44C8-48EC-93EA-E60AF5C0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D1A2-1D68-49DA-8990-286F516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A8A1-1ECD-4DD2-9550-E808581E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B7B4-7E5C-43FA-96D2-AEAA880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A04C-E069-4029-B5DA-40A0CB0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853F-18D2-4ACF-AC66-6FF95D9E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53B3-FC74-4211-8352-3C495DFA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06F5-AF82-4032-9B84-174B3237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560D-2D95-46E0-814E-AE6BF36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8BD7-FC82-435A-98FD-A5B60D90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D99-CB6F-4742-9EFC-D7AD48DE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40D4-C51A-4FC4-95E9-8BD854F8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5AE3-2987-436C-9F68-A25A73B9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DAD0-AEEF-4F57-9FFB-6EE32744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6045-EC72-42F9-9A2A-9204E87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D227-39A0-40BB-8498-46471E0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C6F2-621F-4649-A7F5-0E7A5CED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F2CA-0468-49C2-97C8-7964D76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A514-68F5-4651-8418-4786750B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F55-5B1A-49E1-87BA-394A1FDEA0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E641-EF3D-4D3A-9D61-8E8E5BAD4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1371240"/>
            <a:ext cx="613584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cc00"/>
                </a:solidFill>
                <a:latin typeface="Arial Black"/>
              </a:rPr>
              <a:t>Использование мнемонических приемов в словарно-орфографической работе в начальной  школ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5645160"/>
            <a:ext cx="5791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2. Работа над «слуховым» образом слов.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ащиеся проговаривают слово хором, затем по одному орфоэпически, без выделения слогов, определяют «трудное» мес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3. Запись слова с «окошком» («дыркой»)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916360" y="3170160"/>
            <a:ext cx="38876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 . рёз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«Обнаружив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«трудное»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мест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не пиши наугад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 оставь «окно» там, где надо решить орфографическую задачу, и лишь затем приступай к ее решению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4. Работа над «зрительным» образом слов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ники могут получить ответ на поставленный вопрос (о нужной букве), обратившись к орфографическому словарику ( или к словарю учебн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бота над словом </a:t>
            </a:r>
            <a:br>
              <a:rPr sz="3900"/>
            </a:br>
            <a:r>
              <a:rPr b="1" i="1" lang="en-US" sz="3900" spc="-1" strike="noStrike">
                <a:solidFill>
                  <a:srgbClr val="ffffff"/>
                </a:solidFill>
                <a:latin typeface="Arial"/>
              </a:rPr>
              <a:t>берёза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едлагается загад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В белом сарафане встала на полян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Учащиеся проговаривают слово </a:t>
            </a: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Arial"/>
              </a:rPr>
              <a:t>берёз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фоэпически, определяют ударный и безударные сл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ащиеся самостоятельно записывают слово, пропустив орфограмму («трудное» мест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Рассказ Л.Успенского из книги «Почему не иначе?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реза. Это дерево мы считаем нашим, русским деревом, но имя его знакомо большинству родственных народов. Оно восходит к … корню  «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he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  (бе), уходящему в глубокую древность, означавшему «блеск», «белизна». Ведь ее кора – «береста» - носит название, связанное с тем же кор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cc00"/>
                </a:solidFill>
                <a:latin typeface="Arial"/>
              </a:rPr>
              <a:t>Работа с непроверяемыми орфограммами включает в себя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тное предъявление с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ка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бор способа решения и собственно решение орфографической задач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ись слова, организованная так, чтобы обеспечить запоминание его орфографического обл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6000" y="620280"/>
            <a:ext cx="7210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Богатство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(богатый)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язано со слово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бог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когда его значение было: «наделенный свыше всякими благами счастливец» (сравните с украинским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ебога – «бедняк», «нищий»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олдат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связано с итальянским «сольдо».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Сольдо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о название монеты и «жалование». Человек, получивший «сольдо», т. е. жалование, называется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ольдат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Четвер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 старину четверг носил название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четвертак,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т. е. «день», четвертый по порядку», четверть недели. Проверочные слова: четверть, четвер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010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00"/>
                </a:solidFill>
                <a:latin typeface="Arial"/>
              </a:rPr>
              <a:t>   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57000"/>
            <a:ext cx="7010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орить вслух негромко по слогам каждое слово (для учащихся с мотор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олча посмотреть на слова, прочитывая их про себя по слогам; потом закрыть глаза, чтобы представить его написанным; снова открыть глаза и проверить себя (для учащихся со зрительной памятью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оваривать слова по слогам соседу по парте или послушать, как слова проговаривает сосед (для учащихся со слуховой памятью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69228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емы запоминания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0755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ков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рто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мидор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уста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283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Трудные  учи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могает нам иг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уха прозвали «Петя» 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он любит на рассве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А медведь, наоборот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ть не любит, любит мед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Лиса-лисица, посмотри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Очень любит букву… (и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476280"/>
            <a:ext cx="7010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Чтобы не обиделась кор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И не прокисло молок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ы оба этих сло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апишем в корне с буквой 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Для совершенствования обучения нужно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первых,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ключить в работу со словами с непроверяемыми написаниями в общую систему формирования орфографических ум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во-вторых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едует разнообразить работу путем использования различных средств и способов обучения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ая роль в решении этой задачи призвано сыгра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енение </a:t>
            </a: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этимологического анализа и мнемотехни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108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00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блемы формирования навыка правописания непроверяемых орфограмм может эффективно решаться при использов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8920" y="4508640"/>
            <a:ext cx="73454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емонических прием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89360"/>
            <a:ext cx="701028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549000"/>
            <a:ext cx="701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ника,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</a:rPr>
              <a:t>мнемотехника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истемы различных приемов, облегчающих запоминание и увеличивающих объем памяти путем образования дополнительных ассоциа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Эффективные методы организации мнемонической деятельности детей младшего школьного возраста при усвоении слов с непроверяемыми орфограмм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3357720"/>
            <a:ext cx="70102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графических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тод звуковых (фонетических) ассоциац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мбинирован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При применении метода </a:t>
            </a: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графических ассоциаций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ляется  рисунок, обозначающий само слово, и обыгрывается в нем запоминаемая бук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2715" t="18767" r="66403" b="74047"/>
          <a:stretch/>
        </p:blipFill>
        <p:spPr>
          <a:xfrm>
            <a:off x="1763640" y="3716280"/>
            <a:ext cx="6985080" cy="216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Метод звуковых ассоци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8920" y="1484280"/>
            <a:ext cx="7010280" cy="468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почтителен в тех случаях, когда фраза из созвучия и слова из орфографического словаря особенно удач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еду завт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ривезу завт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На завтрак – 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Кричи: «Ур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Трудные  учить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Помогает нам иг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Комбинированный метод -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то использование при запоминании слова из орфографического словаря и графических, и звуковых ассоциаций одновремен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Предъявление слова.</a:t>
            </a:r>
            <a:br>
              <a:rPr sz="3900"/>
            </a:br>
            <a:r>
              <a:rPr b="1" i="1" lang="en-US" sz="39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чтение загадки, отгадывание ее учащими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прослушивание грамзаписи и определения предмета, о котором идет реч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 рассматривание предметной картин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)  описание признаков предмета или предъявление слова-синон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10:36Z</dcterms:created>
  <dc:creator>Фатима</dc:creator>
  <dc:description/>
  <dc:language>en-US</dc:language>
  <cp:lastModifiedBy>Фатима</cp:lastModifiedBy>
  <dcterms:modified xsi:type="dcterms:W3CDTF">2009-06-18T14:12:04Z</dcterms:modified>
  <cp:revision>8</cp:revision>
  <dc:subject/>
  <dc:title>Использование мнемонических приемов в словарно-орфографической работе в начальной 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