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3993-58BE-422C-A6DC-7EA145D9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67E6-BED2-4956-A0B0-55CDD83C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5EB5-1A39-4476-A984-465EED9E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E346-D5FB-4374-8B90-8E5C5191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28BD-5244-4537-B875-FF487F65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4594-AB21-4D2E-8BFA-F1307BF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9382-DED4-4944-82AD-F22CEB69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CB62-A4E9-4B4C-8F3F-BB8817E9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6DCC-9A6B-48C9-A000-06138C8E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9D1E-C52D-48D5-88D5-8377A3D0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1FB9-B0E0-4C43-B228-FB9C1B66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2A44-1E14-43CA-A7CE-D227DD03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204-81EE-46E2-BD78-848A5E4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657B-320C-46EA-A4A3-BD90765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EA66-2870-469A-880C-34E442E9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3F9-A4C4-4C3F-8EB3-58ADA16B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AB68-380F-4EFB-9287-DAEEC790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3442-4FE0-40E3-AA24-2C521566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E234-73DF-4D6D-8199-4578FBFE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24CD-E552-4E87-8E34-6DDB8FBA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FFDE-AEFD-401A-9518-263CC43E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CBCB-846D-4CAC-A3AD-985CEA6C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C163-340B-4E4D-B3D8-3CFB740A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9A94-D97D-4EC1-9F3A-31F5E878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9484-F42E-4FA1-8D81-070C1B741D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231D-D6DF-4AAD-A84D-D10E9F2F2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27280" y="1371240"/>
            <a:ext cx="61358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 Black"/>
              </a:rPr>
              <a:t>Использование мнемонических приемов в словарно-орфографической работе в начальной  школ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5645160"/>
            <a:ext cx="5791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2. Работа над «слуховым» образом слов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иеся проговаривают слово хором, затем по одному орфоэпически, без выделения слогов, определяют «трудное» мест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3. Запись слова с «окошком» («дыркой»)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916360" y="3170160"/>
            <a:ext cx="38876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 . рёз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«Обнаружив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«трудное»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мест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не пиши наугад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  оставь «окно» там, где надо решить орфографическую задачу, и лишь затем приступай к ее решению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cc00"/>
                </a:solidFill>
                <a:latin typeface="Arial"/>
              </a:rPr>
              <a:t>4. Работа над «зрительным» образом слов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ки могут получить ответ на поставленный вопрос (о нужной букве), обратившись к орфографическому словарику ( или к словарю учебн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Работа над словом </a:t>
            </a:r>
            <a:br>
              <a:rPr sz="3900"/>
            </a:br>
            <a:r>
              <a:rPr b="1" i="1" lang="en-US" sz="3900" spc="-1" strike="noStrike">
                <a:solidFill>
                  <a:srgbClr val="ffffff"/>
                </a:solidFill>
                <a:latin typeface="Arial"/>
              </a:rPr>
              <a:t>берёз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едлагается загад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В белом сарафане встала на полян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Учащиеся проговаривают слово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берёз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фоэпически, определяют ударный и безударные сл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Учащиеся самостоятельно записывают слово, пропустив орфограмму («трудное» мест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Рассказ Л.Успенского из книги «Почему не иначе?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ереза. Это дерево мы считаем нашим, русским деревом, но имя его знакомо большинству родственных народов. Оно восходит к … корню  «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he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»  (бе), уходящему в глубокую древность, означавшему «блеск», «белизна». Ведь ее кора – «береста» - носит название, связанное с тем же кор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cc00"/>
                </a:solidFill>
                <a:latin typeface="Arial"/>
              </a:rPr>
              <a:t>Работа с непроверяемыми орфограммами включает в себя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ное предъявление сло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ка орфографической задач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ор способа решения и собственно решение орфографической задач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пись слова, организованная так, чтобы обеспечить запоминание его орфографического обл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6000" y="620280"/>
            <a:ext cx="7210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Богатство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богатый)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вязано со словом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бог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когда его значение было: «наделенный свыше всякими благами счастливец» (сравните с украинским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бога – «бедняк», «нищий»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Солдат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 связано с итальянским «сольдо».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Сольдо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 название монеты и «жалование». Человек, получивший «сольдо», т. е. жалование, называется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ольдат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Четвер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 старину четверг носил название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четвертак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. е. «день», четвертый по порядку», четверть недели. Проверочные слова: четверть, четве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7010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    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57000"/>
            <a:ext cx="70102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говорить вслух негромко по слогам каждое слово (для учащихся с моторной память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лча посмотреть на слова, прочитывая их про себя по слогам; потом закрыть глаза, чтобы представить его написанным; снова открыть глаза и проверить себя (для учащихся со зрительной память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говаривать слова по слогам соседу по парте или послушать, как слова проговаривает сосед (для учащихся со слуховой памятью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63640" y="69228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емы запоминания: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0755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рковь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ртоф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мидор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уста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476280"/>
            <a:ext cx="7283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Трудные  учи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могает нам иг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туха прозвали «Петя»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ть он любит на рассве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549000"/>
            <a:ext cx="701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А медведь, наоборо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ть не любит, любит ме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Лиса-лисица, посмотр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Очень любит букву… (и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476280"/>
            <a:ext cx="7010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Чтобы не обиделась кор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И не прокисло молок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ы оба этих слов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апишем в корне с буквой 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Для совершенствования обучения нужно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во-первых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ключить в работу со словами с непроверяемыми написаниями в общую систему формирования орфографических ум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во-вторых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ледует разнообразить работу путем использования различных средств и способов обучени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ая роль в решении этой задачи призвано сыгр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менение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этимологического анализа и мнемотехни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108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92000" y="549000"/>
            <a:ext cx="701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блемы формирования навыка правописания непроверяемых орфограмм может эффективно решаться при использов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58920" y="4508640"/>
            <a:ext cx="734544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емонических прием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89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549000"/>
            <a:ext cx="701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Мнемоника,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мнемотехника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истемы различных приемов, облегчающих запоминание и увеличивающих объем памяти путем образования дополнительных ассоциа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01064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Эффективные методы организации мнемонической деятельности детей младшего школьного возраста при усвоении слов с непроверяемыми орфограмм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3357720"/>
            <a:ext cx="70102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 графических ассоциац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 звуковых (фонетических) ассоциац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бинирован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ри применении метода </a:t>
            </a: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графических ассоциаций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яется  рисунок, обозначающий само слово, и обыгрывается в нем запоминаемая бук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2715" t="18767" r="66403" b="74047"/>
          <a:stretch/>
        </p:blipFill>
        <p:spPr>
          <a:xfrm>
            <a:off x="1763640" y="3716280"/>
            <a:ext cx="6985080" cy="216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Метод звуковых ассоци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8920" y="1484280"/>
            <a:ext cx="7010280" cy="468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почтителен в тех случаях, когда фраза из созвучия и слова из орфографического словаря особенно удач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Приеду завтр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Привезу завтр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На завтрак – р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Кричи: «Ур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Трудные  учить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Помогает нам иг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Комбинированный метод -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то использование при запоминании слова из орфографического словаря и графических, и звуковых ассоциаций одновременн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Предъявление слова.</a:t>
            </a:r>
            <a:br>
              <a:rPr sz="3900"/>
            </a:b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чтение загадки, отгадывание ее учащими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прослушивание грамзаписи и определения предмета, о котором идет ре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 рассматривание предметной картин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)  описание признаков предмета или предъявление слова-синон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3:10:36Z</dcterms:created>
  <dc:creator>Фатима</dc:creator>
  <dc:description/>
  <dc:language>en-US</dc:language>
  <cp:lastModifiedBy>Фатима</cp:lastModifiedBy>
  <dcterms:modified xsi:type="dcterms:W3CDTF">2009-06-18T14:12:04Z</dcterms:modified>
  <cp:revision>8</cp:revision>
  <dc:subject/>
  <dc:title>Использование мнемонических приемов в словарно-орфографической работе в начальной 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