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E802-9942-4714-B527-7F39AF6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B9AA-96E4-488C-AE7C-D8E20568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71FE-0D1B-47C1-A55F-9BB42406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D8B1-1B7D-4652-BC7E-EF98EAA0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1E3C-1344-40AB-B795-E724BB12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175F-6DD7-4EFC-88A1-0B6EC6A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0836-537D-4068-B918-83B1DFF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FF75-2B18-4210-B4CF-361C976F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DCEC-C929-4B31-9BA3-00B45142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8A8A-223E-41A4-BBC8-1363E0D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3940-6B5C-432E-9668-CC139DBF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BB5F-8052-45F8-944B-239AAEF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0417-B2D3-4EB7-AF03-7372CBD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A042-6492-4A9B-A89D-E3C65E6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7202-7482-4523-AAC2-969C5D9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B126-5590-4B55-8E2B-426BFDD5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587-2C77-42BD-B18B-98891E64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04AC-55F9-4682-BCC7-EF88BC7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304E-EA65-4547-B59A-DA6B9572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FAA7-66BF-4077-9A13-A38C84BF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0458-F987-49FD-937D-49B9D3FC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2DCF-C735-4D17-B84F-3F9E490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4C8C-2F87-40E6-A1A6-8D2E4EB4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A5D7-46C4-4014-91C6-4582581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95E3-6737-4077-9E2B-DC496D5DC6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7DA-098C-4B80-BF48-DE66CD96A6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27280" y="1371240"/>
            <a:ext cx="6135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 Black"/>
              </a:rPr>
              <a:t>Использование мнемонических приемов в словарно-орфографической работе в начальной  школ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5645160"/>
            <a:ext cx="5791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2. Работа над «слуховым» образом слов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иеся проговаривают слово хором, затем по одному орфоэпически, без выделения слогов, определяют «трудное» мес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3. Запись слова с «окошком» («дыркой»)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916360" y="3170160"/>
            <a:ext cx="38876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 . рёз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«Обнаружив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«трудное»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мест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не пиши наугад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  оставь «окно» там, где надо решить орфографическую задачу, и лишь затем приступай к ее решению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c00"/>
                </a:solidFill>
                <a:latin typeface="Arial"/>
              </a:rPr>
              <a:t>4. Работа над «зрительным» образом слов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и могут получить ответ на поставленный вопрос (о нужной букве), обратившись к орфографическому словарику ( или к словарю учебн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Работа над словом </a:t>
            </a:r>
            <a:br>
              <a:rPr sz="3900"/>
            </a:b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берёз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едлагается загад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В белом сарафане встала на полян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Учащиеся проговаривают слово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берёз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фоэпически, определяют ударный и безударные сл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ащиеся самостоятельно записывают слово, пропустив орфограмму («трудное» мест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Рассказ Л.Успенского из книги «Почему не иначе?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реза. Это дерево мы считаем нашим, русским деревом, но имя его знакомо большинству родственных народов. Оно восходит к … корню  «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he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»  (бе), уходящему в глубокую древность, означавшему «блеск», «белизна». Ведь ее кора – «береста» - носит название, связанное с тем же кор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c00"/>
                </a:solidFill>
                <a:latin typeface="Arial"/>
              </a:rPr>
              <a:t>Работа с непроверяемыми орфограммами включает в себя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ное предъявление сл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ка орфографической зад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ор способа решения и собственно решение орфографической зад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ись слова, организованная так, чтобы обеспечить запоминание его орфографического обл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6000" y="620280"/>
            <a:ext cx="7210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Богатство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богатый)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язано со словом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бог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когда его значение было: «наделенный свыше всякими благами счастливец» (сравните с украинским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бога – «бедняк», «нищий»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Солдат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 связано с итальянским «сольдо».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Сольдо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 название монеты и «жалование». Человек, получивший «сольдо», т. е. жалование, называется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ольда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Четвер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 старину четверг носил название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четвертак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. е. «день», четвертый по порядку», четверть недели. Проверочные слова: четверть, четве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010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57000"/>
            <a:ext cx="70102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оворить вслух негромко по слогам каждое слово (для учащихся с моторной память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лча посмотреть на слова, прочитывая их про себя по слогам; потом закрыть глаза, чтобы представить его написанным; снова открыть глаза и проверить себя (для учащихся со зрительной память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оваривать слова по слогам соседу по парте или послушать, как слова проговаривает сосед (для учащихся со слуховой памятью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63640" y="69228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емы запоминания: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0755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рковь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ртоф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идор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уста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7283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Трудные  учи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могает нам иг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уха прозвали «Петя»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ь он любит на рассве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А медведь, наоборо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ь не любит, любит ме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Лиса-лисица, посмотр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Очень любит букву… (и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476280"/>
            <a:ext cx="7010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Чтобы не обиделась кор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И не прокисло молок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ы оба этих сло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апишем в корне с буквой 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Для совершенствования обучения нужно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-первых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ключить в работу со словами с непроверяемыми написаниями в общую систему формирования орфографических ум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-вторых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едует разнообразить работу путем использования различных средств и способов обуч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ая роль в решении этой задачи призвано сыгр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енение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этимологического анализа и мнемотехни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108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9200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блемы формирования навыка правописания непроверяемых орфограмм может эффективно решаться при использов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58920" y="4508640"/>
            <a:ext cx="73454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монических прием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Мнемоника,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мнемотехника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истемы различных приемов, облегчающих запоминание и увеличивающих объем памяти путем образования дополнительных ассоциа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1064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Эффективные методы организации мнемонической деятельности детей младшего школьного возраста при усвоении слов с непроверяемыми орфограмм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3357720"/>
            <a:ext cx="70102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графических ассоциац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звуковых (фонетических) ассоциац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бинирован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ри применении метода </a:t>
            </a: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графических ассоциаций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яется  рисунок, обозначающий само слово, и обыгрывается в нем запоминаемая бук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2715" t="18767" r="66403" b="74047"/>
          <a:stretch/>
        </p:blipFill>
        <p:spPr>
          <a:xfrm>
            <a:off x="1763640" y="3716280"/>
            <a:ext cx="6985080" cy="21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Метод звуковых ассоци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8920" y="1484280"/>
            <a:ext cx="7010280" cy="468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почтителен в тех случаях, когда фраза из созвучия и слова из орфографического словаря особенно удач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риеду завтр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ривезу завт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На завтрак – 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Кричи: «Ур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Трудные  учить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омогает нам иг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Комбинированный метод -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то использование при запоминании слова из орфографического словаря и графических, и звуковых ассоциаций одновременн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Предъявление слова.</a:t>
            </a:r>
            <a:br>
              <a:rPr sz="3900"/>
            </a:b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чтение загадки, отгадывание ее учащими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прослушивание грамзаписи и определения предмета, о котором идет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 рассматривание предметной картин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)  описание признаков предмета или предъявление слова-синон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3:10:36Z</dcterms:created>
  <dc:creator>Фатима</dc:creator>
  <dc:description/>
  <dc:language>en-US</dc:language>
  <cp:lastModifiedBy>Фатима</cp:lastModifiedBy>
  <dcterms:modified xsi:type="dcterms:W3CDTF">2009-06-18T14:12:04Z</dcterms:modified>
  <cp:revision>8</cp:revision>
  <dc:subject/>
  <dc:title>Использование мнемонических приемов в словарно-орфографической работе в начальной 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