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0C9-D761-4680-839C-306D5D49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5C3-831C-4424-BAB9-5B7959B3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73E-1AB7-4A4F-A8CC-29ABF5DA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71B-9B69-4EAD-B544-B70B4DC0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850E-0A9C-420C-862D-D686DB82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6C8A-6A56-46F5-AF54-4F709B38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339B-A220-4B4E-AB42-C6EE83A3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3C6A-FA97-4A1F-8E2C-E12CC76B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CEDE-BE2B-4292-81A2-BB14DC47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60D8-15D7-4196-BA50-4DF7CF0F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36D6-E16F-439D-BFCA-606EB320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197-38BB-46FB-A090-43548F6B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40AC-7B61-48C8-BCFC-A7F038D2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D9D0-F100-4F78-8BCA-9F79447B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A6D3-EABE-4027-81EC-0CAB485B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B4BD-5C96-47AA-BF20-921A5860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1767-9F33-4EDB-9767-EEF59795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44614-ECD7-4414-B7A8-222DD5E2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F0334-FD3F-4B71-A3BC-1ACD161E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735BA-B034-4E9F-B222-04718851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7762D-11E3-4C5E-8E1D-49A8EA63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21F27-7A5C-41A5-81D4-F34D1ABD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880-9908-43EA-8EDA-31FB6F1E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AF7F-42E6-4478-8509-4EDDB157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A97A3-CC72-4A24-8B91-5CB5DC7E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A8BC9-217A-48B9-A5EF-4A766C06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23BA8-04D6-47CD-9770-773248B8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B4679-204C-4E7D-ADB4-677CF532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936C5-485E-4A46-AD51-275B5543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5F80E-46C3-4066-9524-241A73D2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CD3C8-87D3-4D0A-91DB-5E0841A9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77974-1476-4AB1-A75F-FBC5A7A6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864CD-3CE4-4247-9C09-CD936DDC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A7C-5B57-4559-B8F6-EC387F4E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94A88-3CC4-4D4D-926E-2A60F62B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FA355-F0B5-49B6-BEAF-308D4087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78862-163A-474D-ADD6-DA721FD3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441E0-E9DA-4918-B62A-CF1DD66A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9E220-7F5E-4DEC-B8FD-25F1138F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A19CC-E578-4F6A-A5F3-55AAF29C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B885C-8532-4F7C-AAAB-7CC74FAF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2C6E6-88C5-41A8-B43F-E11D7309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0E708-8634-494E-BBE6-2E90D3E2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943-35C0-4CF3-BC19-5FEACD98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039-4DF7-43BE-8E74-8689C3E5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BC9-0EC1-4846-8557-45A34BA8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1EB-BF35-4415-B15E-7E1BFC37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17C-6A6C-4D87-8CD7-5ECA9977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0696-75E1-4C91-BA28-064CAF9BE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2981-8C41-4B7D-BBCC-70EF334FA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C721-3CEF-474C-BF30-11DA20AE5F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2490-AF24-4101-9F6A-FF052305A82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8;&#1072;&#1089;&#1085;&#1086;-&#1089;&#1077;&#1088;&#1072;&#1103;%20&#1087;&#1086;&#1083;&#1105;&#1074;&#1082;&#1072;&amp;stype=imag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live.1001chudo.ru/russia_870_gallery.html?show=www.ferret.ru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images.yandex.ru/yandsearch?text=&#1089;&#1077;&#1074;&#1077;&#1088;&#1085;&#1099;&#1081;%20&#1086;&#1083;&#1077;&#1085;&#1100;%20&#1092;&#1086;&#1090;&#1086;&amp;stype=image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55;&#1077;&#1095;&#1086;&#1088;&#1086;-&#1048;&#1083;&#1099;&#1095;&#1089;&#1082;&#1080;&#1081;%20&#1075;&#1086;&#1089;&#1091;&#1076;&#1072;&#1088;&#1089;&#1090;&#1074;&#1077;&#1085;&#1085;&#1099;&#1081;%20&#1079;&#1072;&#1087;&#1086;&#1074;&#1077;&#1076;&#1085;&#1080;&#1082;.&#1092;&#1086;&#1090;&#1086;&amp;stype=image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hoto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 Black"/>
              </a:rPr>
              <a:t>Таёжная область</a:t>
            </a:r>
            <a:br>
              <a:rPr sz="5400"/>
            </a:br>
            <a:r>
              <a:rPr b="1" lang="en-US" sz="5400" spc="-1" strike="noStrike">
                <a:solidFill>
                  <a:srgbClr val="006600"/>
                </a:solidFill>
                <a:latin typeface="Arial Black"/>
              </a:rPr>
              <a:t> Северного Урал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371600" y="2276640"/>
            <a:ext cx="6400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боту выполнила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географ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ИНАДЁР ЕЛЕНА АНАТОЛЬ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3284640"/>
            <a:ext cx="4897440" cy="32209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Росомаха - живые достопримечательности России - фото (фотографии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89000"/>
            <a:ext cx="4248000" cy="29620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соболь фотообои, фото обои, фотография"/>
          <p:cNvPicPr/>
          <p:nvPr/>
        </p:nvPicPr>
        <p:blipFill>
          <a:blip r:embed="rId5"/>
          <a:stretch/>
        </p:blipFill>
        <p:spPr>
          <a:xfrm>
            <a:off x="5148360" y="189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2000" y="3141720"/>
            <a:ext cx="2435040" cy="37162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838080" y="765000"/>
            <a:ext cx="3927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осома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асно-серая полё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216400" y="1989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б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ястребиная сова, сова ястребиная (Surnia ulula), фото, фотография"/>
          <p:cNvPicPr/>
          <p:nvPr/>
        </p:nvPicPr>
        <p:blipFill>
          <a:blip r:embed="rId1"/>
          <a:stretch/>
        </p:blipFill>
        <p:spPr>
          <a:xfrm>
            <a:off x="5940360" y="3716280"/>
            <a:ext cx="2400480" cy="31417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444840" cy="23194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5003640" y="189000"/>
            <a:ext cx="2306880" cy="34574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0" y="189000"/>
            <a:ext cx="3059280" cy="22842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Кедр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рис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bcbc"/>
                </a:solidFill>
                <a:latin typeface="Arial"/>
              </a:rPr>
              <a:t>Клест-елов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стребиная с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50920" y="404640"/>
            <a:ext cx="9721800" cy="1511640"/>
          </a:xfrm>
          <a:custGeom>
            <a:avLst/>
            <a:gdLst>
              <a:gd name="textAreaLeft" fmla="*/ 2430360 w 9721800"/>
              <a:gd name="textAreaRight" fmla="*/ 7291440 w 9721800"/>
              <a:gd name="textAreaTop" fmla="*/ 0 h 1511640"/>
              <a:gd name="textAreaBottom" fmla="*/ 1323000 h 1511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260000" cy="683748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757440" y="404640"/>
            <a:ext cx="9901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поведник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В верховьях Печёры, по западным склонам Урала и прилегающей к ним Печорской низменности, располагается один из крупнейших в нашей стране Печоро-Илычский государственный заповедни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26920" y="188640"/>
            <a:ext cx="806616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ью создания заповедника является охрана и изучение первичных лесных массивов междуречья Печоры и Илыча - крупнейших девственных таежных массивов Европейской России, типичной и уникальной флоры и фауны. В задачи заповедника при его организации также входил сбор и распространение сведений и материалов по истории к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кологическая обстанов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воение Северного Урала продолж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ибольший урон водоемам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еверног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рал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аносят предприятия ЖК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5796000" y="4005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1258920" y="4653000"/>
            <a:ext cx="3313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ценка природной зо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том на реках хорошая рыбалка, в конце лета в тайге обилие грибов и ягод, в урожайный год много кедровых орехов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4572000" y="4005360"/>
            <a:ext cx="3954600" cy="26496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396684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594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с—богатство края. Такие ценные древесные породы, как сосна, лиственница, кедр и ель, заготавливают в огромных количествах в бассейнах Вишеры, Косьвы, Печоры, Лозьвы, Северной Сосьвы и отправляют во многие районы страны и на экспорт. В тайге издавна промышляют соболя, куницу, выдру, горностая, белку и лису. В прозрачных водах притоков Печоры, Камы и Северной Сосьвы обитает много ценных пород рыб, из которых сиг, семга, хариус, таймень, сырок и сельдь имеют важное промысловое зна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539640" y="4149720"/>
            <a:ext cx="3456000" cy="25844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5076720" y="4149720"/>
            <a:ext cx="34560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a9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5574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03640" y="4108320"/>
            <a:ext cx="4140360" cy="274968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0" y="4276800"/>
            <a:ext cx="3889440" cy="2581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5744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5"/>
          <a:stretch/>
        </p:blipFill>
        <p:spPr>
          <a:xfrm>
            <a:off x="2268360" y="1916280"/>
            <a:ext cx="4176720" cy="27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987640" y="3213000"/>
            <a:ext cx="2089080" cy="1728720"/>
          </a:xfrm>
          <a:custGeom>
            <a:avLst/>
            <a:gdLst>
              <a:gd name="textAreaLeft" fmla="*/ 860760 w 2089080"/>
              <a:gd name="textAreaRight" fmla="*/ 1228320 w 2089080"/>
              <a:gd name="textAreaTop" fmla="*/ 712440 h 1728720"/>
              <a:gd name="textAreaBottom" fmla="*/ 10162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Спасибо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    за внимание!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6" name=""/>
          <p:cNvSpPr/>
          <p:nvPr/>
        </p:nvSpPr>
        <p:spPr>
          <a:xfrm>
            <a:off x="7199280" y="4653000"/>
            <a:ext cx="1944720" cy="1368360"/>
          </a:xfrm>
          <a:custGeom>
            <a:avLst/>
            <a:gdLst>
              <a:gd name="textAreaLeft" fmla="*/ 801360 w 1944720"/>
              <a:gd name="textAreaRight" fmla="*/ 1143360 w 1944720"/>
              <a:gd name="textAreaTop" fmla="*/ 563760 h 1368360"/>
              <a:gd name="textAreaBottom" fmla="*/ 8046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5229360"/>
            <a:ext cx="1654200" cy="1224000"/>
          </a:xfrm>
          <a:prstGeom prst="irregularSeal1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77080" y="189000"/>
            <a:ext cx="1224000" cy="144144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9640" y="189000"/>
            <a:ext cx="1871640" cy="1224000"/>
          </a:xfrm>
          <a:prstGeom prst="cloudCallout">
            <a:avLst>
              <a:gd name="adj1" fmla="val -47625"/>
              <a:gd name="adj2" fmla="val 1355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258920" y="69228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4000" y="333360"/>
            <a:ext cx="7704000" cy="1295280"/>
          </a:xfrm>
          <a:custGeom>
            <a:avLst/>
            <a:gdLst>
              <a:gd name="textAreaLeft" fmla="*/ 1926000 w 7704000"/>
              <a:gd name="textAreaRight" fmla="*/ 5778000 w 7704000"/>
              <a:gd name="textAreaTop" fmla="*/ 0 h 1295280"/>
              <a:gd name="textAreaBottom" fmla="*/ 1133640 h 1295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Black"/>
              </a:rPr>
              <a:t>               </a:t>
            </a:r>
            <a:r>
              <a:rPr b="1" lang="en-US" sz="4400" spc="-1" strike="noStrike">
                <a:solidFill>
                  <a:srgbClr val="990000"/>
                </a:solidFill>
                <a:latin typeface="Arial Black"/>
              </a:rPr>
              <a:t>Цел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Создать образ природно-территориального  комплекса Северного Урала, показать его уникальность и специфи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72320" cy="640872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Это одно из самых отдаленных и безлюдных мест, поражающего своей живописностью и неповторимостью. Весь Северный Урал расположен в таежной зоне. Всюду лес, без конца и края, то стелющийся по болотистым низинам, то накинутый зеленым плащом на пологие гряды и холмы, то взбирающийся по скалистым кручам горных хреб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ан работ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ографическое полож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имат данной территор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тип клим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К увлаж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в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т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вотный ми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ценка (на сколько данная территория может использоваться человеко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ографическое    полож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216972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ный Урал начинается от широтного колена р. Щугор и протягивается до истока р. Косьва рядами параллельных хребтов высотой до 1000—1500 м. Для него характерны сглаженные вершины. Горы лесисты, с безлесными гольцовыми вершинами.На севере Северный Урал начинается мощным хребтом Тельпос-Из с максимальной для Северного Урала высотой 1617м - горой Тельпос-И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24494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имат данной территор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215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рритория расположена в субарктическом климатическом поя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редняя температура в предгорьях поднимается до 14-1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диационный баланс   зоны за год равен 900-1000 мДж/м2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адков выпадает много – до 800мм и более (на западном склоне), что значительно превышает величину испаряем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оэтому на Северном Урале много бол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д всей территорией преобладает континентальный воздух умеренных ши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чвы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область распространения горно-подзолисты поч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севере и в предгорьях распространены глеево-подзолистые почвы, а на юге, в полосе типичной тайги, - подзолист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5940360" y="4869000"/>
            <a:ext cx="273528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Высокопроизводительные лиственничные насаждения лесничего К. Ф. Тюрмера. Посадки 1857 г. под Москвой. Фото И. Б. Бавыкина"/>
          <p:cNvPicPr/>
          <p:nvPr/>
        </p:nvPicPr>
        <p:blipFill>
          <a:blip r:embed="rId1"/>
          <a:stretch/>
        </p:blipFill>
        <p:spPr>
          <a:xfrm>
            <a:off x="3419640" y="1700280"/>
            <a:ext cx="2006280" cy="46940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3389400" cy="27180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5508720" y="0"/>
            <a:ext cx="3179520" cy="23860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Нажмите, чтобы посмотреть в полный размер"/>
          <p:cNvPicPr/>
          <p:nvPr/>
        </p:nvPicPr>
        <p:blipFill>
          <a:blip r:embed="rId4"/>
          <a:stretch/>
        </p:blipFill>
        <p:spPr>
          <a:xfrm>
            <a:off x="5796000" y="2421000"/>
            <a:ext cx="3165480" cy="4221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тительность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бирская 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х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Ке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ственница Сукачё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11280" y="1197000"/>
            <a:ext cx="8281800" cy="468000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ивотный мир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На Северном Урале сосредоточены наиболее характерные представители таёжной фау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4:21:24Z</dcterms:created>
  <dc:creator>Гринадёр</dc:creator>
  <dc:description/>
  <dc:language>en-US</dc:language>
  <cp:lastModifiedBy>Елена</cp:lastModifiedBy>
  <dcterms:modified xsi:type="dcterms:W3CDTF">2010-03-28T10:38:34Z</dcterms:modified>
  <cp:revision>16</cp:revision>
  <dc:subject/>
  <dc:title>Таёжная область  Северного Урала</dc:title>
</cp:coreProperties>
</file>