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2A5-29BB-41E1-9D0D-0689FC3A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F1E-A793-4DCB-A02D-43E5ECA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833-3A2B-452E-917D-591D63A2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1E6-89B2-48A4-92CD-7635CC52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CA6D-5695-4135-B1B0-F526926B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2DFD-B54F-4D60-8C61-A4E1FAF8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0F90-F4BC-4E9E-AE3F-2AB5340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6FD-C934-4441-B700-C9A489A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51F-98F1-411C-82A5-884664F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DBF7-E78E-44DA-B107-80FFF0E8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533D-5D4A-4A40-84A1-41D73F6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3A7-8C99-4B1A-B605-49EED6F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C08F-5B4D-425E-BBD1-178F6DA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5BD-3807-4A9D-8EC3-91C0BB5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29C3-6CAA-461A-80AC-B2B28C1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547-2983-4B3E-A592-84A2778A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48F-DB2B-46B9-BD7D-800E7E30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783E-6BD3-484E-9855-95CC978B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4AFD-0FF3-4853-AEBE-29DE31B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F4FE-EDE7-4960-B7D0-EDD30B8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3ADC-E852-4A3D-B02F-79DB301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A9E7-0B55-41E6-9FF6-195B712F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742-DC5B-4057-94BF-0C97DF0A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F5A0-AF1B-4AA5-B515-8937B56C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A431-5418-4E75-9C75-760AAD7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A740-5014-4C4E-BA7A-044A409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D7A5-5FDB-4FEE-9AD7-445A954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B04A-53F2-4AF5-A8CD-D0B98AC8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93CD-70D3-4DC4-8211-E1D112DB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B892-090E-4D70-8D38-6022E70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AD54-0811-48C2-AEE3-FF96937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5D4B-A602-4633-98A5-C60C01AF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0B51-C5C7-4FEE-8A54-E6DAFEE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14D-25A8-42ED-B4F5-DF01AFFE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7BF3-FFA5-46C4-850D-8512E63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EAD3-30DF-4AD0-8514-630DEB2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8DEE-9C59-44C2-AE8A-ACBA9C1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EBD6-9094-4882-AB12-F42515D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A93B-A21A-4007-A722-233F92E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6A5EE-DDF6-4750-9FD7-7C47685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3E2C-4436-4B41-8ECB-3715760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B2AA-89AE-47F4-BDDB-1CFDD503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BEED-4556-4FD6-9F9E-F7B53C31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98B-D76A-4571-B08F-A9D9BEF5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220-6141-4417-9496-6C07FD3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294-FB6C-4E71-B947-7F821C6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4F5-64D1-49AB-A12C-89654F6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B23-991B-48BF-90A8-C9F5C4B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F295-F4B9-41EB-A038-81CDD8DF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484-0EAF-4D14-BD46-0FD7A9EF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BAF-EF22-401C-9F3F-D2DE090827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781C-27C7-402E-809F-B01CFBA4BB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8;&#1072;&#1089;&#1085;&#1086;-&#1089;&#1077;&#1088;&#1072;&#1103;%20&#1087;&#1086;&#1083;&#1105;&#1074;&#1082;&#1072;&amp;stype=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ive.1001chudo.ru/russia_870_gallery.html?show=www.ferret.ru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yandex.ru/yandsearch?text=&#1089;&#1077;&#1074;&#1077;&#1088;&#1085;&#1099;&#1081;%20&#1086;&#1083;&#1077;&#1085;&#1100;%20&#1092;&#1086;&#1090;&#1086;&amp;stype=image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5;&#1077;&#1095;&#1086;&#1088;&#1086;-&#1048;&#1083;&#1099;&#1095;&#1089;&#1082;&#1080;&#1081;%20&#1075;&#1086;&#1089;&#1091;&#1076;&#1072;&#1088;&#1089;&#1090;&#1074;&#1077;&#1085;&#1085;&#1099;&#1081;%20&#1079;&#1072;&#1087;&#1086;&#1074;&#1077;&#1076;&#1085;&#1080;&#1082;.&#1092;&#1086;&#1090;&#1086;&amp;stype=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hoto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Таёжная область</a:t>
            </a:r>
            <a:br>
              <a:rPr sz="5400"/>
            </a:b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 Северного Урал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ИНАДЁР ЕЛЕНА АНАТОЛЬ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284640"/>
            <a:ext cx="4897440" cy="3220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Росомаха - живые достопримечательности России - фото (фотографии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89000"/>
            <a:ext cx="4248000" cy="2962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соболь фотообои, фото обои, фотография"/>
          <p:cNvPicPr/>
          <p:nvPr/>
        </p:nvPicPr>
        <p:blipFill>
          <a:blip r:embed="rId5"/>
          <a:stretch/>
        </p:blipFill>
        <p:spPr>
          <a:xfrm>
            <a:off x="514836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3141720"/>
            <a:ext cx="2435040" cy="37162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3927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ом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о-серая полё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1640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ястребиная сова, сова ястребиная (Surnia ulula), фото, фотография"/>
          <p:cNvPicPr/>
          <p:nvPr/>
        </p:nvPicPr>
        <p:blipFill>
          <a:blip r:embed="rId1"/>
          <a:stretch/>
        </p:blipFill>
        <p:spPr>
          <a:xfrm>
            <a:off x="5940360" y="3716280"/>
            <a:ext cx="2400480" cy="31417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444840" cy="2319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2306880" cy="3457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3059280" cy="22842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ед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рис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bcbc"/>
                </a:solidFill>
                <a:latin typeface="Arial"/>
              </a:rPr>
              <a:t>Клест-ел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требиная с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50920" y="404640"/>
            <a:ext cx="9721800" cy="1511640"/>
          </a:xfrm>
          <a:custGeom>
            <a:avLst/>
            <a:gdLst>
              <a:gd name="textAreaLeft" fmla="*/ 2430360 w 9721800"/>
              <a:gd name="textAreaRight" fmla="*/ 7291440 w 9721800"/>
              <a:gd name="textAreaTop" fmla="*/ 0 h 1511640"/>
              <a:gd name="textAreaBottom" fmla="*/ 1323000 h 1511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260000" cy="68374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757440" y="404640"/>
            <a:ext cx="9901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оведни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В верховьях Печёры, по западным склонам Урала и прилегающей к ним Печорской низменности, располагается один из крупнейших в нашей стране Печоро-Илычский государственный заповед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80661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ю создания заповедника является охрана и изучение первичных лесных массивов междуречья Печоры и Илыча - крупнейших девственных таежных массивов Европейской России, типичной и уникальной флоры и фауны. В задачи заповедника при его организации также входил сбор и распространение сведений и материалов по истории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кологическая обстано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воение Северного Урала продолж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ьший урон водоемам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носят предприятия ЖК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3313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природной зо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том на реках хорошая рыбалка, в конце лета в тайге обилие грибов и ягод, в урожайный год много кедровых орехов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3954600" cy="2649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966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94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—богатство края. Такие ценные древесные породы, как сосна, лиственница, кедр и ель, заготавливают в огромных количествах в бассейнах Вишеры, Косьвы, Печоры, Лозьвы, Северной Сосьвы и отправляют во многие районы страны и на экспорт. В тайге издавна промышляют соболя, куницу, выдру, горностая, белку и лису. В прозрачных водах притоков Печоры, Камы и Северной Сосьвы обитает много ценных пород рыб, из которых сиг, семга, хариус, таймень, сырок и сельдь имеют важное промысловое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3456000" cy="2584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456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9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0" y="427680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2268360" y="1916280"/>
            <a:ext cx="417672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987640" y="3213000"/>
            <a:ext cx="2089080" cy="1728720"/>
          </a:xfrm>
          <a:custGeom>
            <a:avLst/>
            <a:gdLst>
              <a:gd name="textAreaLeft" fmla="*/ 860760 w 2089080"/>
              <a:gd name="textAreaRight" fmla="*/ 1228320 w 2089080"/>
              <a:gd name="textAreaTop" fmla="*/ 712440 h 1728720"/>
              <a:gd name="textAreaBottom" fmla="*/ 10162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    за внимание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199280" y="4653000"/>
            <a:ext cx="1944720" cy="1368360"/>
          </a:xfrm>
          <a:custGeom>
            <a:avLst/>
            <a:gdLst>
              <a:gd name="textAreaLeft" fmla="*/ 801360 w 1944720"/>
              <a:gd name="textAreaRight" fmla="*/ 1143360 w 194472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5229360"/>
            <a:ext cx="1654200" cy="1224000"/>
          </a:xfrm>
          <a:prstGeom prst="irregularSeal1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77080" y="189000"/>
            <a:ext cx="1224000" cy="144144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9640" y="189000"/>
            <a:ext cx="1871640" cy="1224000"/>
          </a:xfrm>
          <a:prstGeom prst="cloudCallout">
            <a:avLst>
              <a:gd name="adj1" fmla="val -47625"/>
              <a:gd name="adj2" fmla="val 135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258920" y="69228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4000" y="333360"/>
            <a:ext cx="7704000" cy="1295280"/>
          </a:xfrm>
          <a:custGeom>
            <a:avLst/>
            <a:gdLst>
              <a:gd name="textAreaLeft" fmla="*/ 1926000 w 7704000"/>
              <a:gd name="textAreaRight" fmla="*/ 5778000 w 770400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Создать образ природно-территориального  комплекса Северного Урала, показать его уникальность и специфи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64087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Это одно из самых отдаленных и безлюдных мест, поражающего своей живописностью и неповторимостью. Весь Северный Урал расположен в таежной зоне. Всюду лес, без конца и края, то стелющийся по болотистым низинам, то накинутый зеленым плащом на пологие гряды и холмы, то взбирающийся по скалистым кручам горных хреб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ографическое поло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мат данной территор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тип клим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 увл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й ми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ка (на сколько данная территория может использоваться человек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ографическое    поло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21697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й Урал начинается от широтного колена р. Щугор и протягивается до истока р. Косьва рядами параллельных хребтов высотой до 1000—1500 м. Для него характерны сглаженные вершины. Горы лесисты, с безлесными гольцовыми вершинами.На севере Северный Урал начинается мощным хребтом Тельпос-Из с максимальной для Северного Урала высотой 1617м - горой Тельпос-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4494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имат данной территор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2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рритория расположена в субарктическом климатическом поя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няя температура в предгорьях поднимается до 14-1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ационный баланс   зоны за год равен 900-1000 мДж/м2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адков выпадает много – до 800мм и более (на западном склоне), что значительно превышает величину испаряем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оэтому на Северном Урале много бо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 всей территорией преобладает континентальный воздух умеренных ши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чв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ласть распространения горно-подзолисты поч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вере и в предгорьях распространены глеево-подзолистые почвы, а на юге, в полосе типичной тайги, - подзолист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7352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Высокопроизводительные лиственничные насаждения лесничего К. Ф. Тюрмера. Посадки 1857 г. под Москвой. Фото И. Б. Бавыкина"/>
          <p:cNvPicPr/>
          <p:nvPr/>
        </p:nvPicPr>
        <p:blipFill>
          <a:blip r:embed="rId1"/>
          <a:stretch/>
        </p:blipFill>
        <p:spPr>
          <a:xfrm>
            <a:off x="3419640" y="1700280"/>
            <a:ext cx="2006280" cy="4694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3389400" cy="2718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179520" cy="2386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Нажмите, чтобы посмотреть в полный размер"/>
          <p:cNvPicPr/>
          <p:nvPr/>
        </p:nvPicPr>
        <p:blipFill>
          <a:blip r:embed="rId4"/>
          <a:stretch/>
        </p:blipFill>
        <p:spPr>
          <a:xfrm>
            <a:off x="5796000" y="2421000"/>
            <a:ext cx="3165480" cy="4221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итель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бирская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х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е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ственница Сукачё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11280" y="1197000"/>
            <a:ext cx="8281800" cy="46800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й ми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На Северном Урале сосредоточены наиболее характерные представители таёжной фау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1:24Z</dcterms:created>
  <dc:creator>Гринадёр</dc:creator>
  <dc:description/>
  <dc:language>en-US</dc:language>
  <cp:lastModifiedBy>Елена</cp:lastModifiedBy>
  <dcterms:modified xsi:type="dcterms:W3CDTF">2010-03-28T10:38:34Z</dcterms:modified>
  <cp:revision>16</cp:revision>
  <dc:subject/>
  <dc:title>Таёжная область  Северного Урала</dc:title>
</cp:coreProperties>
</file>