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856-4963-432E-ABE9-2CF93C4D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DDE-0A11-47FF-9E69-6F30E4A7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13E-6190-4BE3-8063-ED8F4104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899-89E9-4BB7-8414-687C2795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95BC-ECD1-4955-AA6E-350453AF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D27C-FD03-49E7-BD81-01C0C2E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E09D-5514-4CC2-97BB-488003C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3ACD-7462-44D5-8B3B-0FC59CB1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C71E-E6C4-4D70-BDB2-763CA0C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91C8-753C-4A09-9112-48847B98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C85D-4554-4173-969B-62F7F1AD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C9F-DBCC-464B-821A-BF03BD9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AB56-D7FB-4B58-80E3-75B7BC8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B573-7E4C-47FE-A6A7-10A334D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60AC-3B83-4CD0-A3E8-5026D27E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51A8-7402-4B88-A107-118D0319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2DB-17EF-4D30-9D68-727C8D9C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0FB2-5E50-4AD6-8B1D-007A4458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2828-3A85-4D0E-821D-F1BFA80B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749E-BBD5-4C87-947C-32327E69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4B23F-1586-4A5C-9E53-86BC888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5DDA-218C-45A0-A2D8-93F0D8F7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AB7-30F8-4A20-ADE2-9C1556F1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ED37-2A98-4359-8395-C3831522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76217-87D8-4EA6-A8D5-488F502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7CE1-395D-46F5-8532-FF349B05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2B8CB-410D-4B4B-A159-D1175CC7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768F-0FDF-4A61-A2C3-AC378142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4914-89FF-417E-9574-759E1D8F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A1C3-5024-4B52-A706-8D6883B7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2EB5-4A5A-474C-9DC1-86F9701B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B230-FA0A-4EA3-A6A8-36578F3C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5137-1709-46E5-92B1-9AC61FA7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527-C962-43C7-8C20-95DC564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D0DC-E18F-4986-98D4-BA4CDD3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56B6-3D5F-4EA4-8E48-B924400C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9B48-B94D-45A2-81FD-346A614C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2448-DBD9-4ADF-ABA7-0999FA40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317D-545C-4B6D-ACCD-7E16989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18B9-CB8A-4E90-912B-ACB1BC8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B2DE-44D4-485B-9F4A-58ECCBD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269E-E308-4145-AE30-EA10CB56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A9AF1-ED15-4A6A-A85C-4976D91A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677-EB22-4BEA-92D3-9CAAC4C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59F-F24C-4AD4-8972-E6E2F1E6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8C5-5263-4239-8FEE-389F532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915-E73A-4E46-8E5A-F789A30D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0F0-AEFC-4374-90DF-631CB7D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EEC2-3F26-4186-BC63-C815EF468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91B1-1F33-40B2-99EF-F07D00F7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81E4-7E6A-47B2-9213-9B6F3EB997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AD5-B209-4CEE-9F74-4A3DBDC303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88;&#1072;&#1089;&#1085;&#1086;-&#1089;&#1077;&#1088;&#1072;&#1103;%20&#1087;&#1086;&#1083;&#1105;&#1074;&#1082;&#1072;&amp;stype=imag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live.1001chudo.ru/russia_870_gallery.html?show=www.ferret.ru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ages.yandex.ru/yandsearch?text=&#1089;&#1077;&#1074;&#1077;&#1088;&#1085;&#1099;&#1081;%20&#1086;&#1083;&#1077;&#1085;&#1100;%20&#1092;&#1086;&#1090;&#1086;&amp;stype=image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5;&#1077;&#1095;&#1086;&#1088;&#1086;-&#1048;&#1083;&#1099;&#1095;&#1089;&#1082;&#1080;&#1081;%20&#1075;&#1086;&#1089;&#1091;&#1076;&#1072;&#1088;&#1089;&#1090;&#1074;&#1077;&#1085;&#1085;&#1099;&#1081;%20&#1079;&#1072;&#1087;&#1086;&#1074;&#1077;&#1076;&#1085;&#1080;&#1082;.&#1092;&#1086;&#1090;&#1086;&amp;stype=image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hoto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Таёжная область</a:t>
            </a:r>
            <a:br>
              <a:rPr sz="5400"/>
            </a:br>
            <a:r>
              <a:rPr b="1" lang="en-US" sz="5400" spc="-1" strike="noStrike">
                <a:solidFill>
                  <a:srgbClr val="006600"/>
                </a:solidFill>
                <a:latin typeface="Arial Black"/>
              </a:rPr>
              <a:t> Северного Урал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ил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ИНАДЁР ЕЛЕНА АНАТОЛЬ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3284640"/>
            <a:ext cx="4897440" cy="3220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Росомаха - живые достопримечательности России - фото (фотографии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89000"/>
            <a:ext cx="4248000" cy="2962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соболь фотообои, фото обои, фотография"/>
          <p:cNvPicPr/>
          <p:nvPr/>
        </p:nvPicPr>
        <p:blipFill>
          <a:blip r:embed="rId5"/>
          <a:stretch/>
        </p:blipFill>
        <p:spPr>
          <a:xfrm>
            <a:off x="514836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3141720"/>
            <a:ext cx="2435040" cy="371628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3927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ома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но-серая полё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16400" y="1989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б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ястребиная сова, сова ястребиная (Surnia ulula), фото, фотография"/>
          <p:cNvPicPr/>
          <p:nvPr/>
        </p:nvPicPr>
        <p:blipFill>
          <a:blip r:embed="rId1"/>
          <a:stretch/>
        </p:blipFill>
        <p:spPr>
          <a:xfrm>
            <a:off x="5940360" y="3716280"/>
            <a:ext cx="2400480" cy="314172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444840" cy="2319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5003640" y="189000"/>
            <a:ext cx="2306880" cy="3457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3059280" cy="22842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Кед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рис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bcbc"/>
                </a:solidFill>
                <a:latin typeface="Arial"/>
              </a:rPr>
              <a:t>Клест-елов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требиная с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50920" y="404640"/>
            <a:ext cx="9721800" cy="1511640"/>
          </a:xfrm>
          <a:custGeom>
            <a:avLst/>
            <a:gdLst>
              <a:gd name="textAreaLeft" fmla="*/ 2430360 w 9721800"/>
              <a:gd name="textAreaRight" fmla="*/ 7291440 w 9721800"/>
              <a:gd name="textAreaTop" fmla="*/ 0 h 1511640"/>
              <a:gd name="textAreaBottom" fmla="*/ 1323000 h 1511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260000" cy="683748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757440" y="404640"/>
            <a:ext cx="9901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оведник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66"/>
                </a:solidFill>
                <a:latin typeface="Arial"/>
              </a:rPr>
              <a:t>В верховьях Печёры, по западным склонам Урала и прилегающей к ним Печорской низменности, располагается один из крупнейших в нашей стране Печоро-Илычский государственный заповед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26920" y="188640"/>
            <a:ext cx="80661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ью создания заповедника является охрана и изучение первичных лесных массивов междуречья Печоры и Илыча - крупнейших девственных таежных массивов Европейской России, типичной и уникальной флоры и фауны. В задачи заповедника при его организации также входил сбор и распространение сведений и материалов по истории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кологическая обстанов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воение Северного Урала продолж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ьший урон водоемам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верног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а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аносят предприятия ЖК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1609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79600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3313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ценка природной зо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етом на реках хорошая рыбалка, в конце лета в тайге обилие грибов и ягод, в урожайный год много кедровых орехов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3954600" cy="26496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966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594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с—богатство края. Такие ценные древесные породы, как сосна, лиственница, кедр и ель, заготавливают в огромных количествах в бассейнах Вишеры, Косьвы, Печоры, Лозьвы, Северной Сосьвы и отправляют во многие районы страны и на экспорт. В тайге издавна промышляют соболя, куницу, выдру, горностая, белку и лису. В прозрачных водах притоков Печоры, Камы и Северной Сосьвы обитает много ценных пород рыб, из которых сиг, семга, хариус, таймень, сырок и сельдь имеют важное промысловое зна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3456000" cy="2584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5076720" y="4149720"/>
            <a:ext cx="3456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9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557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0" y="427680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574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2268360" y="1916280"/>
            <a:ext cx="417672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987640" y="3213000"/>
            <a:ext cx="2089080" cy="1728720"/>
          </a:xfrm>
          <a:custGeom>
            <a:avLst/>
            <a:gdLst>
              <a:gd name="textAreaLeft" fmla="*/ 860760 w 2089080"/>
              <a:gd name="textAreaRight" fmla="*/ 1228320 w 2089080"/>
              <a:gd name="textAreaTop" fmla="*/ 712440 h 1728720"/>
              <a:gd name="textAreaBottom" fmla="*/ 101628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Спасибо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    за внимание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6" name=""/>
          <p:cNvSpPr/>
          <p:nvPr/>
        </p:nvSpPr>
        <p:spPr>
          <a:xfrm>
            <a:off x="7199280" y="4653000"/>
            <a:ext cx="1944720" cy="1368360"/>
          </a:xfrm>
          <a:custGeom>
            <a:avLst/>
            <a:gdLst>
              <a:gd name="textAreaLeft" fmla="*/ 801360 w 1944720"/>
              <a:gd name="textAreaRight" fmla="*/ 1143360 w 194472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5229360"/>
            <a:ext cx="1654200" cy="1224000"/>
          </a:xfrm>
          <a:prstGeom prst="irregularSeal1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77080" y="189000"/>
            <a:ext cx="1224000" cy="144144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9640" y="189000"/>
            <a:ext cx="1871640" cy="1224000"/>
          </a:xfrm>
          <a:prstGeom prst="cloudCallout">
            <a:avLst>
              <a:gd name="adj1" fmla="val -47625"/>
              <a:gd name="adj2" fmla="val 13555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258920" y="69228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4000" y="333360"/>
            <a:ext cx="7704000" cy="1295280"/>
          </a:xfrm>
          <a:custGeom>
            <a:avLst/>
            <a:gdLst>
              <a:gd name="textAreaLeft" fmla="*/ 1926000 w 7704000"/>
              <a:gd name="textAreaRight" fmla="*/ 5778000 w 770400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Black"/>
              </a:rPr>
              <a:t>               </a:t>
            </a:r>
            <a:r>
              <a:rPr b="1" lang="en-US" sz="4400" spc="-1" strike="noStrike">
                <a:solidFill>
                  <a:srgbClr val="990000"/>
                </a:solidFill>
                <a:latin typeface="Arial Black"/>
              </a:rPr>
              <a:t>Цель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Создать образ природно-территориального  комплекса Северного Урала, показать его уникальность и специфи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64087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Это одно из самых отдаленных и безлюдных мест, поражающего своей живописностью и неповторимостью. Весь Северный Урал расположен в таежной зоне. Всюду лес, без конца и края, то стелющийся по болотистым низинам, то накинутый зеленым плащом на пологие гряды и холмы, то взбирающийся по скалистым кручам горных хреб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лан работ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ографическое поло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мат данной территор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тип клим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 увлаж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ч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й ми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ка (на сколько данная территория может использоваться человек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еографическое    полож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216972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верный Урал начинается от широтного колена р. Щугор и протягивается до истока р. Косьва рядами параллельных хребтов высотой до 1000—1500 м. Для него характерны сглаженные вершины. Горы лесисты, с безлесными гольцовыми вершинами.На севере Северный Урал начинается мощным хребтом Тельпос-Из с максимальной для Северного Урала высотой 1617м - горой Тельпос-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24494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имат данной территор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215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рритория расположена в субарктическом климатическом поя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редняя температура в предгорьях поднимается до 14-1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ационный баланс   зоны за год равен 900-1000 мДж/м2,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адков выпадает много – до 800мм и более (на западном склоне), что значительно превышает величину испаряем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оэтому на Северном Урале много бол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д всей территорией преобладает континентальный воздух умеренных ши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чв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ласть распространения горно-подзолисты поч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евере и в предгорьях распространены глеево-подзолистые почвы, а на юге, в полосе типичной тайги, - подзолисты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5940360" y="4869000"/>
            <a:ext cx="27352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Высокопроизводительные лиственничные насаждения лесничего К. Ф. Тюрмера. Посадки 1857 г. под Москвой. Фото И. Б. Бавыкина"/>
          <p:cNvPicPr/>
          <p:nvPr/>
        </p:nvPicPr>
        <p:blipFill>
          <a:blip r:embed="rId1"/>
          <a:stretch/>
        </p:blipFill>
        <p:spPr>
          <a:xfrm>
            <a:off x="3419640" y="1700280"/>
            <a:ext cx="2006280" cy="46940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3389400" cy="2718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5508720" y="0"/>
            <a:ext cx="3179520" cy="2386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Нажмите, чтобы посмотреть в полный размер"/>
          <p:cNvPicPr/>
          <p:nvPr/>
        </p:nvPicPr>
        <p:blipFill>
          <a:blip r:embed="rId4"/>
          <a:stretch/>
        </p:blipFill>
        <p:spPr>
          <a:xfrm>
            <a:off x="5796000" y="2421000"/>
            <a:ext cx="3165480" cy="4221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тительност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бирская 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х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е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ственница Сукачё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11280" y="1197000"/>
            <a:ext cx="8281800" cy="468000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Животный мир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На Северном Урале сосредоточены наиболее характерные представители таёжной фау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21:24Z</dcterms:created>
  <dc:creator>Гринадёр</dc:creator>
  <dc:description/>
  <dc:language>en-US</dc:language>
  <cp:lastModifiedBy>Елена</cp:lastModifiedBy>
  <dcterms:modified xsi:type="dcterms:W3CDTF">2010-03-28T10:38:34Z</dcterms:modified>
  <cp:revision>16</cp:revision>
  <dc:subject/>
  <dc:title>Таёжная область  Северного Урала</dc:title>
</cp:coreProperties>
</file>